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FF6-4D3E-4EFF-9FC6-556EC175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E6D-2F10-47DA-A31D-4F3427FB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C1A-44C0-4423-A188-61A3103D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618-CEC6-4424-ADCA-B830E162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57B-F89E-4353-B7EB-D3038DAB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11C-6A86-4215-A25D-26EDD0C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84B-615E-4291-93B8-9AE4F6B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8BA-C3ED-4466-BAF1-BD24B70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831-451F-4E42-8809-AA89D505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FCD-67CC-4AB6-A053-8AB18EC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F18-283F-44B7-8445-E818890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EA9-C9B4-4673-BB97-AAD3DB3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146-26D5-4868-8E9F-12C684BE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57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72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438280" y="2133720"/>
          <a:ext cx="426744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133720"/>
                    <a:ext cx="42674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8840"/>
            <a:ext cx="1573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Qué es Fressa 2012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81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¨La informática como todo el mundo. Como todo el mundo con la informática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junto de programas informáticos cuyo objetivo es ayudar a personas con dificult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28600" y="228600"/>
          <a:ext cx="209556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7040"/>
            <a:ext cx="1573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¿Dónde conseguir los programa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62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ww.lagares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001000" y="304920"/>
          <a:ext cx="81900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04920"/>
                    <a:ext cx="819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6019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111111"/>
                </a:solidFill>
                <a:latin typeface="Arial"/>
              </a:rPr>
              <a:t>Amb els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_gene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2705400" cy="3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28600" y="228600"/>
          <a:ext cx="209556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logotipo%20bajo%20coste" descr=""/>
          <p:cNvPicPr/>
          <p:nvPr/>
        </p:nvPicPr>
        <p:blipFill>
          <a:blip r:embed="rId6"/>
          <a:stretch/>
        </p:blipFill>
        <p:spPr>
          <a:xfrm>
            <a:off x="7570800" y="6107040"/>
            <a:ext cx="1573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6:11:31Z</dcterms:created>
  <dc:creator>jordi</dc:creator>
  <dc:description/>
  <dc:language>en-US</dc:language>
  <cp:lastModifiedBy>Projecte Fressa</cp:lastModifiedBy>
  <dcterms:modified xsi:type="dcterms:W3CDTF">2015-01-12T19:51:37Z</dcterms:modified>
  <cp:revision>24</cp:revision>
  <dc:subject/>
  <dc:title>Presentación de PowerPoint</dc:title>
</cp:coreProperties>
</file>