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D5-5824-4EDB-8C6F-54A80D2D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5A6-2094-4B72-BA70-725F0B4A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2BB-B45F-4B38-93EF-18D7DFFA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CDC-76E0-42F1-B196-8EC6B03B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A2D-F6C3-4384-92BA-F5C5633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F8C-D8BF-4D5D-8B19-6F23BB9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C00-D148-40D9-AEDB-4277C07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C25-CB44-44AD-84A5-E90D29E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40E-50E5-4882-A9CC-DC6E284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105-964C-46EA-926E-0A219CC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447-00EB-450E-9B9C-DB6AEFA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317-E2F5-41BC-AEA8-B37CC7F1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A57-311F-496F-A992-0E59CD30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685800"/>
          <a:ext cx="6859440" cy="54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85944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Qué es Fressa 2005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81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¨La informática como todo el mundo. Como todo el mundo con la informática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53352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3276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junto de programas informáticos cuyo objetivo es ayudar a personas con dificult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Dónde conseguir los program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62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ww.lagares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53352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6:11:31Z</dcterms:created>
  <dc:creator>jordi</dc:creator>
  <dc:description/>
  <dc:language>en-US</dc:language>
  <cp:lastModifiedBy>Jordi Lagares Roset</cp:lastModifiedBy>
  <dcterms:modified xsi:type="dcterms:W3CDTF">2005-05-16T21:16:45Z</dcterms:modified>
  <cp:revision>4</cp:revision>
  <dc:subject/>
  <dc:title>Presentación de PowerPoint</dc:title>
</cp:coreProperties>
</file>