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1BFD2-DA61-4596-A0F9-E82607CB50E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4F99-BB01-4479-996F-B8C34EF17D5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E853-64D2-4912-BEE8-BF41FE871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5120" y="367596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290C-1B13-4DC4-8D6E-B511A95B4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976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5594-EAEE-478C-87D4-B0DF492C5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656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836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512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656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836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27CB-B817-47BA-B7F0-53087BE01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5120" y="1277640"/>
            <a:ext cx="79902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79902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560" y="-272880"/>
            <a:ext cx="79898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5120" y="1277640"/>
            <a:ext cx="79902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CD37-DEB4-465F-A0A8-5EB76B43A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976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5120" y="367596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976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656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8360" y="127764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512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656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8360" y="3675960"/>
            <a:ext cx="25725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79902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BB45-FD7B-4382-B5E2-E3A0A39D5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0041-8910-4824-9EA1-7BFF2BB0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9027-C4F0-4AC0-9E24-0EA4F05A4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560" y="-272880"/>
            <a:ext cx="79898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3802-3C09-412B-881E-B80E3B62C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069F-9CE2-4B5A-870C-3CC734D8A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9760" y="367596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DD84-B63D-47A1-8632-4CCEA920B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512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9760" y="1277640"/>
            <a:ext cx="38991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5120" y="3675960"/>
            <a:ext cx="799020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0D72-A5F1-4854-90F7-375441567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5120" y="1277640"/>
            <a:ext cx="79902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0555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2360" y="6245280"/>
            <a:ext cx="5396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ns podem creure les enquestes? Activitat a Estalmat-p  (Toni Gomà. Núria Mi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B6DDE1CD-E0AB-433B-9212-4B425101DF18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12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685800" y="265284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u3.cat/Edu3tv/Fitxa?p_id=40360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hobos.xtec.cat/agoma/simulacions/agulla" TargetMode="External"/><Relationship Id="rId2" Type="http://schemas.openxmlformats.org/officeDocument/2006/relationships/hyperlink" Target="http://phobos.xtec.cat/agoma/simulacions/agulla" TargetMode="External"/><Relationship Id="rId3" Type="http://schemas.openxmlformats.org/officeDocument/2006/relationships/hyperlink" Target="file:///estudi.pdf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ruleta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xtec.cat/formaciotic/dvdformacio/materials/td128/d128m7/" TargetMode="External"/><Relationship Id="rId2" Type="http://schemas.openxmlformats.org/officeDocument/2006/relationships/hyperlink" Target="http://www.edu3.cat/Edu3tv/Fitxa?p_id=40360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ntrevista.pdf" TargetMode="External"/><Relationship Id="rId2" Type="http://schemas.openxmlformats.org/officeDocument/2006/relationships/hyperlink" Target="file:///explica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tzar2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tzar3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tzar1.html" TargetMode="External"/><Relationship Id="rId2" Type="http://schemas.openxmlformats.org/officeDocument/2006/relationships/hyperlink" Target="file:///enquestes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imulacion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nquestes.html" TargetMode="External"/><Relationship Id="rId2" Type="http://schemas.openxmlformats.org/officeDocument/2006/relationships/hyperlink" Target="file:///enqueste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720720" y="4859280"/>
            <a:ext cx="3600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00040" y="2857680"/>
            <a:ext cx="807264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9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EC5EFAB8-4057-4BD5-9DB5-3BE052EF0DD8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10 Marcador de pie de página"/>
          <p:cNvSpPr/>
          <p:nvPr/>
        </p:nvSpPr>
        <p:spPr>
          <a:xfrm>
            <a:off x="612720" y="6245280"/>
            <a:ext cx="738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400" spc="-1" strike="noStrike">
                <a:solidFill>
                  <a:srgbClr val="820000"/>
                </a:solidFill>
                <a:latin typeface="Symbol"/>
                <a:ea typeface="Symbol"/>
              </a:rPr>
              <a:t></a:t>
            </a:r>
            <a:r>
              <a:rPr b="0" lang="ca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11 CuadroTexto"/>
          <p:cNvSpPr/>
          <p:nvPr/>
        </p:nvSpPr>
        <p:spPr>
          <a:xfrm>
            <a:off x="642960" y="3691080"/>
            <a:ext cx="8001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rial"/>
              </a:rPr>
              <a:t>Ens podem creure les enques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c00000"/>
                </a:solidFill>
                <a:latin typeface="Arial"/>
              </a:rPr>
              <a:t>Sessió de treball d’introducció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c00000"/>
                </a:solidFill>
                <a:latin typeface="Arial"/>
              </a:rPr>
              <a:t>la inferència estadí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c00000"/>
                </a:solidFill>
                <a:latin typeface="Arial"/>
              </a:rPr>
              <a:t>(la lletra petita de les enques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182080" cy="2838240"/>
          </a:xfrm>
          <a:prstGeom prst="rect">
            <a:avLst/>
          </a:prstGeom>
          <a:ln w="0">
            <a:noFill/>
          </a:ln>
        </p:spPr>
      </p:pic>
      <p:sp>
        <p:nvSpPr>
          <p:cNvPr id="100" name="11 CuadroTexto"/>
          <p:cNvSpPr/>
          <p:nvPr/>
        </p:nvSpPr>
        <p:spPr>
          <a:xfrm>
            <a:off x="2428920" y="1000080"/>
            <a:ext cx="59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4000" spc="-1" strike="noStrike">
                <a:solidFill>
                  <a:srgbClr val="820000"/>
                </a:solidFill>
                <a:latin typeface="Comic Sans MS"/>
              </a:rPr>
              <a:t>ESTALMAT - </a:t>
            </a:r>
            <a:r>
              <a:rPr b="1" lang="ca-ES" sz="66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Model per a presentar els resultats de les enques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06057CBD-A256-44FB-8ADE-43A121E41588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571680" y="1214280"/>
            <a:ext cx="8001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250920"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'interval de confiança del 95,5 % en l'estimació de la proporció amb què es mostra un determinat caràcter en una població, feta a partir de la selecció d'una mostra aleatòria simple de mida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és l'interval centrat en la proporció mostral observada,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*, i de 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25056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25056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a-ES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 en comptes de treballar amb un nivell de confiança del 95,5% volem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eballar amb altres valors, el 2 de la fórmula s’ha de substituir per altres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ràmetres: 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95% </a:t>
            </a:r>
            <a:r>
              <a:rPr b="0" lang="ca-E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1,96;  99% </a:t>
            </a:r>
            <a:r>
              <a:rPr b="0" lang="ca-E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2,58;  99,7 </a:t>
            </a:r>
            <a:r>
              <a:rPr b="0" lang="ca-E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2,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radi de l'interval de confiança que indica la variabilitat amb què s’han d’enunciar necessàriament les conclusions s'anomena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marge d'error de l'estimació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a selecció, ¿es fa habitualment amb una mostra aleatòria simple? Aquesta suposició és equivalent a la de l'experiment de treure boles d'una bossa a l'atzar i amb reemplaçament. Aquest no és el costum més habitual, sinó que es fan altres tipus de procediments de mostreig (mostres sistemàtiques, mostres per conglomerats...) i llavors cal tenir en compte la mida de la mostra. Tanmateix si la mida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de la població és relativament gran, les diferències no són substancials. La fórmula apropiada é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25092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1663920" cy="622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3214800" y="5572080"/>
            <a:ext cx="1993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Un experiment: l’agulla de Buffon i el número </a:t>
            </a:r>
            <a:r>
              <a:rPr b="0" lang="ca-ES" sz="3200" spc="-1" strike="noStrike">
                <a:solidFill>
                  <a:srgbClr val="c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21EB5704-3F2E-4418-BB8C-A2293C45C057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6 CuadroTexto"/>
          <p:cNvSpPr/>
          <p:nvPr/>
        </p:nvSpPr>
        <p:spPr>
          <a:xfrm>
            <a:off x="285840" y="1285920"/>
            <a:ext cx="84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Georges-Louis Leclerc, comte de Buffon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(Montbard, 7 de setembre de 1707 - París, 16 d'abril de 1788), va ser un naturalista, matemàtic, biòleg, cosmòleg i escriptor francè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857240"/>
            <a:ext cx="4151520" cy="2116440"/>
          </a:xfrm>
          <a:prstGeom prst="rect">
            <a:avLst/>
          </a:prstGeom>
          <a:ln w="0">
            <a:noFill/>
          </a:ln>
        </p:spPr>
      </p:pic>
      <p:sp>
        <p:nvSpPr>
          <p:cNvPr id="147" name="8 CuadroTexto"/>
          <p:cNvSpPr/>
          <p:nvPr/>
        </p:nvSpPr>
        <p:spPr>
          <a:xfrm>
            <a:off x="428760" y="2000160"/>
            <a:ext cx="378612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any 1777 va publicar “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Essai d’arithmétique morale”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on proposava un experiment amb agulles que permet determinar experimentalment el valor d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mb l'ajuda d'una agulla i un tauler amb línies paral·leles equidistants. Si la longitud de les agulles és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Mistral"/>
                <a:ea typeface="Times New Roman"/>
              </a:rPr>
              <a:t>l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i la distància entre línies és </a:t>
            </a:r>
            <a:r>
              <a:rPr b="0" lang="ca-ES" sz="2000" spc="-1" strike="noStrike">
                <a:solidFill>
                  <a:srgbClr val="000000"/>
                </a:solidFill>
                <a:latin typeface="Mistral"/>
              </a:rPr>
              <a:t>d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, essent </a:t>
            </a:r>
            <a:r>
              <a:rPr b="0" lang="ca-ES" sz="2000" spc="-1" strike="noStrike">
                <a:solidFill>
                  <a:srgbClr val="000000"/>
                </a:solidFill>
                <a:latin typeface="Mistral"/>
                <a:ea typeface="Times New Roman"/>
              </a:rPr>
              <a:t>l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lang="ca-ES" sz="2000" spc="-1" strike="noStrike">
                <a:solidFill>
                  <a:srgbClr val="000000"/>
                </a:solidFill>
                <a:latin typeface="Mistral"/>
              </a:rPr>
              <a:t>d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, aleshores es pot demostrar que la probabilitat una agulla toqui alguna de les línies quan es llença aleatòriament sobre el tauler é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1643040" y="5143680"/>
            <a:ext cx="928800" cy="838080"/>
          </a:xfrm>
          <a:prstGeom prst="rect">
            <a:avLst/>
          </a:prstGeom>
          <a:ln w="0">
            <a:noFill/>
          </a:ln>
        </p:spPr>
      </p:pic>
      <p:sp>
        <p:nvSpPr>
          <p:cNvPr id="149" name="9 CuadroTexto"/>
          <p:cNvSpPr/>
          <p:nvPr/>
        </p:nvSpPr>
        <p:spPr>
          <a:xfrm>
            <a:off x="4572000" y="4257720"/>
            <a:ext cx="4286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quest treball es considera el precursor del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ètode de Montecarl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i el naixement d’una nova branca de les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temàtiques anomenada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Geometria Estocàstica o Geometria Integral em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qual, durant la segona meitat del segle XX, han destacat les aportacions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el professor Lluís Santaló, un gran matemàtic català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Simulacions de l’experiment de l’agulla de Buff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4F281837-F869-4D6E-9FD9-E37928EAADBF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642960" y="1285920"/>
            <a:ext cx="8072280" cy="46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L’estimació d’una probabilitat en un experiment aleatori és conceptualment idèntic a “endevinar” la proporció de boles blanques en una bossa o la proporció de persones d’una població que el diumenge que ve votaran  en bla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Practiquem simulacions de l’agulla de Buffon </a:t>
            </a:r>
            <a:r>
              <a:rPr b="0" lang="ca-ES" sz="1600" spc="-1" strike="noStrike" u="sng">
                <a:solidFill>
                  <a:srgbClr val="7030a0"/>
                </a:solidFill>
                <a:uFillTx/>
                <a:latin typeface="Arial"/>
                <a:hlinkClick r:id="rId2"/>
              </a:rPr>
              <a:t>amb l’ordinador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nton Aubanell diu que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àcilment podem arribar a obtenir un valor de 3. Ara bé, per obtenir u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ca de precisió caldrà fer molts i molts llançaments! no ens podem fer masses il·lusion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bre la precisió d’aquest mètode de càlcul de </a:t>
            </a:r>
            <a:r>
              <a:rPr b="0" lang="ca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per obtenir una precisió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10</a:t>
            </a:r>
            <a:r>
              <a:rPr b="0" i="1" lang="fr-FR" sz="1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−3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mb un nivell de confiança del 95% ens caldrà fer 888.697 llança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Us proposem que apliqueu la fórmula del marge d’error per a deduir “quantes vegades hauríem de tirar” perquè, arrodonint,  </a:t>
            </a:r>
            <a:r>
              <a:rPr b="0" lang="ca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ens sortís  3,14. Veureu que, a part del marge de variabilitat necessari per enunciar els resultats d’estimacions, en aquest cas “la cosa es complica” pel fet que estem dividint per nombres decimals més petits que 1.   (</a:t>
            </a:r>
            <a:r>
              <a:rPr b="0" lang="ca-ES" sz="1600" spc="-1" strike="noStrike" u="sng">
                <a:solidFill>
                  <a:srgbClr val="7030a0"/>
                </a:solidFill>
                <a:uFillTx/>
                <a:latin typeface="Arial"/>
                <a:hlinkClick r:id="rId3"/>
              </a:rPr>
              <a:t>Estudi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560" y="356760"/>
            <a:ext cx="79898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...i tornem al començ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244CE04F-482A-4BDD-B83E-EA966FB2D577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6 CuadroTexto"/>
          <p:cNvSpPr/>
          <p:nvPr/>
        </p:nvSpPr>
        <p:spPr>
          <a:xfrm>
            <a:off x="714240" y="1357200"/>
            <a:ext cx="764388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Quants resultats d’una ruleta hauríem d’examinar per quedar convençuts l’explicació dels Pelay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llò que hem llegit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1600" spc="-1" strike="noStrike">
                <a:solidFill>
                  <a:srgbClr val="009973"/>
                </a:solidFill>
                <a:latin typeface="Arial"/>
              </a:rPr>
              <a:t>Por ejemplo: si tras 20.000 pruebas se espera el valor de +278 como límite al 99,95% y se observa que el 36 ha salido +633 veces de lo normal... es que algo extraño pas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 ho comprovarí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És clar que hauríem de treballar amb la fórmula del marge d’error</a:t>
            </a:r>
            <a:br>
              <a:rPr sz="1800"/>
            </a:b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 però ja </a:t>
            </a: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ea typeface="Lucida Sans Unicode"/>
                <a:hlinkClick r:id="rId1"/>
              </a:rPr>
              <a:t>hem fet que l’ordinador ens ajudi</a:t>
            </a:r>
            <a:r>
              <a:rPr b="0" lang="ca-ES" sz="1800" spc="-1" strike="noStrike">
                <a:solidFill>
                  <a:srgbClr val="009973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CuadroTexto"/>
          <p:cNvSpPr/>
          <p:nvPr/>
        </p:nvSpPr>
        <p:spPr>
          <a:xfrm>
            <a:off x="428760" y="1500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356760"/>
            <a:ext cx="79898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Referè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6 CuadroTexto"/>
          <p:cNvSpPr/>
          <p:nvPr/>
        </p:nvSpPr>
        <p:spPr>
          <a:xfrm>
            <a:off x="714240" y="1214280"/>
            <a:ext cx="807264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820000"/>
                </a:solidFill>
                <a:latin typeface="Arial"/>
              </a:rPr>
              <a:t>Llibres i 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rceló, Carles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(1994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adística i probabilitat II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rèdit per al segon cicle de l'ensenyament secundari obligatori. Departament d'Ensenyament de la Generalitat de Catalunya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tanero. C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1987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zar y probabilida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Editorial Síntesis. Mad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onet, Eduard. (1974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onaments d'estadística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Barcelona: Editorial Teide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omà, Antoni. (1990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 las simulaciones a las distribuciones: uso del ordenad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Article a la revista UNO. Monografia sobre probabilitats.Editorial Graó, Barcelona.  Gener-Març 199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lmes, Peter (director del equip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(1980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TATISTICS IN YOUR WORL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Foulsham Educational. Schools Council. Sheffield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rles Barceló (1990), director de la traducció catalana amb el títol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'estadística en el vostr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m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ICE de la UAB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ohnson-Bhattacharya. (1985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tatistics. Principles and Methods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A: John Wiley &amp; Sons Inc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Lingren, B.W. and McElrath G.W.  (1959) Introduction to Probability and Statistics. The MAcmillan Company. New York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ore, David S. (1985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tatistics: Concepts and Controversies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ew York: W. H. Freeman &amp; Company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6 CuadroTexto"/>
          <p:cNvSpPr/>
          <p:nvPr/>
        </p:nvSpPr>
        <p:spPr>
          <a:xfrm>
            <a:off x="785880" y="1500120"/>
            <a:ext cx="75009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Arial"/>
              </a:rPr>
              <a:t>Material a la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ujosa J. Gomà A. (2003)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adística amb el full de càlcul: usos didàctic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Curs D128 d’autoformació telemàtica per al professorat.   </a:t>
            </a:r>
            <a:r>
              <a:rPr b="0" lang="ca-ES" sz="14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http://www.xtec.cat/formaciotic/dvdformacio/materials/td128/d128m7/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A partir de  Barceló, Carles i Gomà, Antoni. Curs 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Estadística amb eines informàtiques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199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ton Aubanell.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Vídeo sobre l’experiment de l’agulla de Buff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400" spc="-1" strike="noStrike" u="sng">
                <a:solidFill>
                  <a:srgbClr val="7030a0"/>
                </a:solidFill>
                <a:uFillTx/>
                <a:latin typeface="Arial"/>
                <a:hlinkClick r:id="rId2"/>
              </a:rPr>
              <a:t>http://www.edu3.cat/Edu3tv/Fitxa?p_id=40360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Anton Aubanell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Recursos materials i activitats</a:t>
            </a:r>
            <a:r>
              <a:rPr b="0" i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xperimentals</a:t>
            </a:r>
            <a:r>
              <a:rPr b="0" i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 en l’educació matemàtica a secundària 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 u="sng">
                <a:solidFill>
                  <a:srgbClr val="000000"/>
                </a:solidFill>
                <a:uFillTx/>
                <a:latin typeface="Arial"/>
              </a:rPr>
              <a:t>http://www9.xtec.cat/~aaubanel/index.htm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Una  part dels continguts d’aquesta sessió formen part del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terial inclòs en la llicència per estudis del Departament d’Ensenyament, concedida a Antoni Gomà,  </a:t>
            </a:r>
            <a:r>
              <a:rPr b="0" i="1" lang="ca-ES" sz="1200" spc="-1" strike="noStrike">
                <a:solidFill>
                  <a:srgbClr val="000000"/>
                </a:solidFill>
                <a:latin typeface="Arial"/>
              </a:rPr>
              <a:t>Estratègies per a impulsar l’ús de recursos informàtics en les activitats docents del professorat de l’àrea de matemàtiques a l’educació secundària, </a:t>
            </a: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alguns dels quals s’han actualitzat per a aquesta sessió emprant la versió 4.0 del Geo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356760"/>
            <a:ext cx="79898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Referè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5 Conector recto"/>
          <p:cNvSpPr/>
          <p:nvPr/>
        </p:nvSpPr>
        <p:spPr>
          <a:xfrm>
            <a:off x="500040" y="4857840"/>
            <a:ext cx="7858080" cy="1440"/>
          </a:xfrm>
          <a:prstGeom prst="line">
            <a:avLst/>
          </a:prstGeom>
          <a:ln w="255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6 CuadroTexto"/>
          <p:cNvSpPr/>
          <p:nvPr/>
        </p:nvSpPr>
        <p:spPr>
          <a:xfrm>
            <a:off x="1143000" y="2071800"/>
            <a:ext cx="7143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820000"/>
                </a:solidFill>
                <a:latin typeface="Arial"/>
              </a:rPr>
              <a:t>Gràcies per la vostra atenció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820000"/>
                </a:solidFill>
                <a:latin typeface="Arial"/>
              </a:rPr>
              <a:t>Us esperem el dia 26 de novemb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820000"/>
                </a:solidFill>
                <a:latin typeface="Arial"/>
              </a:rPr>
              <a:t>per a una nova sessió d’Estalmat-</a:t>
            </a:r>
            <a:r>
              <a:rPr b="0" lang="ca-ES" sz="32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ca-ES" sz="2400" spc="-1" strike="noStrike">
                <a:solidFill>
                  <a:srgbClr val="82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onferència-taller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professora Carmen Azcárate (UAB)</a:t>
            </a:r>
            <a:br>
              <a:rPr sz="2400"/>
            </a:br>
            <a:r>
              <a:rPr b="1" i="1" lang="ca-E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Galileu Galilei (1564-1642), astrònom i fí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La història de “Los Pelayo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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9688BCEC-3CD0-4685-9018-588A86780674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6 CuadroTexto"/>
          <p:cNvSpPr/>
          <p:nvPr/>
        </p:nvSpPr>
        <p:spPr>
          <a:xfrm>
            <a:off x="642960" y="15717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u el fet que unes persones es van fer riques amb la ruleta perquè, després d'estudiar una llista de resultats van arribar a la conclusió que, en una determinada ruleta física, la probabilitat que sortís un determinat número era lleugerament superior a 1/37?  Quants resultats havien d'haver anotat per arribar a aquesta conclusió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Entrevist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a La Vanguardia</a:t>
            </a:r>
            <a:br>
              <a:rPr sz="1800"/>
            </a:b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2"/>
              </a:rPr>
              <a:t>petita explicació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és tèc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 aquesta sessió mirarem de presentar algunes idees que ens poden ajudar a entendre “com s’ho van poder f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Comencem amb algunes “enquest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E77B4A1B-BA7C-4521-8D5F-1AB3CC13DC5C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642960" y="128592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Segurament totes les persones de la sala tenen idea de la llei empírica de l’atzar.  Aquesta idea (fonamental en la interpretació adequada de les enquestes)  i una </a:t>
            </a: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aplicació feta amb el GeoGebra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s permetran resoldre unes primeres tasques d’inferència estadística que propos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s tracta de fer una “enquesta” a les boles d’una bossa, “preguntant-los-hi” individualment de quin color són i intentar esbrinar el contingut de la bos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rimer de tot fem cadascú alguns casos amb 10 boles a la bossa i 200 extracc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em fer la inferència correcta del contingut de la bossa.   </a:t>
            </a:r>
            <a:br>
              <a:rPr sz="1800"/>
            </a:b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pre?  Potser no! </a:t>
            </a:r>
            <a:br>
              <a:rPr sz="1800"/>
            </a:br>
            <a:r>
              <a:rPr b="0" lang="ca-ES" sz="1800" spc="-1" strike="noStrike">
                <a:solidFill>
                  <a:srgbClr val="820000"/>
                </a:solidFill>
                <a:latin typeface="Arial"/>
                <a:ea typeface="Lucida Sans Unicode"/>
              </a:rPr>
              <a:t>Quan algú trobi un cas que l’ha fet equivocar, que el posi en comú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820000"/>
                </a:solidFill>
                <a:latin typeface="Arial"/>
                <a:ea typeface="Lucida Sans Unicode"/>
              </a:rPr>
              <a:t>	</a:t>
            </a:r>
            <a:r>
              <a:rPr b="0" lang="ca-ES" sz="1800" spc="-1" strike="noStrike">
                <a:solidFill>
                  <a:srgbClr val="820000"/>
                </a:solidFill>
                <a:latin typeface="Arial"/>
                <a:ea typeface="Lucida Sans Unicode"/>
              </a:rPr>
              <a:t>És que aquesta persona “té menys vista” que els altr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820000"/>
                </a:solidFill>
                <a:latin typeface="Arial"/>
                <a:ea typeface="Lucida Sans Unicode"/>
              </a:rPr>
              <a:t>	</a:t>
            </a:r>
            <a:r>
              <a:rPr b="0" lang="ca-ES" sz="1800" spc="-1" strike="noStrike">
                <a:solidFill>
                  <a:srgbClr val="820000"/>
                </a:solidFill>
                <a:latin typeface="Arial"/>
                <a:ea typeface="Lucida Sans Unicode"/>
              </a:rPr>
              <a:t>No!!! És que l’atzar li ha fet una petita mala jug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m-ne seguidament alguns altres exemples amb 10 boles a la bossa i 1000 extraccions.  Com ha ana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Continuem amb les nostres “enquest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4D6B66B8-50EC-4382-94D2-A6A40A227241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6 CuadroTexto"/>
          <p:cNvSpPr/>
          <p:nvPr/>
        </p:nvSpPr>
        <p:spPr>
          <a:xfrm>
            <a:off x="642960" y="1285920"/>
            <a:ext cx="80010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studiem ara alguns casos amb 20 boles a la bossa i 200 extraccion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vint ens podem trobar que l’atzar ens enganyi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m-ne seguidament alguns altres exemples amb 20 boles i 1000 extraccions.  Comentem-h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ovem-ho amb 30 boles. Faríeu 200 extraccions, o 1000,... o mé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egur que ja heu vist que </a:t>
            </a:r>
            <a:r>
              <a:rPr b="0" lang="ca-ES" sz="1600" spc="-1" strike="noStrike">
                <a:solidFill>
                  <a:srgbClr val="820000"/>
                </a:solidFill>
                <a:latin typeface="Arial"/>
              </a:rPr>
              <a:t>si fem més extraccions ens allunyem menys del valor real, hi ha menys marge de variabilitat en els resultats de les “enquestes”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Atenció! Aquest marge de variabilitat amb un cert nombre d’extraccions, en els resultats observats amb 10 boles, o amb 20 o amb 30 és el mateix però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 hi ha 10 boles com que els percentatges possibles només són del 10%, o del 20%, o del 30%, etc , això ens ajuda a fer la deducci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b 20 boles els percentatges només poden  ser del 5%, o el 10%, o el 15%, o el 20%, etc...  i també ho encertem gairebé semp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rovem-ho ara amb 100 boles. Potser direu que ho voleu provar donant no un “valor concret”  sinó un “valor aproximat”, un possible interval de valors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Si és així, ja heu arribat a una de les idees fonamentals de la sessió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odeu provar-ho amb una nova </a:t>
            </a:r>
            <a:r>
              <a:rPr b="0" lang="ca-ES" sz="16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aplicació feta amb el GeoGebra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821232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Un (mal?) exemple de publicació de resultats d’una enq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CE558AB8-C75A-43DB-A5CB-66CC4AEB1521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CuadroTexto"/>
          <p:cNvSpPr/>
          <p:nvPr/>
        </p:nvSpPr>
        <p:spPr>
          <a:xfrm>
            <a:off x="642960" y="1108080"/>
            <a:ext cx="8001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Vegeu: a la portada, anunci “radical”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ò...  mig punt de diferència en % si el marge d’error de l’enquesta és de més del 2%... És prou significatiu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Tot seguit mirem d’introduir les idees de nivell de confiança i marge d’err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7 Imagen" descr="enquesta.jpg"/>
          <p:cNvPicPr/>
          <p:nvPr/>
        </p:nvPicPr>
        <p:blipFill>
          <a:blip r:embed="rId1"/>
          <a:stretch/>
        </p:blipFill>
        <p:spPr>
          <a:xfrm>
            <a:off x="1214280" y="1428840"/>
            <a:ext cx="65008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Fem simulac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315E1436-D945-4AE6-9049-601FE7D5E8B4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642960" y="1143000"/>
            <a:ext cx="80010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Per entendre què pot passar quan es realitza una enquesta es fan simulacions amb l’ordinador amb un plantejament invers:  partim d’una població coneguda i observem què succeeix amb el nombre/percentatge d’èxits quan en seleccionem una mostr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deu provar-ho també </a:t>
            </a:r>
            <a:r>
              <a:rPr b="0" lang="ca-ES" sz="14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amb el GeoGebr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. Aquesta aplicació té com a objectiu fer visual la llei empírica de l’atzar i ara ens servirà també, si fem successives proves, per a intuir les idees de </a:t>
            </a:r>
            <a:r>
              <a:rPr b="1" lang="ca-ES" sz="1400" spc="-1" strike="noStrike">
                <a:solidFill>
                  <a:srgbClr val="820000"/>
                </a:solidFill>
                <a:latin typeface="Arial"/>
              </a:rPr>
              <a:t>marge d’error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(de fet, </a:t>
            </a:r>
            <a:r>
              <a:rPr b="0" i="1" lang="ca-ES" sz="1400" spc="-1" strike="noStrike">
                <a:solidFill>
                  <a:srgbClr val="820000"/>
                </a:solidFill>
                <a:latin typeface="Arial"/>
              </a:rPr>
              <a:t>marge de variabilitat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) i de </a:t>
            </a:r>
            <a:r>
              <a:rPr b="1" lang="ca-ES" sz="1400" spc="-1" strike="noStrike">
                <a:solidFill>
                  <a:srgbClr val="820000"/>
                </a:solidFill>
                <a:latin typeface="Arial"/>
              </a:rPr>
              <a:t>nivell de confianç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(dit també de vegades marge de confiança, que és el percentatge complementari del risc d’error, en aquest cas, </a:t>
            </a:r>
            <a:r>
              <a:rPr b="0" i="1" lang="ca-ES" sz="1400" spc="-1" strike="noStrike">
                <a:solidFill>
                  <a:srgbClr val="820000"/>
                </a:solidFill>
                <a:latin typeface="Arial"/>
              </a:rPr>
              <a:t>risc d’equivocació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om que partim “d’una població coneguda”  farem totes les simulacions amb una bossa amb 20 boles, 10 d’un color (és a dir el 50% de la població), 6 d’un altre color (el 30% de la població) i  4 d’un altre color  (el 20% de la població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u cadascú 10 proves amb 200 extraccions i anoteu els percentatges que cregueu que “s’allunyen més” del que caldria esper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Feu també 10 proves amb 1000 extracc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Feu també 10 proves amb 2000 extraccions.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...i posem en comú les “observacions anòmale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857160" indent="-457200">
              <a:lnSpc>
                <a:spcPct val="100000"/>
              </a:lnSpc>
              <a:buClr>
                <a:srgbClr val="82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1600" spc="-1" strike="noStrike">
                <a:solidFill>
                  <a:srgbClr val="820000"/>
                </a:solidFill>
                <a:latin typeface="Arial"/>
                <a:ea typeface="Lucida Sans Unicode"/>
              </a:rPr>
              <a:t> </a:t>
            </a:r>
            <a:r>
              <a:rPr b="0" lang="ca-ES" sz="1600" spc="-1" strike="noStrike">
                <a:solidFill>
                  <a:srgbClr val="820000"/>
                </a:solidFill>
                <a:latin typeface="Arial"/>
                <a:ea typeface="Lucida Sans Unicode"/>
              </a:rPr>
              <a:t>Què passaria si partíssim d’una població amb 2.000.000 de persones de les quals el 50% fossin “d’un color”, el 30% d’un altre i el 20% d’un altre?</a:t>
            </a:r>
            <a:br>
              <a:rPr sz="1600"/>
            </a:br>
            <a:r>
              <a:rPr b="0" lang="ca-ES" sz="1600" spc="-1" strike="noStrike" u="sng">
                <a:solidFill>
                  <a:srgbClr val="7030a0"/>
                </a:solidFill>
                <a:uFillTx/>
                <a:latin typeface="Arial"/>
                <a:ea typeface="Lucida Sans Unicode"/>
                <a:hlinkClick r:id="rId2"/>
              </a:rPr>
              <a:t>Mireu exemples d’enques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Mirem els resultats de les simulac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C0609892-2CCF-4815-A88A-917887559110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7 CuadroTexto"/>
          <p:cNvSpPr/>
          <p:nvPr/>
        </p:nvSpPr>
        <p:spPr>
          <a:xfrm>
            <a:off x="642960" y="1143000"/>
            <a:ext cx="771516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imulacions són experiments aleatoris. Partim de la població coneguda i estudiem quina és la proporció d’èxits observa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una experiència aleatòria, s'anomena </a:t>
            </a: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risc d'una predicció</a:t>
            </a:r>
            <a:r>
              <a:rPr b="0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o més explícitament </a:t>
            </a: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risc d'err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el nombre que representa la probabilitat que la predicció no es compleixi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una experiència aleatòria, s'anomena </a:t>
            </a: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nivell de confiança</a:t>
            </a:r>
            <a:r>
              <a:rPr b="0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o, de vegades, </a:t>
            </a: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marge de confianç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d'una predicció el nombre que representa la probabilitat que s'encerti la predicció en una realització de l'experiè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una experiència aleatòria destinada a observar la proporció d’èxits s'anomena 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interval de confiança</a:t>
            </a:r>
            <a:r>
              <a:rPr b="0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o de 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tolerància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amb un nivell de confiança del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 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% (o, abreujadament, 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interval de confiança del </a:t>
            </a:r>
            <a:r>
              <a:rPr b="1" i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c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 %</a:t>
            </a:r>
            <a:r>
              <a:rPr b="0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)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quell interval centrat en la mitjana que té la propietat que el resultat de l'experimentació pertanyi a aquest interval és del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%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radi de l'interval de confiança rep el nom de 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marge d'error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serveu que el mot error s’ha emprat amb dues accepcions. Potser seria més aclaridor dir-ne, respectivament, </a:t>
            </a:r>
            <a:r>
              <a:rPr b="1" lang="ca-ES" sz="1600" spc="-1" strike="noStrike">
                <a:solidFill>
                  <a:srgbClr val="c00000"/>
                </a:solidFill>
                <a:latin typeface="Arial"/>
                <a:ea typeface="Lucida Sans Unicode"/>
              </a:rPr>
              <a:t>risc d’equivocació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r>
              <a:rPr b="1" lang="ca-ES" sz="1600" spc="-1" strike="noStrike">
                <a:solidFill>
                  <a:srgbClr val="009973"/>
                </a:solidFill>
                <a:latin typeface="Arial"/>
                <a:ea typeface="Lucida Sans Unicode"/>
              </a:rPr>
              <a:t>marge de variabilitat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Mirem els resultats de les simulac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00A682BB-E62F-4A42-8B41-974A8FADAE8A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7 CuadroTexto"/>
          <p:cNvSpPr/>
          <p:nvPr/>
        </p:nvSpPr>
        <p:spPr>
          <a:xfrm>
            <a:off x="642960" y="1285920"/>
            <a:ext cx="771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Hem fet “moltes” simulacions i hem anotat alguns valors observats, justament aquells que enteníem que no pertanyen a l’interval de confiança de l’experimentació, vista la proporció real`en la població i el nombre de repetic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niria bé que haguéssim observat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da de la mostra més gran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arge d’error/variabilitat més pet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 volem més nivell de confiança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arge d’error/variabilitat més g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, a l’inrevé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 volem anunciar els resultats de les prediccions amb menys marge d’error/variabilitat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indrem menys nivell de confiança (més ris d’error/equivocaci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alors a prop del 50% </a:t>
            </a:r>
            <a:r>
              <a:rPr b="0" lang="ca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arge d’error més g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Practiquem una mica aquestes idees amb l’ordinador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560" y="-272880"/>
            <a:ext cx="798984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c00000"/>
                </a:solidFill>
                <a:latin typeface="Verdana"/>
              </a:rPr>
              <a:t>Model per a presentar els resultats de les enques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612720" y="6245280"/>
            <a:ext cx="6959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Ens podem creure les enquestes? Activitat a Estalmat-</a:t>
            </a:r>
            <a:r>
              <a:rPr b="0" lang="ca-ES" sz="1200" spc="-1" strike="noStrike">
                <a:solidFill>
                  <a:srgbClr val="820000"/>
                </a:solidFill>
                <a:latin typeface="Symbol"/>
                <a:ea typeface="Symbol"/>
              </a:rPr>
              <a:t></a:t>
            </a:r>
            <a:r>
              <a:rPr b="0" lang="ca-ES" sz="1800" spc="-1" strike="noStrike">
                <a:solidFill>
                  <a:srgbClr val="820000"/>
                </a:solidFill>
                <a:latin typeface="Symbol"/>
                <a:ea typeface="Symbol"/>
              </a:rPr>
              <a:t></a:t>
            </a:r>
            <a:r>
              <a:rPr b="0" lang="es-ES" sz="1200" spc="-1" strike="noStrike">
                <a:solidFill>
                  <a:srgbClr val="820000"/>
                </a:solidFill>
                <a:latin typeface="Verdana"/>
              </a:rPr>
              <a:t> (Toni Gomà. Núria Mir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245280"/>
            <a:ext cx="1970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(</a:t>
            </a:r>
            <a:fld id="{193FF158-2CA3-417C-976A-ED0963E5735B}" type="slidenum">
              <a:rPr b="0" lang="ca-E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6 CuadroTexto"/>
          <p:cNvSpPr/>
          <p:nvPr/>
        </p:nvSpPr>
        <p:spPr>
          <a:xfrm>
            <a:off x="642960" y="1357200"/>
            <a:ext cx="7858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El model per a publicar la </a:t>
            </a:r>
            <a:r>
              <a:rPr b="0" i="1" lang="ca-ES" sz="1600" spc="-1" strike="noStrike">
                <a:solidFill>
                  <a:srgbClr val="000000"/>
                </a:solidFill>
                <a:latin typeface="Arial"/>
              </a:rPr>
              <a:t>fitxa tècnica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d’una enquesta consisteix a imaginar que hem fet una simulació a partir d’una població en què la proporció d’èxits és igual a la freqüència relativa d’èxits observada en la most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1"/>
              </a:rPr>
              <a:t>Podem revisar-ho amb l’ajut de l’ordinador</a:t>
            </a:r>
            <a:r>
              <a:rPr b="0" lang="ca-ES" sz="1800" spc="-1" strike="noStrike" u="sng">
                <a:solidFill>
                  <a:srgbClr val="7030a0"/>
                </a:solidFill>
                <a:uFillTx/>
                <a:latin typeface="Arial"/>
                <a:hlinkClick r:id="rId2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215040" y="2286000"/>
            <a:ext cx="2336760" cy="3784680"/>
          </a:xfrm>
          <a:prstGeom prst="rect">
            <a:avLst/>
          </a:prstGeom>
          <a:ln w="0">
            <a:noFill/>
          </a:ln>
        </p:spPr>
      </p:pic>
      <p:sp>
        <p:nvSpPr>
          <p:cNvPr id="135" name="7 CuadroTexto"/>
          <p:cNvSpPr/>
          <p:nvPr/>
        </p:nvSpPr>
        <p:spPr>
          <a:xfrm>
            <a:off x="714240" y="3357720"/>
            <a:ext cx="5357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Habitualment, quan es fa una enquesta, hi ha diferents qüestions. El marge d’error per a l’anàlisi de cada resposta depèn del valor observat per a la proporció mostral. Com que això seria un embolic s’acostuma a enunciar el màxim marge d’error que es pot observar, que ja hem comentat experimentalment que s’obté quan la proporció està al voltant del 50%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Ara u direm quina és la fórmula teòr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5:16:04Z</dcterms:created>
  <dc:creator>Toni Gomà</dc:creator>
  <dc:description/>
  <dc:language>en-US</dc:language>
  <cp:lastModifiedBy>Antoni Goma</cp:lastModifiedBy>
  <dcterms:modified xsi:type="dcterms:W3CDTF">2011-11-12T08:00:09Z</dcterms:modified>
  <cp:revision>210</cp:revision>
  <dc:subject/>
  <dc:title>Scratch</dc:title>
</cp:coreProperties>
</file>