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7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9554-F568-41A5-9F95-14982B67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9BAD-6772-45BD-A158-1D9F4AD9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DB5-4A15-4601-A51D-F6CE9E89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A00F-617F-426D-8001-EC33E676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F8F4-6973-46DA-82DD-2F1A94AD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7B92-D062-484B-96B9-991E3D05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7826-FFFF-411B-A6B2-76529F08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C485-D814-431E-8627-66475CD6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04BC-B001-4F37-BCE3-9F6EE600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4E92-2B77-4578-B251-197F1C97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B7C8-9CEE-4E2A-86A2-CF418F5A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AB4B-5860-443B-848D-269B5D49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92ED-B19B-4874-BDEE-91421BEDB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file:///tmp/home/.config/libreoffice/4/user/gallery/boca.wav" TargetMode="External"/><Relationship Id="rId3" Type="http://schemas.microsoft.com/office/2007/relationships/media" Target="file:///tmp/home/.config/libreoffice/4/user/gallery/boca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file:///tmp/home/.config/libreoffice/4/user/gallery/dit.wav" TargetMode="External"/><Relationship Id="rId3" Type="http://schemas.microsoft.com/office/2007/relationships/media" Target="file:///tmp/home/.config/libreoffice/4/user/gallery/dit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file:///tmp/home/.config/libreoffice/4/user/gallery/FRONT.WAV" TargetMode="External"/><Relationship Id="rId3" Type="http://schemas.microsoft.com/office/2007/relationships/media" Target="file:///tmp/home/.config/libreoffice/4/user/gallery/FRONT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file:///tmp/home/.config/libreoffice/4/user/gallery/genoll.wav" TargetMode="External"/><Relationship Id="rId3" Type="http://schemas.microsoft.com/office/2007/relationships/media" Target="file:///tmp/home/.config/libreoffice/4/user/gallery/genoll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file:///tmp/home/.config/libreoffice/4/user/gallery/LLENGUA.WAV" TargetMode="External"/><Relationship Id="rId3" Type="http://schemas.microsoft.com/office/2007/relationships/media" Target="file:///tmp/home/.config/libreoffice/4/user/gallery/LLENGUA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file:///tmp/home/.config/libreoffice/4/user/gallery/MA.WAV" TargetMode="External"/><Relationship Id="rId3" Type="http://schemas.microsoft.com/office/2007/relationships/media" Target="file:///tmp/home/.config/libreoffice/4/user/gallery/MA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file:///tmp/home/.config/libreoffice/4/user/gallery/nas.wav" TargetMode="External"/><Relationship Id="rId3" Type="http://schemas.microsoft.com/office/2007/relationships/media" Target="file:///tmp/home/.config/libreoffice/4/user/gallery/nas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file:///tmp/home/.config/libreoffice/4/user/gallery/orella.wav" TargetMode="External"/><Relationship Id="rId3" Type="http://schemas.microsoft.com/office/2007/relationships/media" Target="file:///tmp/home/.config/libreoffice/4/user/gallery/orella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file:///tmp/home/.config/libreoffice/4/user/gallery/panxa.wav" TargetMode="External"/><Relationship Id="rId3" Type="http://schemas.microsoft.com/office/2007/relationships/media" Target="file:///tmp/home/.config/libreoffice/4/user/gallery/panxa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file:///tmp/home/.config/libreoffice/4/user/gallery/peu.wav" TargetMode="External"/><Relationship Id="rId3" Type="http://schemas.microsoft.com/office/2007/relationships/media" Target="file:///tmp/home/.config/libreoffice/4/user/gallery/peu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file:///tmp/home/.config/libreoffice/4/user/gallery/ulls.wav" TargetMode="External"/><Relationship Id="rId3" Type="http://schemas.microsoft.com/office/2007/relationships/media" Target="file:///tmp/home/.config/libreoffice/4/user/gallery/ulls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file:///tmp/home/.config/libreoffice/4/user/gallery/bra&#231;.wav" TargetMode="External"/><Relationship Id="rId3" Type="http://schemas.microsoft.com/office/2007/relationships/media" Target="file:///tmp/home/.config/libreoffice/4/user/gallery/bra&#231;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file:///tmp/home/.config/libreoffice/4/user/gallery/cabell.wav" TargetMode="External"/><Relationship Id="rId3" Type="http://schemas.microsoft.com/office/2007/relationships/media" Target="file:///tmp/home/.config/libreoffice/4/user/gallery/cabell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file:///tmp/home/.config/libreoffice/4/user/gallery/cama.wav" TargetMode="External"/><Relationship Id="rId3" Type="http://schemas.microsoft.com/office/2007/relationships/media" Target="file:///tmp/home/.config/libreoffice/4/user/gallery/cama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file:///tmp/home/.config/libreoffice/4/user/gallery/cap.wav" TargetMode="External"/><Relationship Id="rId3" Type="http://schemas.microsoft.com/office/2007/relationships/media" Target="file:///tmp/home/.config/libreoffice/4/user/gallery/cap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file:///tmp/home/.config/libreoffice/4/user/gallery/cara.wav" TargetMode="External"/><Relationship Id="rId3" Type="http://schemas.microsoft.com/office/2007/relationships/media" Target="file:///tmp/home/.config/libreoffice/4/user/gallery/cara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file:///tmp/home/.config/libreoffice/4/user/gallery/COLL.WAV" TargetMode="External"/><Relationship Id="rId3" Type="http://schemas.microsoft.com/office/2007/relationships/media" Target="file:///tmp/home/.config/libreoffice/4/user/gallery/COLL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file:///tmp/home/.config/libreoffice/4/user/gallery/colze.wav" TargetMode="External"/><Relationship Id="rId3" Type="http://schemas.microsoft.com/office/2007/relationships/media" Target="file:///tmp/home/.config/libreoffice/4/user/gallery/colze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file:///tmp/home/.config/libreoffice/4/user/gallery/dent.wav" TargetMode="External"/><Relationship Id="rId3" Type="http://schemas.microsoft.com/office/2007/relationships/media" Target="file:///tmp/home/.config/libreoffice/4/user/gallery/dent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oca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673880" cy="3987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60948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O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572000" y="266688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dit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447920" y="53352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I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front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3880" y="68580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GENOLL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447920" y="60948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GENO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LLENGUA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447920" y="45720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LENGU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ma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371600" y="60948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NAS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95280" y="68580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RELLA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371600" y="38088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REL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anxa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71600" y="30492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ANX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EU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371600" y="68580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E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ULLS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71600" y="60948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UL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braç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60948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RA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abells_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71600" y="68580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ABE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ama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71600" y="53352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A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ap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3880" y="60948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ara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3880" y="53352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AR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oll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73880" cy="3987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71600" y="60948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OLZE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95280" y="60948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LZ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dent" descr=""/>
          <p:cNvPicPr/>
          <p:nvPr/>
        </p:nvPicPr>
        <p:blipFill>
          <a:blip r:embed="rId1"/>
          <a:stretch/>
        </p:blipFill>
        <p:spPr>
          <a:xfrm>
            <a:off x="2235240" y="1434960"/>
            <a:ext cx="4673520" cy="3988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95280" y="685800"/>
            <a:ext cx="635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07996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8:32:56Z</dcterms:created>
  <dc:creator>pau boada</dc:creator>
  <dc:description/>
  <dc:language>en-US</dc:language>
  <cp:lastModifiedBy>pau boada</cp:lastModifiedBy>
  <dcterms:modified xsi:type="dcterms:W3CDTF">2006-11-24T09:06:00Z</dcterms:modified>
  <cp:revision>3</cp:revision>
  <dc:subject/>
  <dc:title>Sin título de diapositiva</dc:title>
</cp:coreProperties>
</file>