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CF2-6E15-4345-BC4F-8FCBDD98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133-21BB-4E70-AE90-86740BE0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23A-6116-48B6-B80C-F920E101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D05-4A0F-4910-B51A-4608DFFF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3CD-0A32-45E8-B739-4F7651E9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E27-8C7A-4249-8D99-98B65683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699-CC70-467E-9CB3-2A30C8A6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327-955A-4938-B58C-C43E1E7E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3BC-31CD-41BA-AC7D-E39912FA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A10-0629-4FE8-9305-46366CFA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535-2DD8-48BA-8255-3B0B339B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F1F-A352-4981-A031-38FC4B4A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8C9F-3DB7-4796-A236-F01960F4D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581280"/>
            <a:ext cx="8610480" cy="2871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81480" y="609480"/>
            <a:ext cx="3733920" cy="537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81480" y="609480"/>
            <a:ext cx="3733920" cy="537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609480"/>
            <a:ext cx="4419720" cy="4957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aracteríst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14600" y="2514600"/>
            <a:ext cx="6400800" cy="412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2971800"/>
            <a:ext cx="8153280" cy="3706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85800"/>
            <a:ext cx="4647960" cy="5792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38480" y="609480"/>
            <a:ext cx="4800600" cy="412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048120"/>
            <a:ext cx="868680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2:53:02Z</dcterms:created>
  <dc:creator>TIC</dc:creator>
  <dc:description/>
  <dc:language>en-US</dc:language>
  <cp:lastModifiedBy>TIC</cp:lastModifiedBy>
  <dcterms:modified xsi:type="dcterms:W3CDTF">2009-01-27T09:35:45Z</dcterms:modified>
  <cp:revision>15</cp:revision>
  <dc:subject/>
  <dc:title>Presentación de PowerPoint</dc:title>
</cp:coreProperties>
</file>