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52B3-4222-4190-B448-CA2AF1B17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0F11-D28B-430C-B95E-9B057197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0CE1-55EE-4A5F-9CC6-04FEB3C57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2F80-E615-40FB-8C47-285906E5E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D157-0045-4821-9687-F71B6E80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10EB-A9B3-4763-BCE3-4C089524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2BDB-D354-4A26-8024-DC784A20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B0B4-7C98-42CD-B1A2-411BB05C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0BA6-014A-411D-9EE1-3FC9B73B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B479-95E1-4985-B70A-426E3702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DD84-C045-491C-A4D8-28418130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6186-A350-462C-84E3-7CCC0768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B5F5-6364-4B6C-9DC5-0BBAB80B3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133720" y="533520"/>
            <a:ext cx="4267080" cy="62096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81480" y="838080"/>
            <a:ext cx="3733920" cy="5097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Nom científ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Com é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On vi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181480" y="838080"/>
            <a:ext cx="3733920" cy="5097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Nom científ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Com é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On vi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3886200"/>
            <a:ext cx="8763120" cy="2454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Nom científ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Característiqu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4343400" cy="5375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3352680"/>
            <a:ext cx="8458200" cy="32889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05320" y="2209680"/>
            <a:ext cx="5410080" cy="45406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3505320"/>
            <a:ext cx="8534160" cy="32889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3429000"/>
            <a:ext cx="8686800" cy="32889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2:25:54Z</dcterms:created>
  <dc:creator>TIC</dc:creator>
  <dc:description/>
  <dc:language>en-US</dc:language>
  <cp:lastModifiedBy>TIC</cp:lastModifiedBy>
  <dcterms:modified xsi:type="dcterms:W3CDTF">2009-01-23T12:45:25Z</dcterms:modified>
  <cp:revision>15</cp:revision>
  <dc:subject/>
  <dc:title>Presentación de PowerPoint</dc:title>
</cp:coreProperties>
</file>