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98A-F1AB-4880-9269-EE0A7467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381-4200-4742-BB8A-98DE4967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8AA-4399-403C-9468-192E51F2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C48-8696-42F9-BEE7-3C2E159D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914-ABAB-4B85-8C37-73421AB2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227-CC4E-4DAA-B267-1390A127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9CA-E404-4ADB-8459-8512F787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4FC-59DE-442B-9BE1-C33C79D1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6B4-980B-414A-904C-E9ADE5DA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503-E153-41A1-9362-CE75378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E17-8BD4-47A0-B029-66927E73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193-8FE9-46FA-A210-08AC3A4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0FBF-8387-4728-8F9A-9EFAD01F6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581280"/>
            <a:ext cx="861048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81480" y="609480"/>
            <a:ext cx="373392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81480" y="609480"/>
            <a:ext cx="373392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609480"/>
            <a:ext cx="4419720" cy="495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14600" y="2514600"/>
            <a:ext cx="6400800" cy="412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971800"/>
            <a:ext cx="815328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85800"/>
            <a:ext cx="4647960" cy="5792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38480" y="609480"/>
            <a:ext cx="4800600" cy="412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048120"/>
            <a:ext cx="86868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2:53:02Z</dcterms:created>
  <dc:creator>TIC</dc:creator>
  <dc:description/>
  <dc:language>en-US</dc:language>
  <cp:lastModifiedBy>TIC</cp:lastModifiedBy>
  <dcterms:modified xsi:type="dcterms:W3CDTF">2009-01-27T09:35:45Z</dcterms:modified>
  <cp:revision>15</cp:revision>
  <dc:subject/>
  <dc:title>Presentación de PowerPoint</dc:title>
</cp:coreProperties>
</file>