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18A-52C1-4D9A-ABBC-3CFFAFEA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236-F03F-4DA9-9059-E7983AC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221-4026-4D22-9DF4-6BFEE306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C30-41B1-4E21-9B9E-DDC66DDD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F76-FE2E-4255-9E5C-584C8062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8AF-8DE4-4BF7-BB5B-867A75CB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312-325B-43ED-BE9C-2E6F405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941-F90E-43F6-AABB-1F129E75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36B-1507-412E-AE60-0ADFDF90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C8C-B30F-4038-83A6-0B954B1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6E8-B2A5-4B91-96BA-F6A8C0D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B31-F44A-40BD-B3CF-0114FF8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A74-2F8C-4BD9-BC8A-1444D541E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533520"/>
            <a:ext cx="4267080" cy="6209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838080"/>
            <a:ext cx="373392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81480" y="838080"/>
            <a:ext cx="373392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886200"/>
            <a:ext cx="876312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434340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352680"/>
            <a:ext cx="84582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05320" y="2209680"/>
            <a:ext cx="5410080" cy="454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505320"/>
            <a:ext cx="853416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2900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2:25:54Z</dcterms:created>
  <dc:creator>TIC</dc:creator>
  <dc:description/>
  <dc:language>en-US</dc:language>
  <cp:lastModifiedBy>TIC</cp:lastModifiedBy>
  <dcterms:modified xsi:type="dcterms:W3CDTF">2009-01-23T12:45:25Z</dcterms:modified>
  <cp:revision>15</cp:revision>
  <dc:subject/>
  <dc:title>Presentación de PowerPoint</dc:title>
</cp:coreProperties>
</file>