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E98-BA75-4BB0-B4A8-2EB5D3C2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B5D-8E9A-4A58-B38C-A39ED2D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A85-D1EA-481A-A6E0-6666D20B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1F2-B170-44DB-8EAA-3AA198F8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DF9-91F8-4CFF-8868-E5C1EB90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AB6-31C6-4173-8DDB-C3672FD2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34A-8CA3-4D56-85ED-82AB66F6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0A7-A4A6-49B7-83FA-0FD19201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DCD-3DAD-4508-995C-805B9E8B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59E-CB27-4322-B6BD-1B4C1EC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5BA-65A3-47D8-ABDB-0603117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C7A-D57E-4E60-B7A8-55CBB7F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B4F1-6A16-4D96-A7F7-AE5DC1639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809880"/>
            <a:ext cx="876312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648320"/>
            <a:ext cx="8686800" cy="203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267080"/>
            <a:ext cx="822960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581280"/>
            <a:ext cx="838224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200400"/>
            <a:ext cx="81532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838080"/>
            <a:ext cx="472464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581280"/>
            <a:ext cx="868680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819520"/>
            <a:ext cx="853416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3657600"/>
            <a:ext cx="876312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56:55Z</dcterms:created>
  <dc:creator>TIC</dc:creator>
  <dc:description/>
  <dc:language>en-US</dc:language>
  <cp:lastModifiedBy>TIC</cp:lastModifiedBy>
  <dcterms:modified xsi:type="dcterms:W3CDTF">2009-06-26T11:53:00Z</dcterms:modified>
  <cp:revision>14</cp:revision>
  <dc:subject/>
  <dc:title>Presentación de PowerPoint</dc:title>
</cp:coreProperties>
</file>