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B676-622C-479B-9B7A-C8343FC0E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7C6D-5A2C-4F9D-8DE5-991B5ED4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5CD8-44A8-472B-B760-D6DEAC118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C198-2E8B-4FB8-878D-B2A0E400B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08A5-867C-486D-A76F-4AF8AEFE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C324-C5C0-413A-A5BE-A0507A84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1A78-B087-486F-8135-6996C5A4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CAD9-CA1C-4026-AAD4-7FAA0BF6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EBC2-3C73-4B70-8F40-62195B7A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F443-8238-4B1A-A08C-75963559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ADF8-DE0C-4580-8F43-89462B43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E6E5-E4BA-43E7-BCD9-5CB55F29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4029-F3BB-4281-A494-D96C58158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3429000"/>
            <a:ext cx="8610480" cy="32889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4419720"/>
            <a:ext cx="8686800" cy="2037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Nom científ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Com é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On vi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4572000"/>
            <a:ext cx="8686800" cy="2037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Nom científ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Com é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On vi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4343400"/>
            <a:ext cx="8610480" cy="2454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Nom científ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Característiqu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3429000"/>
            <a:ext cx="8610480" cy="32889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3276720"/>
            <a:ext cx="8610480" cy="32889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3352680"/>
            <a:ext cx="8610480" cy="32889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3352680"/>
            <a:ext cx="8763120" cy="32889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3352680"/>
            <a:ext cx="8686800" cy="32889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1:24:34Z</dcterms:created>
  <dc:creator>TIC</dc:creator>
  <dc:description/>
  <dc:language>en-US</dc:language>
  <cp:lastModifiedBy>TIC</cp:lastModifiedBy>
  <dcterms:modified xsi:type="dcterms:W3CDTF">2009-01-23T11:43:05Z</dcterms:modified>
  <cp:revision>14</cp:revision>
  <dc:subject/>
  <dc:title>Presentación de PowerPoint</dc:title>
</cp:coreProperties>
</file>