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AAE-5F79-41DF-958C-C5E11003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2A1-51EA-46E1-85B9-0746E338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356-9477-4000-9985-F7E2FEFE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6CF-25CA-4093-8378-AD0FF3DF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EB0-DEBC-4BA8-AEC5-C19ECB62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E76D-6D12-41C4-82AC-1737FC51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65C-380E-417C-8FB0-57CB8EB6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4E5-B7F3-485F-B1EB-9B83DB32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80B-F7C1-4B02-899D-0DF4723C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783-6B5E-457F-A2CF-E7E2970D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883-31CC-477B-AC18-AEC929C1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1CE-2C3D-4603-A819-43413367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F079-EC6C-40FB-B632-E297D5EC5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429000"/>
            <a:ext cx="861048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419720"/>
            <a:ext cx="8686800" cy="2037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4572000"/>
            <a:ext cx="8686800" cy="2037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4343400"/>
            <a:ext cx="8610480" cy="2454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aracteríst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3429000"/>
            <a:ext cx="861048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76720"/>
            <a:ext cx="861048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352680"/>
            <a:ext cx="861048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3352680"/>
            <a:ext cx="876312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3352680"/>
            <a:ext cx="868680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24:34Z</dcterms:created>
  <dc:creator>TIC</dc:creator>
  <dc:description/>
  <dc:language>en-US</dc:language>
  <cp:lastModifiedBy>TIC</cp:lastModifiedBy>
  <dcterms:modified xsi:type="dcterms:W3CDTF">2009-01-23T11:43:05Z</dcterms:modified>
  <cp:revision>14</cp:revision>
  <dc:subject/>
  <dc:title>Presentación de PowerPoint</dc:title>
</cp:coreProperties>
</file>