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03E-882B-418C-8792-96C17D2E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B0A-6DCD-4BC4-BCCC-81404F14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999-CFC1-42EE-A287-60974A9B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E96-E250-435E-865F-0526D4DA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6D5-1A19-4288-9AC8-2E85C3DF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992-FA20-434E-BC59-E4AD8F9D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1A2-F626-4630-800F-DB05238B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9FF-1369-432C-BC98-B338BF90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848-8B37-4E06-B50D-3F9DE86F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C88-8073-4D91-A6D6-7D0D2F4F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3EB-1C88-4FD8-BC0B-FC8753EE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694-6276-41E9-8CBD-D3B1712A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1EE1-3C6F-49CF-BA62-EA7D5D383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3809880"/>
            <a:ext cx="8763120" cy="287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648320"/>
            <a:ext cx="8686800" cy="2037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267080"/>
            <a:ext cx="8229600" cy="2454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581280"/>
            <a:ext cx="8382240" cy="287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200400"/>
            <a:ext cx="815328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838080"/>
            <a:ext cx="4724640" cy="537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581280"/>
            <a:ext cx="8686800" cy="287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819520"/>
            <a:ext cx="8534160" cy="3706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3657600"/>
            <a:ext cx="8763120" cy="287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56:55Z</dcterms:created>
  <dc:creator>TIC</dc:creator>
  <dc:description/>
  <dc:language>en-US</dc:language>
  <cp:lastModifiedBy>TIC</cp:lastModifiedBy>
  <dcterms:modified xsi:type="dcterms:W3CDTF">2009-06-26T11:53:00Z</dcterms:modified>
  <cp:revision>14</cp:revision>
  <dc:subject/>
  <dc:title>Presentación de PowerPoint</dc:title>
</cp:coreProperties>
</file>