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jpeg" ContentType="image/jpe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01F-E11F-451D-AED4-81490F02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16D-A974-4430-A3E3-32D5BB41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34D-7CCE-4984-A498-C90AAE39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265-14E2-41FC-BF42-11E6ABAF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B433-5DF6-4E1A-9AB6-057E16CA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7E29-2B3C-4301-ABB0-98BB0237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4BAA-A0B8-4143-A0C7-F6F427FE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9FB0-BA71-4275-8C04-75702D09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E2CD-4803-4839-A134-A15F7C3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BFFD-A55C-41A3-BC70-C067D290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BEE4-59DE-4D91-B36E-A2F28696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9B9-FF18-458D-B3A5-745DE808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1526-B563-4630-80E8-E01C2E9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0B10-B6AC-4F27-8953-DA0F854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0892-9DB4-48A6-9D24-4723F2EF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2A8B-596A-4C09-9F86-1A323CAE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C13A-7285-44D4-AC28-54F643A9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334-370D-4052-B1CD-12E297BE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8A9-BCE3-46E0-8A83-1E0B6B3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28F-B919-4400-8C17-8B75C662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E84-E60E-41E2-900C-B9C72E5B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A90-54DC-4E45-99B5-A517BCA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6F5-1F4A-4863-A77E-BD4A6B5D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886-CECA-4C7E-A768-725E13BA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206E-FEE9-4986-839D-ACB80742A62A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C0E0-A916-41C1-82A3-341DD20CC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533520"/>
            <a:ext cx="8077320" cy="5715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Les pèrdues auditives </a:t>
            </a:r>
            <a:r>
              <a:rPr b="0" lang="ca-ES" sz="6000" spc="-1" strike="noStrike">
                <a:solidFill>
                  <a:srgbClr val="cc3300"/>
                </a:solidFill>
                <a:latin typeface="Comic Sans MS"/>
              </a:rPr>
              <a:t>transmissives</a:t>
            </a: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 en alumnes d’E.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HIPOACÚSIES   TRANSMIS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mic Sans MS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fecció d’o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aps de cera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titis mitjana aguda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titis serosa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erforació timpànica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oventilació Tubà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lformació de la cadena ossicular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toesclerosis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4103640" cy="46814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6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RELLA         MITJ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2737080" cy="1982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1a. </a:t>
            </a: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Imatge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Orella mitjana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omic Sans MS"/>
              </a:rPr>
              <a:t>2a. </a:t>
            </a: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Imatge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Otitis mitjana agud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flamació de la mucosa no tan sol a la caixa sinó </a:t>
            </a: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també la trompa d’Eustaqui, solen presentar-se en el curs d’altres malalties infeccioses, gèrmens, virus, degut a la disminució de les defenses generals, evoluciona amb dolor i fe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cc3300"/>
                </a:solidFill>
                <a:latin typeface="Comic Sans MS"/>
              </a:rPr>
              <a:t>3a. Imatge</a:t>
            </a: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ca-ES" sz="1800" spc="-1" strike="noStrike">
                <a:solidFill>
                  <a:srgbClr val="ff9900"/>
                </a:solidFill>
                <a:latin typeface="Comic Sans MS"/>
              </a:rPr>
              <a:t>Otitis seromucosa</a:t>
            </a: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: contingut de líquid a la caixa, depressió aèria de tota l’orella mitjana per una obstrucció tubàrica. Produeix sordesa de 20 a 40 dB, afectant habitualment a les dues oïdes, pot estar relacionada amb la presència de vegetacions adenoides. Si es presenta reiterativa pot produir una perforació al timp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2378160" cy="2016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590920" cy="201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79280" y="1268280"/>
          <a:ext cx="2737080" cy="201636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c3300"/>
                      </a:solidFill>
                    </a:lnL>
                    <a:lnR w="38160">
                      <a:solidFill>
                        <a:srgbClr val="cc3300"/>
                      </a:solidFill>
                    </a:lnR>
                    <a:lnT w="38160">
                      <a:solidFill>
                        <a:srgbClr val="cc3300"/>
                      </a:solidFill>
                    </a:lnT>
                    <a:lnB w="381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348000" y="1268280"/>
          <a:ext cx="2378160" cy="2016360"/>
        </p:xfrm>
        <a:graphic>
          <a:graphicData uri="http://schemas.openxmlformats.org/drawingml/2006/table">
            <a:tbl>
              <a:tblPr/>
              <a:tblGrid>
                <a:gridCol w="2378160"/>
              </a:tblGrid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c3300"/>
                      </a:solidFill>
                    </a:lnL>
                    <a:lnR w="38160">
                      <a:solidFill>
                        <a:srgbClr val="cc3300"/>
                      </a:solidFill>
                    </a:lnR>
                    <a:lnT w="38160">
                      <a:solidFill>
                        <a:srgbClr val="cc3300"/>
                      </a:solidFill>
                    </a:lnT>
                    <a:lnB w="381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084720" y="1268280"/>
          <a:ext cx="2590920" cy="20163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c3300"/>
                      </a:solidFill>
                    </a:lnL>
                    <a:lnR w="38160">
                      <a:solidFill>
                        <a:srgbClr val="cc3300"/>
                      </a:solidFill>
                    </a:lnR>
                    <a:lnT w="38160">
                      <a:solidFill>
                        <a:srgbClr val="cc3300"/>
                      </a:solidFill>
                    </a:lnT>
                    <a:lnB w="381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c3300"/>
                </a:solidFill>
                <a:latin typeface="Comic Sans MS"/>
              </a:rPr>
              <a:t>TIMPANOGR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87760" y="1600200"/>
            <a:ext cx="376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2627280" y="1557360"/>
          <a:ext cx="3816360" cy="460836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c3300"/>
                </a:solidFill>
                <a:latin typeface="Comic Sans MS"/>
              </a:rPr>
              <a:t>AUDIOGRAMA DELS 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192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cc3300"/>
                </a:solidFill>
                <a:latin typeface="Comic Sans MS"/>
              </a:rPr>
              <a:t>AUDIOGRAMES D’AUDICIÓ N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576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2771640" y="1773360"/>
          <a:ext cx="3600720" cy="453528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45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AUDIOGRAMES </a:t>
            </a:r>
            <a:br>
              <a:rPr sz="2800"/>
            </a:b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HIPOACÚSIA TRANSMI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82800" y="1600200"/>
            <a:ext cx="3576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2771640" y="1628640"/>
          <a:ext cx="3600720" cy="453708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45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c3300"/>
                </a:solidFill>
                <a:latin typeface="Comic Sans MS"/>
              </a:rPr>
              <a:t>AUDIOGRAMA DELS SONS AMB HIPOACÚSIA TRANSMIS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82800" y="1600200"/>
            <a:ext cx="3576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2771640" y="1557360"/>
          <a:ext cx="3600720" cy="453564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ntervenció  de </a:t>
            </a:r>
            <a:r>
              <a:rPr b="0" lang="ca-ES" sz="28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renatges  </a:t>
            </a:r>
            <a:r>
              <a:rPr b="0" lang="ca-ES" sz="2800" spc="-1" strike="noStrike">
                <a:solidFill>
                  <a:srgbClr val="cc3300"/>
                </a:solidFill>
                <a:latin typeface="Arial"/>
              </a:rPr>
              <a:t>T</a:t>
            </a: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ranstimpànics  </a:t>
            </a:r>
            <a:r>
              <a:rPr b="0" lang="ca-E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ila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038480" cy="2811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L’Objectiu és drenar les secrecions acumulades a l’orella mitj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Permet ventilació i la millora d’audi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Transcorregut un temps, el timpà expulsa els drenatges i cicatritza la ferida res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Arial"/>
              </a:rPr>
              <a:t>S’aconsella que no entri aigua per evitar una infecc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2276640"/>
          <a:ext cx="4176720" cy="28080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3300"/>
                      </a:solidFill>
                    </a:lnL>
                    <a:lnR w="28080">
                      <a:solidFill>
                        <a:srgbClr val="cc3300"/>
                      </a:solidFill>
                    </a:lnR>
                    <a:lnT w="28080">
                      <a:solidFill>
                        <a:srgbClr val="cc3300"/>
                      </a:solidFill>
                    </a:lnT>
                    <a:lnB w="280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352680" y="24382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57720"/>
            <a:ext cx="3363840" cy="197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OBSERV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ME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04640"/>
            <a:ext cx="4392720" cy="20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NTECEDENTS MÈD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EXPLORACIONS AU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149720"/>
            <a:ext cx="5580000" cy="201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SPECTES DEL LLENGUATGE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2590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666880"/>
            <a:ext cx="30477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00720" y="206064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916360" y="3500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59640" y="35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3300"/>
                </a:solidFill>
                <a:latin typeface="Comic Sans MS"/>
              </a:rPr>
              <a:t>Mostres de llenguatge 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51000" y="1981080"/>
          <a:ext cx="7893000" cy="41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981080"/>
                    <a:ext cx="789300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89280" y="87948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76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Comic Sans MS"/>
              </a:rPr>
              <a:t>INTRODUC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484280"/>
            <a:ext cx="856908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Comic Sans MS"/>
              </a:rPr>
              <a:t>A partir d’un cas d’una nena que presenta Deficiència Auditiva Transmissiva, volem fer-vos adonar de la importància d’aquesta Pèrdua a través dels següents aspec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Com s’ha produït la seva Detecció: Pautes i Signes a Observ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Què significa una Deficiència Auditiva Transmi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Quines estratègies educatives poden afavorir la millora en la competència lingüística de l’alumne/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257800" y="3352680"/>
            <a:ext cx="350532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imen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llenguat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352680"/>
            <a:ext cx="365760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Bases anatòm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func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762120"/>
            <a:ext cx="63244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C.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spectes del llenguatge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514600" y="2286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3623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Bases anatòmiques i funcionals del llengua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AUDI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Otitis re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Audició normal amb la implantació dels D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Poca atenció aud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Dificultat per identificar sons i sorolls de l’amb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Dificultat per reconèixer dos sons presentats al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APARELL FO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Freqüents encostipats i a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Molta mucos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Boca sempre ob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Respiració bu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Llengua relaxada, descansant al llavi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cc3300"/>
                </a:solidFill>
                <a:latin typeface="Arial"/>
              </a:rPr>
              <a:t>Veu hipernasal amb escapament d’aire pel 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19640" y="3357720"/>
            <a:ext cx="35053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imen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llenguat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3352680"/>
            <a:ext cx="365760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Bases anatòm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func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762120"/>
            <a:ext cx="63244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C.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spectes del llenguatge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514600" y="228600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3623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-119700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476280"/>
          <a:ext cx="787716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7716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900000" y="17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Estratègies afavoridores de la comprensió i expressió lingü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916000" y="1125360"/>
            <a:ext cx="1447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112536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7524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Organització en l’esp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1752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Activitats educ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590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enir en comp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62360" y="22860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286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270828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Activitats específiques per treballar amb alum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082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Comic Sans MS"/>
              </a:rPr>
              <a:t>Estratègies educatives d’interacció verbal del 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3429000"/>
            <a:ext cx="2438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Propiocepció dels òrgans respiratoris i la seva hi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Estimulació dels òrgans bucofonat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328464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Estratègies per iniciar i mantenir con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32130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Les fonts son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373392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Les fonts llumin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4267080"/>
            <a:ext cx="32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antenir un contacte visual en les explicacion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445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Discriminació i atenció aud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400536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Estratègies d’intervenció lingüística de l’adult vers les expressions de l’alum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7640" y="522936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Estratègies de comprovació del missatge rebut de l’alum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653000"/>
            <a:ext cx="16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eixement  de l’oïd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 Aspectes mèd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 La producció oral en funció de com sen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mportància per detectar com més aviat millor les pèrdues d’audició transmi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ecessitat d’adequar les activitats i la interacció en les situacions quotidianes per millorar el rendiment de l’alum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52680" y="24382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57720"/>
            <a:ext cx="336384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OBSERV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ME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404640"/>
            <a:ext cx="4608720" cy="20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NTECEDENTS MÈD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EXPLORACIONS AU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4292640"/>
            <a:ext cx="565164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SPECTES DEL LLENGUATGE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590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666880"/>
            <a:ext cx="30477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642920" y="2133720"/>
            <a:ext cx="73080" cy="452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98764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378936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0"/>
            <a:ext cx="8064360" cy="148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0" lang="es-ES_tradnl" sz="4000" spc="-1" strike="noStrike">
                <a:solidFill>
                  <a:srgbClr val="cc3300"/>
                </a:solidFill>
                <a:latin typeface="Comic Sans MS"/>
              </a:rPr>
              <a:t>. Observació del mest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600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Poques intencions comunic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096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No manté el contacte ocular amb qui pa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819520"/>
            <a:ext cx="88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Abans de treballar mira què fan els al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429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Dificultats en l’aten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0384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El seu missatge és </a:t>
            </a: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inintel·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648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Dificultats en la comprensió de les ordres, els                                      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missatges orals, les consigne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6386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cc3300"/>
                </a:solidFill>
                <a:latin typeface="Comic Sans MS"/>
              </a:rPr>
              <a:t>Manca d’esp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609480"/>
            <a:ext cx="7559640" cy="117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Dat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Nom   i cognoms d’alumne/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Data de naix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Nivell educati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cc3300"/>
                </a:solidFill>
                <a:latin typeface="Comic Sans MS"/>
              </a:rPr>
              <a:t>Centre educatiu:</a:t>
            </a:r>
            <a:r>
              <a:rPr b="0" lang="ca-ES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60280"/>
            <a:ext cx="7559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cc3300"/>
                </a:solidFill>
                <a:latin typeface="Times New Roman"/>
              </a:rPr>
              <a:t>Signes a  l’aula   d’una  possible  pèrdua  auditiva:</a:t>
            </a:r>
            <a:r>
              <a:rPr b="0" lang="ca-ES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209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209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133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916280"/>
          <a:ext cx="7559640" cy="4281480"/>
        </p:xfrm>
        <a:graphic>
          <a:graphicData uri="http://schemas.openxmlformats.org/drawingml/2006/table">
            <a:tbl>
              <a:tblPr/>
              <a:tblGrid>
                <a:gridCol w="5441760"/>
                <a:gridCol w="1109880"/>
                <a:gridCol w="1008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NDICAD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Es toca sovint l’orella amb la mà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Es refreda sovint i presenta força mucosita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Mostra sovint la boca obert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Mostra una atenció dispers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Tendeix a jugar 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No sol participar en les tasques de treball de gr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Mostra dificultats d'orientació d'on ve el soroll o la v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Quan se’l crida, a vegades respon i a vegades no respon. Sembla que hi sent quan v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iu freqüentment, QUÈ? (quan li parles flui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Confon paraules usuals, per exemple pila per fira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Confon paraules als escrits dels dic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Aparenta entendre, encara que no capta el missatg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Està pendent del què fan els companys. Copia, imita als alt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Aixeca excepcionalment el to de v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Baixa excepcionalment el to de v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0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Contesta quan no li to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24000" y="63817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08080"/>
                </a:solidFill>
                <a:latin typeface="Times New Roman"/>
              </a:rPr>
              <a:t>OBSERVAC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52680" y="24382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57720"/>
            <a:ext cx="3363840" cy="197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OBSERVA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DEL ME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549360"/>
            <a:ext cx="4743360" cy="1815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NTECEDENTS MÈD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EXPLORACIONS AU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5909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666880"/>
            <a:ext cx="30477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3300"/>
                </a:solidFill>
                <a:latin typeface="Comic Sans MS"/>
              </a:rPr>
              <a:t>LA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95640" y="2205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98764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208720" cy="141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Comic Sans MS"/>
              </a:rPr>
              <a:t>B.</a:t>
            </a:r>
            <a:r>
              <a:rPr b="0" lang="es-ES_tradnl" sz="4400" spc="-1" strike="noStrike">
                <a:solidFill>
                  <a:srgbClr val="cc3300"/>
                </a:solidFill>
                <a:latin typeface="Comic Sans MS"/>
              </a:rPr>
              <a:t>       Antecedents   mèd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557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Otitis reiter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3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Als 2 anys, intervinguda Drenatges Transtimpànics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Bilaterals( els porta durant 1 any i ½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Recaiguda d’o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114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Valoració Audiològica: Pèrdua d’audició Transmis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724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Recol·locació dels Drenatges Transtimpà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410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3300"/>
                </a:solidFill>
                <a:latin typeface="Comic Sans MS"/>
              </a:rPr>
              <a:t>Nova valoració audiològica: llindar dins de la normal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8920" y="189000"/>
            <a:ext cx="705816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Comic Sans MS"/>
              </a:rPr>
              <a:t>     </a:t>
            </a:r>
            <a:r>
              <a:rPr b="0" lang="es-ES" sz="4400" spc="-1" strike="noStrike">
                <a:solidFill>
                  <a:srgbClr val="cc3300"/>
                </a:solidFill>
                <a:latin typeface="Comic Sans MS"/>
              </a:rPr>
              <a:t>Exploració    Audi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Fisiologia de l’o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Hipoacúsies Transmi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Audiograma dels 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cc3300"/>
                </a:solidFill>
                <a:latin typeface="Comic Sans MS"/>
              </a:rPr>
              <a:t>Drenatges Transtimpànics Bila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3300"/>
                </a:solidFill>
                <a:latin typeface="Comic Sans MS"/>
              </a:rPr>
              <a:t>Fisiologia    de     l’orel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16280" y="2014560"/>
            <a:ext cx="5314680" cy="3695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graphicFrame>
        <p:nvGraphicFramePr>
          <p:cNvPr id="132" name=""/>
          <p:cNvGraphicFramePr/>
          <p:nvPr/>
        </p:nvGraphicFramePr>
        <p:xfrm>
          <a:off x="1909800" y="2060640"/>
          <a:ext cx="5254560" cy="3529080"/>
        </p:xfrm>
        <a:graphic>
          <a:graphicData uri="http://schemas.openxmlformats.org/drawingml/2006/table">
            <a:tbl>
              <a:tblPr/>
              <a:tblGrid>
                <a:gridCol w="52545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909800" y="1989000"/>
          <a:ext cx="5327640" cy="3672000"/>
        </p:xfrm>
        <a:graphic>
          <a:graphicData uri="http://schemas.openxmlformats.org/drawingml/2006/table">
            <a:tbl>
              <a:tblPr/>
              <a:tblGrid>
                <a:gridCol w="5327640"/>
              </a:tblGrid>
              <a:tr h="36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c3300"/>
                      </a:solidFill>
                    </a:lnL>
                    <a:lnR w="38160">
                      <a:solidFill>
                        <a:srgbClr val="cc3300"/>
                      </a:solidFill>
                    </a:lnR>
                    <a:lnT w="38160">
                      <a:solidFill>
                        <a:srgbClr val="cc3300"/>
                      </a:solidFill>
                    </a:lnT>
                    <a:lnB w="381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8:00:36Z</dcterms:created>
  <dc:creator>Marín Samper</dc:creator>
  <dc:description/>
  <dc:language>en-US</dc:language>
  <cp:lastModifiedBy>CREDA Lleida</cp:lastModifiedBy>
  <dcterms:modified xsi:type="dcterms:W3CDTF">2003-11-25T09:58:35Z</dcterms:modified>
  <cp:revision>24</cp:revision>
  <dc:subject/>
  <dc:title>Exploració Clínica</dc:title>
</cp:coreProperties>
</file>