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Click to move the slide</a:t>
            </a: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246851-5CED-43BB-A111-DD05641B3B10}" type="slidenum"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52640" y="250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533160" y="3850920"/>
            <a:ext cx="6019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La nostra pàgina web es va iniciar el </a:t>
            </a:r>
            <a:r>
              <a:rPr b="0" lang="ca-ES" sz="1200" spc="-1" strike="noStrike">
                <a:solidFill>
                  <a:srgbClr val="ff0000"/>
                </a:solidFill>
                <a:latin typeface="Tahoma"/>
                <a:ea typeface="Tahoma"/>
              </a:rPr>
              <a:t>maig del 2003,</a:t>
            </a:r>
            <a:r>
              <a:rPr b="0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 o sigui ara fa 5 an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En un primer moment, hi havia la </a:t>
            </a:r>
            <a:r>
              <a:rPr b="0" lang="ca-ES" sz="1200" spc="-1" strike="noStrike">
                <a:solidFill>
                  <a:srgbClr val="ff0000"/>
                </a:solidFill>
                <a:latin typeface="Tahoma"/>
                <a:ea typeface="Tahoma"/>
              </a:rPr>
              <a:t>informació bàsica del CREDA:</a:t>
            </a:r>
            <a:r>
              <a:rPr b="0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 situació, horari d’atenció, funcion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Per què, quin va ser el procés per començar a posar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Com que al CREDA sempre havíem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elaborat i adaptat material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per als nostres alumnes i cada vegada més veiem les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avantatges d’utilitzar les noves tecnologi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vàrem començar a elaborat i adaptar materials en suport informàtic, no cal dir que ens resultava més fàcil reelaborar, canviar, copiar i  enganxar,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Un altre motiu que ens va portar a realitzar aquest treball va ser que cada vegada apareixien més materials en aquests suports però quan tenien veu era en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català orie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No deixarem de banda la motivació que han suposat les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Jornades de creació de materials, l’assistència a cursos de formació, seminaris, la participació en la creació del CD CREDA-MIL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. Podríem dir que han anat deixant emprem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En el sí del CREDA també s’han anat elaborant materials a rel dels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diferents grups de treball intern,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Grups de treball específics de creació de materials, logopedes que fan material específic per als seus alumn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Aquest curs també hi ha un grup de treball del pla de Formació de Zon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en el que de 20 inscrits, gairebé la meitat són logopedes o han treballat amb anterioritat al CREDA. En aquest grup hem elaborat materials que van des de  pràxies (gravades en vídeo), fonologia, fins al treball de la narració: hem adpatat dos contes, frases compost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62120" y="4642920"/>
            <a:ext cx="524808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Perquè penjar-ho a la pàgina web i no deixar-ho com a material d’ús intern o person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En primer lloc, cal agrair la implicació i solidaritat de tots i totes. Potser sí que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en un primer moment erem 4 o 5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que feiem més materials i els penjàvem , però actualment hi ha molta motivació i ha anat creixent el nombre de materials i de logopedes que s’hi impliqu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 partir de la creativitat professional, s’han anat generant projectes que ens han implicat una </a:t>
            </a:r>
            <a:r>
              <a:rPr b="1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reflexió de la pràctica, un compartir iniciatives, un treball en xarx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Sempre hem tingut present que som un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centre de recurso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i que els hem de facilitar a tota la comunitat educa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També ens ha anat molt bé com a lloc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d’emmagatzematge i localització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. Tenim les subseus molt allunyades i la pàgina web és un recurs molt adient per a localitzar material quan el necessi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Què hi ten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Tenim els materials distribuïts en tres aparta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Fonètica i fonologia, recursos per a la intervenció en el llenguatge, eines d’observació i valoració del llenguat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Hem anat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evolucionant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en l’elaboració de materials. De dibuixos i imatges de l’SPC, hem passat a l’ús majoritari de fotografies. Hem passat del Clic al Jclic, de materials molt concrets a altres integrats per treballar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diferents aspectes i nivell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, com el que us presentaré properament per a treballar l-r-d o el que tenim penjat per a treballar el so RR vibrant múltiple on ja trobem diferents activitats com fitxes, mots encreuats, Jclic, jocs, presentacion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Els materials podríem dir que, la gran majoria, són jocs. És un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material funcional, que permet una intervenció naturalist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, que acostuma a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motivar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molt l’alumnat i que potencia la seva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utilització en diferents contexto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: sessió de treball, petit grup, aula, cas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quests materials estan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agrupat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d’aquesta forma per a guiar en un inici la cerca, però ja sabem que amb qualsevol material, en un moment donat, es pot treballar diferents competè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I les nove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006640" y="0"/>
            <a:ext cx="2844720" cy="21337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38080" y="2362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 l’artat de fonètica- fonologia tenim diferents taulells de jocs per a imprimir, activitats Jclic.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l’apartat de recursos per a la intervenció en el llenguatge tenim també diferents taulells de jocs per a imprimir, presentacions que es poden utilitzar a l’ordinador o també imprimir, activitats clic i Jclic, contes, casos pràctic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l’apartat d’ observació i valoració del llenguatge hi ha diferents documents per a imprimir per tal d’avaluar l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Ú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mb els Indicadors de les diferents funcions del llenguatge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NTINGU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mb els Indicadors de comprensió i expressió del vocabular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mb els indicadors de comprensió i expressió d'enunciats i relacions del llenguatge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ORMA: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mb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dicadors de fonologia i fonètica. Indicadors gramaticals de morfolog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dicadors gramaticals de sintaxi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ull de síntesi.Full de registre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ves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BSERVACIÓ DE L'ÚS DEL LLENGUATGE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uta d'observació de les funcions del llenguat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erfil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VES I INDICADORS DE LLENGUATGE I ALTRES ASPECT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va per a la detecció de pèrdues auditives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dicadors per a la maduresa en el joc simbòl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dicadros per a l'observació del context interacti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ull de transcripció de mostres de llenguatge i el seu perfil morfosintàc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namnesi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ULLS DE DEMANDA DEL SERVEI Cr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El proper curs, està previst crear un espai intern, potser un moodle per a poder posar materials d’una manera més interactiva i amb imatges sense permí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 l’apartat de novetats hi posem cada mes els materials que van entrant a la mediateca: llibres, revistes, jocs, CDs, DvDs, recursos que podem trobar a diferents webs (noves activitats Jclic, activitats de la pàgina de l’edu365, i altres enllaços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664600"/>
            <a:ext cx="63244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valoració és molt positiva. Pensem que hem aconseguit donar un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impuls als recursos TIC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, permetent el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treball col·laboratiu i en xarxa.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Hem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estès els usos educatius de les TIC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a la pràctica pedagògica quotidiana, esdevenint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tecnologies de l’aprenentatge i del coneixement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. Els companys i les compsnyes coneixen i reconeixen aquests recursos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com a propis i els valore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i pensem que la comunitat educativa també veient la quantitat de visites que ten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1240" indent="-284040">
              <a:lnSpc>
                <a:spcPct val="106000"/>
              </a:lnSpc>
              <a:spcBef>
                <a:spcPts val="624"/>
              </a:spcBef>
              <a:spcAft>
                <a:spcPts val="624"/>
              </a:spcAft>
              <a:buClr>
                <a:srgbClr val="cc0000"/>
              </a:buClr>
              <a:buFont typeface="Verdan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▪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lnSpc>
                <a:spcPct val="106000"/>
              </a:lnSpc>
              <a:spcBef>
                <a:spcPts val="561"/>
              </a:spcBef>
              <a:spcAft>
                <a:spcPts val="561"/>
              </a:spcAft>
              <a:buClr>
                <a:srgbClr val="cc0000"/>
              </a:buClr>
              <a:buFont typeface="Century Gothic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lnSpc>
                <a:spcPct val="106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981080" cy="115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3102120" cy="741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2133720" y="3505320"/>
            <a:ext cx="5105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venció i tractament de les dificultats de la parla en l’educació infa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276720" y="5257800"/>
            <a:ext cx="3047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7ae27"/>
                </a:solidFill>
                <a:latin typeface="Arial"/>
              </a:rPr>
              <a:t>28 de febrer d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286000"/>
            <a:ext cx="3581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een"/>
              </a:rPr>
              <a:t>TROBADA PEDAGÒ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2589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514600"/>
            <a:ext cx="76960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ca-ES" sz="1600" spc="-1" strike="noStrike">
                <a:solidFill>
                  <a:srgbClr val="006600"/>
                </a:solidFill>
                <a:latin typeface="Verdana"/>
              </a:rPr>
              <a:t>SÍNT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tagonistes: Claustre CEIP, EAP, CREDA: Logopeda itinerant i psicopedag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upòsits normatius i pedagòg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xperiència prèvia: curs 2007/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Anàlisi de l’experiència prè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Nous reptes curs 2008-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Noves e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em descobrint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880" y="609480"/>
            <a:ext cx="8218440" cy="15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800" spc="-1" strike="noStrike">
                <a:solidFill>
                  <a:srgbClr val="006600"/>
                </a:solidFill>
                <a:latin typeface="Verdana"/>
              </a:rPr>
              <a:t>CREDA LLE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500"/>
              </a:spcAft>
              <a:buClr>
                <a:srgbClr val="000066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600" spc="-1" strike="noStrike">
                <a:solidFill>
                  <a:srgbClr val="006600"/>
                </a:solidFill>
                <a:latin typeface="Verdana"/>
              </a:rPr>
              <a:t>Exposició de l’experiència educativa dels tallers de llenguatge a l’escola “Dr. Serés” d’Alpic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spcAft>
                <a:spcPts val="1312"/>
              </a:spcAft>
              <a:buClr>
                <a:srgbClr val="000066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6600"/>
                </a:solidFill>
                <a:latin typeface="Verdana"/>
              </a:rPr>
              <a:t>Miquel Navarro i Oriach</a:t>
            </a:r>
            <a:r>
              <a:rPr b="0" lang="ca-ES" sz="14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ca-ES" sz="1400" spc="-1" strike="noStrike">
                <a:solidFill>
                  <a:srgbClr val="0066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1640" y="6324480"/>
            <a:ext cx="8280720" cy="18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640" y="6324480"/>
            <a:ext cx="8280720" cy="18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7720" y="914400"/>
            <a:ext cx="6921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tagonistes: Claustre CEIP, EAP, CREDA: Logopeda itinerant i psicopedag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981080"/>
            <a:ext cx="5334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1447920"/>
            <a:ext cx="5410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Claustre CEIP: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xperiència prèvia: Curs 2007/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Iniciativa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E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Treball en el si de la 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Facilitador de recursos: CR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CRE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Primer interlocutor: Logopeda itinerant</a:t>
            </a: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Recurs formatiu: assessorament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24852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914400"/>
            <a:ext cx="29685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upòsits normatius i pedagòg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00200"/>
            <a:ext cx="76201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Normati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 (L’actuació dels CREDA)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ientació de l’atenció en el marc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’escola </a:t>
            </a:r>
            <a:r>
              <a:rPr b="1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clusiva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 a partir de l’ús de recursos propis del centre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 suport al professorat. </a:t>
            </a:r>
            <a:r>
              <a:rPr b="0" i="1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Instruccions CREDA, 2008/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 Els centres... atenció als alumnes que presentin dificultats de parla o de llenguatge... podran tenir l'assessorament dels professionals... del CREDA.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Instruccions CREDA, 2008/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267080"/>
            <a:ext cx="716292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Pedagòg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 Prioritzar la competència comunicativa lingü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n la seva vessant oral. Base de l’aprenentatge i c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ivència.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53352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6324480"/>
            <a:ext cx="8280360" cy="18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13200" y="838080"/>
            <a:ext cx="3119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xperiència prèvia: curs 2007/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1219320"/>
            <a:ext cx="7342200" cy="45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Funcionament per tallers: Pràctica interactiva de l’expressió o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De cada classe es fan tres gru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Dues sessions setmanals per a cada gr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Participació de la majoria del professor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S’estableixen diferents blocs de continguts, activitats i materials per a cada niv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Es determinen objectius generals de llenguatge: articulació correcta, vocabulari adequat, narració, descripció, conversa, ritme i normes de la comunicaci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Blocs de continguts: objectes, contes, joc simbòlic, jocs de taula, emocion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324480"/>
            <a:ext cx="8280360" cy="18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4560" y="685800"/>
            <a:ext cx="2776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Anàlisi de l’experiència prè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828800"/>
            <a:ext cx="72388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Professor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Millorar i estendre l’experiència a més nivells educatius: P-5, Cicle ini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Demanar un assessorament del Pla de  Formació de 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Relacionar la expressió oral amb la le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24852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685800"/>
            <a:ext cx="3048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Nous reptes curs 2008-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1523880"/>
            <a:ext cx="7543800" cy="39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Amb els assessors del CR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Aprofundir en els aspecte morfosintàctics – estructura de la frase – i estratègies del llenguat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Formar grups homogenis en competències comunicatives per adaptar el nivell dels  continguts i de la didàc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l grups amb més dificultats fora menys nombró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ls grups es formarien prèvia avaluaci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laboració de fitxes didàctiques que guiessin el rol del professorat en els tall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Recerca de material de didàctica de la llen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64008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32280" y="685800"/>
            <a:ext cx="127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Noves e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8480" y="1676520"/>
            <a:ext cx="675972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Avaluació. Proves de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Comprensió oral: Vocabulari i Estructures morfosintàctiques. Identificar objectes i situacions d’una làmina P-5 i 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Articulació: Vocabulari i estructures morfosintàctiques per repetició. Repetir les paraules i les frases.P-5 i 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xpressió oral. Extensió i correcció de les frases emprades per explicar diverses escenes d’una làmina. P-5 i 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: Làmines de situacions motivadores a l’alumnat: Una casa vista per dins i La platj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77680" y="533520"/>
            <a:ext cx="1888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em descobrint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69880" y="1600200"/>
            <a:ext cx="62262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Hem après a escoltar a cada nen/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Els alumnes volen ser escoltats i saber com ho f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Les proves han discriminat força bé els nivells de competència oral dels alumnes per a formar els tall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Les mateixes proves poden servir per apreciar periòdicament el progrés dels alum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Seguir una fitxa didàctica serveix per a treballar el que realment vo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Amb l’observació d’un expert al taller, descobrim què fem bé i què podem millor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Les dramatitzacions serveixen per a treballar la parla, el llenguatge i la lect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4008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 d'Educació</cp:lastModifiedBy>
  <dcterms:modified xsi:type="dcterms:W3CDTF">2009-02-28T08:12:43Z</dcterms:modified>
  <cp:revision>38</cp:revision>
  <dc:subject/>
  <dc:title>Sin título de diapositiva</dc:title>
</cp:coreProperties>
</file>