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889-DEE5-4B5F-9228-3B8741AD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516-13DE-4E2D-84D6-98E28DB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A67-1D60-473C-B82B-D2FF18FE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C84-20A5-4B15-B669-3303B5B5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DB6-AE04-4927-A3CB-D42EAB7A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2F3-DC7D-4B38-946B-E660FB76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EC7-6E88-4069-9AF4-1ECB441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6B0-68A8-4602-BAF2-64B7A39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0EB-142C-47E0-B96C-FE55B74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46C-16F6-4840-9BE3-3CD7362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485-991E-4389-BA7F-2E5483F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FF4-6823-49B5-9DBF-D6D7B30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d9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FAD-8CD1-4A45-9804-2A368D7B8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d9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Esborreu aquest text i escriviu el nom del vostre centre i poble, cent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371600" y="102888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d9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6520" y="54864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El tipus de lletra del peu de les imatges ha de ser sempre el mateix: comic sans 16, color neg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160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d9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1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30481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56516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sborra aquest text i posa-hi el que correspongui a la imatge. Recorda que pots fer diferents composicions amb les imatg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n1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52" name="Imagen1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304812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d9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00200" y="2514600"/>
            <a:ext cx="62485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 l’última diapositiva cal que especifiqueu quines han estat les vostres fonts d’informació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 heu tret la informació d’un llibre, o revista, o d’internet, o entrevistant persones, o d’un fulletó de l’Ajuntament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er acabar, poseu el nom del poble i la data en què s’han fet les fotograf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6699"/>
                </a:solidFill>
                <a:latin typeface="Comic Sans MS"/>
              </a:rPr>
              <a:t>inTERnet</a:t>
            </a:r>
            <a:r>
              <a:rPr b="0" lang="es-ES_tradnl" sz="1400" spc="-1" strike="noStrike">
                <a:solidFill>
                  <a:srgbClr val="666699"/>
                </a:solidFill>
                <a:latin typeface="Comic Sans MS"/>
              </a:rPr>
              <a:t>, un recurs compar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cdd6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Nom de la construcció (Comic Sans 24,negreta,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olor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Comic Sans MS"/>
              </a:rPr>
              <a:t>lliure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5:06:25Z</dcterms:created>
  <dc:creator>pep</dc:creator>
  <dc:description/>
  <dc:language>en-US</dc:language>
  <cp:lastModifiedBy>.</cp:lastModifiedBy>
  <dcterms:modified xsi:type="dcterms:W3CDTF">2002-10-03T02:45:56Z</dcterms:modified>
  <cp:revision>9</cp:revision>
  <dc:subject/>
  <dc:title>Sin título de diapositiva</dc:title>
</cp:coreProperties>
</file>