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F93-CA54-4459-8A52-11076DE8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9FC-F599-4FE9-8092-DEFBA740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BD3-FA94-445D-8DD9-FF6BD16B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A36-58B4-4ED3-9CCC-36D0711B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6FC-FDCA-42A4-8CE0-C612F81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DB9-6940-4DE7-B0F4-9E7A3507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2AB-1FC2-4945-B2CF-0914D8C7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4BB-10C7-4AA4-9DCF-1BCCAF1C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AF2-D763-489B-8D5F-2BAF39D4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CC9-A05B-43A4-8C93-DB69690A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5D2-0488-402B-B1BC-0B55A47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2F2-3B5F-451C-93B3-8493238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6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762-FB54-45AD-AA6B-9CF75A6B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6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Esborreu aquest text i escriviu el nom del vostre centre i poble, cent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371600" y="102888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6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54864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El tipus de lletra del peu de les imatges ha de ser sempre el mateix: comic sans 16, color neg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16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6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56516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Recorda que pots fer diferents composicions amb les imatg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1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52" name="Imagen1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304812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6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00200" y="2514600"/>
            <a:ext cx="62485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l’última diapositiva cal que especifiqueu quines han estat les vostres fonts d’inform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heu tret la informació d’un llibre, o revista, o d’internet, o entrevistant persones, o d’un fulletó de l’Ajuntam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er acabar, poseu el nom del poble i la data en què s’han fet les fotograf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5cc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5:06:25Z</dcterms:created>
  <dc:creator>pep</dc:creator>
  <dc:description/>
  <dc:language>en-US</dc:language>
  <cp:lastModifiedBy>.</cp:lastModifiedBy>
  <dcterms:modified xsi:type="dcterms:W3CDTF">2002-10-03T02:40:51Z</dcterms:modified>
  <cp:revision>8</cp:revision>
  <dc:subject/>
  <dc:title>Sin título de diapositiva</dc:title>
</cp:coreProperties>
</file>