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199-4980-4B29-8384-F253EE24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C00-0FE1-4391-98A0-9C826AA2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904-A2FA-400B-AB9F-E25A5E7F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82D-1738-4CFB-B4B3-0965CF39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450D-E25E-43DF-95ED-D701C11F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8FF-3809-48EF-A420-0F6DB7E3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F79-706B-47EF-B940-B47E010B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3FD-7E9A-41C1-8E2F-69CB31DA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708-3375-4B46-826C-C968DA48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DAB-9070-4445-A089-DBF01E49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1D8-16E3-4D40-AFF4-53C274F7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1ED-2963-4B77-812C-F2A06AF4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3c7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A9FB-8ED0-41F0-9227-0FCAE1ECE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3c7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d0df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99"/>
                </a:solidFill>
                <a:latin typeface="Comic Sans MS"/>
              </a:rPr>
              <a:t>inTERnet</a:t>
            </a:r>
            <a:r>
              <a:rPr b="0" lang="es-ES_tradnl" sz="1400" spc="-1" strike="noStrike">
                <a:solidFill>
                  <a:srgbClr val="666699"/>
                </a:solidFill>
                <a:latin typeface="Comic Sans MS"/>
              </a:rPr>
              <a:t>, un recurs compart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solidFill>
            <a:srgbClr val="d0df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Nom de la construcció (Comic Sans 24,negreta,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olor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</a:rPr>
              <a:t>lliure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6699"/>
                </a:solidFill>
                <a:latin typeface="Comic Sans MS"/>
              </a:rPr>
              <a:t>Esborreu aquest text i escriviu el nom del vostre centre i poble, centr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magen1" descr=""/>
          <p:cNvPicPr/>
          <p:nvPr/>
        </p:nvPicPr>
        <p:blipFill>
          <a:blip r:embed="rId1"/>
          <a:stretch/>
        </p:blipFill>
        <p:spPr>
          <a:xfrm>
            <a:off x="1371600" y="1028880"/>
            <a:ext cx="6477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3c7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76520" y="54864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sborra aquest text i posa-hi el que correspongui a la imatge. El tipus de lletra del peu de les imatges ha de ser sempre el mateix: comic sans 16, color neg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n1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933960" cy="4160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d0df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99"/>
                </a:solidFill>
                <a:latin typeface="Comic Sans MS"/>
              </a:rPr>
              <a:t>inTERnet</a:t>
            </a:r>
            <a:r>
              <a:rPr b="0" lang="es-ES_tradnl" sz="1400" spc="-1" strike="noStrike">
                <a:solidFill>
                  <a:srgbClr val="666699"/>
                </a:solidFill>
                <a:latin typeface="Comic Sans MS"/>
              </a:rPr>
              <a:t>, un recurs compart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solidFill>
            <a:srgbClr val="d0df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Nom de la construcció (Comic Sans 24,negreta,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olor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</a:rPr>
              <a:t>lliure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3c7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n1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304812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76520" y="5651640"/>
            <a:ext cx="62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sborra aquest text i posa-hi el que correspongui a la imatge. Recorda que pots fer diferents composicions amb les imatg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agen1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3581640" cy="4191120"/>
          </a:xfrm>
          <a:prstGeom prst="rect">
            <a:avLst/>
          </a:prstGeom>
          <a:ln w="0">
            <a:noFill/>
          </a:ln>
        </p:spPr>
      </p:pic>
      <p:pic>
        <p:nvPicPr>
          <p:cNvPr id="52" name="Imagen1" descr=""/>
          <p:cNvPicPr/>
          <p:nvPr/>
        </p:nvPicPr>
        <p:blipFill>
          <a:blip r:embed="rId3"/>
          <a:stretch/>
        </p:blipFill>
        <p:spPr>
          <a:xfrm>
            <a:off x="1143000" y="3276720"/>
            <a:ext cx="3048120" cy="2209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d0df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99"/>
                </a:solidFill>
                <a:latin typeface="Comic Sans MS"/>
              </a:rPr>
              <a:t>inTERnet</a:t>
            </a:r>
            <a:r>
              <a:rPr b="0" lang="es-ES_tradnl" sz="1400" spc="-1" strike="noStrike">
                <a:solidFill>
                  <a:srgbClr val="666699"/>
                </a:solidFill>
                <a:latin typeface="Comic Sans MS"/>
              </a:rPr>
              <a:t>, un recurs compart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solidFill>
            <a:srgbClr val="d0df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Nom de la construcció (Comic Sans 24,negreta,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olor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</a:rPr>
              <a:t>lliure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3c7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00200" y="2514600"/>
            <a:ext cx="62485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n l’última diapositiva cal que especifiqueu quines han estat les vostres fonts d’informació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i heu tret la informació d’un llibre, o revista, o d’internet, o entrevistant persones, o d’un fulletó de l’Ajuntament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er acabar, poseu el nom del poble i la data en què s’han fet les fotograf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d0df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99"/>
                </a:solidFill>
                <a:latin typeface="Comic Sans MS"/>
              </a:rPr>
              <a:t>inTERnet</a:t>
            </a:r>
            <a:r>
              <a:rPr b="0" lang="es-ES_tradnl" sz="1400" spc="-1" strike="noStrike">
                <a:solidFill>
                  <a:srgbClr val="666699"/>
                </a:solidFill>
                <a:latin typeface="Comic Sans MS"/>
              </a:rPr>
              <a:t>, un recurs compart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solidFill>
            <a:srgbClr val="d0df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Nom de la construcció (Comic Sans 24,negreta,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olor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</a:rPr>
              <a:t>lliure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5:06:25Z</dcterms:created>
  <dc:creator>pep</dc:creator>
  <dc:description/>
  <dc:language>en-US</dc:language>
  <cp:lastModifiedBy>.</cp:lastModifiedBy>
  <dcterms:modified xsi:type="dcterms:W3CDTF">2002-10-03T02:37:50Z</dcterms:modified>
  <cp:revision>7</cp:revision>
  <dc:subject/>
  <dc:title>Sin título de diapositiva</dc:title>
</cp:coreProperties>
</file>