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62C-579C-4E7C-BA6F-EB539CB8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B81-D853-4439-A3C1-514A419A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1C4-014C-4470-BD9C-52B8AF69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5B8-5DFC-444A-A3A4-5C278496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12D-7D14-467C-B8C2-E430BC3E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A73-5D3B-4A64-B9DE-729A1955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2324-AA7D-4ACA-BCB3-970731F9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391-8BAF-4A44-A080-0CAC410B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2C8-9582-44BC-8484-004CC6C4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326-DAC2-4012-9263-604FB5D4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DA3-1D16-49F4-B3B9-FCD55AC2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8630-5E8C-453C-8853-463B3D64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b42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47B3-44C2-4EBB-83CF-235CC8423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b42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f3b4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99"/>
                </a:solidFill>
                <a:latin typeface="Comic Sans MS"/>
              </a:rPr>
              <a:t>inTERnet</a:t>
            </a: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, un recurs compar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solidFill>
            <a:srgbClr val="f3b4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Nom de la construcció (Comic Sans 24,negreta,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olor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</a:rPr>
              <a:t>lliure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Esborreu aquest text i escriviu el nom del vostre centre i poble, centr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agen1" descr=""/>
          <p:cNvPicPr/>
          <p:nvPr/>
        </p:nvPicPr>
        <p:blipFill>
          <a:blip r:embed="rId1"/>
          <a:stretch/>
        </p:blipFill>
        <p:spPr>
          <a:xfrm>
            <a:off x="1371600" y="102888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b42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f3b4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99"/>
                </a:solidFill>
                <a:latin typeface="Comic Sans MS"/>
              </a:rPr>
              <a:t>inTERnet</a:t>
            </a: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, un recurs compar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4864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sborra aquest text i posa-hi el que correspongui a la imatge. El tipus de lletra del peu de les imatges ha de ser sempre el mateix: comic sans 16, color neg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solidFill>
            <a:srgbClr val="f3b4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Nom de la construcció (Comic Sans 24,negreta,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olor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</a:rPr>
              <a:t>lliure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agen1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3396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b42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f3b4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99"/>
                </a:solidFill>
                <a:latin typeface="Comic Sans MS"/>
              </a:rPr>
              <a:t>inTERnet</a:t>
            </a: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, un recurs compar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magen1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3048120" cy="1905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solidFill>
            <a:srgbClr val="f3b4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Nom de la construcció (Comic Sans 24,negreta,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olor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</a:rPr>
              <a:t>lliure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5651640"/>
            <a:ext cx="62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sborra aquest text i posa-hi el que correspongui a la imatge. Recorda que pots fer diferents composicions amb les imatg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Imagen1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3581640" cy="4191120"/>
          </a:xfrm>
          <a:prstGeom prst="rect">
            <a:avLst/>
          </a:prstGeom>
          <a:ln w="0">
            <a:noFill/>
          </a:ln>
        </p:spPr>
      </p:pic>
      <p:pic>
        <p:nvPicPr>
          <p:cNvPr id="54" name="Imagen1" descr=""/>
          <p:cNvPicPr/>
          <p:nvPr/>
        </p:nvPicPr>
        <p:blipFill>
          <a:blip r:embed="rId3"/>
          <a:stretch/>
        </p:blipFill>
        <p:spPr>
          <a:xfrm>
            <a:off x="1143000" y="327672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b42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f3b4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99"/>
                </a:solidFill>
                <a:latin typeface="Comic Sans MS"/>
              </a:rPr>
              <a:t>inTERnet</a:t>
            </a: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, un recurs compar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2514600"/>
            <a:ext cx="62485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n l’última diapositiva cal que especifiqueu quines han estat les vostres fonts d’informació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i heu tret la informació d’un llibre, o revista, o d’internet, o entrevistant persones, o d’un fulletó de l’Ajuntament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er acabar, poseu el nom del poble i la data en què s’han fet les fotograf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solidFill>
            <a:srgbClr val="f3b4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Nom de la construcció (Comic Sans 24,negreta,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olor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</a:rPr>
              <a:t>lliure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5:06:25Z</dcterms:created>
  <dc:creator>pep</dc:creator>
  <dc:description/>
  <dc:language>en-US</dc:language>
  <cp:lastModifiedBy>.</cp:lastModifiedBy>
  <dcterms:modified xsi:type="dcterms:W3CDTF">2002-10-03T02:32:48Z</dcterms:modified>
  <cp:revision>6</cp:revision>
  <dc:subject/>
  <dc:title>Sin título de diapositiva</dc:title>
</cp:coreProperties>
</file>