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8096250" cy="60594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3FD9-B146-4F49-AAA4-1B34239E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4280" y="243000"/>
            <a:ext cx="7286760" cy="10094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4280" y="1413000"/>
            <a:ext cx="7286760" cy="19072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4280" y="3501720"/>
            <a:ext cx="7286760" cy="19072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81E4-A4B1-4979-9EFA-5221E692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4280" y="243000"/>
            <a:ext cx="7286760" cy="10094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4280" y="1413000"/>
            <a:ext cx="3555720" cy="19072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38200" y="1413000"/>
            <a:ext cx="3555720" cy="19072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4280" y="3501720"/>
            <a:ext cx="3555720" cy="19072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38200" y="3501720"/>
            <a:ext cx="3555720" cy="19072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4273-2B16-461F-8775-9803B952A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4280" y="243000"/>
            <a:ext cx="7286760" cy="10094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4280" y="1413000"/>
            <a:ext cx="2346120" cy="19072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68120" y="1413000"/>
            <a:ext cx="2346120" cy="19072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960" y="1413000"/>
            <a:ext cx="2346120" cy="19072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4280" y="3501720"/>
            <a:ext cx="2346120" cy="19072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68120" y="3501720"/>
            <a:ext cx="2346120" cy="19072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31960" y="3501720"/>
            <a:ext cx="2346120" cy="19072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503F-DFB8-48F7-AB74-5C880CB4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4280" y="243000"/>
            <a:ext cx="7286760" cy="10094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4280" y="1413000"/>
            <a:ext cx="728676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ED88-5BCA-4862-8D2F-362CDAA6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4280" y="243000"/>
            <a:ext cx="7286760" cy="10094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4280" y="1413000"/>
            <a:ext cx="7286760" cy="39988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BD29-5684-4CCF-A95A-0A28BA98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4280" y="243000"/>
            <a:ext cx="7286760" cy="10094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4280" y="1413000"/>
            <a:ext cx="3555720" cy="39988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38200" y="1413000"/>
            <a:ext cx="3555720" cy="39988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4B7F-3650-4440-B4DB-4E5F964D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4280" y="243000"/>
            <a:ext cx="7286760" cy="10094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F8C3-E5CD-456F-A755-9E9F61CA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4280" y="243000"/>
            <a:ext cx="7286760" cy="46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4461-D810-4F99-951D-D00D8975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4280" y="243000"/>
            <a:ext cx="7286760" cy="10094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4280" y="1413000"/>
            <a:ext cx="3555720" cy="19072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38200" y="1413000"/>
            <a:ext cx="3555720" cy="39988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4280" y="3501720"/>
            <a:ext cx="3555720" cy="19072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2DDB-0606-431F-BCEE-BB587544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4280" y="243000"/>
            <a:ext cx="7286760" cy="10094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4280" y="1413000"/>
            <a:ext cx="3555720" cy="39988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38200" y="1413000"/>
            <a:ext cx="3555720" cy="19072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38200" y="3501720"/>
            <a:ext cx="3555720" cy="19072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E708-9FE2-4965-9690-6174D07F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4280" y="243000"/>
            <a:ext cx="7286760" cy="10094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4280" y="1413000"/>
            <a:ext cx="3555720" cy="19072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38200" y="1413000"/>
            <a:ext cx="3555720" cy="19072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4280" y="3501720"/>
            <a:ext cx="7286760" cy="19072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5454-B9D5-44D3-98A0-D60AEDFF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4280" y="243000"/>
            <a:ext cx="7286760" cy="10094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4280" y="1413000"/>
            <a:ext cx="7286760" cy="39988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marL="303120" indent="-303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52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124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1588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19440" indent="-201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19440" indent="-201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19440" indent="-201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4640" y="5516640"/>
            <a:ext cx="1889280" cy="4204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Autofit/>
          </a:bodyPr>
          <a:lstStyle>
            <a:lvl1pPr indent="0">
              <a:buNone/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66960" y="5516640"/>
            <a:ext cx="2563920" cy="4204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Autofit/>
          </a:bodyPr>
          <a:lstStyle>
            <a:lvl1pPr indent="0" algn="ctr">
              <a:buNone/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02120" y="5516640"/>
            <a:ext cx="1888920" cy="4204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Autofit/>
          </a:bodyPr>
          <a:lstStyle>
            <a:lvl1pPr indent="0" algn="r">
              <a:buNone/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fld id="{8E8F07C2-5EFD-4B13-9EFB-61ECE7B6F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1256" r="0" b="0"/>
          <a:stretch/>
        </p:blipFill>
        <p:spPr>
          <a:xfrm>
            <a:off x="2021040" y="76320"/>
            <a:ext cx="4054320" cy="5981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81360" y="0"/>
            <a:ext cx="382320" cy="605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96080" y="0"/>
            <a:ext cx="447480" cy="605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1260" r="0" b="0"/>
          <a:stretch/>
        </p:blipFill>
        <p:spPr>
          <a:xfrm>
            <a:off x="2033640" y="76320"/>
            <a:ext cx="4029120" cy="5981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81360" y="0"/>
            <a:ext cx="382320" cy="605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1256" r="0" b="1890"/>
          <a:stretch/>
        </p:blipFill>
        <p:spPr>
          <a:xfrm>
            <a:off x="2050920" y="76320"/>
            <a:ext cx="3994200" cy="5867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944720" y="0"/>
            <a:ext cx="255600" cy="605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96080" y="0"/>
            <a:ext cx="384120" cy="605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6:52:34Z</dcterms:created>
  <dc:creator>Setefilla</dc:creator>
  <dc:description/>
  <dc:language>en-US</dc:language>
  <cp:lastModifiedBy>SGTI</cp:lastModifiedBy>
  <dcterms:modified xsi:type="dcterms:W3CDTF">2007-03-05T07:37:13Z</dcterms:modified>
  <cp:revision>11</cp:revision>
  <dc:subject/>
  <dc:title>Diapositiva 1</dc:title>
</cp:coreProperties>
</file>