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715-3CCB-489E-810F-084BB447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73D-E694-42E4-B5CE-AEF0A691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B72-07AD-4A7F-BAD8-E9ADC045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3BB-611A-4C29-8DAA-A0A81ACB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6B2-036D-4B93-9900-825AE1A8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4DE-827A-45A9-A887-70A61186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550-1B16-4B3A-AA21-E0339AB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C1C-4247-4C2D-84C2-216A59D1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8D7-1807-4335-BC08-392264AE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5E6-B4A1-4B43-96AB-08A679C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332-4216-49ED-A1A1-03C89E9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F82-B4EF-4B04-B85D-B2781CC6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CF0D-9A53-4634-BD44-783CD9D43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572000"/>
            <a:ext cx="1469880" cy="169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" y="324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2400" y="146376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34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15320" y="142884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6720" y="2438280"/>
            <a:ext cx="854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0 llaminadur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6576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25780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601992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86400" y="35053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8640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86400" y="5181480"/>
            <a:ext cx="339552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86400" y="6019920"/>
            <a:ext cx="191124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049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es llaminadures de 5 cèntims cada una em puc comprar amb 3 monedes de 50 cènti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2133720"/>
            <a:ext cx="779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iner=3 monedes de 50 ct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=5 ct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llaminadur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572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llaminadures de 5 cèntims cada una em puc comprar amb 3 monedes de 50 cènt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3960" y="427032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4600" y="25146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533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llaminadures de 5 cèntims cada una em puc comprar amb 3 monedes de 50 cènt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99840" y="243828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llaminadures de 5 cèntims cada una em puc comprar amb 3 monedes de 50 cènt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30440" y="2130480"/>
            <a:ext cx="195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50: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457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llaminadures de 5 cèntims cada una em puc comprar amb 3 monedes de 50 cènt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2880" y="2666880"/>
            <a:ext cx="328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50=1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50:5=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533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llaminadures de 5 cèntims cada una em puc comprar amb 3 monedes de 50 cènt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4382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aber quants cèntims tinc en to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Veure quantes llaminadures puc comprar, sabent el preu d'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533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llaminadures de 5 cèntims cada una em puc comprar amb 3 monedes de 50 cènt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43920" y="297180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3x50):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533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llaminadures de 5 cèntims cada una em puc comprar amb 3 monedes de 50 cènt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19:00Z</dcterms:created>
  <dc:creator>Daniel</dc:creator>
  <dc:description/>
  <dc:language>en-US</dc:language>
  <cp:lastModifiedBy>Daniel</cp:lastModifiedBy>
  <dcterms:modified xsi:type="dcterms:W3CDTF">2002-08-30T21:16:07Z</dcterms:modified>
  <cp:revision>15</cp:revision>
  <dc:subject/>
  <dc:title>Sin título de diapositiva</dc:title>
</cp:coreProperties>
</file>