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038-550B-46AB-8977-5B51CA7C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8BB-4406-448A-BBC5-02A9235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538-3CD2-4810-8730-67377316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585-9CE2-4631-9749-EE177CDB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3D4-E70D-4129-890A-792CC82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7E5-47DA-4282-902B-02221C7C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8F2-4704-438C-AAFC-D36BDCB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132-FDCF-41B5-A0D2-804CA998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83E-192C-4D3B-8D80-702765F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D4E-7E5A-4553-BCEC-0DC4846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57C-4FAE-4EC1-8C5C-AA2A929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AA7-349A-45EB-A0CD-BB12AA0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78C-954E-48CD-9508-29A511B21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1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05320" y="45720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6400" y="2514600"/>
            <a:ext cx="559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4 viatg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4572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58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48640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4864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4864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48640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590920"/>
            <a:ext cx="726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pacitat jardí=3 T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pacitat carretó= 125 K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viatg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1840" y="2841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440" y="274320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9720" y="2895480"/>
            <a:ext cx="310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0:1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762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78320" y="2590920"/>
            <a:ext cx="442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1000=3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0:125=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609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788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n de veure quants Kg són 3 Tm de ter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Amb els Kg que em surten, veure el nombre de carretonades que hi caben (cada carretonada equival a 125 K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4440" y="3048120"/>
            <a:ext cx="437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x1000):1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49320" cy="87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60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 arreglar un jardí es necessiten tres tones de terra. Si es transporten en un carretó en que hi caben 125 Kg, quants viatges s'hauran de 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2:43Z</dcterms:created>
  <dc:creator>Daniel</dc:creator>
  <dc:description/>
  <dc:language>en-US</dc:language>
  <cp:lastModifiedBy>Daniel</cp:lastModifiedBy>
  <dcterms:modified xsi:type="dcterms:W3CDTF">2002-12-27T11:59:52Z</dcterms:modified>
  <cp:revision>19</cp:revision>
  <dc:subject/>
  <dc:title>Sin título de diapositiva</dc:title>
</cp:coreProperties>
</file>