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606-DF54-4866-A0D4-06EF531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37B-0EBD-4AAD-9B2C-497BFAF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4A0-B35B-430F-8C9E-9ED86DB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BC4-D310-4F3B-8DB3-839DC01E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460-7058-469E-A504-2DE6E03A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B54-A1EF-472C-9A67-2010FA4A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60A-40E2-427C-8E46-D45DC1C3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B1F-660E-4174-807C-2850293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C67-7A17-4E29-9699-524FD4A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EA7-7A7A-4EFB-9028-704A20C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997-8178-4359-A717-9C383D8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EAF-85C3-4D87-9FA3-3C5CB45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633-A45F-473D-8BDE-78C95F8D4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3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952880"/>
            <a:ext cx="13111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20960" y="25909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0,5 g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858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1440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9144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57200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57200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57200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3600" y="2209680"/>
            <a:ext cx="587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capsa plena=65 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capsa buida=15 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xinxetes=10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d'1 xinxet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7600" y="266688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68320" y="274320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5-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: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6400" y="2514600"/>
            <a:ext cx="372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5-15=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:100=0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19051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beure quant pesen les 100 xinxetes, sabent el que pesa la capsa plena i la capsa bui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i se sap el pes de les 100 xinxetes, trobar el pes d'una so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6040" y="38088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psa de 100 xinxetes pesa 65 grams. Si la capsa buida pesa 15 grams, quant pesa cada xinx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720" y="28954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60-15):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39:26Z</dcterms:created>
  <dc:creator>Daniel</dc:creator>
  <dc:description/>
  <dc:language>en-US</dc:language>
  <cp:lastModifiedBy>Daniel</cp:lastModifiedBy>
  <dcterms:modified xsi:type="dcterms:W3CDTF">2002-12-31T16:21:03Z</dcterms:modified>
  <cp:revision>18</cp:revision>
  <dc:subject/>
  <dc:title>Sin título de diapositiva</dc:title>
</cp:coreProperties>
</file>