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9AAA-B5FA-4C72-AB44-61F554525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BFED-9A10-4C71-A034-67DF45B5B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E2B8-08DB-4A99-8B2E-5A4AE72BD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54A7-55B5-4D73-A65E-E5CAF8394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B0DC-C2B5-41D4-A671-EC633D7A2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E57F-C6A1-4B7B-B073-783898C13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82D3-CC6D-4AFB-AE51-A94283873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EE02-927C-48EA-96A8-8EDAE49AF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F7B5-603A-421A-A592-C52087271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841E-E632-4013-B82B-0D721C0E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4CF5-BAF8-487C-B68D-0CBC0729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336A-49B1-43C3-943C-25AB3308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9EB3-1FB3-42A1-8010-9AE61B9A32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809880" y="4495680"/>
            <a:ext cx="1463760" cy="1692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44600" y="2878200"/>
            <a:ext cx="645480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5600" y="2209680"/>
            <a:ext cx="7081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PROBLEMES</a:t>
            </a: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 (52)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2920" y="5334120"/>
            <a:ext cx="853920" cy="7776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440080" y="2514600"/>
            <a:ext cx="4143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00"/>
                </a:solidFill>
                <a:latin typeface="Times New Roman"/>
              </a:rPr>
              <a:t>26,18 €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228600"/>
            <a:ext cx="8458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Una família formada per un matrimoni i 2 fills menors de 14 anys va al circ. L'entrada d'adult val 7,48 € i la de menor de 14 anys, 4'43 €. Si el pare paga amb un bitllet de 50 €, quin és el canvi que li han de torna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3733920"/>
            <a:ext cx="1305000" cy="542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09480" y="4419720"/>
            <a:ext cx="2706840" cy="542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09480" y="5181480"/>
            <a:ext cx="1422360" cy="542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609480" y="5943600"/>
            <a:ext cx="1847880" cy="542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5410080" y="3657600"/>
            <a:ext cx="2313000" cy="549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5410080" y="5181480"/>
            <a:ext cx="3402000" cy="542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5410080" y="5943600"/>
            <a:ext cx="1917720" cy="542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5410080" y="4419720"/>
            <a:ext cx="1798920" cy="5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6560" y="380880"/>
            <a:ext cx="8448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família formada per un matrimoni i 2 fills menors de 14 anys va al circ. L'entrada d'adult val 7,48 € i la de menor de 14 anys, 4'43 €. Si el pare paga amb un bitllet de 50 €, quin és el canvi que li han de torn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2920" y="5334120"/>
            <a:ext cx="853920" cy="777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14760" y="1981080"/>
            <a:ext cx="55407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Adults=2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Menors=2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Preu adults=7,48 €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Preu menors=4,43 €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Pagament= 50 €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Canvi=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880" y="380880"/>
            <a:ext cx="852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família formada per un matrimoni i 2 fills menors de 14 anys va al circ. L'entrada d'adult val 7,48 € i la de menor de 14 anys, 4'43 €. Si el pare paga amb un bitllet de 50 €, quin és el canvi que li han de torn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2920" y="5334120"/>
            <a:ext cx="853920" cy="777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265400" y="2711520"/>
            <a:ext cx="661176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0920" y="2743200"/>
            <a:ext cx="785232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4 OPERACION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3520" y="380880"/>
            <a:ext cx="830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família formada per un matrimoni i 2 fills menors de 14 anys va al circ. L'entrada d'adult val 7,48 € i la de menor de 14 anys, 4'43 €. Si el pare paga amb un bitllet de 50 €, quin és el canvi que li han de torn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2920" y="5334120"/>
            <a:ext cx="853920" cy="7776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523520" y="2286000"/>
            <a:ext cx="4499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sum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res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8600" y="304920"/>
            <a:ext cx="853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família formada per un matrimoni i 2 fills menors de 14 anys va al circ. L'entrada d'adult val 7,48 € i la de menor de 14 anys, 4'43 €. Si el pare paga amb un bitllet de 50 €, quin és el canvi que li han de torn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2920" y="5334120"/>
            <a:ext cx="853920" cy="777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449720" y="2286000"/>
            <a:ext cx="3663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7,48x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4,43x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14,96+8,8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50-23,8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04920" y="228600"/>
            <a:ext cx="853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família formada per un matrimoni i 2 fills menors de 14 anys va al circ. L'entrada d'adult val 7,48 € i la de menor de 14 anys, 4'43 €. Si el pare paga amb un bitllet de 50 €, quin és el canvi que li han de torn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2920" y="5334120"/>
            <a:ext cx="853920" cy="777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840600" y="2209680"/>
            <a:ext cx="5811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7,48x2=14,9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4,43x2=8,8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14,96+8,86=23,8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50-23,82=26,1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7200" y="304920"/>
            <a:ext cx="838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família formada per un matrimoni i 2 fills menors de 14 anys va al circ. L'entrada d'adult val 7,48 € i la de menor de 14 anys, 4'43 €. Si el pare paga amb un bitllet de 50 €, quin és el canvi que li han de torn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2920" y="5334120"/>
            <a:ext cx="853920" cy="7776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09480" y="2666880"/>
            <a:ext cx="8001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1r: S'ha de trobar l'import dels dos adul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2n: Trobar l'import dels men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3r:Trobar l'import total de les entr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4t: Veure quan li sobra si dóna 50 €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304920"/>
            <a:ext cx="838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família formada per un matrimoni i 2 fills menors de 14 anys va al circ. L'entrada d'adult val 7,48 € i la de menor de 14 anys, 4'43 €. Si el pare paga amb un bitllet de 50 €, quin és el canvi que li han de torn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2920" y="5334120"/>
            <a:ext cx="853920" cy="7776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296360" y="2971800"/>
            <a:ext cx="6331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50-(7,48x2+4,43x2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1T22:04:08Z</dcterms:created>
  <dc:creator>Daniel</dc:creator>
  <dc:description/>
  <dc:language>en-US</dc:language>
  <cp:lastModifiedBy>Daniel</cp:lastModifiedBy>
  <dcterms:modified xsi:type="dcterms:W3CDTF">2002-12-18T17:38:54Z</dcterms:modified>
  <cp:revision>20</cp:revision>
  <dc:subject/>
  <dc:title>Sin título de diapositiva</dc:title>
</cp:coreProperties>
</file>