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31E-084F-4B5F-8C0C-FC8E2114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BED-DA88-4546-914F-A2161FB6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5AB-7960-4FDF-BA08-39D722E4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83A-B051-45FC-9EDA-D58203CC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F41-147A-48A0-9598-FD02D50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559-59E1-4EBD-A5D3-2F31553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25C-7FF6-408D-9342-D200DD04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14B-6151-4996-B60F-36719E63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783-30DC-4710-856B-0F6054C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0CC-4D7E-4077-BE98-42651FD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DFB-79E5-480C-B22F-E531ABE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3F4-EE08-4C82-8B61-6191EF90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4DFB-3728-4AFE-A177-298561A5F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648320"/>
            <a:ext cx="1463760" cy="169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220968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4000" y="235260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0880" y="231768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57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4640" y="2438280"/>
            <a:ext cx="576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4145,5 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65760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24280" y="358128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24280" y="44197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724280" y="586728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457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0080" y="2514600"/>
            <a:ext cx="827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Recorregut 1 partit= 1Km,26 Hm, 97 d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Nº partits=1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Recorregut total en m=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65400" y="2711520"/>
            <a:ext cx="6611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880" y="25909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2640" y="1752480"/>
            <a:ext cx="4606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4280" y="1828800"/>
            <a:ext cx="5050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x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6x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7: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00+2600+9,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9,7x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533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82880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x1000=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26x100=26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97:10=9,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000+2600+9,7=3609,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609,7x15=54145,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335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1720" y="2514600"/>
            <a:ext cx="690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passar tot a me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abent els metres que fa en un part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trobar el que fa en 15 part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80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corre a cada partit 1 Km, 26 Hm i 97 dm. Si juga 15 partits, quants metres haurà recorregu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2920" y="2432160"/>
            <a:ext cx="84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[(1x1000)+(26x100)+(97:10)]x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09:31Z</dcterms:created>
  <dc:creator>Daniel</dc:creator>
  <dc:description/>
  <dc:language>en-US</dc:language>
  <cp:lastModifiedBy>Daniel</cp:lastModifiedBy>
  <dcterms:modified xsi:type="dcterms:W3CDTF">2002-10-23T21:41:16Z</dcterms:modified>
  <cp:revision>18</cp:revision>
  <dc:subject/>
  <dc:title>Sin título de diapositiva</dc:title>
</cp:coreProperties>
</file>