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B02-7C46-4F78-B5EB-0320CAB9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A49-5375-41D9-AAC0-F09F34EE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E39-9C1E-4416-B30C-2291FBAB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B22-0156-4891-B3C6-B82D992F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292-C552-475F-850F-3B4F8F6A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7C7-9C0D-43D4-A4C7-A0AB0F2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48C-BD4A-4BD4-B572-E25B61A6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17C-37B4-42EF-94F3-AA237CF2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92B-4483-47EB-9292-F6C77A17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16D-3CA1-4DD1-AC8B-4666279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B6B-417C-45E2-8848-BB25D809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C0D-5D89-49DF-9F38-8B27C5D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5B25-28D6-463C-BA33-2155FBDA4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927520"/>
            <a:ext cx="687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2920" y="2989440"/>
            <a:ext cx="72900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00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33920" y="4648320"/>
            <a:ext cx="1476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6000" y="1828800"/>
            <a:ext cx="858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Agrada a 200 alumn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No agrada a 300 alumn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5335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 40% dels 500 alumnes d'una escola els agrada la informàtica. A quants alumnes els agrada? A quants alumnes no els agra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380988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270684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14300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14300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952880" y="380988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952880" y="4495680"/>
            <a:ext cx="180504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52880" y="51814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952880" y="594360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40% dels 500 alumnes d'una escola els agrada la informàtica. A quants alumnes els agrada? A quants alumnes no els ag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9400" y="2362320"/>
            <a:ext cx="767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alumnes=50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40% agrada informàtic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alumnes que agrada=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alumnes que no agrad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40% dels 500 alumnes d'una escola els agrada la informàtica. A quants alumnes els agrada? A quants alumnes no els ag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638680"/>
            <a:ext cx="860400" cy="78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6120" y="2709720"/>
            <a:ext cx="80438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40% dels 500 alumnes d'una escola els agrada la informàtica. A quants alumnes els agrada? A quants alumnes no els ag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120" y="2438280"/>
            <a:ext cx="441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40% dels 500 alumnes d'una escola els agrada la informàtica. A quants alumnes els agrada? A quants alumnes no els ag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39720" y="2438280"/>
            <a:ext cx="272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: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-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40% dels 500 alumnes d'una escola els agrada la informàtica. A quants alumnes els agrada? A quants alumnes no els ag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54280" y="2590920"/>
            <a:ext cx="429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:100=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x40=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-200=3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40% dels 500 alumnes d'una escola els agrada la informàtica. A quants alumnes els agrada? A quants alumnes no els ag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133720"/>
            <a:ext cx="815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1r: S'ha de calcular el 40% de 500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-a)Veure quantes vegades està contingut 100 en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500.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-b)Les vegades que 100 està contingut en 500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s'ha de multiplicar per 40.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2n: La diferència entre el total d'alumnes i aquests alumnes que els hi agrada la informàtica (40%) serà el nombre d'alumnes que no els hi ag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40% dels 500 alumnes d'una escola els agrada la informàtica. A quants alumnes els agrada? A quants alumnes no els agr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638680"/>
            <a:ext cx="860400" cy="784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480" y="2971800"/>
            <a:ext cx="577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500-(500:100)x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31:25Z</dcterms:created>
  <dc:creator>Daniel</dc:creator>
  <dc:description/>
  <dc:language>en-US</dc:language>
  <cp:lastModifiedBy>Daniel</cp:lastModifiedBy>
  <dcterms:modified xsi:type="dcterms:W3CDTF">2003-01-04T11:29:40Z</dcterms:modified>
  <cp:revision>20</cp:revision>
  <dc:subject/>
  <dc:title>Sin título de diapositiva</dc:title>
</cp:coreProperties>
</file>