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78E-BDF2-47A0-AAE6-E4139F88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D8B-D8FD-4361-A3AA-A98C25F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A7E-5349-49C8-80EF-B86B05ED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F47-6477-4B3E-B91D-D8F8549C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3F8-A9A9-4B4F-BC8F-317F1AE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996-6D58-4FD9-BE00-BC08E90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C8D-E724-4347-B297-5682248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A7F-F823-40A5-AE54-AE01BA3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278-5A5A-45EC-BABF-105DCBE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07A-D1F2-4CAF-936C-A4CC293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6DD-3142-4E7E-9781-D1D2CA6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C92-1892-4A6C-8B2E-75924C5E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6C2E-AB48-4537-B46B-788C9F52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image" Target="../media/image2.wmf"/><Relationship Id="rId5" Type="http://schemas.openxmlformats.org/officeDocument/2006/relationships/slide" Target="slide5.xml"/><Relationship Id="rId6" Type="http://schemas.openxmlformats.org/officeDocument/2006/relationships/image" Target="../media/image3.wmf"/><Relationship Id="rId7" Type="http://schemas.openxmlformats.org/officeDocument/2006/relationships/slide" Target="slide9.xml"/><Relationship Id="rId8" Type="http://schemas.openxmlformats.org/officeDocument/2006/relationships/image" Target="../media/image4.wmf"/><Relationship Id="rId9" Type="http://schemas.openxmlformats.org/officeDocument/2006/relationships/slide" Target="slide6.xml"/><Relationship Id="rId10" Type="http://schemas.openxmlformats.org/officeDocument/2006/relationships/image" Target="../media/image5.wmf"/><Relationship Id="rId11" Type="http://schemas.openxmlformats.org/officeDocument/2006/relationships/slide" Target="slide7.xml"/><Relationship Id="rId12" Type="http://schemas.openxmlformats.org/officeDocument/2006/relationships/image" Target="../media/image6.wmf"/><Relationship Id="rId13" Type="http://schemas.openxmlformats.org/officeDocument/2006/relationships/slide" Target="slide8.xml"/><Relationship Id="rId14" Type="http://schemas.openxmlformats.org/officeDocument/2006/relationships/image" Target="../media/image7.wmf"/><Relationship Id="rId15" Type="http://schemas.openxmlformats.org/officeDocument/2006/relationships/slide" Target="slide10.xml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2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886200" y="4952880"/>
            <a:ext cx="1523880" cy="152424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40"/>
                </a:moveTo>
                <a:lnTo>
                  <a:pt x="13376" y="6451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3"/>
                </a:lnTo>
                <a:lnTo>
                  <a:pt x="16109" y="10803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3"/>
                </a:lnTo>
                <a:lnTo>
                  <a:pt x="3837" y="10803"/>
                </a:lnTo>
                <a:close/>
              </a:path>
              <a:path fill="darkenLess" w="21600" h="21605">
                <a:moveTo>
                  <a:pt x="13376" y="6451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3"/>
                </a:lnTo>
                <a:lnTo>
                  <a:pt x="5491" y="10803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5160" y="2514600"/>
            <a:ext cx="69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729,4 euro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9528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3794" y="11521"/>
                </a:moveTo>
                <a:lnTo>
                  <a:pt x="17806" y="4514"/>
                </a:lnTo>
                <a:lnTo>
                  <a:pt x="17806" y="1852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7621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1240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38862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8006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9480" y="57913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10080" y="32004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410080" y="40384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410080" y="487692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486400" y="5867280"/>
            <a:ext cx="19112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685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133720"/>
            <a:ext cx="63244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apital inicial=2248€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Funcionament=15 any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8,23 €/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Guany=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553080" y="53341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10800"/>
                </a:moveTo>
                <a:lnTo>
                  <a:pt x="18527" y="3794"/>
                </a:lnTo>
                <a:lnTo>
                  <a:pt x="1852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2708280"/>
            <a:ext cx="803772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43600" y="487692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560" y="21337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8006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8480" y="2133720"/>
            <a:ext cx="425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'23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8,76x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481'4+224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952880"/>
            <a:ext cx="1295280" cy="1219320"/>
          </a:xfrm>
          <a:custGeom>
            <a:avLst/>
            <a:gdLst>
              <a:gd name="textAreaLeft" fmla="*/ 78840 w 1295280"/>
              <a:gd name="textAreaRight" fmla="*/ 1216440 w 1295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45" y="1400"/>
                </a:lnTo>
                <a:lnTo>
                  <a:pt x="1400" y="140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45" y="20200"/>
                </a:lnTo>
                <a:lnTo>
                  <a:pt x="21545" y="140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5" y="2020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5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5320" y="2133720"/>
            <a:ext cx="68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'23x12=98,7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8,76x15=1481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481'4+2248=3729,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52578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10800"/>
                </a:moveTo>
                <a:lnTo>
                  <a:pt x="18524" y="3794"/>
                </a:lnTo>
                <a:lnTo>
                  <a:pt x="1852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67652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S'ha de trobar el que es guanya en un 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S'ha de trobar el que es guanya en 15 an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Se li ha de sumar la quantitat d'euros inicial per saber els euros que s'han reunit en to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s va començar un negoci amb 2.248 euros. Si va estar funcionant durant 15 anys i es va guanyar a raó de 8,23 euros al mes. Quants euros es va reunir al fi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3400" y="2590920"/>
            <a:ext cx="597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'23x12x15+2248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52578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45:02Z</dcterms:created>
  <dc:creator>Daniel</dc:creator>
  <dc:description/>
  <dc:language>en-US</dc:language>
  <cp:lastModifiedBy>Daniel</cp:lastModifiedBy>
  <dcterms:modified xsi:type="dcterms:W3CDTF">2002-08-24T22:37:08Z</dcterms:modified>
  <cp:revision>34</cp:revision>
  <dc:subject/>
  <dc:title>Sin título de diapositiva</dc:title>
</cp:coreProperties>
</file>