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DFBF-8867-4536-BC50-4AF509912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C274-75BE-4EEE-B3BB-A5B321E3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687B-1C5F-4473-BA62-D6E098C8D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2D16-73E7-486F-966B-A53AD3543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A6E7-0B93-4740-9A2C-0E2FC89C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32A5-C955-46CB-B8DE-584989A3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9DF4-E1A1-482E-9146-E064F547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DEE3-65A8-4044-9779-488DF67D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B28A-3CA2-465E-A353-14809003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227E-0C93-4685-88CA-86E2015B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2257-72E9-4055-B9B0-13D3D43A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682B-9010-48E4-A446-C8B2C537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1A38-1BAF-448F-8DFC-C118BDF1C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39960" y="2695680"/>
            <a:ext cx="726408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44160" y="2838600"/>
            <a:ext cx="526464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09240" y="2803680"/>
            <a:ext cx="526464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293880" y="2803680"/>
            <a:ext cx="18172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(75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733920" y="4343400"/>
            <a:ext cx="147636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5410080"/>
            <a:ext cx="892080" cy="816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7960" y="2362320"/>
            <a:ext cx="793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1h 18 min 20 s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4038480"/>
            <a:ext cx="130464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85800" y="4724280"/>
            <a:ext cx="2706840" cy="542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85800" y="5410080"/>
            <a:ext cx="142236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685800" y="6095880"/>
            <a:ext cx="1847880" cy="542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4952880" y="4191120"/>
            <a:ext cx="230688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4952880" y="4800600"/>
            <a:ext cx="179892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4952880" y="548640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4952880" y="6095880"/>
            <a:ext cx="1917720" cy="542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7200" y="228600"/>
            <a:ext cx="8458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En una prova ciclista es disputa una etapa contrarellotge de 30 Km de recorregut. L'últim classificat ha tardat 1 hora 30 minuts a arribar a la meta. Calcula el temps que ha tardat el guanyador, si li ha tret 11 minuts 40 segons d'avantat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5410080"/>
            <a:ext cx="892080" cy="816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45720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una prova ciclista es disputa una etapa contrarellotge de 30 Km de recorregut. L'últim classificat ha tardat 1 hora 30 minuts a arribar a la meta. Calcula el temps que ha tardat el guanyador, si li ha tret 11 minuts 40 segons d'avantat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2240" y="2590920"/>
            <a:ext cx="8949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Etapa=30 K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Últim corredor= 1h 30 m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Guanyador= 11 min 40 s avantatge s/ l'últi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Temps guanyador=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2711520"/>
            <a:ext cx="86882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1840" y="284148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5410080"/>
            <a:ext cx="892080" cy="816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200" y="45720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una prova ciclista es disputa una etapa contrarellotge de 30 Km de recorregut. L'últim classificat ha tardat 1 hora 30 minuts a arribar a la meta. Calcula el temps que ha tardat el guanyador, si li ha tret 11 minuts 40 segons d'avantat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5410080"/>
            <a:ext cx="892080" cy="816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57200" y="45720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una prova ciclista es disputa una etapa contrarellotge de 30 Km de recorregut. L'últim classificat ha tardat 1 hora 30 minuts a arribar a la meta. Calcula el temps que ha tardat el guanyador, si li ha tret 11 minuts 40 segons d'avantat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3600" y="3124080"/>
            <a:ext cx="2044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Sum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res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5410080"/>
            <a:ext cx="892080" cy="816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" y="38088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una prova ciclista es disputa una etapa contrarellotge de 30 Km de recorregut. L'últim classificat ha tardat 1 hora 30 minuts a arribar a la meta. Calcula el temps que ha tardat el guanyador, si li ha tret 11 minuts 40 segons d'avantat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7240" y="2666880"/>
            <a:ext cx="4670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60+3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90-11min 40 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5410080"/>
            <a:ext cx="892080" cy="816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04920" y="457200"/>
            <a:ext cx="85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una prova ciclista es disputa una etapa contrarellotge de 30 Km de recorregut. L'últim classificat ha tardat 1 hora 30 minuts a arribar a la meta. Calcula el temps que ha tardat el guanyador, si li ha tret 11 minuts 40 segons d'avantat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2362320"/>
            <a:ext cx="8471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Times New Roman"/>
              </a:rPr>
              <a:t>60+30=9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Times New Roman"/>
              </a:rPr>
              <a:t>90-11min 40 s= 78 min 20 s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Times New Roman"/>
              </a:rPr>
              <a:t>=1h 18 min 20 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5410080"/>
            <a:ext cx="892080" cy="816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57200" y="53352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una prova ciclista es disputa una etapa contrarellotge de 30 Km de recorregut. L'últim classificat ha tardat 1 hora 30 minuts a arribar a la meta. Calcula el temps que ha tardat el guanyador, si li ha tret 11 minuts 40 segons d'avantat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8160" y="2514600"/>
            <a:ext cx="8475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S'ha de trobar el temps en minuts que ha tardatl'últim corred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 Calcular la diferència entre aquest temps de l´últim i el temps d'avantatge que li porta el prim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5410080"/>
            <a:ext cx="892080" cy="816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" y="38088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una prova ciclista es disputa una etapa contrarellotge de 30 Km de recorregut. L'últim classificat ha tardat 1 hora 30 minuts a arribar a la meta. Calcula el temps que ha tardat el guanyador, si li ha tret 11 minuts 40 segons d'avantat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3352680"/>
            <a:ext cx="821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(60+30) min -11 min 40 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23:28:07Z</dcterms:created>
  <dc:creator>Daniel</dc:creator>
  <dc:description/>
  <dc:language>en-US</dc:language>
  <cp:lastModifiedBy>Daniel</cp:lastModifiedBy>
  <dcterms:modified xsi:type="dcterms:W3CDTF">2002-12-28T21:07:28Z</dcterms:modified>
  <cp:revision>16</cp:revision>
  <dc:subject/>
  <dc:title>Sin título de diapositiva</dc:title>
</cp:coreProperties>
</file>