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A5A-BAE6-4475-BBAB-9F4537C5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75F-4847-4524-A47B-9F506111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BB2-C1A6-413E-A822-DB7C455D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780-0A99-416A-82EC-16F61F1A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1D5-89E0-4E93-AB5B-7DAC0020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43B-EBC4-4B35-91F2-96353C42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37A-C82D-4A34-A13B-6D943976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FFA-9BA3-4BA5-BD08-B8E336D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1C4-C80B-4E47-A05D-D81BCF9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46B-2DA2-4616-BF37-2035B356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FBF-951D-4969-98AF-7BDCDF2C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827-C3DC-47E8-A664-4992BC8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2278-9D0D-40D7-A6A6-EC992DC56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800" y="298296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9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419720"/>
            <a:ext cx="1463760" cy="16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82880" y="2362320"/>
            <a:ext cx="434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2 bol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4290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5800" y="502920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580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86400" y="342900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86400" y="42670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86400" y="5105520"/>
            <a:ext cx="339552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86400" y="5867280"/>
            <a:ext cx="1911240" cy="53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inc 24 boles i el meu amic en té la tercera part de les que tinc jo. Quantes en tenim entre tots d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6000" y="2057400"/>
            <a:ext cx="593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oles=2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oles amic= 1/3 de 2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oles en total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57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nc 24 boles i el meu amic en té la tercera part de les que tinc jo. Quantes en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7160" y="270828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6880" y="27432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33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nc 24 boles i el meu amic en té la tercera part de les que tinc jo. Quantes en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91640" y="2590920"/>
            <a:ext cx="242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9144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nc 24 boles i el meu amic en té la tercera part de les que tinc jo. Quantes en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2200" y="2666880"/>
            <a:ext cx="175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4: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4+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066680"/>
            <a:ext cx="82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nc 24 boles i el meu amic en té la tercera part de les que tinc jo. Quantes en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8160" y="2362320"/>
            <a:ext cx="295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4:3=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4+8=3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83808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nc 24 boles i el meu amic en té la tercera part de les que tinc jo. Quantes en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251460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Trobar la tercera part de les boles que t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Saber el nombre total de boles entre tots 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066680"/>
            <a:ext cx="80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nc 24 boles i el meu amic en té la tercera part de les que tinc jo. Quantes en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905040" cy="828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7080" y="2895480"/>
            <a:ext cx="328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4+(24:8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335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nc 24 boles i el meu amic en té la tercera part de les que tinc jo. Quantes en tenim entre tots 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54:46Z</dcterms:created>
  <dc:creator>Daniel</dc:creator>
  <dc:description/>
  <dc:language>en-US</dc:language>
  <cp:lastModifiedBy>Daniel</cp:lastModifiedBy>
  <dcterms:modified xsi:type="dcterms:W3CDTF">2002-08-29T22:07:31Z</dcterms:modified>
  <cp:revision>16</cp:revision>
  <dc:subject/>
  <dc:title>Sin título de diapositiva</dc:title>
</cp:coreProperties>
</file>