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7DB-B029-4345-B82F-FBA18443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20D-118C-424A-BE72-548600F4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F66-E232-4400-BB4F-C35813A5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950-8646-43F9-9EE5-B0B90950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72F-5A33-48A2-AD80-6B7AAA4B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3FC-1FB2-47D4-83E4-C64FB649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2A7-337C-409C-8C0F-8A2C9CC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F0B-ED0E-4F1A-B8DE-6F657B50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8F8-117A-499F-8BA3-BA39941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421-4C86-46D3-983A-0CEFA9A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D7B-4550-4655-ADBD-8B8C368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251-7C31-4421-8B20-6E684E8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FBF1-3774-4548-A982-7F1404E6E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63760" cy="169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220968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4000" y="235260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1240" y="231768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55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63760" y="228600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34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96252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64832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76920" y="380988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76920" y="4572000"/>
            <a:ext cx="179208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7692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7692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457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 costaran 36 dam de roba si el metre val 0,65 €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5560" y="99072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costaran 36 dam de roba si el metre val 0,65 €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4080" y="2743200"/>
            <a:ext cx="515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Roba=36 d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=0,65 €/met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total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65400" y="2711520"/>
            <a:ext cx="6611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25146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9600" y="99072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costaran 36 dam de roba si el metre val 0,65 €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0480" y="99072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costaran 36 dam de roba si el metre val 0,65 €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5640" y="2514600"/>
            <a:ext cx="460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160" y="99072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costaran 36 dam de roba si el metre val 0,65 €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590920"/>
            <a:ext cx="303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x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x0,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88200" y="91440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costaran 36 dam de roba si el metre val 0,65 €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5520" y="2514600"/>
            <a:ext cx="461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x10=3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x0,65=23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11880" y="83808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costaran 36 dam de roba si el metre val 0,65 €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2096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Trobar el nombre de metres de ro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l'import total sabent el preu del me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4160" y="38088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costaran 36 dam de roba si el metre val 0,65 €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0080" y="2971800"/>
            <a:ext cx="380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x10x0,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07:17Z</dcterms:created>
  <dc:creator>Daniel</dc:creator>
  <dc:description/>
  <dc:language>en-US</dc:language>
  <cp:lastModifiedBy>Daniel</cp:lastModifiedBy>
  <dcterms:modified xsi:type="dcterms:W3CDTF">2002-10-15T21:54:05Z</dcterms:modified>
  <cp:revision>16</cp:revision>
  <dc:subject/>
  <dc:title>Sin título de diapositiva</dc:title>
</cp:coreProperties>
</file>