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679F-13C5-4F38-BAA6-71096ED2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9318-1341-47C7-9FE0-8E87C8BB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6359-FB43-4443-8FE8-59DD2CEF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BA9B-CCD0-471F-9307-8D2A621C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F08D-3D82-4BCE-AD2C-78DED027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503C-BBE6-4202-834A-52242FD8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423E-FBD5-4CDF-AB84-60ECD4C8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BB98-92DA-4434-8E24-117F423F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8E42-81B2-41AB-8F7C-41234DAB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34D2-E615-43DD-BD74-A198B7D9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EC01-FBB7-41BE-85B5-DC89EFCF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2141-8978-4EC3-A329-D1BC753E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5BEF-B3F2-4F3E-9B08-8301A4D97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33640" y="2927520"/>
            <a:ext cx="6870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32560" y="2989440"/>
            <a:ext cx="6870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86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09880" y="4648320"/>
            <a:ext cx="13114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562720"/>
            <a:ext cx="885960" cy="809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754280" y="2438280"/>
            <a:ext cx="593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1100 línies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45720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a Rosa va completar ahir 12 pàgines d'un quadern i avui 32. Si en cada pàgina escriu 25 línies, quantes línies ha escrit en tot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080" y="3886200"/>
            <a:ext cx="1305000" cy="542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838080" y="4572000"/>
            <a:ext cx="270684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838080" y="525780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838080" y="594360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029200" y="3886200"/>
            <a:ext cx="2306520" cy="54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029200" y="4572000"/>
            <a:ext cx="179856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5029200" y="525780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029200" y="5943600"/>
            <a:ext cx="1917720" cy="5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562720"/>
            <a:ext cx="885960" cy="809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457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Rosa va completar ahir 12 pàgines d'un quadern i avui 32. Si en cada pàgina escriu 25 línies, quantes línies ha escrit en to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7120" y="2286000"/>
            <a:ext cx="4709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àgines ahir=12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àgines avui=32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Nº líns/pàg=25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Nº total línies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562720"/>
            <a:ext cx="885960" cy="809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457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Rosa va completar ahir 12 pàgines d'un quadern i avui 32. Si en cada pàgina escriu 25 línies, quantes línies ha escrit en to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5360" y="2712960"/>
            <a:ext cx="8688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3200" y="281952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562720"/>
            <a:ext cx="885960" cy="809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0880" y="457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Rosa va completar ahir 12 pàgines d'un quadern i avui 32. Si en cada pàgina escriu 25 línies, quantes línies ha escrit en to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4760" y="3048120"/>
            <a:ext cx="4415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Su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562720"/>
            <a:ext cx="885960" cy="809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457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Rosa va completar ahir 12 pàgines d'un quadern i avui 32. Si en cada pàgina escriu 25 línies, quantes línies ha escrit en to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3600" y="2438280"/>
            <a:ext cx="2139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2+3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44x2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562720"/>
            <a:ext cx="885960" cy="809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0880" y="457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Rosa va completar ahir 12 pàgines d'un quadern i avui 32. Si en cada pàgina escriu 25 línies, quantes línies ha escrit en to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40080" y="2743200"/>
            <a:ext cx="423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2+32=4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44x25= 11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562720"/>
            <a:ext cx="885960" cy="809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457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Rosa va completar ahir 12 pàgines d'un quadern i avui 32. Si en cada pàgina escriu 25 línies, quantes línies ha escrit en to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2514600"/>
            <a:ext cx="8229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S'ha de veure el nombre de pàgines que ha fet entre tots dos d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 Sabent el nombre de línies per pàgina, s'ha de calcular el nombre de línies total que ha escr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562720"/>
            <a:ext cx="885960" cy="809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80880" y="457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Rosa va completar ahir 12 pàgines d'un quadern i avui 32. Si en cada pàgina escriu 25 línies, quantes línies ha escrit en to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16040" y="2895480"/>
            <a:ext cx="379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(12+32)x2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0T21:40:45Z</dcterms:created>
  <dc:creator>Daniel</dc:creator>
  <dc:description/>
  <dc:language>en-US</dc:language>
  <cp:lastModifiedBy>Daniel</cp:lastModifiedBy>
  <dcterms:modified xsi:type="dcterms:W3CDTF">2002-12-31T17:31:38Z</dcterms:modified>
  <cp:revision>18</cp:revision>
  <dc:subject/>
  <dc:title>Sin título de diapositiva</dc:title>
</cp:coreProperties>
</file>