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75E-26E3-4316-9C2A-9B08DE1B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B5E-0FEB-417D-940E-ED75E761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6C48-B27A-400C-BBA3-E1FB5D9B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3BCE-6345-493E-9531-E39DEA92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238-5F08-461E-A7A6-375BC253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1F66-843C-40C8-91B2-94AED67E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EFC-400B-4C19-AB28-342AE035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924-0453-4D1F-91F9-125FE9E4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32C-A2EB-4FCF-B931-D1B588E0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9C6-F253-44EF-8C52-AC416226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AB6-D903-4086-8C6F-62078152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5AC8-20E9-4DAE-92B2-1A27E569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9E8C-03AA-4C48-A74D-9E73716A7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3160" y="287496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45560" y="301788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2440" y="298296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12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962520" y="4800600"/>
            <a:ext cx="1158840" cy="12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92360" y="2057400"/>
            <a:ext cx="322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285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181480"/>
            <a:ext cx="8539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93560" y="304920"/>
            <a:ext cx="8345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 una granja hi ha 168 gallines que ponen per terme mig 5 ous a la setmana cadascuna. Quan es guanyarà al mes de la venda dels ous si es venen a 0,95 euros la dotze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32004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09480" y="419112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85800" y="5029200"/>
            <a:ext cx="141588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85800" y="5867280"/>
            <a:ext cx="184140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876920" y="3200400"/>
            <a:ext cx="23000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952880" y="419112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4952880" y="5105520"/>
            <a:ext cx="3395880" cy="536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029200" y="5943600"/>
            <a:ext cx="191124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04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n una granja hi ha 168 gallines que ponen per terme mig 5 ous a la setmana cadascuna. Quan es guanyarà al mes de la venda dels ous si es venen a 0,95 euros la dotze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666880"/>
            <a:ext cx="7278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168 gallines. 5ous/setmana/galli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Dotzena=0,95 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Guany mensual=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334120"/>
            <a:ext cx="854280" cy="77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a granja hi ha 168 gallines que ponen per terme mig 5 ous a la setmana cadascuna. Quan es guanyarà al mes de la venda dels ous si es venen a 0,95 euros la dotze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0800" y="2525760"/>
            <a:ext cx="8037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2600" y="26557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5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181480"/>
            <a:ext cx="8539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04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a granja hi ha 168 gallines que ponen per terme mig 5 ous a la setmana cadascuna. Quan es guanyarà al mes de la venda dels ous si es venen a 0,95 euros la dotze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4920" y="1676520"/>
            <a:ext cx="449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334120"/>
            <a:ext cx="853920" cy="77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04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a granja hi ha 168 gallines que ponen per terme mig 5 ous a la setmana cadascuna. Quan es guanyarà al mes de la venda dels ous si es venen a 0,95 euros la dotze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20760" y="1676520"/>
            <a:ext cx="3228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68x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840: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20x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00: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00x0,95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410080"/>
            <a:ext cx="8539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228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a granja hi ha 168 gallines que ponen per terme mig 5 ous a la setmana cadascuna. Quan es guanyarà al mes de la venda dels ous si es venen a 0,95 euros la dotze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7440" y="1600200"/>
            <a:ext cx="480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68x5=84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840:7=1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20x30=36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600:12=3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00x0,95=285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a granja hi ha 168 gallines que ponen per terme mig 5 ous a la setmana cadascuna. Quan es guanyarà al mes de la venda dels ous si es venen a 0,95 euros la dotze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676520"/>
            <a:ext cx="7467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S'ha de saber el nombre d'ous a la setma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S'ha de buscar el nombre d'ous al dia. 3r:S'ha de trobar el nombre d'ous al mes. 4t:S'ha de saber les dotzenes d'ous al mes. 5è: S'ha de trobar el guany mensual, sabent les dotze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257800"/>
            <a:ext cx="8539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3808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a granja hi ha 168 gallines que ponen per terme mig 5 ous a la setmana cadascuna. Quan es guanyarà al mes de la venda dels ous si es venen a 0,95 euros la dotze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590920"/>
            <a:ext cx="862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[(((168x5):7)x30):12]x0,9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5715000"/>
            <a:ext cx="853920" cy="77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5T08:34:37Z</dcterms:created>
  <dc:creator>Daniel</dc:creator>
  <dc:description/>
  <dc:language>en-US</dc:language>
  <cp:lastModifiedBy>Daniel</cp:lastModifiedBy>
  <dcterms:modified xsi:type="dcterms:W3CDTF">2002-08-28T20:24:14Z</dcterms:modified>
  <cp:revision>21</cp:revision>
  <dc:subject/>
  <dc:title>Sin título de diapositiva</dc:title>
</cp:coreProperties>
</file>