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088-22B7-49F3-A735-7B5A03AD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CA5-27A9-4EEC-897B-43AFC18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A4C-8664-4F02-9C12-3F20FA2A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C79-3A9B-4EDA-97C3-5EC2E21F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81D-B072-4303-9272-33858C3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106-8F15-44AB-815F-8C615B83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299-E978-4F19-AA37-84BFF69D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15A-0BCF-487C-A3FA-B20B55F4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CB9-D895-4C54-8F7E-59C94572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065-CFE3-4BDF-B90C-E29A5AB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F21-79F0-4CC6-AAA6-9C3DC6B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AC0-FC65-4F27-921F-F96934F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A2B7-DF2B-4362-8C14-7EE8DEA9B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2040" y="302112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44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62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9568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67652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Els hi falta 10270,4 €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Amb els diners de l'a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encara els hi falta 2198,6 €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7339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94360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334120" y="3657600"/>
            <a:ext cx="230004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334120" y="43434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334120" y="586728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45720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560" y="2384280"/>
            <a:ext cx="51886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u=83832,2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Estalvi noia=39179,6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Estalvi noi=34382,2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jud amic= 8071,8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Diners suficient=?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861320" cy="134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6094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6560" y="2514600"/>
            <a:ext cx="204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094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4800" y="2362320"/>
            <a:ext cx="556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9179,6+34382,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3832,2-73561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3561,8+8071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3832,2-81633,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049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62040" y="2355840"/>
            <a:ext cx="68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9179,6+34382,2=73561,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83832,2-73561,8=10270,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73561,8+8071,8=81633,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83832,2-81633,6=2198,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049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30360" y="2209680"/>
            <a:ext cx="805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1r: S'ha de trobar la quantitat de diners que tenen estalviats entre tots 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2n. Veure si en tenen prou o quants els hi fal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3r:Veure quants diners poden reunir amb els que els hi deixa l'am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4rt: Veure quants diners els hi sobra o quants diners els hi falta per arribar a l'import del p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3760" y="3166920"/>
            <a:ext cx="825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83832,2-(39179,6+34382,2)-8071,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80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arella de promesos vol comprar un pis que costa 83.832'3 €. Si ella ha estalviat 39.179,6 € i ell 34.383,2 €, quant diners els falten per poder comprar el pis? Tenen un amic que els pot deixar 8.071'8 €.Encara els falten diners? Qu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4:41Z</dcterms:created>
  <dc:creator>Daniel</dc:creator>
  <dc:description/>
  <dc:language>en-US</dc:language>
  <cp:lastModifiedBy>Daniel</cp:lastModifiedBy>
  <dcterms:modified xsi:type="dcterms:W3CDTF">2002-09-09T15:36:45Z</dcterms:modified>
  <cp:revision>17</cp:revision>
  <dc:subject/>
  <dc:title>Sin título de diapositiva</dc:title>
</cp:coreProperties>
</file>