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72726-4615-4FDF-A066-2D27AD35D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92A91-B981-42DC-8BFF-697ABFABB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F8817-6D66-4FE4-8E99-E09F4A691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E3BB2-5661-414E-A7A1-05EFFEB8A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95399-80C7-4558-B9AB-B34C40748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30494-8E90-4500-BF88-006D78066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E98E2-91C5-4690-8982-3C66469C3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9BCFF-CA88-404B-81F6-F4F550394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09CFB-69A0-4F0F-9C5D-777AEFECE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74150-4E54-4771-94A9-8BE384F19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2A32B-FE30-4344-A48F-8C86BF2EE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6BE59-234A-4939-85BF-0C929CB06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590D8-9577-438F-95E8-7EACA60611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43160" y="2874960"/>
            <a:ext cx="6454800" cy="11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45560" y="3017880"/>
            <a:ext cx="5474880" cy="10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PROBLEMES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432440" y="2982960"/>
            <a:ext cx="7081200" cy="10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6600"/>
                </a:solidFill>
                <a:latin typeface="Times New Roman"/>
              </a:rPr>
              <a:t>PROBLEMES (16)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4038480" y="4648320"/>
            <a:ext cx="1158840" cy="123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058840" y="2209680"/>
            <a:ext cx="4481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6600"/>
                </a:solidFill>
                <a:latin typeface="Times New Roman"/>
              </a:rPr>
              <a:t>416'22 €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553080" y="4952880"/>
            <a:ext cx="866880" cy="790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80880" y="304920"/>
            <a:ext cx="8534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Quant hi gaunyarà un botiguer amb 14 dotzenes de plats si els compra a 94,35 euros la dotzena i els posa a la venda a 10,34 euros el pla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38080" y="3429000"/>
            <a:ext cx="1298520" cy="5364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838080" y="4191120"/>
            <a:ext cx="2700360" cy="5364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838080" y="5029200"/>
            <a:ext cx="1416240" cy="5364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5"/>
          <a:stretch/>
        </p:blipFill>
        <p:spPr>
          <a:xfrm>
            <a:off x="838080" y="5867280"/>
            <a:ext cx="1841760" cy="5367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6"/>
          <a:stretch/>
        </p:blipFill>
        <p:spPr>
          <a:xfrm>
            <a:off x="5410080" y="3429000"/>
            <a:ext cx="2306880" cy="5428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7"/>
          <a:stretch/>
        </p:blipFill>
        <p:spPr>
          <a:xfrm>
            <a:off x="5410080" y="4191120"/>
            <a:ext cx="1792440" cy="5364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8"/>
          <a:stretch/>
        </p:blipFill>
        <p:spPr>
          <a:xfrm>
            <a:off x="5410080" y="5029200"/>
            <a:ext cx="3395880" cy="5364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9"/>
          <a:stretch/>
        </p:blipFill>
        <p:spPr>
          <a:xfrm>
            <a:off x="5486400" y="5867280"/>
            <a:ext cx="1911240" cy="536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04920" y="304920"/>
            <a:ext cx="853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Quant hi gaunyarà un botiguer amb 14 dotzenes de plats si els compra a 94,35 euros la dotzena i els posa a la venda a 10,34 euros el pl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2680" y="2050920"/>
            <a:ext cx="79606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cc99"/>
                </a:solidFill>
                <a:latin typeface="Times New Roman"/>
              </a:rPr>
              <a:t>Nº plats=14 dotzene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cc99"/>
                </a:solidFill>
                <a:latin typeface="Times New Roman"/>
              </a:rPr>
              <a:t>Preu compra=94,35€/dotzen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cc99"/>
                </a:solidFill>
                <a:latin typeface="Times New Roman"/>
              </a:rPr>
              <a:t>Preu venda= 10,34 €/pla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cc99"/>
                </a:solidFill>
                <a:latin typeface="Times New Roman"/>
              </a:rPr>
              <a:t>Guany=?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553080" y="4952880"/>
            <a:ext cx="866880" cy="790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228600" y="304920"/>
            <a:ext cx="861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Quant hi gaunyarà un botiguer amb 14 dotzenes de plats si els compra a 94,35 euros la dotzena i els posa a la venda a 10,34 euros el pl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3276720"/>
            <a:ext cx="803736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4600" y="2590920"/>
            <a:ext cx="7852320" cy="13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3300"/>
                </a:solidFill>
                <a:latin typeface="Times New Roman"/>
              </a:rPr>
              <a:t>4 OPERACIONS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553080" y="4952880"/>
            <a:ext cx="866880" cy="790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04920" y="45720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Quant hi gaunyarà un botiguer amb 14 dotzenes de plats si els compra a 94,35 euros la dotzena i els posa a la venda a 10,34 euros el pl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990360" y="2286000"/>
            <a:ext cx="44996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Multiplicació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multiplicació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multiplicació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rest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553080" y="4952880"/>
            <a:ext cx="866880" cy="790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304920" y="304920"/>
            <a:ext cx="853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Quant hi gaunyarà un botiguer amb 14 dotzenes de plats si els compra a 94,35 euros la dotzena i els posa a la venda a 10,34 euros el pl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991800" y="2209680"/>
            <a:ext cx="50284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14x1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168x10,34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94,35x14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1737,12-1320'9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553080" y="4952880"/>
            <a:ext cx="866880" cy="790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04920" y="457200"/>
            <a:ext cx="861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Quant hi gaunyarà un botiguer amb 14 dotzenes de plats si els compra a 94,35 euros la dotzena i els posa a la venda a 10,34 euros el pl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3400" y="1974960"/>
            <a:ext cx="6081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6600"/>
                </a:solidFill>
                <a:latin typeface="Times New Roman"/>
              </a:rPr>
              <a:t>14x12=168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6600"/>
                </a:solidFill>
                <a:latin typeface="Times New Roman"/>
              </a:rPr>
              <a:t>168x10,34=1737,1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6600"/>
                </a:solidFill>
                <a:latin typeface="Times New Roman"/>
              </a:rPr>
              <a:t>94,35x14=1320,9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6600"/>
                </a:solidFill>
                <a:latin typeface="Times New Roman"/>
              </a:rPr>
              <a:t>1737,12-1320'9=416,2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553080" y="4952880"/>
            <a:ext cx="866880" cy="790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457200" y="228600"/>
            <a:ext cx="838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Quant hi gaunyarà un botiguer amb 14 dotzenes de plats si els compra a 94,35 euros la dotzena i els posa a la venda a 10,34 euros el pl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57200" y="1828800"/>
            <a:ext cx="82296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cc99"/>
                </a:solidFill>
                <a:latin typeface="Times New Roman"/>
              </a:rPr>
              <a:t>1r:S'ha de trobar el nombre de pla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cc99"/>
                </a:solidFill>
                <a:latin typeface="Times New Roman"/>
              </a:rPr>
              <a:t>2n:Trobar els diners que recaptarà, sabent el preu de venda de cada pl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cc99"/>
                </a:solidFill>
                <a:latin typeface="Times New Roman"/>
              </a:rPr>
              <a:t>3r:trobar l'import de la compra que fa el botiguer, sabent el preu de compra (94,35 €/dotzena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cc99"/>
                </a:solidFill>
                <a:latin typeface="Times New Roman"/>
              </a:rPr>
              <a:t>4t: Trobar el benefici net, sabent el que li ha costat i el que ha fet de calai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315200" y="5562720"/>
            <a:ext cx="866880" cy="790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457200" y="304920"/>
            <a:ext cx="838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Quant hi gaunyarà un botiguer amb 14 dotzenes de plats si els compra a 94,35 euros la dotzena i els posa a la venda a 10,34 euros el pl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068120" y="2666880"/>
            <a:ext cx="7293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14x12x10,34-94,35x14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553080" y="4952880"/>
            <a:ext cx="866880" cy="7905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5T15:03:17Z</dcterms:created>
  <dc:creator>Daniel</dc:creator>
  <dc:description/>
  <dc:language>en-US</dc:language>
  <cp:lastModifiedBy>Daniel</cp:lastModifiedBy>
  <dcterms:modified xsi:type="dcterms:W3CDTF">2002-08-28T20:30:33Z</dcterms:modified>
  <cp:revision>20</cp:revision>
  <dc:subject/>
  <dc:title>Sin título de diapositiva</dc:title>
</cp:coreProperties>
</file>