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80F-0802-4694-8C22-1BBB401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480-DACF-4EC8-9305-4B82BFF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378-3916-4E3C-8B2E-D64F1650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79C-8DE1-4275-A1B3-39EC4E2F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4BF-5D4B-439C-A89F-0D0BF9C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829-FAE5-4B85-9677-66AA1A04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0AD-3D92-4065-BC53-F623C0D8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ADE-1F05-4EB7-A708-7A38671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EB3-91AA-40CD-8ED4-2188AA3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A60-A67B-4ABB-AF68-0DE0F22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672-B454-44DA-974C-F05AFB5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4E5-F40D-4E5A-A950-D0C72BD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A92B-1980-4FDD-B0E8-EFDDA1F32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9880" cy="169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536400"/>
            <a:ext cx="91454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9969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120" y="19620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3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8320" y="2286000"/>
            <a:ext cx="56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90 pàgin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4290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51055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952880" y="33526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952880" y="41911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502920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952880" y="5867280"/>
            <a:ext cx="191160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2438280"/>
            <a:ext cx="787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àgs/dia=9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àgs/setmana i 3 dies=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3960" y="2289240"/>
            <a:ext cx="8688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200" y="2419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57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440" y="228600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30800" y="2130480"/>
            <a:ext cx="170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+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x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59200" y="2438280"/>
            <a:ext cx="290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0x9=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33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182880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Veure quants dies són una setmana i 3 d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el nombre total de pàgines, si sabem les pàgines que es fa en un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44640" y="2666880"/>
            <a:ext cx="26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7+3)x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33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cada dia llegeixo 9 pàgines d'un llibre, quantes n'hauré llegit en una setmana i 3 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18:19Z</dcterms:created>
  <dc:creator>Daniel</dc:creator>
  <dc:description/>
  <dc:language>en-US</dc:language>
  <cp:lastModifiedBy>Daniel</cp:lastModifiedBy>
  <dcterms:modified xsi:type="dcterms:W3CDTF">2002-08-30T18:26:16Z</dcterms:modified>
  <cp:revision>15</cp:revision>
  <dc:subject/>
  <dc:title>Sin título de diapositiva</dc:title>
</cp:coreProperties>
</file>