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3DE-EBB8-401F-BC62-6CDAA803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3A5-3861-4225-A976-37CA345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28D-F395-4D92-9CE6-8DEFCC04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87E-D387-4B01-8587-56592A5E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BFB-9C0D-4D92-A86E-0691BDBE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171-F68C-4A70-9955-DBBEC07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BB7-C4BB-4013-969A-DB07EEF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463-F339-4962-AC50-4152937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EA2-F4B2-4945-86B9-9897B5BE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3C7-4B37-4141-86CD-042A21A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473-C2F3-44AC-B2CD-F33E002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B1D-DC3A-4CAA-AD85-FA794329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027-E079-4D14-81F8-ADED4B730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9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648320"/>
            <a:ext cx="147024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4840" y="2209680"/>
            <a:ext cx="464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0 lit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96252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4572000"/>
            <a:ext cx="270648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57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33412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3412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33412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7520" y="53352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480" y="2438280"/>
            <a:ext cx="6520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pacitat envàs= 2 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pacitat bidó= 100 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envasos en un bidó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609480"/>
            <a:ext cx="84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350820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0040" y="297180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609480"/>
            <a:ext cx="84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2520" y="28195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8160" y="2819520"/>
            <a:ext cx="214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0: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8920" y="762120"/>
            <a:ext cx="85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40080" y="2971800"/>
            <a:ext cx="315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0:2=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457200"/>
            <a:ext cx="84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8954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calcular el nombre d'envasos que es poden omplir en 100 li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63868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380880"/>
            <a:ext cx="79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a quants envasos de 2 l es podrien omplir amb la llet d'un bidó, si la capacitat del bidó és de 100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080" y="25718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: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7:30Z</dcterms:created>
  <dc:creator>Daniel</dc:creator>
  <dc:description/>
  <dc:language>en-US</dc:language>
  <cp:lastModifiedBy>Daniel</cp:lastModifiedBy>
  <dcterms:modified xsi:type="dcterms:W3CDTF">2002-12-26T11:42:40Z</dcterms:modified>
  <cp:revision>19</cp:revision>
  <dc:subject/>
  <dc:title>Sin título de diapositiva</dc:title>
</cp:coreProperties>
</file>