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379-5E86-4E7A-8F64-9BBC2036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5F2-A5BC-42BE-A2BD-030BD6FC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C26-2334-4042-9E0F-C929CE37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A0A-079D-4A85-939A-D921CAA8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93D-B788-4FA0-94E8-6C44BF91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50C-8C14-49C7-B020-30CCCDCD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83D-1EE9-45CD-A9A3-5D5C5BB2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49F-79F6-4AE7-92B7-7B987294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C01-6859-4A89-B6A1-F27111E0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75E-31DD-407B-B512-FD1083A7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AD9-A647-45D9-92D1-6D9C74A4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2D4-5505-4B9E-9FF5-FEEB6099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F2D1-AF86-4612-B852-B2F13257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90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33920" y="5105520"/>
            <a:ext cx="131112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911520" cy="83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35520" y="2362320"/>
            <a:ext cx="525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5 llibr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68580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'Anna vol col.locar 875 llibres en 35 prestatges. Quants llibres ha de posar en cada prestatge perquè en tots hi hagi la mateixa quantit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403848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29528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29528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648320" y="403848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648320" y="464832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64832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648320" y="594360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na vol col.locar 875 llibres en 35 prestatges. Quants llibres ha de posar en cada prestatge perquè en tots hi hagi la mateix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911520" cy="834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2590920"/>
            <a:ext cx="5270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llibres=875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prestatges=35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Llibres/prestatge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na vol col.locar 875 llibres en 35 prestatges. Quants llibres ha de posar en cada prestatge perquè en tots hi hagi la mateix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911520" cy="834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5360" y="271296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2320" y="3124080"/>
            <a:ext cx="6424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 OPERACI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na vol col.locar 875 llibres en 35 prestatges. Quants llibres ha de posar en cada prestatge perquè en tots hi hagi la mateix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911520" cy="834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39000" y="289548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na vol col.locar 875 llibres en 35 prestatges. Quants llibres ha de posar en cada prestatge perquè en tots hi hagi la mateix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911520" cy="834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9720" y="3276720"/>
            <a:ext cx="23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75: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na vol col.locar 875 llibres en 35 prestatges. Quants llibres ha de posar en cada prestatge perquè en tots hi hagi la mateix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911520" cy="83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82880" y="2895480"/>
            <a:ext cx="353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75:35=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na vol col.locar 875 llibres en 35 prestatges. Quants llibres ha de posar en cada prestatge perquè en tots hi hagi la mateix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911520" cy="834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243828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i se sap el nombre de prestatges i el nombre de llibres que hi caben a cada prestatge, es pot calcular fàcilment el nombre de llibres per cada prestat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nna vol col.locar 875 llibres en 35 prestatges. Quants llibres ha de posar en cada prestatge perquè en tots hi hagi la mateixa quanti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911520" cy="834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44640" y="2971800"/>
            <a:ext cx="23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75: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42:18Z</dcterms:created>
  <dc:creator>Daniel</dc:creator>
  <dc:description/>
  <dc:language>en-US</dc:language>
  <cp:lastModifiedBy>Daniel</cp:lastModifiedBy>
  <dcterms:modified xsi:type="dcterms:W3CDTF">2002-12-31T18:03:45Z</dcterms:modified>
  <cp:revision>18</cp:revision>
  <dc:subject/>
  <dc:title>Sin título de diapositiva</dc:title>
</cp:coreProperties>
</file>