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B4D-74EB-4299-BDA3-75B7AC8E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D05-E51A-45F9-9270-CC6048C7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9AF-B557-4955-A3E6-F2485F35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B52-2D27-4457-9B62-D4B7409B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616-2C3B-4418-9048-ECFC71AE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DF5-534A-45C6-A948-956F7D4C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7CC-57DB-4D98-B0A5-F6F279B2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FC6-5DFC-44DD-8DAD-B7338393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7E0-BBCC-4CE2-A285-5710DD59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701-2C93-4CCB-B069-4731D82E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376-2DA9-4F3F-803B-4D8BE4B6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A1D-93C1-49EF-A8E1-9E2C9D6C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F98A-E831-4C50-9DB8-6538E9D81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89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5029200"/>
            <a:ext cx="13114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3840" y="2438280"/>
            <a:ext cx="844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6600"/>
                </a:solidFill>
                <a:latin typeface="Times New Roman"/>
              </a:rPr>
              <a:t>50 places lliure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4572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 aparcament consta de tres plantes de 120 cotxes cadascuna. Si hi ha 310 places ocupades, quants cotxes poden aparcar-hi enca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88620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6212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724280" y="396252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724280" y="464832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72428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724280" y="586728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parcament consta de tres plantes de 120 cotxes cadascuna. Si hi ha 310 places ocupades, quants cotxes poden aparcar-hi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50440" y="2438280"/>
            <a:ext cx="533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lantes=3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otxes/planta=12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otxes=31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laces lliure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parcament consta de tres plantes de 120 cotxes cadascuna. Si hi ha 310 places ocupades, quants cotxes poden aparcar-hi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5360" y="271296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9520" y="28195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parcament consta de tres plantes de 120 cotxes cadascuna. Si hi ha 310 places ocupades, quants cotxes poden aparcar-hi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33360" y="274320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parcament consta de tres plantes de 120 cotxes cadascuna. Si hi ha 310 places ocupades, quants cotxes poden aparcar-hi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96920" y="2514600"/>
            <a:ext cx="272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0x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-3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parcament consta de tres plantes de 120 cotxes cadascuna. Si hi ha 310 places ocupades, quants cotxes poden aparcar-hi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11480" y="2743200"/>
            <a:ext cx="391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0x3=3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-310=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parcament consta de tres plantes de 120 cotxes cadascuna. Si hi ha 310 places ocupades, quants cotxes poden aparcar-hi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220968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calcular el nombre total de cotxes que hi ca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Sabent les places que estan ocupades, s'ha de calcular les places que encara queden lli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aparcament consta de tres plantes de 120 cotxes cadascuna. Si hi ha 310 places ocupades, quants cotxes poden aparcar-hi enc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9520" y="2971800"/>
            <a:ext cx="39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120x3)-3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41:55Z</dcterms:created>
  <dc:creator>Daniel</dc:creator>
  <dc:description/>
  <dc:language>en-US</dc:language>
  <cp:lastModifiedBy>Daniel</cp:lastModifiedBy>
  <dcterms:modified xsi:type="dcterms:W3CDTF">2002-12-31T17:56:55Z</dcterms:modified>
  <cp:revision>19</cp:revision>
  <dc:subject/>
  <dc:title>Sin título de diapositiva</dc:title>
</cp:coreProperties>
</file>