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BC5-247C-4E26-9F30-BF0246CF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39B-1A0B-4F50-AAD3-EEC5057E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A1A-333C-4329-9ED9-054BF7ED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E13-9EBA-4C56-A284-5B6092B8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3F4-AE90-43B1-896B-4A027F52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E71-F65F-4637-B880-D5E35F27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22A-09D1-4CDD-B29B-9E71F0E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53D-E24F-4AA2-8B92-4221AD8E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3F0-85B6-4918-A748-F51AB8C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DF7-45A4-4CD6-9F2F-5E3DBF1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985-35B2-4259-A274-E6619C58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2F8-AD27-4826-926B-939826BF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A8B-FBBB-45E3-A1E2-6BBC76FF7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6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95680"/>
            <a:ext cx="1469880" cy="16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25880" y="236232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5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5812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35812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510552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5867280"/>
            <a:ext cx="1911240" cy="53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5335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 multiplicació de dos nombres és 2.250.732. Si la meitat d'un d'ells és 3.179. Quin és l'alt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4480" y="2286000"/>
            <a:ext cx="5504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oducte=225073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r nº=doble de 317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2n nº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85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ultiplicació de dos nombres és 2.250.732. Si la meitat d'un d'ells és 3.179. Quin és l'al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762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ultiplicació de dos nombres és 2.250.732. Si la meitat d'un d'ells és 3.179. Quin és l'al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270828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880" y="28195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240" y="243828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33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ultiplicació de dos nombres és 2.250.732. Si la meitat d'un d'ells és 3.179. Quin és l'al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6720" y="2743200"/>
            <a:ext cx="46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179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250732:635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8380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ultiplicació de dos nombres és 2.250.732. Si la meitat d'un d'ells és 3.179. Quin és l'al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16200" y="2133720"/>
            <a:ext cx="62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179x2=635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250732:6358=35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09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ultiplicació de dos nombres és 2.250.732. Si la meitat d'un d'ells és 3.179. Quin és l'al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82880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quin és un d'aquest nombres, sabent la meitat d'un d'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Si sabem que el divident=divisor x quocient, i que divident : divisor = quocient, llavors ho apliquem a aquest supò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ultiplicació de dos nombres és 2.250.732. Si la meitat d'un d'ells és 3.179. Quin és l'al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85600" cy="809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9880" y="2895480"/>
            <a:ext cx="58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250732:(3179x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33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multiplicació de dos nombres és 2.250.732. Si la meitat d'un d'ells és 3.179. Quin és l'al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2:52Z</dcterms:created>
  <dc:creator>Daniel</dc:creator>
  <dc:description/>
  <dc:language>en-US</dc:language>
  <cp:lastModifiedBy>Daniel</cp:lastModifiedBy>
  <dcterms:modified xsi:type="dcterms:W3CDTF">2002-08-29T21:29:55Z</dcterms:modified>
  <cp:revision>15</cp:revision>
  <dc:subject/>
  <dc:title>Sin título de diapositiva</dc:title>
</cp:coreProperties>
</file>