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5724-4701-413D-B684-05FDED62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DA30-3139-4E69-877C-DF2F5C07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37D-81CE-4579-9D1C-BD91153D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E8C6-5345-47EB-B7A6-9D354B4D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A1A-6413-4C9B-9B27-A745BD12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FAE9-43EA-4312-A841-23E3DFDE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AE35-E4DB-495A-932C-887BF8AA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9A3-F347-44CD-83AB-5F7CEEEC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913D-67C7-44EE-96CB-5EAEAE2A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5685-44DD-4B41-A227-06FB8652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9FF-C32F-4547-8EF0-11ED0257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DD72-2AB3-4182-8B1B-4350D850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FAC0-5222-4AC6-96AD-DCFBBDF93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3160" y="287496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45560" y="301788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2440" y="298296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28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572000"/>
            <a:ext cx="146376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10552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973600" y="2133720"/>
            <a:ext cx="261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25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350532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2700360" cy="53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85800" y="5105520"/>
            <a:ext cx="141588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85800" y="5943600"/>
            <a:ext cx="184140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181480" y="3505320"/>
            <a:ext cx="230040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181480" y="4267080"/>
            <a:ext cx="1792440" cy="53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181480" y="5105520"/>
            <a:ext cx="339588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181480" y="5943600"/>
            <a:ext cx="1911600" cy="536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38088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ull comprar 5 boles a 10 cèntims cada una. Si només puc pagar la meitat del que valen, quants diners tin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10552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6640" y="2003400"/>
            <a:ext cx="8638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Boles=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Preu=10 ct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Diners disponibles= meitat de l'impo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Diners=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57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ull comprar 5 boles a 10 cèntims cada una. Si només puc pagar la meitat del que valen, quants diners tin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10552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7160" y="2708280"/>
            <a:ext cx="8688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9520" y="228600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6858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ull comprar 5 boles a 10 cèntims cada una. Si només puc pagar la meitat del que valen, quants diners tin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10552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94920" y="2209680"/>
            <a:ext cx="44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6920" y="609480"/>
            <a:ext cx="84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ull comprar 5 boles a 10 cèntims cada una. Si només puc pagar la meitat del que valen, quants diners tin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10552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35520" y="2743200"/>
            <a:ext cx="170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x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: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9200" y="533520"/>
            <a:ext cx="833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ull comprar 5 boles a 10 cèntims cada una. Si només puc pagar la meitat del que valen, quants diners tin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10552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11480" y="2362320"/>
            <a:ext cx="290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x10=5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:2=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533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ull comprar 5 boles a 10 cèntims cada una. Si només puc pagar la meitat del que valen, quants diners tin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10552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20574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trobar el preu total de les bo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Trobar els diners de que es disposa, sabent que només se'n té la meitat del que cos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9200" y="609480"/>
            <a:ext cx="848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ull comprar 5 boles a 10 cèntims cada una. Si només puc pagar la meitat del que valen, quants diners tin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105520"/>
            <a:ext cx="898560" cy="822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820240" y="2895480"/>
            <a:ext cx="28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5x10):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2880" y="380880"/>
            <a:ext cx="810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ull comprar 5 boles a 10 cèntims cada una. Si només puc pagar la meitat del que valen, quants diners tin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20:54:09Z</dcterms:created>
  <dc:creator>Daniel</dc:creator>
  <dc:description/>
  <dc:language>en-US</dc:language>
  <cp:lastModifiedBy>Daniel</cp:lastModifiedBy>
  <dcterms:modified xsi:type="dcterms:W3CDTF">2002-08-29T21:52:46Z</dcterms:modified>
  <cp:revision>15</cp:revision>
  <dc:subject/>
  <dc:title>Sin título de diapositiva</dc:title>
</cp:coreProperties>
</file>