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02B-96C9-4866-952F-94BAE88F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9AF-E3BF-4D36-8DB1-E8A6028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69A-947A-421D-87CA-6D862E34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4FA-4AE4-4AC6-BDB9-1E728CB4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6B1-2C4F-49BE-98BE-2852BA7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2B7-3149-4D51-8C00-3AD7214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7C5-1A19-479B-A76B-74C9E91E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2A9-6D58-4887-B63E-F823036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A37-BE56-4657-BAFA-A51FEC7F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B53-F984-46C6-A64E-BB44BBD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9E7-39AB-432D-AF4E-5658274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8E9-0721-4302-8D36-5831168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1A76-DF38-46EE-843F-27F14A3D3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4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502920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40080" y="2514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00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72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40384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64832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9080" y="2590920"/>
            <a:ext cx="577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s=50000 €/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mpleats=1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eneficis/empleat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6000" y="289548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7600" y="28195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11120" y="2971800"/>
            <a:ext cx="310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0: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2880" y="3200400"/>
            <a:ext cx="506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0:10=5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6668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.S'ha de veure quant toca a cada empleat sabent els guanys totals i el nombre d'emple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obté 50000 euros de guanys en un any. Si reparteix els diners entre els deu empleats, quants diners percep cada 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917280" cy="84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39720" y="3200400"/>
            <a:ext cx="310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00: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39:52Z</dcterms:created>
  <dc:creator>Daniel</dc:creator>
  <dc:description/>
  <dc:language>en-US</dc:language>
  <cp:lastModifiedBy>Daniel</cp:lastModifiedBy>
  <dcterms:modified xsi:type="dcterms:W3CDTF">2002-12-31T17:12:34Z</dcterms:modified>
  <cp:revision>18</cp:revision>
  <dc:subject/>
  <dc:title>Sin título de diapositiva</dc:title>
</cp:coreProperties>
</file>