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116-3C47-432D-A157-87F6E386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16F-F4FC-4D28-8D21-3CD0B55F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FB7-C8A2-4E44-B9A1-F5A9D70E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4F8-8BE4-4675-81BC-4C3B0539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9FB-A2BC-4B07-8981-16B571B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711-7631-4EFB-95E8-873FE7D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6FE-A0E4-4E0D-8508-CDE5564B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67E-1F33-4607-BA6A-CF0CDEA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9C4-BE1A-44EE-A548-F73C4BF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7C4-A2F8-4846-AB6D-CE03569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88B-5145-473C-AE63-516A5BE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7E9-4899-4962-AB43-C3F1F21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5A9-1080-4C62-BC08-2BFA02EBA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1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962520" y="45720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35160" y="25146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3.14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286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380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380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7339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495680"/>
            <a:ext cx="18050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438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ela= 3 peces de 52 dam, 12 p. de 0,7dam, 9 p. de 0,12 hm. Preu m= 7,5 €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Import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8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6200" y="2079720"/>
            <a:ext cx="306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2520" y="2077920"/>
            <a:ext cx="275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3x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2x0,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x0,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56x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,4x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,08x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560+84+1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752x7,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9880" y="1936800"/>
            <a:ext cx="3934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3x52=1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2x0,7=8,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x0,12=1,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56x10=1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,4x10=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,08x100=1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560+84+108=17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752x7,5=131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2362320"/>
            <a:ext cx="815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 S'ha de veure quants dam són 3 peces de 52 dam cadascuna, quants són 12 peces de 0,7 dam cadascuna i quants hm són 9 peces de 0,12 hm cadasc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: S'han de passar totes aquestes dades a me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3r: Veure quants metres hi ha en to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4t: Trobar l'import total, sabent el nombre total de metres i el seu pr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57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empresa tèxtil ha comprat la següent quantitat de tela: 3 peces de 52 dam, 12 peces de 0,7 dam i 9 peces  de 0,12 hm. Si cada metre de tela val 7,5 euros, quants euros ha pagat per tota la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6360" y="3111480"/>
            <a:ext cx="84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[(3x52x10)+(12x0,7x10)+(9x0,12x100)]x7,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5:15Z</dcterms:created>
  <dc:creator>Daniel</dc:creator>
  <dc:description/>
  <dc:language>en-US</dc:language>
  <cp:lastModifiedBy>Daniel</cp:lastModifiedBy>
  <dcterms:modified xsi:type="dcterms:W3CDTF">2003-01-03T14:18:30Z</dcterms:modified>
  <cp:revision>21</cp:revision>
  <dc:subject/>
  <dc:title>Sin título de diapositiva</dc:title>
</cp:coreProperties>
</file>