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602-9D80-4E11-9452-879A8302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7B0-65C7-4843-A4B9-F8CDCCAF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354-9933-4A71-9C93-3E8176F1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8A0-53B9-4C2A-83ED-0231F69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A1B-06D9-452D-85E3-C249D4B8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A0B-203A-4A32-8AD0-997283B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879-F0F2-4D7D-B74C-51DF384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AB0-AA02-43A6-8D31-0C91CBF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0DE-F222-4E50-9C06-7F8272A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03D-E466-4363-9BB9-EBD1DFC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C99-CABD-4FC7-BAF5-9E086521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EEE-28DE-4C0E-AF16-39581D4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FE3-4FB8-4E20-BCE9-83AEE426F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7840" y="2876400"/>
            <a:ext cx="6454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0240" y="301932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7120" y="2984400"/>
            <a:ext cx="6662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038480" y="4724280"/>
            <a:ext cx="1295640" cy="175284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752840"/>
              <a:gd name="textAreaBottom" fmla="*/ 1668960 h 1752840"/>
            </a:gdLst>
            <a:ahLst/>
            <a:rect l="textAreaLeft" t="textAreaTop" r="textAreaRight" b="textAreaBottom"/>
            <a:pathLst>
              <a:path w="21600" h="29220">
                <a:moveTo>
                  <a:pt x="0" y="0"/>
                </a:moveTo>
                <a:lnTo>
                  <a:pt x="21600" y="0"/>
                </a:lnTo>
                <a:lnTo>
                  <a:pt x="21600" y="29220"/>
                </a:lnTo>
                <a:lnTo>
                  <a:pt x="0" y="29220"/>
                </a:lnTo>
                <a:close/>
              </a:path>
              <a:path fill="lightenLess" w="21600" h="29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20">
                <a:moveTo>
                  <a:pt x="21600" y="0"/>
                </a:moveTo>
                <a:lnTo>
                  <a:pt x="21600" y="29220"/>
                </a:lnTo>
                <a:lnTo>
                  <a:pt x="20200" y="27820"/>
                </a:lnTo>
                <a:lnTo>
                  <a:pt x="20200" y="1400"/>
                </a:lnTo>
                <a:close/>
              </a:path>
              <a:path fill="darkenLess" w="21600" h="29220">
                <a:moveTo>
                  <a:pt x="21600" y="29220"/>
                </a:moveTo>
                <a:lnTo>
                  <a:pt x="0" y="29220"/>
                </a:lnTo>
                <a:lnTo>
                  <a:pt x="1400" y="27820"/>
                </a:lnTo>
                <a:lnTo>
                  <a:pt x="20200" y="27820"/>
                </a:lnTo>
                <a:close/>
              </a:path>
              <a:path fill="lighten" w="21600" h="29220">
                <a:moveTo>
                  <a:pt x="0" y="29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20"/>
                </a:lnTo>
                <a:close/>
              </a:path>
              <a:path fill="darken" w="21600" h="29220">
                <a:moveTo>
                  <a:pt x="10800" y="7647"/>
                </a:moveTo>
                <a:lnTo>
                  <a:pt x="13376" y="10258"/>
                </a:lnTo>
                <a:lnTo>
                  <a:pt x="13376" y="8517"/>
                </a:lnTo>
                <a:lnTo>
                  <a:pt x="15152" y="8517"/>
                </a:lnTo>
                <a:lnTo>
                  <a:pt x="15152" y="12034"/>
                </a:lnTo>
                <a:lnTo>
                  <a:pt x="17763" y="14610"/>
                </a:lnTo>
                <a:lnTo>
                  <a:pt x="16109" y="14610"/>
                </a:lnTo>
                <a:lnTo>
                  <a:pt x="16109" y="21799"/>
                </a:lnTo>
                <a:lnTo>
                  <a:pt x="5491" y="21799"/>
                </a:lnTo>
                <a:lnTo>
                  <a:pt x="5491" y="14610"/>
                </a:lnTo>
                <a:lnTo>
                  <a:pt x="3837" y="14610"/>
                </a:lnTo>
                <a:close/>
              </a:path>
              <a:path fill="darkenLess" w="21600" h="29220">
                <a:moveTo>
                  <a:pt x="13376" y="10258"/>
                </a:moveTo>
                <a:lnTo>
                  <a:pt x="13376" y="8517"/>
                </a:lnTo>
                <a:lnTo>
                  <a:pt x="15152" y="8517"/>
                </a:lnTo>
                <a:lnTo>
                  <a:pt x="15152" y="12034"/>
                </a:lnTo>
                <a:close/>
              </a:path>
              <a:path fill="darkenLess" w="21600" h="29220">
                <a:moveTo>
                  <a:pt x="9877" y="18109"/>
                </a:moveTo>
                <a:lnTo>
                  <a:pt x="11723" y="18109"/>
                </a:lnTo>
                <a:lnTo>
                  <a:pt x="11723" y="21799"/>
                </a:lnTo>
                <a:lnTo>
                  <a:pt x="16109" y="21799"/>
                </a:lnTo>
                <a:lnTo>
                  <a:pt x="16109" y="14610"/>
                </a:lnTo>
                <a:lnTo>
                  <a:pt x="5491" y="14610"/>
                </a:lnTo>
                <a:lnTo>
                  <a:pt x="5491" y="21799"/>
                </a:lnTo>
                <a:lnTo>
                  <a:pt x="9877" y="2179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4572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Debia 2'10 euros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El pastisser em tornarà 4,3 euros i el botiguer 3,6 eur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391520" y="5181480"/>
            <a:ext cx="990360" cy="11430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00" y="23528"/>
                </a:lnTo>
                <a:lnTo>
                  <a:pt x="20200" y="1400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400" y="23528"/>
                </a:lnTo>
                <a:lnTo>
                  <a:pt x="20200" y="23528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8"/>
                </a:lnTo>
                <a:close/>
              </a:path>
              <a:path fill="darken" w="21600" h="24928">
                <a:moveTo>
                  <a:pt x="3794" y="12464"/>
                </a:moveTo>
                <a:lnTo>
                  <a:pt x="17806" y="5457"/>
                </a:lnTo>
                <a:lnTo>
                  <a:pt x="17806" y="194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33520"/>
            <a:ext cx="84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29718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4952880"/>
            <a:ext cx="141588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90720" y="58672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334120" y="2971800"/>
            <a:ext cx="23000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334120" y="3886200"/>
            <a:ext cx="17920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4876920"/>
            <a:ext cx="3395520" cy="53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16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80880"/>
            <a:ext cx="83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2480"/>
            <a:ext cx="838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stisser=0'70 €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Botiguer=do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Pago=1 bitllet de 5 €/cadascu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Deute total=?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Canvis respectiu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238880" y="4800600"/>
            <a:ext cx="838440" cy="13716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1371600"/>
              <a:gd name="textAreaBottom" fmla="*/ 1317240 h 1371600"/>
            </a:gdLst>
            <a:ahLst/>
            <a:rect l="textAreaLeft" t="textAreaTop" r="textAreaRight" b="textAreaBottom"/>
            <a:pathLst>
              <a:path w="21600" h="35329">
                <a:moveTo>
                  <a:pt x="0" y="0"/>
                </a:moveTo>
                <a:lnTo>
                  <a:pt x="21600" y="0"/>
                </a:lnTo>
                <a:lnTo>
                  <a:pt x="21600" y="35329"/>
                </a:lnTo>
                <a:lnTo>
                  <a:pt x="0" y="35329"/>
                </a:lnTo>
                <a:close/>
              </a:path>
              <a:path fill="lightenLess" w="21600" h="353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329">
                <a:moveTo>
                  <a:pt x="21600" y="0"/>
                </a:moveTo>
                <a:lnTo>
                  <a:pt x="21600" y="35329"/>
                </a:lnTo>
                <a:lnTo>
                  <a:pt x="20200" y="33929"/>
                </a:lnTo>
                <a:lnTo>
                  <a:pt x="20200" y="1400"/>
                </a:lnTo>
                <a:close/>
              </a:path>
              <a:path fill="darkenLess" w="21600" h="35329">
                <a:moveTo>
                  <a:pt x="21600" y="35329"/>
                </a:moveTo>
                <a:lnTo>
                  <a:pt x="0" y="35329"/>
                </a:lnTo>
                <a:lnTo>
                  <a:pt x="1400" y="33929"/>
                </a:lnTo>
                <a:lnTo>
                  <a:pt x="20200" y="33929"/>
                </a:lnTo>
                <a:close/>
              </a:path>
              <a:path fill="lighten" w="21600" h="35329">
                <a:moveTo>
                  <a:pt x="0" y="3532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929"/>
                </a:lnTo>
                <a:close/>
              </a:path>
              <a:path fill="darken" w="21600" h="35329">
                <a:moveTo>
                  <a:pt x="3794" y="17665"/>
                </a:moveTo>
                <a:lnTo>
                  <a:pt x="17806" y="10658"/>
                </a:lnTo>
                <a:lnTo>
                  <a:pt x="17806" y="24671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9720" y="2751120"/>
            <a:ext cx="7861320" cy="13478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86600" y="52578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240" y="1981080"/>
            <a:ext cx="44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u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re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324480" y="4419720"/>
            <a:ext cx="914400" cy="12189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218960"/>
              <a:gd name="textAreaBottom" fmla="*/ 1159920 h 1218960"/>
            </a:gdLst>
            <a:ahLst/>
            <a:rect l="textAreaLeft" t="textAreaTop" r="textAreaRight" b="textAreaBottom"/>
            <a:pathLst>
              <a:path w="21600" h="28791">
                <a:moveTo>
                  <a:pt x="0" y="0"/>
                </a:moveTo>
                <a:lnTo>
                  <a:pt x="21600" y="0"/>
                </a:lnTo>
                <a:lnTo>
                  <a:pt x="21600" y="28791"/>
                </a:lnTo>
                <a:lnTo>
                  <a:pt x="0" y="28791"/>
                </a:lnTo>
                <a:close/>
              </a:path>
              <a:path fill="lightenLess" w="21600" h="28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1">
                <a:moveTo>
                  <a:pt x="21600" y="0"/>
                </a:moveTo>
                <a:lnTo>
                  <a:pt x="21600" y="28791"/>
                </a:lnTo>
                <a:lnTo>
                  <a:pt x="20200" y="27391"/>
                </a:lnTo>
                <a:lnTo>
                  <a:pt x="20200" y="1400"/>
                </a:lnTo>
                <a:close/>
              </a:path>
              <a:path fill="darkenLess" w="21600" h="28791">
                <a:moveTo>
                  <a:pt x="21600" y="28791"/>
                </a:moveTo>
                <a:lnTo>
                  <a:pt x="0" y="28791"/>
                </a:lnTo>
                <a:lnTo>
                  <a:pt x="1400" y="27391"/>
                </a:lnTo>
                <a:lnTo>
                  <a:pt x="20200" y="27391"/>
                </a:lnTo>
                <a:close/>
              </a:path>
              <a:path fill="lighten" w="21600" h="28791">
                <a:moveTo>
                  <a:pt x="0" y="28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1"/>
                </a:lnTo>
                <a:close/>
              </a:path>
              <a:path fill="darken" w="21600" h="28791">
                <a:moveTo>
                  <a:pt x="3794" y="14396"/>
                </a:moveTo>
                <a:lnTo>
                  <a:pt x="17806" y="7389"/>
                </a:lnTo>
                <a:lnTo>
                  <a:pt x="17806" y="2140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380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720" y="2133720"/>
            <a:ext cx="328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0,70x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,40+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1,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6629400" y="4343400"/>
            <a:ext cx="762120" cy="14479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447920"/>
              <a:gd name="textAreaBottom" fmla="*/ 1398600 h 1447920"/>
            </a:gdLst>
            <a:ahLst/>
            <a:rect l="textAreaLeft" t="textAreaTop" r="textAreaRight" b="textAreaBottom"/>
            <a:pathLst>
              <a:path w="21600" h="41028">
                <a:moveTo>
                  <a:pt x="0" y="0"/>
                </a:moveTo>
                <a:lnTo>
                  <a:pt x="21600" y="0"/>
                </a:lnTo>
                <a:lnTo>
                  <a:pt x="21600" y="41028"/>
                </a:lnTo>
                <a:lnTo>
                  <a:pt x="0" y="41028"/>
                </a:lnTo>
                <a:close/>
              </a:path>
              <a:path fill="lightenLess" w="21600" h="410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028">
                <a:moveTo>
                  <a:pt x="21600" y="0"/>
                </a:moveTo>
                <a:lnTo>
                  <a:pt x="21600" y="41028"/>
                </a:lnTo>
                <a:lnTo>
                  <a:pt x="20200" y="39628"/>
                </a:lnTo>
                <a:lnTo>
                  <a:pt x="20200" y="1400"/>
                </a:lnTo>
                <a:close/>
              </a:path>
              <a:path fill="darkenLess" w="21600" h="41028">
                <a:moveTo>
                  <a:pt x="21600" y="41028"/>
                </a:moveTo>
                <a:lnTo>
                  <a:pt x="0" y="41028"/>
                </a:lnTo>
                <a:lnTo>
                  <a:pt x="1400" y="39628"/>
                </a:lnTo>
                <a:lnTo>
                  <a:pt x="20200" y="39628"/>
                </a:lnTo>
                <a:close/>
              </a:path>
              <a:path fill="lighten" w="21600" h="41028">
                <a:moveTo>
                  <a:pt x="0" y="410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9628"/>
                </a:lnTo>
                <a:close/>
              </a:path>
              <a:path fill="darken" w="21600" h="41028">
                <a:moveTo>
                  <a:pt x="3794" y="20514"/>
                </a:moveTo>
                <a:lnTo>
                  <a:pt x="17806" y="13507"/>
                </a:lnTo>
                <a:lnTo>
                  <a:pt x="17806" y="2752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6200" y="2133720"/>
            <a:ext cx="507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0,70x2=1,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,40+0,70=2'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0,70=4,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-1,40=3,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467480" y="480060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" w="21600" h="26998">
                <a:moveTo>
                  <a:pt x="3794" y="13499"/>
                </a:moveTo>
                <a:lnTo>
                  <a:pt x="17806" y="6492"/>
                </a:lnTo>
                <a:lnTo>
                  <a:pt x="17806" y="20505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3880"/>
            <a:ext cx="788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1r: He de saber quant debia al botiguer (el dobl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2n: He de sumar el que dec al pastisser i al botigu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3r: He de restar de 5 euros el que dec a cadascun, respectivament, per saber quan em tornar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391520" y="53341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8700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aig pagar al pastisser 0,70 euros i al botiguer el doble. Quant debia, i quant em tornaran si pago amb un bitllet de 5 euros a cadasc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7600" y="1981080"/>
            <a:ext cx="445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) 0,70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) 5 - 0,7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) 5 - 0,70 x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858000" y="5105520"/>
            <a:ext cx="990720" cy="106668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1:50:50Z</dcterms:created>
  <dc:creator>Daniel</dc:creator>
  <dc:description/>
  <dc:language>en-US</dc:language>
  <cp:lastModifiedBy>Daniel</cp:lastModifiedBy>
  <dcterms:modified xsi:type="dcterms:W3CDTF">2002-08-24T22:39:38Z</dcterms:modified>
  <cp:revision>33</cp:revision>
  <dc:subject/>
  <dc:title>Sin título de diapositiva</dc:title>
</cp:coreProperties>
</file>