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FBEF-7EEC-45DF-ADCE-D7EA9B892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E041-DC51-4AB1-AD63-FA4BA5CEE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D150-3104-46D7-86A0-6FCA6E4F8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F994-C659-4643-ACCF-6B70117CB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6108-DD4B-4E0A-8BA8-E0BC6F677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BFE9-871E-4D25-8092-54A94823D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1D30-57D7-4981-BEDE-E5B4E1F7C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2E71-DA63-404E-B4E7-DB9769B60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495F-D8FB-4C64-87AF-299CEA788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C470-F2AC-4154-B315-B42268300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F1B5-E4DE-4103-B4CB-7332452A0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0617-0A26-4836-9651-5CFE9FBD8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53520-3D2F-49C1-8484-E42F0DDA26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33640" y="2927520"/>
            <a:ext cx="68706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132560" y="2989440"/>
            <a:ext cx="687096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6600"/>
                </a:solidFill>
                <a:latin typeface="Times New Roman"/>
              </a:rPr>
              <a:t>PROBLEMES (81)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3581280" y="5105520"/>
            <a:ext cx="1311480" cy="13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238880" y="5486400"/>
            <a:ext cx="911520" cy="8352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2745360" y="2438280"/>
            <a:ext cx="3329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6600"/>
                </a:solidFill>
                <a:latin typeface="Times New Roman"/>
              </a:rPr>
              <a:t>3,1 m.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609480"/>
            <a:ext cx="807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Un paleta construeix 25 metres de tanca en 8 hores. Quants metres construeix cada hor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38080" y="4038480"/>
            <a:ext cx="1305000" cy="5428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838080" y="4648320"/>
            <a:ext cx="2706840" cy="5428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838080" y="5334120"/>
            <a:ext cx="1422360" cy="542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838080" y="5943600"/>
            <a:ext cx="1847880" cy="5428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6"/>
          <a:stretch/>
        </p:blipFill>
        <p:spPr>
          <a:xfrm>
            <a:off x="5181480" y="3886200"/>
            <a:ext cx="2306880" cy="5428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7"/>
          <a:stretch/>
        </p:blipFill>
        <p:spPr>
          <a:xfrm>
            <a:off x="5181480" y="4572000"/>
            <a:ext cx="1798920" cy="5428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8"/>
          <a:stretch/>
        </p:blipFill>
        <p:spPr>
          <a:xfrm>
            <a:off x="5181480" y="5257800"/>
            <a:ext cx="3402000" cy="5428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9"/>
          <a:stretch/>
        </p:blipFill>
        <p:spPr>
          <a:xfrm>
            <a:off x="5181480" y="5943600"/>
            <a:ext cx="1917720" cy="54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85800" y="83808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Un paleta construeix 25 metres de tanca en 8 hores. Quants metres construeix cada hor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238880" y="5486400"/>
            <a:ext cx="911520" cy="8352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440080" y="2590920"/>
            <a:ext cx="32378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Nº m= 25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Temps=8 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m/h=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85800" y="83808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Un paleta construeix 25 metres de tanca en 8 hores. Quants metres construeix cada hor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238880" y="5486400"/>
            <a:ext cx="911520" cy="8352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25360" y="2712960"/>
            <a:ext cx="868860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296000" y="2971800"/>
            <a:ext cx="642456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3300"/>
                </a:solidFill>
                <a:latin typeface="Times New Roman"/>
              </a:rPr>
              <a:t>1 OPERACIÓ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85800" y="83808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Un paleta construeix 25 metres de tanca en 8 hores. Quants metres construeix cada hor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238880" y="5486400"/>
            <a:ext cx="911520" cy="8352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743920" y="3048120"/>
            <a:ext cx="242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Divisi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85800" y="83808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Un paleta construeix 25 metres de tanca en 8 hores. Quants metres construeix cada hor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238880" y="5486400"/>
            <a:ext cx="911520" cy="8352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506760" y="2743200"/>
            <a:ext cx="1578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25:8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85800" y="83808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Un paleta construeix 25 metres de tanca en 8 hores. Quants metres construeix cada hor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238880" y="5486400"/>
            <a:ext cx="911520" cy="8352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2821320" y="2666880"/>
            <a:ext cx="2964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25:8=3,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5800" y="83808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Un paleta construeix 25 metres de tanca en 8 hores. Quants metres construeix cada hor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238880" y="5486400"/>
            <a:ext cx="911520" cy="8352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685800" y="2590920"/>
            <a:ext cx="7751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99"/>
                </a:solidFill>
                <a:latin typeface="Times New Roman"/>
              </a:rPr>
              <a:t>1r: Calcular els metres que farà cada hora, sabent el que fa en 8 ho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85800" y="83808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Un paleta construeix 25 metres de tanca en 8 hores. Quants metres construeix cada hor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238880" y="5486400"/>
            <a:ext cx="911520" cy="8352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430440" y="2743200"/>
            <a:ext cx="1578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25:8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30T21:37:28Z</dcterms:created>
  <dc:creator>Daniel</dc:creator>
  <dc:description/>
  <dc:language>en-US</dc:language>
  <cp:lastModifiedBy>Daniel</cp:lastModifiedBy>
  <dcterms:modified xsi:type="dcterms:W3CDTF">2002-12-31T16:09:01Z</dcterms:modified>
  <cp:revision>18</cp:revision>
  <dc:subject/>
  <dc:title>Sin título de diapositiva</dc:title>
</cp:coreProperties>
</file>