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787-9262-403D-89FF-41DF1909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18C-E6D6-4CD7-AA98-0E817BED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BA9-30AD-4EAD-B836-2AF95A48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422-D74F-4839-9CDA-EC6E8122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982-0257-4361-8896-36E530AB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E8C-FECE-4ADD-BF83-A9333C24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AD0-2FBA-479A-9AAE-4B4E1DB2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8F6-7644-48F9-AB14-7817E729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483-E9BF-4F4A-A00F-DC302536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FFC-2EF7-47CA-A5FB-CD7A65E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7B7-E6AF-41E0-A92E-799B0AE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10B-3A7D-44B3-95A1-2D124A0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FA4-6DD1-4144-998B-0FCFECB46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211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43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495680"/>
            <a:ext cx="14634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5360" y="2438280"/>
            <a:ext cx="488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64 cotx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60958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486400" y="39625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86400" y="464832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8640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8640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088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6000" y="2362320"/>
            <a:ext cx="455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plantes=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files=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cotxes/fila=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cotxes total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2720" y="37368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0920" y="28954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09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160" y="259092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33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354480" y="3048120"/>
            <a:ext cx="208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x4x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943600" y="2971800"/>
                <a:ext cx="744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57200" y="380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5520" y="2895480"/>
            <a:ext cx="328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x4x4=6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236232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 nombre de files en les 4 pl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el nombre de cotxes totals, sabent que a cada fila hi caben 4 cot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60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505320" y="2666880"/>
                <a:ext cx="844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80880" y="304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s cotxes hi caben en un aparcament si saps que té quatre plantes amb quatre rengles a cada planta i que a cada rengle hi caben quatre cotx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3:57Z</dcterms:created>
  <dc:creator>Daniel</dc:creator>
  <dc:description/>
  <dc:language>en-US</dc:language>
  <cp:lastModifiedBy>Daniel</cp:lastModifiedBy>
  <dcterms:modified xsi:type="dcterms:W3CDTF">2002-09-09T15:35:56Z</dcterms:modified>
  <cp:revision>19</cp:revision>
  <dc:subject/>
  <dc:title>Sin título de diapositiva</dc:title>
</cp:coreProperties>
</file>