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E49-D709-4AF9-868B-4DD4F013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A6D-0CC5-44C7-8741-CCF1E222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863-333A-4283-9B4B-33D85A21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281-36CB-4196-83B3-ACE0177E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834-BF75-4089-B2C1-E293232B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471-5635-4CCE-8DFC-C98ABCFB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49E-7F17-424D-B679-E4972834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CCD-4328-4BAC-BE01-E568D06B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40F-78B5-4361-ABDD-F380B009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5C3-1048-476B-BBEB-977E0CF6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62C-1098-444A-96E4-E61A08C7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EB2-8835-4B31-8BD4-FDF0EAFF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C961-38FD-4C59-8BE5-C1020692F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86200" y="4343400"/>
            <a:ext cx="1469880" cy="169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" y="324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240" y="146376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120" y="142884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35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2360" y="2286000"/>
            <a:ext cx="796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240 retolador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581280"/>
            <a:ext cx="1298520" cy="53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5181480"/>
            <a:ext cx="141624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9480" y="5943600"/>
            <a:ext cx="1841760" cy="5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410080" y="3581280"/>
            <a:ext cx="2300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410080" y="441972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410080" y="5181480"/>
            <a:ext cx="339588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410080" y="5943600"/>
            <a:ext cx="1911600" cy="53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5335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 en una capsa hi ha 12 retoladors, quants n'hi ha en 20 cap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2286000"/>
            <a:ext cx="60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 capsa=12 retolado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20 capses=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6360" y="45720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en una capsa hi ha 12 retoladors, quants n'hi ha en 20 cap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" y="2365200"/>
            <a:ext cx="8688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2320" y="2514600"/>
            <a:ext cx="6424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1 OPERACIÓ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6360" y="53352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en una capsa hi ha 12 retoladors, quants n'hi ha en 20 cap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33360" y="2743200"/>
            <a:ext cx="449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6360" y="60948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en una capsa hi ha 12 retoladors, quants n'hi ha en 20 cap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01840" y="2819520"/>
            <a:ext cx="208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x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6360" y="60948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en una capsa hi ha 12 retoladors, quants n'hi ha en 20 cap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35520" y="2819520"/>
            <a:ext cx="366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x20=2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6360" y="60948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en una capsa hi ha 12 retoladors, quants n'hi ha en 20 cap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3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Trobar els retoladors en total, sabent la capacitat d'una cap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6360" y="76212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en una capsa hi ha 12 retoladors, quants n'hi ha en 20 cap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430440" y="2971800"/>
            <a:ext cx="208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12x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486400"/>
            <a:ext cx="854280" cy="777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6360" y="60948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 en una capsa hi ha 12 retoladors, quants n'hi ha en 20 cap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0:19:45Z</dcterms:created>
  <dc:creator>Daniel</dc:creator>
  <dc:description/>
  <dc:language>en-US</dc:language>
  <cp:lastModifiedBy>Daniel</cp:lastModifiedBy>
  <dcterms:modified xsi:type="dcterms:W3CDTF">2002-08-30T21:27:57Z</dcterms:modified>
  <cp:revision>15</cp:revision>
  <dc:subject/>
  <dc:title>Sin título de diapositiva</dc:title>
</cp:coreProperties>
</file>