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1AD0-0D81-45BE-B0E0-177FB62E9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C152-7C38-432F-B6B0-BD485E66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270B-526C-4656-AA24-0081262B3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3DFB-4439-49C6-BF6E-98A8EA138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845E-41B7-4BFF-93D8-54F3C266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D6A1-84BD-43E7-9FD7-FD84AA1E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A733-A587-4F0E-9D41-7ECBACB8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F85E-4391-4E2E-829A-93E8071D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3B52-017A-4DE1-824F-33BC73CB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9BA9-7B95-48BA-AE9E-9F498F73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FC6F-81A3-4CAA-9B21-F6E96969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D1D4-7849-46DE-BDE5-4D5D54DE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0F9F-1753-4E9F-8823-388D2E7A5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39960" y="2695680"/>
            <a:ext cx="726408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44160" y="2838600"/>
            <a:ext cx="526464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09240" y="2803680"/>
            <a:ext cx="526464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293880" y="2803680"/>
            <a:ext cx="18172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(73)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809880" y="4343400"/>
            <a:ext cx="147636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5562720"/>
            <a:ext cx="892080" cy="8157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678320" y="2514600"/>
            <a:ext cx="586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30º 28' 56''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66680" y="3886200"/>
            <a:ext cx="130500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066680" y="4572000"/>
            <a:ext cx="2706840" cy="542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1066680" y="5257800"/>
            <a:ext cx="142236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1066680" y="5867280"/>
            <a:ext cx="1847880" cy="542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4952880" y="3886200"/>
            <a:ext cx="2306880" cy="542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4952880" y="4572000"/>
            <a:ext cx="1798920" cy="54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4952880" y="525780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4952880" y="5867280"/>
            <a:ext cx="1917720" cy="542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38080" y="45720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'angle format per dos radis de la roda d'una bicicleta és de 15º 14' 28''. Si de cada dos radis en treiem un, quin angle formen, ara, els dos rad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2286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'angle format per dos radis de la roda d'una bicicleta és de 15º 14' 28''. Si de cada dos radis en treiem un, quin angle formen, ara, els dos rad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5562720"/>
            <a:ext cx="892080" cy="815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39880" y="2514600"/>
            <a:ext cx="802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Angle entre radis=15º 14' 28''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Angle entre 2 radis=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2711520"/>
            <a:ext cx="86882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7240" y="2819520"/>
            <a:ext cx="642456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1 OPERACIÓ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5335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'angle format per dos radis de la roda d'una bicicleta és de 15º 14' 28''. Si de cada dos radis en treiem un, quin angle formen, ara, els dos rad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5562720"/>
            <a:ext cx="892080" cy="81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3049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'angle format per dos radis de la roda d'una bicicleta és de 15º 14' 28''. Si de cada dos radis en treiem un, quin angle formen, ara, els dos rad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5562720"/>
            <a:ext cx="892080" cy="815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904760" y="3048120"/>
            <a:ext cx="449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3049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'angle format per dos radis de la roda d'una bicicleta és de 15º 14' 28''. Si de cada dos radis en treiem un, quin angle formen, ara, els dos rad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5562720"/>
            <a:ext cx="892080" cy="815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752840" y="2895480"/>
            <a:ext cx="487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5º 14' 28'' x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4572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'angle format per dos radis de la roda d'una bicicleta és de 15º 14' 28''. Si de cada dos radis en treiem un, quin angle formen, ara, els dos rad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5562720"/>
            <a:ext cx="892080" cy="815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6480" y="2666880"/>
            <a:ext cx="817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Times New Roman"/>
              </a:rPr>
              <a:t>15º 14' 28'' x 2= 30º 28' 56''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0880" y="3049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'angle format per dos radis de la roda d'una bicicleta és de 15º 14' 28''. Si de cada dos radis en treiem un, quin angle formen, ara, els dos rad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5562720"/>
            <a:ext cx="892080" cy="815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33520" y="2438280"/>
            <a:ext cx="8153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L'angle resultatnt haurà de ser el doble del que formen dos radis consecutius, per tant, s'haurà de trobar el doble del valor d'aquest ang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3808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'angle format per dos radis de la roda d'una bicicleta és de 15º 14' 28''. Si de cada dos radis en treiem un, quin angle formen, ara, els dos rad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5562720"/>
            <a:ext cx="892080" cy="815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134080" y="2743200"/>
            <a:ext cx="487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5º 14' 28'' x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23:26:25Z</dcterms:created>
  <dc:creator>Daniel</dc:creator>
  <dc:description/>
  <dc:language>en-US</dc:language>
  <cp:lastModifiedBy>Daniel</cp:lastModifiedBy>
  <dcterms:modified xsi:type="dcterms:W3CDTF">2002-12-28T12:31:42Z</dcterms:modified>
  <cp:revision>18</cp:revision>
  <dc:subject/>
  <dc:title>Sin título de diapositiva</dc:title>
</cp:coreProperties>
</file>