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271D-1D29-4237-890F-E7FD8B1E8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F6A2-394D-478C-A7A3-742D2E3A8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A53D-9240-4410-AD34-B984FF045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5804-6C97-4872-85E7-2FE85B388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8B80-F367-4B07-8975-AD84795C1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45B9-0AAB-4729-8394-D60A3A4AA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63C0-DBCF-42D5-9BF8-6A6421DBA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7AC3-4ADE-4768-A36C-D51EF4820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5C16-8553-4D06-9D35-F017EF393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F998-E9F6-484A-A8AE-4117399F4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4449-8B1B-4AB1-A229-37153953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E934-FCEE-47AF-9EF2-0692858ED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CF136-D9B6-450B-824F-B05E9AFFBE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" Target="slide7.xml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33640" y="2927520"/>
            <a:ext cx="6870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32560" y="2989440"/>
            <a:ext cx="687096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PROBLEMES (99)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3809880" y="4648320"/>
            <a:ext cx="1476360" cy="17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86600" y="5638680"/>
            <a:ext cx="860400" cy="7844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87960" y="936720"/>
            <a:ext cx="8469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6600"/>
                </a:solidFill>
                <a:latin typeface="Times New Roman"/>
              </a:rPr>
              <a:t>Falten 10 minuts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6600"/>
                </a:solidFill>
                <a:latin typeface="Times New Roman"/>
              </a:rPr>
              <a:t>per 1 hora,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6600"/>
                </a:solidFill>
                <a:latin typeface="Times New Roman"/>
              </a:rPr>
              <a:t>o bé 600 segons.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457200"/>
            <a:ext cx="845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 han passat 5/6 d'una hora, quants minuts falten perquè transcorri l'hora sencera? I quants segon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066680" y="3962520"/>
            <a:ext cx="1305000" cy="542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066680" y="4648320"/>
            <a:ext cx="2706840" cy="542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066680" y="5334120"/>
            <a:ext cx="1422360" cy="542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1066680" y="6019920"/>
            <a:ext cx="1847880" cy="542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5181480" y="3962520"/>
            <a:ext cx="2306880" cy="542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181480" y="4648320"/>
            <a:ext cx="1805040" cy="549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5181480" y="5334120"/>
            <a:ext cx="3402000" cy="542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>
            <a:off x="5181480" y="6019920"/>
            <a:ext cx="1917720" cy="5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685800"/>
            <a:ext cx="789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i han passat 5/6 d'una hora, quants minuts falten perquè transcorri l'hora sencera? I quants seg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86600" y="5638680"/>
            <a:ext cx="860400" cy="7844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991800" y="2666880"/>
            <a:ext cx="68954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5/6 d'1 hor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Minuts restants per 1 h=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Segons restants per 1 h=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04920" y="685800"/>
            <a:ext cx="789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i han passat 5/6 d'una hora, quants minuts falten perquè transcorri l'hora sencera? I quants seg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86600" y="5638680"/>
            <a:ext cx="860400" cy="784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49360" y="2712960"/>
            <a:ext cx="803736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40800" y="2843280"/>
            <a:ext cx="785232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Times New Roman"/>
              </a:rPr>
              <a:t>4 OPERACION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685800"/>
            <a:ext cx="789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i han passat 5/6 d'una hora, quants minuts falten perquè transcorri l'hora sencera? I quants seg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86600" y="5638680"/>
            <a:ext cx="860400" cy="7844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294920" y="2209680"/>
            <a:ext cx="4499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Multiplicac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divis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rest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multiplicac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04920" y="685800"/>
            <a:ext cx="789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i han passat 5/6 d'una hora, quants minuts falten perquè transcorri l'hora sencera? I quants seg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86600" y="5638680"/>
            <a:ext cx="860400" cy="7844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668680" y="2133720"/>
            <a:ext cx="20858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5x6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300: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60-5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10x6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04920" y="685800"/>
            <a:ext cx="789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i han passat 5/6 d'una hora, quants minuts falten perquè transcorri l'hora sencera? I quants seg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86600" y="5638680"/>
            <a:ext cx="860400" cy="7844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526040" y="2133720"/>
            <a:ext cx="3663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5x60=3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300:6=5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60-50=1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10x60=6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04920" y="685800"/>
            <a:ext cx="789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i han passat 5/6 d'una hora, quants minuts falten perquè transcorri l'hora sencera? I quants seg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86600" y="5638680"/>
            <a:ext cx="860400" cy="784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33520" y="2133720"/>
            <a:ext cx="77976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1r: Trobar quant és els 5/6 de 60 minu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2n: Veure quants minuts falten per als 60 minuts de l'hora sence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3r: Veure quants segons són aquests minuts que falt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04920" y="685800"/>
            <a:ext cx="789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i han passat 5/6 d'una hora, quants minuts falten perquè transcorri l'hora sencera? I quants seg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86600" y="5638680"/>
            <a:ext cx="860400" cy="7844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447560" y="3124080"/>
            <a:ext cx="6026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(60-((5x60):6))x6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1T10:31:03Z</dcterms:created>
  <dc:creator>Daniel</dc:creator>
  <dc:description/>
  <dc:language>en-US</dc:language>
  <cp:lastModifiedBy>Daniel</cp:lastModifiedBy>
  <dcterms:modified xsi:type="dcterms:W3CDTF">2003-01-04T11:03:47Z</dcterms:modified>
  <cp:revision>20</cp:revision>
  <dc:subject/>
  <dc:title>Sin título de diapositiva</dc:title>
</cp:coreProperties>
</file>