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71E-CB68-4385-B45E-ADEEA0F2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C70-68AB-4DA4-B2D2-94B25D39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72D-0A61-460A-BBDC-AFEAFA4A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B0F-74DB-4639-AF15-0F31C9DA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555-A78E-4CF3-B374-BF2A2364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BCA-E7E9-4209-87DF-DA99111D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55D-61C6-4C8B-9B9A-1DD2CDE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3BB-4C26-4E68-996E-D5173DD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05B-2BEC-4689-9FD2-A0D90AA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21F-2502-4477-B13B-0610236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291-AC31-451B-ABD8-AA53106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43F-BC40-40F5-9851-1480A5E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16D6-C551-4F48-B7EA-D13040BE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1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572000"/>
            <a:ext cx="1463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6040" y="2819520"/>
            <a:ext cx="667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Va guanyar 216,3 €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2767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86400" y="327672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8640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86400" y="48769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86400" y="5715000"/>
            <a:ext cx="191124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0080" y="2232000"/>
            <a:ext cx="827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Capital inicial=360'50 €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èrdua 1ª vgda- 1/5 p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èrdua 2ª vgada- Doble de la 1ª vg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Guany/pèrdua-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75000"/>
            <a:ext cx="8688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280" y="25146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160" y="2133720"/>
            <a:ext cx="441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4440" y="2133720"/>
            <a:ext cx="3864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,5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,5-72,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8,4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76,8-360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6200" y="2133720"/>
            <a:ext cx="60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,5:5=72,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,5-72,1=288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88,4x2= 576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76,8-360,5=216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243828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1r: S'ha de trobar quan perd la primera vegada (1/5 par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2n: S'ha de saber quan li que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3r: S'ha de trobar el doble del que li que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4rt: S'ha de restar el que tenia al principi i el que té 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2666880"/>
            <a:ext cx="82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[360,5-(360,5:5)]x2-360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80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jugador que tenia 360,50 euros perd la primera vegada la cinquena part del que tenia i la segona vegada dobla els diners que li quedaven. Quant va guanyar o perdre si es retira després d'aix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0:49:03Z</dcterms:created>
  <dc:creator>Daniel</dc:creator>
  <dc:description/>
  <dc:language>en-US</dc:language>
  <cp:lastModifiedBy>Daniel</cp:lastModifiedBy>
  <dcterms:modified xsi:type="dcterms:W3CDTF">2002-08-29T14:35:18Z</dcterms:modified>
  <cp:revision>17</cp:revision>
  <dc:subject/>
  <dc:title>Sin título de diapositiva</dc:title>
</cp:coreProperties>
</file>