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69B0-0CEE-48AF-A060-298738AA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C9C8-DFDC-4581-8844-B356E3D6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C55-D837-433D-AB1E-5A4F7D25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C374-2F40-4202-AE08-70686293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69D-09CB-4406-AF23-790FE318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DA4-70E5-4FD9-9EBC-357A1668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302-8B90-49DE-9017-37DE71B4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C3AE-C8C5-4CB7-833E-4B4D51A3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369E-E717-4A73-A235-1E53D085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A19C-F2BA-4457-AB01-96BC469E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9351-4C75-44F9-B4EC-B2C7CC39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208-4614-40CB-8696-CB5060E1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5CC5-AE38-4ED0-8099-C726385F8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572000"/>
            <a:ext cx="1470240" cy="1698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3240" y="536400"/>
            <a:ext cx="914580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44120" y="199692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31000" y="196200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40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35880" y="2438280"/>
            <a:ext cx="424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7185 m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25780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3809880"/>
            <a:ext cx="1298520" cy="536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4495680"/>
            <a:ext cx="2700360" cy="53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33520" y="5181480"/>
            <a:ext cx="1415880" cy="53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33520" y="5943600"/>
            <a:ext cx="184140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800600" y="3809880"/>
            <a:ext cx="230040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800600" y="4495680"/>
            <a:ext cx="1792440" cy="53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800600" y="5257800"/>
            <a:ext cx="339552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800600" y="6019920"/>
            <a:ext cx="1911240" cy="536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38088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 avió vola a 7400 m sobre el nivell del mar, baixa 1340 m i torna a pujar 1125 m. Finalment decideix aterrar. A quina altura sobre el nivell del mar es troba l'avió abans de decidir aterr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42280" y="2362320"/>
            <a:ext cx="4475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Altura=7400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Descens=1340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Ascens=1125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Altura final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2578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3808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avió vola a 7400 m sobre el nivell del mar, baixa 1340 m i torna a pujar 1125 m. Finalment decideix aterrar. A quina altura sobre el nivell del mar es troba l'avió abans de decidir ater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3960" y="2593800"/>
            <a:ext cx="8688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7200" y="27241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2578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3049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avió vola a 7400 m sobre el nivell del mar, baixa 1340 m i torna a pujar 1125 m. Finalment decideix aterrar. A quina altura sobre el nivell del mar es troba l'avió abans de decidir ater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35160" y="2971800"/>
            <a:ext cx="200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2578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53352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avió vola a 7400 m sobre el nivell del mar, baixa 1340 m i torna a pujar 1125 m. Finalment decideix aterrar. A quina altura sobre el nivell del mar es troba l'avió abans de decidir ater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73400" y="2895480"/>
            <a:ext cx="366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7400-134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6060+112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2578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7621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avió vola a 7400 m sobre el nivell del mar, baixa 1340 m i torna a pujar 1125 m. Finalment decideix aterrar. A quina altura sobre el nivell del mar es troba l'avió abans de decidir ater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21480" y="2819520"/>
            <a:ext cx="581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7400-1340=606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6060+1125= 718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2578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6858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avió vola a 7400 m sobre el nivell del mar, baixa 1340 m i torna a pujar 1125 m. Finalment decideix aterrar. A quina altura sobre el nivell del mar es troba l'avió abans de decidir ater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2362320"/>
            <a:ext cx="754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trobar l'altura de l'avió quan baixa 1340 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S'ha de trobar l'altura quan puja 1125 met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2578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5800" y="6094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avió vola a 7400 m sobre el nivell del mar, baixa 1340 m i torna a pujar 1125 m. Finalment decideix aterrar. A quina altura sobre el nivell del mar es troba l'avió abans de decidir ater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44800" y="2895480"/>
            <a:ext cx="544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7400-1340+112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2578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68580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avió vola a 7400 m sobre el nivell del mar, baixa 1340 m i torna a pujar 1125 m. Finalment decideix aterrar. A quina altura sobre el nivell del mar es troba l'avió abans de decidir ater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10:22:59Z</dcterms:created>
  <dc:creator>Daniel</dc:creator>
  <dc:description/>
  <dc:language>en-US</dc:language>
  <cp:lastModifiedBy>Daniel</cp:lastModifiedBy>
  <dcterms:modified xsi:type="dcterms:W3CDTF">2002-08-30T22:34:58Z</dcterms:modified>
  <cp:revision>15</cp:revision>
  <dc:subject/>
  <dc:title>Sin título de diapositiva</dc:title>
</cp:coreProperties>
</file>