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086-7D26-42DB-8AF7-D711F250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414-454D-4F32-9907-8538446D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2B6-958E-4D39-A1B4-F056C0FF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B77-3A83-4428-BD27-39B7A433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AB8-7A24-4AA9-8E1B-A6002048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AD7-7B8A-42C3-B682-6B2C6867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705-C5F3-4C1B-82A4-8A983337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018-1F3F-4F24-B47B-58012258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B21-C2FD-4606-8E45-74EF342C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801-FEFD-4347-B5A8-1FC796F6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BC9-D884-4CD5-BD4A-898B2A88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2B2-B357-4921-9D5F-C6C6409D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493D-4F47-43A5-8DD1-E0CA4A42F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4.xml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878200"/>
            <a:ext cx="7264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5600" y="220968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(62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267080"/>
            <a:ext cx="1469880" cy="16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7800" y="259092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5520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4572000"/>
            <a:ext cx="270684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30492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obrer guanya 12 euros cada hora i ha treballat en dues obres diferents. A la primera hi ha treballat 3 setmanes, 2 dies i 7 hores; a la segona, 7 setmanes, 4 dies i 5 hores. Quant ha de cobrar si treballa 5 dies a la setmana i 8 hores al 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3352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5720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10080" y="45720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4100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541008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5200" y="2438280"/>
            <a:ext cx="426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Sou=12€/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1ª obra=3 set,2 dies,7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2ª obra=7 set,4 dies,5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ies/setmana=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Hores/dia=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obrament total=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rer guanya 12 euros cada hora i ha treballat en dues obres diferents. A la primera hi ha treballat 3 setmanes, 2 dies i 7 hores; a la regona, 7 setmanes, 4 dies i 5 hores. Quanta ha de cobrar si treballa 5 dies a la setmana i 8 hores al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3049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rer guanya 12 euros cada hora i ha treballat en dues obres diferents. A la primera hi ha treballat 3 setmanes, 2 dies i 7 hores; a la segona, 7 setmanes, 4 dies i 5 hores. Quant ha de cobrar si treballa 5 dies a la setmana i 8 hores al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400" y="3508200"/>
            <a:ext cx="803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640" y="2514600"/>
            <a:ext cx="84117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0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5240" y="2133720"/>
            <a:ext cx="1980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04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rer guanya 12 euros cada hora i ha treballat en dues obres diferents. A la primera hi ha treballat 3 setmanes, 2 dies i 7 hores; a la segona, 7 setmanes, 4 dies i 5 hores. Quant ha de cobrar si treballa 5 dies a la setmana i 8 hores al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63400" y="2514600"/>
            <a:ext cx="126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5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7x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36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7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5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9x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12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17+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460x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335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rer guanya 12 euros cada hora i ha treballat en dues obres diferents. A la primera hi ha treballat 3 setmanes, 2 dies i 7 hores; a la segona, 7 setmanes, 4 dies i 5 hores. Quant ha de cobrar si treballa 5 dies a la setmana i 8 hores al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30080" y="2571840"/>
            <a:ext cx="1899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x5=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5+2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7x8=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36+7=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7x5=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5+4=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9x8=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12+5=3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17+143=4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460x12=5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rer guanya 12 euros cada hora i ha treballat en dues obres diferents. A la primera hi ha treballat 3 setmanes, 2 dies i 7 hores; a la segona, 7 setmanes, 4 dies i 5 hores. Quant ha de cobrar si treballa 5 dies a la setmana i 8 hores al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5335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rer guanya 12 euros cada hora i ha treballat en dues obres diferents. A la primera hi ha treballat 3 setmanes, 2 dies i 7 hores; a la segona, 7 setmanes, 4 dies i 5 hores. Quant ha de cobrar si treballa 5 dies a la setmana i 8 hores al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28600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1r:S'ha de trobar el nombre d'hores que treballa a la primera empresa, passant les setmanes a dies i a hores posterior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2n: El mateix a la segona ob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3r: Calcular el nombre d'hores total treballats a les dues obres ju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4t: Trobar l'mport total del sou, sabent que cobra 12 € cada h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7520" y="2971800"/>
            <a:ext cx="88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[[(3x5+2)x8+7]+[(35+4)x8+5]]x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rer guanya 12 euros cada hora i ha treballat en dues obres diferents. A la primera hi ha treballat 3 setmanes, 2 dies i 7 hores; a la segona, 7 setmanes, 4 dies i 5 hores. Quant ha de cobrar si treballa 5 dies a la setmana i 8 hores al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23:02:23Z</dcterms:created>
  <dc:creator>Daniel</dc:creator>
  <dc:description/>
  <dc:language>en-US</dc:language>
  <cp:lastModifiedBy>Daniel</cp:lastModifiedBy>
  <dcterms:modified xsi:type="dcterms:W3CDTF">2002-11-01T22:21:28Z</dcterms:modified>
  <cp:revision>18</cp:revision>
  <dc:subject/>
  <dc:title>Sin título de diapositiva</dc:title>
</cp:coreProperties>
</file>