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3C4-3E90-46E3-A725-4B9CDF2A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80E-6F43-423E-9580-82E7B96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A23-B5F6-41DE-9BEB-510C0648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EB8-B3F4-4D45-9228-ABEA16C5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E0C-A678-4DED-971B-25F9C93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D2A-61DD-45B5-BF60-90D084CF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CFB-709E-4AA5-A1FF-95E29CE7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151-176A-4378-81B3-4BFB5D0D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2B1-DE9B-4ADF-851D-D37BB713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69B-D912-44BA-9BD2-DAAA60B2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D56-A30B-461C-BB48-B4D71A1C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6E4-CCF7-4CF2-8394-C87A08F5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75C1-CA67-420D-816D-10A2D626E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800600"/>
            <a:ext cx="1469880" cy="169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" y="536400"/>
            <a:ext cx="91454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240" y="19969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196200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32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64120" y="2514600"/>
            <a:ext cx="353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,60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35268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141624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9480" y="579132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181480" y="32767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181480" y="41148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181480" y="5791320"/>
            <a:ext cx="191160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80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 tinc una moneda de 2 euros, 2 de 50 cèntims i 3 de 20 cèntims, quants euros tinc en tot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1905120"/>
            <a:ext cx="4267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oned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-1 de 2 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-2 de 50 ct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-3 de 20 ct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€ 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total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08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tinc una moneda de 2 euros, 2 de 50 cèntims i  3 de 20 cèntims, quants euros tinc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" y="3584520"/>
            <a:ext cx="8688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2320" y="25146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9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tinc una moneda de 2 euros, 2 de 50 cèntims i 3 de 20 cèntims, quants euros tinc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96200" y="2286000"/>
            <a:ext cx="229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57200"/>
            <a:ext cx="86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tinc una moneda de 2 euros, 2 de 50 cèntims i 3 de 20 cèntims, quants euros tinc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4640" y="2209680"/>
            <a:ext cx="409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00+100+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: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57200"/>
            <a:ext cx="792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tinc una moneda de 2 euros, 2 de 50 cèntims i 3 de 20 cèntims, quants euros tinc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6400" y="2286000"/>
            <a:ext cx="567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00+100+60=3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:100=3,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33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tinc una moneda de 2 euros, 2 de 50 cèntims i 3 de 20 cèntims, quants euros tinc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2096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n de passar totes aquestes monedes a e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S'ha de veure quantseuros són en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533520"/>
            <a:ext cx="761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tinc una moneda de 2 euros, 2 de 50 cèntims i 3 de 20 cèntims, quants euros tinc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01640" y="2666880"/>
            <a:ext cx="60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200+100+60):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6360" y="30492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tinc una moneda de 2 euros, 2 de 50 cèntims i 3 de 20 cèntims, quants euros tinc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1008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0:17:35Z</dcterms:created>
  <dc:creator>Daniel</dc:creator>
  <dc:description/>
  <dc:language>en-US</dc:language>
  <cp:lastModifiedBy>Daniel</cp:lastModifiedBy>
  <dcterms:modified xsi:type="dcterms:W3CDTF">2002-08-30T17:49:56Z</dcterms:modified>
  <cp:revision>16</cp:revision>
  <dc:subject/>
  <dc:title>Sin título de diapositiva</dc:title>
</cp:coreProperties>
</file>