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E08-6326-4090-AD9A-8008B6C9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DC2-4DD4-44C1-9B2D-C16DBBA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78E-5FBB-493A-BD8C-A7AFA493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829-C1C9-40D2-BE02-F7F6F3F6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824-8A52-4D85-BB42-69859DE5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DDD-29CC-421D-8F93-D6C875AB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BE3-409A-4091-91A8-DF1A153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5E4-9DB1-449B-9310-AE79561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F13-4738-4F2A-803C-F5526AE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DA5-AC11-4F00-A440-0970713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FAE-3E7A-4634-9424-2D40243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737-B3DF-44E3-8973-766B2D2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D1C5-C45D-483E-BD8B-CA1D64BC5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2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5720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5160" y="2514600"/>
            <a:ext cx="607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00 cabra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808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295280" y="60958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76920" y="39625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76920" y="4648320"/>
            <a:ext cx="1805040" cy="54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769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4680" y="2590920"/>
            <a:ext cx="719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bra=3 m quadr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mp: amplada=1000 c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Llarg=60 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cabra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6120" y="2709720"/>
            <a:ext cx="80438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4760" y="2514600"/>
            <a:ext cx="44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44640" y="2514600"/>
            <a:ext cx="31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00: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x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0: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35520" y="2743200"/>
            <a:ext cx="429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00:100=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x60=6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00:3=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228600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passar els 1000 cm de llarg a met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'ha de trobar l'àrea del camp, sabent el llarg i l'amp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Veure quintes cabras poden pasturar-hi, sabent la superfície que necessita cadasc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533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bra necessita 3 m quadrats de terreny per pasturar en un dia. Quantes cabras poden pasturar en un camp rectangular que mesura 1000 cm d'amplària i 60 m de llargà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95640" y="3200400"/>
            <a:ext cx="589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[(1000:100)x60]: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5:50Z</dcterms:created>
  <dc:creator>Daniel</dc:creator>
  <dc:description/>
  <dc:language>en-US</dc:language>
  <cp:lastModifiedBy>Daniel</cp:lastModifiedBy>
  <dcterms:modified xsi:type="dcterms:W3CDTF">2003-01-03T15:50:07Z</dcterms:modified>
  <cp:revision>19</cp:revision>
  <dc:subject/>
  <dc:title>Sin título de diapositiva</dc:title>
</cp:coreProperties>
</file>