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DD3-98F2-4A78-BD15-F4A73BB5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869-4579-4671-982C-EA74E04D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C97-7E6E-429A-B4DB-DC9A6DAB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486-AF38-4B7A-BD29-7B7E97CE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B48-C58B-4A1B-919D-5727BF34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651-022A-4ACF-8B15-5855B154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19D-6209-4E10-8A1E-08DF76F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2EA-9EE4-436E-B49E-C74B807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735-E2BB-4831-8C9F-79974E6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339-1D25-4853-91F7-98897BAA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CC4-BC0F-4487-A42D-FFE852A7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792-2434-4CB9-AA10-D4625925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B5D5-5400-4C5A-9C0B-0CF62A964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560" y="298944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98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64832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6002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En 4 hores: 394000 m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En 1 dia: 2364000 m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09480"/>
            <a:ext cx="83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39625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0666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06668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952880" y="396252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952880" y="4648320"/>
            <a:ext cx="1805040" cy="54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533412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95288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0080" y="2514600"/>
            <a:ext cx="769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=98,5 Km/h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etres recorreguts en 4 h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etres en 1 di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60" y="2712960"/>
            <a:ext cx="8037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800" y="28432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99840" y="198108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9200" y="2133720"/>
            <a:ext cx="3609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8,5x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8,5x2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94x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64x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3400" y="2057400"/>
            <a:ext cx="6711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8,5x4= 39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8,5x24= 236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94x1000= 394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64x1000=2364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52388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veure quants Km recorrerà en 4 hores, sabent el que recorre en 1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quants Km recorrerà en 24 hores, sabent el que recorre en 1 hora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Passar els Km recorreguts en 4 hores a met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4t: Passar els Km recorreguts en un dia a me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un cotxe viatja a una velocitat de 98,5 Km per hora, quants metres recorrerà en 4 hores? I en un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79132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63400" y="2895480"/>
            <a:ext cx="545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98,5x4)x6x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30:41Z</dcterms:created>
  <dc:creator>Daniel</dc:creator>
  <dc:description/>
  <dc:language>en-US</dc:language>
  <cp:lastModifiedBy>Daniel</cp:lastModifiedBy>
  <dcterms:modified xsi:type="dcterms:W3CDTF">2003-01-04T10:58:43Z</dcterms:modified>
  <cp:revision>19</cp:revision>
  <dc:subject/>
  <dc:title>Sin título de diapositiva</dc:title>
</cp:coreProperties>
</file>