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02FD-9EBA-4FC0-B053-253265AD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1744-5F3A-4DA4-85E7-DE8DCAF6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F4FD-EDD3-44AE-B8B6-401252B2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E74-A257-4EBE-A6EC-AD42D035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334D-1F4E-4108-82B4-B68403C0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8D26-671F-4D13-B054-F0ECF244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D826-585C-4314-8BF6-3B30BDCD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418F-9581-470B-9AF6-C7B15575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C2B9-3849-47DC-B08C-A2504C7C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37E1-672A-4710-B77B-90B0BF0E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5388-43C5-442F-BB9E-7BAE5B53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81E-680A-46EC-833B-FB1978A3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C28F-8365-4547-A50B-FFB316EE2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" y="1560600"/>
            <a:ext cx="9145440" cy="37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50240" y="302112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7480" y="298620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45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33920" y="4800600"/>
            <a:ext cx="146340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364120" y="2743200"/>
            <a:ext cx="353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95,8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10080"/>
            <a:ext cx="860400" cy="7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65760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441972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09480" y="5257800"/>
            <a:ext cx="141624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09480" y="6019920"/>
            <a:ext cx="184176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181480" y="3809880"/>
            <a:ext cx="230040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181480" y="4495680"/>
            <a:ext cx="179892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181480" y="525780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181480" y="601992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38088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'equip de bàsquet de l'escola ha guanyat tres premis enguany. Com que s'ha classificat el primer, ha guanyat 900 €; com que és el més esportiu, 490 €; i com que duu la samarreta més bonica, 335 €. Si l'equip està integrat per 18 jugadors, quants diners haurà guanyat cadascu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666880"/>
            <a:ext cx="6629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Premis: 1r classif:900 €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               </a:t>
            </a: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Més esportiu=490 €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               </a:t>
            </a: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Samarreta=335 €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Nº jugadors=18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Diners/jugador=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4100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3808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equip de bàsquet de l'escola ha guanyat tres premis enguany. Com que s'ha classificat el primer, ha guanyat 900 €; com que és el més esportiu, 490 €; i com que duu la samarreta més bonica, 335 €. Si l'equip està integrat per 18 jugadors, quants diners haurà guanyat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47640" y="2755800"/>
            <a:ext cx="78566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4600" y="274320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0492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equip de bàsquet de l'escola ha guanyat tres premis enguany. Com que s'ha classificat el primer, ha guanyat 900 €; com que és el més esportiu, 490 €; i com que duu la samarreta més bonica, 335 €. Si l'equip està integrat per 18 jugadors, quants diners haurà guanyat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10080"/>
            <a:ext cx="860400" cy="7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91280" y="3429000"/>
            <a:ext cx="229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04920"/>
            <a:ext cx="838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equip de bàsquet de l'escola ha guanyat tres premis enguany. Com que s'ha classificat el primer, ha guanyat 900 €; com que és el més esportiu, 490 €; i com que duu la samarreta més bonica, 335 €. Si l'equip està integrat per 18 jugadors, quants diners haurà guanyat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10080"/>
            <a:ext cx="860400" cy="7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73760" y="2819520"/>
            <a:ext cx="447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900+490+33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725: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equip de bàsquet de l'escola ha guanyat tres premis enguany. Com que s'ha classificat el primer, ha guanyat 900 €; com que és el més esportiu, 490 €; i com que duu la samarreta més bonica, 335 €. Si l'equip està integrat per 18 jugadors, quants diners haurà guanyat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10080"/>
            <a:ext cx="860400" cy="7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4640" y="2819520"/>
            <a:ext cx="643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900+490+335=172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725:18=95,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049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equip de bàsquet de l'escola ha guanyat tres premis enguany. Com que s'ha classificat el primer, ha guanyat 900 €; com que és el més esportiu, 490 €; i com que duu la samarreta més bonica, 335 €. Si l'equip està integrat per 18 jugadors, quants diners haurà guanyat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10080"/>
            <a:ext cx="860400" cy="7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251460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Veure quants diners han reunit en to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Repartir aquests diners entre els 18 jugadors de l'equip, per veure quant tocarà a cadasc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04920"/>
            <a:ext cx="85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equip de bàsquet de l'escola ha guanyat tres premis enguany. Com que s'ha classificat el primer, ha guanyat 900 €; com que és el més esportiu, 490 €; i com que duu la samarreta més bonica, 335 €. Si l'equip està integrat per 18 jugadors, quants diners haurà guanyat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10080"/>
            <a:ext cx="860400" cy="7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677960" y="3048120"/>
            <a:ext cx="600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900+490+335):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38088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equip de bàsquet de l'escola ha guanyat tres premis enguany. Com que s'ha classificat el primer, ha guanyat 900 €; com que és el més esportiu, 490 €; i com que duu la samarreta més bonica, 335 €. Si l'equip està integrat per 18 jugadors, quants diners haurà guanyat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10080"/>
            <a:ext cx="860400" cy="78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2T21:05:25Z</dcterms:created>
  <dc:creator>Daniel</dc:creator>
  <dc:description/>
  <dc:language>en-US</dc:language>
  <cp:lastModifiedBy>Daniel</cp:lastModifiedBy>
  <dcterms:modified xsi:type="dcterms:W3CDTF">2002-09-09T15:37:25Z</dcterms:modified>
  <cp:revision>17</cp:revision>
  <dc:subject/>
  <dc:title>Sin título de diapositiva</dc:title>
</cp:coreProperties>
</file>