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311-F634-4C4A-A925-3F5E5575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EFA-2E2C-43F3-86C8-0963D334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0C1-E052-499A-A0E2-8688C0CE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C41-CB6B-4025-ABD2-AAF279A4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7D6-57B3-47A4-B93F-71030BB4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F23-831B-4B52-BE0B-B4C2B230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0E1-11C8-4447-AFEF-0D1AB06F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9E3-E84B-4352-BD3F-75D1EB6C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AD1-144F-4FD5-964E-CDB84AD8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E18-073B-477E-97BA-95D7C2AC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5F8-763D-422A-9B79-29FA561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ACE-DE2A-424F-95A6-E840079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50B4-C2D5-48F7-BBBA-CD5C0A4ED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0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038480" y="4876920"/>
            <a:ext cx="1165320" cy="12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9200" y="213372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1599,4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92080" cy="81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1680" y="304920"/>
            <a:ext cx="803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in és el nombre que dividit per 34,25 i multiplicat el resultat per 28 dóna 9482,7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2767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" y="49528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5800" y="571500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10080" y="335268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41148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49528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10080" y="5715000"/>
            <a:ext cx="191160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457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in és el nombre que dividit per 34,25 i multiplicat el resultat per 28 dóna 9482,7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31160" y="236232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S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92080" cy="81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80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in és el nombre que dividit per 34,25 i multiplicat el resultat per 28 dóna 9482,7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8037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26668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92080" cy="81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in és el nombre que dividit per 34,25 i multiplicat el resultat per 28 dóna 9482,7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8600" y="2895480"/>
            <a:ext cx="460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92080" cy="81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57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in és el nombre que dividit per 34,25 i multiplicat el resultat per 28 dóna 9482,7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3040" y="2209680"/>
            <a:ext cx="456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482,76:2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38,67x34,25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92080" cy="81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in és el nombre que dividit per 34,25 i multiplicat el resultat per 28 dóna 9482,7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5320" y="2133720"/>
            <a:ext cx="766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482,76:28=338,6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38,67x34,25=11599,4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92080" cy="81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3808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in és el nombre que dividit per 34,25 i multiplicat el resultat per 28 dóna 9482,7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05740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Aplicació de la propietat de la divisió:Divident : divisor = quoc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Aplicació de la propietat de la divisió: divisor x quocient = divi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92080" cy="81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30492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in és el nombre que dividit per 34,25 i multiplicat el resultat per 28 dóna 9482,7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2666880"/>
            <a:ext cx="64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9482,76:28)x34,25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92080" cy="81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15:06:52Z</dcterms:created>
  <dc:creator>Daniel</dc:creator>
  <dc:description/>
  <dc:language>en-US</dc:language>
  <cp:lastModifiedBy>Daniel</cp:lastModifiedBy>
  <dcterms:modified xsi:type="dcterms:W3CDTF">2002-08-28T20:43:34Z</dcterms:modified>
  <cp:revision>20</cp:revision>
  <dc:subject/>
  <dc:title>Sin título de diapositiva</dc:title>
</cp:coreProperties>
</file>