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BF3C-1A19-4B59-911F-004F40D2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B4A-4505-465F-B078-6CDB6261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29F6-55C4-4A0F-85AE-11311C7C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061-A0E1-45DD-B98E-DCD958FF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FD3-EC89-4CF7-B44D-857D7416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AB66-4B7B-4AF3-8751-C934DC4F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23E3-865A-41B5-8A3F-04DFAE44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5E9-B19E-40A3-881F-19076FAC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F8B-71C7-406D-A287-4B991DD1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A2B-42D7-4B4B-8514-B647AAE6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B6C7-B6C0-427F-BB09-931EFB24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45E-6710-45CA-9274-F15C7825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E0CD-96AC-49F9-A5E5-4F3F9C3F5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560" y="298944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88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33920" y="4876920"/>
            <a:ext cx="131112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920" y="2057400"/>
            <a:ext cx="810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Times New Roman"/>
              </a:rPr>
              <a:t>2 entrepans/alumne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Times New Roman"/>
              </a:rPr>
              <a:t>i en sobraran  30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30492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s 65 alumnes de cinquè de Primària han anat d'excursió i han portat 5 bosses amb 32 entrepans cadascuna. Quan reparteixin els entrepans, quants se'n menjarà cada alumne? Sobrarà cap entrepà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403848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38080" y="464832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38080" y="533412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838080" y="601992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800600" y="403848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800600" y="53341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800600" y="601992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380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s 65 alumnes de cinquè de Primària han anat d'excursió i han portat 5 bosses amb 32 entrepans cadascuna. Quan reparteixin els entrepans, quants se'n menjarà cada alumne? Sobrarà cap entrep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6200" y="2286000"/>
            <a:ext cx="5930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ens=65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Bosses=5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Entrepans/bossa=32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Entrepans/nen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Entrepans sobrant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380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s 65 alumnes de cinquè de Primària han anat d'excursió i han portat 5 bosses amb 32 entrepans cadascuna. Quan reparteixin els entrepans, quants se'n menjarà cada alumne? Sobrarà cap entrep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5360" y="2712960"/>
            <a:ext cx="8688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6880" y="28195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380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s 65 alumnes de cinquè de Primària han anat d'excursió i han portat 5 bosses amb 32 entrepans cadascuna. Quan reparteixin els entrepans, quants se'n menjarà cada alumne? Sobrarà cap entrep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8440" y="2819520"/>
            <a:ext cx="44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380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s 65 alumnes de cinquè de Primària han anat d'excursió i han portat 5 bosses amb 32 entrepans cadascuna. Quan reparteixin els entrepans, quants se'n menjarà cada alumne? Sobrarà cap entrep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668320" y="2819520"/>
            <a:ext cx="253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2x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60:65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380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s 65 alumnes de cinquè de Primària han anat d'excursió i han portat 5 bosses amb 32 entrepans cadascuna. Quan reparteixin els entrepans, quants se'n menjarà cada alumne? Sobrarà cap entrep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3560" y="2819520"/>
            <a:ext cx="695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2x5=1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60:65=2, residu=3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380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s 65 alumnes de cinquè de Primària han anat d'excursió i han portat 5 bosses amb 32 entrepans cadascuna. Quan reparteixin els entrepans, quants se'n menjarà cada alumne? Sobrarà cap entrep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25909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veure quants entrepans tenen en to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Veure quants en tocarà a cada alumne, sabent el nombre d'alumnes i el nombre d'entrepans. 3r: Mirant el residu es veurà si en sobrarà o 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380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s 65 alumnes de cinquè de Primària han anat d'excursió i han portat 5 bosses amb 32 entrepans cadascuna. Quan reparteixin els entrepans, quants se'n menjarà cada alumne? Sobrarà cap entrep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63040" y="3048120"/>
            <a:ext cx="32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32x5):6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21:41:32Z</dcterms:created>
  <dc:creator>Daniel</dc:creator>
  <dc:description/>
  <dc:language>en-US</dc:language>
  <cp:lastModifiedBy>Daniel</cp:lastModifiedBy>
  <dcterms:modified xsi:type="dcterms:W3CDTF">2002-12-31T17:48:44Z</dcterms:modified>
  <cp:revision>18</cp:revision>
  <dc:subject/>
  <dc:title>Sin título de diapositiva</dc:title>
</cp:coreProperties>
</file>