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5BD-AE91-490D-A5E6-24ACAF31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074-7E94-4389-92A8-A985FF57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6BA-5D67-4E62-A661-C92033F6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29D-684A-427B-BB50-BD707A3D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D7D-37D8-45A5-82E8-C6C2CFB6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185-A9A1-4F37-8CDF-511AD659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2CF-E07C-4919-8429-EF64DAF9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53C-8AF7-419B-89E2-0341F5DA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F1B-F583-4100-A0F2-9F1120F8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0F3-18C0-4DA2-8D41-F9E92766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1EB-5E86-4CE3-B652-F1549EB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D7B-4F4F-4E1B-8DDD-D645545D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8CB3-650E-4F0D-B9F0-11D65780B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7840" y="28764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193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4400"/>
            <a:ext cx="6662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8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3733920" y="4495680"/>
            <a:ext cx="1523880" cy="18288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828800"/>
              <a:gd name="textAreaBottom" fmla="*/ 1730160 h 1828800"/>
            </a:gdLst>
            <a:ahLst/>
            <a:rect l="textAreaLeft" t="textAreaTop" r="textAreaRight" b="textAreaBottom"/>
            <a:pathLst>
              <a:path w="21600" h="25921">
                <a:moveTo>
                  <a:pt x="0" y="0"/>
                </a:moveTo>
                <a:lnTo>
                  <a:pt x="21600" y="0"/>
                </a:lnTo>
                <a:lnTo>
                  <a:pt x="21600" y="25921"/>
                </a:lnTo>
                <a:lnTo>
                  <a:pt x="0" y="25921"/>
                </a:lnTo>
                <a:close/>
              </a:path>
              <a:path fill="lightenLess" w="21600" h="259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1">
                <a:moveTo>
                  <a:pt x="21600" y="0"/>
                </a:moveTo>
                <a:lnTo>
                  <a:pt x="21600" y="25921"/>
                </a:lnTo>
                <a:lnTo>
                  <a:pt x="20200" y="24521"/>
                </a:lnTo>
                <a:lnTo>
                  <a:pt x="20200" y="1400"/>
                </a:lnTo>
                <a:close/>
              </a:path>
              <a:path fill="darkenLess" w="21600" h="25921">
                <a:moveTo>
                  <a:pt x="21600" y="25921"/>
                </a:moveTo>
                <a:lnTo>
                  <a:pt x="0" y="25921"/>
                </a:lnTo>
                <a:lnTo>
                  <a:pt x="1400" y="24521"/>
                </a:lnTo>
                <a:lnTo>
                  <a:pt x="20200" y="24521"/>
                </a:lnTo>
                <a:close/>
              </a:path>
              <a:path fill="lighten" w="21600" h="25921">
                <a:moveTo>
                  <a:pt x="0" y="259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1"/>
                </a:lnTo>
                <a:close/>
              </a:path>
              <a:path fill="darken" w="21600" h="25921">
                <a:moveTo>
                  <a:pt x="10800" y="5998"/>
                </a:moveTo>
                <a:lnTo>
                  <a:pt x="13376" y="8609"/>
                </a:lnTo>
                <a:lnTo>
                  <a:pt x="13376" y="6868"/>
                </a:lnTo>
                <a:lnTo>
                  <a:pt x="15152" y="6868"/>
                </a:lnTo>
                <a:lnTo>
                  <a:pt x="15152" y="10384"/>
                </a:lnTo>
                <a:lnTo>
                  <a:pt x="17763" y="12961"/>
                </a:lnTo>
                <a:lnTo>
                  <a:pt x="16109" y="12961"/>
                </a:lnTo>
                <a:lnTo>
                  <a:pt x="16109" y="20150"/>
                </a:lnTo>
                <a:lnTo>
                  <a:pt x="5491" y="20150"/>
                </a:lnTo>
                <a:lnTo>
                  <a:pt x="5491" y="12961"/>
                </a:lnTo>
                <a:lnTo>
                  <a:pt x="3837" y="12961"/>
                </a:lnTo>
                <a:close/>
              </a:path>
              <a:path fill="darkenLess" w="21600" h="25921">
                <a:moveTo>
                  <a:pt x="13376" y="8609"/>
                </a:moveTo>
                <a:lnTo>
                  <a:pt x="13376" y="6868"/>
                </a:lnTo>
                <a:lnTo>
                  <a:pt x="15152" y="6868"/>
                </a:lnTo>
                <a:lnTo>
                  <a:pt x="15152" y="10384"/>
                </a:lnTo>
                <a:close/>
              </a:path>
              <a:path fill="darkenLess" w="21600" h="25921">
                <a:moveTo>
                  <a:pt x="9877" y="16459"/>
                </a:moveTo>
                <a:lnTo>
                  <a:pt x="11723" y="16459"/>
                </a:lnTo>
                <a:lnTo>
                  <a:pt x="11723" y="20150"/>
                </a:lnTo>
                <a:lnTo>
                  <a:pt x="16109" y="20150"/>
                </a:lnTo>
                <a:lnTo>
                  <a:pt x="16109" y="12961"/>
                </a:lnTo>
                <a:lnTo>
                  <a:pt x="5491" y="12961"/>
                </a:lnTo>
                <a:lnTo>
                  <a:pt x="5491" y="20150"/>
                </a:lnTo>
                <a:lnTo>
                  <a:pt x="9877" y="201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5520" y="2057400"/>
            <a:ext cx="353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1,3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6934320" y="487692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3794" y="12959"/>
                </a:moveTo>
                <a:lnTo>
                  <a:pt x="17806" y="5953"/>
                </a:lnTo>
                <a:lnTo>
                  <a:pt x="17806" y="1996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33520"/>
            <a:ext cx="793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Al finalitzar el mes he estalviat 50 euros.Si he gastat 239,5 euros en menjar, 50,8 euros en el vestir i 300 euros en altres despeses, quin és el meu sou diar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62120" y="48769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62120" y="579132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257800" y="31240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257800" y="40384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257800" y="4952880"/>
            <a:ext cx="339552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334120" y="5791320"/>
            <a:ext cx="191124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l finalitzar el mes he estalviat 50 euros.Si he gastat 239,5 euros en menjar, 50,8 euros en el vestir i 300 euros en altres despeses, quin és el meu sou dia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905120"/>
            <a:ext cx="4800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stalvi=50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enjar=239,5 €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estir=50,8 €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ltres=300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 dia=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238880" y="5029200"/>
            <a:ext cx="1067040" cy="1219320"/>
          </a:xfrm>
          <a:custGeom>
            <a:avLst/>
            <a:gdLst>
              <a:gd name="textAreaLeft" fmla="*/ 69120 w 1067040"/>
              <a:gd name="textAreaRight" fmla="*/ 997920 w 1067040"/>
              <a:gd name="textAreaTop" fmla="*/ 69120 h 1219320"/>
              <a:gd name="textAreaBottom" fmla="*/ 1150200 h 1219320"/>
            </a:gdLst>
            <a:ahLst/>
            <a:rect l="textAreaLeft" t="textAreaTop" r="textAreaRight" b="textAreaBottom"/>
            <a:pathLst>
              <a:path w="21600" h="24682">
                <a:moveTo>
                  <a:pt x="0" y="0"/>
                </a:moveTo>
                <a:lnTo>
                  <a:pt x="21600" y="0"/>
                </a:lnTo>
                <a:lnTo>
                  <a:pt x="21600" y="24682"/>
                </a:lnTo>
                <a:lnTo>
                  <a:pt x="0" y="24682"/>
                </a:lnTo>
                <a:close/>
              </a:path>
              <a:path fill="lightenLess" w="21600" h="24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2">
                <a:moveTo>
                  <a:pt x="21600" y="0"/>
                </a:moveTo>
                <a:lnTo>
                  <a:pt x="21600" y="24682"/>
                </a:lnTo>
                <a:lnTo>
                  <a:pt x="20200" y="23282"/>
                </a:lnTo>
                <a:lnTo>
                  <a:pt x="20200" y="1400"/>
                </a:lnTo>
                <a:close/>
              </a:path>
              <a:path fill="darkenLess" w="21600" h="24682">
                <a:moveTo>
                  <a:pt x="21600" y="24682"/>
                </a:moveTo>
                <a:lnTo>
                  <a:pt x="0" y="24682"/>
                </a:lnTo>
                <a:lnTo>
                  <a:pt x="1400" y="23282"/>
                </a:lnTo>
                <a:lnTo>
                  <a:pt x="20200" y="23282"/>
                </a:lnTo>
                <a:close/>
              </a:path>
              <a:path fill="lighten" w="21600" h="24682">
                <a:moveTo>
                  <a:pt x="0" y="24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2"/>
                </a:lnTo>
                <a:close/>
              </a:path>
              <a:path fill="darken" w="21600" h="24682">
                <a:moveTo>
                  <a:pt x="3794" y="12341"/>
                </a:moveTo>
                <a:lnTo>
                  <a:pt x="17806" y="5334"/>
                </a:lnTo>
                <a:lnTo>
                  <a:pt x="17806" y="1934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l finalitzar el mes he estalviat 50 euros.Si he gastat 239,5 euros en menjar, 50,8 euros en el vestir i 300 euros en altres despeses, quin és el meu sou dia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2960" y="2754360"/>
            <a:ext cx="7856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040" y="28386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6934320" y="480060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2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2"/>
                </a:lnTo>
                <a:lnTo>
                  <a:pt x="20200" y="26372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2"/>
                </a:lnTo>
                <a:close/>
              </a:path>
              <a:path fill="darken" w="21600" h="27772">
                <a:moveTo>
                  <a:pt x="3794" y="13886"/>
                </a:moveTo>
                <a:lnTo>
                  <a:pt x="17806" y="6880"/>
                </a:lnTo>
                <a:lnTo>
                  <a:pt x="17806" y="2089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457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l finalitzar el mes he estalviat 50 euros.Si he gastat 239,5 euros en menjar, 50,8 euros en el vestir i 300 euros en altres despeses, quin és el meu sou dia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480" y="2743200"/>
            <a:ext cx="229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6934320" y="4343400"/>
            <a:ext cx="1295280" cy="144792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920"/>
              <a:gd name="textAreaBottom" fmla="*/ 1364040 h 1447920"/>
            </a:gdLst>
            <a:ahLst/>
            <a:rect l="textAreaLeft" t="textAreaTop" r="textAreaRight" b="textAreaBottom"/>
            <a:pathLst>
              <a:path w="21600" h="24145">
                <a:moveTo>
                  <a:pt x="0" y="0"/>
                </a:moveTo>
                <a:lnTo>
                  <a:pt x="21600" y="0"/>
                </a:lnTo>
                <a:lnTo>
                  <a:pt x="21600" y="24145"/>
                </a:lnTo>
                <a:lnTo>
                  <a:pt x="0" y="24145"/>
                </a:lnTo>
                <a:close/>
              </a:path>
              <a:path fill="lightenLess" w="21600" h="24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5">
                <a:moveTo>
                  <a:pt x="21600" y="0"/>
                </a:moveTo>
                <a:lnTo>
                  <a:pt x="21600" y="24145"/>
                </a:lnTo>
                <a:lnTo>
                  <a:pt x="20200" y="22745"/>
                </a:lnTo>
                <a:lnTo>
                  <a:pt x="20200" y="1400"/>
                </a:lnTo>
                <a:close/>
              </a:path>
              <a:path fill="darkenLess" w="21600" h="24145">
                <a:moveTo>
                  <a:pt x="21600" y="24145"/>
                </a:moveTo>
                <a:lnTo>
                  <a:pt x="0" y="24145"/>
                </a:lnTo>
                <a:lnTo>
                  <a:pt x="1400" y="22745"/>
                </a:lnTo>
                <a:lnTo>
                  <a:pt x="20200" y="22745"/>
                </a:lnTo>
                <a:close/>
              </a:path>
              <a:path fill="lighten" w="21600" h="24145">
                <a:moveTo>
                  <a:pt x="0" y="24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5"/>
                </a:lnTo>
                <a:close/>
              </a:path>
              <a:path fill="darken" w="21600" h="24145">
                <a:moveTo>
                  <a:pt x="3794" y="12072"/>
                </a:moveTo>
                <a:lnTo>
                  <a:pt x="17806" y="5066"/>
                </a:lnTo>
                <a:lnTo>
                  <a:pt x="17806" y="1907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l finalitzar el mes he estalviat 50 euros.Si he gastat 239,5 euros en menjar, 50,8 euros en el vestir i 300 euros en altres despeses, quin és el meu sou dia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7800" y="2133720"/>
            <a:ext cx="643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39,5+50,8+300+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640,3: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162920" y="4343400"/>
            <a:ext cx="1371600" cy="144792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447920"/>
              <a:gd name="textAreaBottom" fmla="*/ 1359000 h 1447920"/>
            </a:gdLst>
            <a:ahLst/>
            <a:rect l="textAreaLeft" t="textAreaTop" r="textAreaRight" b="textAreaBottom"/>
            <a:pathLst>
              <a:path w="21600" h="22802">
                <a:moveTo>
                  <a:pt x="0" y="0"/>
                </a:moveTo>
                <a:lnTo>
                  <a:pt x="21600" y="0"/>
                </a:lnTo>
                <a:lnTo>
                  <a:pt x="21600" y="22802"/>
                </a:lnTo>
                <a:lnTo>
                  <a:pt x="0" y="22802"/>
                </a:lnTo>
                <a:close/>
              </a:path>
              <a:path fill="lightenLess" w="21600" h="22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2">
                <a:moveTo>
                  <a:pt x="21600" y="0"/>
                </a:moveTo>
                <a:lnTo>
                  <a:pt x="21600" y="22802"/>
                </a:lnTo>
                <a:lnTo>
                  <a:pt x="20200" y="21402"/>
                </a:lnTo>
                <a:lnTo>
                  <a:pt x="20200" y="1400"/>
                </a:lnTo>
                <a:close/>
              </a:path>
              <a:path fill="darkenLess" w="21600" h="22802">
                <a:moveTo>
                  <a:pt x="21600" y="22802"/>
                </a:moveTo>
                <a:lnTo>
                  <a:pt x="0" y="22802"/>
                </a:lnTo>
                <a:lnTo>
                  <a:pt x="1400" y="21402"/>
                </a:lnTo>
                <a:lnTo>
                  <a:pt x="20200" y="21402"/>
                </a:lnTo>
                <a:close/>
              </a:path>
              <a:path fill="lighten" w="21600" h="22802">
                <a:moveTo>
                  <a:pt x="0" y="22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2"/>
                </a:lnTo>
                <a:close/>
              </a:path>
              <a:path fill="darken" w="21600" h="22802">
                <a:moveTo>
                  <a:pt x="3794" y="11401"/>
                </a:moveTo>
                <a:lnTo>
                  <a:pt x="17806" y="4394"/>
                </a:lnTo>
                <a:lnTo>
                  <a:pt x="17806" y="1840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l finalitzar el mes he estalviat 50 euros.Si he gastat 239,5 euros en menjar, 50,8 euros en el vestir i 300 euros en altres despeses, quin és el meu sou dia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7800" y="2057400"/>
            <a:ext cx="858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39,5+50,8+300+50=640,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640,3:30=21,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7162920" y="4495680"/>
            <a:ext cx="1295280" cy="15242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524240"/>
              <a:gd name="textAreaBottom" fmla="*/ 1440360 h 1524240"/>
            </a:gdLst>
            <a:ahLst/>
            <a:rect l="textAreaLeft" t="textAreaTop" r="textAreaRight" b="textAreaBottom"/>
            <a:pathLst>
              <a:path w="21600" h="25417">
                <a:moveTo>
                  <a:pt x="0" y="0"/>
                </a:moveTo>
                <a:lnTo>
                  <a:pt x="21600" y="0"/>
                </a:lnTo>
                <a:lnTo>
                  <a:pt x="21600" y="25417"/>
                </a:lnTo>
                <a:lnTo>
                  <a:pt x="0" y="25417"/>
                </a:lnTo>
                <a:close/>
              </a:path>
              <a:path fill="lightenLess" w="21600" h="25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17">
                <a:moveTo>
                  <a:pt x="21600" y="0"/>
                </a:moveTo>
                <a:lnTo>
                  <a:pt x="21600" y="25417"/>
                </a:lnTo>
                <a:lnTo>
                  <a:pt x="20200" y="24017"/>
                </a:lnTo>
                <a:lnTo>
                  <a:pt x="20200" y="1400"/>
                </a:lnTo>
                <a:close/>
              </a:path>
              <a:path fill="darkenLess" w="21600" h="25417">
                <a:moveTo>
                  <a:pt x="21600" y="25417"/>
                </a:moveTo>
                <a:lnTo>
                  <a:pt x="0" y="25417"/>
                </a:lnTo>
                <a:lnTo>
                  <a:pt x="1400" y="24017"/>
                </a:lnTo>
                <a:lnTo>
                  <a:pt x="20200" y="24017"/>
                </a:lnTo>
                <a:close/>
              </a:path>
              <a:path fill="lighten" w="21600" h="25417">
                <a:moveTo>
                  <a:pt x="0" y="25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17"/>
                </a:lnTo>
                <a:close/>
              </a:path>
              <a:path fill="darken" w="21600" h="25417">
                <a:moveTo>
                  <a:pt x="3794" y="12709"/>
                </a:moveTo>
                <a:lnTo>
                  <a:pt x="17806" y="5702"/>
                </a:lnTo>
                <a:lnTo>
                  <a:pt x="17806" y="19715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72960" y="380880"/>
            <a:ext cx="84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l finalitzar el mes he estalviat 50 euros.Si he gastat 239,5 euros en menjar, 50,8 euros en el vestir i 300 euros en altres despeses, quin és el meu sou dia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057400"/>
            <a:ext cx="711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1r: He de saber quant he gastat i estalviat alhora i sabré el meu guany mensual (30 die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2n: He de trobar aquest guany per un d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238880" y="5181480"/>
            <a:ext cx="1295640" cy="106704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6226" h="21600">
                <a:moveTo>
                  <a:pt x="0" y="0"/>
                </a:moveTo>
                <a:lnTo>
                  <a:pt x="26226" y="0"/>
                </a:lnTo>
                <a:lnTo>
                  <a:pt x="26226" y="21600"/>
                </a:lnTo>
                <a:lnTo>
                  <a:pt x="0" y="21600"/>
                </a:lnTo>
                <a:close/>
              </a:path>
              <a:path fill="lightenLess" w="26226" h="21600">
                <a:moveTo>
                  <a:pt x="0" y="0"/>
                </a:moveTo>
                <a:lnTo>
                  <a:pt x="26226" y="0"/>
                </a:lnTo>
                <a:lnTo>
                  <a:pt x="24826" y="1400"/>
                </a:lnTo>
                <a:lnTo>
                  <a:pt x="1400" y="1400"/>
                </a:lnTo>
                <a:close/>
              </a:path>
              <a:path fill="darken" w="26226" h="21600">
                <a:moveTo>
                  <a:pt x="26226" y="0"/>
                </a:moveTo>
                <a:lnTo>
                  <a:pt x="26226" y="21600"/>
                </a:lnTo>
                <a:lnTo>
                  <a:pt x="24826" y="20200"/>
                </a:lnTo>
                <a:lnTo>
                  <a:pt x="24826" y="1400"/>
                </a:lnTo>
                <a:close/>
              </a:path>
              <a:path fill="darkenLess" w="26226" h="21600">
                <a:moveTo>
                  <a:pt x="26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6" y="20200"/>
                </a:lnTo>
                <a:close/>
              </a:path>
              <a:path fill="lighten" w="26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6" h="21600">
                <a:moveTo>
                  <a:pt x="6107" y="10800"/>
                </a:moveTo>
                <a:lnTo>
                  <a:pt x="20119" y="3794"/>
                </a:lnTo>
                <a:lnTo>
                  <a:pt x="2011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304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l finalitzar el mes he estalviat 50 euros.Si he gastat 239,5 euros en menjar, 50,8 euros en el vestir i 300 euros en altres despeses, quin és el meu sou dia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5320" y="2133720"/>
            <a:ext cx="815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(239,5+50,8+300+50):3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6400800" y="4724280"/>
            <a:ext cx="1066680" cy="16002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600200"/>
              <a:gd name="textAreaBottom" fmla="*/ 1531080 h 16002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16200"/>
                </a:moveTo>
                <a:lnTo>
                  <a:pt x="17806" y="9194"/>
                </a:lnTo>
                <a:lnTo>
                  <a:pt x="17806" y="232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1:52:37Z</dcterms:created>
  <dc:creator>Daniel</dc:creator>
  <dc:description/>
  <dc:language>en-US</dc:language>
  <cp:lastModifiedBy>Daniel</cp:lastModifiedBy>
  <dcterms:modified xsi:type="dcterms:W3CDTF">2002-08-24T22:41:12Z</dcterms:modified>
  <cp:revision>33</cp:revision>
  <dc:subject/>
  <dc:title>Sin título de diapositiva</dc:title>
</cp:coreProperties>
</file>