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D38-1A66-442E-BBDA-CA651161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B67-5AB6-40E1-9DCE-25094415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4A7-68E3-4245-B87D-88D70662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B04-DDBC-48D6-B955-DFAEF87E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197-BD9F-402E-A128-C77A12B6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F54-D2A4-4B9B-9C1E-D1B6AF93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18B-31FF-4D5D-9A82-20DAC7CA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ED5-784F-43C2-9730-BFD9E6E2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7D8-349C-4D56-90A7-245E0B20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83D-54AB-482E-84E9-E89ADDAA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345A-99C3-4CDE-895A-62849432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741-3530-4517-80EF-D65D855A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23A6-BE23-4167-B765-0EBA998AC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495680"/>
            <a:ext cx="1463760" cy="169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98108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4000" y="212400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61240" y="208908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60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77960" y="2362320"/>
            <a:ext cx="59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48822,5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373392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449568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5720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572000" y="3886200"/>
            <a:ext cx="2313000" cy="5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572000" y="464832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57200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572000" y="601992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457200"/>
            <a:ext cx="861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 pressupost d'un ajuntament és de 389.221'5 euros. S'inverteixen 140.399 euros en obres i la resta en manteniment. Quan s'inverteix en manteni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520" y="304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pressupost d'un ajuntament és de 389.221'5 euros. S'inverteixen 140.399 euros en obres i la resta en manteniment. Quan s'inverteix en manteni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2320" y="2286000"/>
            <a:ext cx="5930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ssupost=389221,5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Obres=140399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anteniment=res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anteniment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854280" cy="777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265400" y="2711520"/>
            <a:ext cx="6611760" cy="1434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4572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pressupost d'un ajuntament és de 389.221'5 euros. S'inverteixen 140.399 euros en obres i la resta en manteniment. Quan s'inverteix en manteni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pressupost d'un ajuntament és de 389.221'5 euros. S'inverteixen 140.399 euros en obres i la resta en manteniment. Quan s'inverteix en manteni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560" y="2819520"/>
            <a:ext cx="200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pressupost d'un ajuntament és de 389.221'5 euros. S'inverteixen 140.399 euros en obres i la resta en manteniment. Quan s'inverteix en manteni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30240" y="3048120"/>
            <a:ext cx="557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89221,5-14039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4572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pressupost d'un ajuntament és de 389.221'5 euros. S'inverteixen 140.399 euros en obres i la resta en manteniment. Quan s'inverteix en manteni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8954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389221,5-140399=248822,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4572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pressupost d'un ajuntament és de 389.221'5 euros. S'inverteixen 140.399 euros en obres i la resta en manteniment. Quan s'inverteix en manteni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13372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els diners que sobren després de la despesa per obres, i serà el que s'ha invertit per manten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5335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pressupost d'un ajuntament és de 389.221'5 euros. S'inverteixen 140.399 euros en obres i la resta en manteniment. Quan s'inverteix en manteni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3920" y="2895480"/>
            <a:ext cx="557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89221,5-14039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22:13:11Z</dcterms:created>
  <dc:creator>Daniel</dc:creator>
  <dc:description/>
  <dc:language>en-US</dc:language>
  <cp:lastModifiedBy>Daniel</cp:lastModifiedBy>
  <dcterms:modified xsi:type="dcterms:W3CDTF">2002-10-24T20:57:16Z</dcterms:modified>
  <cp:revision>17</cp:revision>
  <dc:subject/>
  <dc:title>Sin título de diapositiva</dc:title>
</cp:coreProperties>
</file>