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1EEE-D149-4E27-A67F-95D44A27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E6AD-999F-45DF-A07E-713D6E4E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3515-4FA3-4CF1-9D82-062F6905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F454-F28C-4F90-925A-22624850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1C00-CDB8-42A8-87EE-18846E3E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B865-7FDD-46D6-9C46-15A0A6FB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D0BB-7D6A-4AF4-AF75-440A8A95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FBA1-31C0-4460-AEC5-7A2FD90A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0524-28C2-4DD2-AB21-CCD2C6D0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EF47-F021-4B2C-BA22-A73ABC1B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48A8-2147-438A-9BB6-B941FBE4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BF0F-2509-4330-AD37-DD24A4BE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856D-B719-4A5A-8899-8F72A1F42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39960" y="2878200"/>
            <a:ext cx="72640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5600" y="220968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</a:t>
            </a: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 (63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86200" y="4419720"/>
            <a:ext cx="1469880" cy="16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10080"/>
            <a:ext cx="904680" cy="828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830240" y="2133720"/>
            <a:ext cx="597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2712,5 Tm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403848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0880" y="4724280"/>
            <a:ext cx="2706840" cy="542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22860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 camió transporta 12.500 Kg de terra en cada viatge. Si en un mes ha fet 217 viatges, quantes tones de terra ha transportat en total?(1 Tm= 1000 K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80880" y="541008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80880" y="609588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410080" y="3886200"/>
            <a:ext cx="230688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410080" y="4572000"/>
            <a:ext cx="179892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410080" y="525780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410080" y="6019920"/>
            <a:ext cx="191772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10080"/>
            <a:ext cx="904680" cy="828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457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camió transporta 12.500 Kg de terra en cada viatge. Si en un mes ha fet 217 viatges, quantes tones de terra ha transportat en total?(1 Tm= 1000 K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2286000"/>
            <a:ext cx="5016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Viatge=12500K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1 mes=217 viatg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1 Tm= 1000 K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Tones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10080"/>
            <a:ext cx="904680" cy="828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3808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camió transporta 12.500 Kg de terra en cada viatge. Si en un mes ha fet 217 viatges, quantes tones de terra ha transportat en total?(1 Tm= 1000 K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6400" y="3584520"/>
            <a:ext cx="8037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4600" y="243828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10080"/>
            <a:ext cx="904680" cy="828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492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camió transporta 12.500 Kg de terra en cada viatge. Si en un mes ha fet 217 viatges, quantes tones de terra ha transportat en total?(1 Tm= 1000 K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4760" y="2590920"/>
            <a:ext cx="449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10080"/>
            <a:ext cx="904680" cy="828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304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camió transporta 12.500 Kg de terra en cada viatge. Si en un mes ha fet 217 viatges, quantes tones de terra ha transportat en total?(1 Tm= 1000 K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6560" y="2514600"/>
            <a:ext cx="360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2500x21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500:1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10080"/>
            <a:ext cx="904680" cy="828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860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camió transporta 12.500 Kg de terra en cada viatge. Si en un mes ha fet 217 viatges, quantes tones de terra ha transportat en total?(1 Tm= 1000 K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3400" y="2438280"/>
            <a:ext cx="671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2500x217=27125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500:1000=2712,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10080"/>
            <a:ext cx="904680" cy="828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4572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camió transporta 12.500 Kg de terra en cada viatge. Si en un mes ha fet 217 viatges, quantes tones de terra ha transportat en total?(1 Tm= 1000 K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251460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Trobar el nº de Kg transportats en total (217 viatg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Passar el nº de kilos a Tm.sabent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 Tm= 1000 K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10080"/>
            <a:ext cx="904680" cy="828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457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camió transporta 12.500 Kg de terra en cada viatge. Si en un mes ha fet 217 viatges, quantes tones de terra ha transportat en total?(1 Tm= 1000 K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4960" y="2438280"/>
            <a:ext cx="589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(12500x217):1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23:03:12Z</dcterms:created>
  <dc:creator>Daniel</dc:creator>
  <dc:description/>
  <dc:language>en-US</dc:language>
  <cp:lastModifiedBy>Daniel</cp:lastModifiedBy>
  <dcterms:modified xsi:type="dcterms:W3CDTF">2002-11-05T22:58:56Z</dcterms:modified>
  <cp:revision>18</cp:revision>
  <dc:subject/>
  <dc:title>Sin título de diapositiva</dc:title>
</cp:coreProperties>
</file>