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C09-E0A8-4BDC-AF7C-1038BADC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38F-E912-4373-8591-0AB48383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44B1-3FE1-4633-8540-20A4ADE6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751-1562-4929-919B-52F347D1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CD6-6535-4668-B9B6-75B9C0C6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20CF-EAC6-4E18-8ED9-5FB10C1A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5387-B514-405F-82DC-BE6CF7B6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A76C-FA11-4ABD-A442-1EBB6BF2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3A7-B496-4759-886D-BB11F6D9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F88-E785-4E72-9DD4-AC34093F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B96-4947-425F-A705-B556B36E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F08-A7CC-4E06-8CC7-C865BDD0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3DB5-86C6-4F87-A9C2-E6FFD4010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3160" y="287496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45560" y="301788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2440" y="298296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22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114800" y="4572000"/>
            <a:ext cx="146376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059560" y="2514600"/>
            <a:ext cx="458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420 Km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350532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2120" y="4267080"/>
            <a:ext cx="2700360" cy="53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62120" y="5105520"/>
            <a:ext cx="141588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62120" y="5943600"/>
            <a:ext cx="184140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410080" y="3505320"/>
            <a:ext cx="230040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410080" y="434340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410080" y="5181480"/>
            <a:ext cx="3395880" cy="53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410080" y="5943600"/>
            <a:ext cx="1911600" cy="53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228600"/>
            <a:ext cx="8381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a moto va a 80 Km per hora; una altra surt 6 hores més tard a 90 Km/hora. Després de 12 hores d'arrencar la primera, a quina distància es troben una de l'altr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3760" y="1878120"/>
            <a:ext cx="6258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V 1ª moto- 80 Km/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V 2ª moto- 90 Km/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Sortida 2ª moto- 6 h ta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Temps 1ª moto- 12 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Distància entre motos-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8120" y="304920"/>
            <a:ext cx="847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moto va a 80 Km per hora; una altra surt 6 hores més tard a 90 Km/hora. Després de 12 hores d'arrencar la primera, a quina distància es troben una de l'alt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86400"/>
            <a:ext cx="860400" cy="784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50720" y="2438280"/>
            <a:ext cx="8693280" cy="1440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04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moto va a 80 Km per hora; una altra surt 6 hores més tard a 90 Km/hora. Després de 12 hores d'arrencar la primera, a quina distància es troben una de l'alt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42640" y="2286000"/>
            <a:ext cx="449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80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moto va a 80 Km per hora; una altra surt 6 hores més tard a 90 Km/hora. Després de 12 hores d'arrencar la primera, a quina distància es troben una de l'alt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68120" y="2209680"/>
            <a:ext cx="291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80x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0x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60-54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286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moto va a 80 Km per hora; una altra surt 6 hores més tard a 90 Km/hora. Després de 12 hores d'arrencar la primera, a quina distància es troben una de l'alt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25680" y="2133720"/>
            <a:ext cx="448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80x12=96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0x6=54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60-540=42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80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moto va a 80 Km per hora; una altra surt 6 hores més tard a 90 Km/hora. Després de 12 hores d'arrencar la primera, a quina distància es troben una de l'alt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9480" y="2057400"/>
            <a:ext cx="815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1r: S'ha de trobar la distància recorreguda al cap de 12 hores per la primera mo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2n: S'ha de trobar la distància recorreguda per la segona moto al cap de 6 h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3r: S'ha de trobar la diferència de recorreguts entre una i altra mo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80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moto va a 80 Km per hora; una altra surt 6 hores més tard a 90 Km/hora. Després de 12 hores d'arrencar la primera, a quina distància es troben una de l'alt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486400"/>
            <a:ext cx="860400" cy="784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76880" y="2971800"/>
            <a:ext cx="507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80x12)-(90x6)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380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moto va a 80 Km per hora; una altra surt 6 hores més tard a 90 Km/hora. Després de 12 hores d'arrencar la primera, a quina distància es troben una de l'alt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20:50:07Z</dcterms:created>
  <dc:creator>Daniel</dc:creator>
  <dc:description/>
  <dc:language>en-US</dc:language>
  <cp:lastModifiedBy>Daniel</cp:lastModifiedBy>
  <dcterms:modified xsi:type="dcterms:W3CDTF">2002-08-29T17:11:04Z</dcterms:modified>
  <cp:revision>16</cp:revision>
  <dc:subject/>
  <dc:title>Sin título de diapositiva</dc:title>
</cp:coreProperties>
</file>