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546-C2C8-4485-ACF2-68C1B4F1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8BF-9FB6-4CF2-A0B7-F969E804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397F-47C6-4740-96FC-3D2CBC19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407-27EE-4770-A2FE-A6DB1F06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2C4-D426-4CD8-980C-49099F61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7D7-E375-4042-83F3-510F1BF9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F8F-88B5-4A24-9EBB-E4007841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F86-454C-444A-88F1-76398736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6AB-00BF-4C24-95E0-5634C63D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CB2-1EE8-47F2-803C-45CCF9A5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3FB-C9C0-444E-B6AB-EB16F6E9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98D-AABB-4A46-9E8D-2F9DB427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ACF3-0048-4BF8-8124-EA64F0704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695680"/>
            <a:ext cx="7264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44160" y="283860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9240" y="280368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93880" y="2803680"/>
            <a:ext cx="1817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72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657600" y="449568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562720"/>
            <a:ext cx="955440" cy="879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59560" y="2819520"/>
            <a:ext cx="549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6,316 Km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396252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90720" y="4648320"/>
            <a:ext cx="270648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9072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99072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10080" y="403848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10080" y="464832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1008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410080" y="594360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38088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 distància que separa dues ciutats és de 35 Km. Si hem recorregut 25 Km, 36 hm, 8 dam, 4 m, quina distància ens falta recórrer encar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562720"/>
            <a:ext cx="955440" cy="879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838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distància que separa dues ciutats és de 35 Km. Si hem recorregut 25 Km, 36 hm, 8 dam, 4 m, quina distància ens falta recórre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8954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Distància entre ciutats=35 K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Distància recorreguda=25 Km, 36 hm, 8 dam i 4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Distància que falta=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562720"/>
            <a:ext cx="955440" cy="879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271152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6880" y="28195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609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distància que separa dues ciutats és de 35 Km. Si hem recorregut 25 Km, 36 hm, 8 dam, 4 m, quina distància ens falta recórre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562720"/>
            <a:ext cx="955440" cy="879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380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distància que separa dues ciutats és de 35 Km. Si hem recorregut 25 Km, 36 hm, 8 dam, 4 m, quina distància ens falta recórre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9520" y="1752480"/>
            <a:ext cx="2425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562720"/>
            <a:ext cx="955440" cy="879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533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distància que separa dues ciutats és de 35 Km. Si hem recorregut 25 Km, 36 hm, 8 dam, 4 m, quina distància ens falta recórre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21120" y="1974960"/>
            <a:ext cx="5033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36: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8: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4: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3,6+0,08+0,004+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35-28,68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562720"/>
            <a:ext cx="955440" cy="879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7621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distància que separa dues ciutats és de 35 Km. Si hem recorregut 25 Km, 36 hm, 8 dam, 4 m, quina distància ens falta recórre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1880" y="2384280"/>
            <a:ext cx="5916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36:10=3,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8:100= 0,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4:1000= 0,0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3,6+0,08+0,004+25=28,6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35-28,684=6,3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562720"/>
            <a:ext cx="955440" cy="879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685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distància que separa dues ciutats és de 35 Km. Si hem recorregut 25 Km, 36 hm, 8 dam, 4 m, quina distància ens falta recórre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666880"/>
            <a:ext cx="830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passar la distància recorreguda a Km. (36 hm a Km; 8 dam a Km; 4 m a Km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Restar-ho de la distància total que separa les ciutats, per saber quant fal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562720"/>
            <a:ext cx="955440" cy="879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4572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distància que separa dues ciutats és de 35 Km. Si hem recorregut 25 Km, 36 hm, 8 dam, 4 m, quina distància ens falta recórre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0760" y="2971800"/>
            <a:ext cx="855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35-(25+36:10+8:100+4:1000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23:24:51Z</dcterms:created>
  <dc:creator>Daniel</dc:creator>
  <dc:description/>
  <dc:language>en-US</dc:language>
  <cp:lastModifiedBy>Daniel</cp:lastModifiedBy>
  <dcterms:modified xsi:type="dcterms:W3CDTF">2002-12-27T12:28:10Z</dcterms:modified>
  <cp:revision>14</cp:revision>
  <dc:subject/>
  <dc:title>Sin título de diapositiva</dc:title>
</cp:coreProperties>
</file>