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59C-4CE4-4580-A746-87896A51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583-618F-4C66-9D7A-158164F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CBB-D7BA-493C-B848-7096825C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8DD-17BE-4902-A1BF-BBD3E59B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84B-D1D3-4F26-8442-64A391CD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C24-59DA-42F8-AC3E-72EB96D3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D39-15AA-41D3-9A34-247B219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AE5-E1EF-43D2-9547-F724CCB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1E8-5676-48EC-B462-617C0E1A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8A6-A97C-4116-A75C-A2DA4A0D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E60-6E6D-4A63-BBCB-D1817C8A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984-CB58-4DB7-BE7A-57B84DCE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BE53-CCBF-46F0-A05F-C3284E796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70240" cy="169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" y="-30168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240" y="115884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112392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9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7640" y="2514600"/>
            <a:ext cx="464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40 litr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10552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867280"/>
            <a:ext cx="184176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24280" y="35812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2428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724280" y="510552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724280" y="579132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762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nim 3 garrafes d'aigua de 10 l cadascuna i 2 garrafes de 5 l cadascuna. Quants litres d'aigua ten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1200" y="2057400"/>
            <a:ext cx="4575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arrafa I=30 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garrafes I=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arrafa II=5 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garrafes II=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litres total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3352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nim 3 garrafes d'aigua de 10 l cadascuna i 2 garrafes de 5 l cadascuna. Quants litres d'aigua t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720" y="2286000"/>
            <a:ext cx="869328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6094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nim 3 garrafes d'aigua de 10 l cadascuna i 2 garrafes de 5 l cadascuna. Quants litres d'aigua t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560" y="243828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7621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nim 3 garrafes d'aigua de 10 l cadascuna i 2 garrafes de 5 l cadascuna. Quants litres d'aigua t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64120" y="2133720"/>
            <a:ext cx="213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0+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457200"/>
            <a:ext cx="853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nim 3 garrafes d'aigua de 10 l cadascuna i 2 garrafes de 5 l cadascuna. Quants litres d'aigua t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50080" y="2362320"/>
            <a:ext cx="333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10=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5=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0+10=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609480"/>
            <a:ext cx="83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nim 3 garrafes d'aigua de 10 l cadascuna i 2 garrafes de 5 l cadascuna. Quants litres d'aigua t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82880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s litres d'aigua de les garrafes de 30 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Trobar els litres de les garrafes de 5 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Trobar el nombre total de li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76212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nim 3 garrafes d'aigua de 10 l cadascuna i 2 garrafes de 5 l cadascuna. Quants litres d'aigua t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9200" y="2971800"/>
            <a:ext cx="328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10+2x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45720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nim 3 garrafes d'aigua de 10 l cadascuna i 2 garrafes de 5 l cadascuna. Quants litres d'aigua t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22:20Z</dcterms:created>
  <dc:creator>Daniel</dc:creator>
  <dc:description/>
  <dc:language>en-US</dc:language>
  <cp:lastModifiedBy>Daniel</cp:lastModifiedBy>
  <dcterms:modified xsi:type="dcterms:W3CDTF">2002-08-30T22:21:05Z</dcterms:modified>
  <cp:revision>15</cp:revision>
  <dc:subject/>
  <dc:title>Sin título de diapositiva</dc:title>
</cp:coreProperties>
</file>