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BFA-72B8-4E26-AB1E-0F452F09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8C5-DCC3-44E4-8108-6D62F4B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44D-B34D-4E8D-A20B-0D98103C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135-4FAE-4957-ADF3-0E942F68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BA2-998A-4077-BBB4-96784BD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62B-7A5A-464E-9F2D-86C7B6B7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DFD-DF52-4ADB-B25E-65CAF5DE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89A-69E9-4CFD-805C-0B6CE0E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2C7-ED03-42A8-9EA0-604D0E6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660-7FBA-475D-93D6-7096963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09C-F5AF-45A4-9177-4C70020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652-A609-4CA1-8FA9-A628394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D5F8-EF8B-46B6-98E2-077E5229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2040" y="3019320"/>
            <a:ext cx="5264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(3)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581280" y="4724280"/>
            <a:ext cx="1371600" cy="16002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600200"/>
              <a:gd name="textAreaBottom" fmla="*/ 1511280 h 1600200"/>
            </a:gdLst>
            <a:ahLst/>
            <a:rect l="textAreaLeft" t="textAreaTop" r="textAreaRight" b="textAreaBottom"/>
            <a:pathLst>
              <a:path w="21600" h="25199">
                <a:moveTo>
                  <a:pt x="0" y="0"/>
                </a:moveTo>
                <a:lnTo>
                  <a:pt x="21600" y="0"/>
                </a:lnTo>
                <a:lnTo>
                  <a:pt x="21600" y="25199"/>
                </a:lnTo>
                <a:lnTo>
                  <a:pt x="0" y="25199"/>
                </a:lnTo>
                <a:close/>
              </a:path>
              <a:path fill="lightenLess" w="21600" h="25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9">
                <a:moveTo>
                  <a:pt x="21600" y="0"/>
                </a:moveTo>
                <a:lnTo>
                  <a:pt x="21600" y="25199"/>
                </a:lnTo>
                <a:lnTo>
                  <a:pt x="20200" y="23799"/>
                </a:lnTo>
                <a:lnTo>
                  <a:pt x="20200" y="1400"/>
                </a:lnTo>
                <a:close/>
              </a:path>
              <a:path fill="darkenLess" w="21600" h="25199">
                <a:moveTo>
                  <a:pt x="21600" y="25199"/>
                </a:moveTo>
                <a:lnTo>
                  <a:pt x="0" y="25199"/>
                </a:lnTo>
                <a:lnTo>
                  <a:pt x="1400" y="23799"/>
                </a:lnTo>
                <a:lnTo>
                  <a:pt x="20200" y="23799"/>
                </a:lnTo>
                <a:close/>
              </a:path>
              <a:path fill="lighten" w="21600" h="25199">
                <a:moveTo>
                  <a:pt x="0" y="25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9"/>
                </a:lnTo>
                <a:close/>
              </a:path>
              <a:path fill="darken" w="21600" h="25199">
                <a:moveTo>
                  <a:pt x="10800" y="5637"/>
                </a:moveTo>
                <a:lnTo>
                  <a:pt x="13376" y="8248"/>
                </a:lnTo>
                <a:lnTo>
                  <a:pt x="13376" y="6507"/>
                </a:lnTo>
                <a:lnTo>
                  <a:pt x="15152" y="6507"/>
                </a:lnTo>
                <a:lnTo>
                  <a:pt x="15152" y="10023"/>
                </a:lnTo>
                <a:lnTo>
                  <a:pt x="17763" y="12600"/>
                </a:lnTo>
                <a:lnTo>
                  <a:pt x="16109" y="12600"/>
                </a:lnTo>
                <a:lnTo>
                  <a:pt x="16109" y="19789"/>
                </a:lnTo>
                <a:lnTo>
                  <a:pt x="5491" y="19789"/>
                </a:lnTo>
                <a:lnTo>
                  <a:pt x="5491" y="12600"/>
                </a:lnTo>
                <a:lnTo>
                  <a:pt x="3837" y="12600"/>
                </a:lnTo>
                <a:close/>
              </a:path>
              <a:path fill="darkenLess" w="21600" h="25199">
                <a:moveTo>
                  <a:pt x="13376" y="8248"/>
                </a:moveTo>
                <a:lnTo>
                  <a:pt x="13376" y="6507"/>
                </a:lnTo>
                <a:lnTo>
                  <a:pt x="15152" y="6507"/>
                </a:lnTo>
                <a:lnTo>
                  <a:pt x="15152" y="10023"/>
                </a:lnTo>
                <a:close/>
              </a:path>
              <a:path fill="darkenLess" w="21600" h="25199">
                <a:moveTo>
                  <a:pt x="9877" y="16098"/>
                </a:moveTo>
                <a:lnTo>
                  <a:pt x="11723" y="16098"/>
                </a:lnTo>
                <a:lnTo>
                  <a:pt x="11723" y="19789"/>
                </a:lnTo>
                <a:lnTo>
                  <a:pt x="16109" y="19789"/>
                </a:lnTo>
                <a:lnTo>
                  <a:pt x="16109" y="12600"/>
                </a:lnTo>
                <a:lnTo>
                  <a:pt x="5491" y="12600"/>
                </a:lnTo>
                <a:lnTo>
                  <a:pt x="5491" y="19789"/>
                </a:lnTo>
                <a:lnTo>
                  <a:pt x="9877" y="197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9560" y="2514600"/>
            <a:ext cx="48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0 ho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477120" y="464832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09480" y="60199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33526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8640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86400" y="49528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562720" y="60199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80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71840"/>
            <a:ext cx="601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r=25 hores-1500 K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2n= 15Km/h mé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emps 2n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781680" y="4648320"/>
            <a:ext cx="1371600" cy="167616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676160"/>
              <a:gd name="textAreaBottom" fmla="*/ 1587240 h 1676160"/>
            </a:gdLst>
            <a:ahLst/>
            <a:rect l="textAreaLeft" t="textAreaTop" r="textAreaRight" b="textAreaBottom"/>
            <a:pathLst>
              <a:path w="21600" h="26395">
                <a:moveTo>
                  <a:pt x="0" y="0"/>
                </a:moveTo>
                <a:lnTo>
                  <a:pt x="21600" y="0"/>
                </a:lnTo>
                <a:lnTo>
                  <a:pt x="21600" y="26395"/>
                </a:lnTo>
                <a:lnTo>
                  <a:pt x="0" y="26395"/>
                </a:lnTo>
                <a:close/>
              </a:path>
              <a:path fill="lightenLess" w="21600" h="26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5">
                <a:moveTo>
                  <a:pt x="21600" y="0"/>
                </a:moveTo>
                <a:lnTo>
                  <a:pt x="21600" y="26395"/>
                </a:lnTo>
                <a:lnTo>
                  <a:pt x="20200" y="24995"/>
                </a:lnTo>
                <a:lnTo>
                  <a:pt x="20200" y="1400"/>
                </a:lnTo>
                <a:close/>
              </a:path>
              <a:path fill="darkenLess" w="21600" h="26395">
                <a:moveTo>
                  <a:pt x="21600" y="26395"/>
                </a:moveTo>
                <a:lnTo>
                  <a:pt x="0" y="26395"/>
                </a:lnTo>
                <a:lnTo>
                  <a:pt x="1400" y="24995"/>
                </a:lnTo>
                <a:lnTo>
                  <a:pt x="20200" y="24995"/>
                </a:lnTo>
                <a:close/>
              </a:path>
              <a:path fill="lighten" w="21600" h="26395">
                <a:moveTo>
                  <a:pt x="0" y="26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5"/>
                </a:lnTo>
                <a:close/>
              </a:path>
              <a:path fill="darken" w="21600" h="26395">
                <a:moveTo>
                  <a:pt x="3794" y="13197"/>
                </a:moveTo>
                <a:lnTo>
                  <a:pt x="17806" y="6191"/>
                </a:lnTo>
                <a:lnTo>
                  <a:pt x="17806" y="2020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80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2708280"/>
            <a:ext cx="803772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781680" y="480060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12148"/>
                </a:moveTo>
                <a:lnTo>
                  <a:pt x="17806" y="5142"/>
                </a:lnTo>
                <a:lnTo>
                  <a:pt x="17806" y="1915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4440" y="2133720"/>
            <a:ext cx="242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400800" y="4952880"/>
            <a:ext cx="1371600" cy="129564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2866" h="21600">
                <a:moveTo>
                  <a:pt x="0" y="0"/>
                </a:moveTo>
                <a:lnTo>
                  <a:pt x="22866" y="0"/>
                </a:lnTo>
                <a:lnTo>
                  <a:pt x="22866" y="21600"/>
                </a:lnTo>
                <a:lnTo>
                  <a:pt x="0" y="21600"/>
                </a:lnTo>
                <a:close/>
              </a:path>
              <a:path fill="lightenLess" w="22866" h="21600">
                <a:moveTo>
                  <a:pt x="0" y="0"/>
                </a:moveTo>
                <a:lnTo>
                  <a:pt x="22866" y="0"/>
                </a:lnTo>
                <a:lnTo>
                  <a:pt x="21466" y="1400"/>
                </a:lnTo>
                <a:lnTo>
                  <a:pt x="1400" y="1400"/>
                </a:lnTo>
                <a:close/>
              </a:path>
              <a:path fill="darken" w="22866" h="21600">
                <a:moveTo>
                  <a:pt x="22866" y="0"/>
                </a:moveTo>
                <a:lnTo>
                  <a:pt x="22866" y="21600"/>
                </a:lnTo>
                <a:lnTo>
                  <a:pt x="21466" y="20200"/>
                </a:lnTo>
                <a:lnTo>
                  <a:pt x="21466" y="1400"/>
                </a:lnTo>
                <a:close/>
              </a:path>
              <a:path fill="darkenLess" w="22866" h="21600">
                <a:moveTo>
                  <a:pt x="22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66" y="20200"/>
                </a:lnTo>
                <a:close/>
              </a:path>
              <a:path fill="lighten" w="22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66" h="21600">
                <a:moveTo>
                  <a:pt x="4427" y="10800"/>
                </a:moveTo>
                <a:lnTo>
                  <a:pt x="18439" y="3794"/>
                </a:lnTo>
                <a:lnTo>
                  <a:pt x="1843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1640" y="2209680"/>
            <a:ext cx="272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500: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0+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500: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6858000" y="4724280"/>
            <a:ext cx="1219320" cy="14479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920"/>
              <a:gd name="textAreaBottom" fmla="*/ 1369080 h 1447920"/>
            </a:gdLst>
            <a:ahLst/>
            <a:rect l="textAreaLeft" t="textAreaTop" r="textAreaRight" b="textAreaBottom"/>
            <a:pathLst>
              <a:path w="21600" h="25648">
                <a:moveTo>
                  <a:pt x="0" y="0"/>
                </a:moveTo>
                <a:lnTo>
                  <a:pt x="21600" y="0"/>
                </a:lnTo>
                <a:lnTo>
                  <a:pt x="21600" y="25648"/>
                </a:lnTo>
                <a:lnTo>
                  <a:pt x="0" y="25648"/>
                </a:lnTo>
                <a:close/>
              </a:path>
              <a:path fill="lightenLess" w="21600" h="25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8">
                <a:moveTo>
                  <a:pt x="21600" y="0"/>
                </a:moveTo>
                <a:lnTo>
                  <a:pt x="21600" y="25648"/>
                </a:lnTo>
                <a:lnTo>
                  <a:pt x="20200" y="24248"/>
                </a:lnTo>
                <a:lnTo>
                  <a:pt x="20200" y="1400"/>
                </a:lnTo>
                <a:close/>
              </a:path>
              <a:path fill="darkenLess" w="21600" h="25648">
                <a:moveTo>
                  <a:pt x="21600" y="25648"/>
                </a:moveTo>
                <a:lnTo>
                  <a:pt x="0" y="25648"/>
                </a:lnTo>
                <a:lnTo>
                  <a:pt x="1400" y="24248"/>
                </a:lnTo>
                <a:lnTo>
                  <a:pt x="20200" y="24248"/>
                </a:lnTo>
                <a:close/>
              </a:path>
              <a:path fill="lighten" w="21600" h="25648">
                <a:moveTo>
                  <a:pt x="0" y="25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8"/>
                </a:lnTo>
                <a:close/>
              </a:path>
              <a:path fill="darken" w="21600" h="25648">
                <a:moveTo>
                  <a:pt x="3794" y="12824"/>
                </a:moveTo>
                <a:lnTo>
                  <a:pt x="17806" y="5818"/>
                </a:lnTo>
                <a:lnTo>
                  <a:pt x="17806" y="1983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7080" y="2133720"/>
            <a:ext cx="391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500:25=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0+15=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500:75=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238880" y="5029200"/>
            <a:ext cx="1295640" cy="1219320"/>
          </a:xfrm>
          <a:custGeom>
            <a:avLst/>
            <a:gdLst>
              <a:gd name="textAreaLeft" fmla="*/ 78840 w 1295640"/>
              <a:gd name="textAreaRight" fmla="*/ 1216800 w 12956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52" h="21600">
                <a:moveTo>
                  <a:pt x="0" y="0"/>
                </a:moveTo>
                <a:lnTo>
                  <a:pt x="22952" y="0"/>
                </a:lnTo>
                <a:lnTo>
                  <a:pt x="22952" y="21600"/>
                </a:lnTo>
                <a:lnTo>
                  <a:pt x="0" y="21600"/>
                </a:lnTo>
                <a:close/>
              </a:path>
              <a:path fill="lightenLess" w="22952" h="21600">
                <a:moveTo>
                  <a:pt x="0" y="0"/>
                </a:moveTo>
                <a:lnTo>
                  <a:pt x="22952" y="0"/>
                </a:lnTo>
                <a:lnTo>
                  <a:pt x="21552" y="1400"/>
                </a:lnTo>
                <a:lnTo>
                  <a:pt x="1400" y="1400"/>
                </a:lnTo>
                <a:close/>
              </a:path>
              <a:path fill="darken" w="22952" h="21600">
                <a:moveTo>
                  <a:pt x="22952" y="0"/>
                </a:moveTo>
                <a:lnTo>
                  <a:pt x="22952" y="21600"/>
                </a:lnTo>
                <a:lnTo>
                  <a:pt x="21552" y="20200"/>
                </a:lnTo>
                <a:lnTo>
                  <a:pt x="21552" y="1400"/>
                </a:lnTo>
                <a:close/>
              </a:path>
              <a:path fill="darkenLess" w="22952" h="21600">
                <a:moveTo>
                  <a:pt x="22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2" y="20200"/>
                </a:lnTo>
                <a:close/>
              </a:path>
              <a:path fill="lighten" w="22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2" h="21600">
                <a:moveTo>
                  <a:pt x="4469" y="10800"/>
                </a:moveTo>
                <a:lnTo>
                  <a:pt x="18482" y="3794"/>
                </a:lnTo>
                <a:lnTo>
                  <a:pt x="1848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163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S'ha de trobar els Km que fa cada h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S'ha de trobar els Km que fa el segon vehicle cada hora, sabent que en fa 15 més que el pri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S'ha de trobar les hores que inverteix el segon vehicle per recórrer els 1500 K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162920" y="56386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57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Un cotxe tarda 25 hores en recórrer 1500 Km. Quant tardarà un altre que porti 15 Km de velocitat més que el pri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2320" y="2590920"/>
            <a:ext cx="639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500:(1500:25+15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629400" y="4876920"/>
            <a:ext cx="1371600" cy="144756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560"/>
              <a:gd name="textAreaBottom" fmla="*/ 1358640 h 1447560"/>
            </a:gdLst>
            <a:ahLst/>
            <a:rect l="textAreaLeft" t="textAreaTop" r="textAreaRight" b="textAreaBottom"/>
            <a:pathLst>
              <a:path w="21600" h="22796">
                <a:moveTo>
                  <a:pt x="0" y="0"/>
                </a:moveTo>
                <a:lnTo>
                  <a:pt x="21600" y="0"/>
                </a:lnTo>
                <a:lnTo>
                  <a:pt x="21600" y="22796"/>
                </a:lnTo>
                <a:lnTo>
                  <a:pt x="0" y="22796"/>
                </a:lnTo>
                <a:close/>
              </a:path>
              <a:path fill="lightenLess" w="21600" h="22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96">
                <a:moveTo>
                  <a:pt x="21600" y="0"/>
                </a:moveTo>
                <a:lnTo>
                  <a:pt x="21600" y="22796"/>
                </a:lnTo>
                <a:lnTo>
                  <a:pt x="20200" y="21396"/>
                </a:lnTo>
                <a:lnTo>
                  <a:pt x="20200" y="1400"/>
                </a:lnTo>
                <a:close/>
              </a:path>
              <a:path fill="darkenLess" w="21600" h="22796">
                <a:moveTo>
                  <a:pt x="21600" y="22796"/>
                </a:moveTo>
                <a:lnTo>
                  <a:pt x="0" y="22796"/>
                </a:lnTo>
                <a:lnTo>
                  <a:pt x="1400" y="21396"/>
                </a:lnTo>
                <a:lnTo>
                  <a:pt x="20200" y="21396"/>
                </a:lnTo>
                <a:close/>
              </a:path>
              <a:path fill="lighten" w="21600" h="22796">
                <a:moveTo>
                  <a:pt x="0" y="22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96"/>
                </a:lnTo>
                <a:close/>
              </a:path>
              <a:path fill="darken" w="21600" h="22796">
                <a:moveTo>
                  <a:pt x="3794" y="11398"/>
                </a:moveTo>
                <a:lnTo>
                  <a:pt x="17806" y="4391"/>
                </a:lnTo>
                <a:lnTo>
                  <a:pt x="17806" y="1840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47:03Z</dcterms:created>
  <dc:creator>Daniel</dc:creator>
  <dc:description/>
  <dc:language>en-US</dc:language>
  <cp:lastModifiedBy>Daniel</cp:lastModifiedBy>
  <dcterms:modified xsi:type="dcterms:W3CDTF">2002-08-24T22:37:51Z</dcterms:modified>
  <cp:revision>33</cp:revision>
  <dc:subject/>
  <dc:title>Sin título de diapositiva</dc:title>
</cp:coreProperties>
</file>