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55E-8841-4BFF-AA16-CA8CD6F4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083-31D6-4C99-8F0A-F15B8F1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B33-50BD-4644-96D1-4D8ADB0C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C1D-0019-43C8-8291-6804DBC5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037-C5CF-4821-ACA1-872829D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31F-6921-4B84-96CB-94EF00CC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1B1-5B90-407A-A68D-B935053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BDD-AE0F-4065-B154-BBF31DD0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548-CB98-4C6D-82A1-9AE2E1EE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A0F-04D5-4D3C-8FFA-22D7E81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968-4A4F-409B-9E27-3106B6D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64D-3177-4860-9BC7-1990E2B8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CEA-8022-4CA7-8366-112751C78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5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038480" y="480060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7800" y="236232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49,88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14400" y="47242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14400" y="55627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297180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37339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47242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86400" y="5638680"/>
            <a:ext cx="19112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1981080"/>
            <a:ext cx="7699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ampolles=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copes/ampolla=2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copa= 1'63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reu compra ampolla=25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9360" y="304920"/>
            <a:ext cx="828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33920"/>
            <a:ext cx="803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8954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360" y="228600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5840" y="2209680"/>
            <a:ext cx="367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x1,6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7,49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9,88-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3049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8640" y="2209680"/>
            <a:ext cx="622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x1,63=37,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7,49x12=449'8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x12=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49,88-300=149'8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28600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S'ha de trobar el cost de cada ampolla, sabent el nombre de copes/ampolla i el preu de cada co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:Trobar el cost de tota la caixa (12 ampol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3r:Trobar el guany de tota la caixa sabent el preu de v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4t: Trobar el benefici net, sabent el que li ha costat i el que ha fet de cala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304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'amo d'un bar va comprar una caixa de 12 ampolles de conyac. De cada ampolla en treu 23 copes i les cobra a 1,63 euros cadascuna. Quant hi guanyarà amb tota la caixa si cada ampolla li va costar 25 e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120" y="2743200"/>
            <a:ext cx="595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x1,63x12-25x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60400" cy="78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1:52Z</dcterms:created>
  <dc:creator>Daniel</dc:creator>
  <dc:description/>
  <dc:language>en-US</dc:language>
  <cp:lastModifiedBy>Daniel</cp:lastModifiedBy>
  <dcterms:modified xsi:type="dcterms:W3CDTF">2002-08-28T20:28:48Z</dcterms:modified>
  <cp:revision>21</cp:revision>
  <dc:subject/>
  <dc:title>Sin título de diapositiva</dc:title>
</cp:coreProperties>
</file>