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6FB-F9DA-4B13-9CD6-FACC8C8D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91A-B172-4AAE-AC33-6A2A1C26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2DC-BB40-43BB-9462-E1F17B55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154-9C7A-4699-8864-CF2C9FD3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D67-0376-49ED-AE94-5DB40AF2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E641-5C0F-4798-B59A-754DF9A8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08F-B0E1-4E03-8C85-2E4F6F4A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CB0-E761-48A9-85BB-0269FE14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A0F-47B2-490E-8BCC-FDC4489C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690-F8DC-437B-975B-96FE6B3E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DB1-80B2-4D83-A32A-4263A617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205-8A80-48A5-B580-C7C6C8B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E0FE-2883-47DA-AF75-0DE72781E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50480" cy="3740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809880" y="4495680"/>
            <a:ext cx="14637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0" y="2362320"/>
            <a:ext cx="887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Han ocupat  25 fil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Hi caben encara 390 perso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3341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350532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880" y="43434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0880" y="5181480"/>
            <a:ext cx="1416240" cy="536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80880" y="6019920"/>
            <a:ext cx="18417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952880" y="350532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952880" y="4343400"/>
            <a:ext cx="179892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4952880" y="518148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4952880" y="601992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38088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 un teatre han entrat 750 persones. Si a cada fila hi ha 30 butaques, quantes files completes han acupat? Si en el teatre hi ha 38 files, quantes persones més poden entrar-h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840" y="2209680"/>
            <a:ext cx="493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ersones=75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Butaques/fila=3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Files=38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Files completes=?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Seients lliure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3341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teatre han entrat 750 persones. Si a cada fila hi ha 30 butaques, quantes files completes han acupat? Si en el teatre hi ha 38 files, quantes persones més poden entrar-h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2720" y="3279600"/>
            <a:ext cx="7856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0920" y="274320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3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533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teatre han entrat 750 persones. Si a cada fila hi ha 30 butaques, quantes files completes han acupat? Si en el teatre hi ha 38 files, quantes persones més poden entrar-h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3341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240" y="2209680"/>
            <a:ext cx="4415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04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teatre han entrat 750 persones. Si a cada fila hi ha 30 butaques, quantes files completes han acupat? Si en el teatre hi ha 38 files, quantes persones més poden entrar-h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3341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363400" y="2590920"/>
            <a:ext cx="23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750: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8-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3x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533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teatre han entrat 750 persones. Si a cada fila hi ha 30 butaques, quantes files completes han acupat? Si en el teatre hi ha 38 files, quantes persones més poden entrar-h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3341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64120" y="2590920"/>
            <a:ext cx="3663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750:30=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8-25=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3x30=39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5335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teatre han entrat 750 persones. Si a cada fila hi ha 30 butaques, quantes files completes han acupat? Si en el teatre hi ha 38 files, quantes persones més poden entrar-h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3341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3623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Veure quantes files han ocupat, sabent que cada 30 persones és una fi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Veure quantes files han quedat lli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3r: Veure quantes persones hi cabrien en aquestes butaques lli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33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teatre han entrat 750 persones. Si a cada fila hi ha 30 butaques, quantes files completes han acupat? Si en el teatre hi ha 38 files, quantes persones més poden entrar-h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3341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00920" y="2590920"/>
            <a:ext cx="500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8-(750:30)x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teatre han entrat 750 persones. Si a cada fila hi ha 30 butaques, quantes files completes han acupat? Si en el teatre hi ha 38 files, quantes persones més poden entrar-h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3341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2T21:08:41Z</dcterms:created>
  <dc:creator>Daniel</dc:creator>
  <dc:description/>
  <dc:language>en-US</dc:language>
  <cp:lastModifiedBy>Daniel</cp:lastModifiedBy>
  <dcterms:modified xsi:type="dcterms:W3CDTF">2002-09-10T15:03:33Z</dcterms:modified>
  <cp:revision>15</cp:revision>
  <dc:subject/>
  <dc:title>Sin título de diapositiva</dc:title>
</cp:coreProperties>
</file>