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6022-7668-403C-BCB7-82770D40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B86-AC2E-4A3F-8CBA-1BF00CCA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458-0BDA-4BD2-AA01-DC38A833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DA0-D4FB-47C2-8417-0C72D4AD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D4B0-D519-45EE-A203-32D2FCDD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29A5-EBC5-4615-AC39-860F0B17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A891-0C64-406B-8C16-A56461A1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F85C-512F-47DF-9D41-5232C2AB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BC0D-12DF-44C2-8A30-718E82EC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DB8F-CD9C-4CD6-AA0B-77FEC1BD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EE95-EE69-4193-9356-8F5E1D2D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786D-E7C3-4679-AD8D-1158AD7B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6EEC-2510-4C6F-BF63-30B9D9CB0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572000"/>
            <a:ext cx="1463760" cy="1692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236232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4000" y="250524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61240" y="247032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59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562720"/>
            <a:ext cx="854280" cy="777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92360" y="2438280"/>
            <a:ext cx="414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509,9 €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3962520"/>
            <a:ext cx="130464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2120" y="4648320"/>
            <a:ext cx="270648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62120" y="533412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62120" y="601992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952880" y="3886200"/>
            <a:ext cx="2313000" cy="54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952880" y="457200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952880" y="533412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952880" y="601992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30492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'escola ha invertit 1137,7 euros per condicionar les classes de 2n del CS. Si sabem que a la classe de les Balenes i a la de les Girafes hi ha invertit 254,5 i 373,3 euros respectivament, quants diners ha invertit per condicionar la classe dels Tig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562720"/>
            <a:ext cx="854280" cy="777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45720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escola ha invertit 1137,7 euros per condicionar les classes de 2n del CS. Si sabem que a la classe de les Balenes i a la de les Girafes hi ha invertit 254,5 i 373,3 euros respectivament, quants diners ha invertit per condicionar la classe dels Tig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840" y="2438280"/>
            <a:ext cx="4797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Inversió=1137,7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Balenes=254,5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Girafes=373,3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Tigres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562720"/>
            <a:ext cx="854280" cy="777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65400" y="2711520"/>
            <a:ext cx="66117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4600" y="274320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049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escola ha invertit 1137,7 euros per condicionar les classes de 2n del CS. Si sabem que a la classe de les Balenes i a la de les Girafes hi ha invertit 254,5 i 373,3 euros respectivament, quants diners ha invertit per condicionar la classe dels Tig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562720"/>
            <a:ext cx="854280" cy="777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3808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escola ha invertit 1137,7 euros per condicionar les classes de 2n del CS. Si sabem que a la classe de les Balenes i a la de les Girafes hi ha invertit 254,5 i 373,3 euros respectivament, quants diners ha invertit per condicionar la classe dels Tig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7280" y="2895480"/>
            <a:ext cx="204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562720"/>
            <a:ext cx="854280" cy="777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520" y="3808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escola ha invertit 1137,7 euros per condicionar les classes de 2n del CS. Si sabem que a la classe de les Balenes i a la de les Girafes hi ha invertit 254,5 i 373,3 euros respectivament, quants diners ha invertit per condicionar la classe dels Tig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9200" y="2590920"/>
            <a:ext cx="442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54,5 + 373,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137,7-627,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562720"/>
            <a:ext cx="854280" cy="777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0880" y="380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escola ha invertit 1137,7 euros per condicionar les classes de 2n del CS. Si sabem que a la classe de les Balenes i a la de les Girafes hi ha invertit 254,5 i 373,3 euros respectivament, quants diners ha invertit per condicionar la classe dels Tig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6560" y="2743200"/>
            <a:ext cx="657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54,5 + 373,3=627,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137,7-627,8=509,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562720"/>
            <a:ext cx="854280" cy="777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38088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escola ha invertit 1137,7 euros per condicionar les classes de 2n del CS. Si sabem que a la classe de les Balenes i a la de les Girafes hi ha invertit 254,5 i 373,3 euros respectivament, quants diners ha invertit per condicionar la classe dels Tig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2666880"/>
            <a:ext cx="769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Trobar els euros invertits en les dues classes de les Balenes i les Girafes ju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Veure quan ha invertit en la dels Tigres si sabem els euros que ha gastat en to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562720"/>
            <a:ext cx="854280" cy="777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3049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escola ha invertit 1137,7 euros per condicionar les classes de 2n del CS. Si sabem que a la classe de les Balenes i a la de les Girafes hi ha invertit 254,5 i 373,3 euros respectivament, quants diners ha invertit per condicionar la classe dels Tig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1800" y="2819520"/>
            <a:ext cx="690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137,7-(254,5+373,3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22:12:18Z</dcterms:created>
  <dc:creator>Daniel</dc:creator>
  <dc:description/>
  <dc:language>en-US</dc:language>
  <cp:lastModifiedBy>Daniel</cp:lastModifiedBy>
  <dcterms:modified xsi:type="dcterms:W3CDTF">2002-10-24T20:51:38Z</dcterms:modified>
  <cp:revision>18</cp:revision>
  <dc:subject/>
  <dc:title>Sin título de diapositiva</dc:title>
</cp:coreProperties>
</file>