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3EB-9EA7-4618-A138-651F47D4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428-85E4-416B-BC1E-28451359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FBEE-D9E9-4746-854D-144D55D5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CFC2-74BE-4893-950D-B2363A01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FBD-3F2E-453D-A666-04A38541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3728-95EB-4843-9AF7-26C19126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6FF-E6E4-4B88-AAE0-222F4407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0A8-1E41-4CC6-9AD5-3EFF6669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B94-7345-416B-9C4A-65C03C0A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7C67-FE17-4E60-9A57-A8413A69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BCCE-132F-418D-8DF5-00F435AF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F815-1238-4F64-A6F5-B8E8BD50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1062-C1A0-4424-8C2A-FEB83DDFC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495680"/>
            <a:ext cx="1470240" cy="1698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" y="3240"/>
            <a:ext cx="914544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50240" y="146376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7120" y="142884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37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06920" y="2362320"/>
            <a:ext cx="438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27 any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410080"/>
            <a:ext cx="8539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3581280"/>
            <a:ext cx="1298520" cy="536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38080" y="5181480"/>
            <a:ext cx="1416240" cy="53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838080" y="5943600"/>
            <a:ext cx="184176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724280" y="3581280"/>
            <a:ext cx="230040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724280" y="434340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724280" y="5181480"/>
            <a:ext cx="3395880" cy="53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724280" y="5943600"/>
            <a:ext cx="1911600" cy="53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6858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Jo tinc 11 anys i quan vaig néixer el meu germà en tenia 5, quants anys tenim entre tots d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79400" y="2514600"/>
            <a:ext cx="4286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Edat actual=11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Germà= +5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Suma edat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410080"/>
            <a:ext cx="853920" cy="77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6858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o tinc 11 anys i quan vaig néixer el meu germà en tenia 5, quants anys tenim entre tots 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3960" y="2441520"/>
            <a:ext cx="8688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7200" y="257184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410080"/>
            <a:ext cx="853920" cy="777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6094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o tinc 11 anys i quan vaig néixer el meu germà en tenia 5, quants anys tenim entre tots 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73600" y="2895480"/>
            <a:ext cx="204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410080"/>
            <a:ext cx="853920" cy="777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76212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o tinc 11 anys i quan vaig néixer el meu germà en tenia 5, quants anys tenim entre tots 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40080" y="2819520"/>
            <a:ext cx="213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1+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1+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410080"/>
            <a:ext cx="853920" cy="777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9144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o tinc 11 anys i quan vaig néixer el meu germà en tenia 5, quants anys tenim entre tots 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30960" y="2514600"/>
            <a:ext cx="333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1+5=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1+16=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410080"/>
            <a:ext cx="853920" cy="777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685800"/>
            <a:ext cx="76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o tinc 11 anys i quan vaig néixer el meu germà en tenia 5, quants anys tenim entre tots 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057400"/>
            <a:ext cx="8077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Saber l'edat del meu germà, sabent que en té 5 més que jo (a l'hora del meu naixement i ara també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Trobar el nombre d'anys entre jo i ell, a l'actualit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410080"/>
            <a:ext cx="853920" cy="777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47920" y="685800"/>
            <a:ext cx="64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o tinc 11 anys i quan vaig néixer el meu germà en tenia 5, quants anys tenim entre tots 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9200" y="3048120"/>
            <a:ext cx="346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1+(11+5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410080"/>
            <a:ext cx="853920" cy="777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90720" y="76212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o tinc 11 anys i quan vaig néixer el meu germà en tenia 5, quants anys tenim entre tots 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10:21:01Z</dcterms:created>
  <dc:creator>Daniel</dc:creator>
  <dc:description/>
  <dc:language>en-US</dc:language>
  <cp:lastModifiedBy>Daniel</cp:lastModifiedBy>
  <dcterms:modified xsi:type="dcterms:W3CDTF">2002-08-30T21:56:16Z</dcterms:modified>
  <cp:revision>15</cp:revision>
  <dc:subject/>
  <dc:title>Sin título de diapositiva</dc:title>
</cp:coreProperties>
</file>