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716-80B6-4410-B7A3-5F60745A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821-ADD9-408D-8621-A2BDB568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988-7A0F-4BA2-9017-7AC47BDA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ADA-F607-4F99-8A53-8BA82343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6D4-34C3-43C9-99F0-1D08D027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C9D-4516-4563-89E7-12D94F5F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80C-9922-423C-90C2-C7A22F64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757-778D-4C70-9DD4-3BE23985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423-1C32-4556-91FC-F603A88E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923-3089-4501-B987-ECDEF3A9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2B8-A6E1-45FB-9EB3-A250E51C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60B-EA74-4943-AB42-46EC91FA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16A1-D020-4AE1-A85C-FBA0884CB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572000"/>
            <a:ext cx="1463760" cy="169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3240" y="1146240"/>
            <a:ext cx="914580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44120" y="260676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1000" y="257184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31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1320" y="1873080"/>
            <a:ext cx="879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12 alumnes moren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562720"/>
            <a:ext cx="853920" cy="77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36576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04920" y="5181480"/>
            <a:ext cx="141588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04920" y="594360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10080" y="365760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10080" y="441972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10080" y="5257800"/>
            <a:ext cx="339588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410080" y="6019920"/>
            <a:ext cx="1911600" cy="53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4572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 una classe hi ha 28 alumnes. Si la meitat són rossos i 2 pèl-rojos, quants són more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2057400"/>
            <a:ext cx="480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Alumnes=28. Rossos=meit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èl-rojos=2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oren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808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classe hi ha 28 alumnes. Si la meitat són rossos i 2 pèl-rojos, quants són mor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0720" y="2743200"/>
            <a:ext cx="8693280" cy="1440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5335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classe hi ha 28 alumnes. Si la meitat són rossos i 2 pèl-rojos, quants són mor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5562720"/>
            <a:ext cx="853920" cy="77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667600" y="2133720"/>
            <a:ext cx="242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572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classe hi ha 28 alumnes. Si la meitat són rossos i 2 pèl-rojos, quants són mor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562720"/>
            <a:ext cx="853920" cy="77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430440" y="2130480"/>
            <a:ext cx="1959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8: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4+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8-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5335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classe hi ha 28 alumnes. Si la meitat són rossos i 2 pèl-rojos, quants són mor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562720"/>
            <a:ext cx="853920" cy="77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02000" y="2133720"/>
            <a:ext cx="315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8:2=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4+2=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8-16=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6094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classe hi ha 28 alumnes. Si la meitat són rossos i 2 pèl-rojos, quants són mor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562720"/>
            <a:ext cx="853920" cy="77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82880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Trobar la meitat dels alumnes, que seran els ros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Afegir-hi els dos pèl-ro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:Veure quants n'hi queden a la classe, que seran els mor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335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classe hi ha 28 alumnes. Si la meitat són rossos i 2 pèl-rojos, quants són mor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562720"/>
            <a:ext cx="853920" cy="77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82160" y="2743200"/>
            <a:ext cx="39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8-(28:2)+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685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classe hi ha 28 alumnes. Si la meitat són rossos i 2 pèl-rojos, quants són mor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562720"/>
            <a:ext cx="853920" cy="77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0:16:42Z</dcterms:created>
  <dc:creator>Daniel</dc:creator>
  <dc:description/>
  <dc:language>en-US</dc:language>
  <cp:lastModifiedBy>Daniel</cp:lastModifiedBy>
  <dcterms:modified xsi:type="dcterms:W3CDTF">2002-08-30T17:37:33Z</dcterms:modified>
  <cp:revision>16</cp:revision>
  <dc:subject/>
  <dc:title>Sin título de diapositiva</dc:title>
</cp:coreProperties>
</file>