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BCF2-7C23-4B57-80CC-30D15D448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36EB-D20E-4D21-9AF4-F42AE903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A289-3A4B-496C-BE26-8997BFCE8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157F-EE06-46DF-83CE-B51487FFA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8D15-72C0-476F-81A9-C0C383AC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F80A-B79B-4B8D-A1A0-DD7CDACA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01F9-009C-41CA-961D-E6AA1755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A9ED-548A-4CC1-9F90-CB824ED1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2C7B-6179-491C-BC27-F8D7698A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0EB8-5214-448E-84DE-A964EF1E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F8C1-09C5-4166-A2F3-E4478D96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E37A-3633-453A-9167-EB7F8E2C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4419-E219-48D8-87C8-6CE3772F5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86200" y="4495680"/>
            <a:ext cx="1463760" cy="1692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44600" y="2878200"/>
            <a:ext cx="64548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47000" y="302112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33880" y="2986200"/>
            <a:ext cx="7081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58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334120"/>
            <a:ext cx="854280" cy="777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11840" y="2362320"/>
            <a:ext cx="424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1826 m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3809880"/>
            <a:ext cx="1305000" cy="542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09480" y="4572000"/>
            <a:ext cx="270684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09480" y="525780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09480" y="594360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4800600" y="3657600"/>
            <a:ext cx="2313000" cy="549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800600" y="4419720"/>
            <a:ext cx="1792440" cy="536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4800600" y="518148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4800600" y="5943600"/>
            <a:ext cx="1917720" cy="542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42800" y="380880"/>
            <a:ext cx="839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na peça de cinta medeix 21 Hm. Si en venc 26 dam i 14 m. Quanta me'n qued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334120"/>
            <a:ext cx="854280" cy="777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0880" y="3808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peça de cinta medeix 21 Hm. Si en venc 26 dam i 14 m. Quanta me'n que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51160" y="2286000"/>
            <a:ext cx="5555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eça=21H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Venda=26 dam,14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Longitud sobrant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334120"/>
            <a:ext cx="854280" cy="777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65400" y="2711520"/>
            <a:ext cx="66117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0920" y="243828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4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572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peça de cinta medeix 21 Hm. Si en venc 26 dam i 14 m. Quanta me'n que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334120"/>
            <a:ext cx="854280" cy="777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8380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peça de cinta medeix 21 Hm. Si en venc 26 dam i 14 m. Quanta me'n que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8960" y="2133720"/>
            <a:ext cx="4499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su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res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334120"/>
            <a:ext cx="854280" cy="777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4920" y="4572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peça de cinta medeix 21 Hm. Si en venc 26 dam i 14 m. Quanta me'n que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8840" y="2133720"/>
            <a:ext cx="3102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1x1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6x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60+1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100-27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334120"/>
            <a:ext cx="854280" cy="777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7200" y="5335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peça de cinta medeix 21 Hm. Si en venc 26 dam i 14 m. Quanta me'n que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7080" y="2133720"/>
            <a:ext cx="5060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1x100=21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6x10=26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60+14=27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100-274=182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334120"/>
            <a:ext cx="854280" cy="777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3520" y="304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peça de cinta medeix 21 Hm. Si en venc 26 dam i 14 m. Quanta me'n que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83880" y="2438280"/>
            <a:ext cx="6866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S'ha de passar tot a met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trobar els metres que sobren despré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de la ven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334120"/>
            <a:ext cx="854280" cy="777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57200" y="4572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peça de cinta medeix 21 Hm. Si en venc 26 dam i 14 m. Quanta me'n que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5120" y="2819520"/>
            <a:ext cx="68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(21x100)-(26x10+14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22:10:23Z</dcterms:created>
  <dc:creator>Daniel</dc:creator>
  <dc:description/>
  <dc:language>en-US</dc:language>
  <cp:lastModifiedBy>Daniel</cp:lastModifiedBy>
  <dcterms:modified xsi:type="dcterms:W3CDTF">2002-10-24T20:45:14Z</dcterms:modified>
  <cp:revision>21</cp:revision>
  <dc:subject/>
  <dc:title>Sin título de diapositiva</dc:title>
</cp:coreProperties>
</file>