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84D-9A89-4B01-924A-386A6503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C3E-EC76-4103-90B1-FA0A44D3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BBE-47CF-4907-87F0-365A4145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0F9-D9F7-41FB-A535-FE022F27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1B4-ADB1-45A0-8895-DD9BB8CF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896-22BC-4560-AE7D-3F9FDAC6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6D7-D30F-4BAD-914E-CE76B1D6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974-57CA-4758-B73C-252F367B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072-5CA1-4F08-8475-9FDCDEBD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982-2615-44DE-90CE-24409BD5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50E-C5E8-44F8-9A8E-616B9D29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3D3-2ACA-481C-9331-BE822900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FC29-4A08-42C4-8976-72B26BAC6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97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64832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64120" y="2666880"/>
            <a:ext cx="404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30 di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4572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 Lluís beu cada dia 1,8 l d'aigua, i ha comprat 36 ampolles d'1,5 l. Quants dies podrà beure aigua compra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4400" y="403848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464832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91440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91440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86400" y="403848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86400" y="4648320"/>
            <a:ext cx="1805040" cy="54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48640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486400" y="586728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6920" y="762120"/>
            <a:ext cx="87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Lluís beu cada dia 1,8 l d'aigua, i ha comprat 36 ampolles d'1,5 l. Quants dies podrà beure aigua compr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7320" y="2362320"/>
            <a:ext cx="685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1 dia=1,8 l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Ampolles=36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apacitat ampolla= 1,5 l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Durada aigua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6920" y="762120"/>
            <a:ext cx="87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Lluís beu cada dia 1,8 l d'aigua, i ha comprat 36 ampolles d'1,5 l. Quants dies podrà beure aigua compr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9360" y="2712960"/>
            <a:ext cx="8037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800" y="28432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6920" y="762120"/>
            <a:ext cx="87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Lluís beu cada dia 1,8 l d'aigua, i ha comprat 36 ampolles d'1,5 l. Quants dies podrà beure aigua compr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57040" y="2743200"/>
            <a:ext cx="44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6920" y="762120"/>
            <a:ext cx="87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Lluís beu cada dia 1,8 l d'aigua, i ha comprat 36 ampolles d'1,5 l. Quants dies podrà beure aigua compr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20960" y="2895480"/>
            <a:ext cx="227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x1,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4:1,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6920" y="762120"/>
            <a:ext cx="87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Lluís beu cada dia 1,8 l d'aigua, i ha comprat 36 ampolles d'1,5 l. Quants dies podrà beure aigua compr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68680" y="2590920"/>
            <a:ext cx="353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x1,5=5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4:1,8= 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6920" y="762120"/>
            <a:ext cx="87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Lluís beu cada dia 1,8 l d'aigua, i ha comprat 36 ampolles d'1,5 l. Quants dies podrà beure aigua compr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2362320"/>
            <a:ext cx="838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veure de quants litres d'aigua disposa amb les 36 ampol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Calcular per quants dies disposa d'aigua, sabent el consum dia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6920" y="762120"/>
            <a:ext cx="87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Lluís beu cada dia 1,8 l d'aigua, i ha comprat 36 ampolles d'1,5 l. Quants dies podrà beure aigua compr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5627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10400" y="3048120"/>
            <a:ext cx="39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36x1,5):1,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0:30:19Z</dcterms:created>
  <dc:creator>Daniel</dc:creator>
  <dc:description/>
  <dc:language>en-US</dc:language>
  <cp:lastModifiedBy>Daniel</cp:lastModifiedBy>
  <dcterms:modified xsi:type="dcterms:W3CDTF">2003-01-04T10:51:14Z</dcterms:modified>
  <cp:revision>19</cp:revision>
  <dc:subject/>
  <dc:title>Sin título de diapositiva</dc:title>
</cp:coreProperties>
</file>