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057F-8569-44AA-9B03-D4963D432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AA4E-A764-4B14-9F06-601C22BF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CFB3-8AB6-4197-A9E0-2C46FD770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F1F2-3056-43B7-9044-E0DFCC51D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9F33-3CE9-4030-846C-0DE76A941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6B28-9139-42A9-A587-3BFB387D8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4D8B-418B-4ADC-A39C-48D3A0B30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C254-1456-4944-B453-A369914DD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265A-5DC5-46B2-9DF9-F54D8B960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0CDA-5318-4CC7-B02E-7BCBDF77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D5AD-E3CA-427C-B07E-EA87BF2E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7DF8-E2AC-4B24-8E67-6A9934FE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E2CE0-241F-48A7-90B6-956A1C2274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" y="1560600"/>
            <a:ext cx="9145440" cy="37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50240" y="3021120"/>
            <a:ext cx="547488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PROBLEMES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37480" y="2986200"/>
            <a:ext cx="687096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PROBLEMES (47)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809880" y="4495680"/>
            <a:ext cx="1463760" cy="16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79800" y="2733840"/>
            <a:ext cx="842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00"/>
                </a:solidFill>
                <a:latin typeface="Times New Roman"/>
              </a:rPr>
              <a:t>Sí hi guanya (1&lt;1,36)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15200" y="5791320"/>
            <a:ext cx="860400" cy="78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3657600"/>
            <a:ext cx="1298520" cy="536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85800" y="4419720"/>
            <a:ext cx="2700360" cy="536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85800" y="5181480"/>
            <a:ext cx="1415880" cy="536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685800" y="5943600"/>
            <a:ext cx="1841400" cy="536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5257800" y="3809880"/>
            <a:ext cx="2300400" cy="536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5257800" y="4572000"/>
            <a:ext cx="1798560" cy="542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5257800" y="5334120"/>
            <a:ext cx="3402000" cy="542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5257800" y="6019920"/>
            <a:ext cx="1917720" cy="542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76280" y="304920"/>
            <a:ext cx="8286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n Miquel va a la universitat amb tren cada dia. A l'estació li expliquen que cada bitllet costa 1'36 €, però que si en compra 10 alhora, li costen 10 € tots plegats. Creus que estalviarà diners si fa cas del que li diu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068480" y="2514600"/>
            <a:ext cx="5946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Viatge normal=1,36 €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Preu 10 viatges=10 €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Avantatge o no=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15200" y="5791320"/>
            <a:ext cx="860400" cy="784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04920" y="228600"/>
            <a:ext cx="853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n Miquel va a la universitat amb tren cada dia. A l'estació li expliquen que cada bitllet costa 1'36 €, però que si en compra 10 alhora, li costen 10 € tots plegats. Creus que estalviarà diners si fa cas del que li diu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47640" y="2755800"/>
            <a:ext cx="785664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48640" y="2819520"/>
            <a:ext cx="642456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1 OPERACIÓ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30492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n Miquel va a la universitat amb tren cada dia. A l'estació li expliquen que cada bitllet costa 1'36 €, però que si en compra 10 alhora, li costen 10 € tots plegats. Creus que estalviarà diners si fa cas del que li diu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15200" y="5791320"/>
            <a:ext cx="860400" cy="78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591640" y="3124080"/>
            <a:ext cx="242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Divis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38088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n Miquel va a la universitat amb tren cada dia. A l'estació li expliquen que cada bitllet costa 1'36 €, però que si en compra 10 alhora, li costen 10 € tots plegats. Creus que estalviarà diners si fa cas del que li diu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15200" y="5791320"/>
            <a:ext cx="860400" cy="78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201840" y="3429000"/>
            <a:ext cx="1959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10:1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38088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n Miquel va a la universitat amb tren cada dia. A l'estació li expliquen que cada bitllet costa 1'36 €, però que si en compra 10 alhora, li costen 10 € tots plegats. Creus que estalviarà diners si fa cas del que li diu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15200" y="5791320"/>
            <a:ext cx="860400" cy="78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821320" y="3124080"/>
            <a:ext cx="277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10:10=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380880"/>
            <a:ext cx="838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n Miquel va a la universitat amb tren cada dia. A l'estació li expliquen que cada bitllet costa 1'36 €, però que si en compra 10 alhora, li costen 10 € tots plegats. Creus que estalviarà diners si fa cas del que li diu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15200" y="5791320"/>
            <a:ext cx="860400" cy="78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33520" y="2438280"/>
            <a:ext cx="8076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1r:Veure quant li costa un viatge amb l'oferta que li fan a l'estació, i després comparar aquest preu amb el preu del bitllet normal (1,36 €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47680" y="304920"/>
            <a:ext cx="8591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n Miquel va a la universitat amb tren cada dia. A l'estació li expliquen que cada bitllet costa 1'36 €, però que si en compra 10 alhora, li costen 10 € tots plegats. Creus que estalviarà diners si fa cas del que li diu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15200" y="5791320"/>
            <a:ext cx="860400" cy="78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896920" y="3505320"/>
            <a:ext cx="1959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10:1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28560" y="457200"/>
            <a:ext cx="8058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n Miquel va a la universitat amb tren cada dia. A l'estació li expliquen que cada bitllet costa 1'36 €, però que si en compra 10 alhora, li costen 10 € tots plegats. Creus que estalviarà diners si fa cas del que li diu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15200" y="5791320"/>
            <a:ext cx="860400" cy="784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2T21:07:06Z</dcterms:created>
  <dc:creator>Daniel</dc:creator>
  <dc:description/>
  <dc:language>en-US</dc:language>
  <cp:lastModifiedBy>Daniel</cp:lastModifiedBy>
  <dcterms:modified xsi:type="dcterms:W3CDTF">2002-09-09T15:38:20Z</dcterms:modified>
  <cp:revision>16</cp:revision>
  <dc:subject/>
  <dc:title>Sin título de diapositiva</dc:title>
</cp:coreProperties>
</file>