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473-B587-48E5-BFAD-7B1AFFF5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F20-ADC7-46AA-A90B-1760DE3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BFB-09C2-42AB-A5B1-34FE001A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63D-880D-422A-8509-B249D2EB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4FA-A94E-4B79-AA1C-D8AB2AB7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EEA-F09D-4681-BCCA-6E1558B5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D12-ADF1-43A2-A720-AC86D93C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CCF-95F1-4797-AD45-467C5E9D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130-073B-4F08-AD2F-D23CDFC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563-2FAB-4E2D-9A58-AC3F442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7C4-03D7-4208-84CF-F147C38A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0B6-BF54-47F6-B20B-DE01645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F99E-AAFD-41EF-9152-49D36EA76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156060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211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480" y="298620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46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0080" y="1371600"/>
            <a:ext cx="817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920 bombet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027 €.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4290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51814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12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00600" y="33526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00600" y="426708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00600" y="51055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0060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30492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'Ajuntament vol col.locar 148 bombetes de Nadal a cadascun dels 40 arbres del carrer Major. Quantes bombetes necessitarà en total? Si cada joc de 20 bombetes costa 7 €, quants diners costaran totes les bomb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2286000"/>
            <a:ext cx="5946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ombetes/arbre=148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rbres=4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=7€/20 bombe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bombetes=?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Import bombet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juntament vol col.locar 148 bombetes de Nadal a cadascun dels 40 arbres del carrer Major. Quantes bombetes necessitarà en total? Si cada joc de 20 bombetes costa 7 €, quants diners costaran totes les bombe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47640" y="275580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0920" y="26668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3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juntament vol col.locar 148 bombetes de Nadal a cadascun dels 40 arbres del carrer Major. Quantes bombetes necessitarà en total? Si cada joc de 20 bombetes costa 7 €, quants diners costaran totes les bombe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99840" y="251460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0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juntament vol col.locar 148 bombetes de Nadal a cadascun dels 40 arbres del carrer Major. Quantes bombetes necessitarà en total? Si cada joc de 20 bombetes costa 7 €, quants diners costaran totes les bombe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58840" y="2743200"/>
            <a:ext cx="272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8x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920: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96x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04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juntament vol col.locar 148 bombetes de Nadal a cadascun dels 40 arbres del carrer Major. Quantes bombetes necessitarà en total? Si cada joc de 20 bombetes costa 7 €, quants diners costaran totes les bombe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6920" y="2438280"/>
            <a:ext cx="442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8x40=59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920:20=29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96x7=207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80880"/>
            <a:ext cx="841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juntament vol col.locar 148 bombetes de Nadal a cadascun dels 40 arbres del carrer Major. Quantes bombetes necessitarà en total? Si cada joc de 20 bombetes costa 7 €, quants diners costaran totes les bombe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51460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urà de trobar el nombre total de bombetes que faran falta per a tot el carrer. 2n:Veure quants grups o "jocs" de 20 bombetes hi ha al nombre total de bombetes necessàries. 3r: Trobar l'import total, sabent el preu de cada "joc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049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juntament vol col.locar 148 bombetes de Nadal a cadascun dels 40 arbres del carrer Major. Quantes bombetes necessitarà en total? Si cada joc de 20 bombetes costa 7 €, quants diners costaran totes les bombe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760" y="2971800"/>
            <a:ext cx="526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(148x40):20)x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33520"/>
            <a:ext cx="810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juntament vol col.locar 148 bombetes de Nadal a cadascun dels 40 arbres del carrer Major. Quantes bombetes necessitarà en total? Si cada joc de 20 bombetes costa 7 €, quants diners costaran totes les bombe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1:06:10Z</dcterms:created>
  <dc:creator>Daniel</dc:creator>
  <dc:description/>
  <dc:language>en-US</dc:language>
  <cp:lastModifiedBy>Daniel</cp:lastModifiedBy>
  <dcterms:modified xsi:type="dcterms:W3CDTF">2002-09-09T15:37:52Z</dcterms:modified>
  <cp:revision>17</cp:revision>
  <dc:subject/>
  <dc:title>Sin título de diapositiva</dc:title>
</cp:coreProperties>
</file>