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818-5EF8-47DC-B519-E03530A7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F12-AC25-4C84-9CB9-67B966C6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FFF-1469-44B1-B7BB-E35C044D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136-635F-40B3-9FD5-FCF40170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2D0-EB5E-40DC-B252-8292C0CD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568-0CA7-4183-A1F4-6D3792A5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65E-EC5E-4830-8491-77B9B3BD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CD7-5E61-43C8-A115-6F91EC96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C92-638C-4A8B-9F5B-55D762EB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0FB-24D8-4BAC-AE4F-F386B5B9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DFE-2B84-4402-9BFB-64644D2C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300-F81E-403C-AB20-C0D25C51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06F8-DE76-4474-B59F-CF4BDECD3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7840" y="287640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0240" y="30193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120" y="2984400"/>
            <a:ext cx="6662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5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3809880" y="4572000"/>
            <a:ext cx="1524240" cy="1828800"/>
          </a:xfrm>
          <a:custGeom>
            <a:avLst/>
            <a:gdLst>
              <a:gd name="textAreaLeft" fmla="*/ 98640 w 1524240"/>
              <a:gd name="textAreaRight" fmla="*/ 1425600 w 1524240"/>
              <a:gd name="textAreaTop" fmla="*/ 98640 h 1828800"/>
              <a:gd name="textAreaBottom" fmla="*/ 1730160 h 1828800"/>
            </a:gdLst>
            <a:ahLst/>
            <a:rect l="textAreaLeft" t="textAreaTop" r="textAreaRight" b="textAreaBottom"/>
            <a:pathLst>
              <a:path w="21600" h="25915">
                <a:moveTo>
                  <a:pt x="0" y="0"/>
                </a:moveTo>
                <a:lnTo>
                  <a:pt x="21600" y="0"/>
                </a:lnTo>
                <a:lnTo>
                  <a:pt x="21600" y="25915"/>
                </a:lnTo>
                <a:lnTo>
                  <a:pt x="0" y="25915"/>
                </a:lnTo>
                <a:close/>
              </a:path>
              <a:path fill="lightenLess" w="21600" h="25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5">
                <a:moveTo>
                  <a:pt x="21600" y="0"/>
                </a:moveTo>
                <a:lnTo>
                  <a:pt x="21600" y="25915"/>
                </a:lnTo>
                <a:lnTo>
                  <a:pt x="20200" y="24515"/>
                </a:lnTo>
                <a:lnTo>
                  <a:pt x="20200" y="1400"/>
                </a:lnTo>
                <a:close/>
              </a:path>
              <a:path fill="darkenLess" w="21600" h="25915">
                <a:moveTo>
                  <a:pt x="21600" y="25915"/>
                </a:moveTo>
                <a:lnTo>
                  <a:pt x="0" y="25915"/>
                </a:lnTo>
                <a:lnTo>
                  <a:pt x="1400" y="24515"/>
                </a:lnTo>
                <a:lnTo>
                  <a:pt x="20200" y="24515"/>
                </a:lnTo>
                <a:close/>
              </a:path>
              <a:path fill="lighten" w="21600" h="25915">
                <a:moveTo>
                  <a:pt x="0" y="25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5"/>
                </a:lnTo>
                <a:close/>
              </a:path>
              <a:path fill="darken" w="21600" h="25915">
                <a:moveTo>
                  <a:pt x="10800" y="5994"/>
                </a:moveTo>
                <a:lnTo>
                  <a:pt x="13376" y="8606"/>
                </a:lnTo>
                <a:lnTo>
                  <a:pt x="13376" y="6865"/>
                </a:lnTo>
                <a:lnTo>
                  <a:pt x="15152" y="6865"/>
                </a:lnTo>
                <a:lnTo>
                  <a:pt x="15152" y="10381"/>
                </a:lnTo>
                <a:lnTo>
                  <a:pt x="17763" y="12957"/>
                </a:lnTo>
                <a:lnTo>
                  <a:pt x="16109" y="12957"/>
                </a:lnTo>
                <a:lnTo>
                  <a:pt x="16109" y="20147"/>
                </a:lnTo>
                <a:lnTo>
                  <a:pt x="5491" y="20147"/>
                </a:lnTo>
                <a:lnTo>
                  <a:pt x="5491" y="12957"/>
                </a:lnTo>
                <a:lnTo>
                  <a:pt x="3837" y="12957"/>
                </a:lnTo>
                <a:close/>
              </a:path>
              <a:path fill="darkenLess" w="21600" h="25915">
                <a:moveTo>
                  <a:pt x="13376" y="8606"/>
                </a:moveTo>
                <a:lnTo>
                  <a:pt x="13376" y="6865"/>
                </a:lnTo>
                <a:lnTo>
                  <a:pt x="15152" y="6865"/>
                </a:lnTo>
                <a:lnTo>
                  <a:pt x="15152" y="10381"/>
                </a:lnTo>
                <a:close/>
              </a:path>
              <a:path fill="darkenLess" w="21600" h="25915">
                <a:moveTo>
                  <a:pt x="9877" y="16456"/>
                </a:moveTo>
                <a:lnTo>
                  <a:pt x="11723" y="16456"/>
                </a:lnTo>
                <a:lnTo>
                  <a:pt x="11723" y="20147"/>
                </a:lnTo>
                <a:lnTo>
                  <a:pt x="16109" y="20147"/>
                </a:lnTo>
                <a:lnTo>
                  <a:pt x="16109" y="12957"/>
                </a:lnTo>
                <a:lnTo>
                  <a:pt x="5491" y="12957"/>
                </a:lnTo>
                <a:lnTo>
                  <a:pt x="5491" y="20147"/>
                </a:lnTo>
                <a:lnTo>
                  <a:pt x="9877" y="201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1480" y="2666880"/>
            <a:ext cx="438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79 any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7162920" y="495288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10800"/>
                </a:moveTo>
                <a:lnTo>
                  <a:pt x="19245" y="3794"/>
                </a:lnTo>
                <a:lnTo>
                  <a:pt x="19245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6858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Un jove té 23 anys i el seu pare el doble. D'aquí a cinc anys, quants en tindran entre els d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29718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38080" y="4952880"/>
            <a:ext cx="141624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38080" y="5867280"/>
            <a:ext cx="184176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334120" y="2971800"/>
            <a:ext cx="23000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410080" y="4038480"/>
            <a:ext cx="179244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10080" y="4952880"/>
            <a:ext cx="3395880" cy="53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410080" y="5791320"/>
            <a:ext cx="191160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80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 jove té 23 anys i el seu pare el doble. D'aquí a cinc anys, quants en tindran entre el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2057400"/>
            <a:ext cx="4724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Jove=23 any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are= do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ríode=5 any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anys total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162920" y="5334120"/>
            <a:ext cx="990360" cy="114300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28">
                <a:moveTo>
                  <a:pt x="0" y="0"/>
                </a:moveTo>
                <a:lnTo>
                  <a:pt x="21600" y="0"/>
                </a:lnTo>
                <a:lnTo>
                  <a:pt x="21600" y="24928"/>
                </a:lnTo>
                <a:lnTo>
                  <a:pt x="0" y="24928"/>
                </a:lnTo>
                <a:close/>
              </a:path>
              <a:path fill="lightenLess" w="21600" h="24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28">
                <a:moveTo>
                  <a:pt x="21600" y="0"/>
                </a:moveTo>
                <a:lnTo>
                  <a:pt x="21600" y="24928"/>
                </a:lnTo>
                <a:lnTo>
                  <a:pt x="20200" y="23528"/>
                </a:lnTo>
                <a:lnTo>
                  <a:pt x="20200" y="1400"/>
                </a:lnTo>
                <a:close/>
              </a:path>
              <a:path fill="darkenLess" w="21600" h="24928">
                <a:moveTo>
                  <a:pt x="21600" y="24928"/>
                </a:moveTo>
                <a:lnTo>
                  <a:pt x="0" y="24928"/>
                </a:lnTo>
                <a:lnTo>
                  <a:pt x="1400" y="23528"/>
                </a:lnTo>
                <a:lnTo>
                  <a:pt x="20200" y="23528"/>
                </a:lnTo>
                <a:close/>
              </a:path>
              <a:path fill="lighten" w="21600" h="24928">
                <a:moveTo>
                  <a:pt x="0" y="24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28"/>
                </a:lnTo>
                <a:close/>
              </a:path>
              <a:path fill="darken" w="21600" h="24928">
                <a:moveTo>
                  <a:pt x="3794" y="12464"/>
                </a:moveTo>
                <a:lnTo>
                  <a:pt x="17806" y="5457"/>
                </a:lnTo>
                <a:lnTo>
                  <a:pt x="17806" y="1947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 jove té 23 anys i el seu pare el doble. D'aquí a cinc anys, quants en tindran entre el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0800" y="2708280"/>
            <a:ext cx="8037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2600" y="28386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7162920" y="5029200"/>
            <a:ext cx="838080" cy="13716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1371600"/>
              <a:gd name="textAreaBottom" fmla="*/ 1317600 h 1371600"/>
            </a:gdLst>
            <a:ahLst/>
            <a:rect l="textAreaLeft" t="textAreaTop" r="textAreaRight" b="textAreaBottom"/>
            <a:pathLst>
              <a:path w="21600" h="35345">
                <a:moveTo>
                  <a:pt x="0" y="0"/>
                </a:moveTo>
                <a:lnTo>
                  <a:pt x="21600" y="0"/>
                </a:lnTo>
                <a:lnTo>
                  <a:pt x="21600" y="35345"/>
                </a:lnTo>
                <a:lnTo>
                  <a:pt x="0" y="35345"/>
                </a:lnTo>
                <a:close/>
              </a:path>
              <a:path fill="lightenLess" w="21600" h="353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345">
                <a:moveTo>
                  <a:pt x="21600" y="0"/>
                </a:moveTo>
                <a:lnTo>
                  <a:pt x="21600" y="35345"/>
                </a:lnTo>
                <a:lnTo>
                  <a:pt x="20200" y="33945"/>
                </a:lnTo>
                <a:lnTo>
                  <a:pt x="20200" y="1400"/>
                </a:lnTo>
                <a:close/>
              </a:path>
              <a:path fill="darkenLess" w="21600" h="35345">
                <a:moveTo>
                  <a:pt x="21600" y="35345"/>
                </a:moveTo>
                <a:lnTo>
                  <a:pt x="0" y="35345"/>
                </a:lnTo>
                <a:lnTo>
                  <a:pt x="1400" y="33945"/>
                </a:lnTo>
                <a:lnTo>
                  <a:pt x="20200" y="33945"/>
                </a:lnTo>
                <a:close/>
              </a:path>
              <a:path fill="lighten" w="21600" h="35345">
                <a:moveTo>
                  <a:pt x="0" y="35345"/>
                </a:moveTo>
                <a:lnTo>
                  <a:pt x="0" y="0"/>
                </a:lnTo>
                <a:lnTo>
                  <a:pt x="1400" y="1400"/>
                </a:lnTo>
                <a:lnTo>
                  <a:pt x="1400" y="33945"/>
                </a:lnTo>
                <a:close/>
              </a:path>
              <a:path fill="darken" w="21600" h="35345">
                <a:moveTo>
                  <a:pt x="3794" y="17672"/>
                </a:moveTo>
                <a:lnTo>
                  <a:pt x="17806" y="10666"/>
                </a:lnTo>
                <a:lnTo>
                  <a:pt x="17806" y="2467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380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 jove té 23 anys i el seu pare el doble. D'aquí a cinc anys, quants en tindran entre el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240" y="1981080"/>
            <a:ext cx="449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um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6477120" y="4648320"/>
            <a:ext cx="1218960" cy="152388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523880"/>
              <a:gd name="textAreaBottom" fmla="*/ 1445040 h 1523880"/>
            </a:gdLst>
            <a:ahLst/>
            <a:rect l="textAreaLeft" t="textAreaTop" r="textAreaRight" b="textAreaBottom"/>
            <a:pathLst>
              <a:path w="21600" h="27002">
                <a:moveTo>
                  <a:pt x="0" y="0"/>
                </a:moveTo>
                <a:lnTo>
                  <a:pt x="21600" y="0"/>
                </a:lnTo>
                <a:lnTo>
                  <a:pt x="21600" y="27002"/>
                </a:lnTo>
                <a:lnTo>
                  <a:pt x="0" y="27002"/>
                </a:lnTo>
                <a:close/>
              </a:path>
              <a:path fill="lightenLess" w="21600" h="270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2">
                <a:moveTo>
                  <a:pt x="21600" y="0"/>
                </a:moveTo>
                <a:lnTo>
                  <a:pt x="21600" y="27002"/>
                </a:lnTo>
                <a:lnTo>
                  <a:pt x="20200" y="25602"/>
                </a:lnTo>
                <a:lnTo>
                  <a:pt x="20200" y="1400"/>
                </a:lnTo>
                <a:close/>
              </a:path>
              <a:path fill="darkenLess" w="21600" h="27002">
                <a:moveTo>
                  <a:pt x="21600" y="27002"/>
                </a:moveTo>
                <a:lnTo>
                  <a:pt x="0" y="27002"/>
                </a:lnTo>
                <a:lnTo>
                  <a:pt x="1400" y="25602"/>
                </a:lnTo>
                <a:lnTo>
                  <a:pt x="20200" y="25602"/>
                </a:lnTo>
                <a:close/>
              </a:path>
              <a:path fill="lighten" w="21600" h="27002">
                <a:moveTo>
                  <a:pt x="0" y="270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2"/>
                </a:lnTo>
                <a:close/>
              </a:path>
              <a:path fill="darken" w="21600" h="27002">
                <a:moveTo>
                  <a:pt x="3794" y="13501"/>
                </a:moveTo>
                <a:lnTo>
                  <a:pt x="17806" y="6494"/>
                </a:lnTo>
                <a:lnTo>
                  <a:pt x="17806" y="20507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533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 jove té 23 anys i el seu pare el doble. D'aquí a cinc anys, quants en tindran entre el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2520" y="1828800"/>
            <a:ext cx="2139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3x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3+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46+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8+5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6781680" y="4800600"/>
            <a:ext cx="1219320" cy="137160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371600"/>
              <a:gd name="textAreaBottom" fmla="*/ 1292760 h 1371600"/>
            </a:gdLst>
            <a:ahLst/>
            <a:rect l="textAreaLeft" t="textAreaTop" r="textAreaRight" b="textAreaBottom"/>
            <a:pathLst>
              <a:path w="21600" h="24297">
                <a:moveTo>
                  <a:pt x="0" y="0"/>
                </a:moveTo>
                <a:lnTo>
                  <a:pt x="21600" y="0"/>
                </a:lnTo>
                <a:lnTo>
                  <a:pt x="21600" y="24297"/>
                </a:lnTo>
                <a:lnTo>
                  <a:pt x="0" y="24297"/>
                </a:lnTo>
                <a:close/>
              </a:path>
              <a:path fill="lightenLess" w="21600" h="24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7">
                <a:moveTo>
                  <a:pt x="21600" y="0"/>
                </a:moveTo>
                <a:lnTo>
                  <a:pt x="21600" y="24297"/>
                </a:lnTo>
                <a:lnTo>
                  <a:pt x="20200" y="22897"/>
                </a:lnTo>
                <a:lnTo>
                  <a:pt x="20200" y="1400"/>
                </a:lnTo>
                <a:close/>
              </a:path>
              <a:path fill="darkenLess" w="21600" h="24297">
                <a:moveTo>
                  <a:pt x="21600" y="24297"/>
                </a:moveTo>
                <a:lnTo>
                  <a:pt x="0" y="24297"/>
                </a:lnTo>
                <a:lnTo>
                  <a:pt x="1400" y="22897"/>
                </a:lnTo>
                <a:lnTo>
                  <a:pt x="20200" y="22897"/>
                </a:lnTo>
                <a:close/>
              </a:path>
              <a:path fill="lighten" w="21600" h="24297">
                <a:moveTo>
                  <a:pt x="0" y="24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7"/>
                </a:lnTo>
                <a:close/>
              </a:path>
              <a:path fill="darken" w="21600" h="24297">
                <a:moveTo>
                  <a:pt x="3794" y="12148"/>
                </a:moveTo>
                <a:lnTo>
                  <a:pt x="17806" y="5142"/>
                </a:lnTo>
                <a:lnTo>
                  <a:pt x="17806" y="19155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457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 jove té 23 anys i el seu pare el doble. D'aquí a cinc anys, quants en tindran entre el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2360" y="2133720"/>
            <a:ext cx="333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3x2=4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3+5=2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46+5=5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8+51=7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7315200" y="4952880"/>
            <a:ext cx="1066680" cy="129564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295640"/>
              <a:gd name="textAreaBottom" fmla="*/ 1226520 h 1295640"/>
            </a:gdLst>
            <a:ahLst/>
            <a:rect l="textAreaLeft" t="textAreaTop" r="textAreaRight" b="textAreaBottom"/>
            <a:pathLst>
              <a:path w="21600" h="26235">
                <a:moveTo>
                  <a:pt x="0" y="0"/>
                </a:moveTo>
                <a:lnTo>
                  <a:pt x="21600" y="0"/>
                </a:lnTo>
                <a:lnTo>
                  <a:pt x="21600" y="26235"/>
                </a:lnTo>
                <a:lnTo>
                  <a:pt x="0" y="26235"/>
                </a:lnTo>
                <a:close/>
              </a:path>
              <a:path fill="lightenLess" w="21600" h="262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35">
                <a:moveTo>
                  <a:pt x="21600" y="0"/>
                </a:moveTo>
                <a:lnTo>
                  <a:pt x="21600" y="26235"/>
                </a:lnTo>
                <a:lnTo>
                  <a:pt x="20200" y="24835"/>
                </a:lnTo>
                <a:lnTo>
                  <a:pt x="20200" y="1400"/>
                </a:lnTo>
                <a:close/>
              </a:path>
              <a:path fill="darkenLess" w="21600" h="26235">
                <a:moveTo>
                  <a:pt x="21600" y="26235"/>
                </a:moveTo>
                <a:lnTo>
                  <a:pt x="0" y="26235"/>
                </a:lnTo>
                <a:lnTo>
                  <a:pt x="1400" y="24835"/>
                </a:lnTo>
                <a:lnTo>
                  <a:pt x="20200" y="24835"/>
                </a:lnTo>
                <a:close/>
              </a:path>
              <a:path fill="lighten" w="21600" h="26235">
                <a:moveTo>
                  <a:pt x="0" y="262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35"/>
                </a:lnTo>
                <a:close/>
              </a:path>
              <a:path fill="darken" w="21600" h="26235">
                <a:moveTo>
                  <a:pt x="3794" y="13117"/>
                </a:moveTo>
                <a:lnTo>
                  <a:pt x="17806" y="6111"/>
                </a:lnTo>
                <a:lnTo>
                  <a:pt x="17806" y="2012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 jove té 23 anys i el seu pare el doble. D'aquí a cinc anys, quants en tindran entre el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523880"/>
            <a:ext cx="725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1r:Has de trobar l'edat del pare. 2n:Has de trobar quants anys tindrà el jove i quants anys tindrà el pare al cap de 5 an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3r: Si sumes els anys dels dos al cap de cinc anys sabràs el que tindran entre tots do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7391520" y="5410080"/>
            <a:ext cx="990360" cy="99072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1600" h="21608">
                <a:moveTo>
                  <a:pt x="0" y="0"/>
                </a:moveTo>
                <a:lnTo>
                  <a:pt x="21600" y="0"/>
                </a:lnTo>
                <a:lnTo>
                  <a:pt x="21600" y="21608"/>
                </a:lnTo>
                <a:lnTo>
                  <a:pt x="0" y="21608"/>
                </a:lnTo>
                <a:close/>
              </a:path>
              <a:path fill="lightenLess" w="21600" h="216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8">
                <a:moveTo>
                  <a:pt x="21600" y="0"/>
                </a:moveTo>
                <a:lnTo>
                  <a:pt x="21600" y="21608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8">
                <a:moveTo>
                  <a:pt x="21600" y="21608"/>
                </a:moveTo>
                <a:lnTo>
                  <a:pt x="0" y="21608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8">
                <a:moveTo>
                  <a:pt x="0" y="216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  <a:path fill="darken" w="21600" h="21608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457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 jove té 23 anys i el seu pare el doble. D'aquí a cinc anys, quants en tindran entre el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4280" y="2666880"/>
            <a:ext cx="554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(23+5)+(23x2+5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6858000" y="495288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11572"/>
                </a:moveTo>
                <a:lnTo>
                  <a:pt x="17806" y="4566"/>
                </a:lnTo>
                <a:lnTo>
                  <a:pt x="17806" y="1857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21:50:02Z</dcterms:created>
  <dc:creator>Daniel</dc:creator>
  <dc:description/>
  <dc:language>en-US</dc:language>
  <cp:lastModifiedBy>Daniel</cp:lastModifiedBy>
  <dcterms:modified xsi:type="dcterms:W3CDTF">2002-08-24T22:39:00Z</dcterms:modified>
  <cp:revision>33</cp:revision>
  <dc:subject/>
  <dc:title>Sin título de diapositiva</dc:title>
</cp:coreProperties>
</file>