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2F4-60C9-4CAD-89A5-DBEEF1B3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FFA-BF92-4495-9926-3A2EE142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121-9B07-4FD0-97F5-ECA5A524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F431-98F3-4FFD-9D79-4AA4E60E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0EA-1B70-4BAA-8651-93A010A9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1D9A-B57A-4DAD-A509-094A3496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1380-39BF-4ECB-8C02-343E60E8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952-02DE-4D02-8F7A-E2306C5F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9F5B-18C3-42ED-878F-A21E14E8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DD0C-8A20-4B9F-ABBD-7E2E18D5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D9C-3B8F-4019-8664-5FB1750D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16E-2199-41FD-A117-707459FD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81F2-504B-4691-9BE9-B251B9C0B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4.xml"/><Relationship Id="rId4" Type="http://schemas.openxmlformats.org/officeDocument/2006/relationships/image" Target="../media/image3.wmf"/><Relationship Id="rId5" Type="http://schemas.openxmlformats.org/officeDocument/2006/relationships/slide" Target="slide5.xml"/><Relationship Id="rId6" Type="http://schemas.openxmlformats.org/officeDocument/2006/relationships/image" Target="../media/image4.wmf"/><Relationship Id="rId7" Type="http://schemas.openxmlformats.org/officeDocument/2006/relationships/slide" Target="slide9.xml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9960" y="2878200"/>
            <a:ext cx="72640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5600" y="228600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 (64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86200" y="4495680"/>
            <a:ext cx="1469880" cy="16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0" y="5334120"/>
            <a:ext cx="911160" cy="834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11480" y="2133720"/>
            <a:ext cx="536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13969,5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388620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080" y="4495680"/>
            <a:ext cx="2706840" cy="542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304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a tirada d'un diari és de 20000 exemplars. S'han venut tots menys 1374. Quant s'ha guanyat si el preu de cada un és de 0,75 eur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3808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5181480" y="388620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5181480" y="4572000"/>
            <a:ext cx="179892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5181480" y="52578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5181480" y="594360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334120"/>
            <a:ext cx="911160" cy="834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380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tirada d'un diari és de 20000 exemplars. S'han venut tots menys 1374. Quant s'ha guanyat si el preu de cada un és de 0,75 eu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4800" y="1905120"/>
            <a:ext cx="6285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Tirada= 20000 diari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Diaris no venuts= 1374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/diari= 0,75 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Guany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334120"/>
            <a:ext cx="911160" cy="834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6858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tirada d'un diari és de 20000 exemplars. S'han venut tots menys 1374. Quant s'ha guanyat si el preu de cada un és de 0,75 eu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2600" y="2529000"/>
            <a:ext cx="8037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920" y="25909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334120"/>
            <a:ext cx="911160" cy="834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533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tirada d'un diari és de 20000 exemplars. S'han venut tots menys 1374. Quant s'ha guanyat si el preu de cada un és de 0,75 eu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99840" y="2590920"/>
            <a:ext cx="4415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334120"/>
            <a:ext cx="911160" cy="834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520" y="533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tirada d'un diari és de 20000 exemplars. S'han venut tots menys 1374. Quant s'ha guanyat si el preu de cada un és de 0,75 eu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8840" y="2971800"/>
            <a:ext cx="386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0000-137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8626x0,7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334120"/>
            <a:ext cx="911160" cy="834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5335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tirada d'un diari és de 20000 exemplars. S'han venut tots menys 1374. Quant s'ha guanyat si el preu de cada un és de 0,75 eu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7080" y="2362320"/>
            <a:ext cx="671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0000-1374=1862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8626x0,75=13969,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0" y="5334120"/>
            <a:ext cx="911160" cy="834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5335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tirada d'un diari és de 20000 exemplars. S'han venut tots menys 1374. Quant s'ha guanyat si el preu de cada un és de 0,75 eu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2362320"/>
            <a:ext cx="655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trobar quants diaris s'han ven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Trobar el que s'ha guanyat, sabent el preu de cada dia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0" y="5334120"/>
            <a:ext cx="911160" cy="834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6094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tirada d'un diari és de 20000 exemplars. S'han venut tots menys 1374. Quant s'ha guanyat si el preu de cada un és de 0,75 eu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5480" y="3276720"/>
            <a:ext cx="608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20000-1374)x0,7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23:04:04Z</dcterms:created>
  <dc:creator>Daniel</dc:creator>
  <dc:description/>
  <dc:language>en-US</dc:language>
  <cp:lastModifiedBy>Daniel</cp:lastModifiedBy>
  <dcterms:modified xsi:type="dcterms:W3CDTF">2002-11-12T23:08:07Z</dcterms:modified>
  <cp:revision>18</cp:revision>
  <dc:subject/>
  <dc:title>Sin título de diapositiva</dc:title>
</cp:coreProperties>
</file>