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224-2A5C-4B6B-9D94-1FC269C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F56-484D-45F5-93ED-24DB37B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DE9-F4D7-4417-91CB-41F58EB9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7B7-5CCE-4550-88B2-60DD786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8A3-53AF-4F7A-87ED-526851A0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BF0-50D0-4A1C-938B-D5B37F0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5BF-4A38-4BF3-B09B-2E53420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A52-FD34-4EAD-BD3C-A823FE9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85B-3B87-4A4F-8107-6157449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4F7-0A55-4E5B-98D9-A2145FB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289-3CBB-433A-971B-5A6137A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709-31A6-49C3-BA09-230DF46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06D6-3A31-4784-B924-DA1EE907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05320" y="46483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92360" y="220968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9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88620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9528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9528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609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5320" y="2438280"/>
            <a:ext cx="669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ides hort=40 m x 25 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tanca= 2 €/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total de la tanc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2120" y="2705040"/>
            <a:ext cx="8699760" cy="144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228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520" y="220968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2720" y="2362320"/>
            <a:ext cx="213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+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5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0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666880"/>
            <a:ext cx="366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+25=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5x2=1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0x3=3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9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720" y="2438280"/>
            <a:ext cx="851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er:S'ha de calcular la longitud del perímetre de l'hort, sabent quant fa de llarg i quant d'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Multiplicar el nº de metres de tanca necessària pel preu del me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6386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em envoltar amb una tanca un hort rectangular de 40 m x 25 m. Si la tanca es ven a 2 euros el metre, quant costarà la tanca de l'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2520" y="2895480"/>
            <a:ext cx="41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40+25)x2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29:45Z</dcterms:created>
  <dc:creator>Daniel</dc:creator>
  <dc:description/>
  <dc:language>en-US</dc:language>
  <cp:lastModifiedBy>Daniel</cp:lastModifiedBy>
  <dcterms:modified xsi:type="dcterms:W3CDTF">2002-12-30T12:38:03Z</dcterms:modified>
  <cp:revision>16</cp:revision>
  <dc:subject/>
  <dc:title>Sin título de diapositiva</dc:title>
</cp:coreProperties>
</file>