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43B-1293-4F9A-B767-1422F3EA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D8C-FAC1-4F37-AC1E-FD786EA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884-C2DE-4882-97B2-BC97213B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976-7056-4731-A0E7-CD952CDE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767-70AA-4EB5-A33E-7D9BE52D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390-1837-4FCE-998F-A85C6B41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309-1D49-4EB3-87A1-9C6B0B42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C6B-5150-41A4-8DC9-0296BC8E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0AF-FF59-410D-92A2-691903F0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ED0-75AE-4618-A930-FA7F290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45E-9A69-41EB-AE22-686FC53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D61-B4E7-4757-AC8F-6D62A6A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D003-5382-4518-B37F-3A709089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7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962520" y="4800600"/>
            <a:ext cx="115884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8840" y="2666880"/>
            <a:ext cx="44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3596'6 €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72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2004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48769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38080" y="579132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32004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038480"/>
            <a:ext cx="179244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49528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86400" y="579132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8640" y="1828800"/>
            <a:ext cx="827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reu inicial=3670 €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reu rebaixa=0,50 €/25€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reu final=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9600" y="304920"/>
            <a:ext cx="82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037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8960" y="2362320"/>
            <a:ext cx="44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360" y="2209680"/>
            <a:ext cx="360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70: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6,8x0,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70-73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360" y="2286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6200" y="2133720"/>
            <a:ext cx="582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70:25=146,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6,8x0,50=73,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70-73,4=3596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828800"/>
            <a:ext cx="830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S'ha de trobar les vegades que es conté 25 dins el preu in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Trobar a quant puja la rebaixa, sabent les vegades que conté 25 el preu i la quantitat de rebaixa (0,50 €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Trobar el preu final, sabent el que marcava al principi i el que marca 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objecte té marcat un preu de 3.670 euros. L'amo rebaixa 0,50 euros per cada 25 de despesa. Quant es pagarà per aquest obj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5120" y="2743200"/>
            <a:ext cx="67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70-(3670:25)x0,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181480"/>
            <a:ext cx="873000" cy="79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4:12Z</dcterms:created>
  <dc:creator>Daniel</dc:creator>
  <dc:description/>
  <dc:language>en-US</dc:language>
  <cp:lastModifiedBy>Daniel</cp:lastModifiedBy>
  <dcterms:modified xsi:type="dcterms:W3CDTF">2002-08-28T20:36:12Z</dcterms:modified>
  <cp:revision>20</cp:revision>
  <dc:subject/>
  <dc:title>Sin título de diapositiva</dc:title>
</cp:coreProperties>
</file>