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6DF-CF4F-4A5B-8BC5-002AFE0D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033-079F-4836-BC58-D38BB32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6A1-7C26-4B83-8089-17A9F48D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015-F4CE-4273-8D71-B252870D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822-2304-44EA-B1FA-07818900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A06-8542-4617-A52D-374C5C7C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322-185C-48F5-946F-6F3A406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49F-6187-4F34-A13F-30DC8B18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3A7-5E86-4942-BECD-0D374B7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181-8929-4038-A3E0-6E835315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752-3DC2-47C9-AFC0-444D736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2A7-530C-4032-BF55-BBE84E3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1F0-D815-4F22-9567-A8F63EC23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920" y="2590920"/>
            <a:ext cx="24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12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8098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094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86400" y="37339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86400" y="44197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8640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33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33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5320" y="2438280"/>
            <a:ext cx="455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1r angle=23º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2n angle=45º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3r angle=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3600" y="251460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289548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+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0-6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762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2880" y="2895480"/>
            <a:ext cx="410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+45=6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0-68= 1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6858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05740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calcular la suma dels dos angles conegu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abent que la suma dels tres angles d'un triangle fa 180º, s'ha de veure quan farà el tercer; veure la diferè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bem que dos dels angles d'un triangle mesuren 23º i 45º. Quant mesura el tercer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7080" y="3352680"/>
            <a:ext cx="404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0-(23+45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7:17Z</dcterms:created>
  <dc:creator>Daniel</dc:creator>
  <dc:description/>
  <dc:language>en-US</dc:language>
  <cp:lastModifiedBy>Daniel</cp:lastModifiedBy>
  <dcterms:modified xsi:type="dcterms:W3CDTF">2002-12-28T18:13:49Z</dcterms:modified>
  <cp:revision>18</cp:revision>
  <dc:subject/>
  <dc:title>Sin título de diapositiva</dc:title>
</cp:coreProperties>
</file>