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E8-1AE2-4ECF-80BD-58AD280A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7C4-7EDA-4167-B591-FFE3953F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3CF-1A63-454D-A789-CCD7C3CB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AAB-6A36-4EC1-9FFB-1F963D8F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149-41DB-42C3-8718-4A500B31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7FA-7226-40E6-8471-088ADB7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237-74CF-4787-9B60-0E805E3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4F8-F3C1-49CC-919B-F9059ADC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035-5850-4023-B538-324DC67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945-BA05-4809-BDD5-0A21897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3A0-E54E-4FC0-853E-F0B0D50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03F-4941-4D33-8204-A3EED66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A38-45DD-40C4-AB54-28CDDE5F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657600" y="5029200"/>
            <a:ext cx="1295280" cy="137160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371600"/>
              <a:gd name="textAreaBottom" fmla="*/ 1287720 h 1371600"/>
            </a:gdLst>
            <a:ahLst/>
            <a:rect l="textAreaLeft" t="textAreaTop" r="textAreaRight" b="textAreaBottom"/>
            <a:pathLst>
              <a:path w="21600" h="22872">
                <a:moveTo>
                  <a:pt x="0" y="0"/>
                </a:moveTo>
                <a:lnTo>
                  <a:pt x="21600" y="0"/>
                </a:lnTo>
                <a:lnTo>
                  <a:pt x="21600" y="22872"/>
                </a:lnTo>
                <a:lnTo>
                  <a:pt x="0" y="22872"/>
                </a:lnTo>
                <a:close/>
              </a:path>
              <a:path fill="lightenLess" w="21600" h="228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72">
                <a:moveTo>
                  <a:pt x="21600" y="0"/>
                </a:moveTo>
                <a:lnTo>
                  <a:pt x="21600" y="22872"/>
                </a:lnTo>
                <a:lnTo>
                  <a:pt x="20200" y="21472"/>
                </a:lnTo>
                <a:lnTo>
                  <a:pt x="20200" y="1400"/>
                </a:lnTo>
                <a:close/>
              </a:path>
              <a:path fill="darkenLess" w="21600" h="22872">
                <a:moveTo>
                  <a:pt x="21600" y="22872"/>
                </a:moveTo>
                <a:lnTo>
                  <a:pt x="0" y="22872"/>
                </a:lnTo>
                <a:lnTo>
                  <a:pt x="1400" y="21472"/>
                </a:lnTo>
                <a:lnTo>
                  <a:pt x="20200" y="21472"/>
                </a:lnTo>
                <a:close/>
              </a:path>
              <a:path fill="lighten" w="21600" h="22872">
                <a:moveTo>
                  <a:pt x="0" y="228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72"/>
                </a:lnTo>
                <a:close/>
              </a:path>
              <a:path fill="darken" w="21600" h="22872">
                <a:moveTo>
                  <a:pt x="10800" y="4473"/>
                </a:moveTo>
                <a:lnTo>
                  <a:pt x="13376" y="7084"/>
                </a:lnTo>
                <a:lnTo>
                  <a:pt x="13376" y="5344"/>
                </a:lnTo>
                <a:lnTo>
                  <a:pt x="15152" y="5344"/>
                </a:lnTo>
                <a:lnTo>
                  <a:pt x="15152" y="8860"/>
                </a:lnTo>
                <a:lnTo>
                  <a:pt x="17763" y="11436"/>
                </a:lnTo>
                <a:lnTo>
                  <a:pt x="16109" y="11436"/>
                </a:lnTo>
                <a:lnTo>
                  <a:pt x="16109" y="18625"/>
                </a:lnTo>
                <a:lnTo>
                  <a:pt x="5491" y="18625"/>
                </a:lnTo>
                <a:lnTo>
                  <a:pt x="5491" y="11436"/>
                </a:lnTo>
                <a:lnTo>
                  <a:pt x="3837" y="11436"/>
                </a:lnTo>
                <a:close/>
              </a:path>
              <a:path fill="darkenLess" w="21600" h="22872">
                <a:moveTo>
                  <a:pt x="13376" y="7084"/>
                </a:moveTo>
                <a:lnTo>
                  <a:pt x="13376" y="5344"/>
                </a:lnTo>
                <a:lnTo>
                  <a:pt x="15152" y="5344"/>
                </a:lnTo>
                <a:lnTo>
                  <a:pt x="15152" y="8860"/>
                </a:lnTo>
                <a:close/>
              </a:path>
              <a:path fill="darkenLess" w="21600" h="22872">
                <a:moveTo>
                  <a:pt x="9877" y="14935"/>
                </a:moveTo>
                <a:lnTo>
                  <a:pt x="11723" y="14935"/>
                </a:lnTo>
                <a:lnTo>
                  <a:pt x="11723" y="18625"/>
                </a:lnTo>
                <a:lnTo>
                  <a:pt x="16109" y="18625"/>
                </a:lnTo>
                <a:lnTo>
                  <a:pt x="16109" y="11436"/>
                </a:lnTo>
                <a:lnTo>
                  <a:pt x="5491" y="11436"/>
                </a:lnTo>
                <a:lnTo>
                  <a:pt x="5491" y="18625"/>
                </a:lnTo>
                <a:lnTo>
                  <a:pt x="9877" y="186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0960" y="2743200"/>
            <a:ext cx="48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4 euro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6629400" y="48006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7913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28954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286000"/>
            <a:ext cx="466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5 novel.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4,20 €/novel.l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iccionari=15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ament= 50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238880" y="5181480"/>
            <a:ext cx="914400" cy="13716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371600"/>
              <a:gd name="textAreaBottom" fmla="*/ 1312560 h 1371600"/>
            </a:gdLst>
            <a:ahLst/>
            <a:rect l="textAreaLeft" t="textAreaTop" r="textAreaRight" b="textAreaBottom"/>
            <a:pathLst>
              <a:path w="21600" h="32396">
                <a:moveTo>
                  <a:pt x="0" y="0"/>
                </a:moveTo>
                <a:lnTo>
                  <a:pt x="21600" y="0"/>
                </a:lnTo>
                <a:lnTo>
                  <a:pt x="21600" y="32396"/>
                </a:lnTo>
                <a:lnTo>
                  <a:pt x="0" y="32396"/>
                </a:lnTo>
                <a:close/>
              </a:path>
              <a:path fill="lightenLess" w="21600" h="323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6">
                <a:moveTo>
                  <a:pt x="21600" y="0"/>
                </a:moveTo>
                <a:lnTo>
                  <a:pt x="21600" y="32396"/>
                </a:lnTo>
                <a:lnTo>
                  <a:pt x="20200" y="30996"/>
                </a:lnTo>
                <a:lnTo>
                  <a:pt x="20200" y="1400"/>
                </a:lnTo>
                <a:close/>
              </a:path>
              <a:path fill="darkenLess" w="21600" h="32396">
                <a:moveTo>
                  <a:pt x="21600" y="32396"/>
                </a:moveTo>
                <a:lnTo>
                  <a:pt x="0" y="32396"/>
                </a:lnTo>
                <a:lnTo>
                  <a:pt x="1400" y="30996"/>
                </a:lnTo>
                <a:lnTo>
                  <a:pt x="20200" y="30996"/>
                </a:lnTo>
                <a:close/>
              </a:path>
              <a:path fill="lighten" w="21600" h="32396">
                <a:moveTo>
                  <a:pt x="0" y="3239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6"/>
                </a:lnTo>
                <a:close/>
              </a:path>
              <a:path fill="darken" w="21600" h="32396">
                <a:moveTo>
                  <a:pt x="3794" y="16198"/>
                </a:moveTo>
                <a:lnTo>
                  <a:pt x="17806" y="9191"/>
                </a:lnTo>
                <a:lnTo>
                  <a:pt x="17806" y="2320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2708280"/>
            <a:ext cx="803772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86600" y="502920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10800"/>
                </a:moveTo>
                <a:lnTo>
                  <a:pt x="19155" y="3794"/>
                </a:lnTo>
                <a:lnTo>
                  <a:pt x="1915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560" y="21337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553080" y="4419720"/>
            <a:ext cx="1295640" cy="175248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752480"/>
              <a:gd name="textAreaBottom" fmla="*/ 1668600 h 1752480"/>
            </a:gdLst>
            <a:ahLst/>
            <a:rect l="textAreaLeft" t="textAreaTop" r="textAreaRight" b="textAreaBottom"/>
            <a:pathLst>
              <a:path w="21600" h="29214">
                <a:moveTo>
                  <a:pt x="0" y="0"/>
                </a:moveTo>
                <a:lnTo>
                  <a:pt x="21600" y="0"/>
                </a:lnTo>
                <a:lnTo>
                  <a:pt x="21600" y="29214"/>
                </a:lnTo>
                <a:lnTo>
                  <a:pt x="0" y="29214"/>
                </a:lnTo>
                <a:close/>
              </a:path>
              <a:path fill="lightenLess" w="21600" h="292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14">
                <a:moveTo>
                  <a:pt x="21600" y="0"/>
                </a:moveTo>
                <a:lnTo>
                  <a:pt x="21600" y="29214"/>
                </a:lnTo>
                <a:lnTo>
                  <a:pt x="20200" y="27814"/>
                </a:lnTo>
                <a:lnTo>
                  <a:pt x="20200" y="1400"/>
                </a:lnTo>
                <a:close/>
              </a:path>
              <a:path fill="darkenLess" w="21600" h="29214">
                <a:moveTo>
                  <a:pt x="21600" y="29214"/>
                </a:moveTo>
                <a:lnTo>
                  <a:pt x="0" y="29214"/>
                </a:lnTo>
                <a:lnTo>
                  <a:pt x="1400" y="27814"/>
                </a:lnTo>
                <a:lnTo>
                  <a:pt x="20200" y="27814"/>
                </a:lnTo>
                <a:close/>
              </a:path>
              <a:path fill="lighten" w="21600" h="29214">
                <a:moveTo>
                  <a:pt x="0" y="292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14"/>
                </a:lnTo>
                <a:close/>
              </a:path>
              <a:path fill="darken" w="21600" h="29214">
                <a:moveTo>
                  <a:pt x="3794" y="14607"/>
                </a:moveTo>
                <a:lnTo>
                  <a:pt x="17806" y="7601"/>
                </a:lnTo>
                <a:lnTo>
                  <a:pt x="17806" y="2161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304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2160" y="2133720"/>
            <a:ext cx="227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,20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1+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0-3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6553080" y="4724280"/>
            <a:ext cx="1219320" cy="14479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920"/>
              <a:gd name="textAreaBottom" fmla="*/ 1369080 h 1447920"/>
            </a:gdLst>
            <a:ahLst/>
            <a:rect l="textAreaLeft" t="textAreaTop" r="textAreaRight" b="textAreaBottom"/>
            <a:pathLst>
              <a:path w="21600" h="25648">
                <a:moveTo>
                  <a:pt x="0" y="0"/>
                </a:moveTo>
                <a:lnTo>
                  <a:pt x="21600" y="0"/>
                </a:lnTo>
                <a:lnTo>
                  <a:pt x="21600" y="25648"/>
                </a:lnTo>
                <a:lnTo>
                  <a:pt x="0" y="25648"/>
                </a:lnTo>
                <a:close/>
              </a:path>
              <a:path fill="lightenLess" w="21600" h="25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8">
                <a:moveTo>
                  <a:pt x="21600" y="0"/>
                </a:moveTo>
                <a:lnTo>
                  <a:pt x="21600" y="25648"/>
                </a:lnTo>
                <a:lnTo>
                  <a:pt x="20200" y="24248"/>
                </a:lnTo>
                <a:lnTo>
                  <a:pt x="20200" y="1400"/>
                </a:lnTo>
                <a:close/>
              </a:path>
              <a:path fill="darkenLess" w="21600" h="25648">
                <a:moveTo>
                  <a:pt x="21600" y="25648"/>
                </a:moveTo>
                <a:lnTo>
                  <a:pt x="0" y="25648"/>
                </a:lnTo>
                <a:lnTo>
                  <a:pt x="1400" y="24248"/>
                </a:lnTo>
                <a:lnTo>
                  <a:pt x="20200" y="24248"/>
                </a:lnTo>
                <a:close/>
              </a:path>
              <a:path fill="lighten" w="21600" h="25648">
                <a:moveTo>
                  <a:pt x="0" y="25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8"/>
                </a:lnTo>
                <a:close/>
              </a:path>
              <a:path fill="darken" w="21600" h="25648">
                <a:moveTo>
                  <a:pt x="3794" y="12824"/>
                </a:moveTo>
                <a:lnTo>
                  <a:pt x="17806" y="5818"/>
                </a:lnTo>
                <a:lnTo>
                  <a:pt x="17806" y="1983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9720" y="2057400"/>
            <a:ext cx="366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,20x5= 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1+15=3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0-36=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162920" y="4648320"/>
            <a:ext cx="990360" cy="13716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9912">
                <a:moveTo>
                  <a:pt x="0" y="0"/>
                </a:moveTo>
                <a:lnTo>
                  <a:pt x="21600" y="0"/>
                </a:lnTo>
                <a:lnTo>
                  <a:pt x="21600" y="29912"/>
                </a:lnTo>
                <a:lnTo>
                  <a:pt x="0" y="29912"/>
                </a:lnTo>
                <a:close/>
              </a:path>
              <a:path fill="lightenLess" w="21600" h="299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12">
                <a:moveTo>
                  <a:pt x="21600" y="0"/>
                </a:moveTo>
                <a:lnTo>
                  <a:pt x="21600" y="29912"/>
                </a:lnTo>
                <a:lnTo>
                  <a:pt x="20200" y="28512"/>
                </a:lnTo>
                <a:lnTo>
                  <a:pt x="20200" y="1400"/>
                </a:lnTo>
                <a:close/>
              </a:path>
              <a:path fill="darkenLess" w="21600" h="29912">
                <a:moveTo>
                  <a:pt x="21600" y="29912"/>
                </a:moveTo>
                <a:lnTo>
                  <a:pt x="0" y="29912"/>
                </a:lnTo>
                <a:lnTo>
                  <a:pt x="1400" y="28512"/>
                </a:lnTo>
                <a:lnTo>
                  <a:pt x="20200" y="28512"/>
                </a:lnTo>
                <a:close/>
              </a:path>
              <a:path fill="lighten" w="21600" h="29912">
                <a:moveTo>
                  <a:pt x="0" y="299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12"/>
                </a:lnTo>
                <a:close/>
              </a:path>
              <a:path fill="darken" w="21600" h="29912">
                <a:moveTo>
                  <a:pt x="3794" y="14956"/>
                </a:moveTo>
                <a:lnTo>
                  <a:pt x="17806" y="7949"/>
                </a:lnTo>
                <a:lnTo>
                  <a:pt x="17806" y="2196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676520"/>
            <a:ext cx="68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S'ha de trobar el que valen les novel.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Se li ha d'afegir el que li costa el dicciona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S'ha de restar dels 50 euros per saber quan li tornaran de can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96080" y="5029200"/>
            <a:ext cx="838440" cy="11430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1143000"/>
              <a:gd name="textAreaBottom" fmla="*/ 1088640 h 1143000"/>
            </a:gdLst>
            <a:ahLst/>
            <a:rect l="textAreaLeft" t="textAreaTop" r="textAreaRight" b="textAreaBottom"/>
            <a:pathLst>
              <a:path w="21600" h="29443">
                <a:moveTo>
                  <a:pt x="0" y="0"/>
                </a:moveTo>
                <a:lnTo>
                  <a:pt x="21600" y="0"/>
                </a:lnTo>
                <a:lnTo>
                  <a:pt x="21600" y="29443"/>
                </a:lnTo>
                <a:lnTo>
                  <a:pt x="0" y="29443"/>
                </a:lnTo>
                <a:close/>
              </a:path>
              <a:path fill="lightenLess" w="21600" h="294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43">
                <a:moveTo>
                  <a:pt x="21600" y="0"/>
                </a:moveTo>
                <a:lnTo>
                  <a:pt x="21600" y="29443"/>
                </a:lnTo>
                <a:lnTo>
                  <a:pt x="20200" y="28043"/>
                </a:lnTo>
                <a:lnTo>
                  <a:pt x="20200" y="1400"/>
                </a:lnTo>
                <a:close/>
              </a:path>
              <a:path fill="darkenLess" w="21600" h="29443">
                <a:moveTo>
                  <a:pt x="21600" y="29443"/>
                </a:moveTo>
                <a:lnTo>
                  <a:pt x="0" y="29443"/>
                </a:lnTo>
                <a:lnTo>
                  <a:pt x="1400" y="28043"/>
                </a:lnTo>
                <a:lnTo>
                  <a:pt x="20200" y="28043"/>
                </a:lnTo>
                <a:close/>
              </a:path>
              <a:path fill="lighten" w="21600" h="29443">
                <a:moveTo>
                  <a:pt x="0" y="294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43"/>
                </a:lnTo>
                <a:close/>
              </a:path>
              <a:path fill="darken" w="21600" h="29443">
                <a:moveTo>
                  <a:pt x="3794" y="14721"/>
                </a:moveTo>
                <a:lnTo>
                  <a:pt x="17806" y="7715"/>
                </a:lnTo>
                <a:lnTo>
                  <a:pt x="17806" y="217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 Carme va comprar 5 novel.les a 4,20 euros cadascuna i un diccionari per 15 euros. Quant li tornaran si va pagar amb un bitllet de 50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1304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840" y="259092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0-(4'20x5+15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248520" y="4648320"/>
            <a:ext cx="1066680" cy="121896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8960"/>
              <a:gd name="textAreaBottom" fmla="*/ 1149840 h 1218960"/>
            </a:gdLst>
            <a:ahLst/>
            <a:rect l="textAreaLeft" t="textAreaTop" r="textAreaRight" b="textAreaBottom"/>
            <a:pathLst>
              <a:path w="21600" h="24683">
                <a:moveTo>
                  <a:pt x="0" y="0"/>
                </a:moveTo>
                <a:lnTo>
                  <a:pt x="21600" y="0"/>
                </a:lnTo>
                <a:lnTo>
                  <a:pt x="21600" y="24683"/>
                </a:lnTo>
                <a:lnTo>
                  <a:pt x="0" y="24683"/>
                </a:lnTo>
                <a:close/>
              </a:path>
              <a:path fill="lightenLess" w="21600" h="24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3">
                <a:moveTo>
                  <a:pt x="21600" y="0"/>
                </a:moveTo>
                <a:lnTo>
                  <a:pt x="21600" y="24683"/>
                </a:lnTo>
                <a:lnTo>
                  <a:pt x="20200" y="23283"/>
                </a:lnTo>
                <a:lnTo>
                  <a:pt x="20200" y="1400"/>
                </a:lnTo>
                <a:close/>
              </a:path>
              <a:path fill="darkenLess" w="21600" h="24683">
                <a:moveTo>
                  <a:pt x="21600" y="24683"/>
                </a:moveTo>
                <a:lnTo>
                  <a:pt x="0" y="24683"/>
                </a:lnTo>
                <a:lnTo>
                  <a:pt x="1400" y="23283"/>
                </a:lnTo>
                <a:lnTo>
                  <a:pt x="20200" y="23283"/>
                </a:lnTo>
                <a:close/>
              </a:path>
              <a:path fill="lighten" w="21600" h="24683">
                <a:moveTo>
                  <a:pt x="0" y="24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3"/>
                </a:lnTo>
                <a:close/>
              </a:path>
              <a:path fill="darken" w="21600" h="24683">
                <a:moveTo>
                  <a:pt x="3794" y="12341"/>
                </a:moveTo>
                <a:lnTo>
                  <a:pt x="17806" y="5335"/>
                </a:lnTo>
                <a:lnTo>
                  <a:pt x="17806" y="1934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48:57Z</dcterms:created>
  <dc:creator>Daniel</dc:creator>
  <dc:description/>
  <dc:language>en-US</dc:language>
  <cp:lastModifiedBy>Daniel</cp:lastModifiedBy>
  <dcterms:modified xsi:type="dcterms:W3CDTF">2002-10-15T21:20:54Z</dcterms:modified>
  <cp:revision>34</cp:revision>
  <dc:subject/>
  <dc:title>Sin título de diapositiva</dc:title>
</cp:coreProperties>
</file>