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A16-BCA4-4F11-B535-65763E1E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CB9-76F5-47AB-BDD0-FC6C83B4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8C1-F925-40AC-9250-7B1DE5CF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DBF-0EDD-4808-8C37-C4FDB772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868-B2C8-434F-82B9-C2BF71BC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60B-F518-480D-91C0-84C7C172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652-F81E-4DC1-A1FE-A8A7090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5F1-E5A0-43D4-A3F3-E7F1C973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A1C-497E-4AC9-9FE4-9F0F242F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8AD-8C28-4CC6-B229-B986A96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E82-020D-4547-9A75-972D303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261-8FE5-452A-A864-437B8AB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A645-91CF-4118-A78A-22BB7E677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4.xml"/><Relationship Id="rId4" Type="http://schemas.openxmlformats.org/officeDocument/2006/relationships/image" Target="../media/image2.wmf"/><Relationship Id="rId5" Type="http://schemas.openxmlformats.org/officeDocument/2006/relationships/slide" Target="slide5.xml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193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4400"/>
            <a:ext cx="6662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3809880" y="4419720"/>
            <a:ext cx="1524240" cy="1752480"/>
          </a:xfrm>
          <a:custGeom>
            <a:avLst/>
            <a:gdLst>
              <a:gd name="textAreaLeft" fmla="*/ 98640 w 1524240"/>
              <a:gd name="textAreaRight" fmla="*/ 1425600 w 1524240"/>
              <a:gd name="textAreaTop" fmla="*/ 98640 h 1752480"/>
              <a:gd name="textAreaBottom" fmla="*/ 1653840 h 175248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10800" y="5454"/>
                </a:moveTo>
                <a:lnTo>
                  <a:pt x="13376" y="8065"/>
                </a:lnTo>
                <a:lnTo>
                  <a:pt x="13376" y="6324"/>
                </a:lnTo>
                <a:lnTo>
                  <a:pt x="15152" y="6324"/>
                </a:lnTo>
                <a:lnTo>
                  <a:pt x="15152" y="9841"/>
                </a:lnTo>
                <a:lnTo>
                  <a:pt x="17763" y="12417"/>
                </a:lnTo>
                <a:lnTo>
                  <a:pt x="16109" y="12417"/>
                </a:lnTo>
                <a:lnTo>
                  <a:pt x="16109" y="19606"/>
                </a:lnTo>
                <a:lnTo>
                  <a:pt x="5491" y="19606"/>
                </a:lnTo>
                <a:lnTo>
                  <a:pt x="5491" y="12417"/>
                </a:lnTo>
                <a:lnTo>
                  <a:pt x="3837" y="12417"/>
                </a:lnTo>
                <a:close/>
              </a:path>
              <a:path fill="darkenLess" w="21600" h="24834">
                <a:moveTo>
                  <a:pt x="13376" y="8065"/>
                </a:moveTo>
                <a:lnTo>
                  <a:pt x="13376" y="6324"/>
                </a:lnTo>
                <a:lnTo>
                  <a:pt x="15152" y="6324"/>
                </a:lnTo>
                <a:lnTo>
                  <a:pt x="15152" y="9841"/>
                </a:lnTo>
                <a:close/>
              </a:path>
              <a:path fill="darkenLess" w="21600" h="24834">
                <a:moveTo>
                  <a:pt x="9877" y="15916"/>
                </a:moveTo>
                <a:lnTo>
                  <a:pt x="11723" y="15916"/>
                </a:lnTo>
                <a:lnTo>
                  <a:pt x="11723" y="19606"/>
                </a:lnTo>
                <a:lnTo>
                  <a:pt x="16109" y="19606"/>
                </a:lnTo>
                <a:lnTo>
                  <a:pt x="16109" y="12417"/>
                </a:lnTo>
                <a:lnTo>
                  <a:pt x="5491" y="12417"/>
                </a:lnTo>
                <a:lnTo>
                  <a:pt x="5491" y="19606"/>
                </a:lnTo>
                <a:lnTo>
                  <a:pt x="9877" y="196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2880" y="2514600"/>
            <a:ext cx="37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9 any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162920" y="4800600"/>
            <a:ext cx="1218960" cy="137160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304">
                <a:moveTo>
                  <a:pt x="0" y="0"/>
                </a:moveTo>
                <a:lnTo>
                  <a:pt x="21600" y="0"/>
                </a:lnTo>
                <a:lnTo>
                  <a:pt x="21600" y="24304"/>
                </a:lnTo>
                <a:lnTo>
                  <a:pt x="0" y="24304"/>
                </a:lnTo>
                <a:close/>
              </a:path>
              <a:path fill="lightenLess" w="21600" h="243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4">
                <a:moveTo>
                  <a:pt x="21600" y="0"/>
                </a:moveTo>
                <a:lnTo>
                  <a:pt x="21600" y="24304"/>
                </a:lnTo>
                <a:lnTo>
                  <a:pt x="20200" y="22904"/>
                </a:lnTo>
                <a:lnTo>
                  <a:pt x="20200" y="1400"/>
                </a:lnTo>
                <a:close/>
              </a:path>
              <a:path fill="darkenLess" w="21600" h="24304">
                <a:moveTo>
                  <a:pt x="21600" y="24304"/>
                </a:moveTo>
                <a:lnTo>
                  <a:pt x="0" y="24304"/>
                </a:lnTo>
                <a:lnTo>
                  <a:pt x="1400" y="22904"/>
                </a:lnTo>
                <a:lnTo>
                  <a:pt x="20200" y="22904"/>
                </a:lnTo>
                <a:close/>
              </a:path>
              <a:path fill="lighten" w="21600" h="24304">
                <a:moveTo>
                  <a:pt x="0" y="243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4"/>
                </a:lnTo>
                <a:close/>
              </a:path>
              <a:path fill="darken" w="21600" h="24304">
                <a:moveTo>
                  <a:pt x="3794" y="12152"/>
                </a:moveTo>
                <a:lnTo>
                  <a:pt x="17806" y="5146"/>
                </a:lnTo>
                <a:lnTo>
                  <a:pt x="17806" y="19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3808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n una classe de 48 nens, la suma de les edats de tots els nens és igual a 18 vegades la del mestre. Quina és l'edat mitja de cada nen si el mestre té 24 an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0384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20" y="502920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6212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257800" y="30481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334120" y="3962520"/>
            <a:ext cx="17920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5334120" y="4952880"/>
            <a:ext cx="339552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5410080" y="6019920"/>
            <a:ext cx="191160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 una classe de 48 nens, la suma de les edats de tots els nens és igual a 18 vegades la del mestre. Quina és l'edat mitja de cada nen si el mestre té 24 an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190512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lasse=48 nen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Suma edats nens=18 vgs mestr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dat mestre=2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dat mitjana nen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315200" y="502920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2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2"/>
                </a:lnTo>
                <a:lnTo>
                  <a:pt x="20200" y="26372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2"/>
                </a:lnTo>
                <a:close/>
              </a:path>
              <a:path fill="darken" w="21600" h="27772">
                <a:moveTo>
                  <a:pt x="3794" y="13886"/>
                </a:moveTo>
                <a:lnTo>
                  <a:pt x="17806" y="6880"/>
                </a:lnTo>
                <a:lnTo>
                  <a:pt x="17806" y="2089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 una classe de 48 nens, la suma de les edats de tots els nens és igual a 18 vegades la del mestre. Quina és l'edat mitja de cada nen si el mestre té 24 an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9720" y="2751120"/>
            <a:ext cx="7861320" cy="13478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391520" y="5029200"/>
            <a:ext cx="1066680" cy="121932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19320"/>
              <a:gd name="textAreaBottom" fmla="*/ 1150200 h 121932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57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 una classe de 48 nens, la suma de les edats de tots els nens és igual a 18 vegades la del mestre. Quina és l'edat mitja de cada nen si el mestre té 24 an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320" y="236232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6934320" y="48769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4430" y="10800"/>
                </a:moveTo>
                <a:lnTo>
                  <a:pt x="18443" y="3794"/>
                </a:lnTo>
                <a:lnTo>
                  <a:pt x="18443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 una classe de 48 nens, la suma de les edats de tots els nens és igual a 18 vegades la del mestre. Quina és l'edat mitja de cada nen si el mestre té 24 an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0400" y="2133720"/>
            <a:ext cx="23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4x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432:4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7162920" y="5105520"/>
            <a:ext cx="1218960" cy="129528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2952">
                <a:moveTo>
                  <a:pt x="0" y="0"/>
                </a:moveTo>
                <a:lnTo>
                  <a:pt x="21600" y="0"/>
                </a:lnTo>
                <a:lnTo>
                  <a:pt x="21600" y="22952"/>
                </a:lnTo>
                <a:lnTo>
                  <a:pt x="0" y="22952"/>
                </a:lnTo>
                <a:close/>
              </a:path>
              <a:path fill="lightenLess" w="21600" h="22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2">
                <a:moveTo>
                  <a:pt x="21600" y="0"/>
                </a:moveTo>
                <a:lnTo>
                  <a:pt x="21600" y="22952"/>
                </a:lnTo>
                <a:lnTo>
                  <a:pt x="20200" y="21552"/>
                </a:lnTo>
                <a:lnTo>
                  <a:pt x="20200" y="1400"/>
                </a:lnTo>
                <a:close/>
              </a:path>
              <a:path fill="darkenLess" w="21600" h="22952">
                <a:moveTo>
                  <a:pt x="21600" y="22952"/>
                </a:moveTo>
                <a:lnTo>
                  <a:pt x="0" y="22952"/>
                </a:lnTo>
                <a:lnTo>
                  <a:pt x="1400" y="21552"/>
                </a:lnTo>
                <a:lnTo>
                  <a:pt x="20200" y="21552"/>
                </a:lnTo>
                <a:close/>
              </a:path>
              <a:path fill="lighten" w="21600" h="22952">
                <a:moveTo>
                  <a:pt x="0" y="22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2"/>
                </a:lnTo>
                <a:close/>
              </a:path>
              <a:path fill="darken" w="21600" h="22952">
                <a:moveTo>
                  <a:pt x="3794" y="11476"/>
                </a:moveTo>
                <a:lnTo>
                  <a:pt x="17806" y="4470"/>
                </a:lnTo>
                <a:lnTo>
                  <a:pt x="17806" y="18482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 una classe de 48 nens, la suma de les edats de tots els nens és igual a 18 vegades la del mestre. Quina és l'edat mitja de cada nen si el mestre té 24 an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21120" y="2362320"/>
            <a:ext cx="366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4x18=43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432:48=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5029200"/>
            <a:ext cx="1447560" cy="1295280"/>
          </a:xfrm>
          <a:custGeom>
            <a:avLst/>
            <a:gdLst>
              <a:gd name="textAreaLeft" fmla="*/ 83880 w 1447560"/>
              <a:gd name="textAreaRight" fmla="*/ 1363680 w 14475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39" h="21600">
                <a:moveTo>
                  <a:pt x="0" y="0"/>
                </a:moveTo>
                <a:lnTo>
                  <a:pt x="24139" y="0"/>
                </a:lnTo>
                <a:lnTo>
                  <a:pt x="24139" y="21600"/>
                </a:lnTo>
                <a:lnTo>
                  <a:pt x="0" y="21600"/>
                </a:lnTo>
                <a:close/>
              </a:path>
              <a:path fill="lightenLess" w="24139" h="21600">
                <a:moveTo>
                  <a:pt x="0" y="0"/>
                </a:moveTo>
                <a:lnTo>
                  <a:pt x="24139" y="0"/>
                </a:lnTo>
                <a:lnTo>
                  <a:pt x="22739" y="1400"/>
                </a:lnTo>
                <a:lnTo>
                  <a:pt x="1400" y="1400"/>
                </a:lnTo>
                <a:close/>
              </a:path>
              <a:path fill="darken" w="24139" h="21600">
                <a:moveTo>
                  <a:pt x="24139" y="0"/>
                </a:moveTo>
                <a:lnTo>
                  <a:pt x="24139" y="21600"/>
                </a:lnTo>
                <a:lnTo>
                  <a:pt x="22739" y="20200"/>
                </a:lnTo>
                <a:lnTo>
                  <a:pt x="22739" y="1400"/>
                </a:lnTo>
                <a:close/>
              </a:path>
              <a:path fill="darkenLess" w="24139" h="21600">
                <a:moveTo>
                  <a:pt x="24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9" y="20200"/>
                </a:lnTo>
                <a:close/>
              </a:path>
              <a:path fill="lighten" w="24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9" h="21600">
                <a:moveTo>
                  <a:pt x="5063" y="10800"/>
                </a:moveTo>
                <a:lnTo>
                  <a:pt x="19076" y="3794"/>
                </a:lnTo>
                <a:lnTo>
                  <a:pt x="190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 una classe de 48 nens, la suma de les edats de tots els nens és igual a 18 vegades la del mestre. Quina és l'edat mitja de cada nen si el mestre té 24 an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765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 He de trobar la suma de les edats de tots els nens, trobant el valor de 18 vegades l'edat del mest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2n: Si sé l'edat total de tots els alumnes, he de trobar l'edat d'1 sol alumne (edat mitja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10800"/>
                </a:moveTo>
                <a:lnTo>
                  <a:pt x="19466" y="3794"/>
                </a:lnTo>
                <a:lnTo>
                  <a:pt x="1946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457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 una classe de 48 nens, la suma de les edats de tots els nens és igual a 18 vegades la del mestre. Quina és l'edat mitja de cada nen si el mestre té 24 an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3040" y="259092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(24x18):4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6934320" y="4648320"/>
            <a:ext cx="1676160" cy="1295280"/>
          </a:xfrm>
          <a:custGeom>
            <a:avLst/>
            <a:gdLst>
              <a:gd name="textAreaLeft" fmla="*/ 83880 w 1676160"/>
              <a:gd name="textAreaRight" fmla="*/ 1592280 w 16761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0" h="21600">
                <a:moveTo>
                  <a:pt x="0" y="0"/>
                </a:moveTo>
                <a:lnTo>
                  <a:pt x="27950" y="0"/>
                </a:lnTo>
                <a:lnTo>
                  <a:pt x="27950" y="21600"/>
                </a:lnTo>
                <a:lnTo>
                  <a:pt x="0" y="21600"/>
                </a:lnTo>
                <a:close/>
              </a:path>
              <a:path fill="lightenLess" w="27950" h="21600">
                <a:moveTo>
                  <a:pt x="0" y="0"/>
                </a:moveTo>
                <a:lnTo>
                  <a:pt x="27950" y="0"/>
                </a:lnTo>
                <a:lnTo>
                  <a:pt x="26550" y="1400"/>
                </a:lnTo>
                <a:lnTo>
                  <a:pt x="1400" y="1400"/>
                </a:lnTo>
                <a:close/>
              </a:path>
              <a:path fill="darken" w="27950" h="21600">
                <a:moveTo>
                  <a:pt x="27950" y="0"/>
                </a:moveTo>
                <a:lnTo>
                  <a:pt x="27950" y="21600"/>
                </a:lnTo>
                <a:lnTo>
                  <a:pt x="26550" y="20200"/>
                </a:lnTo>
                <a:lnTo>
                  <a:pt x="26550" y="1400"/>
                </a:lnTo>
                <a:close/>
              </a:path>
              <a:path fill="darkenLess" w="27950" h="21600">
                <a:moveTo>
                  <a:pt x="279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0" y="20200"/>
                </a:lnTo>
                <a:close/>
              </a:path>
              <a:path fill="lighten" w="279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50" h="21600">
                <a:moveTo>
                  <a:pt x="6968" y="10800"/>
                </a:moveTo>
                <a:lnTo>
                  <a:pt x="20981" y="3794"/>
                </a:lnTo>
                <a:lnTo>
                  <a:pt x="209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53:18Z</dcterms:created>
  <dc:creator>Daniel</dc:creator>
  <dc:description/>
  <dc:language>en-US</dc:language>
  <cp:lastModifiedBy>Daniel</cp:lastModifiedBy>
  <dcterms:modified xsi:type="dcterms:W3CDTF">2002-08-24T22:42:01Z</dcterms:modified>
  <cp:revision>33</cp:revision>
  <dc:subject/>
  <dc:title>Sin título de diapositiva</dc:title>
</cp:coreProperties>
</file>