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565-F14B-4CF8-8E03-EE2C23D0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636-31F9-4ED2-9603-6569E07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2B4-74FE-446F-925D-A776B2AA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D89-98F2-46C7-B4B3-8D8ACE83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CDF-9491-4967-8E37-2589C1B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38F-60C2-40FA-9369-F29F2F97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EAE-8151-4D90-A1E8-FE9219D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0E2-959F-4ADD-8A22-956D8C66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834-3B4C-4A70-83BF-056A8D41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013-D199-42E3-8A30-67AF75F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CA9-6456-491C-A1FE-2655721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C49-DC75-4FEF-AD7A-4E843007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2E10-9256-4123-AF77-D24BA1F8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480" y="2984400"/>
            <a:ext cx="6451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7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886200" y="4648320"/>
            <a:ext cx="1447920" cy="175248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752480"/>
              <a:gd name="textAreaBottom" fmla="*/ 1658880 h 1752480"/>
            </a:gdLst>
            <a:ahLst/>
            <a:rect l="textAreaLeft" t="textAreaTop" r="textAreaRight" b="textAreaBottom"/>
            <a:pathLst>
              <a:path w="21600" h="26142">
                <a:moveTo>
                  <a:pt x="0" y="0"/>
                </a:moveTo>
                <a:lnTo>
                  <a:pt x="21600" y="0"/>
                </a:lnTo>
                <a:lnTo>
                  <a:pt x="21600" y="26142"/>
                </a:lnTo>
                <a:lnTo>
                  <a:pt x="0" y="26142"/>
                </a:lnTo>
                <a:close/>
              </a:path>
              <a:path fill="lightenLess" w="21600" h="261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42">
                <a:moveTo>
                  <a:pt x="21600" y="0"/>
                </a:moveTo>
                <a:lnTo>
                  <a:pt x="21600" y="26142"/>
                </a:lnTo>
                <a:lnTo>
                  <a:pt x="20200" y="24742"/>
                </a:lnTo>
                <a:lnTo>
                  <a:pt x="20200" y="1400"/>
                </a:lnTo>
                <a:close/>
              </a:path>
              <a:path fill="darkenLess" w="21600" h="26142">
                <a:moveTo>
                  <a:pt x="21600" y="26142"/>
                </a:moveTo>
                <a:lnTo>
                  <a:pt x="0" y="26142"/>
                </a:lnTo>
                <a:lnTo>
                  <a:pt x="1400" y="24742"/>
                </a:lnTo>
                <a:lnTo>
                  <a:pt x="20200" y="24742"/>
                </a:lnTo>
                <a:close/>
              </a:path>
              <a:path fill="lighten" w="21600" h="26142">
                <a:moveTo>
                  <a:pt x="0" y="261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42"/>
                </a:lnTo>
                <a:close/>
              </a:path>
              <a:path fill="darken" w="21600" h="26142">
                <a:moveTo>
                  <a:pt x="10800" y="6108"/>
                </a:moveTo>
                <a:lnTo>
                  <a:pt x="13376" y="8719"/>
                </a:lnTo>
                <a:lnTo>
                  <a:pt x="13376" y="6979"/>
                </a:lnTo>
                <a:lnTo>
                  <a:pt x="15152" y="6979"/>
                </a:lnTo>
                <a:lnTo>
                  <a:pt x="15152" y="10495"/>
                </a:lnTo>
                <a:lnTo>
                  <a:pt x="17763" y="13071"/>
                </a:lnTo>
                <a:lnTo>
                  <a:pt x="16109" y="13071"/>
                </a:lnTo>
                <a:lnTo>
                  <a:pt x="16109" y="20260"/>
                </a:lnTo>
                <a:lnTo>
                  <a:pt x="5491" y="20260"/>
                </a:lnTo>
                <a:lnTo>
                  <a:pt x="5491" y="13071"/>
                </a:lnTo>
                <a:lnTo>
                  <a:pt x="3837" y="13071"/>
                </a:lnTo>
                <a:close/>
              </a:path>
              <a:path fill="darkenLess" w="21600" h="26142">
                <a:moveTo>
                  <a:pt x="13376" y="8719"/>
                </a:moveTo>
                <a:lnTo>
                  <a:pt x="13376" y="6979"/>
                </a:lnTo>
                <a:lnTo>
                  <a:pt x="15152" y="6979"/>
                </a:lnTo>
                <a:lnTo>
                  <a:pt x="15152" y="10495"/>
                </a:lnTo>
                <a:close/>
              </a:path>
              <a:path fill="darkenLess" w="21600" h="26142">
                <a:moveTo>
                  <a:pt x="9877" y="16570"/>
                </a:moveTo>
                <a:lnTo>
                  <a:pt x="11723" y="16570"/>
                </a:lnTo>
                <a:lnTo>
                  <a:pt x="11723" y="20260"/>
                </a:lnTo>
                <a:lnTo>
                  <a:pt x="16109" y="20260"/>
                </a:lnTo>
                <a:lnTo>
                  <a:pt x="16109" y="13071"/>
                </a:lnTo>
                <a:lnTo>
                  <a:pt x="5491" y="13071"/>
                </a:lnTo>
                <a:lnTo>
                  <a:pt x="5491" y="20260"/>
                </a:lnTo>
                <a:lnTo>
                  <a:pt x="9877" y="2026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68680" y="2362320"/>
            <a:ext cx="353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81,9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086600" y="4800600"/>
            <a:ext cx="1371600" cy="144792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920"/>
              <a:gd name="textAreaBottom" fmla="*/ 135900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  <a:path fill="darken" w="21600" h="22802">
                <a:moveTo>
                  <a:pt x="3794" y="11401"/>
                </a:moveTo>
                <a:lnTo>
                  <a:pt x="17806" y="4394"/>
                </a:lnTo>
                <a:lnTo>
                  <a:pt x="17806" y="1840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8088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9718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2120" y="49528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1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28954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257800" y="38862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49528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334120" y="579132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514600"/>
            <a:ext cx="487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era=84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/4 fet malb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=1'3€/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391520" y="5257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3794" y="11521"/>
                </a:moveTo>
                <a:lnTo>
                  <a:pt x="17806" y="4514"/>
                </a:lnTo>
                <a:lnTo>
                  <a:pt x="17806" y="1852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2708280"/>
            <a:ext cx="803772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238880" y="5181480"/>
            <a:ext cx="1067040" cy="11430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0200" y="21737"/>
                </a:lnTo>
                <a:lnTo>
                  <a:pt x="20200" y="140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1400" y="21737"/>
                </a:lnTo>
                <a:lnTo>
                  <a:pt x="20200" y="217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7"/>
                </a:lnTo>
                <a:close/>
              </a:path>
              <a:path fill="darken" w="21600" h="23137">
                <a:moveTo>
                  <a:pt x="3794" y="11569"/>
                </a:moveTo>
                <a:lnTo>
                  <a:pt x="17806" y="4562"/>
                </a:lnTo>
                <a:lnTo>
                  <a:pt x="17806" y="1857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320" y="2133720"/>
            <a:ext cx="44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visió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162920" y="51814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3794" y="11521"/>
                </a:moveTo>
                <a:lnTo>
                  <a:pt x="17806" y="4514"/>
                </a:lnTo>
                <a:lnTo>
                  <a:pt x="17806" y="1852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000" y="2133720"/>
            <a:ext cx="2297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4: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4-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3x1'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7162920" y="4952880"/>
            <a:ext cx="1143000" cy="129564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95640"/>
              <a:gd name="textAreaBottom" fmla="*/ 1221840 h 1295640"/>
            </a:gdLst>
            <a:ahLst/>
            <a:rect l="textAreaLeft" t="textAreaTop" r="textAreaRight" b="textAreaBottom"/>
            <a:pathLst>
              <a:path w="21600" h="24484">
                <a:moveTo>
                  <a:pt x="0" y="0"/>
                </a:moveTo>
                <a:lnTo>
                  <a:pt x="21600" y="0"/>
                </a:lnTo>
                <a:lnTo>
                  <a:pt x="21600" y="24484"/>
                </a:lnTo>
                <a:lnTo>
                  <a:pt x="0" y="24484"/>
                </a:lnTo>
                <a:close/>
              </a:path>
              <a:path fill="lightenLess" w="21600" h="244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84">
                <a:moveTo>
                  <a:pt x="21600" y="0"/>
                </a:moveTo>
                <a:lnTo>
                  <a:pt x="21600" y="24484"/>
                </a:lnTo>
                <a:lnTo>
                  <a:pt x="20200" y="23084"/>
                </a:lnTo>
                <a:lnTo>
                  <a:pt x="20200" y="1400"/>
                </a:lnTo>
                <a:close/>
              </a:path>
              <a:path fill="darkenLess" w="21600" h="24484">
                <a:moveTo>
                  <a:pt x="21600" y="24484"/>
                </a:moveTo>
                <a:lnTo>
                  <a:pt x="0" y="24484"/>
                </a:lnTo>
                <a:lnTo>
                  <a:pt x="1400" y="23084"/>
                </a:lnTo>
                <a:lnTo>
                  <a:pt x="20200" y="23084"/>
                </a:lnTo>
                <a:close/>
              </a:path>
              <a:path fill="lighten" w="21600" h="24484">
                <a:moveTo>
                  <a:pt x="0" y="244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84"/>
                </a:lnTo>
                <a:close/>
              </a:path>
              <a:path fill="darken" w="21600" h="24484">
                <a:moveTo>
                  <a:pt x="3794" y="12242"/>
                </a:moveTo>
                <a:lnTo>
                  <a:pt x="17806" y="5235"/>
                </a:lnTo>
                <a:lnTo>
                  <a:pt x="17806" y="1924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120" y="2209680"/>
            <a:ext cx="40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4:4=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4-21=6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3x1'3=51'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086600" y="4876920"/>
            <a:ext cx="1143000" cy="144756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447560"/>
              <a:gd name="textAreaBottom" fmla="*/ 1373760 h 1447560"/>
            </a:gdLst>
            <a:ahLst/>
            <a:rect l="textAreaLeft" t="textAreaTop" r="textAreaRight" b="textAreaBottom"/>
            <a:pathLst>
              <a:path w="21600" h="27354">
                <a:moveTo>
                  <a:pt x="0" y="0"/>
                </a:moveTo>
                <a:lnTo>
                  <a:pt x="21600" y="0"/>
                </a:lnTo>
                <a:lnTo>
                  <a:pt x="21600" y="27354"/>
                </a:lnTo>
                <a:lnTo>
                  <a:pt x="0" y="27354"/>
                </a:lnTo>
                <a:close/>
              </a:path>
              <a:path fill="lightenLess" w="21600" h="273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354">
                <a:moveTo>
                  <a:pt x="21600" y="0"/>
                </a:moveTo>
                <a:lnTo>
                  <a:pt x="21600" y="27354"/>
                </a:lnTo>
                <a:lnTo>
                  <a:pt x="20200" y="25954"/>
                </a:lnTo>
                <a:lnTo>
                  <a:pt x="20200" y="1400"/>
                </a:lnTo>
                <a:close/>
              </a:path>
              <a:path fill="darkenLess" w="21600" h="27354">
                <a:moveTo>
                  <a:pt x="21600" y="27354"/>
                </a:moveTo>
                <a:lnTo>
                  <a:pt x="0" y="27354"/>
                </a:lnTo>
                <a:lnTo>
                  <a:pt x="1400" y="25954"/>
                </a:lnTo>
                <a:lnTo>
                  <a:pt x="20200" y="25954"/>
                </a:lnTo>
                <a:close/>
              </a:path>
              <a:path fill="lighten" w="21600" h="27354">
                <a:moveTo>
                  <a:pt x="0" y="273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954"/>
                </a:lnTo>
                <a:close/>
              </a:path>
              <a:path fill="darken" w="21600" h="27354">
                <a:moveTo>
                  <a:pt x="3794" y="13677"/>
                </a:moveTo>
                <a:lnTo>
                  <a:pt x="17806" y="6670"/>
                </a:lnTo>
                <a:lnTo>
                  <a:pt x="17806" y="206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81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981080"/>
            <a:ext cx="73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He de calcular quants quilos s'han fet malbé (1/4 de 84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=He de saber quants kilos han quedat b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He de multiplicar els kilos que han quedat pel preu de venda (1,3€/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848720" y="5257800"/>
            <a:ext cx="990360" cy="12952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295280"/>
              <a:gd name="textAreaBottom" fmla="*/ 1231200 h 1295280"/>
            </a:gdLst>
            <a:ahLst/>
            <a:rect l="textAreaLeft" t="textAreaTop" r="textAreaRight" b="textAreaBottom"/>
            <a:pathLst>
              <a:path w="21600" h="28248">
                <a:moveTo>
                  <a:pt x="0" y="0"/>
                </a:moveTo>
                <a:lnTo>
                  <a:pt x="21600" y="0"/>
                </a:lnTo>
                <a:lnTo>
                  <a:pt x="21600" y="28248"/>
                </a:lnTo>
                <a:lnTo>
                  <a:pt x="0" y="28248"/>
                </a:lnTo>
                <a:close/>
              </a:path>
              <a:path fill="lightenLess" w="21600" h="28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248">
                <a:moveTo>
                  <a:pt x="21600" y="0"/>
                </a:moveTo>
                <a:lnTo>
                  <a:pt x="21600" y="28248"/>
                </a:lnTo>
                <a:lnTo>
                  <a:pt x="20200" y="26848"/>
                </a:lnTo>
                <a:lnTo>
                  <a:pt x="20200" y="1400"/>
                </a:lnTo>
                <a:close/>
              </a:path>
              <a:path fill="darkenLess" w="21600" h="28248">
                <a:moveTo>
                  <a:pt x="21600" y="28248"/>
                </a:moveTo>
                <a:lnTo>
                  <a:pt x="0" y="28248"/>
                </a:lnTo>
                <a:lnTo>
                  <a:pt x="1400" y="26848"/>
                </a:lnTo>
                <a:lnTo>
                  <a:pt x="20200" y="26848"/>
                </a:lnTo>
                <a:close/>
              </a:path>
              <a:path fill="lighten" w="21600" h="28248">
                <a:moveTo>
                  <a:pt x="0" y="28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848"/>
                </a:lnTo>
                <a:close/>
              </a:path>
              <a:path fill="darken" w="21600" h="28248">
                <a:moveTo>
                  <a:pt x="3794" y="14124"/>
                </a:moveTo>
                <a:lnTo>
                  <a:pt x="17806" y="7118"/>
                </a:lnTo>
                <a:lnTo>
                  <a:pt x="17806" y="2113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a perera tenia 84 Kg de fruita. Una ventada va fer caure la quarta part de la fruita a terra. Quant va guanyar l'amo amb la fruita restant si la va vendre a 1,30 euros el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680" y="2971800"/>
            <a:ext cx="44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(84-84:4)x1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086600" y="4876920"/>
            <a:ext cx="1371600" cy="144756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560"/>
              <a:gd name="textAreaBottom" fmla="*/ 1358640 h 1447560"/>
            </a:gdLst>
            <a:ahLst/>
            <a:rect l="textAreaLeft" t="textAreaTop" r="textAreaRight" b="textAreaBottom"/>
            <a:pathLst>
              <a:path w="21600" h="22796">
                <a:moveTo>
                  <a:pt x="0" y="0"/>
                </a:moveTo>
                <a:lnTo>
                  <a:pt x="21600" y="0"/>
                </a:lnTo>
                <a:lnTo>
                  <a:pt x="21600" y="22796"/>
                </a:lnTo>
                <a:lnTo>
                  <a:pt x="0" y="22796"/>
                </a:lnTo>
                <a:close/>
              </a:path>
              <a:path fill="lightenLess" w="21600" h="22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96">
                <a:moveTo>
                  <a:pt x="21600" y="0"/>
                </a:moveTo>
                <a:lnTo>
                  <a:pt x="21600" y="22796"/>
                </a:lnTo>
                <a:lnTo>
                  <a:pt x="20200" y="21396"/>
                </a:lnTo>
                <a:lnTo>
                  <a:pt x="20200" y="1400"/>
                </a:lnTo>
                <a:close/>
              </a:path>
              <a:path fill="darkenLess" w="21600" h="22796">
                <a:moveTo>
                  <a:pt x="21600" y="22796"/>
                </a:moveTo>
                <a:lnTo>
                  <a:pt x="0" y="22796"/>
                </a:lnTo>
                <a:lnTo>
                  <a:pt x="1400" y="21396"/>
                </a:lnTo>
                <a:lnTo>
                  <a:pt x="20200" y="21396"/>
                </a:lnTo>
                <a:close/>
              </a:path>
              <a:path fill="lighten" w="21600" h="22796">
                <a:moveTo>
                  <a:pt x="0" y="22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96"/>
                </a:lnTo>
                <a:close/>
              </a:path>
              <a:path fill="darken" w="21600" h="22796">
                <a:moveTo>
                  <a:pt x="3794" y="11398"/>
                </a:moveTo>
                <a:lnTo>
                  <a:pt x="17806" y="4391"/>
                </a:lnTo>
                <a:lnTo>
                  <a:pt x="17806" y="1840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1:51Z</dcterms:created>
  <dc:creator>Daniel</dc:creator>
  <dc:description/>
  <dc:language>en-US</dc:language>
  <cp:lastModifiedBy>Daniel</cp:lastModifiedBy>
  <dcterms:modified xsi:type="dcterms:W3CDTF">2003-10-07T22:05:13Z</dcterms:modified>
  <cp:revision>36</cp:revision>
  <dc:subject/>
  <dc:title>Sin título de diapositiva</dc:title>
</cp:coreProperties>
</file>