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56C-82E3-4968-B388-ADA51F41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752-FF35-47F3-A18B-07AB6BC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C0B-C480-4BE6-BCCF-B5684034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784-8906-4ED5-9778-7A3BD6FD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A1E-451E-4C9D-A6F8-AB39952C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08F-1FCD-4DEF-82A1-24BEF394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972-53F8-444A-9283-00FA1AE6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45A-7DFF-4272-9C24-9A284DB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5D5-DD3D-4D38-80D6-D883E79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D0F-DDB4-4429-8D0B-8943E31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305-B5EE-43C2-8D42-5C1D8F1B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E7D-8838-46E7-A5F8-A120C36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6CC0-6EF7-416B-A508-2C67B694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5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95288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45360" y="259092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8 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860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57200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98400" y="2666880"/>
            <a:ext cx="538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Julia=12 camis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rme= 17 cami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camisa=2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total m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18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440" y="281952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920" y="2590920"/>
            <a:ext cx="21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+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2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6760" y="281952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+17=2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29=5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228600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quantes camises han confeccionat entre totes d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'ha de veure el nombre de metres emprats per totes dues, sabent que per cada camisa es gasta 2 m de t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taller de costura, la Júlia ha confeccionat 12 camises i la Carme, 17. Si per confeccionar cada camisa es necessiten 2 metres de tela, quants metres de tela han utilitzat entre totes d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410080"/>
            <a:ext cx="892440" cy="816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7440" y="3276720"/>
            <a:ext cx="34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2+17)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0:15Z</dcterms:created>
  <dc:creator>Daniel</dc:creator>
  <dc:description/>
  <dc:language>en-US</dc:language>
  <cp:lastModifiedBy>Daniel</cp:lastModifiedBy>
  <dcterms:modified xsi:type="dcterms:W3CDTF">2002-12-31T17:22:02Z</dcterms:modified>
  <cp:revision>19</cp:revision>
  <dc:subject/>
  <dc:title>Sin título de diapositiva</dc:title>
</cp:coreProperties>
</file>