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9B8-A8B9-4DB0-978A-872E63CA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CA4-EDB4-4DCC-BE29-F83D141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F05-EF10-4B0E-BE78-FC4B9086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03A-40AA-4EE7-834E-0EC0E75C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3D6-D529-428A-B3F5-D263ADCA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725-F497-4CF6-ADEE-F6B17C5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0C9-87C0-4490-8EB5-30F453EF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670-B8D7-4901-A401-23D0902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08F-604A-46A0-BC9F-9D5467F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E11-0DE4-43CD-8C7F-DCCD9C1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AC4-F96F-4C0D-BA70-A139691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2BA-4F1B-4060-BB96-0493F6D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A911-09C7-4CF7-8148-BCA148412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4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72428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6560" y="2057400"/>
            <a:ext cx="42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77350 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1814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5943600"/>
            <a:ext cx="191124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4572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2286000"/>
            <a:ext cx="693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apital inicial- 185.640 €. Casa- 1/3 capital in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Finca- 1/4 capital in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€ 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sobrants-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85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" y="320364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23623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920" y="2133720"/>
            <a:ext cx="242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33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4440" y="2133720"/>
            <a:ext cx="500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5640: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5640: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1880+464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85640-1082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09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2520" y="1898640"/>
            <a:ext cx="591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85640:3=618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85640:4=464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61880+46410=10829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85640-108290=773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335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23623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Trobar la tercera part del capi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la quarta part del capital. 3r:Calcular el que s'ha gas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4rt:Veure el que li queda, del capital in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762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181480"/>
            <a:ext cx="873000" cy="797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2360" y="2889360"/>
            <a:ext cx="763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85640-(185640:3+185640: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85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anquer tenia 185.640 euros. Es gasta en una casa la tercera part i en una finca la quarta part. Quants euros li qu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1:35Z</dcterms:created>
  <dc:creator>Daniel</dc:creator>
  <dc:description/>
  <dc:language>en-US</dc:language>
  <cp:lastModifiedBy>Daniel</cp:lastModifiedBy>
  <dcterms:modified xsi:type="dcterms:W3CDTF">2002-08-29T20:51:01Z</dcterms:modified>
  <cp:revision>15</cp:revision>
  <dc:subject/>
  <dc:title>Sin título de diapositiva</dc:title>
</cp:coreProperties>
</file>