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4B5-71B8-4D29-A5B8-9D915E90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B9E-4DBA-47EE-97CD-FDAABBF1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295-595F-4D49-9DE2-F9A62320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DF2-A417-4B19-AFE2-D8C6C4A5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9F3-416A-4123-94D9-F8126E71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852-EF0A-47AE-8B30-E4329973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791-194C-49FE-B888-DF56925E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A70-6C05-4278-B90F-FAE8818D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F31-D7F2-4389-973F-EA961B92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258-2EDA-423B-8B2C-79EDF44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400-0498-49DE-A29D-F78831B0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2BF-476D-41CB-AFF5-9A52710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4417-82AC-4A54-87A5-064EC28FA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3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657600" y="472428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40080" y="236232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5,95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09480"/>
            <a:ext cx="838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 mare de la Maria ha comprat 3 Kg de pomes a 0,75 euros el quilo, 4 Kg de prèssecs a 1,8 euros/quilo i 5 Kg de patates a 1,3 euros/quilo. Quants euros ha gastat en tot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066680" y="54100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066680" y="609588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105520" y="373392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105520" y="4572000"/>
            <a:ext cx="180504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10552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105520" y="609588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are de la Maria ha comprat 3 Kg de pomes a 0,75 euros el quilo, 4 Kg de prèssecs a 1,8 euros/quilo i 5 Kg de patates a 1,3 euros/quilo. Quants euros ha gasta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6920" y="2003400"/>
            <a:ext cx="5478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omes=3K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rèssecs=4 Kg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atates= 5 Kg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reu pomes=0,75 €/Kg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reu prèssecs= 1,8 €/K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reu patates= 1,3 €/K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Import total=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are de la Maria ha comprat 3 Kg de pomes a 0,75 euros el quilo, 4 Kg de prèssecs a 1,8 euros/quilo i 5 Kg de patates a 1,3 euros/quilo. Quants euros ha gasta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360" y="2712960"/>
            <a:ext cx="8037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800" y="28432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are de la Maria ha comprat 3 Kg de pomes a 0,75 euros el quilo, 4 Kg de prèssecs a 1,8 euros/quilo i 5 Kg de patates a 1,3 euros/quilo. Quants euros ha gasta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6160" y="220968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are de la Maria ha comprat 3 Kg de pomes a 0,75 euros el quilo, 4 Kg de prèssecs a 1,8 euros/quilo i 5 Kg de patates a 1,3 euros/quilo. Quants euros ha gasta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7280" y="2286000"/>
            <a:ext cx="4287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0,7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x1,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1,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25+7,2+6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are de la Maria ha comprat 3 Kg de pomes a 0,75 euros el quilo, 4 Kg de prèssecs a 1,8 euros/quilo i 5 Kg de patates a 1,3 euros/quilo. Quants euros ha gasta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3240" y="1752480"/>
            <a:ext cx="662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0,75=2,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x1,8=7,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1,3=6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25+7,2+6,5= 15,9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are de la Maria ha comprat 3 Kg de pomes a 0,75 euros el quilo, 4 Kg de prèssecs a 1,8 euros/quilo i 5 Kg de patates a 1,3 euros/quilo. Quants euros ha gasta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213372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quant s'ha gastat en les pomes, quant en els prèssecs i quant en les pata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Calcular quant s'ha gastat en total si ja se sap que li ha costat cada c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are de la Maria ha comprat 3 Kg de pomes a 0,75 euros el quilo, 4 Kg de prèssecs a 1,8 euros/quilo i 5 Kg de patates a 1,3 euros/quilo. Quants euros ha gastat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97440" y="2895480"/>
            <a:ext cx="657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0,75+4x1,8+5x1,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26:12Z</dcterms:created>
  <dc:creator>Daniel</dc:creator>
  <dc:description/>
  <dc:language>en-US</dc:language>
  <cp:lastModifiedBy>Daniel</cp:lastModifiedBy>
  <dcterms:modified xsi:type="dcterms:W3CDTF">2003-01-03T15:55:59Z</dcterms:modified>
  <cp:revision>19</cp:revision>
  <dc:subject/>
  <dc:title>Sin título de diapositiva</dc:title>
</cp:coreProperties>
</file>