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62E-62B2-4029-8774-C479FCC1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06D-B67A-4035-83A6-FEB65FF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D70-D55C-4AC9-80AA-4FD83756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DA8-6A50-4E05-A656-E6465BB5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D25-37EA-42AD-8FDA-4E7EA9A2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D7E-E7E1-4944-B06C-F1A878B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882-A724-45A0-8E9E-B8642F7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7AE-76D9-47B6-9EC8-DBA71765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F6E-23DE-41BE-BE4D-A9966A42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6A3-420D-4F63-85F6-44AE863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FBB-C624-4D11-893C-E09887F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BC5-0A43-408A-9F8C-FE2B9B4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4F97-47B2-4B17-AD86-7C777945B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6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49568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0280" y="577800"/>
            <a:ext cx="793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Triangle=7,2cm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Quadrat=9,6cm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Pentàgon=12cm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Hexàgon=14,4cm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09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14400" y="541008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914400" y="609588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876920" y="39625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76920" y="4648320"/>
            <a:ext cx="180504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87692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8120" y="2286000"/>
            <a:ext cx="6148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ostat=2,4c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ímetre triangle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ímetre quadrat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ímetre pentàgon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erímetre Hexàgon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120" y="236232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3760" y="2286000"/>
            <a:ext cx="189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35520" y="2362320"/>
            <a:ext cx="366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3=7,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4=9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5=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6=14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0400" y="2486160"/>
            <a:ext cx="7872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i se sap quan mesura un cost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Trobar quant fan els tres costats d'un triang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: Trobar quant fan els quatre costats d'un quadr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3r: Trobar quant fan els cinc costats d'un pentàg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4rt: Trobar quant fan els sis costats d'un hexà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762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el perímetre d'un triangle, un quadrat, un pentàgon i un hexàgon regulars si en tots ells els costats mesuren 2,4 cm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39360" y="2971800"/>
            <a:ext cx="46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,4x(3, 4, 5, 6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9:56Z</dcterms:created>
  <dc:creator>Daniel</dc:creator>
  <dc:description/>
  <dc:language>en-US</dc:language>
  <cp:lastModifiedBy>Daniel</cp:lastModifiedBy>
  <dcterms:modified xsi:type="dcterms:W3CDTF">2003-01-04T10:44:59Z</dcterms:modified>
  <cp:revision>19</cp:revision>
  <dc:subject/>
  <dc:title>Sin título de diapositiva</dc:title>
</cp:coreProperties>
</file>