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F49-BAAF-42BF-A4EC-66C3765E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8F5C-2EAD-463C-96A4-6BE5905C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0B74-9125-42C2-9881-F391853E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905B-7D64-4249-A86C-E6402596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8821-61CF-4026-8329-287EF9B3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FE36-C5AC-4ED0-9E62-4CA339A7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24C-5800-45C1-98C2-08B9A421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E558-FC44-4F7F-92FA-FE7629AA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175-4CE5-4893-AC48-1FEEB4F7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DD2C-AB0E-4586-9955-4E7D9BFB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77F-7EE0-41E0-A90C-DAAE0004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3027-A025-47B6-8BA1-65F1BD4C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4375-0A6C-4F6B-BC38-C62A013A1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724280"/>
            <a:ext cx="1463760" cy="1692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90512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4000" y="204804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61240" y="201312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56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16400" y="251460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2325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50532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4267080"/>
            <a:ext cx="270648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33520" y="502920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33520" y="579132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800600" y="3581280"/>
            <a:ext cx="2313000" cy="54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800600" y="434340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800600" y="51055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800600" y="579132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83808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 comprem cable a 1 € el metre i el venem a 1,25 €. Quant hi guanyarem en la venda de 93 H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380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comprem cable a 1 € el metre i el venem a 1,25 €. Quant hi guanyarem en la venda de 93 H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5360" y="2286000"/>
            <a:ext cx="5691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eu compra= 1€/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eu venda=1,25€/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Quantitat=93 H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Guany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65400" y="2711520"/>
            <a:ext cx="66117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6880" y="266688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3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858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comprem cable a 1 € el metre i el venem a 1,25 €. Quant hi guanyarem en la venda de 93 H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4572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comprem cable a 1 € el metre i el venem a 1,25 €. Quant hi guanyarem en la venda de 93 H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040" y="2362320"/>
            <a:ext cx="449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920" y="6094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comprem cable a 1 € el metre i el venem a 1,25 €. Quant hi guanyarem en la venda de 93 H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8840" y="2209680"/>
            <a:ext cx="3864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93x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9300x1,2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1625-93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6094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comprem cable a 1 € el metre i el venem a 1,25 €. Quant hi guanyarem en la venda de 93 H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9360" y="2209680"/>
            <a:ext cx="5822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93x100=93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9300x1,25=1162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1625-9300=232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5335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comprem cable a 1 € el metre i el venem a 1,25 €. Quant hi guanyarem en la venda de 93 H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057400"/>
            <a:ext cx="815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Trobar el nombre de metres de cable que tenim per vend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Trobar l'import de la venda del cable que tenim sabent el preu al que volem vendre'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3r: S'hi ha de restar l'import de la compra del c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97000" y="457200"/>
            <a:ext cx="854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comprem cable a 1 € el metre i el venem a 1,25 €. Quant hi guanyarem en la venda de 93 H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9000" y="2971800"/>
            <a:ext cx="598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93x100x1'25-93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22:08:41Z</dcterms:created>
  <dc:creator>Daniel</dc:creator>
  <dc:description/>
  <dc:language>en-US</dc:language>
  <cp:lastModifiedBy>Daniel</cp:lastModifiedBy>
  <dcterms:modified xsi:type="dcterms:W3CDTF">2002-10-16T21:09:27Z</dcterms:modified>
  <cp:revision>16</cp:revision>
  <dc:subject/>
  <dc:title>Sin título de diapositiva</dc:title>
</cp:coreProperties>
</file>