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F43-DD06-4356-991C-BE830863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7B0-2CFD-4AA3-A8D6-648AA082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DF-5C60-4F6D-8BE5-5C850AD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AA5-ED06-42E0-AE17-3626C6EA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786-5E37-4AFC-8611-9C46FDB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4A3-87D0-4DE3-8AC1-C059940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A82-6660-4AEA-B6C7-89631D2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899-2DB9-44D4-AF03-FCA1B16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794-DDDA-47E2-8129-06A69AC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811-E2CF-43AE-9A61-1B488185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1C4-3069-4CDC-828B-033D65A9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94C-D6D5-40F9-809F-3F314B1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A186-B599-4C94-A483-64076E11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800" y="29829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0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7242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74480" y="2209680"/>
            <a:ext cx="56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 cèntim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57913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257800" y="34290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257800" y="42670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257800" y="51055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257800" y="5867280"/>
            <a:ext cx="191124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685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8480" y="2286000"/>
            <a:ext cx="525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ramels=8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total=32 ct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5 caramel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4640" y="83808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7160" y="270828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280" y="23623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7280" y="60948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040" y="266688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4640" y="91440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30440" y="2130480"/>
            <a:ext cx="157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2: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67280" y="106668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9200" y="2590920"/>
            <a:ext cx="25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2:8=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4=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86040" y="99072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2286000"/>
            <a:ext cx="733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preu d'un caramen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Veure el que valen 5 caram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7440" y="91440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911520" cy="83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29720" y="213048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(32:8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9560" y="91440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 caramels valen 32 cèntims. Quant valen 5 caram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5:34Z</dcterms:created>
  <dc:creator>Daniel</dc:creator>
  <dc:description/>
  <dc:language>en-US</dc:language>
  <cp:lastModifiedBy>Daniel</cp:lastModifiedBy>
  <dcterms:modified xsi:type="dcterms:W3CDTF">2002-08-29T22:16:51Z</dcterms:modified>
  <cp:revision>16</cp:revision>
  <dc:subject/>
  <dc:title>Sin título de diapositiva</dc:title>
</cp:coreProperties>
</file>