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2566-0A3F-4C8F-928F-9EB455FB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C855-69F8-4953-A653-BEF5448B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7865-FE62-4007-8BE9-31B3CDEE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C6FE-F0E3-48DF-9AF7-3E8524CA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F03B-6B6A-40C4-A084-D2373FEF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4CAB-93F5-45A6-9C36-D27847A0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FB46-779B-4863-A8CC-59D10EFC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ED74-38F9-4288-981F-D2106E83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539B-4DAC-4F7F-AF5F-3064E639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58FE-DD20-4188-83B3-3DCA088D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6C8-1A05-47B4-B97E-FD38D986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36B1-B645-4A70-8E60-47066D9F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5580-D844-43E3-B74F-60E3AE668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" y="1560600"/>
            <a:ext cx="9145440" cy="37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200" y="190512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(41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6480" y="190512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86200" y="4495680"/>
            <a:ext cx="146376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1120" y="2362320"/>
            <a:ext cx="42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1,14 €/l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5257800"/>
            <a:ext cx="85428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365760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85800" y="441972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85800" y="5181480"/>
            <a:ext cx="1415880" cy="53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85800" y="5943600"/>
            <a:ext cx="184140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181480" y="3581280"/>
            <a:ext cx="2300400" cy="536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257800" y="4343400"/>
            <a:ext cx="179856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257800" y="510552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257800" y="5867280"/>
            <a:ext cx="1917720" cy="542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304920"/>
            <a:ext cx="8305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a Roser i els seus pares s'aturen en una gasolinera. Posen 35 litres de gasolina i els cobren 40 €. Quant costa cada litre de gasoli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31320" y="2362320"/>
            <a:ext cx="4371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Gasolina=35 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Import= 40 €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reu gasolina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04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Roser i els seus pares s'aturen en una gasolinera. Posen 35 litres de gasolina i els cobren 40 €. Quant costa cada litre de gasoli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5257800"/>
            <a:ext cx="85428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2720" y="3127320"/>
            <a:ext cx="78566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20040" y="2590920"/>
            <a:ext cx="64245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 OPERACIÓ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304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Roser i els seus pares s'aturen en una gasolinera. Posen 35 litres de gasolina i els cobren 40 €. Quant costa cada litre de gasoli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5257800"/>
            <a:ext cx="85428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896200" y="3124080"/>
            <a:ext cx="24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5335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Roser i els seus pares s'aturen en una gasolinera. Posen 35 litres de gasolina i els cobren 40 €. Quant costa cada litre de gasoli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5257800"/>
            <a:ext cx="85428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973240" y="2895480"/>
            <a:ext cx="214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40:35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4572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Roser i els seus pares s'aturen en una gasolinera. Posen 35 litres de gasolina i els cobren 40 €. Quant costa cada litre de gasoli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5257800"/>
            <a:ext cx="85428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7800" y="2819520"/>
            <a:ext cx="372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40:35=1,1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808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Roser i els seus pares s'aturen en una gasolinera. Posen 35 litres de gasolina i els cobren 40 €. Quant costa cada litre de gasoli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5257800"/>
            <a:ext cx="85428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9480" y="2590920"/>
            <a:ext cx="820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trobar l'import d'un litre sabent el que valen els 35 lit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304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Roser i els seus pares s'aturen en una gasolinera. Posen 35 litres de gasolina i els cobren 40 €. Quant costa cada litre de gasoli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5257800"/>
            <a:ext cx="85428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5520" y="3048120"/>
            <a:ext cx="195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40:3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5335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Roser i els seus pares s'aturen en una gasolinera. Posen 35 litres de gasolina i els cobren 40 €. Quant costa cada litre de gasoli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5257800"/>
            <a:ext cx="854280" cy="777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2T20:58:22Z</dcterms:created>
  <dc:creator>Daniel</dc:creator>
  <dc:description/>
  <dc:language>en-US</dc:language>
  <cp:lastModifiedBy>Daniel</cp:lastModifiedBy>
  <dcterms:modified xsi:type="dcterms:W3CDTF">2002-09-09T15:34:19Z</dcterms:modified>
  <cp:revision>19</cp:revision>
  <dc:subject/>
  <dc:title>Sin título de diapositiva</dc:title>
</cp:coreProperties>
</file>