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C81-EF61-4B9C-98DA-1DA74ACD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3C6-62A3-4E22-A969-18D20FF0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7E9-1EDE-4877-B2A4-478D6959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30E-E23D-496F-B4E4-51BD223D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1F7-40EA-4E45-B576-FCBA37E9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B32-CAED-4795-BD0E-806F7CA2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E52-EAA7-49A1-8493-32880759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843-583C-42B6-8B58-A96AF947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3CC-6471-4D63-BD26-E093CBF5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BA2-64F2-40FF-8D76-50C6826E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645-F255-4169-B151-4D323515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E7B-1D6F-480F-99D3-C58870C6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04CE-05DA-4861-99A6-B817FB972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809880" y="4800600"/>
            <a:ext cx="1470240" cy="169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" y="3240"/>
            <a:ext cx="91454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240" y="1463760"/>
            <a:ext cx="5474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BLEME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120" y="1428840"/>
            <a:ext cx="7081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PROBLEMES (36)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21320" y="2438280"/>
            <a:ext cx="261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Times New Roman"/>
              </a:rPr>
              <a:t>60 €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3886200"/>
            <a:ext cx="1298520" cy="53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270036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15880" cy="536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2120" y="6095880"/>
            <a:ext cx="184140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724280" y="3886200"/>
            <a:ext cx="2300400" cy="53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724280" y="4572000"/>
            <a:ext cx="179244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724280" y="5334120"/>
            <a:ext cx="339588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724280" y="6095880"/>
            <a:ext cx="1911600" cy="536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0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Joan té 20 euros i l'Enric 30 euros. Quants en té el Carles si en té el triple que en Joan i el doble que l'Enr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6400" y="2362320"/>
            <a:ext cx="805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Joan=20 €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Enric=30 €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Carles (triple de Joan i doble d'Enric)=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04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té 20 euros i l'Enric 30 euros. Quants en té el Carles si en té el triple que en Joan i el doble que l'En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" y="2441520"/>
            <a:ext cx="8688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1800" y="2590920"/>
            <a:ext cx="7852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2 OPERAC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té 20 euros i l'Enric 30 euros. Quants en té el Carles si en té el triple que en Joan i el doble que l'En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4920" y="2438280"/>
            <a:ext cx="44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multiplicaci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7621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té 20 euros i l'Enric 30 euros. Quants en té el Carles si en té el triple que en Joan i el doble que l'En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920" y="2895480"/>
            <a:ext cx="170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x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609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té 20 euros i l'Enric 30 euros. Quants en té el Carles si en té el triple que en Joan i el doble que l'En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2880" y="2666880"/>
            <a:ext cx="290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20=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2x30=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té 20 euros i l'Enric 30 euros. Quants en té el Carles si en té el triple que en Joan i el doble que l'En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70440" y="2895480"/>
            <a:ext cx="85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1r: Trobar el triple d'en Joan o el doble de l'En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838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té 20 euros i l'Enric 30 euros. Quants en té el Carles si en té el triple que en Joan i el doble que l'En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9200" y="2971800"/>
            <a:ext cx="366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3x20=2x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5562720"/>
            <a:ext cx="853920" cy="777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304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Joan té 20 euros i l'Enric 30 euros. Quants en té el Carles si en té el triple que en Joan i el doble que l'En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0:20:22Z</dcterms:created>
  <dc:creator>Daniel</dc:creator>
  <dc:description/>
  <dc:language>en-US</dc:language>
  <cp:lastModifiedBy>Daniel</cp:lastModifiedBy>
  <dcterms:modified xsi:type="dcterms:W3CDTF">2002-08-30T21:41:00Z</dcterms:modified>
  <cp:revision>15</cp:revision>
  <dc:subject/>
  <dc:title>Sin título de diapositiva</dc:title>
</cp:coreProperties>
</file>