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096-BD27-49EE-84D6-151A64BF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8F0-EDFD-4D40-A971-E5A2E359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7CD-8581-466C-A7C6-DE69710E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F97-F446-4A6F-8967-C4DE13C8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832-9132-4BB8-B7B9-AC54EE61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15F-3CBD-484E-B32B-5FEBDA9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16D-DA25-4DF6-A354-F1306173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A82-133A-4F6B-AF8C-B6F0B889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EA7-0075-48B6-B354-469C7AA4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D9A-48F0-4531-B00C-80E2504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589-A4AD-46DC-AC23-27EEF9C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637-FE38-4252-BF2D-7668580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0ED4-63B4-47A0-8B45-587E7DBFC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648320"/>
            <a:ext cx="1463760" cy="169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4600" y="28782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1920" y="190512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5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7800" y="2362320"/>
            <a:ext cx="353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0,37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7339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358128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1008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48640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286000"/>
            <a:ext cx="404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tates=4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ament=2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=0,5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Kg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0" y="25909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920" y="251460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240" y="2590920"/>
            <a:ext cx="21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-0,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,50: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4120" y="2743200"/>
            <a:ext cx="391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-0,50=1,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,50:4=0,3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4382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quin ha estat el preu de les patates (4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l'import d'1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ha comprat 4 Kg de patates, ha pagat amb una moneda de 2 € i li han tornat 50 cèntims. Quin és el preu del Kg de pa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9000" y="2819520"/>
            <a:ext cx="329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-0,50):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5:15Z</dcterms:created>
  <dc:creator>Daniel</dc:creator>
  <dc:description/>
  <dc:language>en-US</dc:language>
  <cp:lastModifiedBy>Daniel</cp:lastModifiedBy>
  <dcterms:modified xsi:type="dcterms:W3CDTF">2002-10-15T21:34:58Z</dcterms:modified>
  <cp:revision>16</cp:revision>
  <dc:subject/>
  <dc:title>Sin título de diapositiva</dc:title>
</cp:coreProperties>
</file>