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3882-8046-47BC-9F6B-1B2140119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5F63-168C-4443-A984-470F59562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E283-A5D8-4FAA-8606-EF9408E5B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BEA7-3C3F-4469-99BC-EAF84EB0C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F836-33BD-4C53-9B5B-490EB74B9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F3B8-DCE7-4F75-A0FC-D1FC554BA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44D8-0E8A-418F-950F-12CAA1BD2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4BA8-6FC4-42D0-8EFB-7BE21D004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43A6-7321-4253-BEBB-BE9807929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4746-D929-440D-84E9-72322AF0E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B1CF-04A1-4736-9BAF-89CC7651C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6567-8B38-4B63-859B-BDD4D250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C276C-B072-4888-AC22-200AF5BE3E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33640" y="2927520"/>
            <a:ext cx="6870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32560" y="2989440"/>
            <a:ext cx="687096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PROBLEMES (94)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809880" y="4800600"/>
            <a:ext cx="1476360" cy="17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38880" y="5486400"/>
            <a:ext cx="860400" cy="7840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068840" y="2514600"/>
            <a:ext cx="702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6600"/>
                </a:solidFill>
                <a:latin typeface="Times New Roman"/>
              </a:rPr>
              <a:t>1h 12min 13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2520" y="609480"/>
            <a:ext cx="8310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Un partit de bàsquet ha començat a les 19 hores 5 minuts 27 segons i ha acabat a les 20 h 17 min 40 s. Quant temps ha dura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990720" y="3962520"/>
            <a:ext cx="1304640" cy="542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990720" y="4648320"/>
            <a:ext cx="2706480" cy="542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990720" y="5334120"/>
            <a:ext cx="1422360" cy="542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990720" y="6019920"/>
            <a:ext cx="1847880" cy="542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5181480" y="3886200"/>
            <a:ext cx="2306880" cy="542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5181480" y="4572000"/>
            <a:ext cx="1805040" cy="549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5181480" y="5257800"/>
            <a:ext cx="3402000" cy="542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5181480" y="5943600"/>
            <a:ext cx="1917720" cy="5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8600" y="30492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 partit de bàsquet ha començat a les 19 hores 5 minuts 27 segons i ha acabat a les 20 h 17 min 40 s. Quant temps ha dur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38880" y="5486400"/>
            <a:ext cx="860400" cy="784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9560" y="2362320"/>
            <a:ext cx="9061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Hora inici=19h 5min 27s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Hora acabament= 20h 17min 40s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Durada=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30492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 partit de bàsquet ha començat a les 19 hores 5 minuts 27 segons i ha acabat a les 20 h 17 min 40 s. Quant temps ha dur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38880" y="5486400"/>
            <a:ext cx="860400" cy="7840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49360" y="2712960"/>
            <a:ext cx="803736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72320" y="2819520"/>
            <a:ext cx="642456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1 OPERACIÓ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8600" y="30492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 partit de bàsquet ha començat a les 19 hores 5 minuts 27 segons i ha acabat a les 20 h 17 min 40 s. Quant temps ha dur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38880" y="5486400"/>
            <a:ext cx="860400" cy="784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278160" y="2819520"/>
            <a:ext cx="200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Rest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28600" y="30492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 partit de bàsquet ha començat a les 19 hores 5 minuts 27 segons i ha acabat a les 20 h 17 min 40 s. Quant temps ha dur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38880" y="5486400"/>
            <a:ext cx="860400" cy="7840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77120" y="2743200"/>
            <a:ext cx="896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00"/>
                </a:solidFill>
                <a:latin typeface="Times New Roman"/>
              </a:rPr>
              <a:t>20h 17min 40s - 19h 5min 27s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8600" y="30492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 partit de bàsquet ha començat a les 19 hores 5 minuts 27 segons i ha acabat a les 20 h 17 min 40 s. Quant temps ha dur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38880" y="5486400"/>
            <a:ext cx="860400" cy="7840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0" y="2886120"/>
            <a:ext cx="897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Times New Roman"/>
              </a:rPr>
              <a:t>20h 17min 40s - 19h 5min 27s = 1h 12min 13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28600" y="30492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 partit de bàsquet ha començat a les 19 hores 5 minuts 27 segons i ha acabat a les 20 h 17 min 40 s. Quant temps ha dur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38880" y="5486400"/>
            <a:ext cx="860400" cy="784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85800" y="289548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1r: S'ha de veure la diferència ent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l'hora d'acabament i l'hora d'inic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8600" y="30492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 partit de bàsquet ha començat a les 19 hores 5 minuts 27 segons i ha acabat a les 20 h 17 min 40 s. Quant temps ha dur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38880" y="5486400"/>
            <a:ext cx="860400" cy="7840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77120" y="2743200"/>
            <a:ext cx="896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00"/>
                </a:solidFill>
                <a:latin typeface="Times New Roman"/>
              </a:rPr>
              <a:t>20h 17min 40s - 19h 5min 27s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1T10:26:35Z</dcterms:created>
  <dc:creator>Daniel</dc:creator>
  <dc:description/>
  <dc:language>en-US</dc:language>
  <cp:lastModifiedBy>Daniel</cp:lastModifiedBy>
  <dcterms:modified xsi:type="dcterms:W3CDTF">2003-01-03T15:59:10Z</dcterms:modified>
  <cp:revision>19</cp:revision>
  <dc:subject/>
  <dc:title>Sin título de diapositiva</dc:title>
</cp:coreProperties>
</file>