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AC96-FF32-4C1B-BB37-5BAC0876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C625-5941-4BCE-ABA1-49426FAF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0815-D5BC-4786-B3B2-79406DA1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F1D9-298B-4E12-9CCA-BE11DA40A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B69E-3551-4787-8104-E8BD6A61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2713-A0D5-4F6D-91DC-F933A8EF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50FF-5908-46BC-80B3-3E70FE75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1330-16BF-4736-B5EC-E68AC734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2C67-F8E6-4A85-A7AF-96C71BA8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42BD-CA94-42D9-9648-A9C752AD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9B70-648B-4C91-85D7-23F53359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8ACE-0530-4638-BBFD-77CD299C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0F21-32F8-4C96-9CD6-0CEC8B810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slide" Target="slide4.xml"/><Relationship Id="rId4" Type="http://schemas.openxmlformats.org/officeDocument/2006/relationships/image" Target="../media/image3.wmf"/><Relationship Id="rId5" Type="http://schemas.openxmlformats.org/officeDocument/2006/relationships/slide" Target="slide5.xml"/><Relationship Id="rId6" Type="http://schemas.openxmlformats.org/officeDocument/2006/relationships/image" Target="../media/image4.wmf"/><Relationship Id="rId7" Type="http://schemas.openxmlformats.org/officeDocument/2006/relationships/slide" Target="slide9.xml"/><Relationship Id="rId8" Type="http://schemas.openxmlformats.org/officeDocument/2006/relationships/image" Target="../media/image5.wmf"/><Relationship Id="rId9" Type="http://schemas.openxmlformats.org/officeDocument/2006/relationships/slide" Target="slide6.xml"/><Relationship Id="rId10" Type="http://schemas.openxmlformats.org/officeDocument/2006/relationships/image" Target="../media/image6.wmf"/><Relationship Id="rId11" Type="http://schemas.openxmlformats.org/officeDocument/2006/relationships/slide" Target="slide7.xml"/><Relationship Id="rId12" Type="http://schemas.openxmlformats.org/officeDocument/2006/relationships/image" Target="../media/image7.wmf"/><Relationship Id="rId13" Type="http://schemas.openxmlformats.org/officeDocument/2006/relationships/slide" Target="slide8.xml"/><Relationship Id="rId14" Type="http://schemas.openxmlformats.org/officeDocument/2006/relationships/image" Target="../media/image8.wmf"/><Relationship Id="rId15" Type="http://schemas.openxmlformats.org/officeDocument/2006/relationships/slide" Target="slide10.xml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3160" y="287496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45560" y="301788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2440" y="298296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19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962520" y="5029200"/>
            <a:ext cx="11588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0440" y="2286000"/>
            <a:ext cx="840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3,10 metres/dia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391520" y="5486400"/>
            <a:ext cx="898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0492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na modista ha confeccionat en un any 205 peces de roba de 4 metres cadascuna. Si al mes treballa 22 dies, quants metres va fer per d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080" y="304812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120" y="396252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2120" y="4876920"/>
            <a:ext cx="141588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62120" y="5791320"/>
            <a:ext cx="1841400" cy="53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486400" y="3124080"/>
            <a:ext cx="230652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486400" y="3962520"/>
            <a:ext cx="1792440" cy="536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5486400" y="4876920"/>
            <a:ext cx="3395520" cy="536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5562720" y="5791320"/>
            <a:ext cx="191124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5335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modista ha confeccionat en un any 205 peces de roba de 4 metres cadascuna. Si al mes treballa 22 dies, quants metres va fer per d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76240" y="2359080"/>
            <a:ext cx="746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Times New Roman"/>
              </a:rPr>
              <a:t>Nº peces- 205/an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Times New Roman"/>
              </a:rPr>
              <a:t>Longitud/peça- 4m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Times New Roman"/>
              </a:rPr>
              <a:t>Dies treball- 22 dies/m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Times New Roman"/>
              </a:rPr>
              <a:t>Mts/dia-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334120"/>
            <a:ext cx="898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457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modista ha confeccionat en un any 205 peces de roba de 4 metres cadascuna. Si al mes treballa 22 dies, quants metres va fer per d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8037360" cy="1800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705720" y="5410080"/>
            <a:ext cx="89856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modista ha confeccionat en un any 205 peces de roba de 4 metres cadascuna. Si al mes treballa 22 dies, quants metres va fer per d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8960" y="2133720"/>
            <a:ext cx="449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010280" y="5334120"/>
            <a:ext cx="898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3049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modista ha confeccionat en un any 205 peces de roba de 4 metres cadascuna. Si al mes treballa 22 dies, quants metres va fer per d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0240" y="2438280"/>
            <a:ext cx="2911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05x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2x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820:264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34320" y="5181480"/>
            <a:ext cx="89856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3808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modista ha confeccionat en un any 205 peces de roba de 4 metres cadascuna. Si al mes treballa 22 dies, quants metres va fer per d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9360" y="2438280"/>
            <a:ext cx="467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05x4=8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2x12=26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820:264=3,10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781680" y="5257800"/>
            <a:ext cx="898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304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modista ha confeccionat en un any 205 peces de roba de 4 metres cadascuna. Si al mes treballa 22 dies, quants metres va fer per d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209680"/>
            <a:ext cx="8166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trobar els metres que fa en un a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Trobar els dies de treball en un a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3r: Trobar els metres que toca per d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705720" y="5257800"/>
            <a:ext cx="898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5335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modista ha confeccionat en un any 205 peces de roba de 4 metres cadascuna. Si al mes treballa 22 dies, quants metres va fer per d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3200" y="3048120"/>
            <a:ext cx="500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(205x4):22x12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629400" y="5410080"/>
            <a:ext cx="89856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5T15:06:09Z</dcterms:created>
  <dc:creator>Daniel</dc:creator>
  <dc:description/>
  <dc:language>en-US</dc:language>
  <cp:lastModifiedBy>Daniel</cp:lastModifiedBy>
  <dcterms:modified xsi:type="dcterms:W3CDTF">2002-08-28T20:46:56Z</dcterms:modified>
  <cp:revision>21</cp:revision>
  <dc:subject/>
  <dc:title>Sin título de diapositiva</dc:title>
</cp:coreProperties>
</file>