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F5B9-D720-4ADC-832A-9063B14C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772F-DDFB-4115-B4C8-3809EC89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5D3C-A147-48F7-B894-6F7E05093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C8CB-9FD6-45D9-B757-5D0798CC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E084-0AA8-40AE-BB8A-CFD4BC43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B9F6-EEDE-492A-B475-8CFEA063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2659-E616-41B9-A7FA-EE18BD8F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B63A-4718-4EAE-B0B6-CE55C086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FE50-A85E-4EAC-962A-D42E872F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98A5-D488-42A8-A29D-454D569F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6EEE-6C4B-4DE6-A646-B8D74F21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8917-2338-4461-8D18-80ABAA05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F3DE-539B-4990-9747-FB5E6D531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33640" y="2927520"/>
            <a:ext cx="6870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32560" y="2989440"/>
            <a:ext cx="6870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82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657600" y="4876920"/>
            <a:ext cx="131112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410080"/>
            <a:ext cx="917640" cy="8413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830240" y="2286000"/>
            <a:ext cx="44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1,09 Kg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6858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na caixa amb 12 ampolles d'aigua pesa 13,18 Kg. Quants quilograms pesa cada ampoll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080" y="3886200"/>
            <a:ext cx="1305000" cy="542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838080" y="4572000"/>
            <a:ext cx="270684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838080" y="525780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838080" y="594360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4876920" y="3809880"/>
            <a:ext cx="2306520" cy="54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876920" y="4495680"/>
            <a:ext cx="179856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4876920" y="525780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4876920" y="5943600"/>
            <a:ext cx="1917720" cy="5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685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caixa amb 12 ampolles d'aigua pesa 13,18 Kg. Quants quilograms pesa cada ampol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410080"/>
            <a:ext cx="917640" cy="841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53560" y="2438280"/>
            <a:ext cx="5523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12 ampolles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es caixa=13,18 Kg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es ampolla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685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caixa amb 12 ampolles d'aigua pesa 13,18 Kg. Quants quilograms pesa cada ampol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410080"/>
            <a:ext cx="917640" cy="841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5360" y="2712960"/>
            <a:ext cx="8688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5120" y="2819520"/>
            <a:ext cx="642456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1 OPERACIÓ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685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caixa amb 12 ampolles d'aigua pesa 13,18 Kg. Quants quilograms pesa cada ampol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410080"/>
            <a:ext cx="917640" cy="841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43920" y="3048120"/>
            <a:ext cx="24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685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caixa amb 12 ampolles d'aigua pesa 13,18 Kg. Quants quilograms pesa cada ampol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410080"/>
            <a:ext cx="917640" cy="841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744640" y="3048120"/>
            <a:ext cx="291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3,18: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685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caixa amb 12 ampolles d'aigua pesa 13,18 Kg. Quants quilograms pesa cada ampol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410080"/>
            <a:ext cx="917640" cy="841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059200" y="3048120"/>
            <a:ext cx="46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3,18:12=1,0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685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caixa amb 12 ampolles d'aigua pesa 13,18 Kg. Quants quilograms pesa cada ampol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410080"/>
            <a:ext cx="917640" cy="841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09480" y="2895480"/>
            <a:ext cx="76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Calcular el pes d'una ampolla, sabent el que pesen 1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4920" y="685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caixa amb 12 ampolles d'aigua pesa 13,18 Kg. Quants quilograms pesa cada ampol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410080"/>
            <a:ext cx="917640" cy="841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439720" y="3048120"/>
            <a:ext cx="291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3,18: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0T21:38:57Z</dcterms:created>
  <dc:creator>Daniel</dc:creator>
  <dc:description/>
  <dc:language>en-US</dc:language>
  <cp:lastModifiedBy>Daniel</cp:lastModifiedBy>
  <dcterms:modified xsi:type="dcterms:W3CDTF">2002-12-31T16:14:44Z</dcterms:modified>
  <cp:revision>18</cp:revision>
  <dc:subject/>
  <dc:title>Sin título de diapositiva</dc:title>
</cp:coreProperties>
</file>