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DB5-C28C-481B-A0FE-C3E09BA8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1CD-9E7C-4A60-958E-5BFB9C50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290-2262-4DF5-862D-27196D62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C6F-3610-4513-B33B-52AB4B53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502-6B33-4BEF-B078-AA85778B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809-ED39-4DCC-AADD-0851D7B4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B46-F135-490E-8EAB-5B38DA52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F26-22F6-4ABD-905A-62EB983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1C5-D39F-432A-801B-5430EAC0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DC4-3981-4AB2-BD88-62690A9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A7B-276D-49B1-89EE-42135E43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DB8-4032-483A-80A5-7735B6E4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9059-8685-4FFA-9FFA-64110594A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" Target="slide4.xml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9960" y="2878200"/>
            <a:ext cx="7264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0680" y="298620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67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419720"/>
            <a:ext cx="146988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334120"/>
            <a:ext cx="930240" cy="85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12560" y="2286000"/>
            <a:ext cx="525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568 litr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13050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4648320"/>
            <a:ext cx="270684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0"/>
            <a:ext cx="83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guem el jardí en mitja hora amb una mànega de la qual surten 25 litres d'aigua cada minut. Els 23 testos de flors en necessiten 3 litres cadascun, el parterre 18 i els 7 arbres 15 l cada un. Amb l'aigua restant es rega l'herba. Quants litres d'aigua he gastat per regar l'herb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09480" y="5334120"/>
            <a:ext cx="142236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6019920"/>
            <a:ext cx="184788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486400" y="3962520"/>
            <a:ext cx="230652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86400" y="4572000"/>
            <a:ext cx="179856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486400" y="5257800"/>
            <a:ext cx="340200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5486400" y="6019920"/>
            <a:ext cx="191772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5720" y="5334120"/>
            <a:ext cx="930240" cy="853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3808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uem el jardí en mitja hora amb una mànega de la qual surten 25 litres d'aigua cada minut. Els 23 testos de flors en necessiten 3 litres cadascun, el parterre 18 i els 7 arbres 15 l cada un. Amb l'aigua restant es rega l'herba. Quants litres d'aigua he gastat per regar l'her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2880" y="2514600"/>
            <a:ext cx="478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Temps de rec=30 mi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Capacitat mànega=25 l/min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Nº testos=2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Nº arbres=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Aigua/test=3 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Aigua parterre=18 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Aigua/arbre=15 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Aigua/Herba=r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Litres gastats en l'herba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334120"/>
            <a:ext cx="930240" cy="85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4572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uem el jardí en mitja hora amb una mànega de la qual surten 25 litres d'aigua cada minut. Els 23 testos de flors en necessiten 3 litres cadascun, el parterre 18 i els 7 arbres 15 l cada un. Amb l'aigua restant es rega l'herba. Quants litres d'aigua he gastat per regar l'her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720" y="3127320"/>
            <a:ext cx="803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297180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5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334120"/>
            <a:ext cx="930240" cy="853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760" y="457200"/>
            <a:ext cx="859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uem el jardí en mitja hora amb una mànega de la qual surten 25 litres d'aigua cada minut. Els 23 testos de flors en necessiten 3 litres cadascun, el parterre 18 i els 7 arbres 15 l cada un. Amb l'aigua restant es rega l'herba. Quants litres d'aigua he gastat per regar l'her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4480" y="2514600"/>
            <a:ext cx="3634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su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res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334120"/>
            <a:ext cx="930240" cy="853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304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uem el jardí en mitja hora amb una mànega de la qual surten 25 litres d'aigua cada minut. Els 23 testos de flors en necessiten 3 litres cadascun, el parterre 18 i els 7 arbres 15 l cada un. Amb l'aigua restant es rega l'herba. Quants litres d'aigua he gastat per regar l'her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7440" y="2286000"/>
            <a:ext cx="3361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25x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23x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15x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18+105+6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750-18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334120"/>
            <a:ext cx="930240" cy="85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04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uem el jardí en mitja hora amb una mànega de la qual surten 25 litres d'aigua cada minut. Els 23 testos de flors en necessiten 3 litres cadascun, el parterre 18 i els 7 arbres 15 l cada un. Amb l'aigua restant es rega l'herba. Quants litres d'aigua he gastat per regar l'her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21480" y="2209680"/>
            <a:ext cx="4780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25x30=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23x3=6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15x7=1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18+105+69=18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750-182=56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334120"/>
            <a:ext cx="930240" cy="853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8088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uem el jardí en mitja hora amb una mànega de la qual surten 25 litres d'aigua cada minut. Els 23 testos de flors en necessiten 3 litres cadascun, el parterre 18 i els 7 arbres 15 l cada un. Amb l'aigua restant es rega l'herba. Quants litres d'aigua he gastat per regar l'her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66688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99"/>
                </a:solidFill>
                <a:latin typeface="Times New Roman"/>
              </a:rPr>
              <a:t>1er: S'ha de trobar els litres que treu la mànega en mitja hora (30 minu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99"/>
                </a:solidFill>
                <a:latin typeface="Times New Roman"/>
              </a:rPr>
              <a:t>2n=Trobar els litres gastats en els tes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99"/>
                </a:solidFill>
                <a:latin typeface="Times New Roman"/>
              </a:rPr>
              <a:t>3r=Trobar els litres gastats en els arb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99"/>
                </a:solidFill>
                <a:latin typeface="Times New Roman"/>
              </a:rPr>
              <a:t>4t= Suma total de l'aigua gastada en els testos, els arbres i el parter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99"/>
                </a:solidFill>
                <a:latin typeface="Times New Roman"/>
              </a:rPr>
              <a:t>5è= Veure la diferència entre els litre totals trets per la mànega i els litres emprats en els testos, el parterre i els ar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5334120"/>
            <a:ext cx="930240" cy="853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3808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uem el jardí en mitja hora amb una mànega de la qual surten 25 litres d'aigua cada minut. Els 23 testos de flors en necessiten 3 litres cadascun, el parterre 18 i els 7 arbres 15 l cada un. Amb l'aigua restant es rega l'herba. Quants litres d'aigua he gastat per regar l'her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8120" y="3276720"/>
            <a:ext cx="752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5x30-(18+23x3+15x7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23:06:11Z</dcterms:created>
  <dc:creator>Daniel</dc:creator>
  <dc:description/>
  <dc:language>en-US</dc:language>
  <cp:lastModifiedBy>Daniel</cp:lastModifiedBy>
  <dcterms:modified xsi:type="dcterms:W3CDTF">2002-12-25T23:26:34Z</dcterms:modified>
  <cp:revision>20</cp:revision>
  <dc:subject/>
  <dc:title>Sin título de diapositiva</dc:title>
</cp:coreProperties>
</file>