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451-4A71-4698-8AB4-AE373666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608-14CC-466C-B8F4-E8054A30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067-04C0-403C-B9B3-2E40B1BD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E73-7547-49C6-867D-1433CFA8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1B2-6132-4C4C-B381-2060DFBC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302-E463-4EB6-B627-8B837D25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398-DFD4-4584-B0DE-7D771B4B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67BE-9566-4E58-8B19-4155C56E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BAF-7F9C-415F-9D0B-CA7C85C2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8C5-29B8-41F7-92A2-C77C0503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83D-9B58-4498-B46F-89A8F483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50D-8FDB-43BC-8B96-AEA1F0F5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8848-6255-4B19-A8A8-4F9617F84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878200"/>
            <a:ext cx="7264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30680" y="298620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(24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33920" y="4572000"/>
            <a:ext cx="146988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181480"/>
            <a:ext cx="949320" cy="873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35520" y="2438280"/>
            <a:ext cx="465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11 di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396252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2706840" cy="542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380880"/>
            <a:ext cx="8381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 granger ha comprat 5000 Kg de pinso. Ha d'alimentar 150 conills i cada un consumeix 300 g de pinso al dia. Quants dies li durarà el pinso que ha compr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2120" y="541008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85800" y="609588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86400" y="388620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86400" y="464832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86400" y="541008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562720" y="609588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181480"/>
            <a:ext cx="949320" cy="87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858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granger ha comprat 5000 Kg de pinso. Ha d'alimentar 150 conills i cada un consumeix 300 g de pinso al dia. Quants dies li durarà el pinso que ha comp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2400" y="2133720"/>
            <a:ext cx="716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inso= 5000 Kg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conills= 150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onsum= 300 g/conill/dia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dies durada del pinso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181480"/>
            <a:ext cx="949320" cy="873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4572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granger ha comprat 5000 Kg de pinso. Ha d'alimentar 150 conills i cada un consumeix 300 g de pinso al dia. Quants dies li durarà el pinso que ha comp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80880" y="2743200"/>
            <a:ext cx="8043840" cy="18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181480"/>
            <a:ext cx="949320" cy="873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380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granger ha comprat 5000 Kg de pinso. Ha d'alimentar 150 conills i cada un consumeix 300 g de pinso al dia. Quants dies li durarà el pinso que ha comp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2640" y="2666880"/>
            <a:ext cx="449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181480"/>
            <a:ext cx="949320" cy="873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4572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granger ha comprat 5000 Kg de pinso. Ha d'alimentar 150 conills i cada un consumeix 300 g de pinso al dia. Quants dies li durarà el pinso que ha comp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6560" y="2514600"/>
            <a:ext cx="3864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50x3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5000: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00:4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181480"/>
            <a:ext cx="949320" cy="87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granger ha comprat 5000 Kg de pinso. Ha d'alimentar 150 conills i cada un consumeix 300 g de pinso al dia. Quants dies li durarà el pinso que ha comp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7080" y="2743200"/>
            <a:ext cx="518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50x300=45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5000:1000=4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00:45=1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181480"/>
            <a:ext cx="949320" cy="873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609480"/>
            <a:ext cx="840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granger ha comprat 5000 Kg de pinso. Ha d'alimentar 150 conills i cada un consumeix 300 g de pinso al dia. Quants dies li durarà el pinso que ha comp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59092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el nombre de grams consumits per tots els conills en un 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Passar els grans consumits/dia a Kg/d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: Veure per quants dies hi ha pinso amb 5 Tm (5000 K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181480"/>
            <a:ext cx="949320" cy="873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685800"/>
            <a:ext cx="80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granger ha comprat 5000 Kg de pinso. Ha d'alimentar 150 conills i cada un consumeix 300 g de pinso al dia. Quants dies li durarà el pinso que ha comp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2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00:[(150x300):1000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23:08:13Z</dcterms:created>
  <dc:creator>Daniel</dc:creator>
  <dc:description/>
  <dc:language>en-US</dc:language>
  <cp:lastModifiedBy>Daniel</cp:lastModifiedBy>
  <dcterms:modified xsi:type="dcterms:W3CDTF">2002-12-26T12:45:33Z</dcterms:modified>
  <cp:revision>20</cp:revision>
  <dc:subject/>
  <dc:title>Sin título de diapositiva</dc:title>
</cp:coreProperties>
</file>