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5BF-B3F4-4959-A20B-4B0CF058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C6C-1150-4071-88AC-2C12CBCF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117-014E-4281-9AD2-9AB1012E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1CF-4952-4528-AF84-2F37253D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D2F-9FDA-4C1D-810A-65DF4D3E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833-A3C1-478A-A24C-8A0BC7EC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A8B-6CA2-40AA-B5D4-23C4AEBF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C78-5D9B-4A1F-A7AA-50DE9566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0C6-8493-498B-860A-82DE5C6F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DA5-0D5D-4759-8951-BF5894B7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674-5041-400B-9C8D-A2F6FEFC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FAA-E7CA-443B-94A5-3873FB10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CD17-CF86-4DE6-919A-851848EA6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878200"/>
            <a:ext cx="7264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30680" y="298620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(65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419720"/>
            <a:ext cx="147024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7640" y="2133720"/>
            <a:ext cx="53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56 pot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2706840" cy="542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304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ntes potes hi deu haver en 4 granges, si en cada granja hi ha 4 gàbies amb 4 conills a cadascu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5720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334120" y="388620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334120" y="457200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33412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334120" y="594360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380880"/>
            <a:ext cx="84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potes hi deu haver en 4 granges, si en cada granja hi ha 4 gàbies amb 4 conills a cadascu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6920" y="2209680"/>
            <a:ext cx="54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Nº granges=4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Nº gàbies/granja=4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Nº conills/gàbia=4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Nº total pote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5335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potes hi deu haver en 4 granges, si en cada granja hi ha 4 gàbies amb 4 conills a cadascu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6400" y="3355920"/>
            <a:ext cx="803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600" y="27432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3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6858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potes hi deu haver en 4 granges, si en cada granja hi ha 4 gàbies amb 4 conills a cadascu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560" y="220968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457200"/>
            <a:ext cx="82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potes hi deu haver en 4 granges, si en cada granja hi ha 4 gàbies amb 4 conills a cadascu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30800" y="2130480"/>
            <a:ext cx="284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x4x4x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657600" y="3886200"/>
                <a:ext cx="893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8720" y="457200"/>
            <a:ext cx="83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potes hi deu haver en 4 granges, si en cada granja hi ha 4 gàbies amb 4 conills a cadascu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5520" y="2590920"/>
            <a:ext cx="442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x4x4x4=25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4572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potes hi deu haver en 4 granges, si en cada granja hi ha 4 gàbies amb 4 conills a cadascu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0574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el nombre de potes que hi ha en una gàbia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Trobar el nombre de potes que hi ha en una granja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 Trobar el nombre de potes que hi ha en les quatre gr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457200"/>
            <a:ext cx="82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potes hi deu haver en 4 granges, si en cada granja hi ha 4 gàbies amb 4 conills a cadascu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809880" y="3200400"/>
                <a:ext cx="9939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23:04:47Z</dcterms:created>
  <dc:creator>Daniel</dc:creator>
  <dc:description/>
  <dc:language>en-US</dc:language>
  <cp:lastModifiedBy>Daniel</cp:lastModifiedBy>
  <dcterms:modified xsi:type="dcterms:W3CDTF">2002-12-23T22:46:47Z</dcterms:modified>
  <cp:revision>19</cp:revision>
  <dc:subject/>
  <dc:title>Sin título de diapositiva</dc:title>
</cp:coreProperties>
</file>