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6C3-F441-47D3-897A-6E7C24AB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4FB-C165-4229-BBB0-D952332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FE8-7593-4D22-86F9-1B1E6DD7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23B-DB8B-4167-A20C-E46497E5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04C-A78E-4A90-8572-9E997FF5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43D-10DE-4041-B800-6053272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A6A-90B2-4A1B-AA3D-87C8187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54E-9522-4CC8-BB5D-8E8E1EE4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A8A-893F-47D7-A05B-3FA92121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4A1-CAEE-45DA-8ACB-2F7DF2F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E4A-8FED-4F8A-9B99-E3CA5E9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63F-0B20-4D35-80C9-F66A275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D37-E1E5-45A6-BE26-BF7D3B1F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3160" y="287496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45560" y="301788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0640" y="29829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05160" y="3119400"/>
            <a:ext cx="1143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(1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419720" y="50292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4280" y="205740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57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3341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2240" y="304920"/>
            <a:ext cx="77742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9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33520" y="6019920"/>
            <a:ext cx="184140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105520" y="3124080"/>
            <a:ext cx="230004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18148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181480" y="502920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257800" y="594360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440" y="1905120"/>
            <a:ext cx="645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460 l vi.64 l aigu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reu cost=1,3 €/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Preu venda=2,2 €/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Guany=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638680"/>
            <a:ext cx="8539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80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0800" y="2525760"/>
            <a:ext cx="8037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2600" y="26557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4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9528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120" y="1905120"/>
            <a:ext cx="441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30240" y="2133720"/>
            <a:ext cx="310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60+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60x1'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25x2,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55-59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304920"/>
            <a:ext cx="79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3400" y="1981080"/>
            <a:ext cx="467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60+65=5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460x1'3=59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25x2,2=115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155-598=5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63868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04920"/>
            <a:ext cx="74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S'ha de trobar el nº de litres totals de mescla (vi+aigu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 S'ha de trobar quant li ha costat el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3r: S'ha de trobar els euros que guanyarà venent tota la mescla a 2,2 €/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4t: S'ha de trobar la diferència entre el que li ha costat i el guany total de la venda per saber el guany real (benefic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4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botiguer va comprar 460 litres de vi a 1'3 euros el litre. Els hi va afegir 64 litres d'aigua i va vendre la barreja a 2'2 euros el litre. Quant va guany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2286000"/>
            <a:ext cx="709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(460+65)x2,2-460x1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08:31:33Z</dcterms:created>
  <dc:creator>Daniel</dc:creator>
  <dc:description/>
  <dc:language>en-US</dc:language>
  <cp:lastModifiedBy>Daniel</cp:lastModifiedBy>
  <dcterms:modified xsi:type="dcterms:W3CDTF">2003-11-05T21:33:23Z</dcterms:modified>
  <cp:revision>28</cp:revision>
  <dc:subject/>
  <dc:title>Sin título de diapositiva</dc:title>
</cp:coreProperties>
</file>