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2783-42C3-43F9-889C-CBD530066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430B-FF47-4E0A-89C9-27F2DEDA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B789-9C92-4502-A97D-B1BB99592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2751-173C-4E61-9228-D9E52B41C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7C66-12E8-48F8-9470-BA75DE39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65FC-3F66-454F-BD0A-714E3907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3AF9-C166-4148-80E1-EA66B425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592E-C966-4A14-9FC7-A6BB293A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0C08-FCC4-4FAB-B2E4-A24CB067D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BE77-0A6E-48CE-B29A-5CAA4854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75B6-FF35-439E-9E92-6A4F1B11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CC2C-5080-48D2-AAC0-A0659CE4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D459-F92E-491D-B59A-532CCAFDC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43160" y="2874960"/>
            <a:ext cx="64548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45560" y="3017880"/>
            <a:ext cx="54748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32440" y="2982960"/>
            <a:ext cx="7081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14)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886200" y="4952880"/>
            <a:ext cx="1158840" cy="123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373400" y="2133720"/>
            <a:ext cx="5801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430,79 Km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5486400"/>
            <a:ext cx="854280" cy="7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30492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n cotxe gasta 5 litres de gasolina cada 93,65 Km. que recorre. Si va consumir 23 litres, quants quilòmetres va recórr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66680" y="3505320"/>
            <a:ext cx="1298520" cy="536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066680" y="4343400"/>
            <a:ext cx="2700360" cy="536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1066680" y="5105520"/>
            <a:ext cx="1416240" cy="536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1066680" y="5943600"/>
            <a:ext cx="1841760" cy="536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5334120" y="3505320"/>
            <a:ext cx="2306520" cy="542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5410080" y="4343400"/>
            <a:ext cx="1792440" cy="536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5410080" y="5181480"/>
            <a:ext cx="3395880" cy="536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5410080" y="6019920"/>
            <a:ext cx="1911600" cy="53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3049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cotxe gasta 5 litres de gasolina cada 93,65 Km. que recorre. Si va consumir 23 litres, quants quilòmetres va recórr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81080"/>
            <a:ext cx="8534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Times New Roman"/>
              </a:rPr>
              <a:t>Consum=5 litres/93,65Km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Times New Roman"/>
              </a:rPr>
              <a:t>Consum final=23 l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Times New Roman"/>
              </a:rPr>
              <a:t>Km recorreguts=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5486400"/>
            <a:ext cx="854280" cy="7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77800" y="380880"/>
            <a:ext cx="788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cotxe gasta 5 litres de gasolina cada 93,65 Km. que recorre. Si va consumir 23 litres, quants quilòmetres va recórr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0800" y="2525760"/>
            <a:ext cx="8037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0920" y="2362320"/>
            <a:ext cx="7852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2 OPERAC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5486400"/>
            <a:ext cx="854280" cy="7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3808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cotxe gasta 5 litres de gasolina cada 93,65 Km. que recorre. Si va consumir 23 litres, quants quilòmetres va recórr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47560" y="2286000"/>
            <a:ext cx="4415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Divis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5486400"/>
            <a:ext cx="854280" cy="7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5335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cotxe gasta 5 litres de gasolina cada 93,65 Km. que recorre. Si va consumir 23 litres, quants quilòmetres va recórr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97080" y="2209680"/>
            <a:ext cx="3228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3: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93,65x4,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5486400"/>
            <a:ext cx="854280" cy="7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8600" y="5335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cotxe gasta 5 litres de gasolina cada 93,65 Km. que recorre. Si va consumir 23 litres, quants quilòmetres va recórr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6200" y="2286000"/>
            <a:ext cx="5758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3:5=4,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93,65x4,6=430,7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5486400"/>
            <a:ext cx="854280" cy="7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33520" y="3049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cotxe gasta 5 litres de gasolina cada 93,65 Km. que recorre. Si va consumir 23 litres, quants quilòmetres va recórr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1828800"/>
            <a:ext cx="7772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S'ha de trobar les vegades que ha gastat 5 litres en el consum total o final (23 litres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2n: Si sabem que cada 5 litres de consum representa 93,65 Km, s'ha de trobar el recorregut total amb els 23 litres gasta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5486400"/>
            <a:ext cx="854280" cy="7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04920" y="3049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cotxe gasta 5 litres de gasolina cada 93,65 Km. que recorre. Si va consumir 23 litres, quants quilòmetres va recórr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8640" y="2743200"/>
            <a:ext cx="418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(23:5)x93,6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5486400"/>
            <a:ext cx="854280" cy="777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5T15:00:54Z</dcterms:created>
  <dc:creator>Daniel</dc:creator>
  <dc:description/>
  <dc:language>en-US</dc:language>
  <cp:lastModifiedBy>Daniel</cp:lastModifiedBy>
  <dcterms:modified xsi:type="dcterms:W3CDTF">2002-08-28T20:27:05Z</dcterms:modified>
  <cp:revision>21</cp:revision>
  <dc:subject/>
  <dc:title>Sin título de diapositiva</dc:title>
</cp:coreProperties>
</file>