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3C17-CA87-42F9-BDC2-17FBEB94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2156-C4C0-44F4-8494-D13111C4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1C78-8AC1-4460-9114-EDE96B9F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2AD5-EAD2-4BB9-9F51-661339BF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2069-844D-4CAA-AC0D-AA159C2F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5245-DE7F-48F1-8BA6-AEF9E9E6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157-BB9F-4A4A-82AC-B08AC368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72A7-5230-4B49-8869-E1070C4C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C3A7-531E-417E-8FC1-C44FB86B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90AF-3797-4547-8770-AFA69267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0BB5-7ED5-4629-B3A7-CC6A412C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E08B-3220-4F36-AC54-D3729F62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A4DF-CC4B-4610-9E12-D1C543996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2.xml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3160" y="287496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45560" y="301788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2440" y="298296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18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86200" y="5029200"/>
            <a:ext cx="1158840" cy="12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3760" y="2276640"/>
            <a:ext cx="807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Times New Roman"/>
              </a:rPr>
              <a:t>Vaig perdre 2566,1€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10080"/>
            <a:ext cx="879480" cy="8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2040" y="228600"/>
            <a:ext cx="8294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aig canviar 135 garrafes de vi que tenia de 33'30 euros la garrafa per 11 Tm de carbó a 175,40 euros la Tm. Quant vaig guanyar o perd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90720" y="327672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990720" y="5029200"/>
            <a:ext cx="141588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990720" y="5867280"/>
            <a:ext cx="184140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410080" y="3200400"/>
            <a:ext cx="230688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5410080" y="4038480"/>
            <a:ext cx="1792440" cy="536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410080" y="5029200"/>
            <a:ext cx="3395880" cy="536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486400" y="5867280"/>
            <a:ext cx="19112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380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aig canviar 135 garrafes de vi que tenia de 33'30 euros la garrafa per 11 Tm de carbó a 175,40 euros la Tm. Quant vaig guanyar o perd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840" y="2054160"/>
            <a:ext cx="6622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Times New Roman"/>
              </a:rPr>
              <a:t>Nº garrafes- 135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Times New Roman"/>
              </a:rPr>
              <a:t>Preu garrafa- 33'30 €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Times New Roman"/>
              </a:rPr>
              <a:t>Nº Tm-11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Times New Roman"/>
              </a:rPr>
              <a:t>Preu Tm- 175'40 €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Times New Roman"/>
              </a:rPr>
              <a:t>Guany/pèrdua-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10080"/>
            <a:ext cx="879480" cy="8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304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aig canviar 135 garrafes de vi que tenia de 33'30 euros la garrafa per 11 Tm de carbó a 175,40 euros la Tm. Quant vaig guanyar o perd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8037360" cy="180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86600" y="5410080"/>
            <a:ext cx="879480" cy="8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380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aig canviar 135 garrafes de vi que tenia de 33'30 euros la garrafa per 11 Tm de carbó a 175,40 euros la Tm. Quant vaig guanyar o perd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240" y="2590920"/>
            <a:ext cx="449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10080"/>
            <a:ext cx="879480" cy="8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5335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aig canviar 135 garrafes de vi que tenia de 33'30 euros la garrafa per 11 Tm de carbó a 175,40 euros la Tm. Quant vaig guanyar o perd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20760" y="2590920"/>
            <a:ext cx="481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3,30x13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75,40x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495,5-1929,4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10080"/>
            <a:ext cx="879480" cy="8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380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aig canviar 135 garrafes de vi que tenia de 33'30 euros la garrafa per 11 Tm de carbó a 175,40 euros la Tm. Quant vaig guanyar o perd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920" y="2362320"/>
            <a:ext cx="715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3,30x135=4495,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75,40x11=1929,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495,5-1929,4=2566,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10080"/>
            <a:ext cx="879480" cy="8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304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aig canviar 135 garrafes de vi que tenia de 33'30 euros la garrafa per 11 Tm de carbó a 175,40 euros la Tm. Quant vaig guanyar o perd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752480"/>
            <a:ext cx="7467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.-S'ha de trobar l'import del vi i l'import del carb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.- S'ha de comparar el que val més, si el vi o el carb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3r.-Trobar la diferè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10080"/>
            <a:ext cx="879480" cy="8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304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aig canviar 135 garrafes de vi que tenia de 33'30 euros la garrafa per 11 Tm de carbó a 175,40 euros la Tm. Quant vaig guanyar o perd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480" y="2743200"/>
            <a:ext cx="793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33,30x135)-(175,40x11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410080"/>
            <a:ext cx="879480" cy="80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5T15:05:19Z</dcterms:created>
  <dc:creator>Daniel</dc:creator>
  <dc:description/>
  <dc:language>en-US</dc:language>
  <cp:lastModifiedBy>Daniel</cp:lastModifiedBy>
  <dcterms:modified xsi:type="dcterms:W3CDTF">2002-08-28T20:37:26Z</dcterms:modified>
  <cp:revision>20</cp:revision>
  <dc:subject/>
  <dc:title>Sin título de diapositiva</dc:title>
</cp:coreProperties>
</file>