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0F4A-0151-4862-A06B-6D6B693A3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4EAE-2211-4006-A36E-8B57D6361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FBEB-7E93-4357-A869-F08D96C86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C624-6E9E-40F6-AFE6-8743352DC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D8E1-FE36-4E33-9A2F-5AA892597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FA86-8DAB-4629-922F-BFAA1D6DE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4F4D-C7D1-4494-8291-5349EC69A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6EF2-1337-495B-A264-741D3E9CA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59A9-FE71-45C6-ACB7-47D178C17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23E8-FA7D-4C8B-958A-4DDDAF9C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D9E4-0FA3-42DF-B089-2B4AE052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66C4-38B2-441D-9DC4-CCF0A2AF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92B27-53F2-4848-B960-E20706C7D0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43160" y="2874960"/>
            <a:ext cx="645480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45560" y="3017880"/>
            <a:ext cx="547488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ROBLEMES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32440" y="2982960"/>
            <a:ext cx="7081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PROBLEMES (27)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886200" y="4648320"/>
            <a:ext cx="1463760" cy="169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15200" y="5562720"/>
            <a:ext cx="892080" cy="8157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73320" y="2924280"/>
            <a:ext cx="86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Times New Roman"/>
              </a:rPr>
              <a:t>1ª bota=2000,42 l; 2ª bota=1651,92 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3505320"/>
            <a:ext cx="1298520" cy="536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57200" y="4343400"/>
            <a:ext cx="2700360" cy="536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457200" y="5181480"/>
            <a:ext cx="1415880" cy="536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457200" y="5943600"/>
            <a:ext cx="1841400" cy="536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5486400" y="3505320"/>
            <a:ext cx="2300400" cy="536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5486400" y="4267080"/>
            <a:ext cx="1792440" cy="5367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5486400" y="5105520"/>
            <a:ext cx="3395520" cy="536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5486400" y="5943600"/>
            <a:ext cx="1911240" cy="536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57200" y="380880"/>
            <a:ext cx="8153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Vull repartir 3.652,35 litres de vi en dues botes de manera que en una d'elles hi hagi 174,25 litres més que a l'altra. Quants litres hi ha a cada bot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15200" y="5562720"/>
            <a:ext cx="892080" cy="815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61520" y="2286000"/>
            <a:ext cx="8428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imes New Roman"/>
              </a:rPr>
              <a:t>Vi- 3652,35 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imes New Roman"/>
              </a:rPr>
              <a:t>Botes- 2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imes New Roman"/>
              </a:rPr>
              <a:t>Capacitat 1ª bota- 174,25 l més que 2ª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imes New Roman"/>
              </a:rPr>
              <a:t>Capacitat de cada bota-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60948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Vull repartir 3.652,35 litres de vi en dues botes de manera que en una d'elles hi hagi 174,25 litres més que a l'altra. Quants litres hi ha a cada bo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15200" y="5562720"/>
            <a:ext cx="892080" cy="815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50720" y="2514600"/>
            <a:ext cx="8693280" cy="1440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04920" y="45720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Vull repartir 3.652,35 litres de vi en dues botes de manera que en una d'elles hi hagi 174,25 litres més que a l'altra. Quants litres hi ha a cada bo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15200" y="5562720"/>
            <a:ext cx="892080" cy="8157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447920" y="2362320"/>
            <a:ext cx="2514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6600"/>
                </a:solidFill>
                <a:latin typeface="Times New Roman"/>
              </a:rPr>
              <a:t>Divis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6600"/>
                </a:solidFill>
                <a:latin typeface="Times New Roman"/>
              </a:rPr>
              <a:t>res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6600"/>
                </a:solidFill>
                <a:latin typeface="Times New Roman"/>
              </a:rPr>
              <a:t>sum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5720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Vull repartir 3.652,35 litres de vi en dues botes de manera que en una d'elles hi hagi 174,25 litres més que a l'altra. Quants litres hi ha a cada bo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15200" y="5562720"/>
            <a:ext cx="892080" cy="815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144800" y="2133720"/>
            <a:ext cx="5377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3652,35: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1826,17-174,25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1826,17+174,25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38088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Vull repartir 3.652,35 litres de vi en dues botes de manera que en una d'elles hi hagi 174,25 litres més que a l'altra. Quants litres hi ha a cada bo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15200" y="5562720"/>
            <a:ext cx="892080" cy="8157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80880" y="2209680"/>
            <a:ext cx="8458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3652,35:2=1826,1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1826,17-174,25=1651,9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1826,17+174,25=2000,4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8380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Vull repartir 3.652,35 litres de vi en dues botes de manera que en una d'elles hi hagi 174,25 litres més que a l'altra. Quants litres hi ha a cada bo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15200" y="5562720"/>
            <a:ext cx="892080" cy="8157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04920" y="2133720"/>
            <a:ext cx="8458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1r: Haurem de veure quants litres hi posarem a cada bota si suposem que hi càpigui igual a cadascun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2n: Haurem de treure 174,25 litres d'una d'elles. 3r: Haurem d'afegir 174,25 litres a l'alt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60948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Vull repartir 3.652,35 litres de vi en dues botes de manera que en una d'elles hi hagi 174,25 litres més que a l'altra. Quants litres hi ha a cada bo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15200" y="5562720"/>
            <a:ext cx="892080" cy="8157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57920" y="2968560"/>
            <a:ext cx="817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Times New Roman"/>
              </a:rPr>
              <a:t>3652,35-(3652,35:2)+174,2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6858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Vull repartir 3.652,35 litres de vi en dues botes de manera que en una d'elles hi hagi 174,25 litres més que a l'altra. Quants litres hi ha a cada bo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8T20:53:29Z</dcterms:created>
  <dc:creator>Daniel</dc:creator>
  <dc:description/>
  <dc:language>en-US</dc:language>
  <cp:lastModifiedBy>Daniel</cp:lastModifiedBy>
  <dcterms:modified xsi:type="dcterms:W3CDTF">2003-10-30T22:39:39Z</dcterms:modified>
  <cp:revision>18</cp:revision>
  <dc:subject/>
  <dc:title>Sin título de diapositiva</dc:title>
</cp:coreProperties>
</file>