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64B-25F6-483A-BF75-317B0340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620-9C0A-4AEB-9C18-376293BF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D83-A87E-4264-B687-35817618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588-9B64-47A6-8AF9-67A22035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3A9-FABB-4063-87EA-E34C7CC8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C9C-00A4-4B9D-8A12-904F3B8B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D63-B08D-4288-8649-1E0B0727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8E0-0F3C-49AB-A662-4EADC6E8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D36-A3DD-4EC4-8CA5-87899038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750-2CB4-46C3-8FC6-A14CF300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C2B-6805-404F-A776-30CE3FE7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2F4-C139-443F-9557-1A744732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A4B7-4E40-4F62-AB8B-93F9850D1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" y="156060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2400" y="302112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42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5320" y="298620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57200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54280" y="228600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45.600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6576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80880" y="510552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80880" y="594360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10080" y="35812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10080" y="43434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10080" y="51055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10080" y="586728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0492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un magatzem descarreguen 6 camions amb 8000 Kg de préssecs cadascun. Si el quilogram de préssecs es ven a 0'95 €/Kg. Quant costen els préssecs emmagatzem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71720" y="2362320"/>
            <a:ext cx="536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Quantitat=8000 K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mions=6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/Kg=0,95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Import total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3808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magatzem descarreguen 6 camions amb 8000 Kg de préssecs cadascun. Si el quilogram de préssecs es ven a 0'95 €/Kg. Quant costen els préssecs emmagatzem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9040" y="2822400"/>
            <a:ext cx="7856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0120" y="290664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304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magatzem descarreguen 6 camions amb 8000 Kg de préssecs cadascun. Si el quilogram de préssecs es ven a 0'95 €/Kg. Quant costen els préssecs emmagatzem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80720" y="259092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3808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magatzem descarreguen 6 camions amb 8000 Kg de préssecs cadascun. Si el quilogram de préssecs es ven a 0'95 €/Kg. Quant costen els préssecs emmagatzem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0600" y="2362320"/>
            <a:ext cx="380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000x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8000x0,9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380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magatzem descarreguen 6 camions amb 8000 Kg de préssecs cadascun. Si el quilogram de préssecs es ven a 0'95 €/Kg. Quant costen els préssecs emmagatzem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8840" y="2362320"/>
            <a:ext cx="61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000x6=48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8000x0,95=456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533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magatzem descarreguen 6 camions amb 8000 Kg de préssecs cadascun. Si el quilogram de préssecs es ven a 0'95 €/Kg. Quant costen els préssecs emmagatzem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5909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la quantitat total de quilos que han portat els cam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Trobar l'import total, sabent el que val cada qui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533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magatzem descarreguen 6 camions amb 8000 Kg de préssecs cadascun. Si el quilogram de préssecs es ven a 0'95 €/Kg. Quant costen els préssecs emmagatzem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53920" y="3124080"/>
            <a:ext cx="418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000x6x0,9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52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magatzem descarreguen 6 camions amb 8000 Kg de préssecs cadascun. Si el quilogram de préssecs es ven a 0'95 €/Kg. Quant costen els préssecs emmagatzem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20:59:17Z</dcterms:created>
  <dc:creator>Daniel</dc:creator>
  <dc:description/>
  <dc:language>en-US</dc:language>
  <cp:lastModifiedBy>Daniel</cp:lastModifiedBy>
  <dcterms:modified xsi:type="dcterms:W3CDTF">2002-09-09T15:35:10Z</dcterms:modified>
  <cp:revision>18</cp:revision>
  <dc:subject/>
  <dc:title>Sin título de diapositiva</dc:title>
</cp:coreProperties>
</file>