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A49-647B-48BE-A96E-0CB6BB2A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917-55ED-4D82-839E-65B7889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336-5B1B-4FD4-92F2-C7535C4B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398-D39A-4404-ADD8-591CA88D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FB4-29EF-4C41-A312-6D7ADF39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1DB-2988-441C-8A09-A178F11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2B0-7D35-401A-BF97-36C2281F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AA5-B741-47CA-B1A9-FB662BB1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955-D51E-474D-95A4-5F1775BF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4E3-7ACD-4229-972A-E931AA3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B59-72EC-45D5-9287-800669F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08E-69A4-4AE2-A7BC-CEAC0B6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9AE0-8D4A-4F8C-81CB-5283B35E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3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14800" y="4648320"/>
            <a:ext cx="115884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5000" y="2209680"/>
            <a:ext cx="559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8,3 minut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6386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32004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86400" y="342900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8640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86400" y="4952880"/>
            <a:ext cx="339552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562720" y="579132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2880" y="2286000"/>
            <a:ext cx="73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istància=150.000.000 K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 llum=300.000 Km/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Temp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8120"/>
            <a:ext cx="803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960" y="317808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2578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3040" y="2514600"/>
            <a:ext cx="242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864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380880"/>
            <a:ext cx="85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9520" y="2514600"/>
            <a:ext cx="672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.000.000:300.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:6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4100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3808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9000" y="213372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50.000.000:300.000=5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:60=8,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100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8108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'ha de trobar el nombre de segons que tardarà en arribar a nosaltres la llum, si sabem que cada 300.000 Km és un se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'ha de passar els segons a minuts, sabent que cada 60 segons és un min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nt tardarà a arribar a nosaltres la llum del sol si la distància del Sol a la Terra és de 150.000.000 de Km i la velocitat de la llum és de 300.000 Km per seg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200" y="2743200"/>
            <a:ext cx="824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150.000.000:300.000):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6386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4:59:48Z</dcterms:created>
  <dc:creator>Daniel</dc:creator>
  <dc:description/>
  <dc:language>en-US</dc:language>
  <cp:lastModifiedBy>Daniel</cp:lastModifiedBy>
  <dcterms:modified xsi:type="dcterms:W3CDTF">2002-08-28T20:25:39Z</dcterms:modified>
  <cp:revision>22</cp:revision>
  <dc:subject/>
  <dc:title>Sin título de diapositiva</dc:title>
</cp:coreProperties>
</file>