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A5C-389A-4A51-920B-60F88895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994-FE1B-4C21-B437-40ABB110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BEA-417A-4BC2-A9F9-54E92A11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37A-B184-4B75-B38D-7F5CF762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258-DA09-48DC-A78C-C6673E23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486-C67A-4A34-8BE7-30EC2687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C48-FD9E-48FE-99ED-7A754296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0C9-C432-497F-BB48-9C41702A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BB0-E3ED-4629-B49D-DA98E31F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FE9-9223-497C-818A-AC8F2E8C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3A0-D756-48A2-BCC5-47CB98CB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7D8-58A3-4928-973A-823FBA3B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F8B4-470D-4C51-A141-ED43DE2BC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800" y="2982960"/>
            <a:ext cx="687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23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581280" y="4572000"/>
            <a:ext cx="1463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866880" cy="790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6560" y="220968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69,25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6576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3520" y="5181480"/>
            <a:ext cx="141588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33520" y="594360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86400" y="350532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86400" y="43434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86400" y="5181480"/>
            <a:ext cx="3395520" cy="53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486400" y="6019920"/>
            <a:ext cx="1911240" cy="53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0492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 botiguer va barrejar 37 Kg de llenties de 13,75 euros el quilo amb 43 Kg de 16,50 euros/Kg. Va vendre tota la barreja per 1387,50 euros. Quant hi va guany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866880" cy="790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520" y="1752480"/>
            <a:ext cx="6781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Llenties 1ª classe- 37 K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Llenties 2ª classe- 43 K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Preu 1ª classe- 13,75 €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Preu 2ª classe- 16,50 €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Import venda total- 1387,50 €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Guany net-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80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botiguer va barrejar 37 Kg de llenties de 13,75 euros el quilo amb 43 Kg de 16,50 euros/Kg. Va vendre tota la barreja per 1387,50 euros. Quant hi va guany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866880" cy="790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" y="2975040"/>
            <a:ext cx="8688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920" y="31240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botiguer va barrejar 37 Kg de llenties de 13,75 euros el quilo amb 43 Kg de 16,50 euros/Kg. Va vendre tota la barreja per 1387,50 euros. Quant hi va guany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866880" cy="79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94920" y="2057400"/>
            <a:ext cx="449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57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botiguer va barrejar 37 Kg de llenties de 13,75 euros el quilo amb 43 Kg de 16,50 euros/Kg. Va vendre tota la barreja per 1387,50 euros. Quant hi va guany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866880" cy="790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20760" y="2133720"/>
            <a:ext cx="538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7x13,7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3x16,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8,75+709,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387,50-1218,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botiguer va barrejar 37 Kg de llenties de 13,75 euros el quilo amb 43 Kg de 16,50 euros/Kg. Va vendre tota la barreja per 1387,50 euros. Quant hi va guany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866880" cy="790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9880" y="2279520"/>
            <a:ext cx="636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37x13,75=508,7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43x16,50=709,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508,75+709,5=1218,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1387,50-1218,25=169,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572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botiguer va barrejar 37 Kg de llenties de 13,75 euros el quilo amb 43 Kg de 16,50 euros/Kg. Va vendre tota la barreja per 1387,50 euros. Quant hi va guany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866880" cy="790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182880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Trobar el cost de les llenties de la 1ª classe i el cost de les de la 2ª clas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Trobar el cost total de les lle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:Veure la diferència entre el que en va treure (import venda total) i el que li havia costat, que serà el guany 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botiguer va barrejar 37 Kg de llenties de 13,75 euros el quilo amb 43 Kg de 16,50 euros/Kg. Va vendre tota la barreja per 1387,50 euros. Quant hi va guany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86400"/>
            <a:ext cx="866880" cy="790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4240" y="2435400"/>
            <a:ext cx="81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1387,50-37x13,75+43x16,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5040" y="457200"/>
            <a:ext cx="80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botiguer va barrejar 37 Kg de llenties de 13,75 euros el quilo amb 43 Kg de 16,50 euros/Kg. Va vendre tota la barreja per 1387,50 euros. Quant hi va guany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0:50:53Z</dcterms:created>
  <dc:creator>Daniel</dc:creator>
  <dc:description/>
  <dc:language>en-US</dc:language>
  <cp:lastModifiedBy>Daniel</cp:lastModifiedBy>
  <dcterms:modified xsi:type="dcterms:W3CDTF">2002-08-29T17:26:07Z</dcterms:modified>
  <cp:revision>15</cp:revision>
  <dc:subject/>
  <dc:title>Sin título de diapositiva</dc:title>
</cp:coreProperties>
</file>