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F80-F687-41C5-A6D7-C66DE9B4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617-A4B0-4533-8D04-788BB22F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E65-FEF7-48C3-A1DD-034604CC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EF8-FB25-40F8-9B0E-93C6F39B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F3B-9584-4EEA-A232-74F9BA06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317-28F7-4D6E-8E2B-FC9742A4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496-2BA7-43EB-9651-5237E342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624-7A10-4404-8CF5-52A76791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008-B8C3-4366-A5B2-49BD29BB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AE4-5E58-478E-96E0-452D39A4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414-9034-45B9-AA00-7440E6F4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B0A-DC8C-4FBE-97BE-16D34696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6DDD-9435-4FC4-A930-AFC6DFB7C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87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581280" y="4800600"/>
            <a:ext cx="13114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30920" y="1600200"/>
            <a:ext cx="870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32 €/m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992 €/semestre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2880" y="533520"/>
            <a:ext cx="856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 lloguer d'un pis durant tot un any és de 3984 euros. Quin és el preu del lloguer de cada mes? I el d'un semest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403848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270648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212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6212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105520" y="380988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105520" y="449568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105520" y="518148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105520" y="586728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lloguer d'un pis durant tot un any és de 3984 euros. Quin és el preu del lloguer de cada mes? I el d'un semes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9400" y="2514600"/>
            <a:ext cx="6183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Lloguer anual=3984 €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Lloguer mensual=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Lloguer semestral=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lloguer d'un pis durant tot un any és de 3984 euros. Quin és el preu del lloguer de cada mes? I el d'un semes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5360" y="271296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1800" y="28195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lloguer d'un pis durant tot un any és de 3984 euros. Quin és el preu del lloguer de cada mes? I el d'un semes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33360" y="2895480"/>
            <a:ext cx="441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lloguer d'un pis durant tot un any és de 3984 euros. Quin és el preu del lloguer de cada mes? I el d'un semes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20960" y="2362320"/>
            <a:ext cx="272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984: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32x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lloguer d'un pis durant tot un any és de 3984 euros. Quin és el preu del lloguer de cada mes? I el d'un semes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35520" y="2514600"/>
            <a:ext cx="429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984:12=33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32x6=199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lloguer d'un pis durant tot un any és de 3984 euros. Quin és el preu del lloguer de cada mes? I el d'un semes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25146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calcular el lloguer d'un mes, sabent el d'un 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Sabent el lloguer anual, trobar el lloguer de 6 m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lloguer d'un pis durant tot un any és de 3984 euros. Quin és el preu del lloguer de cada mes? I el d'un semes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34440" y="2819520"/>
            <a:ext cx="39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3984:12)x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21:41:08Z</dcterms:created>
  <dc:creator>Daniel</dc:creator>
  <dc:description/>
  <dc:language>en-US</dc:language>
  <cp:lastModifiedBy>Daniel</cp:lastModifiedBy>
  <dcterms:modified xsi:type="dcterms:W3CDTF">2002-12-31T17:41:28Z</dcterms:modified>
  <cp:revision>18</cp:revision>
  <dc:subject/>
  <dc:title>Sin título de diapositiva</dc:title>
</cp:coreProperties>
</file>