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C94-E806-4C55-999A-1DF0199D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857-8E03-432A-8633-5415A5A5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D40-9F11-4C88-8AC7-90623302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8F0-F33F-477B-B0F5-F9A13B68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ED1-1F48-46B3-BF81-E5E6B198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C2B-7CF6-4F3B-AB49-EA4469C2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B48-4818-467E-AD67-A5A66723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0CE-F68D-4F89-A3A2-AFE4FC47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470-FD05-4F6C-A4AC-8FCDF369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7D2-B437-4C7F-9CE1-03AAF98C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44E-0D1E-4C52-BFB1-9967526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DAC-4732-4BC6-8A34-74832BA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B796-51DE-4F78-B1D0-828E9248C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156060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211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480" y="298620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50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80060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9560" y="2514600"/>
            <a:ext cx="766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4096 viatgers.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638680"/>
            <a:ext cx="8604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51814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029200" y="38098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029200" y="45720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02920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029200" y="594360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0492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 primer dia de vacances han sortit de l'estació de Sants 8 trens especials amb 8 vagons cada un. Calcula quin és el nombre de viatgers que han deixat la ciutat si a cada vagó hi ha 8 compartiments i a cada compartiment hi ha 8 viatg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9160" y="2282760"/>
            <a:ext cx="5029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rens=8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agons=8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epartaments=8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iatgers/dep=8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total viatger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808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imer dia de vacances han sortit de l'estació de Sants 8 trens especials amb 8 vagons cada un. Calcula quin és el nombre de viatgers que han deixat la ciutat si a cada vagó hi ha 8 compartiments i a cada compartiment hi ha 8 viat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47640" y="2755800"/>
            <a:ext cx="7856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4600" y="28954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3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0492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imer dia de vacances han sortit de l'estació de Sants 8 trens especials amb 8 vagons cada un. Calcula quin és el nombre de viatgers que han deixat la ciutat si a cada vagó hi ha 8 compartiments i a cada compartiment hi ha 8 viat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638680"/>
            <a:ext cx="8604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99840" y="274320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049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imer dia de vacances han sortit de l'estació de Sants 8 trens especials amb 8 vagons cada un. Calcula quin és el nombre de viatgers que han deixat la ciutat si a cada vagó hi ha 8 compartiments i a cada compartiment hi ha 8 viat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638680"/>
            <a:ext cx="8604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16400" y="3429000"/>
            <a:ext cx="284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x8x8x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961240" y="4495680"/>
                <a:ext cx="677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457200" y="4572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imer dia de vacances han sortit de l'estació de Sants 8 trens especials amb 8 vagons cada un. Calcula quin és el nombre de viatgers que han deixat la ciutat si a cada vagó hi ha 8 compartiments i a cada compartiment hi ha 8 viat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638680"/>
            <a:ext cx="8604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30600" y="3276720"/>
            <a:ext cx="480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x8x8x8=409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808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imer dia de vacances han sortit de l'estació de Sants 8 trens especials amb 8 vagons cada un. Calcula quin és el nombre de viatgers que han deixat la ciutat si a cada vagó hi ha 8 compartiments i a cada compartiment hi ha 8 viat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638680"/>
            <a:ext cx="8604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228600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Veure el nombre de viatgers que hi caben a cada vag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Veure el nombre de viatgers que hi caben a cada t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Veure el nombre de viatgers que hi caben en els 8 tr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9360" y="304920"/>
            <a:ext cx="821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imer dia de vacances han sortit de l'estació de Sants 8 trens especials amb 8 vagons cada un. Calcula quin és el nombre de viatgers que han deixat la ciutat si a cada vagó hi ha 8 compartiments i a cada compartiment hi ha 8 viat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638680"/>
            <a:ext cx="8604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724280" y="3429000"/>
                <a:ext cx="801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80880" y="45720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imer dia de vacances han sortit de l'estació de Sants 8 trens especials amb 8 vagons cada un. Calcula quin és el nombre de viatgers que han deixat la ciutat si a cada vagó hi ha 8 compartiments i a cada compartiment hi ha 8 viat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638680"/>
            <a:ext cx="8604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21:09:19Z</dcterms:created>
  <dc:creator>Daniel</dc:creator>
  <dc:description/>
  <dc:language>en-US</dc:language>
  <cp:lastModifiedBy>Daniel</cp:lastModifiedBy>
  <dcterms:modified xsi:type="dcterms:W3CDTF">2003-01-16T22:53:45Z</dcterms:modified>
  <cp:revision>16</cp:revision>
  <dc:subject/>
  <dc:title>Sin título de diapositiva</dc:title>
</cp:coreProperties>
</file>