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F17-EE43-4EF6-A13C-8C38E20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542-CC7F-439A-AF6E-B73A08F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DB9-B875-4D6B-87FA-CE4872AE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6F6-4230-4B91-81F3-3827F20A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54C-24A5-4DFC-B029-52E64B8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9C0-DA84-496D-93EB-EA8F9D17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2BB-A088-4ACD-A919-86DBE0F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562-2DC9-4553-94A3-11B3883B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9EA-7015-4171-BF4B-E29CAE7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286-40E1-4C74-AA4F-B9A07BF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5DB-E174-4AE0-A3FD-45EB48A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063-082A-4EDE-8BFD-419EFFF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375-AA77-40C9-82AD-F6FDFCA85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8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9568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50440" y="2133720"/>
            <a:ext cx="613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00 rajol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7339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876920" y="37339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876920" y="44197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87692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87692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572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4240" y="2514600"/>
            <a:ext cx="659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ides superfície=4x2 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ides rajola=20x20 c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rajol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840" y="28414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33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2640" y="1905120"/>
            <a:ext cx="449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7600" y="1676520"/>
            <a:ext cx="3483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x10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x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0:10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:0,0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533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8480" y="1905120"/>
            <a:ext cx="5250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4=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x10000=80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x20=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00:10000=0,0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:0,04=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057400"/>
            <a:ext cx="788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1r:S'ha de trobar els metres quadrats que fa la superfície que s'ha d'enrajo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2n: S'han de passar els metres quadrats a centímetres quadra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3r:Calcular la superfície de cada rajola (en centímetres quadra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4t:Veure quantes rajoles hi caben a la superfície, sabent el que mesura la superfície i cada raj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92440" cy="81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33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es rajoles quadrades de 20 cm de costat es necessiten per enrajolar una superfície rectangular de 4 m de llargada i 2 m d'ampl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2640" y="2895480"/>
            <a:ext cx="716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x4):[(20x20):10000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30:40Z</dcterms:created>
  <dc:creator>Daniel</dc:creator>
  <dc:description/>
  <dc:language>en-US</dc:language>
  <cp:lastModifiedBy>Daniel</cp:lastModifiedBy>
  <dcterms:modified xsi:type="dcterms:W3CDTF">2002-12-30T15:19:41Z</dcterms:modified>
  <cp:revision>17</cp:revision>
  <dc:subject/>
  <dc:title>Sin título de diapositiva</dc:title>
</cp:coreProperties>
</file>