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2242-7CCF-40E0-A8C1-0AC0EBA0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D50-5D55-4868-996D-141F8574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7BD-D6F4-4325-9E57-0C2026F5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9F0-D847-4868-B3B8-00B7FB8F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94B-5806-470E-BAF9-386A1027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C84F-EDF4-4F31-B37E-F5357099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E8B-22AB-4D66-B6FB-5C00D793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288-94C0-442D-93A6-CD53702D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0E99-95E6-48DC-9462-359C5127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84E-B564-40D8-8CD6-E338BA6C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C03-5975-4005-B6D8-E0026AD7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B5C5-9A04-4DC8-B0A6-2D154DE4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74DF-3053-49ED-8DB4-3EE8CEB84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9960" y="2878200"/>
            <a:ext cx="72640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30680" y="298620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</a:t>
            </a: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 (66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86200" y="4495680"/>
            <a:ext cx="1469880" cy="16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923760" cy="847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11120" y="236232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216 Kg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130464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4495680"/>
            <a:ext cx="2706480" cy="542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30492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 un camp hi ha 6 files de ceps amb 6 ceps en cada fila. Si de cada cep es cullen 6 Kg de raïm, quants Kg de raïm es colliran en tot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520" y="525780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33520" y="594360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410080" y="3809880"/>
            <a:ext cx="230688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410080" y="4495680"/>
            <a:ext cx="179892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410080" y="518148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410080" y="586728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923760" cy="847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6094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camp hi ha 6 files de ceps amb 6 ceps en cada fila. Si de cada cep es cullen 6 Kg de raïm, quants Kg de raïm es colliran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80480" y="2362320"/>
            <a:ext cx="5283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Nº files=6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Nº ceps/fila=6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Nº quilos/cep=6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Nº total de quilo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923760" cy="847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3808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camp hi ha 6 files de ceps amb 6 ceps en cada fila. Si de cada cep es cullen 6 Kg de raïm, quants Kg de raïm es colliran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0800" y="25718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6400" y="2822400"/>
            <a:ext cx="8037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8200" y="29527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923760" cy="847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304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camp hi ha 6 files de ceps amb 6 ceps en cada fila. Si de cada cep es cullen 6 Kg de raïm, quants Kg de raïm es colliran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2362320"/>
            <a:ext cx="4498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923760" cy="847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7621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camp hi ha 6 files de ceps amb 6 ceps en cada fila. Si de cada cep es cullen 6 Kg de raïm, quants Kg de raïm es colliran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4640" y="2514600"/>
            <a:ext cx="208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6x6x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352680" y="4038480"/>
                <a:ext cx="10494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923760" cy="847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5335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camp hi ha 6 files de ceps amb 6 ceps en cada fila. Si de cada cep es cullen 6 Kg de raïm, quants Kg de raïm es colliran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40440" y="2971800"/>
            <a:ext cx="366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6x6x6=2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923760" cy="847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4572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camp hi ha 6 files de ceps amb 6 ceps en cada fila. Si de cada cep es cullen 6 Kg de raïm, quants Kg de raïm es colliran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59092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S'ha de trobar el nombre de ceps que hi ha en total (en les 6 fil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2n:Trobar el nombre total de quilos, sabent els quilos que fa un c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334120"/>
            <a:ext cx="923760" cy="847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4572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un camp hi ha 6 files de ceps amb 6 ceps en cada fila. Si de cada cep es cullen 6 Kg de raïm, quants Kg de raïm es colliran en to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733920" y="3200400"/>
                <a:ext cx="1109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23:05:27Z</dcterms:created>
  <dc:creator>Daniel</dc:creator>
  <dc:description/>
  <dc:language>en-US</dc:language>
  <cp:lastModifiedBy>Daniel</cp:lastModifiedBy>
  <dcterms:modified xsi:type="dcterms:W3CDTF">2002-12-23T23:03:29Z</dcterms:modified>
  <cp:revision>19</cp:revision>
  <dc:subject/>
  <dc:title>Sin título de diapositiva</dc:title>
</cp:coreProperties>
</file>