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DF1-D6D1-4570-8665-7CF5072D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CAA-8F73-473A-9787-67DC45DC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6DC-BA4F-4712-BDE4-C5E673D1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DDB-6D7D-43CA-897F-E7C227E2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FD7-AF63-4503-BF3D-93FCC92A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7B7-AAD3-476B-83EF-F996F3D3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100-BDC1-4382-BCD2-0B0538E6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1A4-8A65-4998-8413-BCB685E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1BE-335E-4B37-8FE0-CC7996B3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749-6562-496C-B716-A86A8CAB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5E9-811E-4FC6-BBAD-1E321D8D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33C-209C-481B-9B03-6A7B8C3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539B-D831-47D1-8F5C-D50667243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79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26708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79040" y="2133720"/>
            <a:ext cx="58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9,5 litr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39625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9072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396252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181480" y="464832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18148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181480" y="601992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762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762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9920" y="2514600"/>
            <a:ext cx="545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ipòsit=125,34 l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emps= 6,4 minut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Litres per minut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6000" y="251460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685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808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840" y="28195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33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9720" y="2971800"/>
            <a:ext cx="348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5,34:6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533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6920" y="2590920"/>
            <a:ext cx="525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5,34:6,4=19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09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209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Calcular els litres que farà l'aixeta cada minut si se sap la capacitat total del dipòsit i els minuts que tarda en omplir-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aixeta omple un dipòsit de 125,34 l de capacitat en 6,4 minuts. Quants litres d'aigua hi aboca l'aixeta per min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8320" y="2743200"/>
            <a:ext cx="348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5,34:6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31:41Z</dcterms:created>
  <dc:creator>Daniel</dc:creator>
  <dc:description/>
  <dc:language>en-US</dc:language>
  <cp:lastModifiedBy>Daniel</cp:lastModifiedBy>
  <dcterms:modified xsi:type="dcterms:W3CDTF">2002-12-30T21:14:28Z</dcterms:modified>
  <cp:revision>16</cp:revision>
  <dc:subject/>
  <dc:title>Sin título de diapositiva</dc:title>
</cp:coreProperties>
</file>