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C0C-CD85-438E-92EE-51997213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FE0-FE18-4F54-9278-967AADFB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86C-301D-4B97-BEE6-B2D2028C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19C-B2F4-4757-B269-00F727CE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60D-E2EE-45A7-98B8-275C4BA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FE8-767D-4037-836F-E416826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699-DCB6-4C41-AED8-E798E99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31F-8471-46C4-8B01-30B909EF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1B2-DAD3-4267-961F-CF366B7C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DB3-3FDA-462F-A5EB-8F7FEBE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28A-D3ED-4584-B1EC-FCC8566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EC2-E025-4847-88F7-C0F4029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5687-2ED1-49CE-BD2E-EE7ACF787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343400"/>
            <a:ext cx="146988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324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46376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120" y="142884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8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97280" y="259092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0292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2670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02920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579132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228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42040" y="1905120"/>
            <a:ext cx="4472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ntalons= 13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Sabates= 21 €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Pantalons=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gament=5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nvi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2514600"/>
            <a:ext cx="869328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040" y="21337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5680" y="2438280"/>
            <a:ext cx="213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+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-4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8840" y="2590920"/>
            <a:ext cx="333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13=2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+21=4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-47=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133720"/>
            <a:ext cx="807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el cost dels dos pantal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aber el cost dels pantalons i les sab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Calcular la diferència entre el que pago i el que val, que serà el canvi que han de tor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2880" y="3048120"/>
            <a:ext cx="391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-2x13+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Jaume es va comprar un parell de pantalons a 13 € cadascun i un parell de sabates a 21 €. Va pagar amb un bitllet de 50 €. Quants euros li van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21:42Z</dcterms:created>
  <dc:creator>Daniel</dc:creator>
  <dc:description/>
  <dc:language>en-US</dc:language>
  <cp:lastModifiedBy>Daniel</cp:lastModifiedBy>
  <dcterms:modified xsi:type="dcterms:W3CDTF">2002-08-30T22:09:03Z</dcterms:modified>
  <cp:revision>15</cp:revision>
  <dc:subject/>
  <dc:title>Sin título de diapositiva</dc:title>
</cp:coreProperties>
</file>