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D81-B647-4779-8E5B-BDE2CD3F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DAA-52BB-4A67-8947-353564B3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4CE-515E-4337-A06E-85316873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632-007D-4743-A374-490B6DE0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C6F-47AD-4311-8199-937EDDDD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0FC-6867-4D6F-B932-18229003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65A-1469-4800-8566-0A9EC9B4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626-2DF0-432D-AAB2-4B241D97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6FD-8459-4D07-94B2-09CB33B4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C92-65A2-46B1-AB9D-DCE8F3CD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D2E-6BD9-4C2D-A1A2-247A63CA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B46-C6B5-4919-8AEA-3086B9A9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DC15-4DB9-441F-B4F5-6304EC5CE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7840" y="28764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193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120" y="29844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10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3886200" y="4724280"/>
            <a:ext cx="1752480" cy="175284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21600" h="21604">
                <a:moveTo>
                  <a:pt x="0" y="0"/>
                </a:moveTo>
                <a:lnTo>
                  <a:pt x="21600" y="0"/>
                </a:lnTo>
                <a:lnTo>
                  <a:pt x="21600" y="21604"/>
                </a:lnTo>
                <a:lnTo>
                  <a:pt x="0" y="21604"/>
                </a:lnTo>
                <a:close/>
              </a:path>
              <a:path fill="lightenLess" w="21600" h="216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4">
                <a:moveTo>
                  <a:pt x="21600" y="0"/>
                </a:moveTo>
                <a:lnTo>
                  <a:pt x="21600" y="21604"/>
                </a:lnTo>
                <a:lnTo>
                  <a:pt x="20200" y="20204"/>
                </a:lnTo>
                <a:lnTo>
                  <a:pt x="20200" y="1400"/>
                </a:lnTo>
                <a:close/>
              </a:path>
              <a:path fill="darkenLess" w="21600" h="21604">
                <a:moveTo>
                  <a:pt x="21600" y="21604"/>
                </a:moveTo>
                <a:lnTo>
                  <a:pt x="0" y="21604"/>
                </a:lnTo>
                <a:lnTo>
                  <a:pt x="1400" y="20204"/>
                </a:lnTo>
                <a:lnTo>
                  <a:pt x="20200" y="20204"/>
                </a:lnTo>
                <a:close/>
              </a:path>
              <a:path fill="lighten" w="21600" h="21604">
                <a:moveTo>
                  <a:pt x="0" y="216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4"/>
                </a:lnTo>
                <a:close/>
              </a:path>
              <a:path fill="darken" w="21600" h="21604">
                <a:moveTo>
                  <a:pt x="10800" y="3839"/>
                </a:moveTo>
                <a:lnTo>
                  <a:pt x="13376" y="6450"/>
                </a:ln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lnTo>
                  <a:pt x="17763" y="10802"/>
                </a:lnTo>
                <a:lnTo>
                  <a:pt x="16109" y="10802"/>
                </a:lnTo>
                <a:lnTo>
                  <a:pt x="16109" y="17991"/>
                </a:lnTo>
                <a:lnTo>
                  <a:pt x="5491" y="17991"/>
                </a:lnTo>
                <a:lnTo>
                  <a:pt x="5491" y="10802"/>
                </a:lnTo>
                <a:lnTo>
                  <a:pt x="3837" y="10802"/>
                </a:lnTo>
                <a:close/>
              </a:path>
              <a:path fill="darkenLess" w="21600" h="21604">
                <a:moveTo>
                  <a:pt x="13376" y="6450"/>
                </a:move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close/>
              </a:path>
              <a:path fill="darkenLess" w="21600" h="21604">
                <a:moveTo>
                  <a:pt x="9877" y="14301"/>
                </a:moveTo>
                <a:lnTo>
                  <a:pt x="11723" y="14301"/>
                </a:lnTo>
                <a:lnTo>
                  <a:pt x="11723" y="17991"/>
                </a:lnTo>
                <a:lnTo>
                  <a:pt x="16109" y="17991"/>
                </a:lnTo>
                <a:lnTo>
                  <a:pt x="16109" y="10802"/>
                </a:lnTo>
                <a:lnTo>
                  <a:pt x="5491" y="10802"/>
                </a:lnTo>
                <a:lnTo>
                  <a:pt x="5491" y="17991"/>
                </a:lnTo>
                <a:lnTo>
                  <a:pt x="9877" y="1799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2880" y="266688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15921,8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6858000" y="4800600"/>
            <a:ext cx="1219320" cy="137160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297">
                <a:moveTo>
                  <a:pt x="0" y="0"/>
                </a:moveTo>
                <a:lnTo>
                  <a:pt x="21600" y="0"/>
                </a:lnTo>
                <a:lnTo>
                  <a:pt x="21600" y="24297"/>
                </a:lnTo>
                <a:lnTo>
                  <a:pt x="0" y="24297"/>
                </a:lnTo>
                <a:close/>
              </a:path>
              <a:path fill="lightenLess" w="21600" h="24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7">
                <a:moveTo>
                  <a:pt x="21600" y="0"/>
                </a:moveTo>
                <a:lnTo>
                  <a:pt x="21600" y="24297"/>
                </a:lnTo>
                <a:lnTo>
                  <a:pt x="20200" y="22897"/>
                </a:lnTo>
                <a:lnTo>
                  <a:pt x="20200" y="1400"/>
                </a:lnTo>
                <a:close/>
              </a:path>
              <a:path fill="darkenLess" w="21600" h="24297">
                <a:moveTo>
                  <a:pt x="21600" y="24297"/>
                </a:moveTo>
                <a:lnTo>
                  <a:pt x="0" y="24297"/>
                </a:lnTo>
                <a:lnTo>
                  <a:pt x="1400" y="22897"/>
                </a:lnTo>
                <a:lnTo>
                  <a:pt x="20200" y="22897"/>
                </a:lnTo>
                <a:close/>
              </a:path>
              <a:path fill="lighten" w="21600" h="24297">
                <a:moveTo>
                  <a:pt x="0" y="24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7"/>
                </a:lnTo>
                <a:close/>
              </a:path>
              <a:path fill="darken" w="21600" h="24297">
                <a:moveTo>
                  <a:pt x="3794" y="12148"/>
                </a:moveTo>
                <a:lnTo>
                  <a:pt x="17806" y="5142"/>
                </a:lnTo>
                <a:lnTo>
                  <a:pt x="17806" y="19155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7621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umar al nombre 26.536,45 amb el seu doble; de la suma trobi's la cinquena part. Quin nombre resul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2004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270036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38080" y="4876920"/>
            <a:ext cx="141624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62120" y="58672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181480" y="320040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181480" y="41148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257800" y="5943600"/>
            <a:ext cx="191124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45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mar al nombre 26.536,45 amb el seu doble; de la suma trobi's la cinquena part. Quin nombre resul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7440" y="2438280"/>
            <a:ext cx="341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Nº 26536,45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238880" y="4648320"/>
            <a:ext cx="1067040" cy="1523880"/>
          </a:xfrm>
          <a:custGeom>
            <a:avLst/>
            <a:gdLst>
              <a:gd name="textAreaLeft" fmla="*/ 69120 w 1067040"/>
              <a:gd name="textAreaRight" fmla="*/ 997920 w 1067040"/>
              <a:gd name="textAreaTop" fmla="*/ 69120 h 1523880"/>
              <a:gd name="textAreaBottom" fmla="*/ 1454760 h 1523880"/>
            </a:gdLst>
            <a:ahLst/>
            <a:rect l="textAreaLeft" t="textAreaTop" r="textAreaRight" b="textAreaBottom"/>
            <a:pathLst>
              <a:path w="21600" h="30845">
                <a:moveTo>
                  <a:pt x="0" y="0"/>
                </a:moveTo>
                <a:lnTo>
                  <a:pt x="21600" y="0"/>
                </a:lnTo>
                <a:lnTo>
                  <a:pt x="21600" y="30845"/>
                </a:lnTo>
                <a:lnTo>
                  <a:pt x="0" y="30845"/>
                </a:lnTo>
                <a:close/>
              </a:path>
              <a:path fill="lightenLess" w="21600" h="308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45">
                <a:moveTo>
                  <a:pt x="21600" y="0"/>
                </a:moveTo>
                <a:lnTo>
                  <a:pt x="21600" y="30845"/>
                </a:lnTo>
                <a:lnTo>
                  <a:pt x="20200" y="29445"/>
                </a:lnTo>
                <a:lnTo>
                  <a:pt x="20200" y="1400"/>
                </a:lnTo>
                <a:close/>
              </a:path>
              <a:path fill="darkenLess" w="21600" h="30845">
                <a:moveTo>
                  <a:pt x="21600" y="30845"/>
                </a:moveTo>
                <a:lnTo>
                  <a:pt x="0" y="30845"/>
                </a:lnTo>
                <a:lnTo>
                  <a:pt x="1400" y="29445"/>
                </a:lnTo>
                <a:lnTo>
                  <a:pt x="20200" y="29445"/>
                </a:lnTo>
                <a:close/>
              </a:path>
              <a:path fill="lighten" w="21600" h="30845">
                <a:moveTo>
                  <a:pt x="0" y="308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45"/>
                </a:lnTo>
                <a:close/>
              </a:path>
              <a:path fill="darken" w="21600" h="30845">
                <a:moveTo>
                  <a:pt x="3794" y="15422"/>
                </a:moveTo>
                <a:lnTo>
                  <a:pt x="17806" y="8416"/>
                </a:lnTo>
                <a:lnTo>
                  <a:pt x="17806" y="2242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533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mar al nombre 26.536,45 amb el seu doble; de la suma trobi's la cinquena part. Quin nombre resul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00" y="2708280"/>
            <a:ext cx="8037720" cy="14349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6934320" y="4800600"/>
            <a:ext cx="1218960" cy="160020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600200"/>
              <a:gd name="textAreaBottom" fmla="*/ 1521360 h 1600200"/>
            </a:gdLst>
            <a:ahLst/>
            <a:rect l="textAreaLeft" t="textAreaTop" r="textAreaRight" b="textAreaBottom"/>
            <a:pathLst>
              <a:path w="21600" h="28354">
                <a:moveTo>
                  <a:pt x="0" y="0"/>
                </a:moveTo>
                <a:lnTo>
                  <a:pt x="21600" y="0"/>
                </a:lnTo>
                <a:lnTo>
                  <a:pt x="21600" y="28354"/>
                </a:lnTo>
                <a:lnTo>
                  <a:pt x="0" y="28354"/>
                </a:lnTo>
                <a:close/>
              </a:path>
              <a:path fill="lightenLess" w="21600" h="283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354">
                <a:moveTo>
                  <a:pt x="21600" y="0"/>
                </a:moveTo>
                <a:lnTo>
                  <a:pt x="21600" y="28354"/>
                </a:lnTo>
                <a:lnTo>
                  <a:pt x="20200" y="26954"/>
                </a:lnTo>
                <a:lnTo>
                  <a:pt x="20200" y="1400"/>
                </a:lnTo>
                <a:close/>
              </a:path>
              <a:path fill="darkenLess" w="21600" h="28354">
                <a:moveTo>
                  <a:pt x="21600" y="28354"/>
                </a:moveTo>
                <a:lnTo>
                  <a:pt x="0" y="28354"/>
                </a:lnTo>
                <a:lnTo>
                  <a:pt x="1400" y="26954"/>
                </a:lnTo>
                <a:lnTo>
                  <a:pt x="20200" y="26954"/>
                </a:lnTo>
                <a:close/>
              </a:path>
              <a:path fill="lighten" w="21600" h="28354">
                <a:moveTo>
                  <a:pt x="0" y="283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6954"/>
                </a:lnTo>
                <a:close/>
              </a:path>
              <a:path fill="darken" w="21600" h="28354">
                <a:moveTo>
                  <a:pt x="3794" y="14177"/>
                </a:moveTo>
                <a:lnTo>
                  <a:pt x="17806" y="7170"/>
                </a:lnTo>
                <a:lnTo>
                  <a:pt x="17806" y="2118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mar al nombre 26.536,45 amb el seu doble; de la suma trobi's la cinquena part. Quin nombre resul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240" y="213372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vis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6858000" y="4572000"/>
            <a:ext cx="1219320" cy="152388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523880"/>
              <a:gd name="textAreaBottom" fmla="*/ 1445040 h 1523880"/>
            </a:gdLst>
            <a:ahLst/>
            <a:rect l="textAreaLeft" t="textAreaTop" r="textAreaRight" b="textAreaBottom"/>
            <a:pathLst>
              <a:path w="21600" h="26994">
                <a:moveTo>
                  <a:pt x="0" y="0"/>
                </a:moveTo>
                <a:lnTo>
                  <a:pt x="21600" y="0"/>
                </a:lnTo>
                <a:lnTo>
                  <a:pt x="21600" y="26994"/>
                </a:lnTo>
                <a:lnTo>
                  <a:pt x="0" y="26994"/>
                </a:lnTo>
                <a:close/>
              </a:path>
              <a:path fill="lightenLess" w="21600" h="26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4">
                <a:moveTo>
                  <a:pt x="21600" y="0"/>
                </a:moveTo>
                <a:lnTo>
                  <a:pt x="21600" y="26994"/>
                </a:lnTo>
                <a:lnTo>
                  <a:pt x="20200" y="25594"/>
                </a:lnTo>
                <a:lnTo>
                  <a:pt x="20200" y="1400"/>
                </a:lnTo>
                <a:close/>
              </a:path>
              <a:path fill="darkenLess" w="21600" h="26994">
                <a:moveTo>
                  <a:pt x="21600" y="26994"/>
                </a:moveTo>
                <a:lnTo>
                  <a:pt x="0" y="26994"/>
                </a:lnTo>
                <a:lnTo>
                  <a:pt x="1400" y="25594"/>
                </a:lnTo>
                <a:lnTo>
                  <a:pt x="20200" y="25594"/>
                </a:lnTo>
                <a:close/>
              </a:path>
              <a:path fill="lighten" w="21600" h="26994">
                <a:moveTo>
                  <a:pt x="0" y="26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4"/>
                </a:lnTo>
                <a:close/>
              </a:path>
              <a:path fill="darken" w="21600" h="26994">
                <a:moveTo>
                  <a:pt x="3794" y="13497"/>
                </a:moveTo>
                <a:lnTo>
                  <a:pt x="17806" y="6490"/>
                </a:lnTo>
                <a:lnTo>
                  <a:pt x="17806" y="2050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80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mar al nombre 26.536,45 amb el seu doble; de la suma trobi's la cinquena part. Quin nombre resul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1120" y="2133720"/>
            <a:ext cx="633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6536,45x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3072,90+26536,4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79609,35: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7238880" y="4800600"/>
            <a:ext cx="1219320" cy="14479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447920"/>
              <a:gd name="textAreaBottom" fmla="*/ 1369080 h 1447920"/>
            </a:gdLst>
            <a:ahLst/>
            <a:rect l="textAreaLeft" t="textAreaTop" r="textAreaRight" b="textAreaBottom"/>
            <a:pathLst>
              <a:path w="21600" h="25648">
                <a:moveTo>
                  <a:pt x="0" y="0"/>
                </a:moveTo>
                <a:lnTo>
                  <a:pt x="21600" y="0"/>
                </a:lnTo>
                <a:lnTo>
                  <a:pt x="21600" y="25648"/>
                </a:lnTo>
                <a:lnTo>
                  <a:pt x="0" y="25648"/>
                </a:lnTo>
                <a:close/>
              </a:path>
              <a:path fill="lightenLess" w="21600" h="25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48">
                <a:moveTo>
                  <a:pt x="21600" y="0"/>
                </a:moveTo>
                <a:lnTo>
                  <a:pt x="21600" y="25648"/>
                </a:lnTo>
                <a:lnTo>
                  <a:pt x="20200" y="24248"/>
                </a:lnTo>
                <a:lnTo>
                  <a:pt x="20200" y="1400"/>
                </a:lnTo>
                <a:close/>
              </a:path>
              <a:path fill="darkenLess" w="21600" h="25648">
                <a:moveTo>
                  <a:pt x="21600" y="25648"/>
                </a:moveTo>
                <a:lnTo>
                  <a:pt x="0" y="25648"/>
                </a:lnTo>
                <a:lnTo>
                  <a:pt x="1400" y="24248"/>
                </a:lnTo>
                <a:lnTo>
                  <a:pt x="20200" y="24248"/>
                </a:lnTo>
                <a:close/>
              </a:path>
              <a:path fill="lighten" w="21600" h="25648">
                <a:moveTo>
                  <a:pt x="0" y="25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48"/>
                </a:lnTo>
                <a:close/>
              </a:path>
              <a:path fill="darken" w="21600" h="25648">
                <a:moveTo>
                  <a:pt x="3794" y="12824"/>
                </a:moveTo>
                <a:lnTo>
                  <a:pt x="17806" y="5818"/>
                </a:lnTo>
                <a:lnTo>
                  <a:pt x="17806" y="19831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533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mar al nombre 26.536,45 amb el seu doble; de la suma trobi's la cinquena part. Quin nombre resul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400" y="2133720"/>
            <a:ext cx="867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26536,45x2=53072,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53072,90+26536,45=79609,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79609,35:5=15921,8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162920" y="5029200"/>
            <a:ext cx="1295280" cy="137160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371600"/>
              <a:gd name="textAreaBottom" fmla="*/ 1287720 h 1371600"/>
            </a:gdLst>
            <a:ahLst/>
            <a:rect l="textAreaLeft" t="textAreaTop" r="textAreaRight" b="textAreaBottom"/>
            <a:pathLst>
              <a:path w="21600" h="22872">
                <a:moveTo>
                  <a:pt x="0" y="0"/>
                </a:moveTo>
                <a:lnTo>
                  <a:pt x="21600" y="0"/>
                </a:lnTo>
                <a:lnTo>
                  <a:pt x="21600" y="22872"/>
                </a:lnTo>
                <a:lnTo>
                  <a:pt x="0" y="22872"/>
                </a:lnTo>
                <a:close/>
              </a:path>
              <a:path fill="lightenLess" w="21600" h="228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72">
                <a:moveTo>
                  <a:pt x="21600" y="0"/>
                </a:moveTo>
                <a:lnTo>
                  <a:pt x="21600" y="22872"/>
                </a:lnTo>
                <a:lnTo>
                  <a:pt x="20200" y="21472"/>
                </a:lnTo>
                <a:lnTo>
                  <a:pt x="20200" y="1400"/>
                </a:lnTo>
                <a:close/>
              </a:path>
              <a:path fill="darkenLess" w="21600" h="22872">
                <a:moveTo>
                  <a:pt x="21600" y="22872"/>
                </a:moveTo>
                <a:lnTo>
                  <a:pt x="0" y="22872"/>
                </a:lnTo>
                <a:lnTo>
                  <a:pt x="1400" y="21472"/>
                </a:lnTo>
                <a:lnTo>
                  <a:pt x="20200" y="21472"/>
                </a:lnTo>
                <a:close/>
              </a:path>
              <a:path fill="lighten" w="21600" h="22872">
                <a:moveTo>
                  <a:pt x="0" y="228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72"/>
                </a:lnTo>
                <a:close/>
              </a:path>
              <a:path fill="darken" w="21600" h="22872">
                <a:moveTo>
                  <a:pt x="3794" y="11436"/>
                </a:moveTo>
                <a:lnTo>
                  <a:pt x="17806" y="4430"/>
                </a:lnTo>
                <a:lnTo>
                  <a:pt x="17806" y="1844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71400" y="609480"/>
            <a:ext cx="80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mar al nombre 26.536,45 amb el seu doble; de la suma trobi's la cinquena part. Quin nombre resul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52388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1r: Trobar el doble del nomb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2n: Sumar-ho al mateix nomb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3r: El que dona trobar la cinquena part. (Els dos primers punts es poden fer multiplicant el nombre per tres; és el mateix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086600" y="4876920"/>
            <a:ext cx="1219320" cy="137160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297">
                <a:moveTo>
                  <a:pt x="0" y="0"/>
                </a:moveTo>
                <a:lnTo>
                  <a:pt x="21600" y="0"/>
                </a:lnTo>
                <a:lnTo>
                  <a:pt x="21600" y="24297"/>
                </a:lnTo>
                <a:lnTo>
                  <a:pt x="0" y="24297"/>
                </a:lnTo>
                <a:close/>
              </a:path>
              <a:path fill="lightenLess" w="21600" h="24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7">
                <a:moveTo>
                  <a:pt x="21600" y="0"/>
                </a:moveTo>
                <a:lnTo>
                  <a:pt x="21600" y="24297"/>
                </a:lnTo>
                <a:lnTo>
                  <a:pt x="20200" y="22897"/>
                </a:lnTo>
                <a:lnTo>
                  <a:pt x="20200" y="1400"/>
                </a:lnTo>
                <a:close/>
              </a:path>
              <a:path fill="darkenLess" w="21600" h="24297">
                <a:moveTo>
                  <a:pt x="21600" y="24297"/>
                </a:moveTo>
                <a:lnTo>
                  <a:pt x="0" y="24297"/>
                </a:lnTo>
                <a:lnTo>
                  <a:pt x="1400" y="22897"/>
                </a:lnTo>
                <a:lnTo>
                  <a:pt x="20200" y="22897"/>
                </a:lnTo>
                <a:close/>
              </a:path>
              <a:path fill="lighten" w="21600" h="24297">
                <a:moveTo>
                  <a:pt x="0" y="24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7"/>
                </a:lnTo>
                <a:close/>
              </a:path>
              <a:path fill="darken" w="21600" h="24297">
                <a:moveTo>
                  <a:pt x="3794" y="12148"/>
                </a:moveTo>
                <a:lnTo>
                  <a:pt x="17806" y="5142"/>
                </a:lnTo>
                <a:lnTo>
                  <a:pt x="17806" y="19155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mar al nombre 26.536,45 amb el seu doble; de la suma trobi's la cinquena part. Quin nombre resul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0" y="2895480"/>
            <a:ext cx="87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((26536,45x2)+26536,45):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6477120" y="4800600"/>
            <a:ext cx="1371600" cy="144792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447920"/>
              <a:gd name="textAreaBottom" fmla="*/ 1359000 h 1447920"/>
            </a:gdLst>
            <a:ahLst/>
            <a:rect l="textAreaLeft" t="textAreaTop" r="textAreaRight" b="textAreaBottom"/>
            <a:pathLst>
              <a:path w="21600" h="22802">
                <a:moveTo>
                  <a:pt x="0" y="0"/>
                </a:moveTo>
                <a:lnTo>
                  <a:pt x="21600" y="0"/>
                </a:lnTo>
                <a:lnTo>
                  <a:pt x="21600" y="22802"/>
                </a:lnTo>
                <a:lnTo>
                  <a:pt x="0" y="22802"/>
                </a:lnTo>
                <a:close/>
              </a:path>
              <a:path fill="lightenLess" w="21600" h="22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2">
                <a:moveTo>
                  <a:pt x="21600" y="0"/>
                </a:moveTo>
                <a:lnTo>
                  <a:pt x="21600" y="22802"/>
                </a:lnTo>
                <a:lnTo>
                  <a:pt x="20200" y="21402"/>
                </a:lnTo>
                <a:lnTo>
                  <a:pt x="20200" y="1400"/>
                </a:lnTo>
                <a:close/>
              </a:path>
              <a:path fill="darkenLess" w="21600" h="22802">
                <a:moveTo>
                  <a:pt x="21600" y="22802"/>
                </a:moveTo>
                <a:lnTo>
                  <a:pt x="0" y="22802"/>
                </a:lnTo>
                <a:lnTo>
                  <a:pt x="1400" y="21402"/>
                </a:lnTo>
                <a:lnTo>
                  <a:pt x="20200" y="21402"/>
                </a:lnTo>
                <a:close/>
              </a:path>
              <a:path fill="lighten" w="21600" h="22802">
                <a:moveTo>
                  <a:pt x="0" y="22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2"/>
                </a:lnTo>
                <a:close/>
              </a:path>
              <a:path fill="darken" w="21600" h="22802">
                <a:moveTo>
                  <a:pt x="3794" y="11401"/>
                </a:moveTo>
                <a:lnTo>
                  <a:pt x="17806" y="4394"/>
                </a:lnTo>
                <a:lnTo>
                  <a:pt x="17806" y="1840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1:54:04Z</dcterms:created>
  <dc:creator>Daniel</dc:creator>
  <dc:description/>
  <dc:language>en-US</dc:language>
  <cp:lastModifiedBy>PIE</cp:lastModifiedBy>
  <dcterms:modified xsi:type="dcterms:W3CDTF">2003-10-30T09:52:38Z</dcterms:modified>
  <cp:revision>34</cp:revision>
  <dc:subject/>
  <dc:title>Sin título de diapositiva</dc:title>
</cp:coreProperties>
</file>