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4C3-4377-4F19-A9EA-E0B8FD10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B65-3AFE-47D1-8791-F9745D97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5B5-ECF4-429A-83E4-457664F9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E42-967E-45E0-A5EC-E2ABEBC4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27F-FC3A-4089-BC59-587B7D01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D0F-9D62-4CAE-8B85-0E29A052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57E-B403-4B9B-B6E7-DB44CCF6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B46-03BB-4F19-ABC7-2B254EDA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1DD-DFBF-4E4B-B761-68CE09EB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02A-61D3-4EC2-9E5E-87DD92B1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D15-E94E-4148-B4F0-32701474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8D0-974D-474C-85CF-DC6DF205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7EDB-6EAD-472B-A28C-721D2E257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695680"/>
            <a:ext cx="7264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44160" y="283860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9240" y="280368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93880" y="2803680"/>
            <a:ext cx="181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76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657600" y="449568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03080" y="2057400"/>
            <a:ext cx="512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0 meso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1911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0948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876920" y="396252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876920" y="464832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87692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4876920" y="60199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22860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Una enciclopèdia consta de 12 volums i cadascun costa 30 euros. La podem pagar abonant mensualitats de 18 euros cada una. Durant quants mesos haurem d'abonar aquesta quantit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3049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nciclopèdia consta de 12 volums i cadascun costa 30 euros. La podem pagar abonant mensualitats de 18 euros cada una. Durant quants mesos haurem d'abonar aquest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8520" y="2286000"/>
            <a:ext cx="665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nciclopèdia=12 volu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volum= 30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ensualitats= 18 €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mensualitat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71152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688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nciclopèdia consta de 12 volums i cadascun costa 30 euros. La podem pagar abonant mensualitats de 18 euros cada una. Durant quants mesos haurem d'abonar aquest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533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nciclopèdia consta de 12 volums i cadascun costa 30 euros. La podem pagar abonant mensualitats de 18 euros cada una. Durant quants mesos haurem d'abonar aquest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4760" y="243828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609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nciclopèdia consta de 12 volums i cadascun costa 30 euros. La podem pagar abonant mensualitats de 18 euros cada una. Durant quants mesos haurem d'abonar aquest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6040" y="2971800"/>
            <a:ext cx="23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x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: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4572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nciclopèdia consta de 12 volums i cadascun costa 30 euros. La podem pagar abonant mensualitats de 18 euros cada una. Durant quants mesos haurem d'abonar aquest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6920" y="2971800"/>
            <a:ext cx="366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x30=3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:18=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nciclopèdia consta de 12 volums i cadascun costa 30 euros. La podem pagar abonant mensualitats de 18 euros cada una. Durant quants mesos haurem d'abonar aquest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209680"/>
            <a:ext cx="801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l'import de tota l'enciclopèdia (12 volums a 30€/volu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Veure per quants mesos haurem de pagar l'enciclopèdia, si cada mes paguem 18 €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6094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nciclopèdia consta de 12 volums i cadascun costa 30 euros. La podem pagar abonant mensualitats de 18 euros cada una. Durant quants mesos haurem d'abonar aquest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7080" y="3429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12x30):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3:28:55Z</dcterms:created>
  <dc:creator>Daniel</dc:creator>
  <dc:description/>
  <dc:language>en-US</dc:language>
  <cp:lastModifiedBy>Daniel</cp:lastModifiedBy>
  <dcterms:modified xsi:type="dcterms:W3CDTF">2002-12-30T12:11:49Z</dcterms:modified>
  <cp:revision>16</cp:revision>
  <dc:subject/>
  <dc:title>Sin título de diapositiva</dc:title>
</cp:coreProperties>
</file>