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FCB4-0FE6-4871-BF39-FEE872F31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90AE-C171-4763-BF1C-441C71E8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5A11-253D-4EA1-B0DE-8E7782B45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20B5-ECDF-471F-8425-14D87AF5A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995E-FD09-4AB8-89D9-9D7AB084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C11C-581F-4BD7-A0DF-FB206D8B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5716-0033-4014-870F-070AE319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CA58-22EA-4612-BA87-B2EC9918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AB58-87A6-4E9D-B34B-7F80FC28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FBAC-F91F-4571-9E16-DCE1E1C1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910F-50A7-41D8-8467-FA842656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AD1A-BF0C-41BA-9CF1-B0688F74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811D-554A-467C-8649-D22E91AE6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3160" y="2874960"/>
            <a:ext cx="64548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45560" y="301788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32800" y="2982960"/>
            <a:ext cx="68709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25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09880" y="4724280"/>
            <a:ext cx="1463760" cy="16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334120"/>
            <a:ext cx="879480" cy="803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63560" y="2057400"/>
            <a:ext cx="780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61508521,20 €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3581280"/>
            <a:ext cx="1298520" cy="536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09480" y="4343400"/>
            <a:ext cx="2700360" cy="536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09480" y="5105520"/>
            <a:ext cx="1416240" cy="536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09480" y="5867280"/>
            <a:ext cx="1841760" cy="536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410080" y="3657600"/>
            <a:ext cx="2300400" cy="53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5410080" y="4419720"/>
            <a:ext cx="1792440" cy="536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5410080" y="5181480"/>
            <a:ext cx="3395880" cy="536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5410080" y="5943600"/>
            <a:ext cx="1911600" cy="536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520" y="304920"/>
            <a:ext cx="8305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na companyia tenia un capital de 30.754.260,60 euros. El primer any va perdre la tercera part del que tenia i al següent va guanyar el doble del que li quedava. Quants diners posseeix al final del segon a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334120"/>
            <a:ext cx="879480" cy="803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57200" y="2057400"/>
            <a:ext cx="8305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cc99"/>
                </a:solidFill>
                <a:latin typeface="Times New Roman"/>
              </a:rPr>
              <a:t>Capital inicial- 30.754.260,60 €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cc99"/>
                </a:solidFill>
                <a:latin typeface="Times New Roman"/>
              </a:rPr>
              <a:t>I any- 1/3 pèrdua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cc99"/>
                </a:solidFill>
                <a:latin typeface="Times New Roman"/>
              </a:rPr>
              <a:t>II any- guanya doble del que queda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cc99"/>
                </a:solidFill>
                <a:latin typeface="Times New Roman"/>
              </a:rPr>
              <a:t>€ </a:t>
            </a:r>
            <a:r>
              <a:rPr b="1" lang="es-ES_tradnl" sz="4000" spc="-1" strike="noStrike">
                <a:solidFill>
                  <a:srgbClr val="00cc99"/>
                </a:solidFill>
                <a:latin typeface="Times New Roman"/>
              </a:rPr>
              <a:t>que té en total, al final-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5680" y="304920"/>
            <a:ext cx="833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companyia tenia un capital de 30.754.260,60 euros. El primer any va perdre la tercera part del que tenia i al següent va guanyar el doble del que li quedava. Quants diners posseeix al final del segon an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334120"/>
            <a:ext cx="879480" cy="803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3960" y="2593800"/>
            <a:ext cx="8688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7200" y="272412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4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53352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companyia tenia un capital de 30.754.260,60 euros. El primer any va perdre la tercera part del que tenia i al següent va guanyar el doble del que li quedava. Quants diners posseeix al final del segon an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334120"/>
            <a:ext cx="879480" cy="803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42640" y="2590920"/>
            <a:ext cx="4415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66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6600"/>
                </a:solidFill>
                <a:latin typeface="Times New Roman"/>
              </a:rPr>
              <a:t>res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6600"/>
                </a:solidFill>
                <a:latin typeface="Times New Roman"/>
              </a:rPr>
              <a:t>sum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762120"/>
            <a:ext cx="83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companyia tenia un capital de 30.754.260,60 euros. El primer any va perdre la tercera part del que tenia i al següent va guanyar el doble del que li quedava. Quants diners posseeix al final del segon an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334120"/>
            <a:ext cx="879480" cy="803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06680" y="2432160"/>
            <a:ext cx="6928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30754260,60: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30754260,60-10251420,2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20502840,40x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41005680,80+20502840,4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38088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companyia tenia un capital de 30.754.260,60 euros. El primer any va perdre la tercera part del que tenia i al següent va guanyar el doble del que li quedava. Quants diners posseeix al final del segon an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334120"/>
            <a:ext cx="879480" cy="803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30040" y="3019320"/>
            <a:ext cx="8017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30754260,60:3=10251420,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30754260,60-10251420,20=20502840,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20502840,40x2=41005680,8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41005680,80+ 20502840,40=61508521,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609480"/>
            <a:ext cx="85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companyia tenia un capital de 30.754.260,60 euros. El primer any va perdre la tercera part del que tenia i al següent va guanyar el doble del que li quedava. Quants diners posseeix al final del segon an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334120"/>
            <a:ext cx="879480" cy="8031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3520" y="2362320"/>
            <a:ext cx="8076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cc99"/>
                </a:solidFill>
                <a:latin typeface="Times New Roman"/>
              </a:rPr>
              <a:t>1r:S'ha de trobar la tercera part del capital inic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cc99"/>
                </a:solidFill>
                <a:latin typeface="Times New Roman"/>
              </a:rPr>
              <a:t>2n:S'ha de trobar el que li que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cc99"/>
                </a:solidFill>
                <a:latin typeface="Times New Roman"/>
              </a:rPr>
              <a:t>3r:S'ha de calcular el doble del que li que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cc99"/>
                </a:solidFill>
                <a:latin typeface="Times New Roman"/>
              </a:rPr>
              <a:t>4t: S’ha d’afegir a aquest doble els diners que encara li que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30492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companyia tenia un capital de 30.754.260,60 euros. El primer any va perdre la tercera part del que tenia i al següent va guanyar el doble del que li quedava. Quants diners posseeix al final del segon an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334120"/>
            <a:ext cx="879480" cy="803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3520" y="45720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companyia tenia un capital de 30.754.260,60 euros. El primer any va perdre la tercera part del que tenia i al següent va guanyar el doble del que li quedava. Quants diners posseeix al final del segon an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6920" y="3086280"/>
            <a:ext cx="83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(30754260,60-(30754260,60:3)x2)+ 30754260,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20:52:15Z</dcterms:created>
  <dc:creator>Daniel</dc:creator>
  <dc:description/>
  <dc:language>en-US</dc:language>
  <cp:lastModifiedBy>Daniel</cp:lastModifiedBy>
  <dcterms:modified xsi:type="dcterms:W3CDTF">2003-01-25T17:43:10Z</dcterms:modified>
  <cp:revision>18</cp:revision>
  <dc:subject/>
  <dc:title>Sin título de diapositiva</dc:title>
</cp:coreProperties>
</file>