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55B-EE32-4A2A-9B8B-2469E6A3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E5B-A822-4412-8ED5-16E59942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658-6749-4D14-B665-3D2BE7E2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0C9-875D-405E-9B3C-6DDCE18B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DE7-DA97-48D1-9266-C9FD0B07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A61-BFF7-48B0-9DBB-5BE3AE15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77C-AF91-42E3-AABA-1A7B86E1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5EB-9A74-47A0-8746-A072C4EC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BD0-2C03-4008-BBC5-74480D74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3C7-D91F-42E9-9658-DE1A91B6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5CA-53F4-4CB8-93B1-58A24491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451-2A74-49A5-A3AA-E4A158FA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E2C9-4F77-447A-A1C9-2C297A080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695680"/>
            <a:ext cx="7264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44160" y="283860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09240" y="280368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93880" y="2803680"/>
            <a:ext cx="1817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80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581280" y="441972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77960" y="2514600"/>
            <a:ext cx="57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47,45 Kg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388620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580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8580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952880" y="388620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952880" y="457200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495288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4952880" y="5943600"/>
            <a:ext cx="1917720" cy="54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4440" y="457200"/>
            <a:ext cx="8096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a camioneta pot carregar com a màxim 900 Kg. Ja hi hem posat una caixa de 251,3 Kg, una altra de 125,5 Kg i una tercera caixa de 375,75 Kg. Quants quilograms pot carregar encar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53352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mioneta pot carregar com a màxim 900 Kg. Ja hi hem posat una caixa de 251,3 Kg, una altra de 125,5 Kg i una tercera caixa de 375,75 Kg. Quants quilograms pot carregar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5360" y="2308320"/>
            <a:ext cx="7735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Carga màxima camioneta=900K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1ª caixa=251,3 Kg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2ª caixa=125,5 Kg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3ª caixa=375,75 K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Kg que falten per carga màxima=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711520"/>
            <a:ext cx="8688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5480" y="28195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4572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mioneta pot carregar com a màxim 900 Kg. Ja hi hem posat una caixa de 251,3 Kg, una altra de 125,5 Kg i una tercera caixa de 375,75 Kg. Quants quilograms pot carregar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5335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mioneta pot carregar com a màxim 900 Kg. Ja hi hem posat una caixa de 251,3 Kg, una altra de 125,5 Kg i una tercera caixa de 375,75 Kg. Quants quilograms pot carregar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0960" y="3048120"/>
            <a:ext cx="204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4572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mioneta pot carregar com a màxim 900 Kg. Ja hi hem posat una caixa de 251,3 Kg, una altra de 125,5 Kg i una tercera caixa de 375,75 Kg. Quants quilograms pot carregar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3760" y="2971800"/>
            <a:ext cx="657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51,3+125,5+375,7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00-752,5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4572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mioneta pot carregar com a màxim 900 Kg. Ja hi hem posat una caixa de 251,3 Kg, una altra de 125,5 Kg i una tercera caixa de 375,75 Kg. Quants quilograms pot carregar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200" y="2739960"/>
            <a:ext cx="821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251,3+125,5+375,75=752,5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900-752,55= 147,4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685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mioneta pot carregar com a màxim 900 Kg. Ja hi hem posat una caixa de 251,3 Kg, una altra de 125,5 Kg i una tercera caixa de 375,75 Kg. Quants quilograms pot carregar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43828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Calcular el pes total de les tres caix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Veure quants Kilos pot carregar encara, sabent la càrrega màxima que pot d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892080" cy="816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6094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mioneta pot carregar com a màxim 900 Kg. Ja hi hem posat una caixa de 251,3 Kg, una altra de 125,5 Kg i una tercera caixa de 375,75 Kg. Quants quilograms pot carregar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2320" y="3276720"/>
            <a:ext cx="848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00-(251,3+125,5+375,75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23:32:32Z</dcterms:created>
  <dc:creator>Daniel</dc:creator>
  <dc:description/>
  <dc:language>en-US</dc:language>
  <cp:lastModifiedBy>Daniel</cp:lastModifiedBy>
  <dcterms:modified xsi:type="dcterms:W3CDTF">2002-12-30T21:36:32Z</dcterms:modified>
  <cp:revision>15</cp:revision>
  <dc:subject/>
  <dc:title>Sin título de diapositiva</dc:title>
</cp:coreProperties>
</file>