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A5D5-30B7-4325-B1B8-987FA49C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111-DC5B-4ECE-B780-992671EA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714-2CE3-4DB4-B24B-55CBED0D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9A4-23F8-47C7-A2F8-1AC43D28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869-5C99-41D3-A771-0E9E201C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2E7-31F1-498E-82FE-0E8D869C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CD3-AACF-4FD0-B739-1E192D6B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166-5DB8-4404-AD12-65DEFCFC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64A-DB71-4868-8CE6-8B858567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0FA-B2C5-4A08-AD1E-D274DDC0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EFD-1747-48AA-B2A8-72A3ADD7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9A7-FDB2-4D01-B8D7-79AA494F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BAD5-9BF2-4E2B-8F37-4005CD6A9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419720"/>
            <a:ext cx="1463760" cy="169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90512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4000" y="204804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60880" y="201312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54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3341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6400" y="1797120"/>
            <a:ext cx="82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4 germans i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li sobren 2 caramel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886200"/>
            <a:ext cx="130464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4572000"/>
            <a:ext cx="270648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352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3352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86400" y="3886200"/>
            <a:ext cx="2313000" cy="5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86400" y="464832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8640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486400" y="601992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0492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 Laura té 34 caramels i els reparteix entre els seus germans a parts iguals. Si a cada germà li han tocat 8 caramels, quants germans té i quants caramels l'hi ha sobr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3341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7000" y="304920"/>
            <a:ext cx="85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Laura té 34 caramels i els reparteix entre els seus germans a parts iguals. Si a cada germà li han tocat 8 caramels, quants germans té i quants caramels l'hi ha sob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81080"/>
            <a:ext cx="5727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caramels=34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8 caramels/germà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germans=?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ramels sobrant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334120"/>
            <a:ext cx="854280" cy="777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265400" y="2711520"/>
            <a:ext cx="6611760" cy="1434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04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Laura té 34 caramels i els reparteix entre els seus germans a parts iguals. Si a cada germà li han tocat 8 caramels, quants germans té i quants caramels l'hi ha sob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3341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380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Laura té 34 caramels i els reparteix entre els seus germans a parts iguals. Si a cada germà li han tocat 8 caramels, quants germans té i quants caramels l'hi ha sob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920" y="2819520"/>
            <a:ext cx="26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3341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Laura té 34 caramels i els reparteix entre els seus germans a parts iguals. Si a cada germà li han tocat 8 caramels, quants germans té i quants caramels l'hi ha sob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560" y="3124080"/>
            <a:ext cx="176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4:8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3341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4360" y="457200"/>
            <a:ext cx="861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Laura té 34 caramels i els reparteix entre els seus germans a parts iguals. Si a cada germà li han tocat 8 caramels, quants germans té i quants caramels l'hi ha sob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20960" y="2971800"/>
            <a:ext cx="23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4:8=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3341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457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Laura té 34 caramels i els reparteix entre els seus germans a parts iguals. Si a cada germà li han tocat 8 caramels, quants germans té i quants caramels l'hi ha sob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286000"/>
            <a:ext cx="830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Trobar el nombre de germans sabent que en dóna 8 a cada u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Veure quants caramels sobren observant el residu de l'operaci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3341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380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Laura té 34 caramels i els reparteix entre els seus germans a parts iguals. Si a cada germà li han tocat 8 caramels, quants germans té i quants caramels l'hi ha sob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3240" y="3048120"/>
            <a:ext cx="176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4:8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22:06:17Z</dcterms:created>
  <dc:creator>Daniel</dc:creator>
  <dc:description/>
  <dc:language>en-US</dc:language>
  <cp:lastModifiedBy>Daniel</cp:lastModifiedBy>
  <dcterms:modified xsi:type="dcterms:W3CDTF">2002-10-15T21:44:25Z</dcterms:modified>
  <cp:revision>16</cp:revision>
  <dc:subject/>
  <dc:title>Sin título de diapositiva</dc:title>
</cp:coreProperties>
</file>