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D26-0EBC-4D40-A55D-D19209DF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E48-B137-432A-8F24-A0344C7A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B036-3836-44E1-888D-F910AAF3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34F-B012-43D2-BDA9-F4C5644C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F6C-34CA-4165-B554-C891E6C8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36C-EF3A-49CB-8F64-8569FCE2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28E-C6B6-41F8-9D89-71ACAB29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2628-94B2-4FAE-9140-6D6E7A35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1D2-CACC-4CBC-BBDF-5CABA35E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F7C2-43CC-4179-9D87-4918B7A7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3EA-B174-4045-B862-81EF69C8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A4F-B350-4696-932F-EAF3358F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6F6C-B0A3-40DC-B0B2-20106524C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724280"/>
            <a:ext cx="1463760" cy="169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6480" y="615960"/>
            <a:ext cx="914580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40880" y="20764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28120" y="204156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48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26760" y="2743200"/>
            <a:ext cx="613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59 galet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71500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96252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464832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9480" y="5334120"/>
            <a:ext cx="141624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9480" y="6019920"/>
            <a:ext cx="184176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334120" y="3809880"/>
            <a:ext cx="230004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334120" y="457200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334120" y="53341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334120" y="601992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3049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e repartit 2 capses de galetes entre 24 nens i a cada nen li han tocat 13 galetes. Si en una capsa hi havia 153 galetes, quantes n'hi havia a l'altr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360" y="2286000"/>
            <a:ext cx="552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ens=24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Galetes/nen=1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Galetes I capsa=15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Galetes II capsa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7150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 repartit 2 capses de galetes entre 24 nens i a cada nen li han tocat 13 galetes. Si en una capsa hi havia 153 galetes, quantes n'hi havia a l'alt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47640" y="2755800"/>
            <a:ext cx="7856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4600" y="28195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 repartit 2 capses de galetes entre 24 nens i a cada nen li han tocat 13 galetes. Si en una capsa hi havia 153 galetes, quantes n'hi havia a l'alt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71500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76160" y="2895480"/>
            <a:ext cx="44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335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 repartit 2 capses de galetes entre 24 nens i a cada nen li han tocat 13 galetes. Si en una capsa hi havia 153 galetes, quantes n'hi havia a l'alt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71500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363760" y="2971800"/>
            <a:ext cx="272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4x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12-15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7621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 repartit 2 capses de galetes entre 24 nens i a cada nen li han tocat 13 galetes. Si en una capsa hi havia 153 galetes, quantes n'hi havia a l'alt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71500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02000" y="2971800"/>
            <a:ext cx="429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4x13=3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12-153=15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858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 repartit 2 capses de galetes entre 24 nens i a cada nen li han tocat 13 galetes. Si en una capsa hi havia 153 galetes, quantes n'hi havia a l'alt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71500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2666880"/>
            <a:ext cx="830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Veure quantes galetes he repartit en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Si resto d'aquesta quantitat el nombre de la primera capsa, sabré les que hi havia a l'altra cap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762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 repartit 2 capses de galetes entre 24 nens i a cada nen li han tocat 13 galetes. Si en una capsa hi havia 153 galetes, quantes n'hi havia a l'alt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71500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91640" y="3124080"/>
            <a:ext cx="39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24x13)-15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6094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 repartit 2 capses de galetes entre 24 nens i a cada nen li han tocat 13 galetes. Si en una capsa hi havia 153 galetes, quantes n'hi havia a l'alt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71500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2T21:07:48Z</dcterms:created>
  <dc:creator>Daniel</dc:creator>
  <dc:description/>
  <dc:language>en-US</dc:language>
  <cp:lastModifiedBy>Daniel</cp:lastModifiedBy>
  <dcterms:modified xsi:type="dcterms:W3CDTF">2002-09-09T16:09:03Z</dcterms:modified>
  <cp:revision>17</cp:revision>
  <dc:subject/>
  <dc:title>Sin título de diapositiva</dc:title>
</cp:coreProperties>
</file>