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0D9-A963-4D49-9142-ABC7C858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035-3F4D-41CE-8F9F-C99CE4FA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596-9F9A-46FE-BA83-7790D127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F5B6-48CB-4FB7-B2AF-CA4ACD32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5F95-F662-4C98-8644-ECE9E73C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3263-CC67-4180-9C43-E782C2C7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5DE-A9E2-41BF-A04C-A4BF7B98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F358-4901-4C37-90E1-098B9F43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2AD-0918-4B80-AB7E-142D6D83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05B-6DDB-4928-8FF0-C900A2F7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FFF-D3CD-47DE-A12A-A89E07CE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A4E-0DBC-4BD6-8378-27471570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8D60-C62A-4F70-B8B6-51AEF9B52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9960" y="2878200"/>
            <a:ext cx="72640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30680" y="298620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(61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267080"/>
            <a:ext cx="1470240" cy="16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334120"/>
            <a:ext cx="892440" cy="815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30600" y="2438280"/>
            <a:ext cx="444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31065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350532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2706840" cy="542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304920"/>
            <a:ext cx="830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a capacitat d'un teatre és de 545 espectadors. S'han venut totes les entrades per a 19 funcions. Quantes entrades s'han venut? Si cada entrada costa 3 euros, quants diners s'han obting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57200" y="518148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5720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410080" y="335268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410080" y="4191120"/>
            <a:ext cx="17989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334120" y="50292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334120" y="586728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334120"/>
            <a:ext cx="892440" cy="815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19320" y="2209680"/>
            <a:ext cx="579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Capacitat=545 espectad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Nº funcions=19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Preu=3€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Entrades venudes=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Recaptació=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572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capacitat d'un teatre és de 545 espectadors. S'han venut totes les entrades per a 19 funcions. Quantes entrades s'han venut? Si cada entrada costa 3 euros, quants diners s'han obting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334120"/>
            <a:ext cx="892440" cy="815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capacitat d'un teatre és de 545 espectadors. S'han venut totes les entrades per a 19 funcions. Quantes entrades s'han venut? Si cada entrada costa 3 euros, quants diners s'han obting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6400" y="2593800"/>
            <a:ext cx="8037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920" y="26668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334120"/>
            <a:ext cx="892440" cy="815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240" y="2819520"/>
            <a:ext cx="44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8088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capacitat d'un teatre és de 545 espectadors. S'han venut totes les entrades per a 19 funcions. Quantes entrades s'han venut? Si cada entrada costa 3 euros, quants diners s'han obting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334120"/>
            <a:ext cx="892440" cy="815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11480" y="2666880"/>
            <a:ext cx="284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45x1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0355x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808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capacitat d'un teatre és de 545 espectadors. S'han venut totes les entrades per a 19 funcions. Quantes entrades s'han venut? Si cada entrada costa 3 euros, quants diners s'han obting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334120"/>
            <a:ext cx="892440" cy="815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78320" y="2514600"/>
            <a:ext cx="518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45x19=1035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0355x3=3106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286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capacitat d'un teatre és de 545 espectadors. S'han venut totes les entrades per a 19 funcions. Quantes entrades s'han venut? Si cada entrada costa 3 euros, quants diners s'han obting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334120"/>
            <a:ext cx="892440" cy="815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2362320"/>
            <a:ext cx="838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calcular el nombre d'entrades venudes en total, sabent la cabuda i el nombre de func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Calcular els diners recaptats en total, sabent que cada entrada val 3 €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5720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capacitat d'un teatre és de 545 espectadors. S'han venut totes les entrades per a 19 funcions. Quantes entrades s'han venut? Si cada entrada costa 3 euros, quants diners s'han obting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334120"/>
            <a:ext cx="892440" cy="815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7440" y="3048120"/>
            <a:ext cx="32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45x19x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0492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capacitat d'un teatre és de 545 espectadors. S'han venut totes les entrades per a 19 funcions. Quantes entrades s'han venut? Si cada entrada costa 3 euros, quants diners s'han obting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23:00:58Z</dcterms:created>
  <dc:creator>Daniel</dc:creator>
  <dc:description/>
  <dc:language>en-US</dc:language>
  <cp:lastModifiedBy>Daniel</cp:lastModifiedBy>
  <dcterms:modified xsi:type="dcterms:W3CDTF">2002-11-01T22:23:10Z</dcterms:modified>
  <cp:revision>18</cp:revision>
  <dc:subject/>
  <dc:title>Sin título de diapositiva</dc:title>
</cp:coreProperties>
</file>