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671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671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31F6-91BF-4598-86B8-F9E6651FF7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4A1-0493-45CA-83C7-901B0DE4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BB4-34CB-4403-9F27-692101F1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F72-156E-4514-9FC7-79FA9866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3B5-31CB-492F-8660-63F9B9D1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4EC-3BD7-429F-B875-D349EF4F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258-4D75-42CD-A76D-D26EEB82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5B3-EB22-4AA3-BC82-C391EFCC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A12-D98E-4724-97C4-075089F1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7E3-E3D1-4316-BF83-C9605978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D72-E7E7-4FA1-8BF0-AA075BF3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BDF-3CC6-424F-A177-0B691E32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281-E0E8-4B77-9551-D8F5D53D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482B-D565-47C0-8819-776671AB0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</a:t>
            </a: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657600" y="4648320"/>
            <a:ext cx="1447920" cy="16761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676160"/>
              <a:gd name="textAreaBottom" fmla="*/ 1582560 h 1676160"/>
            </a:gdLst>
            <a:ahLst/>
            <a:rect l="textAreaLeft" t="textAreaTop" r="textAreaRight" b="textAreaBottom"/>
            <a:pathLst>
              <a:path w="21600" h="25004">
                <a:moveTo>
                  <a:pt x="0" y="0"/>
                </a:moveTo>
                <a:lnTo>
                  <a:pt x="21600" y="0"/>
                </a:lnTo>
                <a:lnTo>
                  <a:pt x="21600" y="25004"/>
                </a:lnTo>
                <a:lnTo>
                  <a:pt x="0" y="25004"/>
                </a:lnTo>
                <a:close/>
              </a:path>
              <a:path fill="lightenLess" w="21600" h="250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04">
                <a:moveTo>
                  <a:pt x="21600" y="0"/>
                </a:moveTo>
                <a:lnTo>
                  <a:pt x="21600" y="25004"/>
                </a:lnTo>
                <a:lnTo>
                  <a:pt x="20200" y="23604"/>
                </a:lnTo>
                <a:lnTo>
                  <a:pt x="20200" y="1400"/>
                </a:lnTo>
                <a:close/>
              </a:path>
              <a:path fill="darkenLess" w="21600" h="25004">
                <a:moveTo>
                  <a:pt x="21600" y="25004"/>
                </a:moveTo>
                <a:lnTo>
                  <a:pt x="0" y="25004"/>
                </a:lnTo>
                <a:lnTo>
                  <a:pt x="1400" y="23604"/>
                </a:lnTo>
                <a:lnTo>
                  <a:pt x="20200" y="23604"/>
                </a:lnTo>
                <a:close/>
              </a:path>
              <a:path fill="lighten" w="21600" h="25004">
                <a:moveTo>
                  <a:pt x="0" y="250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04"/>
                </a:lnTo>
                <a:close/>
              </a:path>
              <a:path fill="darken" w="21600" h="25004">
                <a:moveTo>
                  <a:pt x="10800" y="5539"/>
                </a:moveTo>
                <a:lnTo>
                  <a:pt x="13376" y="8150"/>
                </a:lnTo>
                <a:lnTo>
                  <a:pt x="13376" y="6409"/>
                </a:lnTo>
                <a:lnTo>
                  <a:pt x="15152" y="6409"/>
                </a:lnTo>
                <a:lnTo>
                  <a:pt x="15152" y="9926"/>
                </a:lnTo>
                <a:lnTo>
                  <a:pt x="17763" y="12502"/>
                </a:lnTo>
                <a:lnTo>
                  <a:pt x="16109" y="12502"/>
                </a:lnTo>
                <a:lnTo>
                  <a:pt x="16109" y="19691"/>
                </a:lnTo>
                <a:lnTo>
                  <a:pt x="5491" y="19691"/>
                </a:lnTo>
                <a:lnTo>
                  <a:pt x="5491" y="12502"/>
                </a:lnTo>
                <a:lnTo>
                  <a:pt x="3837" y="12502"/>
                </a:lnTo>
                <a:close/>
              </a:path>
              <a:path fill="darkenLess" w="21600" h="25004">
                <a:moveTo>
                  <a:pt x="13376" y="8150"/>
                </a:moveTo>
                <a:lnTo>
                  <a:pt x="13376" y="6409"/>
                </a:lnTo>
                <a:lnTo>
                  <a:pt x="15152" y="6409"/>
                </a:lnTo>
                <a:lnTo>
                  <a:pt x="15152" y="9926"/>
                </a:lnTo>
                <a:close/>
              </a:path>
              <a:path fill="darkenLess" w="21600" h="25004">
                <a:moveTo>
                  <a:pt x="9877" y="16001"/>
                </a:moveTo>
                <a:lnTo>
                  <a:pt x="11723" y="16001"/>
                </a:lnTo>
                <a:lnTo>
                  <a:pt x="11723" y="19691"/>
                </a:lnTo>
                <a:lnTo>
                  <a:pt x="16109" y="19691"/>
                </a:lnTo>
                <a:lnTo>
                  <a:pt x="16109" y="12502"/>
                </a:lnTo>
                <a:lnTo>
                  <a:pt x="5491" y="12502"/>
                </a:lnTo>
                <a:lnTo>
                  <a:pt x="5491" y="19691"/>
                </a:lnTo>
                <a:lnTo>
                  <a:pt x="9877" y="1969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6781680" y="5410080"/>
            <a:ext cx="1067040" cy="914400"/>
          </a:xfrm>
          <a:custGeom>
            <a:avLst/>
            <a:gdLst>
              <a:gd name="textAreaLeft" fmla="*/ 59040 w 1067040"/>
              <a:gd name="textAreaRight" fmla="*/ 1008000 w 1067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5596" y="10800"/>
                </a:moveTo>
                <a:lnTo>
                  <a:pt x="19609" y="3794"/>
                </a:lnTo>
                <a:lnTo>
                  <a:pt x="19609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18288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5 eur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2286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Un objecte es compra per 18 euros. En quant es vendrà si es vol guanyar la tercera part del preu de compra i ademés 1 eur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93480" y="3088800"/>
            <a:ext cx="1279440" cy="528120"/>
          </a:xfrm>
          <a:custGeom>
            <a:avLst/>
            <a:gdLst>
              <a:gd name="textAreaLeft" fmla="*/ 34200 w 1279440"/>
              <a:gd name="textAreaRight" fmla="*/ 1245240 w 127944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2308" h="21600">
                <a:moveTo>
                  <a:pt x="0" y="0"/>
                </a:moveTo>
                <a:lnTo>
                  <a:pt x="52308" y="0"/>
                </a:lnTo>
                <a:lnTo>
                  <a:pt x="52308" y="21600"/>
                </a:lnTo>
                <a:lnTo>
                  <a:pt x="0" y="21600"/>
                </a:lnTo>
                <a:close/>
              </a:path>
              <a:path fill="lightenLess" w="52308" h="21600">
                <a:moveTo>
                  <a:pt x="0" y="0"/>
                </a:moveTo>
                <a:lnTo>
                  <a:pt x="52308" y="0"/>
                </a:lnTo>
                <a:lnTo>
                  <a:pt x="50908" y="1400"/>
                </a:lnTo>
                <a:lnTo>
                  <a:pt x="1400" y="1400"/>
                </a:lnTo>
                <a:close/>
              </a:path>
              <a:path fill="darken" w="52308" h="21600">
                <a:moveTo>
                  <a:pt x="52308" y="0"/>
                </a:moveTo>
                <a:lnTo>
                  <a:pt x="52308" y="21600"/>
                </a:lnTo>
                <a:lnTo>
                  <a:pt x="50908" y="20200"/>
                </a:lnTo>
                <a:lnTo>
                  <a:pt x="50908" y="1400"/>
                </a:lnTo>
                <a:close/>
              </a:path>
              <a:path fill="darkenLess" w="52308" h="21600">
                <a:moveTo>
                  <a:pt x="52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08" y="20200"/>
                </a:lnTo>
                <a:close/>
              </a:path>
              <a:path fill="lighten" w="52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cfd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5560" y="3958920"/>
            <a:ext cx="2675160" cy="528120"/>
          </a:xfrm>
          <a:custGeom>
            <a:avLst/>
            <a:gdLst>
              <a:gd name="textAreaLeft" fmla="*/ 34200 w 2675160"/>
              <a:gd name="textAreaRight" fmla="*/ 2640960 w 26751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109354" h="21600">
                <a:moveTo>
                  <a:pt x="0" y="0"/>
                </a:moveTo>
                <a:lnTo>
                  <a:pt x="109354" y="0"/>
                </a:lnTo>
                <a:lnTo>
                  <a:pt x="109354" y="21600"/>
                </a:lnTo>
                <a:lnTo>
                  <a:pt x="0" y="21600"/>
                </a:lnTo>
                <a:close/>
              </a:path>
              <a:path fill="lightenLess" w="109354" h="21600">
                <a:moveTo>
                  <a:pt x="0" y="0"/>
                </a:moveTo>
                <a:lnTo>
                  <a:pt x="109354" y="0"/>
                </a:lnTo>
                <a:lnTo>
                  <a:pt x="107954" y="1400"/>
                </a:lnTo>
                <a:lnTo>
                  <a:pt x="1400" y="1400"/>
                </a:lnTo>
                <a:close/>
              </a:path>
              <a:path fill="darken" w="109354" h="21600">
                <a:moveTo>
                  <a:pt x="109354" y="0"/>
                </a:moveTo>
                <a:lnTo>
                  <a:pt x="109354" y="21600"/>
                </a:lnTo>
                <a:lnTo>
                  <a:pt x="107954" y="20200"/>
                </a:lnTo>
                <a:lnTo>
                  <a:pt x="107954" y="1400"/>
                </a:lnTo>
                <a:close/>
              </a:path>
              <a:path fill="darkenLess" w="109354" h="21600">
                <a:moveTo>
                  <a:pt x="109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954" y="20200"/>
                </a:lnTo>
                <a:close/>
              </a:path>
              <a:path fill="lighten" w="109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cfd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º OPERAC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949280"/>
            <a:ext cx="1399680" cy="528120"/>
          </a:xfrm>
          <a:custGeom>
            <a:avLst/>
            <a:gdLst>
              <a:gd name="textAreaLeft" fmla="*/ 34200 w 1399680"/>
              <a:gd name="textAreaRight" fmla="*/ 1365480 w 13996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7222" h="21600">
                <a:moveTo>
                  <a:pt x="0" y="0"/>
                </a:moveTo>
                <a:lnTo>
                  <a:pt x="57222" y="0"/>
                </a:lnTo>
                <a:lnTo>
                  <a:pt x="57222" y="21600"/>
                </a:lnTo>
                <a:lnTo>
                  <a:pt x="0" y="21600"/>
                </a:lnTo>
                <a:close/>
              </a:path>
              <a:path fill="lightenLess" w="57222" h="21600">
                <a:moveTo>
                  <a:pt x="0" y="0"/>
                </a:moveTo>
                <a:lnTo>
                  <a:pt x="57222" y="0"/>
                </a:lnTo>
                <a:lnTo>
                  <a:pt x="55822" y="1400"/>
                </a:lnTo>
                <a:lnTo>
                  <a:pt x="1400" y="1400"/>
                </a:lnTo>
                <a:close/>
              </a:path>
              <a:path fill="darken" w="57222" h="21600">
                <a:moveTo>
                  <a:pt x="57222" y="0"/>
                </a:moveTo>
                <a:lnTo>
                  <a:pt x="57222" y="21600"/>
                </a:lnTo>
                <a:lnTo>
                  <a:pt x="55822" y="20200"/>
                </a:lnTo>
                <a:lnTo>
                  <a:pt x="55822" y="1400"/>
                </a:lnTo>
                <a:close/>
              </a:path>
              <a:path fill="darkenLess" w="57222" h="21600">
                <a:moveTo>
                  <a:pt x="57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822" y="20200"/>
                </a:lnTo>
                <a:close/>
              </a:path>
              <a:path fill="lighten" w="57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cfd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9000" y="5940000"/>
            <a:ext cx="1821960" cy="528120"/>
          </a:xfrm>
          <a:custGeom>
            <a:avLst/>
            <a:gdLst>
              <a:gd name="textAreaLeft" fmla="*/ 34200 w 1821960"/>
              <a:gd name="textAreaRight" fmla="*/ 1787760 w 18219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74482" h="21600">
                <a:moveTo>
                  <a:pt x="0" y="0"/>
                </a:moveTo>
                <a:lnTo>
                  <a:pt x="74482" y="0"/>
                </a:lnTo>
                <a:lnTo>
                  <a:pt x="74482" y="21600"/>
                </a:lnTo>
                <a:lnTo>
                  <a:pt x="0" y="21600"/>
                </a:lnTo>
                <a:close/>
              </a:path>
              <a:path fill="lightenLess" w="74482" h="21600">
                <a:moveTo>
                  <a:pt x="0" y="0"/>
                </a:moveTo>
                <a:lnTo>
                  <a:pt x="74482" y="0"/>
                </a:lnTo>
                <a:lnTo>
                  <a:pt x="73082" y="1400"/>
                </a:lnTo>
                <a:lnTo>
                  <a:pt x="1400" y="1400"/>
                </a:lnTo>
                <a:close/>
              </a:path>
              <a:path fill="darken" w="74482" h="21600">
                <a:moveTo>
                  <a:pt x="74482" y="0"/>
                </a:moveTo>
                <a:lnTo>
                  <a:pt x="74482" y="21600"/>
                </a:lnTo>
                <a:lnTo>
                  <a:pt x="73082" y="20200"/>
                </a:lnTo>
                <a:lnTo>
                  <a:pt x="73082" y="1400"/>
                </a:lnTo>
                <a:close/>
              </a:path>
              <a:path fill="darkenLess" w="74482" h="21600">
                <a:moveTo>
                  <a:pt x="74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082" y="20200"/>
                </a:lnTo>
                <a:close/>
              </a:path>
              <a:path fill="lighten" w="74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cfd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Ò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2600" y="3044520"/>
            <a:ext cx="2279160" cy="528120"/>
          </a:xfrm>
          <a:custGeom>
            <a:avLst/>
            <a:gdLst>
              <a:gd name="textAreaLeft" fmla="*/ 34200 w 2279160"/>
              <a:gd name="textAreaRight" fmla="*/ 2244960 w 22791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93168" h="21600">
                <a:moveTo>
                  <a:pt x="0" y="0"/>
                </a:moveTo>
                <a:lnTo>
                  <a:pt x="93168" y="0"/>
                </a:lnTo>
                <a:lnTo>
                  <a:pt x="93168" y="21600"/>
                </a:lnTo>
                <a:lnTo>
                  <a:pt x="0" y="21600"/>
                </a:lnTo>
                <a:close/>
              </a:path>
              <a:path fill="lightenLess" w="93168" h="21600">
                <a:moveTo>
                  <a:pt x="0" y="0"/>
                </a:moveTo>
                <a:lnTo>
                  <a:pt x="93168" y="0"/>
                </a:lnTo>
                <a:lnTo>
                  <a:pt x="91768" y="1400"/>
                </a:lnTo>
                <a:lnTo>
                  <a:pt x="1400" y="1400"/>
                </a:lnTo>
                <a:close/>
              </a:path>
              <a:path fill="darken" w="93168" h="21600">
                <a:moveTo>
                  <a:pt x="93168" y="0"/>
                </a:moveTo>
                <a:lnTo>
                  <a:pt x="93168" y="21600"/>
                </a:lnTo>
                <a:lnTo>
                  <a:pt x="91768" y="20200"/>
                </a:lnTo>
                <a:lnTo>
                  <a:pt x="91768" y="1400"/>
                </a:lnTo>
                <a:close/>
              </a:path>
              <a:path fill="darkenLess" w="93168" h="21600">
                <a:moveTo>
                  <a:pt x="93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768" y="20200"/>
                </a:lnTo>
                <a:close/>
              </a:path>
              <a:path fill="lighten" w="93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cfd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PERAC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3320" y="3958920"/>
            <a:ext cx="1770120" cy="528120"/>
          </a:xfrm>
          <a:custGeom>
            <a:avLst/>
            <a:gdLst>
              <a:gd name="textAreaLeft" fmla="*/ 34200 w 1770120"/>
              <a:gd name="textAreaRight" fmla="*/ 1735920 w 17701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72363" h="21600">
                <a:moveTo>
                  <a:pt x="0" y="0"/>
                </a:moveTo>
                <a:lnTo>
                  <a:pt x="72363" y="0"/>
                </a:lnTo>
                <a:lnTo>
                  <a:pt x="72363" y="21600"/>
                </a:lnTo>
                <a:lnTo>
                  <a:pt x="0" y="21600"/>
                </a:lnTo>
                <a:close/>
              </a:path>
              <a:path fill="lightenLess" w="72363" h="21600">
                <a:moveTo>
                  <a:pt x="0" y="0"/>
                </a:moveTo>
                <a:lnTo>
                  <a:pt x="72363" y="0"/>
                </a:lnTo>
                <a:lnTo>
                  <a:pt x="70963" y="1400"/>
                </a:lnTo>
                <a:lnTo>
                  <a:pt x="1400" y="1400"/>
                </a:lnTo>
                <a:close/>
              </a:path>
              <a:path fill="darken" w="72363" h="21600">
                <a:moveTo>
                  <a:pt x="72363" y="0"/>
                </a:moveTo>
                <a:lnTo>
                  <a:pt x="72363" y="21600"/>
                </a:lnTo>
                <a:lnTo>
                  <a:pt x="70963" y="20200"/>
                </a:lnTo>
                <a:lnTo>
                  <a:pt x="70963" y="1400"/>
                </a:lnTo>
                <a:close/>
              </a:path>
              <a:path fill="darkenLess" w="72363" h="21600">
                <a:moveTo>
                  <a:pt x="723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63" y="20200"/>
                </a:lnTo>
                <a:close/>
              </a:path>
              <a:path fill="lighten" w="723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cfd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S A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4760" y="4797000"/>
            <a:ext cx="3370320" cy="528120"/>
          </a:xfrm>
          <a:custGeom>
            <a:avLst/>
            <a:gdLst>
              <a:gd name="textAreaLeft" fmla="*/ 34200 w 3370320"/>
              <a:gd name="textAreaRight" fmla="*/ 3336120 w 33703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137766" h="21600">
                <a:moveTo>
                  <a:pt x="0" y="0"/>
                </a:moveTo>
                <a:lnTo>
                  <a:pt x="137766" y="0"/>
                </a:lnTo>
                <a:lnTo>
                  <a:pt x="137766" y="21600"/>
                </a:lnTo>
                <a:lnTo>
                  <a:pt x="0" y="21600"/>
                </a:lnTo>
                <a:close/>
              </a:path>
              <a:path fill="lightenLess" w="137766" h="21600">
                <a:moveTo>
                  <a:pt x="0" y="0"/>
                </a:moveTo>
                <a:lnTo>
                  <a:pt x="137766" y="0"/>
                </a:lnTo>
                <a:lnTo>
                  <a:pt x="136366" y="1400"/>
                </a:lnTo>
                <a:lnTo>
                  <a:pt x="1400" y="1400"/>
                </a:lnTo>
                <a:close/>
              </a:path>
              <a:path fill="darken" w="137766" h="21600">
                <a:moveTo>
                  <a:pt x="137766" y="0"/>
                </a:moveTo>
                <a:lnTo>
                  <a:pt x="137766" y="21600"/>
                </a:lnTo>
                <a:lnTo>
                  <a:pt x="136366" y="20200"/>
                </a:lnTo>
                <a:lnTo>
                  <a:pt x="136366" y="1400"/>
                </a:lnTo>
                <a:close/>
              </a:path>
              <a:path fill="darkenLess" w="137766" h="21600">
                <a:moveTo>
                  <a:pt x="1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66" y="20200"/>
                </a:lnTo>
                <a:close/>
              </a:path>
              <a:path fill="lighten" w="1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cfd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AONAMENT LÒ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4040" y="5863680"/>
            <a:ext cx="1887480" cy="528120"/>
          </a:xfrm>
          <a:custGeom>
            <a:avLst/>
            <a:gdLst>
              <a:gd name="textAreaLeft" fmla="*/ 34200 w 1887480"/>
              <a:gd name="textAreaRight" fmla="*/ 1853280 w 18874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77160" h="21600">
                <a:moveTo>
                  <a:pt x="0" y="0"/>
                </a:moveTo>
                <a:lnTo>
                  <a:pt x="77160" y="0"/>
                </a:lnTo>
                <a:lnTo>
                  <a:pt x="77160" y="21600"/>
                </a:lnTo>
                <a:lnTo>
                  <a:pt x="0" y="21600"/>
                </a:lnTo>
                <a:close/>
              </a:path>
              <a:path fill="lightenLess" w="77160" h="21600">
                <a:moveTo>
                  <a:pt x="0" y="0"/>
                </a:moveTo>
                <a:lnTo>
                  <a:pt x="77160" y="0"/>
                </a:lnTo>
                <a:lnTo>
                  <a:pt x="75760" y="1400"/>
                </a:lnTo>
                <a:lnTo>
                  <a:pt x="1400" y="1400"/>
                </a:lnTo>
                <a:close/>
              </a:path>
              <a:path fill="darken" w="77160" h="21600">
                <a:moveTo>
                  <a:pt x="77160" y="0"/>
                </a:moveTo>
                <a:lnTo>
                  <a:pt x="77160" y="21600"/>
                </a:lnTo>
                <a:lnTo>
                  <a:pt x="75760" y="20200"/>
                </a:lnTo>
                <a:lnTo>
                  <a:pt x="75760" y="1400"/>
                </a:lnTo>
                <a:close/>
              </a:path>
              <a:path fill="darkenLess" w="77160" h="21600">
                <a:moveTo>
                  <a:pt x="77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760" y="20200"/>
                </a:lnTo>
                <a:close/>
              </a:path>
              <a:path fill="lighten" w="77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cfd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SUL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3048120"/>
            <a:ext cx="7086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Compra=18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Guany= 1/3 + 1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Preu venda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5335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n objecte es compra per 18 euros. En quant es vendrà si es vol guanyar la tercera part del preu de compra i ademés 1 eu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7010280" y="56386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3623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3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6858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n objecte es compra per 18 euros. En quant es vendrà si es vol guanyar la tercera part del preu de compra i ademés 1 eu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6400800" y="54100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10800"/>
                </a:moveTo>
                <a:lnTo>
                  <a:pt x="19466" y="3794"/>
                </a:lnTo>
                <a:lnTo>
                  <a:pt x="1946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19520" y="2362320"/>
            <a:ext cx="29718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04920"/>
            <a:ext cx="83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 objecte es compra per 18 euros. En quant es vendrà si es vol guanyar la tercera part del preu de compra i ademés 1 eu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6858000" y="541008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11701"/>
                </a:moveTo>
                <a:lnTo>
                  <a:pt x="17806" y="4695"/>
                </a:lnTo>
                <a:lnTo>
                  <a:pt x="17806" y="1870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457200"/>
            <a:ext cx="76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 objecte es compra per 18 euros. En quant es vendrà si es vol guanyar la tercera part del preu de compra i ademés 1 eu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7010280" y="5257800"/>
            <a:ext cx="1067040" cy="99072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3" h="21600">
                <a:moveTo>
                  <a:pt x="4625" y="10800"/>
                </a:moveTo>
                <a:lnTo>
                  <a:pt x="18638" y="3794"/>
                </a:lnTo>
                <a:lnTo>
                  <a:pt x="18638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2571840"/>
            <a:ext cx="2147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8:3 6+1 18+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304920"/>
            <a:ext cx="639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 objecte es compra per 18 euros. En quant es vendrà si es vol guanyar la tercera part del preu de compra i ademés 1 eu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705720" y="4572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7240" y="2819520"/>
            <a:ext cx="295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8:3=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6+1=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8+7=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304920"/>
            <a:ext cx="860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 objecte es compra per 18 euros. En quant es vendrà si es vol guanyar la tercera part del preu de compra i ademés 1 eu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6858000" y="54100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6285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295280"/>
            <a:ext cx="693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ff00"/>
                </a:solidFill>
                <a:latin typeface="Times New Roman"/>
              </a:rPr>
              <a:t>1er: S'ha de trobar la tercera pa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ff00"/>
                </a:solidFill>
                <a:latin typeface="Times New Roman"/>
              </a:rPr>
              <a:t>2n: Se li ha de sumar l'euro que es vol guanyar de mé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ff00"/>
                </a:solidFill>
                <a:latin typeface="Times New Roman"/>
              </a:rPr>
              <a:t>3r: Se li ha de sumar el preu de compra inicial per saber a quant s'ha de vend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838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 objecte es compra per 18 euros. En quant es vendrà si es vol guanyar la tercera part del preu de compra i ademés 1 eu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162920" y="5334120"/>
            <a:ext cx="990360" cy="99036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289548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(18:3)+1+18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1:30:14Z</dcterms:created>
  <dc:creator>Daniel</dc:creator>
  <dc:description/>
  <dc:language>en-US</dc:language>
  <cp:lastModifiedBy>Daniel</cp:lastModifiedBy>
  <dcterms:modified xsi:type="dcterms:W3CDTF">2002-09-03T22:12:09Z</dcterms:modified>
  <cp:revision>9</cp:revision>
  <dc:subject/>
  <dc:title>PROBLEMES</dc:title>
</cp:coreProperties>
</file>