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9213-1350-43B3-A9A8-BE2D341A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00CD-5685-4C15-8DD0-A15A1029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DE2-E1E3-4F72-9229-669FD7DB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CA4F-ACA0-429D-8072-DF7CB936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7E4-0F8D-498D-A2F4-52E80C16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AC8-CA19-4DB5-BF9D-75431D2A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9A6-C544-4CD1-B06A-2C93F2EB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58A-B047-47F7-A098-363DA144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863-9FFF-4FE5-A790-21B5B8A6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0A8-6732-4954-98E1-986F9751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BD4-F613-4232-9D04-C1551706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9950-EAEA-4C19-969B-02D7A357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FC79-B4B9-4257-8D16-A798636EE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927520"/>
            <a:ext cx="687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2560" y="298944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95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33920" y="4572000"/>
            <a:ext cx="1476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058840" y="2438280"/>
            <a:ext cx="50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4,33 Kg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30492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a caixa plena de taronges pesa 20,45 Kg. Quan està buida, el seu pes és de 6,12 Kg. Quant pesen les taron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388620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43000" y="457200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143000" y="525780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14300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876920" y="388620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876920" y="4572000"/>
            <a:ext cx="1805040" cy="54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87692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876920" y="594360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685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ixa plena de taronges pesa 20,45 Kg. Quan està buida, el seu pes és de 6,12 Kg. Quant pesen les taron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0240" y="2362320"/>
            <a:ext cx="6945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es caixa plena=20,45Kg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es caixa buida=6,12 Kg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es net (taronges)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685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ixa plena de taronges pesa 20,45 Kg. Quan està buida, el seu pes és de 6,12 Kg. Quant pesen les taron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9360" y="2712960"/>
            <a:ext cx="8037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8640" y="2819520"/>
            <a:ext cx="64245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 OPERACIÓ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ixa plena de taronges pesa 20,45 Kg. Quan està buida, el seu pes és de 6,12 Kg. Quant pesen les taron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20960" y="2819520"/>
            <a:ext cx="200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685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ixa plena de taronges pesa 20,45 Kg. Quan està buida, el seu pes és de 6,12 Kg. Quant pesen les taron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44640" y="2895480"/>
            <a:ext cx="348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0,45-6,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685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ixa plena de taronges pesa 20,45 Kg. Quan està buida, el seu pes és de 6,12 Kg. Quant pesen les taron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5680" y="2743200"/>
            <a:ext cx="563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0,45-6,12=14,3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685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ixa plena de taronges pesa 20,45 Kg. Quan està buida, el seu pes és de 6,12 Kg. Quant pesen les taron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2590920"/>
            <a:ext cx="848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Trobar la diferència entre el pes de la caixa plena i el de la caixa bu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685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aixa plena de taronges pesa 20,45 Kg. Quan està buida, el seu pes és de 6,12 Kg. Quant pesen les taron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44640" y="2895480"/>
            <a:ext cx="348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0,45-6,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0:26:59Z</dcterms:created>
  <dc:creator>Daniel</dc:creator>
  <dc:description/>
  <dc:language>en-US</dc:language>
  <cp:lastModifiedBy>Daniel</cp:lastModifiedBy>
  <dcterms:modified xsi:type="dcterms:W3CDTF">2003-01-04T10:37:47Z</dcterms:modified>
  <cp:revision>19</cp:revision>
  <dc:subject/>
  <dc:title>Sin título de diapositiva</dc:title>
</cp:coreProperties>
</file>