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716-8300-4E5F-81B4-4BFAD148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AF6-A3A6-4D03-BB7C-AAC7DF0A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F86-235B-4904-A429-1101866E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49B-74EC-477F-BEC8-429B63A8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830-EBE8-4F99-8C64-86B0B8B8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DCE-EDC4-44AD-9322-23DBF544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DEB-40B9-4608-AE7F-2B7AB270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D8F-15BD-442F-BC1B-8D687FD5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D4E-D71A-4C01-83AE-E8CECCF8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1CF-7E17-4A9C-8DE2-230EB63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971-E525-4CCF-BF71-FE373C1D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8B4-3F2C-4B1D-A07D-CA936D8E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7C95-E394-48E9-B9A7-5A7A0FAB0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a Nutrició i l’Alimentaci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Ciències de la Natural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 nutrients i les seves fun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rtar l’energia necessària per al bon funcionament de l’organis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rtar els materials necessaris per a la formació de noves estructures corpo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ir en la regulació de totes les reaccions que tenen lloc a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5:37:31Z</dcterms:created>
  <dc:creator>Josep a. Buil</dc:creator>
  <dc:description/>
  <dc:language>en-US</dc:language>
  <cp:lastModifiedBy>PIE</cp:lastModifiedBy>
  <dcterms:modified xsi:type="dcterms:W3CDTF">2002-06-19T21:03:54Z</dcterms:modified>
  <cp:revision>5</cp:revision>
  <dc:subject/>
  <dc:title>La Nutrició i l’Alimentació</dc:title>
</cp:coreProperties>
</file>