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B86-D9A7-43B4-BF3C-46074792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789-7BBD-48D8-8864-216472A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865-2BFB-4C09-A15F-1E344D19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F90-453C-4B66-BC32-CDA6EDB5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AEE-C001-46E8-AE36-6DDE83DC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5DF-B4CC-46E9-AC8B-3B759EC3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4CC-E973-45E2-ADDB-1603F660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942-810C-41C4-8BC1-8E30A7BE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67B-E069-46B6-8CE9-D68C510E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AC7-B2A2-4A0C-933A-23B7244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C0E-3D92-4C85-8D75-A225FB2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292-139E-4CFB-9950-CE491C9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C1F-EC30-4019-9B7D-477AD5EED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00"/>
                </a:solidFill>
                <a:latin typeface="Tempus Sans ITC"/>
              </a:rPr>
              <a:t>Les Cireres viatge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Dibuixos originals: P. P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Text: Marta P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empus Sans ITC"/>
              </a:rPr>
              <a:t>Composició informàtica: Rosa Oli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5638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AVEN MOLT CANSADETES I A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LA PLATJA I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DAREN DORMIDETES.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59436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Arial"/>
              </a:rPr>
              <a:t>UN CARGOL , A POC A POC,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X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7913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...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LES PORTÀ A LA FI DEL SEU VIAT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57913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 CAP DE MOLT DE TEMPS, DE LES CIRERES VAN NÉIXER TRES CIRER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0" spc="-1" strike="noStrike">
                <a:solidFill>
                  <a:srgbClr val="ff9900"/>
                </a:solidFill>
                <a:latin typeface="Times New Roman"/>
              </a:rPr>
              <a:t>F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943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A VEGADA HI HAVIA EN UN JARDÍ UN CIRERER TOT PLE DE CIR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59436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TRES CIRERES EIXERIDES VAN DI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- A CÓRRER MÓN ANIREM!  I VAN DEMANAR A UN CONILLET QUE LES PRENGUÈS EN EL SEU LLOM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 CONILLET SE LES VA EMPORTAR I PLEGATS VAN ANAR A VOLTA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019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EL CONILL FEIA UNS SALTS TANT ALT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5562720"/>
            <a:ext cx="838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... </a:t>
            </a: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QUE SALTANT, SALTA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UN COLOM LES VA AGA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5867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 AMB EL COLOM VOLANT, VOLANT, VAN VEURE LA TERRA I EL MA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58672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Arial"/>
              </a:rPr>
              <a:t>LA PLUJA I ELS LLAMPS VAN ARRIBAR, I LE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  <a:ea typeface="Arial"/>
              </a:rPr>
              <a:t>CIRERES VAN CAURE AL 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ena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 CIRERES  TROBAREN UN  PEIX  DINS DEL MAR, I LES ACOMPANYÀ A  VEURE MÉS PEIXOS  GRANS I PET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10:26:59Z</dcterms:created>
  <dc:creator>Rosa Olivé Ollé</dc:creator>
  <dc:description/>
  <dc:language>en-US</dc:language>
  <cp:lastModifiedBy>Rosa Olivé Ollé</cp:lastModifiedBy>
  <dcterms:modified xsi:type="dcterms:W3CDTF">2001-09-16T19:47:19Z</dcterms:modified>
  <cp:revision>7</cp:revision>
  <dc:subject/>
  <dc:title>Títol</dc:title>
</cp:coreProperties>
</file>