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EC7-2553-43EA-A5CA-EBB34A9B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505-7022-45F6-842E-5FE83E57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059-AFD4-4500-988A-D0A6238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BF76-4229-496D-B3E2-50289C95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2C4-755C-4585-9143-BB8095BF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678-2467-413F-973E-6DAB69AC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B17-1820-4617-84AD-C3DE5FD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B1E-C14F-477B-B828-A3BB2345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616-9B89-466A-87B6-9E6FC645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E2A-E5C3-48D5-BD58-C4EDFAF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1ED-8378-4B95-BC82-A7148BD9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5E7-B2FD-413B-AB08-0DD56963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C6FF-D2B2-495D-A986-25716E404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Tempus Sans ITC"/>
              </a:rPr>
              <a:t>Les Cireres viatg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Dibuixos originals: P. P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Text: Marta P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Composició informàtica: Rosa Oli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943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A VEGADA HI HAVIA EN UN JARDÍ UN CIRERER TOT PLE DE CIR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26:59Z</dcterms:created>
  <dc:creator>Rosa Olivé Ollé</dc:creator>
  <dc:description/>
  <dc:language>en-US</dc:language>
  <cp:lastModifiedBy>Rosa Olivé Ollé</cp:lastModifiedBy>
  <dcterms:modified xsi:type="dcterms:W3CDTF">2001-12-29T01:01:25Z</dcterms:modified>
  <cp:revision>8</cp:revision>
  <dc:subject/>
  <dc:title>Títol</dc:title>
</cp:coreProperties>
</file>