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CC26-A9BD-4AF2-966D-A3B4A0D4E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20AA-DF72-4ACF-9810-387D3886D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BE13-60E4-4CAF-A4E1-C74A506C2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F9E0-17DA-479D-9D44-644748806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4C7F-53CB-4BF7-9BBF-71F121261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3D3B-7B13-47C1-8279-B9E9AF332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CFDE-A2BB-45E6-BC89-3A48D5098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2AE2-F8EF-437E-9161-3BA90F527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8ED0-B5A4-4281-8958-5BC205A71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3E04-2F78-4259-8E24-E966446B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75B0-F5FB-4C07-B95F-A758BEE5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0113-6320-4596-BE0A-69973212A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6DE95-39FA-4650-9DDB-AE899E5E05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file:///tmp/home/.config/libreoffice/4/user/gallery/slogan5.wav" TargetMode="External"/><Relationship Id="rId3" Type="http://schemas.microsoft.com/office/2007/relationships/media" Target="file:///tmp/home/.config/libreoffice/4/user/gallery/slogan5.wav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file:///tmp/home/.config/libreoffice/4/user/gallery/slogan6.wav" TargetMode="External"/><Relationship Id="rId3" Type="http://schemas.microsoft.com/office/2007/relationships/media" Target="file:///tmp/home/.config/libreoffice/4/user/gallery/slogan6.wav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hyperlink" Target="file:///portada.ppt" TargetMode="Externa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file:///tmp/home/.config/libreoffice/4/user/gallery/CRISTAL.WAV" TargetMode="External"/><Relationship Id="rId3" Type="http://schemas.microsoft.com/office/2007/relationships/media" Target="file:///tmp/home/.config/libreoffice/4/user/gallery/CRISTAL.WAV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file:///tmp/home/.config/libreoffice/4/user/gallery/ARPEGIO.WAV" TargetMode="External"/><Relationship Id="rId3" Type="http://schemas.microsoft.com/office/2007/relationships/media" Target="file:///tmp/home/.config/libreoffice/4/user/gallery/ARPEGIO.WAV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file:///tmp/home/.config/libreoffice/4/user/gallery/slogan2.wav" TargetMode="External"/><Relationship Id="rId3" Type="http://schemas.microsoft.com/office/2007/relationships/media" Target="file:///tmp/home/.config/libreoffice/4/user/gallery/slogan2.wav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file:///tmp/home/.config/libreoffice/4/user/gallery/slogan4.wav" TargetMode="External"/><Relationship Id="rId3" Type="http://schemas.microsoft.com/office/2007/relationships/media" Target="file:///tmp/home/.config/libreoffice/4/user/gallery/slogan4.wav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380880"/>
            <a:ext cx="8686800" cy="296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Comic Sans MS"/>
              </a:rPr>
              <a:t>Qui respecta 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Comic Sans MS"/>
              </a:rPr>
              <a:t>l'entorn?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Comic Sans MS"/>
              <a:ea typeface="Comic Sans MS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4572000"/>
            <a:ext cx="6934320" cy="15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Comic Sans MS"/>
              </a:rPr>
              <a:t>Classe de les Balenes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Comic Sans MS"/>
              </a:rPr>
              <a:t>Primer de Cicle Inicial de Primà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Comic Sans MS"/>
              </a:rPr>
              <a:t>CEIP ELADI HOMS - Valls-  Curs 2000-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1371600" y="3886200"/>
            <a:ext cx="533520" cy="5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15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429000" y="457200"/>
            <a:ext cx="5105520" cy="5257800"/>
          </a:xfrm>
          <a:prstGeom prst="noSmoking">
            <a:avLst>
              <a:gd name="adj" fmla="val 795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4198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5800" y="0"/>
            <a:ext cx="7696080" cy="2590920"/>
          </a:xfrm>
          <a:prstGeom prst="horizontalScrol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Si la classe vols endreça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deixa la jaqueta penjada.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9906120" y="9144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248520" y="3429000"/>
            <a:ext cx="2438280" cy="2819520"/>
          </a:xfrm>
          <a:prstGeom prst="smileyFace">
            <a:avLst>
              <a:gd name="adj" fmla="val 9282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447920" y="609480"/>
            <a:ext cx="5105160" cy="5257800"/>
          </a:xfrm>
          <a:prstGeom prst="noSmoking">
            <a:avLst>
              <a:gd name="adj" fmla="val 795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33520" y="0"/>
            <a:ext cx="7696080" cy="2590920"/>
          </a:xfrm>
          <a:prstGeom prst="horizontalScroll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 el caos vols evit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 normes has de respectar</a:t>
            </a: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10134720" y="3352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balena" descr=""/>
          <p:cNvPicPr/>
          <p:nvPr/>
        </p:nvPicPr>
        <p:blipFill>
          <a:blip r:embed="rId1"/>
          <a:stretch/>
        </p:blipFill>
        <p:spPr>
          <a:xfrm>
            <a:off x="4952880" y="3354480"/>
            <a:ext cx="4191120" cy="3503520"/>
          </a:xfrm>
          <a:prstGeom prst="rect">
            <a:avLst/>
          </a:prstGeom>
          <a:ln w="0">
            <a:noFill/>
          </a:ln>
        </p:spPr>
      </p:pic>
      <p:pic>
        <p:nvPicPr>
          <p:cNvPr id="77" name="balena" descr=""/>
          <p:cNvPicPr/>
          <p:nvPr/>
        </p:nvPicPr>
        <p:blipFill>
          <a:blip r:embed="rId2"/>
          <a:stretch/>
        </p:blipFill>
        <p:spPr>
          <a:xfrm>
            <a:off x="762120" y="3354480"/>
            <a:ext cx="4190760" cy="3503520"/>
          </a:xfrm>
          <a:prstGeom prst="rect">
            <a:avLst/>
          </a:prstGeom>
          <a:ln w="0">
            <a:noFill/>
          </a:ln>
        </p:spPr>
      </p:pic>
      <p:pic>
        <p:nvPicPr>
          <p:cNvPr id="78" name="balena" descr=""/>
          <p:cNvPicPr/>
          <p:nvPr/>
        </p:nvPicPr>
        <p:blipFill>
          <a:blip r:embed="rId3"/>
          <a:stretch/>
        </p:blipFill>
        <p:spPr>
          <a:xfrm>
            <a:off x="3048120" y="3048120"/>
            <a:ext cx="2286000" cy="1911240"/>
          </a:xfrm>
          <a:prstGeom prst="rect">
            <a:avLst/>
          </a:prstGeom>
          <a:ln w="0">
            <a:noFill/>
          </a:ln>
        </p:spPr>
      </p:pic>
      <p:pic>
        <p:nvPicPr>
          <p:cNvPr id="79" name="balena" descr=""/>
          <p:cNvPicPr/>
          <p:nvPr/>
        </p:nvPicPr>
        <p:blipFill>
          <a:blip r:embed="rId4"/>
          <a:stretch/>
        </p:blipFill>
        <p:spPr>
          <a:xfrm>
            <a:off x="7162920" y="2819520"/>
            <a:ext cx="1981080" cy="1655640"/>
          </a:xfrm>
          <a:prstGeom prst="rect">
            <a:avLst/>
          </a:prstGeom>
          <a:ln w="0">
            <a:noFill/>
          </a:ln>
        </p:spPr>
      </p:pic>
      <p:pic>
        <p:nvPicPr>
          <p:cNvPr id="80" name="balena" descr=""/>
          <p:cNvPicPr/>
          <p:nvPr/>
        </p:nvPicPr>
        <p:blipFill>
          <a:blip r:embed="rId5"/>
          <a:stretch/>
        </p:blipFill>
        <p:spPr>
          <a:xfrm>
            <a:off x="0" y="1905120"/>
            <a:ext cx="1752480" cy="1465200"/>
          </a:xfrm>
          <a:prstGeom prst="rect">
            <a:avLst/>
          </a:prstGeom>
          <a:ln w="0">
            <a:noFill/>
          </a:ln>
        </p:spPr>
      </p:pic>
      <p:sp>
        <p:nvSpPr>
          <p:cNvPr id="81" name="">
            <a:hlinkClick r:id="rId6"/>
          </p:cNvPr>
          <p:cNvSpPr/>
          <p:nvPr/>
        </p:nvSpPr>
        <p:spPr>
          <a:xfrm>
            <a:off x="609480" y="380880"/>
            <a:ext cx="8001000" cy="2286000"/>
          </a:xfrm>
          <a:prstGeom prst="wedgeEllipseCallout">
            <a:avLst>
              <a:gd name="adj1" fmla="val -26962"/>
              <a:gd name="adj2" fmla="val 89166"/>
            </a:avLst>
          </a:prstGeom>
          <a:solidFill>
            <a:srgbClr val="ccecff"/>
          </a:solidFill>
          <a:ln w="316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Hem après Les Bal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a respectar nens i nenes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676520" y="228600"/>
            <a:ext cx="5105160" cy="5257800"/>
          </a:xfrm>
          <a:prstGeom prst="noSmoking">
            <a:avLst>
              <a:gd name="adj" fmla="val 795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8458200" cy="6342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9753480" y="762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0" y="1057320"/>
            <a:ext cx="7737480" cy="580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" y="0"/>
            <a:ext cx="7696080" cy="2819520"/>
          </a:xfrm>
          <a:prstGeom prst="horizontalScrol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  al pati vols estar b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la paperera llença el pap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676520" y="1600200"/>
            <a:ext cx="5105160" cy="5257800"/>
          </a:xfrm>
          <a:prstGeom prst="noSmoking">
            <a:avLst>
              <a:gd name="adj" fmla="val 795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57200" y="4114800"/>
            <a:ext cx="8229600" cy="2743200"/>
          </a:xfrm>
          <a:prstGeom prst="horizontalScrol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l  banc has caigu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tser no estaves ben assegu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10363320" y="838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752480" y="609480"/>
            <a:ext cx="5105520" cy="5257800"/>
          </a:xfrm>
          <a:prstGeom prst="noSmoking">
            <a:avLst>
              <a:gd name="adj" fmla="val 795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04920" y="4495680"/>
            <a:ext cx="8305560" cy="2362320"/>
          </a:xfrm>
          <a:prstGeom prst="horizontalScrol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Si ens barallem, una ferida tindrem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i si juguem, amics sere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9448920" y="3352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71420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981080" y="380880"/>
            <a:ext cx="5105520" cy="5257800"/>
          </a:xfrm>
          <a:prstGeom prst="noSmoking">
            <a:avLst>
              <a:gd name="adj" fmla="val 795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295280" y="0"/>
            <a:ext cx="6400800" cy="3276720"/>
          </a:xfrm>
          <a:prstGeom prst="horizontalScrol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mpentes no cal dona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 per l’escala vols puja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10439280" y="685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17:28:51Z</dcterms:created>
  <dc:creator>PIE</dc:creator>
  <dc:description/>
  <dc:language>en-US</dc:language>
  <cp:lastModifiedBy>PIE</cp:lastModifiedBy>
  <dcterms:modified xsi:type="dcterms:W3CDTF">2003-01-07T16:28:44Z</dcterms:modified>
  <cp:revision>24</cp:revision>
  <dc:subject/>
  <dc:title>Sin título de diapositiva</dc:title>
</cp:coreProperties>
</file>