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AD9-C640-4FA4-ACA6-2CC9E1EF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F8C-89AD-4FEA-B5F8-BE9E964F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190-F75A-4524-ACBF-96C6048A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383-88F0-453A-98DE-F48E3C4D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260-2B21-4A05-8F48-7BE7AFBD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698-D58D-425E-884D-81902E60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4E7-6E76-400F-AEEA-2BEFDAB6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12A-6BD1-43F8-8C74-8A080B96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A12-A7CE-4F7E-9A67-7E48F423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7D1-9017-43C5-A749-D332B181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C7E-E8D4-4C51-839D-670E2F63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68C-1C3D-473D-A805-E288E385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DFF0-3474-4E53-A219-A799D6F5D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portada.ppt#Slide 1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 RECULL LES CAQUES DEL GOS ?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ortada" descr=""/>
          <p:cNvPicPr/>
          <p:nvPr/>
        </p:nvPicPr>
        <p:blipFill>
          <a:blip r:embed="rId1"/>
          <a:srcRect l="0" t="-1119" r="48871" b="31920"/>
          <a:stretch/>
        </p:blipFill>
        <p:spPr>
          <a:xfrm>
            <a:off x="5410080" y="1828800"/>
            <a:ext cx="31496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80880" y="2743200"/>
          <a:ext cx="464832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743200"/>
                    <a:ext cx="46483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998208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n Pau i el seu pare pel matí van treure a passejar en Tento.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Un guàrdia els estava mir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2209680"/>
          <a:ext cx="3299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3299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ag21" descr=""/>
          <p:cNvPicPr/>
          <p:nvPr/>
        </p:nvPicPr>
        <p:blipFill>
          <a:blip r:embed="rId3"/>
          <a:srcRect l="0" t="0" r="35312" b="48851"/>
          <a:stretch/>
        </p:blipFill>
        <p:spPr>
          <a:xfrm>
            <a:off x="4419720" y="2514600"/>
            <a:ext cx="4362480" cy="3390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990612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n Pau i el seu pare van començar a córrer quan van veure que en Tento necessitava fer ca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14400" y="2286000"/>
          <a:ext cx="3267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3267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pag23" descr=""/>
          <p:cNvPicPr/>
          <p:nvPr/>
        </p:nvPicPr>
        <p:blipFill>
          <a:blip r:embed="rId3"/>
          <a:srcRect l="0" t="0" r="46613" b="46603"/>
          <a:stretch/>
        </p:blipFill>
        <p:spPr>
          <a:xfrm>
            <a:off x="4648320" y="2514600"/>
            <a:ext cx="3600360" cy="354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9061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n Pau i el seu pare no volien recollir les caques d’en Tento perquè feien pud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14400" y="2209680"/>
          <a:ext cx="3224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3224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ag25" descr=""/>
          <p:cNvPicPr/>
          <p:nvPr/>
        </p:nvPicPr>
        <p:blipFill>
          <a:blip r:embed="rId3"/>
          <a:srcRect l="0" t="0" r="44350" b="50003"/>
          <a:stretch/>
        </p:blipFill>
        <p:spPr>
          <a:xfrm>
            <a:off x="4724280" y="2514600"/>
            <a:ext cx="3753000" cy="3314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998208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n Pau va pensar que en Tento podia utilitzar el wàter per fer ca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" y="2209680"/>
          <a:ext cx="3767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3767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pag26" descr=""/>
          <p:cNvPicPr/>
          <p:nvPr/>
        </p:nvPicPr>
        <p:blipFill>
          <a:blip r:embed="rId3"/>
          <a:srcRect l="0" t="0" r="36444" b="61499"/>
          <a:stretch/>
        </p:blipFill>
        <p:spPr>
          <a:xfrm>
            <a:off x="4572000" y="281952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967752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n Pau i el seu pare no veien solució al problema de les caques. I en Tento estava tri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14400" y="2133720"/>
          <a:ext cx="2943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2943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pag31" descr=""/>
          <p:cNvPicPr/>
          <p:nvPr/>
        </p:nvPicPr>
        <p:blipFill>
          <a:blip r:embed="rId3"/>
          <a:srcRect l="0" t="0" r="26274" b="51154"/>
          <a:stretch/>
        </p:blipFill>
        <p:spPr>
          <a:xfrm>
            <a:off x="4038480" y="2590920"/>
            <a:ext cx="4800600" cy="3127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98208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n Tento estava molt content perquè la mare d’en Pau recollia les caq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9480" y="2209680"/>
          <a:ext cx="381024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381024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ag33" descr=""/>
          <p:cNvPicPr/>
          <p:nvPr/>
        </p:nvPicPr>
        <p:blipFill>
          <a:blip r:embed="rId3"/>
          <a:srcRect l="0" t="0" r="53392" b="29671"/>
          <a:stretch/>
        </p:blipFill>
        <p:spPr>
          <a:xfrm>
            <a:off x="5334120" y="1981080"/>
            <a:ext cx="3039840" cy="4510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967752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n Tento només seguia a la mare d’en Pa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2719440"/>
          <a:ext cx="3809880" cy="26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19440"/>
                    <a:ext cx="380988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ag35a" descr=""/>
          <p:cNvPicPr/>
          <p:nvPr/>
        </p:nvPicPr>
        <p:blipFill>
          <a:blip r:embed="rId3"/>
          <a:srcRect l="0" t="0" r="48871" b="70692"/>
          <a:stretch/>
        </p:blipFill>
        <p:spPr>
          <a:xfrm>
            <a:off x="4952880" y="3124080"/>
            <a:ext cx="3676680" cy="2248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05840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Pare i fill estaven preocupats perquè en Tento no els estimav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5800" y="2133720"/>
          <a:ext cx="3809880" cy="39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3809880" cy="39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pag40" descr=""/>
          <p:cNvPicPr/>
          <p:nvPr/>
        </p:nvPicPr>
        <p:blipFill>
          <a:blip r:embed="rId3"/>
          <a:srcRect l="0" t="0" r="31922" b="31920"/>
          <a:stretch/>
        </p:blipFill>
        <p:spPr>
          <a:xfrm>
            <a:off x="4800600" y="2133720"/>
            <a:ext cx="4133880" cy="4064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8298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Pare i fill van resoldre treure en Tento al carrer i recollir les caq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2133720"/>
          <a:ext cx="381024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381024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pag39" descr=""/>
          <p:cNvPicPr/>
          <p:nvPr/>
        </p:nvPicPr>
        <p:blipFill>
          <a:blip r:embed="rId3"/>
          <a:srcRect l="0" t="0" r="44350" b="44350"/>
          <a:stretch/>
        </p:blipFill>
        <p:spPr>
          <a:xfrm>
            <a:off x="4800600" y="2209680"/>
            <a:ext cx="3753000" cy="3689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990612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n Pau va treure una bossa de plàstic de la butxaca dels pantalons i va recollir la caca d’en T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209680"/>
          <a:ext cx="3795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3795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ag42" descr=""/>
          <p:cNvPicPr/>
          <p:nvPr/>
        </p:nvPicPr>
        <p:blipFill>
          <a:blip r:embed="rId3"/>
          <a:srcRect l="0" t="0" r="48871" b="53451"/>
          <a:stretch/>
        </p:blipFill>
        <p:spPr>
          <a:xfrm>
            <a:off x="4952880" y="2438280"/>
            <a:ext cx="3448080" cy="3314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982980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n Pau amb el pijama posat va sentir que picaven a la porta.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PC1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3562560" cy="3448080"/>
          </a:xfrm>
          <a:prstGeom prst="rect">
            <a:avLst/>
          </a:prstGeom>
          <a:ln w="0">
            <a:noFill/>
          </a:ln>
        </p:spPr>
      </p:pic>
      <p:pic>
        <p:nvPicPr>
          <p:cNvPr id="48" name="pag5" descr=""/>
          <p:cNvPicPr/>
          <p:nvPr/>
        </p:nvPicPr>
        <p:blipFill>
          <a:blip r:embed="rId2"/>
          <a:srcRect l="0" t="0" r="37501" b="37486"/>
          <a:stretch/>
        </p:blipFill>
        <p:spPr>
          <a:xfrm>
            <a:off x="5105520" y="2438280"/>
            <a:ext cx="3200400" cy="2895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90612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Des d’aquell dia tots eren feliços i en Tento els hi donava la po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2057400"/>
          <a:ext cx="380988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380988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pag45" descr=""/>
          <p:cNvPicPr/>
          <p:nvPr/>
        </p:nvPicPr>
        <p:blipFill>
          <a:blip r:embed="rId3"/>
          <a:srcRect l="0" t="0" r="52261" b="47755"/>
          <a:stretch/>
        </p:blipFill>
        <p:spPr>
          <a:xfrm>
            <a:off x="5105520" y="2286000"/>
            <a:ext cx="3219480" cy="3463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998208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FI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Quan va obrir la porta veié un gos pelut i simpàtic.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Pare i fill li feien caríc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2362320"/>
          <a:ext cx="3271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3271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ag7" descr=""/>
          <p:cNvPicPr/>
          <p:nvPr/>
        </p:nvPicPr>
        <p:blipFill>
          <a:blip r:embed="rId3"/>
          <a:srcRect l="0" t="0" r="66951" b="40977"/>
          <a:stretch/>
        </p:blipFill>
        <p:spPr>
          <a:xfrm>
            <a:off x="5105520" y="2362320"/>
            <a:ext cx="2228760" cy="391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043928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Pare i fill van resoldre cuidar el g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2792520"/>
          <a:ext cx="3809880" cy="24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92520"/>
                    <a:ext cx="38098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dfamilia" descr=""/>
          <p:cNvPicPr/>
          <p:nvPr/>
        </p:nvPicPr>
        <p:blipFill>
          <a:blip r:embed="rId3"/>
          <a:stretch/>
        </p:blipFill>
        <p:spPr>
          <a:xfrm>
            <a:off x="4800600" y="2666880"/>
            <a:ext cx="3733920" cy="270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990612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Aquella nit va dormir a prop de la xemeneia dins una capsa de saba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2666880"/>
          <a:ext cx="380988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380988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ag11" descr=""/>
          <p:cNvPicPr/>
          <p:nvPr/>
        </p:nvPicPr>
        <p:blipFill>
          <a:blip r:embed="rId3"/>
          <a:srcRect l="0" t="0" r="57065" b="66668"/>
          <a:stretch/>
        </p:blipFill>
        <p:spPr>
          <a:xfrm>
            <a:off x="5334120" y="3048120"/>
            <a:ext cx="3352680" cy="2819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0134720" y="3505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Pare i fill van resoldre, posar-li el nom de T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2793960"/>
          <a:ext cx="3809880" cy="24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93960"/>
                    <a:ext cx="380988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ag13" descr=""/>
          <p:cNvPicPr/>
          <p:nvPr/>
        </p:nvPicPr>
        <p:blipFill>
          <a:blip r:embed="rId3"/>
          <a:srcRect l="0" t="0" r="68083" b="43226"/>
          <a:stretch/>
        </p:blipFill>
        <p:spPr>
          <a:xfrm>
            <a:off x="5486400" y="2209680"/>
            <a:ext cx="2152800" cy="3764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998208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n Tento ha fet caca al mig de la cuina!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Cridà la mare enfada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2590920"/>
          <a:ext cx="380988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80988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ag15" descr=""/>
          <p:cNvPicPr/>
          <p:nvPr/>
        </p:nvPicPr>
        <p:blipFill>
          <a:blip r:embed="rId3"/>
          <a:srcRect l="0" t="0" r="26274" b="46554"/>
          <a:stretch/>
        </p:blipFill>
        <p:spPr>
          <a:xfrm>
            <a:off x="4800600" y="2884320"/>
            <a:ext cx="4038480" cy="2878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998208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erquè la mare no s’enfadés, en Pau i el seu pare van decidir treure en Tento a passejar cada 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38080" y="2362320"/>
          <a:ext cx="3222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3222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pag17a" descr=""/>
          <p:cNvPicPr/>
          <p:nvPr/>
        </p:nvPicPr>
        <p:blipFill>
          <a:blip r:embed="rId3"/>
          <a:srcRect l="0" t="0" r="35312" b="40809"/>
          <a:stretch/>
        </p:blipFill>
        <p:spPr>
          <a:xfrm>
            <a:off x="4419720" y="2286000"/>
            <a:ext cx="4362480" cy="3924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98298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Aquella tarda van anar a comprar una corretja.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n Tento va estar molt cont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14400" y="2209680"/>
          <a:ext cx="3271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3271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ag35" descr=""/>
          <p:cNvPicPr/>
          <p:nvPr/>
        </p:nvPicPr>
        <p:blipFill>
          <a:blip r:embed="rId3"/>
          <a:srcRect l="0" t="0" r="29664" b="38507"/>
          <a:stretch/>
        </p:blipFill>
        <p:spPr>
          <a:xfrm>
            <a:off x="4267080" y="2362320"/>
            <a:ext cx="4496040" cy="3863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998208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2:51:54Z</dcterms:created>
  <dc:creator>CEIP Eladi Homs</dc:creator>
  <dc:description/>
  <dc:language>en-US</dc:language>
  <cp:lastModifiedBy>Rosa Olivé Ollé</cp:lastModifiedBy>
  <dcterms:modified xsi:type="dcterms:W3CDTF">2001-03-15T22:03:30Z</dcterms:modified>
  <cp:revision>49</cp:revision>
  <dc:subject/>
  <dc:title>En Pau amb el pijama posat va sentir que picaven a la porta. </dc:title>
</cp:coreProperties>
</file>