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69C7-F163-48B5-A501-1287BE01A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7DDD-A876-4E49-8FEF-67DA1AC69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C9D5-FD5D-4700-865B-BF39DE8BA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7D99-C88D-498F-AE1D-63F7D54AD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EFCA-A4DF-4254-8B6B-6132DB53A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9214-F10A-43A8-A422-EC689DEF2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B060-4733-4280-A201-A3FE4BC3A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B9A4-A9C6-4E7B-A364-F397FD294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F6E5-C838-4063-A310-4326BBE9A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7C42-FE78-4320-A956-EAEA01419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A4E9-0990-4491-B6A8-26EC3D82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7EBC-DBFD-4B54-8194-BE27BFAFE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4709B-A26B-4D01-BEC6-AA6A648354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2.png"/><Relationship Id="rId5" Type="http://schemas.openxmlformats.org/officeDocument/2006/relationships/hyperlink" Target="file:///text.ppt" TargetMode="Externa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533520"/>
            <a:ext cx="6248160" cy="89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Amanida catal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INGREDIENTS PER A QUATRE PERSON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1 Encia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¼ de  Kg. de tomàquets per aman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50 gr. d’olives arbequ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4 talls de pern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4 talls de llangonis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4 talls de bull neg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4 talls de bull bla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Oli d’ol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Sal i vinag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 </a:t>
            </a:r>
            <a:r>
              <a:rPr b="0" lang="ca-ES" sz="16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PREPARACIÓ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badi MT Condensed Ligh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Renteu l’enciam ben net i retireu aquelles fulles que no siguin gaire maques. Talleu-les a trossos mitjans i poseu-ho en una safat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badi MT Condensed Ligh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Renteu els tomàquets i talleu-los en quatre trossos. Poseu-los a la plata juntament amb l’encia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badi MT Condensed Ligh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Escampeu les olives arbequines per damunt l’encia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badi MT Condensed Ligh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Prepareu l’amaniment barrejant un raig d’oli, una mica de sal i una mica de vinagre en un got a part. Un cop estigui ben barrejat o escampeu per damunt de la verdura i la remeneu una mi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badi MT Condensed Ligh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Poseu els embotits damunt de l’amanida de manera decorativa i serviu immediatam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amanida" descr=""/>
          <p:cNvPicPr/>
          <p:nvPr/>
        </p:nvPicPr>
        <p:blipFill>
          <a:blip r:embed="rId1"/>
          <a:srcRect l="7036" t="15432" r="8154" b="13219"/>
          <a:stretch/>
        </p:blipFill>
        <p:spPr>
          <a:xfrm>
            <a:off x="3505320" y="2666880"/>
            <a:ext cx="3352680" cy="2386080"/>
          </a:xfrm>
          <a:prstGeom prst="rect">
            <a:avLst/>
          </a:prstGeom>
          <a:ln w="0">
            <a:noFill/>
          </a:ln>
        </p:spPr>
      </p:pic>
      <p:pic>
        <p:nvPicPr>
          <p:cNvPr id="43" name="llapis" descr=""/>
          <p:cNvPicPr/>
          <p:nvPr/>
        </p:nvPicPr>
        <p:blipFill>
          <a:blip r:embed="rId2"/>
          <a:stretch/>
        </p:blipFill>
        <p:spPr>
          <a:xfrm>
            <a:off x="6400800" y="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lat" descr=""/>
          <p:cNvPicPr/>
          <p:nvPr/>
        </p:nvPicPr>
        <p:blipFill>
          <a:blip r:embed="rId1"/>
          <a:stretch/>
        </p:blipFill>
        <p:spPr>
          <a:xfrm>
            <a:off x="3809880" y="2057400"/>
            <a:ext cx="3048120" cy="2868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57200" y="380880"/>
            <a:ext cx="5943600" cy="89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Esqueixad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INGREDIENTS PER A QUATRE PERSO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Una penca de bacallà remull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¼  de tomàquets madu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100 gr. d’olives neg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Oli d’oliv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PREPARACIÓ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badi MT Condensed Ligh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Esqueixeu el bacallà i col·loque-lo a la safata on l’heu de serv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badi MT Condensed Ligh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Escaldeu els tomàquets i quan estiguin freds peleu-los. Després els treieu les llavors i els feu a dauets petits. A continuació els poseu sobre el bacallà. Poseu-hi també les oliv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badi MT Condensed Ligh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Amaniu-ho tot amb un bon raig d’oli i ja el teniu a punt per serv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esca" descr=""/>
          <p:cNvPicPr/>
          <p:nvPr/>
        </p:nvPicPr>
        <p:blipFill>
          <a:blip r:embed="rId2"/>
          <a:srcRect l="10866" t="25690" r="35142" b="27330"/>
          <a:stretch/>
        </p:blipFill>
        <p:spPr>
          <a:xfrm>
            <a:off x="4800600" y="3505320"/>
            <a:ext cx="1066680" cy="457200"/>
          </a:xfrm>
          <a:prstGeom prst="rect">
            <a:avLst/>
          </a:prstGeom>
          <a:ln w="0">
            <a:noFill/>
          </a:ln>
        </p:spPr>
      </p:pic>
      <p:pic>
        <p:nvPicPr>
          <p:cNvPr id="48" name="pesca" descr=""/>
          <p:cNvPicPr/>
          <p:nvPr/>
        </p:nvPicPr>
        <p:blipFill>
          <a:blip r:embed="rId3"/>
          <a:srcRect l="10866" t="25690" r="35142" b="27330"/>
          <a:stretch/>
        </p:blipFill>
        <p:spPr>
          <a:xfrm>
            <a:off x="4876920" y="3124080"/>
            <a:ext cx="1066680" cy="457200"/>
          </a:xfrm>
          <a:prstGeom prst="rect">
            <a:avLst/>
          </a:prstGeom>
          <a:ln w="0">
            <a:noFill/>
          </a:ln>
        </p:spPr>
      </p:pic>
      <p:pic>
        <p:nvPicPr>
          <p:cNvPr id="49" name="llapis" descr=""/>
          <p:cNvPicPr/>
          <p:nvPr/>
        </p:nvPicPr>
        <p:blipFill>
          <a:blip r:embed="rId4"/>
          <a:stretch/>
        </p:blipFill>
        <p:spPr>
          <a:xfrm>
            <a:off x="6400800" y="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50" name="">
            <a:hlinkClick r:id="rId5"/>
          </p:cNvPr>
          <p:cNvSpPr/>
          <p:nvPr/>
        </p:nvSpPr>
        <p:spPr>
          <a:xfrm>
            <a:off x="0" y="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380880"/>
            <a:ext cx="6019920" cy="81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Salmó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INGREDIENTS PER A QUATRE PERSON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4 rodanxes de salmó d’uns 150 gr. cada un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S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½ got d’aigu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½ llimon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Unes fulles d’anet fresqu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PREPARACIÓ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badi MT Condensed Ligh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Renteu i  saleu les rodanxes de salmó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badi MT Condensed Ligh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Col·loqueu el peix en un recipient per a microones de manera que les zones més gruixudes de les rodanxes estiguin a la zona externa del recipi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badi MT Condensed Ligh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Poseu l’aigua i el suc de la llimon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badi MT Condensed Ligh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Tapeu i poseu-ho al microones a 500 W durant 8  min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badi MT Condensed Ligh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Serviu-ho amb les fulles d’anet damunt el salmó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badi MT Condensed Ligh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Podeu acompanyar-ho d’unes patates bullid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lat" descr=""/>
          <p:cNvPicPr/>
          <p:nvPr/>
        </p:nvPicPr>
        <p:blipFill>
          <a:blip r:embed="rId1"/>
          <a:stretch/>
        </p:blipFill>
        <p:spPr>
          <a:xfrm>
            <a:off x="0" y="1981080"/>
            <a:ext cx="2895480" cy="2438640"/>
          </a:xfrm>
          <a:prstGeom prst="rect">
            <a:avLst/>
          </a:prstGeom>
          <a:ln w="0">
            <a:noFill/>
          </a:ln>
        </p:spPr>
      </p:pic>
      <p:pic>
        <p:nvPicPr>
          <p:cNvPr id="53" name="pesca" descr=""/>
          <p:cNvPicPr/>
          <p:nvPr/>
        </p:nvPicPr>
        <p:blipFill>
          <a:blip r:embed="rId2"/>
          <a:srcRect l="10866" t="25690" r="35142" b="27330"/>
          <a:stretch/>
        </p:blipFill>
        <p:spPr>
          <a:xfrm>
            <a:off x="990720" y="2895480"/>
            <a:ext cx="914400" cy="522360"/>
          </a:xfrm>
          <a:prstGeom prst="rect">
            <a:avLst/>
          </a:prstGeom>
          <a:ln w="0">
            <a:noFill/>
          </a:ln>
        </p:spPr>
      </p:pic>
      <p:pic>
        <p:nvPicPr>
          <p:cNvPr id="54" name="llapis" descr=""/>
          <p:cNvPicPr/>
          <p:nvPr/>
        </p:nvPicPr>
        <p:blipFill>
          <a:blip r:embed="rId3"/>
          <a:stretch/>
        </p:blipFill>
        <p:spPr>
          <a:xfrm>
            <a:off x="6400800" y="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066680" y="9144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6858000" cy="10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Pastís de pom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INGREDIENTS PER A QUATRE PERSON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 </a:t>
            </a:r>
            <a:r>
              <a:rPr b="0" lang="ca-ES" sz="16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2 p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15 ml. de suc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canyella en po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PREPARACIÓ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badi MT Condensed Ligh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Peleu les pomes i treieu-los les llavors. Partiu-les a làmines prim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badi MT Condensed Ligh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Col·loqueu les làmines  de poma en un bol i poseu per damunt el sucre i la canyella al vostre gu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badi MT Condensed Ligh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Engreixeu un recipient per a microones de forma rodona i costats alts amb mantega i pa ratll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badi MT Condensed Ligh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Barregeu la mantega i el sucre de la pasta. Afegiu l’ou i continueu remenant. Incorporeu la llet i per últim la farina barrejada amb el llevat. Barregeu-ho tot fins a tenir una pasta homogènia i poseu-la al fons del recipient que posareu al for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badi MT Condensed Ligh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Col·loque damunt les làmines de poma de manera que facin bonic. Poseu-hi el suc que s’ha format en el bol per damunt de les pom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badi MT Condensed Ligh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Coeu el pastís en el microones primer sense tapa  a 350W durant 6 minuts i després amb tapa a 750 W durant tres minut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badi MT Condensed Ligh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Per poder menjar el pastís heu d’esperar que es refred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181480" y="1905120"/>
            <a:ext cx="1676520" cy="32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Per a fer la past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75 gr. de mante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1 dl. d’aigu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1 o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1 ½ dl. de l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3  dl. de far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1 sobre de llev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2971800"/>
            <a:ext cx="167652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Pel untar el recipient</a:t>
            </a:r>
            <a:r>
              <a:rPr b="0" lang="en-US" sz="16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Mante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Pa ratll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astis" descr=""/>
          <p:cNvPicPr/>
          <p:nvPr/>
        </p:nvPicPr>
        <p:blipFill>
          <a:blip r:embed="rId1"/>
          <a:stretch/>
        </p:blipFill>
        <p:spPr>
          <a:xfrm>
            <a:off x="2209680" y="990720"/>
            <a:ext cx="3124440" cy="2819160"/>
          </a:xfrm>
          <a:prstGeom prst="rect">
            <a:avLst/>
          </a:prstGeom>
          <a:ln w="0">
            <a:noFill/>
          </a:ln>
        </p:spPr>
      </p:pic>
      <p:pic>
        <p:nvPicPr>
          <p:cNvPr id="62" name="poma" descr=""/>
          <p:cNvPicPr/>
          <p:nvPr/>
        </p:nvPicPr>
        <p:blipFill>
          <a:blip r:embed="rId2"/>
          <a:stretch/>
        </p:blipFill>
        <p:spPr>
          <a:xfrm>
            <a:off x="2971800" y="1523880"/>
            <a:ext cx="1600200" cy="1170000"/>
          </a:xfrm>
          <a:prstGeom prst="rect">
            <a:avLst/>
          </a:prstGeom>
          <a:ln w="0">
            <a:noFill/>
          </a:ln>
        </p:spPr>
      </p:pic>
      <p:pic>
        <p:nvPicPr>
          <p:cNvPr id="63" name="llapis" descr=""/>
          <p:cNvPicPr/>
          <p:nvPr/>
        </p:nvPicPr>
        <p:blipFill>
          <a:blip r:embed="rId3"/>
          <a:stretch/>
        </p:blipFill>
        <p:spPr>
          <a:xfrm>
            <a:off x="6400800" y="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8T16:08:15Z</dcterms:created>
  <dc:creator>Rosa Olivé Ollé</dc:creator>
  <dc:description/>
  <dc:language>en-US</dc:language>
  <cp:lastModifiedBy>PIE</cp:lastModifiedBy>
  <dcterms:modified xsi:type="dcterms:W3CDTF">2003-01-07T17:51:57Z</dcterms:modified>
  <cp:revision>12</cp:revision>
  <dc:subject/>
  <dc:title>Presentación de PowerPoint</dc:title>
</cp:coreProperties>
</file>