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3AA-BEC1-4F7D-B452-4482F342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C39-2430-4E0B-9C86-5F23D46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2FC-29EE-4274-997E-FC1CDCA2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169-7191-4608-AABE-71A6A41F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255-94CB-4C80-9CF4-B4CB5B53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270-98EE-45F5-948D-ABA550F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E45-186A-4CFE-84BB-9927607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A0C-3B37-4113-A19A-77311C2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8D6-7F6F-4C8F-A492-431AD2CF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F90-008A-4C74-AE92-C99E3C9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FD4-0BE6-4261-8B8B-9DDD20D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9D9-A09E-4B09-A40F-7E3BE25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2EAB-7AEF-4354-9123-9FB1255F1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1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empus Sans ITC"/>
                <a:ea typeface="Arial"/>
              </a:rPr>
              <a:t>Endevinalles </a:t>
            </a:r>
            <a:r>
              <a:rPr b="0" lang="ca-ES" sz="4400" spc="-1" strike="noStrike">
                <a:solidFill>
                  <a:srgbClr val="3333cc"/>
                </a:solidFill>
                <a:latin typeface="Tempus Sans ITC"/>
                <a:ea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er sobre un ter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esprés d’un ruix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rt un sen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le de c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Lucida Handwriting"/>
                <a:ea typeface="Arial"/>
              </a:rPr>
              <a:t>Paleta gran de pint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Lucida Handwriting"/>
                <a:ea typeface="Arial"/>
              </a:rPr>
              <a:t>pot immens de color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Lucida Handwriting"/>
                <a:ea typeface="Arial"/>
              </a:rPr>
              <a:t>entre el sol i l’horitz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di1"/>
                <a:ea typeface="Arial"/>
              </a:rPr>
              <a:t>De cotó fluix uns grans flo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di1"/>
                <a:ea typeface="Arial"/>
              </a:rPr>
              <a:t>que el vent fa moure com vol</a:t>
            </a:r>
            <a:r>
              <a:rPr b="0" lang="es-ES_tradnl" sz="2800" spc="-1" strike="noStrike">
                <a:solidFill>
                  <a:srgbClr val="000000"/>
                </a:solidFill>
                <a:latin typeface="adi1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lapis" descr=""/>
          <p:cNvPicPr/>
          <p:nvPr/>
        </p:nvPicPr>
        <p:blipFill>
          <a:blip r:embed="rId1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6705720" y="1371600"/>
            <a:ext cx="2209680" cy="100008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3366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D14790_" descr=""/>
          <p:cNvPicPr/>
          <p:nvPr/>
        </p:nvPicPr>
        <p:blipFill>
          <a:blip r:embed="rId2"/>
          <a:stretch/>
        </p:blipFill>
        <p:spPr>
          <a:xfrm>
            <a:off x="5791320" y="60948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Cloud"/>
          <p:cNvSpPr/>
          <p:nvPr/>
        </p:nvSpPr>
        <p:spPr>
          <a:xfrm>
            <a:off x="4648320" y="1371600"/>
            <a:ext cx="2514600" cy="12286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D21303_" descr=""/>
          <p:cNvPicPr/>
          <p:nvPr/>
        </p:nvPicPr>
        <p:blipFill>
          <a:blip r:embed="rId4"/>
          <a:stretch/>
        </p:blipFill>
        <p:spPr>
          <a:xfrm>
            <a:off x="0" y="4724280"/>
            <a:ext cx="914400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29600" y="2438280"/>
            <a:ext cx="228600" cy="3812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51460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812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48720" y="365760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8200" y="350532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320040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274320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4038480"/>
            <a:ext cx="228600" cy="3812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114800"/>
            <a:ext cx="228600" cy="380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3124080"/>
            <a:ext cx="228600" cy="3812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0"/>
            <a:ext cx="8382240" cy="66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cc"/>
                </a:solidFill>
                <a:latin typeface="Arial"/>
                <a:ea typeface="Arial"/>
              </a:rPr>
              <a:t>Classes de núv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No tots els núvols són iguals. Empesos pel vent, els núvols es desplacen pel cel i es van modificant constantment a causa de l’escalfor del Sol. El cel és com un edifici amb núvols diferents a cada repl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En el nivell més bai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Estratocúmulus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 Semblen grans rotllos de color gris que formen franges paral·leles i cobreixen grans superfícies del cel. No solen crear plu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Nimboestratus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 Formen un sostre de núvols molt grisos i uniformes que amaguen el Sol. Sovint van acompanyats de núvols baixos que produeixen pluges  i nev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Estratus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 Són núvols baixos que formen una capa uniforme i relativament gran, són semblants a la boira, però no toquen a ter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Provoquen ruix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En el segon nivel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Altocúmulus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 Formen un sostre fet de flocs o masses globulars en forma de col-i-flors. Anuncien un canvi de temps i es veuen sovint abans dels tempor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Altoestratus: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Núvol mitjà que constitueix un banc de núvols de color blanc o gris i d’aspecte estri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En el nivell més al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Cirrocúmulus: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 Igual que els cirroestratus aquests núvols estan formats de minúsculs cristalls de glaç. Tenen forma de petits cabdells blancs, de boles o de petites ones. Anuncien f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Cirrostratus: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tenen forma d’un vel blanquinós i tènue, format per cristalls de glaç, que dibuixa un cercle al voltant de la Lluna o el S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a-ES" sz="1200" spc="-1" strike="noStrike">
                <a:solidFill>
                  <a:srgbClr val="000000"/>
                </a:solidFill>
                <a:latin typeface="Arial"/>
                <a:ea typeface="Arial"/>
              </a:rPr>
              <a:t>Mega 3. Lectures. Editorial Vicens V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lapis" descr=""/>
          <p:cNvPicPr/>
          <p:nvPr/>
        </p:nvPicPr>
        <p:blipFill>
          <a:blip r:embed="rId1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0"/>
            <a:ext cx="89154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Arial"/>
                <a:ea typeface="Arial"/>
              </a:rPr>
              <a:t>En Cintet i els núv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n Cintet mirava els núvols. Tan bon punt tenia un moment lliure s’estirava de panxa enlaire i contemplava els núv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Tenia molta fantasia i s’entretenia descrivint la forma que tenia cada un d’e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 elefant que es grata el cap amb la trom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a bruixa a cavall d’una aspiradora elèct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a oreneta que dansa la dansa de les h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flabiolaire de la Principal de la Bisb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Tots els qui el coneixien no entenien la seva afició. Uns es preocupav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Què en farem d’un noi que es passa tot el dia mirant els núvo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D’altres el criticav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</a:t>
            </a: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Jo m’avorriria tot el dia fent el mateix. No sé què hi trob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nen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1143000" cy="966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10280" y="2286000"/>
            <a:ext cx="1828800" cy="1600200"/>
          </a:xfrm>
          <a:prstGeom prst="cloudCallout">
            <a:avLst>
              <a:gd name="adj1" fmla="val -65365"/>
              <a:gd name="adj2" fmla="val 2867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elefant" descr=""/>
          <p:cNvPicPr/>
          <p:nvPr/>
        </p:nvPicPr>
        <p:blipFill>
          <a:blip r:embed="rId2"/>
          <a:stretch/>
        </p:blipFill>
        <p:spPr>
          <a:xfrm>
            <a:off x="7391520" y="2590920"/>
            <a:ext cx="1117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0"/>
            <a:ext cx="8610480" cy="69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I en Cintet, que ignorava totes aquestes raons, no parava. Estirat panxa enlaire anava d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 dimoni amb una banya més llarga que l’al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a capitana dels mossos d’esquadra tocant el cornetí de pis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 pirata informàtic amb un ull tap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a guita de la Patum de Be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a pipa del papa del P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 avet que vol passar desapercebut perquè s’acosta Nada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a vegada, pels volts de Sant Jaume, a les dues del migdia, feia un sol que estavellava les pedres. L’home del temps havia dit que hi havia un anticicló instal·lat al Golf de Lleó com si fos a cal sogre, ben decidit a impedir cap canvi de temps. Però vingut de no se sap on, va passar un núvol escadusser que va merèixer unes de les habituals frases d’en Cinte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Un para-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I efectivament, per uns moments tots van gaudir de l’ombra del núvol i van pensar que l’observació d’en Cintet era plenament ence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r>
              <a:rPr b="0" lang="ca-ES" sz="1000" spc="-1" strike="noStrike">
                <a:solidFill>
                  <a:srgbClr val="000000"/>
                </a:solidFill>
                <a:latin typeface="Trebuchet MS"/>
                <a:ea typeface="Arial"/>
              </a:rPr>
              <a:t>Albert Jané. Cavall  Fort n.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lapis" descr=""/>
          <p:cNvPicPr/>
          <p:nvPr/>
        </p:nvPicPr>
        <p:blipFill>
          <a:blip r:embed="rId1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O01038_" descr=""/>
          <p:cNvPicPr/>
          <p:nvPr/>
        </p:nvPicPr>
        <p:blipFill>
          <a:blip r:embed="rId2"/>
          <a:stretch/>
        </p:blipFill>
        <p:spPr>
          <a:xfrm>
            <a:off x="7902720" y="1371600"/>
            <a:ext cx="1241280" cy="124920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5715000" y="1905120"/>
            <a:ext cx="2819520" cy="84744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0"/>
            <a:ext cx="838224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Arial"/>
                <a:ea typeface="Arial"/>
              </a:rPr>
              <a:t>Com fer un mòbil de núv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NECESSITAR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 </a:t>
            </a: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3 Pals de fusta rectes, no gaire gruixuts però resistents, de 40 cm. de lla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Fil de pes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Cotó flu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Paper de celofana del color que volgueu fer els núvols: blau, groc, taronja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Una grap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loud"/>
          <p:cNvSpPr/>
          <p:nvPr/>
        </p:nvSpPr>
        <p:spPr>
          <a:xfrm>
            <a:off x="4419720" y="1371600"/>
            <a:ext cx="1066680" cy="4572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loud"/>
          <p:cNvSpPr/>
          <p:nvPr/>
        </p:nvSpPr>
        <p:spPr>
          <a:xfrm>
            <a:off x="5791320" y="1066680"/>
            <a:ext cx="1066680" cy="4572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loud"/>
          <p:cNvSpPr/>
          <p:nvPr/>
        </p:nvSpPr>
        <p:spPr>
          <a:xfrm>
            <a:off x="6553080" y="1600200"/>
            <a:ext cx="1067040" cy="45720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loud"/>
          <p:cNvSpPr/>
          <p:nvPr/>
        </p:nvSpPr>
        <p:spPr>
          <a:xfrm>
            <a:off x="7238880" y="685800"/>
            <a:ext cx="1067040" cy="4572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952880" y="838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248520" y="837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91320" y="533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533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3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533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685800"/>
            <a:ext cx="739116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Dibuixeu i retalleu vuit núvols en el paper de cel·lofana. N’heu de fer dos de cada i han de ser una mica gra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Feu una mena d’entrepà amb els dos núvols iguals, posant al mig una mica de cotó fluix i grapeu el voltant perquè no caigui el cot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Amb una grapa, enganxeu  un tros de fil de pescar d’uns vint-i-vinc centímetres en un dels extrems de cada núv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Lligueu un fil de pescar al centre de cada 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Lligueu els fils dels que pengen els núvols als extrems de dos dels pals, de manera que us queden dos pals amb dos núvols cada un i amb un fil lligat al m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Lligue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  <a:ea typeface="Arial"/>
              </a:rPr>
              <a:t>u</a:t>
            </a:r>
            <a:r>
              <a:rPr b="0" lang="ca-ES" sz="2400" spc="-1" strike="noStrike">
                <a:solidFill>
                  <a:srgbClr val="000000"/>
                </a:solidFill>
                <a:latin typeface="Garamond"/>
                <a:ea typeface="Arial"/>
              </a:rPr>
              <a:t> els dos fils lliures de cada pal que té núvols enganxats, als extrems del tercer pal i ja teniu el mòbil a punt per penjar on vulgu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lapis" descr=""/>
          <p:cNvPicPr/>
          <p:nvPr/>
        </p:nvPicPr>
        <p:blipFill>
          <a:blip r:embed="rId1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loud"/>
          <p:cNvSpPr/>
          <p:nvPr/>
        </p:nvSpPr>
        <p:spPr>
          <a:xfrm>
            <a:off x="380880" y="228600"/>
            <a:ext cx="1067040" cy="4572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loud"/>
          <p:cNvSpPr/>
          <p:nvPr/>
        </p:nvSpPr>
        <p:spPr>
          <a:xfrm>
            <a:off x="0" y="1828800"/>
            <a:ext cx="1066680" cy="4572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loud"/>
          <p:cNvSpPr/>
          <p:nvPr/>
        </p:nvSpPr>
        <p:spPr>
          <a:xfrm>
            <a:off x="304920" y="3352680"/>
            <a:ext cx="1066680" cy="45720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loud"/>
          <p:cNvSpPr/>
          <p:nvPr/>
        </p:nvSpPr>
        <p:spPr>
          <a:xfrm>
            <a:off x="0" y="4952880"/>
            <a:ext cx="1066680" cy="45720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10:58:05Z</dcterms:created>
  <dc:creator>Rosa Olivé Ollé</dc:creator>
  <dc:description/>
  <dc:language>en-US</dc:language>
  <cp:lastModifiedBy>PIE</cp:lastModifiedBy>
  <dcterms:modified xsi:type="dcterms:W3CDTF">2003-01-07T17:54:51Z</dcterms:modified>
  <cp:revision>14</cp:revision>
  <dc:subject/>
  <dc:title>Presentación de PowerPoint</dc:title>
</cp:coreProperties>
</file>