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B07-E597-4763-8822-F281BA7D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E54-B11B-4A93-B9D1-0924FD19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8FB-DADB-4B21-83B8-BEA61A30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6D3-0D84-4FB2-99DE-4725ADBF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337-C9CE-4185-B49F-B1787D3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283-D49A-4108-B8D7-613FFAE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AE3-7DCD-4686-A517-AD0C02F6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516-FD60-44D2-B85E-85FAF09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153-4343-497D-92E1-0EEEC720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9EC-1680-42FD-A7AA-9FA6105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127-A743-4410-85D9-D532A4A7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F4E-026E-4E1D-B3A1-407A00F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A5B-F468-49D9-971E-B0FDF55D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text.ppt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Trebuchet MS"/>
                <a:ea typeface="Arial"/>
              </a:rPr>
              <a:t>EL MUS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En el museu de Montserrat situat a la Plaça de Santa Maria hi ha una interessant secció dedicada a l’Arqueologia de l’Orient Bíblic. La majoria de peces van ser comprades per un monjo, el pare Bonaventura Ubac, que va viatjar per l’Orient mitjà, a començaments del segle vint. Entre les peces que s’hi poden contemplar cal destacar una autèntica mòmia egíp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L’altre plat fort del museu és la secció de pintura i escultura modernes on hi podem trobar peces  de Picasso, Dalí, Tàpies, le Corbussier, Casas, Mir, Nonell i Rusiny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mpleten l’exposició peces d’orfebreria i pintura  dedicades a la Mare de Déu de Montserrat</a:t>
            </a:r>
            <a:r>
              <a:rPr b="1" lang="ca-ES" sz="2800" spc="-1" strike="noStrike">
                <a:solidFill>
                  <a:srgbClr val="ccff66"/>
                </a:solidFill>
                <a:latin typeface="Trebuchet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21309_" descr=""/>
          <p:cNvPicPr/>
          <p:nvPr/>
        </p:nvPicPr>
        <p:blipFill>
          <a:blip r:embed="rId1"/>
          <a:stretch/>
        </p:blipFill>
        <p:spPr>
          <a:xfrm flipH="1" rot="10800000">
            <a:off x="0" y="837720"/>
            <a:ext cx="9144000" cy="144720"/>
          </a:xfrm>
          <a:prstGeom prst="rect">
            <a:avLst/>
          </a:prstGeom>
          <a:ln w="0">
            <a:noFill/>
          </a:ln>
        </p:spPr>
      </p:pic>
      <p:pic>
        <p:nvPicPr>
          <p:cNvPr id="43" name="BD21309_" descr=""/>
          <p:cNvPicPr/>
          <p:nvPr/>
        </p:nvPicPr>
        <p:blipFill>
          <a:blip r:embed="rId2"/>
          <a:stretch/>
        </p:blipFill>
        <p:spPr>
          <a:xfrm flipH="1" rot="10800000">
            <a:off x="0" y="6400440"/>
            <a:ext cx="9144000" cy="1443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lapis" descr=""/>
          <p:cNvPicPr/>
          <p:nvPr/>
        </p:nvPicPr>
        <p:blipFill>
          <a:blip r:embed="rId4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0"/>
            <a:ext cx="8534160" cy="65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  <a:ea typeface="Arial"/>
              </a:rPr>
              <a:t>A peu de Sant Joan a Sant Jer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ccff66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  <a:ea typeface="Arial"/>
              </a:rPr>
              <a:t>Un cop hagueu arribat a la plaça del monestir agafeu el funicular que us durà a Sant Joan. Quan baixeu del funicular, heu de seguir el camí de la dreta. És un camí ample i ben senyalitzat que va carenant i que us permet tenir una bona vista  tant del monestir com de la plana que envolta la muntany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  <a:ea typeface="Arial"/>
              </a:rPr>
              <a:t>Aquest camí us permet passar per sota d’alguns dels cims més emblemàtics de la muntanya, com el Gorro Fri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  <a:ea typeface="Arial"/>
              </a:rPr>
              <a:t>Després d’una primera part d’uns tres quants d’hora en la que le camí té una vegetació d’alzines i matolls, trobareu el camí que després us durà de tornada a la plaça del monestir, però encara no l’heu d’agafar. Heu de seguir carenant fins arribar a la capella de Sant Jeroni. Un quart d’hora més. Des d’allà agafeu un camí amb una forta pujada, que acaba en una escala i que us durà al cim. Un esplèndid mirador. Necessitareu uns vint minuts per assolir el c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  <a:ea typeface="Arial"/>
              </a:rPr>
              <a:t>Per baixar heu de refer el camí i quan trobeu la cruïlla que heu passat anteriorment agafeu el camí que baixa, ja està indicat, diu:     “al monestir”. Per baixar trigareu aproximadament uns tres quarts d’h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  <a:ea typeface="Arial"/>
              </a:rPr>
              <a:t>El camí que baixa, a trossos, va seguit un torrent, es per això que no és recomanable de fer aquesta excursió si pl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D21313_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48" name="BD21313_" descr=""/>
          <p:cNvPicPr/>
          <p:nvPr/>
        </p:nvPicPr>
        <p:blipFill>
          <a:blip r:embed="rId2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lapis" descr=""/>
          <p:cNvPicPr/>
          <p:nvPr/>
        </p:nvPicPr>
        <p:blipFill>
          <a:blip r:embed="rId3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5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  <a:ea typeface="Arial"/>
              </a:rPr>
              <a:t>EL CAVALL BER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Conten que una vegada hi havia un pobre llenyataire que vivia de recollir llenya a la muntanya de Montserrat, però, com que era tan pobre, no tenia cap cavall ni cap ase per poder carregar la llenya i ells havia de carretejar els feixos des de dalt dels turons fins a baix als pobles on la v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Un dia es lamentava de la seva desgràcia. “Si al menys pogués tenir un cavall, podria carregar més llenya, jo no em cansaria tant i guanyaria més diners” . Amb aquestes que va passar per allà un cavaller amb el seu cavall negre i li va d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Handwri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Us deixo el meu cavall amb la condició que quan jo torni me n’heu de donar un altre d’igual si no hauràs de venir amb mi per servir-me en tot allò que et man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Handwri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D’acord - va dir el llenyataire sense pensar-s’ho dues veg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21332_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91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86104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I així anava treballant més descansat i poguén dur més llenya al mercat, ja no era tan pobre i mica en mica el temps anava passant i ell anava oblidant la promesa que li havia fet al cavall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Fins que un dia al cap de molts anys el cavaller, que no era d’altre sinó el diable, va tornar a aparèixer i li va demanar el cavall igual que el que ell li havia deixat. El pagès que va veure quina una li esperava va començar a tremolar i es va encomanar a la Mare de Déu de Montserrat. La Mare de Déu va sentir pena per ell i va convertir el cavall del llenyataire en una roca. En veure això el pobre home es va veure salvat i li va poder dir al dimo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Handwriting"/>
                <a:ea typeface="Times New Roman"/>
              </a:rPr>
              <a:t>- </a:t>
            </a: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Doncs vos mateix, podeu agafar un altre cavall igual que el que em vareu deixar, trieu que aquí n’hi ha tants com vulgue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Lucida Handwriting"/>
                <a:ea typeface="Arial"/>
              </a:rPr>
              <a:t>I així va ser com el dimoni se’n va haver d’anar amb la cua entre cames i des d’aleshores aquella roca es coneix amb el nom de “cavall Berna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32_" descr=""/>
          <p:cNvPicPr/>
          <p:nvPr/>
        </p:nvPicPr>
        <p:blipFill>
          <a:blip r:embed="rId1"/>
          <a:stretch/>
        </p:blipFill>
        <p:spPr>
          <a:xfrm>
            <a:off x="0" y="6338880"/>
            <a:ext cx="9144000" cy="519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lapis" descr=""/>
          <p:cNvPicPr/>
          <p:nvPr/>
        </p:nvPicPr>
        <p:blipFill>
          <a:blip r:embed="rId2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0"/>
            <a:ext cx="77724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  <a:ea typeface="Arial"/>
              </a:rPr>
              <a:t>SITUACIÓ GEOGRÀ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Situada en un punt estratègic de la geografia catalana, molt a prop  del centre geogràfic, la muntanya de Montserrat és troba aïllada al mig d’una pl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Té uns vint kilòmetres de llargària i uns deu d’amplà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La seva silueta tan característica és deguda a què en un origen estava constituïda per conglomerat barrejat amb altres roques més toves. Les roques més toves han desaparegut amb l’erosió de l’aigua i el vent i ha quedat la silueta que tots coneixem, amb unes agulles que sobresurten del c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Es pot veure des de molts indrets de la geografia catalana i és fàcilment reconeixibles des de qualsevol dels punts des del que l’observ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21324_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BD21324_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BD21324_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BD21324_" descr=""/>
          <p:cNvPicPr/>
          <p:nvPr/>
        </p:nvPicPr>
        <p:blipFill>
          <a:blip r:embed="rId4"/>
          <a:stretch/>
        </p:blipFill>
        <p:spPr>
          <a:xfrm>
            <a:off x="0" y="12193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BD21324_" descr=""/>
          <p:cNvPicPr/>
          <p:nvPr/>
        </p:nvPicPr>
        <p:blipFill>
          <a:blip r:embed="rId5"/>
          <a:stretch/>
        </p:blipFill>
        <p:spPr>
          <a:xfrm>
            <a:off x="0" y="58672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BD21324_" descr=""/>
          <p:cNvPicPr/>
          <p:nvPr/>
        </p:nvPicPr>
        <p:blipFill>
          <a:blip r:embed="rId6"/>
          <a:stretch/>
        </p:blipFill>
        <p:spPr>
          <a:xfrm>
            <a:off x="0" y="60199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lapis" descr=""/>
          <p:cNvPicPr/>
          <p:nvPr/>
        </p:nvPicPr>
        <p:blipFill>
          <a:blip r:embed="rId7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20:13:31Z</dcterms:created>
  <dc:creator>Rosa Olivé Ollé</dc:creator>
  <dc:description/>
  <dc:language>en-US</dc:language>
  <cp:lastModifiedBy>PIE</cp:lastModifiedBy>
  <dcterms:modified xsi:type="dcterms:W3CDTF">2003-01-07T17:55:39Z</dcterms:modified>
  <cp:revision>7</cp:revision>
  <dc:subject/>
  <dc:title>Presentación de PowerPoint</dc:title>
</cp:coreProperties>
</file>