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4B-CD74-4FB8-B579-5C521C38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D50-C67B-45A7-8A28-CD8DF54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5EB-F519-4E20-94EF-93F63710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C7E-85D9-4698-8CCA-04CC206A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7BA-BDF4-47B9-97ED-485DBF69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457-8318-4156-803F-A4579D14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177-271E-4C11-9C7D-1C193EC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5F3-52E9-4ED7-B99D-D280C880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B48-1FD3-4702-89E8-7F4519B7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737-E8C0-4870-9DC2-8D658E3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0F0-1148-4A92-9ECF-9B93F20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660-14BA-41ED-92E7-5DFFA96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53F-7173-44E6-A233-52F36E2A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ít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lapis" descr=""/>
          <p:cNvPicPr/>
          <p:nvPr/>
        </p:nvPicPr>
        <p:blipFill>
          <a:blip r:embed="rId2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lapis" descr=""/>
          <p:cNvPicPr/>
          <p:nvPr/>
        </p:nvPicPr>
        <p:blipFill>
          <a:blip r:embed="rId1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534520" y="29718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297180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lapis" descr=""/>
          <p:cNvPicPr/>
          <p:nvPr/>
        </p:nvPicPr>
        <p:blipFill>
          <a:blip r:embed="rId2"/>
          <a:stretch/>
        </p:blipFill>
        <p:spPr>
          <a:xfrm>
            <a:off x="8589960" y="0"/>
            <a:ext cx="55404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0948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u el model de text aq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22:15:41Z</dcterms:created>
  <dc:creator>Rosa Olivé Ollé</dc:creator>
  <dc:description/>
  <dc:language>en-US</dc:language>
  <cp:lastModifiedBy>Rosa Olivé Ollé</cp:lastModifiedBy>
  <dcterms:modified xsi:type="dcterms:W3CDTF">2002-01-05T22:17:01Z</dcterms:modified>
  <cp:revision>2</cp:revision>
  <dc:subject/>
  <dc:title>Presentación de PowerPoint</dc:title>
</cp:coreProperties>
</file>