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33C2-AA12-4571-9EFB-A613F7FB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E121-CB52-4CF5-B913-FD374E67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AB8-C7C8-4F1E-904A-EC7FDC8D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4D8-4F2D-4230-A5C2-11279701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CCFB-4B2E-4853-9600-5B6DAD5E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55E7-5A40-4E69-A1D9-3848E14D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BED-ABD0-4B3B-ADBF-C98C45D1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2AB0-5EF6-4232-8CC0-77A0702B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BAEA-FB9C-456D-9CDB-F742F794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CC68-16DD-4BC7-942A-A31C42E8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93C7-1429-4564-8694-6856B666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99A7-6A2B-4E61-9552-55942D33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5EE6-32C0-4EB2-842B-E1E493A94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ampanya.ppt#Slide 1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9051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600" spc="-1" strike="noStrike">
                <a:solidFill>
                  <a:srgbClr val="000000"/>
                </a:solidFill>
                <a:latin typeface="Tempus Sans ITC"/>
              </a:rPr>
              <a:t>EL MODEL  TEXTUAL INSTRUCTIU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s instrucc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s instrucc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ón textos  que exposen de manera molt clara dels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  <a:ea typeface="Times New Roman"/>
              </a:rPr>
              <a:t>processos, ordres o obligac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que cal fer en un cas determina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s instrucc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s una</a:t>
            </a:r>
            <a:r>
              <a:rPr b="1" lang="ca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ca-ES" sz="3200" spc="-1" strike="noStrike">
                <a:solidFill>
                  <a:srgbClr val="6600ff"/>
                </a:solidFill>
                <a:latin typeface="Comic Sans MS"/>
                <a:ea typeface="Times New Roman"/>
              </a:rPr>
              <a:t>informació objectiva</a:t>
            </a:r>
            <a:r>
              <a:rPr b="1" lang="ca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ca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ca-ES" sz="3200" spc="-1" strike="noStrike">
                <a:solidFill>
                  <a:srgbClr val="6600ff"/>
                </a:solidFill>
                <a:latin typeface="Comic Sans MS"/>
                <a:ea typeface="Times New Roman"/>
              </a:rPr>
              <a:t>precisa</a:t>
            </a:r>
            <a:r>
              <a:rPr b="1" lang="ca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0" lang="ca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dactada de </a:t>
            </a:r>
            <a:r>
              <a:rPr b="1" lang="ca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ma </a:t>
            </a:r>
            <a:r>
              <a:rPr b="1" lang="ca-ES" sz="3200" spc="-1" strike="noStrike">
                <a:solidFill>
                  <a:srgbClr val="6600ff"/>
                </a:solidFill>
                <a:latin typeface="Comic Sans MS"/>
                <a:ea typeface="Times New Roman"/>
              </a:rPr>
              <a:t>breu</a:t>
            </a:r>
            <a:r>
              <a:rPr b="0" lang="ca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no sobra ni s’oblida de cap informació essencial..</a:t>
            </a: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s instruccion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br>
              <a:rPr sz="4400"/>
            </a:br>
            <a:r>
              <a:rPr b="1" lang="ca-E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tilitza: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28195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133720"/>
            <a:ext cx="777240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mes verbals</a:t>
            </a:r>
            <a:r>
              <a:rPr b="1" lang="es-ES_tradnl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ca-E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’imperatiu</a:t>
            </a:r>
            <a:r>
              <a:rPr b="1" lang="es-ES_tradnl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2500"/>
              </a:spcBef>
              <a:buClr>
                <a:srgbClr val="6600ff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ff"/>
                </a:solidFill>
                <a:latin typeface="Comic Sans MS"/>
                <a:ea typeface="Times New Roman"/>
              </a:rPr>
              <a:t>r</a:t>
            </a:r>
            <a:r>
              <a:rPr b="0" lang="ca-ES" sz="3200" spc="-1" strike="noStrike">
                <a:solidFill>
                  <a:srgbClr val="6600ff"/>
                </a:solidFill>
                <a:latin typeface="Comic Sans MS"/>
                <a:ea typeface="Times New Roman"/>
              </a:rPr>
              <a:t>especteu</a:t>
            </a:r>
            <a:r>
              <a:rPr b="0" lang="ca-ES" sz="4000" spc="-1" strike="noStrike">
                <a:solidFill>
                  <a:srgbClr val="6600ff"/>
                </a:solidFill>
                <a:latin typeface="Comic Sans MS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2001"/>
              </a:spcBef>
              <a:buClr>
                <a:srgbClr val="6600ff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6600ff"/>
                </a:solidFill>
                <a:latin typeface="Comic Sans MS"/>
                <a:ea typeface="Times New Roman"/>
              </a:rPr>
              <a:t>fe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2001"/>
              </a:spcBef>
              <a:buClr>
                <a:srgbClr val="6600ff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6600ff"/>
                </a:solidFill>
                <a:latin typeface="Comic Sans MS"/>
                <a:ea typeface="Times New Roman"/>
              </a:rPr>
              <a:t>circul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2001"/>
              </a:spcBef>
              <a:buClr>
                <a:srgbClr val="6600ff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6600ff"/>
                </a:solidFill>
                <a:latin typeface="Comic Sans MS"/>
                <a:ea typeface="Times New Roman"/>
              </a:rPr>
              <a:t>agafe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6600ff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6600ff"/>
                </a:solidFill>
                <a:latin typeface="Comic Sans MS"/>
                <a:ea typeface="Times New Roman"/>
              </a:rPr>
              <a:t>recordeu</a:t>
            </a:r>
            <a:r>
              <a:rPr b="0" lang="ca-ES" sz="2400" spc="-1" strike="noStrike">
                <a:solidFill>
                  <a:srgbClr val="6600ff"/>
                </a:solidFill>
                <a:latin typeface="Comic Sans MS"/>
                <a:ea typeface="Times New Roman"/>
              </a:rPr>
              <a:t>,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s instruccion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br>
              <a:rPr sz="4400"/>
            </a:br>
            <a:r>
              <a:rPr b="1" lang="ca-E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tilitz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ífrasis d’obligació</a:t>
            </a:r>
            <a:r>
              <a:rPr b="0" lang="ca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6600ff"/>
                </a:solidFill>
                <a:latin typeface="Comic Sans MS"/>
                <a:ea typeface="Times New Roman"/>
              </a:rPr>
              <a:t>haver de +infinitiu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6600ff"/>
                </a:solidFill>
                <a:latin typeface="Comic Sans MS"/>
                <a:ea typeface="Times New Roman"/>
              </a:rPr>
              <a:t>caldr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6600ff"/>
                </a:solidFill>
                <a:latin typeface="Comic Sans MS"/>
                <a:ea typeface="Times New Roman"/>
              </a:rPr>
              <a:t>ser necessari,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s instruccion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br>
              <a:rPr sz="4400"/>
            </a:br>
            <a:r>
              <a:rPr b="1" lang="ca-E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tilitz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dinal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ca-ES" sz="4400" spc="-1" strike="noStrike">
                <a:solidFill>
                  <a:srgbClr val="6600ff"/>
                </a:solidFill>
                <a:latin typeface="Comic Sans MS"/>
                <a:ea typeface="Times New Roman"/>
              </a:rPr>
              <a:t>primer, segon</a:t>
            </a:r>
            <a:r>
              <a:rPr b="0" lang="es-ES_tradnl" sz="4400" spc="-1" strike="noStrike">
                <a:solidFill>
                  <a:srgbClr val="6600ff"/>
                </a:solidFill>
                <a:latin typeface="Comic Sans MS"/>
                <a:ea typeface="Times New Roman"/>
              </a:rPr>
              <a:t>,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1" lang="ca-E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dinals</a:t>
            </a:r>
            <a:r>
              <a:rPr b="0" lang="ca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ca-ES" sz="4800" spc="-1" strike="noStrike">
                <a:solidFill>
                  <a:srgbClr val="6600ff"/>
                </a:solidFill>
                <a:latin typeface="Comic Sans MS"/>
                <a:ea typeface="Times New Roman"/>
              </a:rPr>
              <a:t>u, dos,.</a:t>
            </a:r>
            <a:r>
              <a:rPr b="0" lang="es-ES_tradnl" sz="4800" spc="-1" strike="noStrike">
                <a:solidFill>
                  <a:srgbClr val="6600ff"/>
                </a:solidFill>
                <a:latin typeface="Comic Sans MS"/>
                <a:ea typeface="Times New Roman"/>
              </a:rPr>
              <a:t>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7621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s instruccions</a:t>
            </a:r>
            <a:br>
              <a:rPr sz="4400"/>
            </a:br>
            <a:r>
              <a:rPr b="1" lang="ca-E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ructura</a:t>
            </a:r>
            <a:r>
              <a:rPr b="0" lang="ca-E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5146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</a:t>
            </a:r>
            <a:r>
              <a:rPr b="0" lang="ca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s fets tenen un ordre lògic: després d’una instrucció ve l’al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038480"/>
            <a:ext cx="4419360" cy="2331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ff"/>
                </a:solidFill>
                <a:latin typeface="Times New Roman"/>
              </a:rPr>
              <a:t>1.Ompliu de llet el g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ff"/>
                </a:solidFill>
                <a:latin typeface="Times New Roman"/>
              </a:rPr>
              <a:t>2.Poseu-lo al micro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ff"/>
                </a:solidFill>
                <a:latin typeface="Times New Roman"/>
              </a:rPr>
              <a:t>3.Cliqueu 1 min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ff"/>
                </a:solidFill>
                <a:latin typeface="Times New Roman"/>
              </a:rPr>
              <a:t>4.Cliqueu el botó d’engeg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ff"/>
                </a:solidFill>
                <a:latin typeface="Times New Roman"/>
              </a:rPr>
              <a:t>5.Quan soni el timbre de fianlització del minut, parar el micrones i obriu-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ff"/>
                </a:solidFill>
                <a:latin typeface="Times New Roman"/>
              </a:rPr>
              <a:t>6.Bebeu la llet cal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s instruccions</a:t>
            </a:r>
            <a:br>
              <a:rPr sz="4400"/>
            </a:br>
            <a:r>
              <a:rPr b="1" lang="ca-E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ructura</a:t>
            </a:r>
            <a:r>
              <a:rPr b="0" lang="ca-E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90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vegades, tenen una distribució en el paper espe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8604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sotw9_temp0" descr=""/>
          <p:cNvPicPr/>
          <p:nvPr/>
        </p:nvPicPr>
        <p:blipFill>
          <a:blip r:embed="rId1"/>
          <a:stretch/>
        </p:blipFill>
        <p:spPr>
          <a:xfrm>
            <a:off x="4343400" y="1295280"/>
            <a:ext cx="4381560" cy="48769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ransition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s instruccions</a:t>
            </a:r>
            <a:br>
              <a:rPr sz="4400"/>
            </a:br>
            <a:r>
              <a:rPr b="1" lang="ca-E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pus de text</a:t>
            </a:r>
            <a:r>
              <a:rPr b="0" lang="ca-E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14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eptes de cuin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4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les de joc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4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dr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4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neig d’aparells i reglamen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4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ns de trebal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4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rmes de comportamen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4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  <a:hlinkClick r:id="rId1"/>
              </a:rPr>
              <a:t>campanyes de conscienciació</a:t>
            </a:r>
            <a:r>
              <a:rPr b="0" lang="ca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17:29:39Z</dcterms:created>
  <dc:creator>Rosa Olivé Ollé</dc:creator>
  <dc:description/>
  <dc:language>en-US</dc:language>
  <cp:lastModifiedBy>Rosa Olivé Ollé</cp:lastModifiedBy>
  <dcterms:modified xsi:type="dcterms:W3CDTF">2002-01-07T11:52:27Z</dcterms:modified>
  <cp:revision>6</cp:revision>
  <dc:subject/>
  <dc:title>Presentación de PowerPoint</dc:title>
</cp:coreProperties>
</file>