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85E-6BD2-4ACF-8967-0217ACEE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2DB-EEB9-464A-BE42-FED92960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C2E-94E9-4326-AA17-88E838FD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635-B126-440C-B067-ADE102AE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9E5-79EE-4E22-A1CD-8EAE8E95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C2C-2631-4E91-AC50-85311295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B70-6EE5-44C7-87B9-F79482D1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C777-2B5B-4B22-AC4E-17EEE528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A1D-7E8A-4351-ABB8-8D1DFD4A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A64E-880A-473F-8F93-70F9FB7D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DC2-FD29-43EE-B7E7-A5028FC7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EDE2-176A-49A2-B005-6813252B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F0F5-CCDC-4CB1-A92B-633093511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ít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>
            <a:hlinkClick r:id="" action="ppaction://hlinkshowjump?jump=previousslide"/>
          </p:cNvPr>
          <p:cNvSpPr/>
          <p:nvPr/>
        </p:nvSpPr>
        <p:spPr>
          <a:xfrm>
            <a:off x="8534520" y="29718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0" y="297180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6497"/>
                </a:moveTo>
                <a:lnTo>
                  <a:pt x="17806" y="13503"/>
                </a:lnTo>
                <a:lnTo>
                  <a:pt x="3794" y="2051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lapis" descr=""/>
          <p:cNvPicPr/>
          <p:nvPr/>
        </p:nvPicPr>
        <p:blipFill>
          <a:blip r:embed="rId2"/>
          <a:stretch/>
        </p:blipFill>
        <p:spPr>
          <a:xfrm>
            <a:off x="8589960" y="0"/>
            <a:ext cx="554040" cy="55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>
            <a:hlinkClick r:id="" action="ppaction://hlinkshowjump?jump=previousslide"/>
          </p:cNvPr>
          <p:cNvSpPr/>
          <p:nvPr/>
        </p:nvSpPr>
        <p:spPr>
          <a:xfrm>
            <a:off x="8534520" y="29718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0" y="297180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6497"/>
                </a:moveTo>
                <a:lnTo>
                  <a:pt x="17806" y="13503"/>
                </a:lnTo>
                <a:lnTo>
                  <a:pt x="3794" y="2051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lapis" descr=""/>
          <p:cNvPicPr/>
          <p:nvPr/>
        </p:nvPicPr>
        <p:blipFill>
          <a:blip r:embed="rId1"/>
          <a:stretch/>
        </p:blipFill>
        <p:spPr>
          <a:xfrm>
            <a:off x="8589960" y="0"/>
            <a:ext cx="554040" cy="55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534520" y="29718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0" y="297180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6497"/>
                </a:moveTo>
                <a:lnTo>
                  <a:pt x="17806" y="13503"/>
                </a:lnTo>
                <a:lnTo>
                  <a:pt x="3794" y="2051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llapis" descr=""/>
          <p:cNvPicPr/>
          <p:nvPr/>
        </p:nvPicPr>
        <p:blipFill>
          <a:blip r:embed="rId1"/>
          <a:stretch/>
        </p:blipFill>
        <p:spPr>
          <a:xfrm>
            <a:off x="8589960" y="0"/>
            <a:ext cx="554040" cy="55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8534520" y="29718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0" y="297180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6497"/>
                </a:moveTo>
                <a:lnTo>
                  <a:pt x="17806" y="13503"/>
                </a:lnTo>
                <a:lnTo>
                  <a:pt x="3794" y="2051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llapis" descr=""/>
          <p:cNvPicPr/>
          <p:nvPr/>
        </p:nvPicPr>
        <p:blipFill>
          <a:blip r:embed="rId1"/>
          <a:stretch/>
        </p:blipFill>
        <p:spPr>
          <a:xfrm>
            <a:off x="8589960" y="0"/>
            <a:ext cx="554040" cy="55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8534520" y="29718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0" y="297180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6497"/>
                </a:moveTo>
                <a:lnTo>
                  <a:pt x="17806" y="13503"/>
                </a:lnTo>
                <a:lnTo>
                  <a:pt x="3794" y="2051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lapis" descr=""/>
          <p:cNvPicPr/>
          <p:nvPr/>
        </p:nvPicPr>
        <p:blipFill>
          <a:blip r:embed="rId2"/>
          <a:stretch/>
        </p:blipFill>
        <p:spPr>
          <a:xfrm>
            <a:off x="8589960" y="0"/>
            <a:ext cx="554040" cy="55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609480" y="990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u el model de text aqu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22:15:41Z</dcterms:created>
  <dc:creator>Rosa Olivé Ollé</dc:creator>
  <dc:description/>
  <dc:language>en-US</dc:language>
  <cp:lastModifiedBy>Rosa Olivé Ollé</cp:lastModifiedBy>
  <dcterms:modified xsi:type="dcterms:W3CDTF">2002-01-05T22:17:01Z</dcterms:modified>
  <cp:revision>2</cp:revision>
  <dc:subject/>
  <dc:title>Presentación de PowerPoint</dc:title>
</cp:coreProperties>
</file>