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7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623-734C-4C2A-9DB2-6794A6A4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22C-EC54-4A82-931C-216B88BD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300-4E01-4403-89D9-488CF5CB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829-9B51-42A6-A1FE-630416CB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105-41EA-48F8-B729-E3C809EB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958-90BE-4C96-9053-C300D8F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F10-944F-44F9-AA0B-AB66423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EC3-6BCE-477A-A122-CB229D34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D16-9FD3-4777-9D8C-461632B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4FA-B39C-465A-A7BF-D19E253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9F8-4165-4556-B457-E3BE34F6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9BC-1EE7-4DB2-BE4E-3C41889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1536-BEDB-4579-BDDF-FF771C39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tec.es/fie/mates/sessions/fitxes/wiris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>
                <a:solidFill>
                  <a:srgbClr val="000000"/>
                </a:solidFill>
                <a:latin typeface="Tahoma"/>
              </a:rPr>
              <a:t>Jornades de treball amb </a:t>
            </a:r>
            <a:r>
              <a:rPr b="0" lang="ca-ES" sz="3600" spc="-1" strike="noStrike" u="sng">
                <a:solidFill>
                  <a:srgbClr val="ff00ff"/>
                </a:solidFill>
                <a:uFillTx/>
                <a:latin typeface="Tahoma"/>
                <a:hlinkClick r:id="rId1"/>
              </a:rPr>
              <a:t>WI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1240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11 i 12 de juliol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SG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ahoma"/>
              </a:rPr>
              <a:t>Primera sess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anefa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326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457200"/>
            <a:ext cx="769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50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n cas de voler “donar un nom” al quocient i al residu, caldrà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r servir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quocient(..,..)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o 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idu(..,..)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(o abreujat,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quo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 es mostra al programa següent, que aplica l’algorism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’Euclides per calcular el màxim comú divisor de dos nombr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n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jorn5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5508360" cy="3222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257800"/>
            <a:ext cx="769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1250"/>
              </a:spcBef>
              <a:buSzPct val="102950"/>
              <a:buBlip>
                <a:blip r:embed="rId3"/>
              </a:buBlip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quest programa s’ha mostrat com exemple; tot seguit 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enten les comandes que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WIRI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té incorporades en l’àmbi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 la divisibilitat, per a nombres enters i polinom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800100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a-ES" sz="2500" spc="-1" strike="noStrike">
                <a:solidFill>
                  <a:srgbClr val="000000"/>
                </a:solidFill>
                <a:latin typeface="Tahoma"/>
              </a:rPr>
              <a:t>Divisibilitat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andes fonamentals disponibles a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WIR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primer? (..)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respon si un nombre enter (que pot ser un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“enter llarg”) és o no pr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factoritza(..)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óna la descomposició factorial d’un nombr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nter o d’un polinomi. En aquest darrer cas hi ha la varian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factoritza(.., </a:t>
            </a:r>
            <a:r>
              <a:rPr b="0" lang="ca-ES" sz="2000" spc="-1" strike="noStrike">
                <a:solidFill>
                  <a:srgbClr val="3333cc"/>
                </a:solidFill>
                <a:latin typeface="Old Style Bold Outline"/>
              </a:rPr>
              <a:t>C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).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Es pot fer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A=factoritza(..)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  Què és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mcd(.., .., .....)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mcm(.., .., .....)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s’apliquen a dos o mé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rguments, nombres enters o polinomis.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divisors(..)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óna la llista de tots els divisors positius d’un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r comprovar si un nombre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és divisor d’un altre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podem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r servi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residu de la divisió o bé 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és? (B/A, </a:t>
            </a:r>
            <a:r>
              <a:rPr b="0" lang="ca-ES" sz="2000" spc="-1" strike="noStrike">
                <a:solidFill>
                  <a:srgbClr val="3333cc"/>
                </a:solidFill>
                <a:latin typeface="Old Style Bold Outline"/>
              </a:rPr>
              <a:t>Z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Feu prove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anefa2" descr=""/>
          <p:cNvPicPr/>
          <p:nvPr/>
        </p:nvPicPr>
        <p:blipFill>
          <a:blip r:embed="rId8"/>
          <a:stretch/>
        </p:blipFill>
        <p:spPr>
          <a:xfrm>
            <a:off x="609480" y="380880"/>
            <a:ext cx="398952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04920"/>
            <a:ext cx="8001000" cy="63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Canvis d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comanda 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canvia_de_bas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rmet fer la transformació d’un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enter escrit en base 10 a una altra base o recíproca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canvia_de_base(nombre, base)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dóna com a resposta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’expressió del nombre (que s’entén en base 10 inicialment)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crit en la nova base. Es dóna com un vector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[ .. .. ..  ]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ençant per la xifra de les unita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xe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canvia_de_base([ .. .. ..  ]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, base)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ntén que se li dóna un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en una certa base (que es dóna com un vector,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mençant per les unitats) i retorna el nombre en base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  <a:tab algn="l" pos="5934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xemple: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odeu fer alguna prova. I tot seguit teniu propost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anefa2" descr=""/>
          <p:cNvPicPr/>
          <p:nvPr/>
        </p:nvPicPr>
        <p:blipFill>
          <a:blip r:embed="rId5"/>
          <a:stretch/>
        </p:blipFill>
        <p:spPr>
          <a:xfrm>
            <a:off x="228600" y="380880"/>
            <a:ext cx="3989520" cy="594000"/>
          </a:xfrm>
          <a:prstGeom prst="rect">
            <a:avLst/>
          </a:prstGeom>
          <a:ln w="0">
            <a:noFill/>
          </a:ln>
        </p:spPr>
      </p:pic>
      <p:pic>
        <p:nvPicPr>
          <p:cNvPr id="91" name="jorn6" descr=""/>
          <p:cNvPicPr/>
          <p:nvPr/>
        </p:nvPicPr>
        <p:blipFill>
          <a:blip r:embed="rId6"/>
          <a:stretch/>
        </p:blipFill>
        <p:spPr>
          <a:xfrm>
            <a:off x="3200400" y="2971800"/>
            <a:ext cx="536112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jorn7" descr=""/>
          <p:cNvPicPr/>
          <p:nvPr/>
        </p:nvPicPr>
        <p:blipFill>
          <a:blip r:embed="rId7"/>
          <a:stretch/>
        </p:blipFill>
        <p:spPr>
          <a:xfrm>
            <a:off x="3276720" y="5410080"/>
            <a:ext cx="410364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533520"/>
            <a:ext cx="8153640" cy="60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Algunes propost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la majoria de l’antic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Preu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nombre 2002 és el producte de quatre factors primers. Quin serà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proper any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mb aquesta propietat? Quants n’hi haurà al llarg d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egle XX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mostreu que sigui el que sigui el valor del nombre enter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llavor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+ 4  no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és mai un nombre pri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tudieu quins han de ser els valors d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d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 fi i efecte que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aabb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igui un quadrat perfecte. Adoneu-vos que el nombr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onat és sempre múltipl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’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usqueu un nombre que en base 7 s’escriu amb 3 xifres i en base 9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ambé amb tres xifres, les mateixes que les anteriors però amb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ordre inv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mostreu que en qualsevol sistema de numeració de bas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&gt; 8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48841</a:t>
            </a:r>
            <a:r>
              <a:rPr b="0" lang="ca-ES" sz="2400" spc="-1" strike="noStrike" baseline="-36000">
                <a:solidFill>
                  <a:srgbClr val="000000"/>
                </a:solidFill>
                <a:latin typeface="Tahoma"/>
              </a:rPr>
              <a:t>(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és un quadrat perfec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anefa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9891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33520"/>
            <a:ext cx="815364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Algunes proposte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la majoria de l’antic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Preu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nombre 2002 és el producte de quatre factors primers. Quin serà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proper any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mb aquesta propietat? Quants n’hi haurà al llarg d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egle XXI?    </a:t>
            </a:r>
            <a:r>
              <a:rPr b="1" lang="ca-ES" sz="1800" spc="-1" strike="noStrike">
                <a:solidFill>
                  <a:srgbClr val="009900"/>
                </a:solidFill>
                <a:latin typeface="Tahoma"/>
              </a:rPr>
              <a:t>El proper és el 2010; n’hi ha 5 en tot el segle XX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mostreu que sigui el que sigui el valor del nombre enter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llavor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+ 4  no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és mai un nombre primer.  </a:t>
            </a:r>
            <a:r>
              <a:rPr b="1" lang="ca-ES" sz="1800" spc="-1" strike="noStrike">
                <a:solidFill>
                  <a:srgbClr val="009900"/>
                </a:solidFill>
                <a:latin typeface="Tahoma"/>
              </a:rPr>
              <a:t>Es pot fer factoritza(n</a:t>
            </a:r>
            <a:r>
              <a:rPr b="1" lang="ca-ES" sz="1800" spc="-1" strike="noStrike" baseline="30000">
                <a:solidFill>
                  <a:srgbClr val="009900"/>
                </a:solidFill>
                <a:latin typeface="Tahoma"/>
              </a:rPr>
              <a:t>4</a:t>
            </a:r>
            <a:r>
              <a:rPr b="1" lang="ca-ES" sz="1800" spc="-1" strike="noStrike">
                <a:solidFill>
                  <a:srgbClr val="009900"/>
                </a:solidFill>
                <a:latin typeface="Tahoma"/>
              </a:rPr>
              <a:t>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tudieu quins han de ser els valors d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d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 fi i efecte que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aabb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sigui un quadrat perfecte. Adoneu-vos que el nombre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onat és sempre múltiple d’11. 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Ha de ser a+b=11. Solució 774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usqueu un nombre que en base 7 s’escriu amb 3 xifres i en base 9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ambé amb tres xifres, les mateixes que les anteriors però amb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ordre invers.   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Solució: 248</a:t>
            </a:r>
            <a:r>
              <a:rPr b="1" lang="ca-ES" sz="1600" spc="-1" strike="noStrike" baseline="-25000">
                <a:solidFill>
                  <a:srgbClr val="009900"/>
                </a:solidFill>
                <a:latin typeface="Tahoma"/>
              </a:rPr>
              <a:t>(10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 = 305</a:t>
            </a:r>
            <a:r>
              <a:rPr b="1" lang="ca-ES" sz="1600" spc="-1" strike="noStrike" baseline="-25000">
                <a:solidFill>
                  <a:srgbClr val="009900"/>
                </a:solidFill>
                <a:latin typeface="Tahoma"/>
              </a:rPr>
              <a:t>(9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 = 503</a:t>
            </a:r>
            <a:r>
              <a:rPr b="1" lang="ca-ES" sz="1600" spc="-1" strike="noStrike" baseline="-25000">
                <a:solidFill>
                  <a:srgbClr val="009900"/>
                </a:solidFill>
                <a:latin typeface="Tahoma"/>
              </a:rPr>
              <a:t>(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Demostreu que en qualsevol sistema de numeració de base </a:t>
            </a:r>
            <a:r>
              <a:rPr b="0" i="1" lang="ca-E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&gt; 8 e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nombre 48841</a:t>
            </a:r>
            <a:r>
              <a:rPr b="0" lang="ca-ES" sz="2400" spc="-1" strike="noStrike" baseline="-36000">
                <a:solidFill>
                  <a:srgbClr val="000000"/>
                </a:solidFill>
                <a:latin typeface="Tahoma"/>
              </a:rPr>
              <a:t>(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és un quadrat perfecte. 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Es pot factoritzar el polinomi 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que representa el nombre:  1 + 4n + 8n</a:t>
            </a:r>
            <a:r>
              <a:rPr b="1" lang="ca-ES" sz="1600" spc="-1" strike="noStrike" baseline="30000">
                <a:solidFill>
                  <a:srgbClr val="009900"/>
                </a:solidFill>
                <a:latin typeface="Tahoma"/>
              </a:rPr>
              <a:t>2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 + 8n</a:t>
            </a:r>
            <a:r>
              <a:rPr b="1" lang="ca-ES" sz="1600" spc="-1" strike="noStrike" baseline="30000">
                <a:solidFill>
                  <a:srgbClr val="009900"/>
                </a:solidFill>
                <a:latin typeface="Tahoma"/>
              </a:rPr>
              <a:t>3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 + 4n</a:t>
            </a:r>
            <a:r>
              <a:rPr b="1" lang="ca-ES" sz="1600" spc="-1" strike="noStrike" baseline="30000">
                <a:solidFill>
                  <a:srgbClr val="009900"/>
                </a:solidFill>
                <a:latin typeface="Tahoma"/>
              </a:rPr>
              <a:t>4</a:t>
            </a:r>
            <a:r>
              <a:rPr b="1" lang="ca-ES" sz="1600" spc="-1" strike="noStrike">
                <a:solidFill>
                  <a:srgbClr val="0099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anefa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9891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Equacions, inequacions i sist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anefa" descr=""/>
          <p:cNvPicPr/>
          <p:nvPr/>
        </p:nvPicPr>
        <p:blipFill>
          <a:blip r:embed="rId1"/>
          <a:stretch/>
        </p:blipFill>
        <p:spPr>
          <a:xfrm>
            <a:off x="0" y="457200"/>
            <a:ext cx="7326360" cy="1096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160020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es comandes que cal conèixer s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o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per a equacions i sistemes; els sistemes s’han d’escriure com una llista.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ol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ntenta buscar totes les soluc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ol_numèricamen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per a equacions i sistemes; busca una solució per mètodes d’iteraci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ol_inequació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(per a inequacions simples o combinades, amb una sola variable, de les quals la comanda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resol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pugui trobar les solucions de l’equació associ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5480" y="4419720"/>
            <a:ext cx="8055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 disposa d’unes icones per plantejar una equació o un sistema.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És molt important recordar que s’ha de fer servir el signe d’”igual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larg” que es fa amb  </a:t>
            </a:r>
            <a:r>
              <a:rPr b="1" lang="ca-ES" sz="2000" spc="-1" strike="noStrike">
                <a:solidFill>
                  <a:srgbClr val="3333cc"/>
                </a:solidFill>
                <a:latin typeface="Tahoma"/>
              </a:rPr>
              <a:t>= =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1" lang="ca-ES" sz="2000" spc="-1" strike="noStrike">
                <a:solidFill>
                  <a:srgbClr val="3333cc"/>
                </a:solidFill>
                <a:latin typeface="Tahoma"/>
              </a:rPr>
              <a:t>Ctrl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+ </a:t>
            </a:r>
            <a:r>
              <a:rPr b="1" lang="ca-ES" sz="2000" spc="-1" strike="noStrike">
                <a:solidFill>
                  <a:srgbClr val="3333cc"/>
                </a:solidFill>
                <a:latin typeface="Tahoma"/>
              </a:rPr>
              <a:t>=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o bé amb una ic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Per les inequacions,  els signes </a:t>
            </a:r>
            <a:r>
              <a:rPr b="1" lang="ca-ES" sz="2000" spc="-1" strike="noStrike">
                <a:solidFill>
                  <a:srgbClr val="3333cc"/>
                </a:solidFill>
                <a:latin typeface="Tahoma"/>
              </a:rPr>
              <a:t>&lt;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ca-ES" sz="2000" spc="-1" strike="noStrike">
                <a:solidFill>
                  <a:srgbClr val="3333cc"/>
                </a:solidFill>
                <a:latin typeface="Tahoma"/>
              </a:rPr>
              <a:t>&gt;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 poden fer per teclat;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aquests i els altres amb les icones de Símb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help" descr=""/>
          <p:cNvPicPr/>
          <p:nvPr/>
        </p:nvPicPr>
        <p:blipFill>
          <a:blip r:embed="rId8"/>
          <a:stretch/>
        </p:blipFill>
        <p:spPr>
          <a:xfrm>
            <a:off x="6781680" y="304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238880" y="3049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uncions/Sist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(Eq., ineq., sis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es 3.1, 3.2, 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res" descr=""/>
          <p:cNvPicPr/>
          <p:nvPr/>
        </p:nvPicPr>
        <p:blipFill>
          <a:blip r:embed="rId9"/>
          <a:stretch/>
        </p:blipFill>
        <p:spPr>
          <a:xfrm>
            <a:off x="6781680" y="762120"/>
            <a:ext cx="4352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533520"/>
            <a:ext cx="815364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guns ex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t seguit s’explica com es poden tractar les solucions d’equacions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 sistemes: són llistes de solucions; cada solució és, alhora, un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lista de pare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anefa2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3989160" cy="59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jorn8" descr=""/>
          <p:cNvPicPr/>
          <p:nvPr/>
        </p:nvPicPr>
        <p:blipFill>
          <a:blip r:embed="rId5"/>
          <a:stretch/>
        </p:blipFill>
        <p:spPr>
          <a:xfrm>
            <a:off x="1295280" y="2286000"/>
            <a:ext cx="7589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685800"/>
            <a:ext cx="8153640" cy="68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geu el tractament de la indeterminació: es pot indicar quines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bles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olem que quedin com a tals i s’escriguin en funció de les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res.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emple, combinat amb la recerca de solucions enteres pos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jorn9" descr=""/>
          <p:cNvPicPr/>
          <p:nvPr/>
        </p:nvPicPr>
        <p:blipFill>
          <a:blip r:embed="rId3"/>
          <a:stretch/>
        </p:blipFill>
        <p:spPr>
          <a:xfrm>
            <a:off x="1905120" y="2362320"/>
            <a:ext cx="5371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365040"/>
            <a:ext cx="815364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u veure la diferència entre el treball de la comanda </a:t>
            </a: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reso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 el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anda </a:t>
            </a: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resol_numèricamen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i feu proves amb els dos sistemes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ü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s mètodes numèrics poden anar acompanyats d’opcions (pun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al  per les iteracions, mètode, 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jorn11" descr=""/>
          <p:cNvPicPr/>
          <p:nvPr/>
        </p:nvPicPr>
        <p:blipFill>
          <a:blip r:embed="rId5"/>
          <a:stretch/>
        </p:blipFill>
        <p:spPr>
          <a:xfrm>
            <a:off x="914400" y="3276720"/>
            <a:ext cx="7726320" cy="1874880"/>
          </a:xfrm>
          <a:prstGeom prst="rect">
            <a:avLst/>
          </a:prstGeom>
          <a:ln w="0">
            <a:noFill/>
          </a:ln>
        </p:spPr>
      </p:pic>
      <p:pic>
        <p:nvPicPr>
          <p:cNvPr id="113" name="jorn10" descr=""/>
          <p:cNvPicPr/>
          <p:nvPr/>
        </p:nvPicPr>
        <p:blipFill>
          <a:blip r:embed="rId6"/>
          <a:stretch/>
        </p:blipFill>
        <p:spPr>
          <a:xfrm>
            <a:off x="2362320" y="1371600"/>
            <a:ext cx="41608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dib31-2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3475080" cy="209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990720"/>
            <a:ext cx="79246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nalment uns exemples amb inequacions. Vegeu que cal indicar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variable respecte la qual volem resold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s solucions es donen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 si la connectiva lògica  </a:t>
            </a: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&amp; (i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ngués prioritat sobre la </a:t>
            </a:r>
            <a:r>
              <a:rPr b="0" lang="es-ES_tradnl" sz="2000" spc="-1" strike="noStrike">
                <a:solidFill>
                  <a:srgbClr val="3333cc"/>
                </a:solidFill>
                <a:latin typeface="Tahoma"/>
              </a:rPr>
              <a:t>| (o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jorn13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30178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WIR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té un </a:t>
            </a:r>
            <a:r>
              <a:rPr b="0" lang="ca-ES" sz="2800" spc="-1" strike="noStrike">
                <a:solidFill>
                  <a:srgbClr val="000000"/>
                </a:solidFill>
                <a:latin typeface="Tahoma"/>
              </a:rPr>
              <a:t>llenguatge de programació pro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es instruccions fonamentals són aques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410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WIRIS mostra sempre el darrer càlcul; si volem una resposta completa, sovint haurem de construir un conj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b81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791320" cy="2252520"/>
          </a:xfrm>
          <a:prstGeom prst="rect">
            <a:avLst/>
          </a:prstGeom>
          <a:ln w="0">
            <a:noFill/>
          </a:ln>
        </p:spPr>
      </p:pic>
      <p:pic>
        <p:nvPicPr>
          <p:cNvPr id="49" name="sanefa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3263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obres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434880" cy="434880"/>
          </a:xfrm>
          <a:prstGeom prst="rect">
            <a:avLst/>
          </a:prstGeom>
          <a:ln w="0">
            <a:noFill/>
          </a:ln>
        </p:spPr>
      </p:pic>
      <p:pic>
        <p:nvPicPr>
          <p:cNvPr id="51" name="help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67480" y="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04920"/>
            <a:ext cx="1218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Guia rà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elp" descr=""/>
          <p:cNvPicPr/>
          <p:nvPr/>
        </p:nvPicPr>
        <p:blipFill>
          <a:blip r:embed="rId5"/>
          <a:stretch/>
        </p:blipFill>
        <p:spPr>
          <a:xfrm>
            <a:off x="777240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es" descr=""/>
          <p:cNvPicPr/>
          <p:nvPr/>
        </p:nvPicPr>
        <p:blipFill>
          <a:blip r:embed="rId6"/>
          <a:stretch/>
        </p:blipFill>
        <p:spPr>
          <a:xfrm>
            <a:off x="6956280" y="762120"/>
            <a:ext cx="435240" cy="4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34320" y="2819520"/>
            <a:ext cx="2209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Aspectes avanç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Objectes matemà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8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533520"/>
            <a:ext cx="815364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gunes propo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sageu amb equacions, sistemes i inequacions i feu pregunt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Cangu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Preu) Estudieu de quantes maneres es pot descompondre la fracció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30/247 com a sum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es fraccions irreductibles,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nominadors dife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eu com es podrien buscar totes les solucions d’una equació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ofàntica “genera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anefa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989160" cy="593640"/>
          </a:xfrm>
          <a:prstGeom prst="rect">
            <a:avLst/>
          </a:prstGeom>
          <a:ln w="0">
            <a:noFill/>
          </a:ln>
        </p:spPr>
      </p:pic>
      <p:pic>
        <p:nvPicPr>
          <p:cNvPr id="119" name="jorn12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3540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09680"/>
            <a:ext cx="2514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  y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+   z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y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79250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Un exemple:  Quines són les xifres x, y, z perquè la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suma següent sigui correc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85800"/>
            <a:ext cx="79250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Un exemple:  Quines són les xifres x, y, z perquè la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suma següent sigui correc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09680"/>
            <a:ext cx="2514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  y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+   z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y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44920" y="2362320"/>
            <a:ext cx="506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x ha de ser 1 o 2:   </a:t>
            </a:r>
            <a:r>
              <a:rPr b="0" lang="ca-ES" sz="2000" spc="-1" strike="noStrike">
                <a:solidFill>
                  <a:srgbClr val="009900"/>
                </a:solidFill>
                <a:latin typeface="Tahoma"/>
              </a:rPr>
              <a:t>x en {1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y i la z ... La condició s’escriu així   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9900"/>
                </a:solidFill>
                <a:latin typeface="Tahoma"/>
              </a:rPr>
              <a:t>y en [1..9]         z en [1..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Què s’ha de compli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9900"/>
                </a:solidFill>
                <a:latin typeface="Tahoma"/>
              </a:rPr>
              <a:t>11(x+y+z) == 100x+10y+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Tahoma"/>
              </a:rPr>
              <a:t>Nota: </a:t>
            </a:r>
            <a:r>
              <a:rPr b="0" lang="ca-ES" sz="1800" spc="-1" strike="noStrike">
                <a:solidFill>
                  <a:srgbClr val="000000"/>
                </a:solidFill>
                <a:latin typeface="Tahoma"/>
              </a:rPr>
              <a:t>Les equacions i condicions s’escriuen amb el signe “igual llarg” (es fa amb dos iguals, amb ctrl+igual, amb una ico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nstruirem el </a:t>
            </a:r>
            <a:r>
              <a:rPr b="0" lang="ca-ES" sz="2000" spc="-1" strike="noStrike">
                <a:solidFill>
                  <a:srgbClr val="009900"/>
                </a:solidFill>
                <a:latin typeface="Tahoma"/>
              </a:rPr>
              <a:t>conjunt de solucions S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(hi posarem els possibles nombres xy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La formulació del programa pot ser aque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505320"/>
            <a:ext cx="83818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2600" indent="174600">
              <a:lnSpc>
                <a:spcPct val="100000"/>
              </a:lnSpc>
              <a:spcBef>
                <a:spcPts val="1250"/>
              </a:spcBef>
              <a:buSzPct val="102884"/>
              <a:buBlip>
                <a:blip r:embed="rId2"/>
              </a:buBlip>
              <a:tabLst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ngegueu WIRIS a la URL  </a:t>
            </a:r>
            <a:r>
              <a:rPr b="0" lang="ca-ES" sz="2000" spc="-1" strike="noStrike" u="sng">
                <a:solidFill>
                  <a:srgbClr val="009900"/>
                </a:solidFill>
                <a:uFillTx/>
                <a:latin typeface="Tahoma"/>
              </a:rPr>
              <a:t>calculadora.edu365.com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  llavors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scriviu el programa i executeu-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1746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És important conèixer l’existència de la comanda </a:t>
            </a:r>
            <a:r>
              <a:rPr b="0" lang="ca-ES" sz="2000" spc="-1" strike="noStrike">
                <a:solidFill>
                  <a:srgbClr val="3333cc"/>
                </a:solidFill>
                <a:latin typeface="Tahoma"/>
              </a:rPr>
              <a:t>amb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que permet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una ràpida definició d’objectes complexos com és ara llistes o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conjunts. Proveu-h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69960"/>
                <a:tab algn="l" pos="1339920"/>
                <a:tab algn="l" pos="2009880"/>
                <a:tab algn="l" pos="2679840"/>
                <a:tab algn="l" pos="3349800"/>
                <a:tab algn="l" pos="4019400"/>
                <a:tab algn="l" pos="4689360"/>
                <a:tab algn="l" pos="5359320"/>
                <a:tab algn="l" pos="6029280"/>
                <a:tab algn="l" pos="6699240"/>
                <a:tab algn="l" pos="7369200"/>
                <a:tab algn="l" pos="8039160"/>
                <a:tab algn="l" pos="8709120"/>
                <a:tab algn="l" pos="9379080"/>
                <a:tab algn="l" pos="10049040"/>
                <a:tab algn="l" pos="10718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jorn2" descr=""/>
          <p:cNvPicPr/>
          <p:nvPr/>
        </p:nvPicPr>
        <p:blipFill>
          <a:blip r:embed="rId4"/>
          <a:stretch/>
        </p:blipFill>
        <p:spPr>
          <a:xfrm>
            <a:off x="1905120" y="762120"/>
            <a:ext cx="5410080" cy="277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057400" y="5410080"/>
            <a:ext cx="25146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990720"/>
            <a:ext cx="8153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Dos problemes proposats (de la prova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 Cang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nombre 45 es multiplica per un nombre de dues xifres que acaba en 3 i el resultat és un nombre de 4 xifres que comença per 3.  Quin és aquest result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usqueu un nombre de sis xifres que acaba en 4 i compleix la propietat que, si es multiplica per 4, llavors el resultat també té 6 xifres, comença per 4 i les altres cinc xifres són les mateixes que les cinc primeres xifres del nombre inicial i en el mateix or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anefa2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398916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990720"/>
            <a:ext cx="815328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a-ES" sz="2400" spc="-1" strike="noStrike">
                <a:solidFill>
                  <a:srgbClr val="000000"/>
                </a:solidFill>
                <a:latin typeface="Tahoma"/>
              </a:rPr>
              <a:t>Dos problemes proposats (de la prova</a:t>
            </a:r>
            <a:r>
              <a:rPr b="0" lang="ca-ES" sz="2400" spc="-1" strike="noStrike">
                <a:solidFill>
                  <a:srgbClr val="3333cc"/>
                </a:solidFill>
                <a:latin typeface="Tahoma"/>
              </a:rPr>
              <a:t> Cang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El nombre 45 es multiplica per un nombre de dues xifres que acaba en 3 i el resultat és un nombre de 4 xifres que comença per 3.  Quin és aquest resultat? </a:t>
            </a:r>
            <a:r>
              <a:rPr b="0" lang="ca-E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ca-ES" sz="1800" spc="-1" strike="noStrike">
                <a:solidFill>
                  <a:srgbClr val="009900"/>
                </a:solidFill>
                <a:latin typeface="Tahoma"/>
              </a:rPr>
              <a:t>45 · x3 = 3yzt; dues solucions: 3285 o bé 3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Busqueu un nombre de sis xifres que acaba en 4 i compleix la propietat que, si es multiplica per 4, llavors el resultat també té 6 xifres, comença per 4 i les altres cinc xifres són les mateixes que les cinc primeres xifres del nombre inicial i en el mateix or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2000" spc="-1" strike="noStrike">
                <a:solidFill>
                  <a:srgbClr val="009900"/>
                </a:solidFill>
                <a:latin typeface="Tahoma"/>
              </a:rPr>
              <a:t>4 · KLMNP4 = 4KLMNP;  solució  KLMNP = 102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a-E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ca-ES" sz="1800" spc="-1" strike="noStrike">
                <a:solidFill>
                  <a:srgbClr val="ff0000"/>
                </a:solidFill>
                <a:latin typeface="Tahoma"/>
              </a:rPr>
              <a:t>Nota:</a:t>
            </a:r>
            <a:r>
              <a:rPr b="0" lang="ca-ES" sz="1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a-ES" sz="1400" spc="-1" strike="noStrike">
                <a:solidFill>
                  <a:srgbClr val="000000"/>
                </a:solidFill>
                <a:latin typeface="Tahoma"/>
              </a:rPr>
              <a:t>en els problemes anteriors totes les xifres que es troben són diferents. Com </a:t>
            </a:r>
            <a:r>
              <a:rPr b="0" lang="ca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a-ES" sz="1400" spc="-1" strike="noStrike">
                <a:solidFill>
                  <a:srgbClr val="000000"/>
                </a:solidFill>
                <a:latin typeface="Tahoma"/>
              </a:rPr>
              <a:t>s’imposaria això en un dels programes que heu fet?</a:t>
            </a:r>
            <a:r>
              <a:rPr b="0" lang="ca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a-ES" sz="1400" spc="-1" strike="noStrike">
                <a:solidFill>
                  <a:srgbClr val="009900"/>
                </a:solidFill>
                <a:latin typeface="Tahoma"/>
              </a:rPr>
              <a:t>Es pot escriure, per exemple, </a:t>
            </a:r>
            <a:r>
              <a:rPr b="0" lang="ca-ES" sz="14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ca-ES" sz="1400" spc="-1" strike="noStrike">
                <a:solidFill>
                  <a:srgbClr val="009900"/>
                </a:solidFill>
                <a:latin typeface="Tahoma"/>
              </a:rPr>
              <a:t>x, y  en   [1..9],[1..9]/[x].  EL signe / és la “resta” de conjunts o recorregu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anefa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98916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itmètica amb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WI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anefa" descr=""/>
          <p:cNvPicPr/>
          <p:nvPr/>
        </p:nvPicPr>
        <p:blipFill>
          <a:blip r:embed="rId1"/>
          <a:stretch/>
        </p:blipFill>
        <p:spPr>
          <a:xfrm>
            <a:off x="0" y="685800"/>
            <a:ext cx="7326360" cy="1096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enim una icona de la divisió entera (tant per nombres enters com per polinomis). Vegeu uns exemples d’aplicaci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jorn3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829280" cy="2446200"/>
          </a:xfrm>
          <a:prstGeom prst="rect">
            <a:avLst/>
          </a:prstGeom>
          <a:ln w="0">
            <a:noFill/>
          </a:ln>
        </p:spPr>
      </p:pic>
      <p:pic>
        <p:nvPicPr>
          <p:cNvPr id="74" name="help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0120" y="304920"/>
            <a:ext cx="12189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Aritmè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(Func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res" descr=""/>
          <p:cNvPicPr/>
          <p:nvPr/>
        </p:nvPicPr>
        <p:blipFill>
          <a:blip r:embed="rId5"/>
          <a:stretch/>
        </p:blipFill>
        <p:spPr>
          <a:xfrm>
            <a:off x="6956280" y="762120"/>
            <a:ext cx="4352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ritmètica amb </a:t>
            </a: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WI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anefa" descr=""/>
          <p:cNvPicPr/>
          <p:nvPr/>
        </p:nvPicPr>
        <p:blipFill>
          <a:blip r:embed="rId1"/>
          <a:stretch/>
        </p:blipFill>
        <p:spPr>
          <a:xfrm>
            <a:off x="0" y="685800"/>
            <a:ext cx="7326360" cy="109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Tenim una icona de la divisió entera (tant per nombres enters com per polinomis). Vegeu uns exemples d’aplicació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jorn4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829280" cy="2446200"/>
          </a:xfrm>
          <a:prstGeom prst="rect">
            <a:avLst/>
          </a:prstGeom>
          <a:ln w="0">
            <a:noFill/>
          </a:ln>
        </p:spPr>
      </p:pic>
      <p:pic>
        <p:nvPicPr>
          <p:cNvPr id="81" name="help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0120" y="304920"/>
            <a:ext cx="12189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Aritmè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(Func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ahoma"/>
              </a:rPr>
              <a:t>Fitxa 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res" descr=""/>
          <p:cNvPicPr/>
          <p:nvPr/>
        </p:nvPicPr>
        <p:blipFill>
          <a:blip r:embed="rId5"/>
          <a:stretch/>
        </p:blipFill>
        <p:spPr>
          <a:xfrm>
            <a:off x="6956280" y="762120"/>
            <a:ext cx="4352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7:36:45Z</dcterms:created>
  <dc:creator>Antoni Goma</dc:creator>
  <dc:description/>
  <dc:language>en-US</dc:language>
  <cp:lastModifiedBy>Antoni Goma</cp:lastModifiedBy>
  <dcterms:modified xsi:type="dcterms:W3CDTF">2002-07-09T17:00:16Z</dcterms:modified>
  <cp:revision>16</cp:revision>
  <dc:subject/>
  <dc:title>Presentación de PowerPoint</dc:title>
</cp:coreProperties>
</file>