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065-F8B2-45CA-9ADB-249B816D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E4B-979F-4DEE-9C28-F0BE1DA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3FF-8DA2-4A01-BDAD-87DCF56A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2ED-BE12-4155-99CD-E951B3A8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A27-7766-4914-8A33-089E47FA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8FC-F538-45BC-9E8C-CB7370F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A27-B002-40F3-9191-86FAD72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9E2-0DF4-449E-B8C1-9FCC813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8FE-76EA-40E7-B2BB-5F201306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C34-DFB9-4DE0-8A3F-D3B7F0F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16C-A98A-4D1F-A3A7-B0437E9A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A64-28B2-4B26-BF44-D4D2A41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EFF-B054-4516-A91C-E2849CCB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xtec.es/fie/mates/wiris/exemple4.htm" TargetMode="External"/><Relationship Id="rId3" Type="http://schemas.openxmlformats.org/officeDocument/2006/relationships/hyperlink" Target="http://www.xtec.es/fie/mates/wiris/exemple4.htm" TargetMode="External"/><Relationship Id="rId4" Type="http://schemas.openxmlformats.org/officeDocument/2006/relationships/hyperlink" Target="http://www.xtec.es/fie/mates/wiris/exemple4.htm" TargetMode="External"/><Relationship Id="rId5" Type="http://schemas.openxmlformats.org/officeDocument/2006/relationships/hyperlink" Target="http://www.xtec.es/fie/mates/wiris/exemple4.htm" TargetMode="External"/><Relationship Id="rId6" Type="http://schemas.openxmlformats.org/officeDocument/2006/relationships/hyperlink" Target="http://www.xtec.es/fie/mates/wiris/exemple4.htm" TargetMode="External"/><Relationship Id="rId7" Type="http://schemas.openxmlformats.org/officeDocument/2006/relationships/hyperlink" Target="http://www.xtec.es/fie/mates/wiris/exemple4.htm" TargetMode="External"/><Relationship Id="rId8" Type="http://schemas.openxmlformats.org/officeDocument/2006/relationships/hyperlink" Target="http://www.xtec.es/fie/mates/wiris/exemple4.htm" TargetMode="External"/><Relationship Id="rId9" Type="http://schemas.openxmlformats.org/officeDocument/2006/relationships/hyperlink" Target="http://www.xtec.es/fie/mates/wiris/exemple4.htm" TargetMode="External"/><Relationship Id="rId10" Type="http://schemas.openxmlformats.org/officeDocument/2006/relationships/hyperlink" Target="http://www.xtec.es/fie/mates/wiris/exemple4.htm" TargetMode="External"/><Relationship Id="rId11" Type="http://schemas.openxmlformats.org/officeDocument/2006/relationships/hyperlink" Target="http://www.xtec.es/fie/mates/wiris/exemple4.htm" TargetMode="External"/><Relationship Id="rId12" Type="http://schemas.openxmlformats.org/officeDocument/2006/relationships/hyperlink" Target="http://www.xtec.es/fie/mates/wiris/exemple4.htm" TargetMode="External"/><Relationship Id="rId13" Type="http://schemas.openxmlformats.org/officeDocument/2006/relationships/image" Target="../media/image4.png"/><Relationship Id="rId14" Type="http://schemas.openxmlformats.org/officeDocument/2006/relationships/hyperlink" Target="http://www.xtec.es/fie/mates/wiris/exemple5.htm" TargetMode="External"/><Relationship Id="rId15" Type="http://schemas.openxmlformats.org/officeDocument/2006/relationships/hyperlink" Target="http://www.xtec.es/fie/mates/wiris/exemple5.htm" TargetMode="External"/><Relationship Id="rId16" Type="http://schemas.openxmlformats.org/officeDocument/2006/relationships/hyperlink" Target="http://www.xtec.es/fie/mates/wiris/exemple5.htm" TargetMode="External"/><Relationship Id="rId17" Type="http://schemas.openxmlformats.org/officeDocument/2006/relationships/hyperlink" Target="http://www.xtec.es/fie/mates/wiris/exemple5.htm" TargetMode="External"/><Relationship Id="rId18" Type="http://schemas.openxmlformats.org/officeDocument/2006/relationships/hyperlink" Target="http://www.xtec.es/fie/mates/wiris/exemple5.htm" TargetMode="External"/><Relationship Id="rId19" Type="http://schemas.openxmlformats.org/officeDocument/2006/relationships/hyperlink" Target="http://www.xtec.es/fie/mates/wiris/exemple5.htm" TargetMode="External"/><Relationship Id="rId20" Type="http://schemas.openxmlformats.org/officeDocument/2006/relationships/hyperlink" Target="http://www.xtec.es/fie/mates/wiris/exemple5.htm" TargetMode="External"/><Relationship Id="rId21" Type="http://schemas.openxmlformats.org/officeDocument/2006/relationships/hyperlink" Target="http://www.xtec.es/fie/mates/wiris/exemple5.htm" TargetMode="External"/><Relationship Id="rId22" Type="http://schemas.openxmlformats.org/officeDocument/2006/relationships/hyperlink" Target="http://www.xtec.es/fie/mates/wiris/exemple5.htm" TargetMode="External"/><Relationship Id="rId23" Type="http://schemas.openxmlformats.org/officeDocument/2006/relationships/hyperlink" Target="http://www.xtec.es/fie/mates/wiris/exemple5.htm" TargetMode="External"/><Relationship Id="rId24" Type="http://schemas.openxmlformats.org/officeDocument/2006/relationships/hyperlink" Target="http://www.xtec.es/fie/mates/wiris/exemple5.htm" TargetMode="External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7.png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Tahoma"/>
              </a:rPr>
              <a:t>Jornades de treball amb </a:t>
            </a:r>
            <a:r>
              <a:rPr b="0" lang="ca-ES" sz="3600" spc="-1" strike="noStrike">
                <a:solidFill>
                  <a:srgbClr val="3333cc"/>
                </a:solidFill>
                <a:latin typeface="Tahoma"/>
              </a:rPr>
              <a:t>WI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1240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11 i 12 de juliol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SG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ahoma"/>
              </a:rPr>
              <a:t>Tercera sess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anefa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26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4572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50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geu algunes altres de les moltes possibilita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5780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voleu fer algun exercici i “necessiteu” alguna comanda,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gunteu si existeix o 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85800" y="1020600"/>
            <a:ext cx="6095880" cy="217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85800" y="3657600"/>
            <a:ext cx="4724280" cy="119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19680" y="3124080"/>
            <a:ext cx="3424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533520"/>
            <a:ext cx="81536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Algunes propo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ots els estudis que vulgueu sobre el tractament formal o gràfic d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es funcions, límits, derivades, integr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u el “clàssic” gràfic d’introducció a la derivada d’una funció en un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unt. Es tracta de veure que la secant a la corba (recta des del pun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 un punt mòbil) té com a límit la tangent quan el punt mòbi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endeix al punt on fem l’estud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usqueu tots els nombres complexos que, elevats al cub,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incideixen amb el seu conjug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ibuixeu una el·lipse i una hipèrbola amb els mateixos focus.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proveu que les tangents a una i altra còniques en els pun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’intersecció són perpendiculars. 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Si E és l’el·lipse i H la hipèrbola, podeu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designar I com  la  intersecció de E i H, que serà un conjunt de 4 punts I</a:t>
            </a:r>
            <a:r>
              <a:rPr b="0" lang="ca-ES" sz="1600" spc="-1" strike="noStrike" baseline="-25000">
                <a:solidFill>
                  <a:srgbClr val="009900"/>
                </a:solidFill>
                <a:latin typeface="Tahoma"/>
              </a:rPr>
              <a:t>1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,I</a:t>
            </a:r>
            <a:r>
              <a:rPr b="0" lang="ca-ES" sz="1600" spc="-1" strike="noStrike" baseline="-25000">
                <a:solidFill>
                  <a:srgbClr val="009900"/>
                </a:solidFill>
                <a:latin typeface="Tahoma"/>
              </a:rPr>
              <a:t>2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,...  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9900"/>
                </a:solidFill>
                <a:latin typeface="Tahoma"/>
              </a:rPr>
              <a:t>Comproveu el que es demana en un d’aquests pu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anefa2" descr=""/>
          <p:cNvPicPr/>
          <p:nvPr/>
        </p:nvPicPr>
        <p:blipFill>
          <a:blip r:embed="rId5"/>
          <a:stretch/>
        </p:blipFill>
        <p:spPr>
          <a:xfrm>
            <a:off x="304920" y="533520"/>
            <a:ext cx="39891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ncions i anàlisi matemàtica amb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WI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’eina fonamental de treball amb l’anàlisi matemàtica són les func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signe conceptualment més correcte per definir una funció és el  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:=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.  Tanmateix també es pot treballar amb funcions definides amb el signe  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=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o també amb expressions form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nvé que feu els càlculs següents i interpreteu els resultats. Comenteu-ho si 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anefa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73263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aRA" descr=""/>
          <p:cNvPicPr/>
          <p:nvPr/>
        </p:nvPicPr>
        <p:blipFill>
          <a:blip r:embed="rId2"/>
          <a:stretch/>
        </p:blipFill>
        <p:spPr>
          <a:xfrm>
            <a:off x="2438280" y="4267080"/>
            <a:ext cx="4560840" cy="2320920"/>
          </a:xfrm>
          <a:prstGeom prst="rect">
            <a:avLst/>
          </a:prstGeom>
          <a:ln w="0">
            <a:noFill/>
          </a:ln>
        </p:spPr>
      </p:pic>
      <p:pic>
        <p:nvPicPr>
          <p:cNvPr id="48" name="help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10280" y="228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uncions/ Anàli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Gràf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62012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Representació grà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es comandes que permeten observar la representació de l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gràfiques funcionals són 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dibuix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represent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ra bé, si volem fer gràfics interactius, caldrà que fem servir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dibuix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odeu començar amb els exemples segü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u-los per separat, però sense tancar la primera finestra d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gràfic, per poder compa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Quan hagueu vist i comentat les diferències entre les du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ormes de representació, proveu amb altres func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anefa2" descr=""/>
          <p:cNvPicPr/>
          <p:nvPr/>
        </p:nvPicPr>
        <p:blipFill>
          <a:blip r:embed="rId5"/>
          <a:stretch/>
        </p:blipFill>
        <p:spPr>
          <a:xfrm>
            <a:off x="380880" y="609480"/>
            <a:ext cx="3989520" cy="59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352680" y="3200400"/>
            <a:ext cx="1785960" cy="86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272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res" descr=""/>
          <p:cNvPicPr/>
          <p:nvPr/>
        </p:nvPicPr>
        <p:blipFill>
          <a:blip r:embed="rId7"/>
          <a:stretch/>
        </p:blipFill>
        <p:spPr>
          <a:xfrm>
            <a:off x="6705720" y="228600"/>
            <a:ext cx="5713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3818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 poden fer servir com a arguments, per a les comandes qu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tu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"/>
              </a:spcBef>
              <a:buSzPct val="102792"/>
              <a:buBlip>
                <a:blip r:embed="rId2"/>
              </a:buBlip>
              <a:tabLst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uncions definides prèvi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"/>
              </a:spcBef>
              <a:buSzPct val="102792"/>
              <a:buBlip>
                <a:blip r:embed="rId3"/>
              </a:buBlip>
              <a:tabLst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xpressions amb una sola variable (com hem vist en l’exempl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nterior; la variable es representa a l’eix d’absci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"/>
              </a:spcBef>
              <a:buSzPct val="102792"/>
              <a:buBlip>
                <a:blip r:embed="rId4"/>
              </a:buBlip>
              <a:tabLst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quacions que donin lloc a figures geomètriques incloses 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WIRI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a saber, rectes i còni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ambé es poden aplicar atributs de dibuix a ambdues comandes. Ar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é, en el cas de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present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com que hi ha definits colors per a molt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ements del dibuix, cal indicar quin element volem canviar de co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Un exemple:  funció i funció de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555480"/>
                <a:tab algn="l" pos="833400"/>
                <a:tab algn="l" pos="1111320"/>
                <a:tab algn="l" pos="1389240"/>
                <a:tab algn="l" pos="1666800"/>
                <a:tab algn="l" pos="1944720"/>
                <a:tab algn="l" pos="2222640"/>
                <a:tab algn="l" pos="2500200"/>
                <a:tab algn="l" pos="2778120"/>
                <a:tab algn="l" pos="3056040"/>
                <a:tab algn="l" pos="3333600"/>
                <a:tab algn="l" pos="3611520"/>
                <a:tab algn="l" pos="3889440"/>
                <a:tab algn="l" pos="4167360"/>
                <a:tab algn="l" pos="4444920"/>
                <a:tab algn="l" pos="4722840"/>
                <a:tab algn="l" pos="5000760"/>
                <a:tab algn="l" pos="5278320"/>
                <a:tab algn="l" pos="5556240"/>
                <a:tab algn="l" pos="583416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anefa2" descr=""/>
          <p:cNvPicPr/>
          <p:nvPr/>
        </p:nvPicPr>
        <p:blipFill>
          <a:blip r:embed="rId6"/>
          <a:stretch/>
        </p:blipFill>
        <p:spPr>
          <a:xfrm>
            <a:off x="125280" y="3749760"/>
            <a:ext cx="3989520" cy="593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523880" y="4343400"/>
            <a:ext cx="2341800" cy="858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523880" y="5334120"/>
            <a:ext cx="65167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54120"/>
            <a:ext cx="8153280" cy="57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Propo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Obriu la pestanya  </a:t>
            </a:r>
            <a:r>
              <a:rPr b="1" lang="ca-ES" sz="2000" spc="-1" strike="noStrike">
                <a:solidFill>
                  <a:srgbClr val="000000"/>
                </a:solidFill>
                <a:latin typeface="Tahoma"/>
              </a:rPr>
              <a:t>Anàlisi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feu proves amb derivades, integrals i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ímits. Si escau, feu preguntes i sugg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m algun exercici de la selectivitat 2002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robeu l’equació de la recta tangent a la gràfica de la funció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(x)=3x</a:t>
            </a:r>
            <a:r>
              <a:rPr b="0" lang="ca-E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+5x+1 en el punt d’abscissa x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alculeu la primitiva de la funció                  que s’anul·la en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unt d’abscissa x=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igui                on m és un paràmet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termineu per cada valor de m el valor del límit de la funció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 quan x tendeix a 1. Estudieu per a quins valors de m l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rivada f ´(x) de la funció f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és positiva per a tot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alculeu l’àrea compresa entre les gràfiques de les corbes y=e</a:t>
            </a:r>
            <a:r>
              <a:rPr b="0" lang="ca-ES" sz="2000" spc="-1" strike="noStrike" baseline="30000">
                <a:solidFill>
                  <a:srgbClr val="000000"/>
                </a:solidFill>
                <a:latin typeface="Tahoma"/>
              </a:rPr>
              <a:t>2x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i  y=e</a:t>
            </a:r>
            <a:r>
              <a:rPr b="0" lang="ca-ES" sz="2000" spc="-1" strike="noStrike" baseline="30000">
                <a:solidFill>
                  <a:srgbClr val="000000"/>
                </a:solidFill>
                <a:latin typeface="Tahoma"/>
              </a:rPr>
              <a:t>-2x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la recta y=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anefa2" descr=""/>
          <p:cNvPicPr/>
          <p:nvPr/>
        </p:nvPicPr>
        <p:blipFill>
          <a:blip r:embed="rId7"/>
          <a:stretch/>
        </p:blipFill>
        <p:spPr>
          <a:xfrm>
            <a:off x="304920" y="609480"/>
            <a:ext cx="3989160" cy="59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2209680" y="3968640"/>
            <a:ext cx="1219320" cy="679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38880" y="2728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es 4.1 a 4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5305320" y="3276720"/>
            <a:ext cx="1171800" cy="458640"/>
          </a:xfrm>
          <a:prstGeom prst="rect">
            <a:avLst/>
          </a:prstGeom>
          <a:ln w="0">
            <a:noFill/>
          </a:ln>
        </p:spPr>
      </p:pic>
      <p:pic>
        <p:nvPicPr>
          <p:cNvPr id="65" name="obres" descr=""/>
          <p:cNvPicPr/>
          <p:nvPr/>
        </p:nvPicPr>
        <p:blipFill>
          <a:blip r:embed="rId10"/>
          <a:stretch/>
        </p:blipFill>
        <p:spPr>
          <a:xfrm>
            <a:off x="6629400" y="304920"/>
            <a:ext cx="5716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038240"/>
            <a:ext cx="81532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res exemples de gràfics interactius en l’anà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gràfica d’una funció i de la seva inversa (recípro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3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4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5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6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7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8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9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0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1"/>
              </a:rPr>
              <a:t>/exemple4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3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Interpolació polinò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4"/>
              </a:rPr>
              <a:t>http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5"/>
              </a:rPr>
              <a:t>:/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6"/>
              </a:rPr>
              <a:t>www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7"/>
              </a:rPr>
              <a:t>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8"/>
              </a:rPr>
              <a:t>xtec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19"/>
              </a:rPr>
              <a:t>.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0"/>
              </a:rPr>
              <a:t>fie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1"/>
              </a:rPr>
              <a:t>/mates/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2"/>
              </a:rPr>
              <a:t>wiris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3"/>
              </a:rPr>
              <a:t>/exemple5.</a:t>
            </a:r>
            <a:r>
              <a:rPr b="0" lang="ca-ES" sz="2000" spc="-1" strike="noStrike" u="sng">
                <a:solidFill>
                  <a:srgbClr val="ff00ff"/>
                </a:solidFill>
                <a:uFillTx/>
                <a:latin typeface="Tahoma"/>
                <a:hlinkClick r:id="rId24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5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roposta de treball guiat durant la sessió:  feu un gràfic que dibuixi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corba representativa d’una funció, un punt sobre la corba i l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angent a la corba en aquest punt. Convindrà que s’actualitzi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gràfic en moure el pu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Nota: 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no existeix una comanda semblant a punt_sobre_una corba. Caldrà que 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600" spc="-1" strike="noStrike">
                <a:solidFill>
                  <a:srgbClr val="000000"/>
                </a:solidFill>
                <a:latin typeface="Tahoma"/>
              </a:rPr>
              <a:t>ho tingueu en compte. Teniu la solució a la fitxa ind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anefa2" descr=""/>
          <p:cNvPicPr/>
          <p:nvPr/>
        </p:nvPicPr>
        <p:blipFill>
          <a:blip r:embed="rId26"/>
          <a:stretch/>
        </p:blipFill>
        <p:spPr>
          <a:xfrm>
            <a:off x="304920" y="1066680"/>
            <a:ext cx="3989160" cy="59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38880" y="272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es  6.2 i 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res" descr=""/>
          <p:cNvPicPr/>
          <p:nvPr/>
        </p:nvPicPr>
        <p:blipFill>
          <a:blip r:embed="rId27"/>
          <a:stretch/>
        </p:blipFill>
        <p:spPr>
          <a:xfrm>
            <a:off x="6705720" y="228600"/>
            <a:ext cx="5713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mbres compl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anefa" descr=""/>
          <p:cNvPicPr/>
          <p:nvPr/>
        </p:nvPicPr>
        <p:blipFill>
          <a:blip r:embed="rId1"/>
          <a:stretch/>
        </p:blipFill>
        <p:spPr>
          <a:xfrm>
            <a:off x="369720" y="152280"/>
            <a:ext cx="7326360" cy="109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0400" y="1389240"/>
            <a:ext cx="752148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mb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WIRI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teniu la possibilitat de treballar amb nombr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plex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unitat imaginària l’haureu d’escriure amb la icona </a:t>
            </a:r>
            <a:r>
              <a:rPr b="1" i="1" lang="ca-E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 l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stanya </a:t>
            </a:r>
            <a:r>
              <a:rPr b="1" lang="ca-ES" sz="2000" spc="-1" strike="noStrike">
                <a:solidFill>
                  <a:srgbClr val="000000"/>
                </a:solidFill>
                <a:latin typeface="Tahoma"/>
              </a:rPr>
              <a:t>Símbol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o bé amb  </a:t>
            </a:r>
            <a:r>
              <a:rPr b="1" lang="ca-ES" sz="2000" spc="-1" strike="noStrike">
                <a:solidFill>
                  <a:srgbClr val="000000"/>
                </a:solidFill>
                <a:latin typeface="Tahoma"/>
              </a:rPr>
              <a:t>Ctrl +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odeu arribar fins a la que algú anomena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la fórmula més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bonica de les matemàt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rò, naturalment, també podeu fer tota la feina prèvia.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Vegeu alguns exemples que podeu prov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029200" y="3124080"/>
            <a:ext cx="1308240" cy="400320"/>
          </a:xfrm>
          <a:prstGeom prst="rect">
            <a:avLst/>
          </a:prstGeom>
          <a:ln w="0">
            <a:noFill/>
          </a:ln>
        </p:spPr>
      </p:pic>
      <p:pic>
        <p:nvPicPr>
          <p:cNvPr id="74" name="help" descr=""/>
          <p:cNvPicPr/>
          <p:nvPr/>
        </p:nvPicPr>
        <p:blipFill>
          <a:blip r:embed="rId6"/>
          <a:stretch/>
        </p:blipFill>
        <p:spPr>
          <a:xfrm>
            <a:off x="64771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10280" y="228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Objectes matemà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901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7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res" descr=""/>
          <p:cNvPicPr/>
          <p:nvPr/>
        </p:nvPicPr>
        <p:blipFill>
          <a:blip r:embed="rId7"/>
          <a:stretch/>
        </p:blipFill>
        <p:spPr>
          <a:xfrm>
            <a:off x="6477120" y="857160"/>
            <a:ext cx="57132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1295280" y="4572000"/>
            <a:ext cx="67820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68580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es operacions es fan internament en forma binò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Vegeu  el tractament de les potències i arrels (i més coses!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odeu fer altres proves i assai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343400" y="1219320"/>
            <a:ext cx="4068720" cy="66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1143000" y="1219320"/>
            <a:ext cx="2254320" cy="83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1295280" y="3200400"/>
            <a:ext cx="2068560" cy="156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4343400" y="3505320"/>
            <a:ext cx="39798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ò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anefa" descr=""/>
          <p:cNvPicPr/>
          <p:nvPr/>
        </p:nvPicPr>
        <p:blipFill>
          <a:blip r:embed="rId1"/>
          <a:stretch/>
        </p:blipFill>
        <p:spPr>
          <a:xfrm>
            <a:off x="0" y="152280"/>
            <a:ext cx="7326360" cy="1096920"/>
          </a:xfrm>
          <a:prstGeom prst="rect">
            <a:avLst/>
          </a:prstGeom>
          <a:ln w="0">
            <a:noFill/>
          </a:ln>
        </p:spPr>
      </p:pic>
      <p:pic>
        <p:nvPicPr>
          <p:cNvPr id="87" name="help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228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Geome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9018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res" descr=""/>
          <p:cNvPicPr/>
          <p:nvPr/>
        </p:nvPicPr>
        <p:blipFill>
          <a:blip r:embed="rId3"/>
          <a:stretch/>
        </p:blipFill>
        <p:spPr>
          <a:xfrm>
            <a:off x="6019920" y="857160"/>
            <a:ext cx="571320" cy="514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371600"/>
            <a:ext cx="8458200" cy="55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WIRIS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permet fer un tractament formal complet de les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cò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robar l’equació d’una cònica a partir de cinc punts i representar-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(“simplement” amb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dibuix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o bé destacant-ne element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aracterístics amb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present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lassificar una cònica a partir de la seva equació, dibuixar-la i, si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cau, destacar-ne alguns ele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alcular tots els elements definidors d’una cò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Treballeu aquest primer 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SzPct val="102792"/>
              <a:buBlip>
                <a:blip r:embed="rId9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moveu els punts i veureu l’evolució de la cò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anvieu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dibuix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presenta.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El dibuix no s’actualitzarà però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indreu descrita la cò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1905120" y="4267080"/>
            <a:ext cx="62244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7:36:45Z</dcterms:created>
  <dc:creator>Antoni Goma</dc:creator>
  <dc:description/>
  <dc:language>en-US</dc:language>
  <cp:lastModifiedBy>agoma</cp:lastModifiedBy>
  <dcterms:modified xsi:type="dcterms:W3CDTF">2002-07-10T16:23:35Z</dcterms:modified>
  <cp:revision>20</cp:revision>
  <dc:subject/>
  <dc:title>Presentación de PowerPoint</dc:title>
</cp:coreProperties>
</file>