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058-F0EC-4A59-893B-F5D88A19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AEE-BCF9-4524-89CC-A8B32E4C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8C8-8341-4FE6-B37A-BBDEE387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997-C30A-4A28-82AA-B12ED5FA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D94-8CA8-41C6-A592-CD421244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09F-095E-4E04-9618-0C7EE6B5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1A1-D219-4FA2-90C2-121933E9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06C-1011-492A-B16A-72A0D15C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218-9543-4CAC-BAC2-22B54C36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DB9-038C-46F8-81FF-452544A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251-CA02-4B45-9FB3-4CC1656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95A-A6D7-48E6-8040-B9F3821F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30A-D449-4BB4-AEC8-C67040EA0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lculadora.edu365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815364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IRI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RIS is a mathematical tool (an  symbolic and graphic calculator of the www.edu365.com site) which allows a conceptual work and becomes a didactical too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see a first example of an interactive graphic, which illustra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a typical question from our pupil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y the square of a sum is not the sum of square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56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27944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RIS is, indeed, a very powerful calculator, numerical an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symbolical, and you can see always an accurate and “pretty”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printing of form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446640"/>
            <a:ext cx="8229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RIS graphics are easy to generate, support interactivity with the user and can be saved in standard forma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make graphics for  geometric stud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 and you can apply it also to mathematical analy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762120"/>
            <a:ext cx="80010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RIS pages can be embedded easily in a web page like active windows. You can see that fact and check that the programming language WIRIS++ help you to solve problem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many prime numbers there are in this century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ch is the length of the period of a decimal number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and allow to you to construct  “graphics with answ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.for example: to classify quadrilater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105520"/>
            <a:ext cx="761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ith all that capabilities (and many other!) WIRIS becames a very important cientifical tool with countless possibilities in the didactical a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07:04Z</dcterms:created>
  <dc:creator>agoma</dc:creator>
  <dc:description/>
  <dc:language>en-US</dc:language>
  <cp:lastModifiedBy>agoma</cp:lastModifiedBy>
  <dcterms:modified xsi:type="dcterms:W3CDTF">2003-10-17T10:56:32Z</dcterms:modified>
  <cp:revision>9</cp:revision>
  <dc:subject/>
  <dc:title>Presentación de PowerPoint</dc:title>
</cp:coreProperties>
</file>