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514DE-8B4A-4F19-B456-48B6B626D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72B61-483B-4ABF-B082-1C344A4AF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8873A-AD55-4AC1-8970-14398CDA8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F33D0-51C4-42A1-ABEA-3A996CA91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D75D9-9F56-4B41-A0FC-6AE16CE42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50C73-7116-4E13-AEEB-12CAF8A91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7EF97-73ED-4390-AF2E-E9BBA9FE7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A6EAD-9107-4B14-9896-A204A68FB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46019-0626-4E09-BC32-583FDA3BF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CC59D-BDD6-48A0-AD48-FF4F37F2E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2A586-0C96-4319-8130-D1158FC0C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11C46-C425-4AB8-A61B-A7B6C130A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6F103-82C4-41D7-9BDD-6C6CEA04E6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3000" y="12952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600" spc="-1" strike="noStrike">
                <a:solidFill>
                  <a:srgbClr val="000000"/>
                </a:solidFill>
                <a:latin typeface="Tahoma"/>
              </a:rPr>
              <a:t>Jornades de treball amb </a:t>
            </a:r>
            <a:r>
              <a:rPr b="0" lang="ca-ES" sz="3600" spc="-1" strike="noStrike">
                <a:solidFill>
                  <a:srgbClr val="3333cc"/>
                </a:solidFill>
                <a:latin typeface="Tahoma"/>
              </a:rPr>
              <a:t>WIR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523880" y="3124080"/>
            <a:ext cx="6400800" cy="26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Tahoma"/>
              </a:rPr>
              <a:t>11 i 12 de juliol de 200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Tahoma"/>
              </a:rPr>
              <a:t>SG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3333cc"/>
                </a:solidFill>
                <a:latin typeface="Tahoma"/>
              </a:rPr>
              <a:t>Quarta sessi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sanefa" descr=""/>
          <p:cNvPicPr/>
          <p:nvPr/>
        </p:nvPicPr>
        <p:blipFill>
          <a:blip r:embed="rId1"/>
          <a:stretch/>
        </p:blipFill>
        <p:spPr>
          <a:xfrm>
            <a:off x="762120" y="1447920"/>
            <a:ext cx="7326360" cy="109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685800" y="990720"/>
            <a:ext cx="77724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Geometria analít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Com que internament WIRIS fa tot el treball geomètric mitjançant coordenades llavors, de fet, sempre que “fem geometria” en realitat estem fent geometria analític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Ara bé, el treball amb WIRIS “obliga” a una explicació dels elements geomètrics que definim i els procediments que hi apliquem per trobar la solució del problema planteja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Allò que tantes vegades resulta ser el que ens ocupa més temps a les nostres classes, a saber, la simple manipulació dels elements geomètrics, queda amb WIRIS com a secundari i ila geometria torna a prendre el seu paper fonament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38080" y="5029200"/>
            <a:ext cx="7467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sanefa" descr=""/>
          <p:cNvPicPr/>
          <p:nvPr/>
        </p:nvPicPr>
        <p:blipFill>
          <a:blip r:embed="rId4"/>
          <a:stretch/>
        </p:blipFill>
        <p:spPr>
          <a:xfrm>
            <a:off x="76320" y="685800"/>
            <a:ext cx="7326360" cy="1096920"/>
          </a:xfrm>
          <a:prstGeom prst="rect">
            <a:avLst/>
          </a:prstGeom>
          <a:ln w="0">
            <a:noFill/>
          </a:ln>
        </p:spPr>
      </p:pic>
      <p:pic>
        <p:nvPicPr>
          <p:cNvPr id="47" name="help" descr=""/>
          <p:cNvPicPr/>
          <p:nvPr/>
        </p:nvPicPr>
        <p:blipFill>
          <a:blip r:embed="rId5"/>
          <a:stretch/>
        </p:blipFill>
        <p:spPr>
          <a:xfrm>
            <a:off x="6477120" y="228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7010280" y="22860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9900"/>
                </a:solidFill>
                <a:latin typeface="Tahoma"/>
              </a:rPr>
              <a:t>Geometr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010280" y="74916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9900"/>
                </a:solidFill>
                <a:latin typeface="Tahoma"/>
              </a:rPr>
              <a:t>Fitxa 3.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obres" descr=""/>
          <p:cNvPicPr/>
          <p:nvPr/>
        </p:nvPicPr>
        <p:blipFill>
          <a:blip r:embed="rId6"/>
          <a:stretch/>
        </p:blipFill>
        <p:spPr>
          <a:xfrm>
            <a:off x="6477120" y="704880"/>
            <a:ext cx="571320" cy="5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609480"/>
            <a:ext cx="79246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282600"/>
                <a:tab algn="l" pos="565200"/>
                <a:tab algn="l" pos="847800"/>
                <a:tab algn="l" pos="1130400"/>
                <a:tab algn="l" pos="1413000"/>
                <a:tab algn="l" pos="1695600"/>
                <a:tab algn="l" pos="1978200"/>
                <a:tab algn="l" pos="2260440"/>
                <a:tab algn="l" pos="2543040"/>
                <a:tab algn="l" pos="2825640"/>
                <a:tab algn="l" pos="3108240"/>
                <a:tab algn="l" pos="3390840"/>
                <a:tab algn="l" pos="3673440"/>
                <a:tab algn="l" pos="3956040"/>
                <a:tab algn="l" pos="4238640"/>
                <a:tab algn="l" pos="4521240"/>
                <a:tab algn="l" pos="4803840"/>
                <a:tab algn="l" pos="5086440"/>
                <a:tab algn="l" pos="5369040"/>
                <a:tab algn="l" pos="56516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800" y="609480"/>
            <a:ext cx="7620120" cy="593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ca-ES" sz="2400" spc="-1" strike="noStrike">
                <a:solidFill>
                  <a:srgbClr val="000000"/>
                </a:solidFill>
                <a:latin typeface="Tahoma"/>
              </a:rPr>
              <a:t>Alguns exem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SzPct val="102792"/>
              <a:buBlip>
                <a:blip r:embed="rId1"/>
              </a:buBlip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Donats tres punts A, B i C, busqueu les coordenades d’un punt </a:t>
            </a: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D de manera que  ABCD sigui un paral·lelogra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Aquest problema el teniu comentat a la </a:t>
            </a:r>
            <a:r>
              <a:rPr b="0" lang="ca-ES" sz="2000" spc="-1" strike="noStrike" u="sng">
                <a:solidFill>
                  <a:srgbClr val="ff00ff"/>
                </a:solidFill>
                <a:uFillTx/>
                <a:latin typeface="Tahoma"/>
              </a:rPr>
              <a:t>Fitxa 3.4</a:t>
            </a: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SzPct val="102792"/>
              <a:buBlip>
                <a:blip r:embed="rId2"/>
              </a:buBlip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A partir de dos punts A i B, construïu un quadrat ABC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Aquest exercici s’ha formulat en la primera sessió. Ara és el </a:t>
            </a: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moment d’analitzar-lo a fons. Com en l’anterior es pot enfocar </a:t>
            </a: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de dues maneres, que en podríem dir “vectorial” i “per </a:t>
            </a: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equacions”, que teniu resoltes 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a-ES" sz="2000" spc="-1" strike="noStrike" u="sng">
                <a:solidFill>
                  <a:srgbClr val="ff00ff"/>
                </a:solidFill>
                <a:uFillTx/>
                <a:latin typeface="Tahoma"/>
              </a:rPr>
              <a:t>http</a:t>
            </a:r>
            <a:r>
              <a:rPr b="0" lang="ca-ES" sz="2000" spc="-1" strike="noStrike" u="sng">
                <a:solidFill>
                  <a:srgbClr val="ff00ff"/>
                </a:solidFill>
                <a:uFillTx/>
                <a:latin typeface="Tahoma"/>
              </a:rPr>
              <a:t>://</a:t>
            </a:r>
            <a:r>
              <a:rPr b="0" lang="ca-ES" sz="2000" spc="-1" strike="noStrike" u="sng">
                <a:solidFill>
                  <a:srgbClr val="ff00ff"/>
                </a:solidFill>
                <a:uFillTx/>
                <a:latin typeface="Tahoma"/>
              </a:rPr>
              <a:t>www</a:t>
            </a:r>
            <a:r>
              <a:rPr b="0" lang="ca-ES" sz="2000" spc="-1" strike="noStrike" u="sng">
                <a:solidFill>
                  <a:srgbClr val="ff00ff"/>
                </a:solidFill>
                <a:uFillTx/>
                <a:latin typeface="Tahoma"/>
              </a:rPr>
              <a:t>.</a:t>
            </a:r>
            <a:r>
              <a:rPr b="0" lang="ca-ES" sz="2000" spc="-1" strike="noStrike" u="sng">
                <a:solidFill>
                  <a:srgbClr val="ff00ff"/>
                </a:solidFill>
                <a:uFillTx/>
                <a:latin typeface="Tahoma"/>
              </a:rPr>
              <a:t>xtec</a:t>
            </a:r>
            <a:r>
              <a:rPr b="0" lang="ca-ES" sz="2000" spc="-1" strike="noStrike" u="sng">
                <a:solidFill>
                  <a:srgbClr val="ff00ff"/>
                </a:solidFill>
                <a:uFillTx/>
                <a:latin typeface="Tahoma"/>
              </a:rPr>
              <a:t>.es/</a:t>
            </a:r>
            <a:r>
              <a:rPr b="0" lang="ca-ES" sz="2000" spc="-1" strike="noStrike" u="sng">
                <a:solidFill>
                  <a:srgbClr val="ff00ff"/>
                </a:solidFill>
                <a:uFillTx/>
                <a:latin typeface="Tahoma"/>
              </a:rPr>
              <a:t>fie</a:t>
            </a:r>
            <a:r>
              <a:rPr b="0" lang="ca-ES" sz="2000" spc="-1" strike="noStrike" u="sng">
                <a:solidFill>
                  <a:srgbClr val="ff00ff"/>
                </a:solidFill>
                <a:uFillTx/>
                <a:latin typeface="Tahoma"/>
              </a:rPr>
              <a:t>/mates/</a:t>
            </a:r>
            <a:r>
              <a:rPr b="0" lang="ca-ES" sz="2000" spc="-1" strike="noStrike" u="sng">
                <a:solidFill>
                  <a:srgbClr val="ff00ff"/>
                </a:solidFill>
                <a:uFillTx/>
                <a:latin typeface="Tahoma"/>
              </a:rPr>
              <a:t>wiris</a:t>
            </a:r>
            <a:r>
              <a:rPr b="0" lang="ca-ES" sz="2000" spc="-1" strike="noStrike" u="sng">
                <a:solidFill>
                  <a:srgbClr val="ff00ff"/>
                </a:solidFill>
                <a:uFillTx/>
                <a:latin typeface="Tahoma"/>
              </a:rPr>
              <a:t>/exemple6.</a:t>
            </a:r>
            <a:r>
              <a:rPr b="0" lang="ca-ES" sz="2000" spc="-1" strike="noStrike" u="sng">
                <a:solidFill>
                  <a:srgbClr val="ff00ff"/>
                </a:solidFill>
                <a:uFillTx/>
                <a:latin typeface="Tahoma"/>
              </a:rPr>
              <a:t>ht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792"/>
              <a:buBlip>
                <a:blip r:embed="rId3"/>
              </a:buBlip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A partir d’un triangle ABC es construeix un altre triangle </a:t>
            </a: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traçant per cada vèrtex del triangle inicial una paral·lela al </a:t>
            </a: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costat oposat. Comproveu que el triangle que resulta és </a:t>
            </a: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semblant a l’inicial amb raó de semblança, 2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sanefa2" descr=""/>
          <p:cNvPicPr/>
          <p:nvPr/>
        </p:nvPicPr>
        <p:blipFill>
          <a:blip r:embed="rId4"/>
          <a:stretch/>
        </p:blipFill>
        <p:spPr>
          <a:xfrm>
            <a:off x="380880" y="609480"/>
            <a:ext cx="3989520" cy="5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Moviments del p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sanefa" descr=""/>
          <p:cNvPicPr/>
          <p:nvPr/>
        </p:nvPicPr>
        <p:blipFill>
          <a:blip r:embed="rId1"/>
          <a:stretch/>
        </p:blipFill>
        <p:spPr>
          <a:xfrm>
            <a:off x="369720" y="228600"/>
            <a:ext cx="7326360" cy="10969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860400" y="1389240"/>
            <a:ext cx="7521480" cy="15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a-ES" sz="2000" spc="-1" strike="noStrike">
                <a:solidFill>
                  <a:srgbClr val="3333cc"/>
                </a:solidFill>
                <a:latin typeface="Tahoma"/>
              </a:rPr>
              <a:t>WIRIS</a:t>
            </a: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 té incorporades les eines per un estudi constructiu </a:t>
            </a: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dels moviments del pl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Podeu escriure aquest primer exemple per fer visual la idea </a:t>
            </a: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de translació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help" descr=""/>
          <p:cNvPicPr/>
          <p:nvPr/>
        </p:nvPicPr>
        <p:blipFill>
          <a:blip r:embed="rId4"/>
          <a:stretch/>
        </p:blipFill>
        <p:spPr>
          <a:xfrm>
            <a:off x="6477120" y="228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7010280" y="228600"/>
            <a:ext cx="259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9900"/>
                </a:solidFill>
                <a:latin typeface="Tahoma"/>
              </a:rPr>
              <a:t>Geometr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10280" y="90180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9900"/>
                </a:solidFill>
                <a:latin typeface="Tahoma"/>
              </a:rPr>
              <a:t>Fitxa 5.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obres" descr=""/>
          <p:cNvPicPr/>
          <p:nvPr/>
        </p:nvPicPr>
        <p:blipFill>
          <a:blip r:embed="rId5"/>
          <a:stretch/>
        </p:blipFill>
        <p:spPr>
          <a:xfrm>
            <a:off x="6477120" y="857160"/>
            <a:ext cx="571320" cy="51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6"/>
          <a:stretch/>
        </p:blipFill>
        <p:spPr>
          <a:xfrm>
            <a:off x="228600" y="3352680"/>
            <a:ext cx="8839080" cy="18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533520" y="685800"/>
            <a:ext cx="76960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85800" y="762120"/>
            <a:ext cx="7696080" cy="62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SzPct val="102792"/>
              <a:buBlip>
                <a:blip r:embed="rId1"/>
              </a:buBlip>
              <a:tabLst>
                <a:tab algn="l" pos="291960"/>
                <a:tab algn="l" pos="584280"/>
                <a:tab algn="l" pos="876240"/>
                <a:tab algn="l" pos="1168560"/>
                <a:tab algn="l" pos="1460520"/>
                <a:tab algn="l" pos="1752480"/>
                <a:tab algn="l" pos="2044800"/>
                <a:tab algn="l" pos="2336760"/>
                <a:tab algn="l" pos="2629080"/>
                <a:tab algn="l" pos="2921040"/>
                <a:tab algn="l" pos="3213000"/>
                <a:tab algn="l" pos="3505320"/>
                <a:tab algn="l" pos="3797280"/>
                <a:tab algn="l" pos="4089240"/>
                <a:tab algn="l" pos="4381560"/>
                <a:tab algn="l" pos="4673520"/>
                <a:tab algn="l" pos="4965840"/>
                <a:tab algn="l" pos="5257800"/>
                <a:tab algn="l" pos="5549760"/>
                <a:tab algn="l" pos="584208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Un exemple per treballar els gir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291960"/>
                <a:tab algn="l" pos="584280"/>
                <a:tab algn="l" pos="876240"/>
                <a:tab algn="l" pos="1168560"/>
                <a:tab algn="l" pos="1460520"/>
                <a:tab algn="l" pos="1752480"/>
                <a:tab algn="l" pos="2044800"/>
                <a:tab algn="l" pos="2336760"/>
                <a:tab algn="l" pos="2629080"/>
                <a:tab algn="l" pos="2921040"/>
                <a:tab algn="l" pos="3213000"/>
                <a:tab algn="l" pos="3505320"/>
                <a:tab algn="l" pos="3797280"/>
                <a:tab algn="l" pos="4089240"/>
                <a:tab algn="l" pos="4381560"/>
                <a:tab algn="l" pos="4673520"/>
                <a:tab algn="l" pos="4965840"/>
                <a:tab algn="l" pos="5257800"/>
                <a:tab algn="l" pos="5549760"/>
                <a:tab algn="l" pos="5842080"/>
              </a:tabLst>
            </a:pPr>
            <a:r>
              <a:rPr b="0" lang="ca-ES" sz="2000" spc="-1" strike="noStrike">
                <a:solidFill>
                  <a:srgbClr val="cc00ff"/>
                </a:solidFill>
                <a:latin typeface="Tahoma"/>
              </a:rPr>
              <a:t>	</a:t>
            </a:r>
            <a:r>
              <a:rPr b="0" lang="ca-ES" sz="2000" spc="-1" strike="noStrike" u="sng">
                <a:solidFill>
                  <a:srgbClr val="ff00ff"/>
                </a:solidFill>
                <a:uFillTx/>
                <a:latin typeface="Tahoma"/>
              </a:rPr>
              <a:t>http</a:t>
            </a:r>
            <a:r>
              <a:rPr b="0" lang="ca-ES" sz="2000" spc="-1" strike="noStrike" u="sng">
                <a:solidFill>
                  <a:srgbClr val="ff00ff"/>
                </a:solidFill>
                <a:uFillTx/>
                <a:latin typeface="Tahoma"/>
              </a:rPr>
              <a:t>://</a:t>
            </a:r>
            <a:r>
              <a:rPr b="0" lang="ca-ES" sz="2000" spc="-1" strike="noStrike" u="sng">
                <a:solidFill>
                  <a:srgbClr val="ff00ff"/>
                </a:solidFill>
                <a:uFillTx/>
                <a:latin typeface="Tahoma"/>
              </a:rPr>
              <a:t>www</a:t>
            </a:r>
            <a:r>
              <a:rPr b="0" lang="ca-ES" sz="2000" spc="-1" strike="noStrike" u="sng">
                <a:solidFill>
                  <a:srgbClr val="ff00ff"/>
                </a:solidFill>
                <a:uFillTx/>
                <a:latin typeface="Tahoma"/>
              </a:rPr>
              <a:t>.</a:t>
            </a:r>
            <a:r>
              <a:rPr b="0" lang="ca-ES" sz="2000" spc="-1" strike="noStrike" u="sng">
                <a:solidFill>
                  <a:srgbClr val="ff00ff"/>
                </a:solidFill>
                <a:uFillTx/>
                <a:latin typeface="Tahoma"/>
              </a:rPr>
              <a:t>xtec</a:t>
            </a:r>
            <a:r>
              <a:rPr b="0" lang="ca-ES" sz="2000" spc="-1" strike="noStrike" u="sng">
                <a:solidFill>
                  <a:srgbClr val="ff00ff"/>
                </a:solidFill>
                <a:uFillTx/>
                <a:latin typeface="Tahoma"/>
              </a:rPr>
              <a:t>.es/</a:t>
            </a:r>
            <a:r>
              <a:rPr b="0" lang="ca-ES" sz="2000" spc="-1" strike="noStrike" u="sng">
                <a:solidFill>
                  <a:srgbClr val="ff00ff"/>
                </a:solidFill>
                <a:uFillTx/>
                <a:latin typeface="Tahoma"/>
              </a:rPr>
              <a:t>fie</a:t>
            </a:r>
            <a:r>
              <a:rPr b="0" lang="ca-ES" sz="2000" spc="-1" strike="noStrike" u="sng">
                <a:solidFill>
                  <a:srgbClr val="ff00ff"/>
                </a:solidFill>
                <a:uFillTx/>
                <a:latin typeface="Tahoma"/>
              </a:rPr>
              <a:t>/mates/</a:t>
            </a:r>
            <a:r>
              <a:rPr b="0" lang="ca-ES" sz="2000" spc="-1" strike="noStrike" u="sng">
                <a:solidFill>
                  <a:srgbClr val="ff00ff"/>
                </a:solidFill>
                <a:uFillTx/>
                <a:latin typeface="Tahoma"/>
              </a:rPr>
              <a:t>wiris</a:t>
            </a:r>
            <a:r>
              <a:rPr b="0" lang="ca-ES" sz="2000" spc="-1" strike="noStrike" u="sng">
                <a:solidFill>
                  <a:srgbClr val="ff00ff"/>
                </a:solidFill>
                <a:uFillTx/>
                <a:latin typeface="Tahoma"/>
              </a:rPr>
              <a:t>/exemple7.</a:t>
            </a:r>
            <a:r>
              <a:rPr b="0" lang="ca-ES" sz="2000" spc="-1" strike="noStrike" u="sng">
                <a:solidFill>
                  <a:srgbClr val="ff00ff"/>
                </a:solidFill>
                <a:uFillTx/>
                <a:latin typeface="Tahoma"/>
              </a:rPr>
              <a:t>ht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SzPct val="102792"/>
              <a:buBlip>
                <a:blip r:embed="rId2"/>
              </a:buBlip>
              <a:tabLst>
                <a:tab algn="l" pos="291960"/>
                <a:tab algn="l" pos="584280"/>
                <a:tab algn="l" pos="876240"/>
                <a:tab algn="l" pos="1168560"/>
                <a:tab algn="l" pos="1460520"/>
                <a:tab algn="l" pos="1752480"/>
                <a:tab algn="l" pos="2044800"/>
                <a:tab algn="l" pos="2336760"/>
                <a:tab algn="l" pos="2629080"/>
                <a:tab algn="l" pos="2921040"/>
                <a:tab algn="l" pos="3213000"/>
                <a:tab algn="l" pos="3505320"/>
                <a:tab algn="l" pos="3797280"/>
                <a:tab algn="l" pos="4089240"/>
                <a:tab algn="l" pos="4381560"/>
                <a:tab algn="l" pos="4673520"/>
                <a:tab algn="l" pos="4965840"/>
                <a:tab algn="l" pos="5257800"/>
                <a:tab algn="l" pos="5549760"/>
                <a:tab algn="l" pos="584208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I ara, sabent que la sintaxi de la comanda per fer una simetria </a:t>
            </a: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axial és </a:t>
            </a:r>
            <a:r>
              <a:rPr b="0" lang="ca-ES" sz="2000" spc="-1" strike="noStrike">
                <a:solidFill>
                  <a:srgbClr val="3333cc"/>
                </a:solidFill>
                <a:latin typeface="Tahoma"/>
              </a:rPr>
              <a:t>simetria(recta, figura)</a:t>
            </a: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 es proposa que entre totes i tots </a:t>
            </a: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els assistents es comenti com es pot fer per</a:t>
            </a: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elaborar una sessió </a:t>
            </a: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de treball de WIRIS que permeti fer </a:t>
            </a: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visual l’eix de simetria </a:t>
            </a: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(mòbil interactivament), un triangle </a:t>
            </a: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(modificable “a mà”) i el </a:t>
            </a: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seu simètric (actualitzable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SzPct val="102792"/>
              <a:buBlip>
                <a:blip r:embed="rId3"/>
              </a:buBlip>
              <a:tabLst>
                <a:tab algn="l" pos="291960"/>
                <a:tab algn="l" pos="584280"/>
                <a:tab algn="l" pos="876240"/>
                <a:tab algn="l" pos="1168560"/>
                <a:tab algn="l" pos="1460520"/>
                <a:tab algn="l" pos="1752480"/>
                <a:tab algn="l" pos="2044800"/>
                <a:tab algn="l" pos="2336760"/>
                <a:tab algn="l" pos="2629080"/>
                <a:tab algn="l" pos="2921040"/>
                <a:tab algn="l" pos="3213000"/>
                <a:tab algn="l" pos="3505320"/>
                <a:tab algn="l" pos="3797280"/>
                <a:tab algn="l" pos="4089240"/>
                <a:tab algn="l" pos="4381560"/>
                <a:tab algn="l" pos="4673520"/>
                <a:tab algn="l" pos="4965840"/>
                <a:tab algn="l" pos="5257800"/>
                <a:tab algn="l" pos="5549760"/>
                <a:tab algn="l" pos="584208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Un problema plantejat: Donat un angle i un punt interior P</a:t>
            </a: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construïu un triangle equilàter, tot ell interior a l’angle, que </a:t>
            </a: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tingui un vèrtex en el punt i un vèrtex sobre cada costat del </a:t>
            </a: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triangle. El problema plantejat, té sempre solució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291960"/>
                <a:tab algn="l" pos="584280"/>
                <a:tab algn="l" pos="876240"/>
                <a:tab algn="l" pos="1168560"/>
                <a:tab algn="l" pos="1460520"/>
                <a:tab algn="l" pos="1752480"/>
                <a:tab algn="l" pos="2044800"/>
                <a:tab algn="l" pos="2336760"/>
                <a:tab algn="l" pos="2629080"/>
                <a:tab algn="l" pos="2921040"/>
                <a:tab algn="l" pos="3213000"/>
                <a:tab algn="l" pos="3505320"/>
                <a:tab algn="l" pos="3797280"/>
                <a:tab algn="l" pos="4089240"/>
                <a:tab algn="l" pos="4381560"/>
                <a:tab algn="l" pos="4673520"/>
                <a:tab algn="l" pos="4965840"/>
                <a:tab algn="l" pos="5257800"/>
                <a:tab algn="l" pos="5549760"/>
                <a:tab algn="l" pos="5842080"/>
              </a:tabLst>
            </a:pPr>
            <a:r>
              <a:rPr b="0" lang="ca-ES" sz="1600" spc="-1" strike="noStrike">
                <a:solidFill>
                  <a:srgbClr val="009900"/>
                </a:solidFill>
                <a:latin typeface="Tahoma"/>
              </a:rPr>
              <a:t>	</a:t>
            </a:r>
            <a:r>
              <a:rPr b="0" lang="ca-ES" sz="1600" spc="-1" strike="noStrike">
                <a:solidFill>
                  <a:srgbClr val="009900"/>
                </a:solidFill>
                <a:latin typeface="Tahoma"/>
              </a:rPr>
              <a:t>En cas que en tingui, una manera de trobar-la és aquesta: si amb centre en el </a:t>
            </a:r>
            <a:r>
              <a:rPr b="0" lang="ca-ES" sz="1600" spc="-1" strike="noStrike">
                <a:solidFill>
                  <a:srgbClr val="009900"/>
                </a:solidFill>
                <a:latin typeface="Tahoma"/>
              </a:rPr>
              <a:t>	</a:t>
            </a:r>
            <a:r>
              <a:rPr b="0" lang="ca-ES" sz="1600" spc="-1" strike="noStrike">
                <a:solidFill>
                  <a:srgbClr val="009900"/>
                </a:solidFill>
                <a:latin typeface="Tahoma"/>
              </a:rPr>
              <a:t>punt  P  fem una rotació d’angle 60º i busquem la recta tranformada d’un dels </a:t>
            </a:r>
            <a:r>
              <a:rPr b="0" lang="ca-ES" sz="1600" spc="-1" strike="noStrike">
                <a:solidFill>
                  <a:srgbClr val="009900"/>
                </a:solidFill>
                <a:latin typeface="Tahoma"/>
              </a:rPr>
              <a:t>	</a:t>
            </a:r>
            <a:r>
              <a:rPr b="0" lang="ca-ES" sz="1600" spc="-1" strike="noStrike">
                <a:solidFill>
                  <a:srgbClr val="009900"/>
                </a:solidFill>
                <a:latin typeface="Tahoma"/>
              </a:rPr>
              <a:t>costats del triangle (el que correspongui), el punt d’intersecció d’aquesta recta </a:t>
            </a:r>
            <a:r>
              <a:rPr b="0" lang="ca-ES" sz="1600" spc="-1" strike="noStrike">
                <a:solidFill>
                  <a:srgbClr val="009900"/>
                </a:solidFill>
                <a:latin typeface="Tahoma"/>
              </a:rPr>
              <a:t>	</a:t>
            </a:r>
            <a:r>
              <a:rPr b="0" lang="ca-ES" sz="1600" spc="-1" strike="noStrike">
                <a:solidFill>
                  <a:srgbClr val="009900"/>
                </a:solidFill>
                <a:latin typeface="Tahoma"/>
              </a:rPr>
              <a:t>amb l’altre costat del triangle és un dels vèrtexs que busquem. El punt del </a:t>
            </a:r>
            <a:r>
              <a:rPr b="0" lang="ca-ES" sz="1600" spc="-1" strike="noStrike">
                <a:solidFill>
                  <a:srgbClr val="009900"/>
                </a:solidFill>
                <a:latin typeface="Tahoma"/>
              </a:rPr>
              <a:t>	</a:t>
            </a:r>
            <a:r>
              <a:rPr b="0" lang="ca-ES" sz="1600" spc="-1" strike="noStrike">
                <a:solidFill>
                  <a:srgbClr val="009900"/>
                </a:solidFill>
                <a:latin typeface="Tahoma"/>
              </a:rPr>
              <a:t>costat original que té com a imatge aquest punt és l’altre vèrtex del triang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291960"/>
                <a:tab algn="l" pos="584280"/>
                <a:tab algn="l" pos="876240"/>
                <a:tab algn="l" pos="1168560"/>
                <a:tab algn="l" pos="1460520"/>
                <a:tab algn="l" pos="1752480"/>
                <a:tab algn="l" pos="2044800"/>
                <a:tab algn="l" pos="2336760"/>
                <a:tab algn="l" pos="2629080"/>
                <a:tab algn="l" pos="2921040"/>
                <a:tab algn="l" pos="3213000"/>
                <a:tab algn="l" pos="3505320"/>
                <a:tab algn="l" pos="3797280"/>
                <a:tab algn="l" pos="4089240"/>
                <a:tab algn="l" pos="4381560"/>
                <a:tab algn="l" pos="4673520"/>
                <a:tab algn="l" pos="4965840"/>
                <a:tab algn="l" pos="5257800"/>
                <a:tab algn="l" pos="5549760"/>
                <a:tab algn="l" pos="58420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609480" y="533520"/>
            <a:ext cx="8153640" cy="288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282600"/>
                <a:tab algn="l" pos="565200"/>
                <a:tab algn="l" pos="847800"/>
                <a:tab algn="l" pos="1130400"/>
                <a:tab algn="l" pos="1413000"/>
                <a:tab algn="l" pos="1695600"/>
                <a:tab algn="l" pos="1978200"/>
                <a:tab algn="l" pos="2260440"/>
                <a:tab algn="l" pos="2543040"/>
                <a:tab algn="l" pos="2825640"/>
                <a:tab algn="l" pos="3108240"/>
                <a:tab algn="l" pos="3390840"/>
                <a:tab algn="l" pos="3673440"/>
                <a:tab algn="l" pos="3956040"/>
                <a:tab algn="l" pos="4238640"/>
                <a:tab algn="l" pos="4521240"/>
                <a:tab algn="l" pos="4803840"/>
                <a:tab algn="l" pos="5086440"/>
                <a:tab algn="l" pos="5369040"/>
                <a:tab algn="l" pos="565164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ca-ES" sz="2400" spc="-1" strike="noStrike">
                <a:solidFill>
                  <a:srgbClr val="000000"/>
                </a:solidFill>
                <a:latin typeface="Tahoma"/>
              </a:rPr>
              <a:t>Exemples final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82600"/>
                <a:tab algn="l" pos="565200"/>
                <a:tab algn="l" pos="847800"/>
                <a:tab algn="l" pos="1130400"/>
                <a:tab algn="l" pos="1413000"/>
                <a:tab algn="l" pos="1695600"/>
                <a:tab algn="l" pos="1978200"/>
                <a:tab algn="l" pos="2260440"/>
                <a:tab algn="l" pos="2543040"/>
                <a:tab algn="l" pos="2825640"/>
                <a:tab algn="l" pos="3108240"/>
                <a:tab algn="l" pos="3390840"/>
                <a:tab algn="l" pos="3673440"/>
                <a:tab algn="l" pos="3956040"/>
                <a:tab algn="l" pos="4238640"/>
                <a:tab algn="l" pos="4521240"/>
                <a:tab algn="l" pos="4803840"/>
                <a:tab algn="l" pos="5086440"/>
                <a:tab algn="l" pos="5369040"/>
                <a:tab algn="l" pos="565164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SzPct val="102792"/>
              <a:buBlip>
                <a:blip r:embed="rId1"/>
              </a:buBlip>
              <a:tabLst>
                <a:tab algn="l" pos="282600"/>
                <a:tab algn="l" pos="565200"/>
                <a:tab algn="l" pos="847800"/>
                <a:tab algn="l" pos="1130400"/>
                <a:tab algn="l" pos="1413000"/>
                <a:tab algn="l" pos="1695600"/>
                <a:tab algn="l" pos="1978200"/>
                <a:tab algn="l" pos="2260440"/>
                <a:tab algn="l" pos="2543040"/>
                <a:tab algn="l" pos="2825640"/>
                <a:tab algn="l" pos="3108240"/>
                <a:tab algn="l" pos="3390840"/>
                <a:tab algn="l" pos="3673440"/>
                <a:tab algn="l" pos="3956040"/>
                <a:tab algn="l" pos="4238640"/>
                <a:tab algn="l" pos="4521240"/>
                <a:tab algn="l" pos="4803840"/>
                <a:tab algn="l" pos="5086440"/>
                <a:tab algn="l" pos="5369040"/>
                <a:tab algn="l" pos="565164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Un dels molts “punts notables” d’un triang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282600"/>
                <a:tab algn="l" pos="565200"/>
                <a:tab algn="l" pos="847800"/>
                <a:tab algn="l" pos="1130400"/>
                <a:tab algn="l" pos="1413000"/>
                <a:tab algn="l" pos="1695600"/>
                <a:tab algn="l" pos="1978200"/>
                <a:tab algn="l" pos="2260440"/>
                <a:tab algn="l" pos="2543040"/>
                <a:tab algn="l" pos="2825640"/>
                <a:tab algn="l" pos="3108240"/>
                <a:tab algn="l" pos="3390840"/>
                <a:tab algn="l" pos="3673440"/>
                <a:tab algn="l" pos="3956040"/>
                <a:tab algn="l" pos="4238640"/>
                <a:tab algn="l" pos="4521240"/>
                <a:tab algn="l" pos="4803840"/>
                <a:tab algn="l" pos="5086440"/>
                <a:tab algn="l" pos="5369040"/>
                <a:tab algn="l" pos="5651640"/>
              </a:tabLst>
            </a:pPr>
            <a:r>
              <a:rPr b="0" lang="ca-ES" sz="20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ca-ES" sz="20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ca-ES" sz="2000" spc="-1" strike="noStrike" u="sng">
                <a:solidFill>
                  <a:srgbClr val="ff00ff"/>
                </a:solidFill>
                <a:uFillTx/>
                <a:latin typeface="Tahoma"/>
              </a:rPr>
              <a:t>http</a:t>
            </a:r>
            <a:r>
              <a:rPr b="0" lang="ca-ES" sz="2000" spc="-1" strike="noStrike" u="sng">
                <a:solidFill>
                  <a:srgbClr val="ff00ff"/>
                </a:solidFill>
                <a:uFillTx/>
                <a:latin typeface="Tahoma"/>
              </a:rPr>
              <a:t>://</a:t>
            </a:r>
            <a:r>
              <a:rPr b="0" lang="ca-ES" sz="2000" spc="-1" strike="noStrike" u="sng">
                <a:solidFill>
                  <a:srgbClr val="ff00ff"/>
                </a:solidFill>
                <a:uFillTx/>
                <a:latin typeface="Tahoma"/>
              </a:rPr>
              <a:t>www</a:t>
            </a:r>
            <a:r>
              <a:rPr b="0" lang="ca-ES" sz="2000" spc="-1" strike="noStrike" u="sng">
                <a:solidFill>
                  <a:srgbClr val="ff00ff"/>
                </a:solidFill>
                <a:uFillTx/>
                <a:latin typeface="Tahoma"/>
              </a:rPr>
              <a:t>.</a:t>
            </a:r>
            <a:r>
              <a:rPr b="0" lang="ca-ES" sz="2000" spc="-1" strike="noStrike" u="sng">
                <a:solidFill>
                  <a:srgbClr val="ff00ff"/>
                </a:solidFill>
                <a:uFillTx/>
                <a:latin typeface="Tahoma"/>
              </a:rPr>
              <a:t>xtec</a:t>
            </a:r>
            <a:r>
              <a:rPr b="0" lang="ca-ES" sz="2000" spc="-1" strike="noStrike" u="sng">
                <a:solidFill>
                  <a:srgbClr val="ff00ff"/>
                </a:solidFill>
                <a:uFillTx/>
                <a:latin typeface="Tahoma"/>
              </a:rPr>
              <a:t>.es/</a:t>
            </a:r>
            <a:r>
              <a:rPr b="0" lang="ca-ES" sz="2000" spc="-1" strike="noStrike" u="sng">
                <a:solidFill>
                  <a:srgbClr val="ff00ff"/>
                </a:solidFill>
                <a:uFillTx/>
                <a:latin typeface="Tahoma"/>
              </a:rPr>
              <a:t>fie</a:t>
            </a:r>
            <a:r>
              <a:rPr b="0" lang="ca-ES" sz="2000" spc="-1" strike="noStrike" u="sng">
                <a:solidFill>
                  <a:srgbClr val="ff00ff"/>
                </a:solidFill>
                <a:uFillTx/>
                <a:latin typeface="Tahoma"/>
              </a:rPr>
              <a:t>/mates/</a:t>
            </a:r>
            <a:r>
              <a:rPr b="0" lang="ca-ES" sz="2000" spc="-1" strike="noStrike" u="sng">
                <a:solidFill>
                  <a:srgbClr val="ff00ff"/>
                </a:solidFill>
                <a:uFillTx/>
                <a:latin typeface="Tahoma"/>
              </a:rPr>
              <a:t>wiris</a:t>
            </a:r>
            <a:r>
              <a:rPr b="0" lang="ca-ES" sz="2000" spc="-1" strike="noStrike" u="sng">
                <a:solidFill>
                  <a:srgbClr val="ff00ff"/>
                </a:solidFill>
                <a:uFillTx/>
                <a:latin typeface="Tahoma"/>
              </a:rPr>
              <a:t>/</a:t>
            </a:r>
            <a:r>
              <a:rPr b="0" lang="ca-ES" sz="2000" spc="-1" strike="noStrike" u="sng">
                <a:solidFill>
                  <a:srgbClr val="ff00ff"/>
                </a:solidFill>
                <a:uFillTx/>
                <a:latin typeface="Tahoma"/>
              </a:rPr>
              <a:t>exemplex</a:t>
            </a:r>
            <a:r>
              <a:rPr b="0" lang="ca-ES" sz="2000" spc="-1" strike="noStrike" u="sng">
                <a:solidFill>
                  <a:srgbClr val="ff00ff"/>
                </a:solidFill>
                <a:uFillTx/>
                <a:latin typeface="Tahoma"/>
              </a:rPr>
              <a:t>.</a:t>
            </a:r>
            <a:r>
              <a:rPr b="0" lang="ca-ES" sz="2000" spc="-1" strike="noStrike" u="sng">
                <a:solidFill>
                  <a:srgbClr val="ff00ff"/>
                </a:solidFill>
                <a:uFillTx/>
                <a:latin typeface="Tahoma"/>
              </a:rPr>
              <a:t>ht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SzPct val="102792"/>
              <a:buBlip>
                <a:blip r:embed="rId2"/>
              </a:buBlip>
              <a:tabLst>
                <a:tab algn="l" pos="282600"/>
                <a:tab algn="l" pos="565200"/>
                <a:tab algn="l" pos="847800"/>
                <a:tab algn="l" pos="1130400"/>
                <a:tab algn="l" pos="1413000"/>
                <a:tab algn="l" pos="1695600"/>
                <a:tab algn="l" pos="1978200"/>
                <a:tab algn="l" pos="2260440"/>
                <a:tab algn="l" pos="2543040"/>
                <a:tab algn="l" pos="2825640"/>
                <a:tab algn="l" pos="3108240"/>
                <a:tab algn="l" pos="3390840"/>
                <a:tab algn="l" pos="3673440"/>
                <a:tab algn="l" pos="3956040"/>
                <a:tab algn="l" pos="4238640"/>
                <a:tab algn="l" pos="4521240"/>
                <a:tab algn="l" pos="4803840"/>
                <a:tab algn="l" pos="5086440"/>
                <a:tab algn="l" pos="5369040"/>
                <a:tab algn="l" pos="565164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La visualització del concepte d’integral definida com a límit de la </a:t>
            </a: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suma d’àrees de rectangl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282600"/>
                <a:tab algn="l" pos="565200"/>
                <a:tab algn="l" pos="847800"/>
                <a:tab algn="l" pos="1130400"/>
                <a:tab algn="l" pos="1413000"/>
                <a:tab algn="l" pos="1695600"/>
                <a:tab algn="l" pos="1978200"/>
                <a:tab algn="l" pos="2260440"/>
                <a:tab algn="l" pos="2543040"/>
                <a:tab algn="l" pos="2825640"/>
                <a:tab algn="l" pos="3108240"/>
                <a:tab algn="l" pos="3390840"/>
                <a:tab algn="l" pos="3673440"/>
                <a:tab algn="l" pos="3956040"/>
                <a:tab algn="l" pos="4238640"/>
                <a:tab algn="l" pos="4521240"/>
                <a:tab algn="l" pos="4803840"/>
                <a:tab algn="l" pos="5086440"/>
                <a:tab algn="l" pos="5369040"/>
                <a:tab algn="l" pos="5651640"/>
              </a:tabLst>
            </a:pPr>
            <a:r>
              <a:rPr b="0" lang="ca-ES" sz="20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ca-ES" sz="20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ca-ES" sz="2000" spc="-1" strike="noStrike" u="sng">
                <a:solidFill>
                  <a:srgbClr val="ff00ff"/>
                </a:solidFill>
                <a:uFillTx/>
                <a:latin typeface="Tahoma"/>
              </a:rPr>
              <a:t>http</a:t>
            </a:r>
            <a:r>
              <a:rPr b="0" lang="ca-ES" sz="2000" spc="-1" strike="noStrike" u="sng">
                <a:solidFill>
                  <a:srgbClr val="ff00ff"/>
                </a:solidFill>
                <a:uFillTx/>
                <a:latin typeface="Tahoma"/>
              </a:rPr>
              <a:t>://</a:t>
            </a:r>
            <a:r>
              <a:rPr b="0" lang="ca-ES" sz="2000" spc="-1" strike="noStrike" u="sng">
                <a:solidFill>
                  <a:srgbClr val="ff00ff"/>
                </a:solidFill>
                <a:uFillTx/>
                <a:latin typeface="Tahoma"/>
              </a:rPr>
              <a:t>www</a:t>
            </a:r>
            <a:r>
              <a:rPr b="0" lang="ca-ES" sz="2000" spc="-1" strike="noStrike" u="sng">
                <a:solidFill>
                  <a:srgbClr val="ff00ff"/>
                </a:solidFill>
                <a:uFillTx/>
                <a:latin typeface="Tahoma"/>
              </a:rPr>
              <a:t>.</a:t>
            </a:r>
            <a:r>
              <a:rPr b="0" lang="ca-ES" sz="2000" spc="-1" strike="noStrike" u="sng">
                <a:solidFill>
                  <a:srgbClr val="ff00ff"/>
                </a:solidFill>
                <a:uFillTx/>
                <a:latin typeface="Tahoma"/>
              </a:rPr>
              <a:t>xtec</a:t>
            </a:r>
            <a:r>
              <a:rPr b="0" lang="ca-ES" sz="2000" spc="-1" strike="noStrike" u="sng">
                <a:solidFill>
                  <a:srgbClr val="ff00ff"/>
                </a:solidFill>
                <a:uFillTx/>
                <a:latin typeface="Tahoma"/>
              </a:rPr>
              <a:t>.es/</a:t>
            </a:r>
            <a:r>
              <a:rPr b="0" lang="ca-ES" sz="2000" spc="-1" strike="noStrike" u="sng">
                <a:solidFill>
                  <a:srgbClr val="ff00ff"/>
                </a:solidFill>
                <a:uFillTx/>
                <a:latin typeface="Tahoma"/>
              </a:rPr>
              <a:t>fie</a:t>
            </a:r>
            <a:r>
              <a:rPr b="0" lang="ca-ES" sz="2000" spc="-1" strike="noStrike" u="sng">
                <a:solidFill>
                  <a:srgbClr val="ff00ff"/>
                </a:solidFill>
                <a:uFillTx/>
                <a:latin typeface="Tahoma"/>
              </a:rPr>
              <a:t>/mates/</a:t>
            </a:r>
            <a:r>
              <a:rPr b="0" lang="ca-ES" sz="2000" spc="-1" strike="noStrike" u="sng">
                <a:solidFill>
                  <a:srgbClr val="ff00ff"/>
                </a:solidFill>
                <a:uFillTx/>
                <a:latin typeface="Tahoma"/>
              </a:rPr>
              <a:t>wiris</a:t>
            </a:r>
            <a:r>
              <a:rPr b="0" lang="ca-ES" sz="2000" spc="-1" strike="noStrike" u="sng">
                <a:solidFill>
                  <a:srgbClr val="ff00ff"/>
                </a:solidFill>
                <a:uFillTx/>
                <a:latin typeface="Tahoma"/>
              </a:rPr>
              <a:t>/</a:t>
            </a:r>
            <a:r>
              <a:rPr b="0" lang="ca-ES" sz="2000" spc="-1" strike="noStrike" u="sng">
                <a:solidFill>
                  <a:srgbClr val="ff00ff"/>
                </a:solidFill>
                <a:uFillTx/>
                <a:latin typeface="Tahoma"/>
              </a:rPr>
              <a:t>exemplei</a:t>
            </a:r>
            <a:r>
              <a:rPr b="0" lang="ca-ES" sz="2000" spc="-1" strike="noStrike" u="sng">
                <a:solidFill>
                  <a:srgbClr val="ff00ff"/>
                </a:solidFill>
                <a:uFillTx/>
                <a:latin typeface="Tahoma"/>
              </a:rPr>
              <a:t>.</a:t>
            </a:r>
            <a:r>
              <a:rPr b="0" lang="ca-ES" sz="2000" spc="-1" strike="noStrike" u="sng">
                <a:solidFill>
                  <a:srgbClr val="ff00ff"/>
                </a:solidFill>
                <a:uFillTx/>
                <a:latin typeface="Tahoma"/>
              </a:rPr>
              <a:t>ht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sanefa2" descr=""/>
          <p:cNvPicPr/>
          <p:nvPr/>
        </p:nvPicPr>
        <p:blipFill>
          <a:blip r:embed="rId3"/>
          <a:stretch/>
        </p:blipFill>
        <p:spPr>
          <a:xfrm>
            <a:off x="228600" y="533520"/>
            <a:ext cx="3989520" cy="59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02T07:36:45Z</dcterms:created>
  <dc:creator>Antoni Goma</dc:creator>
  <dc:description/>
  <dc:language>en-US</dc:language>
  <cp:lastModifiedBy>Antoni Goma</cp:lastModifiedBy>
  <dcterms:modified xsi:type="dcterms:W3CDTF">2002-07-11T05:10:04Z</dcterms:modified>
  <cp:revision>21</cp:revision>
  <dc:subject/>
  <dc:title>Presentación de PowerPoint</dc:title>
</cp:coreProperties>
</file>