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C47-EA1C-40AA-A9F5-D45A91BCFB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cris le nom de la sta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ère son image: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nu Insère/Image/à partir d’un Fichier local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 Cherche l’image dans ton fichier ou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 Choisis ton image/OK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e les objets, suis les intrucc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uyant sur le bouton droit de la souris sélectionne l’obj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isis l’option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“animation custom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 l’écran de configuration, clique sur le tab “effet” et choisis celui que tu préfè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que sur le tab “timing”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pour choisir tes options pour chaque objet. Choisis l’op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Start animation” “automatiquemen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tu veux insérer d’autres text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sère “text box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appe ton tex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el sloga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8000"/>
                </a:solidFill>
                <a:latin typeface="Arial"/>
              </a:rPr>
              <a:t>Pense à un slogan qui peut rendre la statue célèb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8000"/>
                </a:solidFill>
                <a:latin typeface="Arial"/>
              </a:rPr>
              <a:t>Il faut qu’il soit court, frappant et visuellement attir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sère image ou texte pour compléter la diapo avec l’ information suiv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its phys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ent elle est habill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 quel matériau elle es fa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ù elle se trou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ys, vil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À l’éxtérieur, à l’intéri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’est-ce qu’il y a aux ale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ment y arri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ère une image d’une car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Écris les instructions pour y arri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 Depuis le point le plus proche: aéroport, gare, station de métro, arrêt de b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 À 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61760" y="4343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t qu’est-ce qu’elle peut voir de l’endroit où elle se trou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Quels sentiments elle peut éprou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Qu’est-ce qu’elle aime ou n’aime p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Quelles conversations elle peut entend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Quelle est son histoire?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and elle a été sculpté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le a toujours été au même endro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le a été érigée pour fêter un évén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’est-ce qu’elle a fait au cours de sa vi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joute des images si tu en as beso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Son aven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ments aux alentours de la stat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équences de ces changements sur la statue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ent prévenir les conséquences  nég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Utilise cette diapo si tu en as beso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oilà une carte postale que tu envoies à la sta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ppe le texte de ta carte postale dans le cadre de tex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éplace à droite ou a gauche le cadre de texte pour voir la photo-exe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électionne et efface la photo-exemple et remplace-la par celle que tu as choisie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e l’animation pour faire appaître la photo avant le tex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e les objets, suis les  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électionne l’objet avec le bouton droit de la sour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isis l’option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“custom anima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 l’écran de configuration, clique sur “effet” et choisis celui que tu préfè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que sur “timing”</a:t>
            </a: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 pour choisir les 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ions pour chaque objet. Choisis l’option “Start animation” “automaticall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54F-6253-4CA7-8B3F-6BB176DA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03F-2F59-4FAF-A78B-1CB3C9C7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B6B-9FC9-4E7E-8533-E104BA28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F97-6598-400F-A7B2-9523570D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D6C-B419-4C65-8ECE-D792E6F8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DE3-863A-48C4-AAA7-CBBEF991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C2C-821D-4D1B-977C-47B4EEDA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D95-653C-4258-AA71-9C6CDE84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4EB-85EB-4A92-A808-975C2744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46E-C5DF-49D0-8741-23FC6F68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129-0DC1-4081-92B0-0585E3BC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D00-D12C-4450-95DB-3687CEB9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7BD2-B4C2-4AF4-A0E7-FA57D799B0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00"/>
                </a:solidFill>
                <a:latin typeface="Arial"/>
              </a:rPr>
              <a:t>Ecris ici le nom de la statue que tu vas cré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61722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"/>
              </a:rPr>
              <a:t>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2096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676520"/>
            <a:ext cx="784872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Insère ici une image de la sta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liberty" descr=""/>
          <p:cNvPicPr/>
          <p:nvPr/>
        </p:nvPicPr>
        <p:blipFill>
          <a:blip r:embed="rId1"/>
          <a:stretch/>
        </p:blipFill>
        <p:spPr>
          <a:xfrm>
            <a:off x="990720" y="1330200"/>
            <a:ext cx="7543800" cy="407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1295280"/>
            <a:ext cx="7162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685800"/>
          <a:ext cx="754380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3429000"/>
              </a:tblGrid>
              <a:tr h="53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r, chère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0:31:19Z</dcterms:created>
  <dc:creator>SGTI</dc:creator>
  <dc:description/>
  <dc:language>en-US</dc:language>
  <cp:lastModifiedBy>SGTI</cp:lastModifiedBy>
  <dcterms:modified xsi:type="dcterms:W3CDTF">2004-12-17T10:46:43Z</dcterms:modified>
  <cp:revision>23</cp:revision>
  <dc:subject/>
  <dc:title>Write here the name of your statue</dc:title>
</cp:coreProperties>
</file>