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D467-F000-4862-B1EB-874F933A40B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Write the name of your stat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sert the picture of your statue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sert menu/picture/from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arch the picture in your f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lect your picture/O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imate the objects following the instruc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the right button of the mouse select the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ose the option</a:t>
            </a: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 “custom anima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configuration screen, click on the</a:t>
            </a: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effect”</a:t>
            </a: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ose what you prefer</a:t>
            </a: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ck on the “timing”</a:t>
            </a: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 to choose your options for each object. Choose the option “Start animation” “automatically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f you want to insert further text box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sert text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ype your text within the text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se this slide if you want to add furthe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is a postcard you send to your favourite sta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Type in the text box the text of your postca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Drag to a side the text box to see the picture given as exe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Select and delete the photograph. Insert there the photograph you have chosen for your postcard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 Custom the animation to make the photograph appear before the text b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imate the objects following the instru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the right button of the mouse select the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ose the option</a:t>
            </a: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 “custom anima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configuration screen, click on the</a:t>
            </a: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effect”</a:t>
            </a: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ose what you prefer</a:t>
            </a: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ck on the “timing”</a:t>
            </a: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 to choose your options for each object. Choose the option “Start animation” “automatically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hat’s the slogan of your stat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8000"/>
                </a:solidFill>
                <a:latin typeface="Arial"/>
              </a:rPr>
              <a:t>This can make your statue famous 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8000"/>
                </a:solidFill>
                <a:latin typeface="Arial"/>
              </a:rPr>
              <a:t>It should be short, catchy and visually attr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ert image or text boxes to fill in the slide with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hysical appea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does it look lik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t wear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t made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Where is your statue loc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untry, town/cit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doors/outdo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hat’s around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How do you get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sert a picture of a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ive instructions to get t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rom the nearest: airport, railway/underground station, bus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n 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61760" y="43434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What can your statue see ar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How does this make it fe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What does he/she like/dis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What conversations does he/she h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What’s the story behind your statu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hen was it sculp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as it always been in the sam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oes it commemorate any ev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hat has its life been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dd pictures whenever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ecdote/s in your statue’s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did it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was involv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id he/she fe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 future of your stat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ges around your sta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ffect of these changes on your statu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to prevent negative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se this slide if you want to add furthe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300C-CD40-469A-A735-B51BC138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1525-E659-4D6C-B74A-1DC62467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28C8-EB7D-482C-93C3-3AC33646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43F2-48F4-405E-BFE9-E0B613C6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98A6-31DB-4E83-A451-5C7730C0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A5E4-42F0-4911-962D-B79818FC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D59C-2CB0-4CED-8ED6-C9AB0DED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EEAF-E083-4CB8-890F-76C96614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BBC5-F02E-4A6C-8918-4AFFD1A4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9F5-E536-4DE8-9281-226D88B8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373F-49E6-4869-8B25-50400C3C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C312-A4A3-4859-A4A8-E0E11B87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8FEA-5840-43C9-A9D7-635DD7F50C0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0000"/>
                </a:solidFill>
                <a:latin typeface="Arial"/>
              </a:rPr>
              <a:t>Write here the name of your stat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5880" y="61722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220968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676520"/>
            <a:ext cx="7848720" cy="38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Arial"/>
              </a:rPr>
              <a:t>Insert here the picture of your stat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liberty" descr=""/>
          <p:cNvPicPr/>
          <p:nvPr/>
        </p:nvPicPr>
        <p:blipFill>
          <a:blip r:embed="rId1"/>
          <a:stretch/>
        </p:blipFill>
        <p:spPr>
          <a:xfrm>
            <a:off x="990720" y="1330200"/>
            <a:ext cx="7543800" cy="4073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1295280"/>
            <a:ext cx="7162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90720" y="990720"/>
          <a:ext cx="7543800" cy="5333760"/>
        </p:xfrm>
        <a:graphic>
          <a:graphicData uri="http://schemas.openxmlformats.org/drawingml/2006/table">
            <a:tbl>
              <a:tblPr/>
              <a:tblGrid>
                <a:gridCol w="4114800"/>
                <a:gridCol w="3429000"/>
              </a:tblGrid>
              <a:tr h="53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ar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0:31:19Z</dcterms:created>
  <dc:creator>SGTI</dc:creator>
  <dc:description/>
  <dc:language>en-US</dc:language>
  <cp:lastModifiedBy>SGTI</cp:lastModifiedBy>
  <dcterms:modified xsi:type="dcterms:W3CDTF">2004-12-16T13:50:37Z</dcterms:modified>
  <cp:revision>5</cp:revision>
  <dc:subject/>
  <dc:title>Write here the name of your statue</dc:title>
</cp:coreProperties>
</file>