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push.wav" ContentType="audio/x-wav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24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move the slide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4BF-4407-424E-9330-790DB7721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CCBD-C9E4-4097-BFD5-D4286D0FDD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D30-9BAF-4170-81E6-5F4B37ED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96C-1F14-4428-96D9-632D35B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291-480A-428E-B707-0C4655CF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7D3-FF34-429E-95F1-BD328C70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7EA9-3A90-4CEE-A33C-2D2872FE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F4C-D29A-42EB-A429-E7161105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0AE7-689D-4303-886E-695A8CE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3EF3-6EF0-4222-93AF-6122C77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2584-E9B6-47FB-80A3-4391B52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793-434B-477A-B973-4D6D6A7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4A7-865C-44A4-AEDE-F5FF38B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BB8-B9FB-4413-A818-7515CF07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46EE-CA25-410A-BD5E-3A55EC5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11E7-754D-46BD-8F34-EDF0007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E84-B4BB-4DD5-9D32-7989DA6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A620-0BD1-485D-B73F-52F2325A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F4B1-252B-46A9-BD10-979F6DE9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7DC7-1D03-407F-9C42-B9E352CF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1A83-DDDD-4552-9968-ED97A2C6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1971-07FD-4E87-9712-3FA5871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3B78-C0AF-45FD-AE8F-95FA7FE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7985-AC76-4692-8528-ED8AB2F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EC5-2D0F-4A78-9DF7-5D58504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20C2-E543-4948-A5C8-519C6BEE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2BA0-4B2A-4056-B52F-E1FC2A3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493F-0193-4ADD-B8A5-563EA03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5B93-6E5D-4F1F-A221-59DCDF2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2B76-927F-4490-BAC5-E640081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9E52-A344-41EA-9F1D-C1EE8BE3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DCE4-D4A4-4550-8001-25E46CDA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F3E0-39FE-41A3-92B8-CB696F2E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2E14-5737-4A35-8652-38C0161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F3FB-E020-4A81-A4A5-C6CA773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DC9-6F7A-4B2F-BB4D-DF352602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C45F-E1E2-4B0A-97D5-F41BD58B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5FCF-9F08-427C-A9CF-5E556EA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65FE-D436-4831-B40B-2D0D0FB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80B5-9A47-41D6-9227-4483E0B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6C57-D326-416D-B7C5-EFB662E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7AB3-5DD7-4100-B62D-F138E96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8639-C753-45A1-B1B2-89430D1D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0967-DFC6-452F-9DC4-744CFAB2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B47E-43EE-4BCE-841C-41AA14B1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C517D-2717-451C-86B1-99586EA21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1D4-D460-444D-874F-7664240F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2C3CB-6E25-4F0B-A61D-D96DC16C40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52810-E294-409E-ABF6-E830BFF913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3F294-69BA-479A-85C2-D9F15A0340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15E7B-D733-41F8-8AFE-AABF0848D4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EBE680-F48C-4C97-B25E-FAE8754C32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694F5-FE1D-4017-9DB6-2E7470E1AF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21CBC-B71A-4435-A1B2-43FA948737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C017FE-0BEF-4ED6-98DD-8ABBAD5721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04206-5E1A-4C58-A9AF-726B4F7E76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8A583-C0D1-45DF-96C2-22901F2A8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293-88F9-451A-A208-2F5DF153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BE666-6CE6-44C6-8597-4C54A8B1A5A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12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8D1-0D8F-49DF-BC1A-CF1E3D8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0224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766560" y="29714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43828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60224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766560" y="35686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5686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AF1-B361-48DE-B79A-7FBBFF3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29714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5686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719-2D16-4F3E-B4F4-DB7FA1A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752480" cy="12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DCC-2C63-4A2A-89FE-BDC4008C7E18}" type="datetime">
              <a:rPr b="1" lang="en-US" sz="20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86F-3F9A-4065-9260-53BB702573AA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8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FA7-ABFA-40DF-80D5-0B0FD477B055}" type="datetime">
              <a:rPr b="0" lang="en-US" sz="24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4B6-D8DF-4CD1-A6DA-C6A6ED3AEEED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33600"/>
            <a:ext cx="4419720" cy="314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90504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35756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81044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81044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3E9-B1A4-4950-98A4-984E60397368}" type="datetime">
              <a:rPr b="1" lang="en-US" sz="20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1D8-7652-4A9A-9955-9DE2BF8F5CAA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78560" y="3886200"/>
            <a:ext cx="1765440" cy="22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1520" y="2438280"/>
            <a:ext cx="292248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2D2-2005-4F85-9F0A-6971B0C3F7CB}" type="datetime">
              <a:rPr b="0" lang="en-US" sz="2400" spc="-1" strike="noStrike">
                <a:solidFill>
                  <a:srgbClr val="ffffff"/>
                </a:solidFill>
                <a:latin typeface="Andy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497-0B0D-4857-906D-79B9703FB198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ndy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traight Connector 30" descr=""/>
          <p:cNvPicPr/>
          <p:nvPr/>
        </p:nvPicPr>
        <p:blipFill>
          <a:blip r:embed="rId2"/>
          <a:stretch/>
        </p:blipFill>
        <p:spPr>
          <a:xfrm>
            <a:off x="-6480" y="6248520"/>
            <a:ext cx="9163080" cy="79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25440" y="649440"/>
            <a:ext cx="701820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3960" y="2495520"/>
            <a:ext cx="85917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266760">
              <a:spcBef>
                <a:spcPts val="550"/>
              </a:spcBef>
              <a:buClr>
                <a:srgbClr val="ffc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-280800">
              <a:spcBef>
                <a:spcPts val="550"/>
              </a:spcBef>
              <a:buClr>
                <a:srgbClr val="ffc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20800" indent="-268200"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2000" indent="-239760">
              <a:spcBef>
                <a:spcPts val="550"/>
              </a:spcBef>
              <a:buClr>
                <a:srgbClr val="ffc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2000" indent="-239760"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2000" indent="-239760"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8481960" y="6378120"/>
            <a:ext cx="563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142E-2E5A-488E-824F-2D683801F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211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8160" y="790560"/>
            <a:ext cx="9105840" cy="6067440"/>
            <a:chOff x="38160" y="790560"/>
            <a:chExt cx="9105840" cy="6067440"/>
          </a:xfrm>
        </p:grpSpPr>
        <p:pic>
          <p:nvPicPr>
            <p:cNvPr id="214" name="Picture 6" descr="Train gradient.jpg"/>
            <p:cNvPicPr/>
            <p:nvPr/>
          </p:nvPicPr>
          <p:blipFill>
            <a:blip r:embed="rId2"/>
            <a:stretch/>
          </p:blipFill>
          <p:spPr>
            <a:xfrm>
              <a:off x="38160" y="790560"/>
              <a:ext cx="910008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Straight Connector 8"/>
            <p:cNvSpPr/>
            <p:nvPr/>
          </p:nvSpPr>
          <p:spPr>
            <a:xfrm flipV="1">
              <a:off x="4304880" y="4748760"/>
              <a:ext cx="824760" cy="2376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70680" y="4597560"/>
              <a:ext cx="3973320" cy="18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55640" y="2806200"/>
            <a:ext cx="46897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000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0000" algn="ctr">
              <a:spcBef>
                <a:spcPts val="451"/>
              </a:spcBef>
              <a:buClr>
                <a:srgbClr val="ffc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85640" indent="66960" algn="ctr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41240" indent="81000" algn="ctr">
              <a:spcBef>
                <a:spcPts val="400"/>
              </a:spcBef>
              <a:buClr>
                <a:srgbClr val="ffc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41240" indent="810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41240" indent="810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71640" y="549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 rot="1388400">
            <a:off x="1171080" y="3236760"/>
            <a:ext cx="464832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Saying goodbye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lu"/>
    <p:sndAc>
      <p:stSnd>
        <p:snd r:embed="rId1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179280" y="765000"/>
            <a:ext cx="5077080" cy="4953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3995640" y="62064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LICE CA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823" r="0" b="0"/>
          <a:stretch/>
        </p:blipFill>
        <p:spPr>
          <a:xfrm>
            <a:off x="0" y="1397160"/>
            <a:ext cx="7458120" cy="4336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348000" y="62064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TORBIK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750" r="0" b="0"/>
          <a:stretch/>
        </p:blipFill>
        <p:spPr>
          <a:xfrm>
            <a:off x="179280" y="969840"/>
            <a:ext cx="7458120" cy="4764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348000" y="62064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PLAN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48160" y="1916280"/>
            <a:ext cx="4695840" cy="4941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1042920" y="98100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hool bus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0" y="801720"/>
            <a:ext cx="4284720" cy="49528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851280" y="62064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cycl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5003640" cy="35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push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585" t="722" r="0" b="0"/>
          <a:stretch/>
        </p:blipFill>
        <p:spPr>
          <a:xfrm>
            <a:off x="0" y="765000"/>
            <a:ext cx="6659640" cy="4953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140360" y="1341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RRY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7561440" cy="4869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859280" y="386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LICOPTE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5113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780000" y="620640"/>
            <a:ext cx="48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IP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5280" y="47628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drive a bus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867280" cy="365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932360" y="184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bus driver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33336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drive a taxi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5832720" cy="4189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932360" y="1844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taxi driver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743" r="0" b="0"/>
          <a:stretch/>
        </p:blipFill>
        <p:spPr>
          <a:xfrm>
            <a:off x="0" y="927000"/>
            <a:ext cx="6588000" cy="4807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 rot="1388400">
            <a:off x="5076360" y="404640"/>
            <a:ext cx="385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the school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260280"/>
            <a:ext cx="3348000" cy="792360"/>
            <a:chOff x="0" y="260280"/>
            <a:chExt cx="3348000" cy="792360"/>
          </a:xfrm>
        </p:grpSpPr>
        <p:sp>
          <p:nvSpPr>
            <p:cNvPr id="267" name=""/>
            <p:cNvSpPr/>
            <p:nvPr/>
          </p:nvSpPr>
          <p:spPr>
            <a:xfrm>
              <a:off x="0" y="260280"/>
              <a:ext cx="3348000" cy="792360"/>
            </a:xfrm>
            <a:prstGeom prst="wedgeEllipseCallout">
              <a:avLst>
                <a:gd name="adj1" fmla="val -4384"/>
                <a:gd name="adj2" fmla="val 86874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5280" y="404640"/>
              <a:ext cx="26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TAKE CAR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700360" y="1052640"/>
            <a:ext cx="2520720" cy="863640"/>
            <a:chOff x="2700360" y="1052640"/>
            <a:chExt cx="2520720" cy="863640"/>
          </a:xfrm>
        </p:grpSpPr>
        <p:sp>
          <p:nvSpPr>
            <p:cNvPr id="270" name=""/>
            <p:cNvSpPr/>
            <p:nvPr/>
          </p:nvSpPr>
          <p:spPr>
            <a:xfrm>
              <a:off x="2700360" y="1052640"/>
              <a:ext cx="2520720" cy="863640"/>
            </a:xfrm>
            <a:prstGeom prst="wedgeEllipseCallout">
              <a:avLst>
                <a:gd name="adj1" fmla="val -3717"/>
                <a:gd name="adj2" fmla="val 75550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6520" y="1197000"/>
              <a:ext cx="225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0066"/>
                  </a:solidFill>
                  <a:latin typeface="Arial"/>
                </a:rPr>
                <a:t>GOODBY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076720" y="191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pilot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7080" cy="4818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68360" y="33336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00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can fly an aeroplane?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00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 rot="1388400">
            <a:off x="5076360" y="549360"/>
            <a:ext cx="385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a railway station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523" t="0" r="0" b="11544"/>
          <a:stretch/>
        </p:blipFill>
        <p:spPr>
          <a:xfrm>
            <a:off x="0" y="1322280"/>
            <a:ext cx="6554880" cy="44118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468360" y="404640"/>
            <a:ext cx="3240000" cy="1440000"/>
            <a:chOff x="468360" y="404640"/>
            <a:chExt cx="3240000" cy="1440000"/>
          </a:xfrm>
        </p:grpSpPr>
        <p:sp>
          <p:nvSpPr>
            <p:cNvPr id="275" name=""/>
            <p:cNvSpPr/>
            <p:nvPr/>
          </p:nvSpPr>
          <p:spPr>
            <a:xfrm>
              <a:off x="468360" y="404640"/>
              <a:ext cx="3240000" cy="1440000"/>
            </a:xfrm>
            <a:prstGeom prst="wedgeEllipseCallout">
              <a:avLst>
                <a:gd name="adj1" fmla="val -29666"/>
                <a:gd name="adj2" fmla="val 93439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549360"/>
              <a:ext cx="244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I WILL MISS YOU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826080" y="669600"/>
            <a:ext cx="3579120" cy="2207160"/>
            <a:chOff x="3826080" y="669600"/>
            <a:chExt cx="3579120" cy="2207160"/>
          </a:xfrm>
        </p:grpSpPr>
        <p:sp>
          <p:nvSpPr>
            <p:cNvPr id="278" name=""/>
            <p:cNvSpPr/>
            <p:nvPr/>
          </p:nvSpPr>
          <p:spPr>
            <a:xfrm rot="1419600">
              <a:off x="3850920" y="1341360"/>
              <a:ext cx="3529080" cy="863640"/>
            </a:xfrm>
            <a:prstGeom prst="wedgeEllipseCallout">
              <a:avLst>
                <a:gd name="adj1" fmla="val 5263"/>
                <a:gd name="adj2" fmla="val 98240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506600">
              <a:off x="4354920" y="1484280"/>
              <a:ext cx="23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GOODBY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585" t="722" r="0" b="0"/>
          <a:stretch/>
        </p:blipFill>
        <p:spPr>
          <a:xfrm>
            <a:off x="0" y="765000"/>
            <a:ext cx="6516720" cy="4953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 rot="1388400">
            <a:off x="5076360" y="404640"/>
            <a:ext cx="385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t an airport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771640" y="692280"/>
            <a:ext cx="2592360" cy="1441440"/>
            <a:chOff x="2771640" y="692280"/>
            <a:chExt cx="2592360" cy="1441440"/>
          </a:xfrm>
        </p:grpSpPr>
        <p:sp>
          <p:nvSpPr>
            <p:cNvPr id="283" name=""/>
            <p:cNvSpPr/>
            <p:nvPr/>
          </p:nvSpPr>
          <p:spPr>
            <a:xfrm>
              <a:off x="2916000" y="692280"/>
              <a:ext cx="2305080" cy="1441440"/>
            </a:xfrm>
            <a:prstGeom prst="wedgeEllipseCallout">
              <a:avLst>
                <a:gd name="adj1" fmla="val -37050"/>
                <a:gd name="adj2" fmla="val 88324"/>
              </a:avLst>
            </a:prstGeom>
            <a:solidFill>
              <a:srgbClr val="f4b942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1640" y="907920"/>
              <a:ext cx="25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SEE YOU LATER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24160" y="1295280"/>
            <a:ext cx="3057840" cy="1467360"/>
            <a:chOff x="5024160" y="1295280"/>
            <a:chExt cx="3057840" cy="1467360"/>
          </a:xfrm>
        </p:grpSpPr>
        <p:sp>
          <p:nvSpPr>
            <p:cNvPr id="286" name=""/>
            <p:cNvSpPr/>
            <p:nvPr/>
          </p:nvSpPr>
          <p:spPr>
            <a:xfrm rot="810000">
              <a:off x="5076720" y="1628640"/>
              <a:ext cx="2952720" cy="800280"/>
            </a:xfrm>
            <a:prstGeom prst="wedgeEllipseCallout">
              <a:avLst>
                <a:gd name="adj1" fmla="val -40620"/>
                <a:gd name="adj2" fmla="val 109319"/>
              </a:avLst>
            </a:prstGeom>
            <a:solidFill>
              <a:srgbClr val="ffff99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897000">
              <a:off x="5675400" y="1811880"/>
              <a:ext cx="210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66"/>
                  </a:solidFill>
                  <a:latin typeface="Arial"/>
                </a:rPr>
                <a:t>BYE BY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4360" y="476280"/>
            <a:ext cx="779148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ich means 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 transport 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n we see in our streets?</a:t>
            </a:r>
            <a:endParaRPr b="0" lang="en-US" sz="6000" spc="1" strike="noStrike">
              <a:ln w="19080">
                <a:solidFill>
                  <a:srgbClr val="ff66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lu"/>
    <p:sndAc>
      <p:stSnd>
        <p:snd r:embed="rId7" name="pu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55640" y="476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IN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716360" y="62064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7493040" cy="3691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510" t="777" r="0" b="0"/>
          <a:stretch/>
        </p:blipFill>
        <p:spPr>
          <a:xfrm>
            <a:off x="0" y="1341360"/>
            <a:ext cx="7021440" cy="4383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995640" y="54936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XI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24000" y="5734080"/>
            <a:ext cx="259236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585" t="0" r="0" b="0"/>
          <a:stretch/>
        </p:blipFill>
        <p:spPr>
          <a:xfrm>
            <a:off x="179280" y="744480"/>
            <a:ext cx="6121440" cy="4989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211640" y="62064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00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BULANCE</a:t>
            </a:r>
            <a:endParaRPr b="0" lang="en-US" sz="1800" spc="1" strike="noStrike">
              <a:ln w="255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00cc">
                      <a:alpha val="50196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lu"/>
    <p:sndAc>
      <p:stSnd>
        <p:snd r:embed="rId2" name="push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5:09Z</dcterms:created>
  <dc:creator>Manager</dc:creator>
  <dc:description/>
  <dc:language>en-US</dc:language>
  <cp:lastModifiedBy> </cp:lastModifiedBy>
  <dcterms:modified xsi:type="dcterms:W3CDTF">2008-04-28T14:45:14Z</dcterms:modified>
  <cp:revision>32</cp:revision>
  <dc:subject/>
  <dc:title>Slide 1</dc:title>
</cp:coreProperties>
</file>