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EA8-2FB0-4E6E-9BBA-5E33C4FD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067D-56EA-48E5-A881-E2F8017D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03A-08A7-4FC7-93E8-1E15A89C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103F-1073-48F8-8C89-B67D6A6E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AD5B-4476-4DDC-9DBC-5DA5ED31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BC11-894C-4483-A825-D0066415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2E99-4C84-46D5-A504-05921F51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BA85-A563-4B74-A042-4B682E1C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02BB-C71F-4FC3-8777-202F5166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4F6D-C752-4326-88C9-7C66AD99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C7B7-D0D7-49C7-89EF-4275DCA5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FDF-3A87-4136-AD62-85CF0E21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4CDF-CC23-4D83-807D-3871DB09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BE1A-D77B-4779-9418-D1E6107F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6037-9FFB-4284-8249-F2AD67FA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3EAE-7846-4EB2-B4D6-AE571E1D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392F-3EE8-408A-B96C-737D6F69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B3BF-94D7-4FCA-A42D-5A099D30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277A-C831-4D9B-AB1C-2B6054C0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CD45-94A8-42B4-B9B4-7AD47067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1A9-15C5-40FB-BEDC-AACEBC91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58B-1B39-4348-8F32-E94EFD6A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2DB-A238-463A-8215-09B5B371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BEB-4FA6-4EB3-9E33-4AD005EB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3544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10EF-16EC-49A1-9442-F9D15F83A43B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354418"/>
            </a:solidFill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3544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E6F8-5D0D-4871-A940-ED4865DF918D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9280" y="404640"/>
            <a:ext cx="2838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SITIONS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40360" y="2708280"/>
            <a:ext cx="3671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AND UP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2598840" cy="3249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9280" y="404640"/>
            <a:ext cx="2838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SITIONS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4720" y="2781360"/>
            <a:ext cx="3600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IT DOWN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3249720" cy="3249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859280" y="404640"/>
            <a:ext cx="2838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SITIONS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2436840" cy="324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995640" y="2708280"/>
            <a:ext cx="4176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KNEEL DOWN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9280" y="404640"/>
            <a:ext cx="2838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SITIONS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40360" y="2708280"/>
            <a:ext cx="4248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OUCH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OWN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31496" b="0"/>
          <a:stretch/>
        </p:blipFill>
        <p:spPr>
          <a:xfrm>
            <a:off x="611280" y="1916280"/>
            <a:ext cx="3262320" cy="3571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859280" y="404640"/>
            <a:ext cx="2838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SITIONS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788000" y="2708280"/>
            <a:ext cx="36716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IE DOWN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4062600" cy="2979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116000" y="404640"/>
            <a:ext cx="655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ich is the position?</a:t>
            </a:r>
            <a:endParaRPr b="0" i="1" lang="en-US" sz="18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427640" y="1700280"/>
            <a:ext cx="216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IE DOWN</a:t>
            </a:r>
            <a:endParaRPr b="0" i="1" lang="en-US" sz="20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724360" y="342900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AND UP</a:t>
            </a:r>
            <a:endParaRPr b="0" i="1" lang="en-US" sz="20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4360" y="5516640"/>
            <a:ext cx="22320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IT DOWN</a:t>
            </a:r>
            <a:endParaRPr b="0" i="1" lang="en-US" sz="20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9640" y="1628640"/>
            <a:ext cx="1728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KNEEL </a:t>
            </a:r>
            <a:endParaRPr b="0" i="1" lang="en-US" sz="20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OWN</a:t>
            </a:r>
            <a:endParaRPr b="0" i="1" lang="en-US" sz="20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95640" y="4941720"/>
            <a:ext cx="22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OUCH </a:t>
            </a:r>
            <a:endParaRPr b="0" i="1" lang="en-US" sz="20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28440">
                  <a:solidFill>
                    <a:srgbClr val="33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OWN</a:t>
            </a:r>
            <a:endParaRPr b="0" i="1" lang="en-US" sz="2000" spc="1" strike="noStrike">
              <a:ln w="28440">
                <a:solidFill>
                  <a:srgbClr val="33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089080" cy="1155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211640" y="2637000"/>
            <a:ext cx="1289160" cy="1758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1701720" cy="1882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rcRect l="11339" t="0" r="11339" b="0"/>
          <a:stretch/>
        </p:blipFill>
        <p:spPr>
          <a:xfrm>
            <a:off x="2340000" y="1557360"/>
            <a:ext cx="1841400" cy="2143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6372360" y="4292640"/>
            <a:ext cx="1439640" cy="1873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2:04:44Z</dcterms:created>
  <dc:creator>admin</dc:creator>
  <dc:description/>
  <dc:language>en-US</dc:language>
  <cp:lastModifiedBy> </cp:lastModifiedBy>
  <dcterms:modified xsi:type="dcterms:W3CDTF">2008-02-24T13:25:09Z</dcterms:modified>
  <cp:revision>13</cp:revision>
  <dc:subject/>
  <dc:title>Slide 1</dc:title>
</cp:coreProperties>
</file>