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7C9-2BCD-49BE-A5F5-ACC9AE30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5A4-5E43-413E-8CBA-FDBB25A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DFD-063B-49DE-B05E-27B6AA06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20D-D6A6-4121-9F09-2954E1F1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732-8E2B-477D-A16F-96C7467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BF7-40C5-45FF-A92F-2DB4C63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D3B-BE3B-4042-8D1F-E3C55AE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D8D-CB2D-4CFE-9915-9FE9658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1F6-C124-42C5-B57C-371DA8D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65C-BE2C-4546-BB2A-1B6571D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207-CDFA-4F47-B0BB-8B61CC9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55A-F9C2-489D-A9FB-9067829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033-FFFB-471E-A8A0-ACE4E6118E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2238-A78F-423D-8A23-34AEBC15F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2536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aramon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8604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5486400" y="0"/>
            <a:ext cx="1873080" cy="118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7270920" y="0"/>
            <a:ext cx="1873080" cy="118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42920" y="0"/>
            <a:ext cx="2881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bbbbd1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S</a:t>
            </a:r>
            <a:endParaRPr b="0" lang="en-US" sz="2400" spc="1" strike="noStrike">
              <a:ln w="381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bbbbd1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MCj03788730000[1]"/>
          <p:cNvPicPr/>
          <p:nvPr/>
        </p:nvPicPr>
        <p:blipFill>
          <a:blip r:embed="rId1"/>
          <a:stretch/>
        </p:blipFill>
        <p:spPr>
          <a:xfrm>
            <a:off x="1187280" y="2637000"/>
            <a:ext cx="3191040" cy="367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N ASTRONAU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Cj03788730000[1]"/>
          <p:cNvPicPr/>
          <p:nvPr/>
        </p:nvPicPr>
        <p:blipFill>
          <a:blip r:embed="rId1"/>
          <a:stretch/>
        </p:blipFill>
        <p:spPr>
          <a:xfrm>
            <a:off x="1258920" y="2060640"/>
            <a:ext cx="3255840" cy="3744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4356000" y="333360"/>
            <a:ext cx="4032360" cy="2475000"/>
            <a:chOff x="4356000" y="333360"/>
            <a:chExt cx="4032360" cy="2475000"/>
          </a:xfrm>
        </p:grpSpPr>
        <p:sp>
          <p:nvSpPr>
            <p:cNvPr id="130" name=""/>
            <p:cNvSpPr/>
            <p:nvPr/>
          </p:nvSpPr>
          <p:spPr>
            <a:xfrm>
              <a:off x="435600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0072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0360" y="457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FIR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6" name="Picture 5" descr="C:\Documents and Settings\scap0s12\Local Settings\Temporary Internet Files\Content.IE5\DPD1Z1Z2\MCj02908990000[1].wmf"/>
          <p:cNvPicPr/>
          <p:nvPr/>
        </p:nvPicPr>
        <p:blipFill>
          <a:blip r:embed="rId1"/>
          <a:stretch/>
        </p:blipFill>
        <p:spPr>
          <a:xfrm>
            <a:off x="1547640" y="2921040"/>
            <a:ext cx="4319640" cy="351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C:\Documents and Settings\scap0s12\Local Settings\Temporary Internet Files\Content.IE5\DPD1Z1Z2\MCj02908990000[1].wmf"/>
          <p:cNvPicPr/>
          <p:nvPr/>
        </p:nvPicPr>
        <p:blipFill>
          <a:blip r:embed="rId1"/>
          <a:stretch/>
        </p:blipFill>
        <p:spPr>
          <a:xfrm>
            <a:off x="1042920" y="2565360"/>
            <a:ext cx="4319640" cy="35164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995640" y="260280"/>
            <a:ext cx="4032360" cy="2808360"/>
            <a:chOff x="3995640" y="260280"/>
            <a:chExt cx="4032360" cy="2808360"/>
          </a:xfrm>
        </p:grpSpPr>
        <p:sp>
          <p:nvSpPr>
            <p:cNvPr id="142" name=""/>
            <p:cNvSpPr/>
            <p:nvPr/>
          </p:nvSpPr>
          <p:spPr>
            <a:xfrm>
              <a:off x="3995640" y="260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3920" y="1268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OO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Picture 6" descr="C:\Documents and Settings\scap0s12\Local Settings\Temporary Internet Files\Content.IE5\DPD1Z1Z2\MCj02129170000[1].wmf"/>
          <p:cNvPicPr/>
          <p:nvPr/>
        </p:nvPicPr>
        <p:blipFill>
          <a:blip r:embed="rId1"/>
          <a:stretch/>
        </p:blipFill>
        <p:spPr>
          <a:xfrm>
            <a:off x="1835280" y="2924280"/>
            <a:ext cx="2814480" cy="32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76720" y="476280"/>
            <a:ext cx="4032000" cy="2475000"/>
            <a:chOff x="3276720" y="476280"/>
            <a:chExt cx="4032000" cy="2475000"/>
          </a:xfrm>
        </p:grpSpPr>
        <p:sp>
          <p:nvSpPr>
            <p:cNvPr id="151" name=""/>
            <p:cNvSpPr/>
            <p:nvPr/>
          </p:nvSpPr>
          <p:spPr>
            <a:xfrm>
              <a:off x="3276720" y="476280"/>
              <a:ext cx="403200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1080" y="83520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6" descr="C:\Documents and Settings\scap0s12\Local Settings\Temporary Internet Files\Content.IE5\DPD1Z1Z2\MCj02129170000[1].wmf"/>
          <p:cNvPicPr/>
          <p:nvPr/>
        </p:nvPicPr>
        <p:blipFill>
          <a:blip r:embed="rId1"/>
          <a:stretch/>
        </p:blipFill>
        <p:spPr>
          <a:xfrm>
            <a:off x="1332000" y="2492280"/>
            <a:ext cx="281304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0481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05040" y="3062160"/>
            <a:ext cx="496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CIENTI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8" name="Picture 6" descr="C:\Documents and Settings\scap0s12\Local Settings\Temporary Internet Files\Content.IE5\TNE0XPGR\MCj02875010000[1].wmf"/>
          <p:cNvPicPr/>
          <p:nvPr/>
        </p:nvPicPr>
        <p:blipFill>
          <a:blip r:embed="rId1"/>
          <a:stretch/>
        </p:blipFill>
        <p:spPr>
          <a:xfrm>
            <a:off x="1547640" y="2708280"/>
            <a:ext cx="2568600" cy="38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35280" y="189000"/>
            <a:ext cx="4032360" cy="2808360"/>
            <a:chOff x="3635280" y="189000"/>
            <a:chExt cx="4032360" cy="2808360"/>
          </a:xfrm>
        </p:grpSpPr>
        <p:sp>
          <p:nvSpPr>
            <p:cNvPr id="163" name=""/>
            <p:cNvSpPr/>
            <p:nvPr/>
          </p:nvSpPr>
          <p:spPr>
            <a:xfrm>
              <a:off x="3635280" y="18900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3560" y="119700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Picture 6" descr="C:\Documents and Settings\scap0s12\Local Settings\Temporary Internet Files\Content.IE5\TNE0XPGR\MCj02875010000[1].wmf"/>
          <p:cNvPicPr/>
          <p:nvPr/>
        </p:nvPicPr>
        <p:blipFill>
          <a:blip r:embed="rId1"/>
          <a:stretch/>
        </p:blipFill>
        <p:spPr>
          <a:xfrm>
            <a:off x="826920" y="2133720"/>
            <a:ext cx="2683080" cy="40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200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WAIT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Picture 9" descr="C:\Documents and Settings\scap0s12\Local Settings\Temporary Internet Files\Content.IE5\TNE0XPGR\MCj03558950000[1].wmf"/>
          <p:cNvPicPr/>
          <p:nvPr/>
        </p:nvPicPr>
        <p:blipFill>
          <a:blip r:embed="rId1"/>
          <a:stretch/>
        </p:blipFill>
        <p:spPr>
          <a:xfrm>
            <a:off x="1332000" y="2997360"/>
            <a:ext cx="310032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92360" y="692280"/>
            <a:ext cx="4032360" cy="2808000"/>
            <a:chOff x="3492360" y="692280"/>
            <a:chExt cx="4032360" cy="2808000"/>
          </a:xfrm>
        </p:grpSpPr>
        <p:sp>
          <p:nvSpPr>
            <p:cNvPr id="173" name=""/>
            <p:cNvSpPr/>
            <p:nvPr/>
          </p:nvSpPr>
          <p:spPr>
            <a:xfrm>
              <a:off x="3492360" y="692280"/>
              <a:ext cx="4032360" cy="280800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40640" y="169992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Picture 9" descr="C:\Documents and Settings\scap0s12\Local Settings\Temporary Internet Files\Content.IE5\TNE0XPGR\MCj03558950000[1].wmf"/>
          <p:cNvPicPr/>
          <p:nvPr/>
        </p:nvPicPr>
        <p:blipFill>
          <a:blip r:embed="rId1"/>
          <a:stretch/>
        </p:blipFill>
        <p:spPr>
          <a:xfrm>
            <a:off x="826920" y="2565360"/>
            <a:ext cx="30387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264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2920" y="836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ECRETAR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Picture 6" descr="MCj02334160000[1]"/>
          <p:cNvPicPr/>
          <p:nvPr/>
        </p:nvPicPr>
        <p:blipFill>
          <a:blip r:embed="rId1"/>
          <a:stretch/>
        </p:blipFill>
        <p:spPr>
          <a:xfrm>
            <a:off x="3059280" y="2924280"/>
            <a:ext cx="271620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PENT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9" name="Picture 4" descr="occupations_gymnast_s"/>
          <p:cNvPicPr/>
          <p:nvPr/>
        </p:nvPicPr>
        <p:blipFill>
          <a:blip r:embed="rId1"/>
          <a:stretch/>
        </p:blipFill>
        <p:spPr>
          <a:xfrm>
            <a:off x="1547640" y="3068640"/>
            <a:ext cx="3745080" cy="335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184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4" descr="occupations_gymnast_s"/>
          <p:cNvPicPr/>
          <p:nvPr/>
        </p:nvPicPr>
        <p:blipFill>
          <a:blip r:embed="rId1"/>
          <a:stretch/>
        </p:blipFill>
        <p:spPr>
          <a:xfrm>
            <a:off x="1258920" y="3068640"/>
            <a:ext cx="3095640" cy="27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N ARTI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9" name="Picture 8" descr="C:\Documents and Settings\scap0s12\Local Settings\Temporary Internet Files\Content.IE5\6G5PWHFH\MCj03974600000[1].wmf"/>
          <p:cNvPicPr/>
          <p:nvPr/>
        </p:nvPicPr>
        <p:blipFill>
          <a:blip r:embed="rId1"/>
          <a:stretch/>
        </p:blipFill>
        <p:spPr>
          <a:xfrm>
            <a:off x="826920" y="3068640"/>
            <a:ext cx="388944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8" descr="C:\Documents and Settings\scap0s12\Local Settings\Temporary Internet Files\Content.IE5\6G5PWHFH\MCj03974600000[1].wmf"/>
          <p:cNvPicPr/>
          <p:nvPr/>
        </p:nvPicPr>
        <p:blipFill>
          <a:blip r:embed="rId1"/>
          <a:stretch/>
        </p:blipFill>
        <p:spPr>
          <a:xfrm>
            <a:off x="395280" y="2781360"/>
            <a:ext cx="4392720" cy="37400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3348000" y="189000"/>
            <a:ext cx="4032360" cy="2808360"/>
            <a:chOff x="3348000" y="189000"/>
            <a:chExt cx="4032360" cy="2808360"/>
          </a:xfrm>
        </p:grpSpPr>
        <p:sp>
          <p:nvSpPr>
            <p:cNvPr id="195" name=""/>
            <p:cNvSpPr/>
            <p:nvPr/>
          </p:nvSpPr>
          <p:spPr>
            <a:xfrm>
              <a:off x="3348000" y="18900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6280" y="119700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3840" y="2498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38240" y="2771640"/>
            <a:ext cx="505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HAIRDRESS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2" name="Picture 5" descr="occupations_carpenter2_s"/>
          <p:cNvPicPr/>
          <p:nvPr/>
        </p:nvPicPr>
        <p:blipFill>
          <a:blip r:embed="rId1"/>
          <a:stretch/>
        </p:blipFill>
        <p:spPr>
          <a:xfrm>
            <a:off x="4643280" y="2924280"/>
            <a:ext cx="3276720" cy="319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207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5" descr="occupations_carpenter2_s"/>
          <p:cNvPicPr/>
          <p:nvPr/>
        </p:nvPicPr>
        <p:blipFill>
          <a:blip r:embed="rId1"/>
          <a:stretch/>
        </p:blipFill>
        <p:spPr>
          <a:xfrm>
            <a:off x="971640" y="2708280"/>
            <a:ext cx="3024000" cy="294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OO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522960" cy="37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00720" y="549360"/>
            <a:ext cx="4032000" cy="2808360"/>
            <a:chOff x="4500720" y="549360"/>
            <a:chExt cx="4032000" cy="2808360"/>
          </a:xfrm>
        </p:grpSpPr>
        <p:sp>
          <p:nvSpPr>
            <p:cNvPr id="216" name=""/>
            <p:cNvSpPr/>
            <p:nvPr/>
          </p:nvSpPr>
          <p:spPr>
            <a:xfrm>
              <a:off x="4500720" y="549360"/>
              <a:ext cx="403200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48640" y="1557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16360" cy="41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51460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ECRETAR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4464000" cy="35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4537080" cy="36133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4427640" y="836640"/>
            <a:ext cx="4032000" cy="2475000"/>
            <a:chOff x="4427640" y="836640"/>
            <a:chExt cx="4032000" cy="2475000"/>
          </a:xfrm>
        </p:grpSpPr>
        <p:sp>
          <p:nvSpPr>
            <p:cNvPr id="228" name=""/>
            <p:cNvSpPr/>
            <p:nvPr/>
          </p:nvSpPr>
          <p:spPr>
            <a:xfrm>
              <a:off x="4427640" y="836640"/>
              <a:ext cx="403200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119556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MCj02334160000[1]"/>
          <p:cNvPicPr/>
          <p:nvPr/>
        </p:nvPicPr>
        <p:blipFill>
          <a:blip r:embed="rId1"/>
          <a:stretch/>
        </p:blipFill>
        <p:spPr>
          <a:xfrm>
            <a:off x="971640" y="1628640"/>
            <a:ext cx="31525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95640" y="476280"/>
            <a:ext cx="4032360" cy="2808360"/>
            <a:chOff x="3995640" y="476280"/>
            <a:chExt cx="4032360" cy="2808360"/>
          </a:xfrm>
        </p:grpSpPr>
        <p:sp>
          <p:nvSpPr>
            <p:cNvPr id="83" name=""/>
            <p:cNvSpPr/>
            <p:nvPr/>
          </p:nvSpPr>
          <p:spPr>
            <a:xfrm>
              <a:off x="3995640" y="476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43920" y="1484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14600" y="2438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MUSICI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3600360" cy="337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427640" y="549360"/>
            <a:ext cx="4032000" cy="2808360"/>
            <a:chOff x="4427640" y="549360"/>
            <a:chExt cx="4032000" cy="2808360"/>
          </a:xfrm>
        </p:grpSpPr>
        <p:sp>
          <p:nvSpPr>
            <p:cNvPr id="237" name=""/>
            <p:cNvSpPr/>
            <p:nvPr/>
          </p:nvSpPr>
          <p:spPr>
            <a:xfrm>
              <a:off x="4427640" y="549360"/>
              <a:ext cx="403200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5560" y="1557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404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89280" y="24987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ILO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4" name="Picture 5" descr="science_space_s"/>
          <p:cNvPicPr/>
          <p:nvPr/>
        </p:nvPicPr>
        <p:blipFill>
          <a:blip r:embed="rId1"/>
          <a:stretch/>
        </p:blipFill>
        <p:spPr>
          <a:xfrm>
            <a:off x="1619280" y="3213000"/>
            <a:ext cx="6192720" cy="279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science_space_s"/>
          <p:cNvPicPr/>
          <p:nvPr/>
        </p:nvPicPr>
        <p:blipFill>
          <a:blip r:embed="rId1"/>
          <a:stretch/>
        </p:blipFill>
        <p:spPr>
          <a:xfrm rot="616200">
            <a:off x="323640" y="3068640"/>
            <a:ext cx="6408720" cy="28972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643280" y="1052640"/>
            <a:ext cx="4032360" cy="2474640"/>
            <a:chOff x="4643280" y="1052640"/>
            <a:chExt cx="4032360" cy="2474640"/>
          </a:xfrm>
        </p:grpSpPr>
        <p:sp>
          <p:nvSpPr>
            <p:cNvPr id="250" name=""/>
            <p:cNvSpPr/>
            <p:nvPr/>
          </p:nvSpPr>
          <p:spPr>
            <a:xfrm>
              <a:off x="4643280" y="1052640"/>
              <a:ext cx="403236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88000" y="1411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OLIC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954520" cy="38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851280" y="404640"/>
            <a:ext cx="4032360" cy="2808360"/>
            <a:chOff x="3851280" y="404640"/>
            <a:chExt cx="4032360" cy="2808360"/>
          </a:xfrm>
        </p:grpSpPr>
        <p:sp>
          <p:nvSpPr>
            <p:cNvPr id="259" name=""/>
            <p:cNvSpPr/>
            <p:nvPr/>
          </p:nvSpPr>
          <p:spPr>
            <a:xfrm>
              <a:off x="3851280" y="40464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99560" y="141264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268800" cy="42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11280" y="69228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DRIV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790720" y="2305080"/>
            <a:ext cx="351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435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924360" y="692280"/>
            <a:ext cx="4032360" cy="2808000"/>
            <a:chOff x="3924360" y="692280"/>
            <a:chExt cx="4032360" cy="2808000"/>
          </a:xfrm>
        </p:grpSpPr>
        <p:sp>
          <p:nvSpPr>
            <p:cNvPr id="271" name=""/>
            <p:cNvSpPr/>
            <p:nvPr/>
          </p:nvSpPr>
          <p:spPr>
            <a:xfrm>
              <a:off x="3924360" y="692280"/>
              <a:ext cx="4032360" cy="280800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72640" y="169992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VE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6121440" cy="334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689440" cy="3105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4427640" y="692280"/>
            <a:ext cx="4032000" cy="2474640"/>
            <a:chOff x="4427640" y="692280"/>
            <a:chExt cx="4032000" cy="2474640"/>
          </a:xfrm>
        </p:grpSpPr>
        <p:sp>
          <p:nvSpPr>
            <p:cNvPr id="281" name=""/>
            <p:cNvSpPr/>
            <p:nvPr/>
          </p:nvSpPr>
          <p:spPr>
            <a:xfrm>
              <a:off x="4427640" y="692280"/>
              <a:ext cx="403200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0" y="105084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ETAK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4" descr="C:\Documents and Settings\scap0s12\Local Settings\Temporary Internet Files\Content.IE5\PWHEYQTV\MCj04361290000[1].wmf"/>
          <p:cNvPicPr/>
          <p:nvPr/>
        </p:nvPicPr>
        <p:blipFill>
          <a:blip r:embed="rId1"/>
          <a:stretch/>
        </p:blipFill>
        <p:spPr>
          <a:xfrm>
            <a:off x="1187280" y="2997360"/>
            <a:ext cx="3241800" cy="292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HAIRDRESS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3527280" cy="350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176720" cy="41547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995640" y="476280"/>
            <a:ext cx="4032360" cy="2808360"/>
            <a:chOff x="3995640" y="476280"/>
            <a:chExt cx="4032360" cy="2808360"/>
          </a:xfrm>
        </p:grpSpPr>
        <p:sp>
          <p:nvSpPr>
            <p:cNvPr id="292" name=""/>
            <p:cNvSpPr/>
            <p:nvPr/>
          </p:nvSpPr>
          <p:spPr>
            <a:xfrm>
              <a:off x="3995640" y="47628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43920" y="14842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GIMNAS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400720" cy="289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11640" y="1052640"/>
            <a:ext cx="4032360" cy="2474640"/>
            <a:chOff x="5111640" y="1052640"/>
            <a:chExt cx="4032360" cy="2474640"/>
          </a:xfrm>
        </p:grpSpPr>
        <p:sp>
          <p:nvSpPr>
            <p:cNvPr id="301" name=""/>
            <p:cNvSpPr/>
            <p:nvPr/>
          </p:nvSpPr>
          <p:spPr>
            <a:xfrm>
              <a:off x="5111640" y="1052640"/>
              <a:ext cx="403236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6360" y="1411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4897440" cy="262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SOLDI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128680" y="2708280"/>
            <a:ext cx="3164040" cy="38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340080" cy="410508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851280" y="333360"/>
            <a:ext cx="4032360" cy="2808360"/>
            <a:chOff x="3851280" y="333360"/>
            <a:chExt cx="4032360" cy="2808360"/>
          </a:xfrm>
        </p:grpSpPr>
        <p:sp>
          <p:nvSpPr>
            <p:cNvPr id="313" name=""/>
            <p:cNvSpPr/>
            <p:nvPr/>
          </p:nvSpPr>
          <p:spPr>
            <a:xfrm>
              <a:off x="3851280" y="333360"/>
              <a:ext cx="4032360" cy="280836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99560" y="134136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CARETAK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752720" cy="394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48243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3995640" y="476280"/>
            <a:ext cx="4032360" cy="2475000"/>
            <a:chOff x="3995640" y="476280"/>
            <a:chExt cx="4032360" cy="2475000"/>
          </a:xfrm>
        </p:grpSpPr>
        <p:sp>
          <p:nvSpPr>
            <p:cNvPr id="324" name=""/>
            <p:cNvSpPr/>
            <p:nvPr/>
          </p:nvSpPr>
          <p:spPr>
            <a:xfrm>
              <a:off x="3995640" y="47628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0360" y="83520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981080" y="51814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79720" y="2727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11280" y="83664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POLICEM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627280" y="2465280"/>
            <a:ext cx="3086280" cy="420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09960" cy="532764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336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scap0s12\Local Settings\Temporary Internet Files\Content.IE5\PWHEYQTV\MCj04361290000[1].wmf"/>
          <p:cNvPicPr/>
          <p:nvPr/>
        </p:nvPicPr>
        <p:blipFill>
          <a:blip r:embed="rId1"/>
          <a:stretch/>
        </p:blipFill>
        <p:spPr>
          <a:xfrm>
            <a:off x="900000" y="1844640"/>
            <a:ext cx="3959280" cy="35719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635280" y="333360"/>
            <a:ext cx="4032360" cy="2475000"/>
            <a:chOff x="3635280" y="333360"/>
            <a:chExt cx="4032360" cy="2475000"/>
          </a:xfrm>
        </p:grpSpPr>
        <p:sp>
          <p:nvSpPr>
            <p:cNvPr id="96" name=""/>
            <p:cNvSpPr/>
            <p:nvPr/>
          </p:nvSpPr>
          <p:spPr>
            <a:xfrm>
              <a:off x="3635280" y="333360"/>
              <a:ext cx="4032360" cy="247500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0000" y="692280"/>
              <a:ext cx="3697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11280" y="263700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ARE YOU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447920" y="29732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021200" cy="4032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0" y="620640"/>
            <a:ext cx="4248000" cy="2303640"/>
          </a:xfrm>
          <a:prstGeom prst="wedgeEllipseCallout">
            <a:avLst>
              <a:gd name="adj1" fmla="val -73166"/>
              <a:gd name="adj2" fmla="val 62472"/>
            </a:avLst>
          </a:prstGeom>
          <a:solidFill>
            <a:srgbClr val="ffffff"/>
          </a:solidFill>
          <a:ln w="475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105264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9900"/>
                </a:solidFill>
                <a:latin typeface="Comic Sans MS"/>
              </a:rPr>
              <a:t>I AM A STU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9640" y="22701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748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2920" y="593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MCPE03777_0000[1]"/>
          <p:cNvPicPr/>
          <p:nvPr/>
        </p:nvPicPr>
        <p:blipFill>
          <a:blip r:embed="rId1"/>
          <a:stretch/>
        </p:blipFill>
        <p:spPr>
          <a:xfrm>
            <a:off x="1258920" y="2565360"/>
            <a:ext cx="3300480" cy="36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971640" y="47628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BRICKLAYER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MCPE03777_0000[1]"/>
          <p:cNvPicPr/>
          <p:nvPr/>
        </p:nvPicPr>
        <p:blipFill>
          <a:blip r:embed="rId1"/>
          <a:stretch/>
        </p:blipFill>
        <p:spPr>
          <a:xfrm>
            <a:off x="684360" y="2133720"/>
            <a:ext cx="356076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211640" y="260280"/>
            <a:ext cx="4032360" cy="2548080"/>
            <a:chOff x="4211640" y="260280"/>
            <a:chExt cx="4032360" cy="2548080"/>
          </a:xfrm>
        </p:grpSpPr>
        <p:sp>
          <p:nvSpPr>
            <p:cNvPr id="109" name=""/>
            <p:cNvSpPr/>
            <p:nvPr/>
          </p:nvSpPr>
          <p:spPr>
            <a:xfrm>
              <a:off x="4211640" y="260280"/>
              <a:ext cx="4032360" cy="2548080"/>
            </a:xfrm>
            <a:prstGeom prst="wedgeEllipseCallout">
              <a:avLst>
                <a:gd name="adj1" fmla="val -63541"/>
                <a:gd name="adj2" fmla="val 53449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59920" y="1174680"/>
              <a:ext cx="299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669900"/>
                  </a:solidFill>
                  <a:latin typeface="Comic Sans MS"/>
                </a:rPr>
                <a:t>YES, I AM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MCPE01458_0000[1]"/>
          <p:cNvPicPr/>
          <p:nvPr/>
        </p:nvPicPr>
        <p:blipFill>
          <a:blip r:embed="rId1"/>
          <a:stretch/>
        </p:blipFill>
        <p:spPr>
          <a:xfrm>
            <a:off x="971640" y="3645000"/>
            <a:ext cx="6048360" cy="244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042920" y="836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E YOU A MUSICIA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26668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MCPE01458_0000[1]"/>
          <p:cNvPicPr/>
          <p:nvPr/>
        </p:nvPicPr>
        <p:blipFill>
          <a:blip r:embed="rId1"/>
          <a:stretch/>
        </p:blipFill>
        <p:spPr>
          <a:xfrm>
            <a:off x="611280" y="3500280"/>
            <a:ext cx="6985080" cy="2827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427640" y="1413000"/>
            <a:ext cx="4032000" cy="2474640"/>
            <a:chOff x="4427640" y="1413000"/>
            <a:chExt cx="4032000" cy="2474640"/>
          </a:xfrm>
        </p:grpSpPr>
        <p:sp>
          <p:nvSpPr>
            <p:cNvPr id="120" name=""/>
            <p:cNvSpPr/>
            <p:nvPr/>
          </p:nvSpPr>
          <p:spPr>
            <a:xfrm>
              <a:off x="4427640" y="1413000"/>
              <a:ext cx="4032000" cy="2474640"/>
            </a:xfrm>
            <a:prstGeom prst="wedgeEllipseCallout">
              <a:avLst>
                <a:gd name="adj1" fmla="val -63541"/>
                <a:gd name="adj2" fmla="val 53912"/>
              </a:avLst>
            </a:prstGeom>
            <a:solidFill>
              <a:srgbClr val="ffffff"/>
            </a:solidFill>
            <a:ln w="47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1771560"/>
              <a:ext cx="3696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NO, I AM NOT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669900"/>
                  </a:solidFill>
                  <a:latin typeface="Comic Sans MS"/>
                </a:rPr>
                <a:t>I AM 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 </cp:lastModifiedBy>
  <dcterms:modified xsi:type="dcterms:W3CDTF">2008-03-31T16:03:59Z</dcterms:modified>
  <cp:revision>156</cp:revision>
  <dc:subject/>
  <dc:title>Blank Jeopardy</dc:title>
</cp:coreProperties>
</file>