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1.jpeg" ContentType="image/jpeg"/>
  <Override PartName="/ppt/media/image20.wmf" ContentType="image/x-wmf"/>
  <Override PartName="/ppt/media/image18.gif" ContentType="image/gif"/>
  <Override PartName="/ppt/media/image19.wmf" ContentType="image/x-wmf"/>
  <Override PartName="/ppt/media/image9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8.jpeg" ContentType="image/jpeg"/>
  <Override PartName="/ppt/media/whoosh.wav" ContentType="audio/x-wav"/>
  <Override PartName="/ppt/media/image13.wmf" ContentType="image/x-wm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FCE-F593-46F7-A43C-D6A5CADF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E69-42A0-4753-A08B-4028CED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53E-7ADF-4168-8AF1-19AD0A96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5D8-7720-49BC-B4C9-C234CFF0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F75-92EC-4C2F-A616-3310EC5E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78C-0A84-4F65-B655-21EE3BB7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D4D-B699-4FAA-BDE7-B075906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7CB-795A-41D9-AD9B-9DA34423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D04-D591-4D65-860B-4E6BFBE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4B0-A0BF-4F2D-9C9A-0FBE466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3D5-9925-47D2-AA6B-43B1E40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3B9-1D9C-49B0-9925-379F17A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E789-30D8-404E-A79E-E6352717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gi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4.pn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84720" y="5229360"/>
            <a:ext cx="28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AL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4360" y="836640"/>
            <a:ext cx="820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ALL IS USED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PLAYING GAMES.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87280" y="177336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COULD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ALL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1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N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162864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APPLE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4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4005360"/>
            <a:ext cx="2735280" cy="226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160720" cy="171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1962360" cy="266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21448800">
            <a:off x="1908000" y="1773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POTATO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4" name="whoosh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47968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998360" cy="234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N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1484280"/>
            <a:ext cx="187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EGG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4" name="whoosh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2421000"/>
            <a:ext cx="3889440" cy="3449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THE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0920" y="1773360"/>
            <a:ext cx="2162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SUN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2" name="whoosh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3952800" cy="329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 rot="21007200">
            <a:off x="1258920" y="162864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KANGAROO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4" name="whoo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836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1959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659640" y="549360"/>
            <a:ext cx="182088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900000" y="5516640"/>
            <a:ext cx="1028880" cy="75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059280" y="3284640"/>
            <a:ext cx="3622680" cy="2108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427640" y="1484280"/>
            <a:ext cx="1809720" cy="1552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26920" y="404640"/>
            <a:ext cx="46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99cc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 COULD BE A...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99cc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7093080" y="3500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21007200">
            <a:off x="1244160" y="167940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FROG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  <p:sndAc>
      <p:stSnd>
        <p:snd r:embed="rId10" name="whoosh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60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19280" y="1773360"/>
            <a:ext cx="68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ALL 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34920">
                  <a:solidFill>
                    <a:srgbClr val="80008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D FOR?</a:t>
            </a:r>
            <a:endParaRPr b="0" lang="en-US" sz="1800" spc="1" strike="noStrike">
              <a:ln w="34920">
                <a:solidFill>
                  <a:srgbClr val="800080"/>
                </a:solidFill>
                <a:miter/>
              </a:ln>
              <a:solidFill>
                <a:srgbClr val="ffff00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15634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4:53:55Z</dcterms:created>
  <dc:creator>admin</dc:creator>
  <dc:description/>
  <dc:language>en-US</dc:language>
  <cp:lastModifiedBy>Manager</cp:lastModifiedBy>
  <dcterms:modified xsi:type="dcterms:W3CDTF">2008-05-20T12:50:58Z</dcterms:modified>
  <cp:revision>4</cp:revision>
  <dc:subject/>
  <dc:title>Slide 1</dc:title>
</cp:coreProperties>
</file>