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8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click.wav" ContentType="audio/x-wav"/>
  <Override PartName="/ppt/media/image3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14.jpeg" ContentType="image/jpeg"/>
  <Override PartName="/ppt/media/wind.wav" ContentType="audio/x-wav"/>
  <Override PartName="/ppt/media/image1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923-22BE-4D5E-9D25-F97959FD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FDC-0D61-4F55-93ED-31F8FF84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4CD-BCAB-488E-B953-0C6655C9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DE4-23B8-4B01-88BC-7463C867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DE8-0216-43F7-AAFF-7D46CB65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6386-FB78-4B01-85EA-328FC7F8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968C-1FE1-4F2F-9ABE-6A87E807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4E89-75FA-4DED-BEE3-E27BC547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8224-BF7B-4278-9CE3-4AC520D6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7820-E11B-43FA-8055-F1F72EF6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247-646F-42DE-87C9-778CC621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96B2-DE13-46CC-9E06-1AFCE27E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9B63-9F95-473B-8E0D-125F1641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2CB1-5FAB-4C6A-8EA5-8E19C2B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06FD-A1B0-4BCB-B32A-C15CA738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9A57-5A25-40BF-BDF0-32FB7B86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8D6E-A889-4150-B5E4-7084A291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6B70-62E1-4AA4-95D4-EAF433C5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8C4-7479-4EF3-BD6C-5BB646DE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2ACD-E15D-4BF5-A0AD-1103489A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417-3F9E-44C7-8869-118D720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39863-1778-4FD7-9B8E-A8153696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527A-62C2-4E10-9E28-91D0994D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143C-BDF5-462C-9593-D511A8FA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D823-788C-42B4-A863-8BE73F8E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38DC-FE05-4098-8177-5CE236C1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EB85-C883-4B49-B6EF-2B8D52E6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9F9B-6284-4810-9C7B-E3B7765C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8912-7885-4DBC-9C1F-A9570CE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5EC9-D1DC-4F20-BBEE-2337B516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44E5-7074-46F3-8295-2B3329BE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E9C-5665-467E-8C37-A15BA7AC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CE05-1152-4883-8330-CE50B15D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5618-EFA2-40E8-8691-358E6D7A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4E7A-1CD1-4AA6-9445-41B6DF25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8183-91CE-4684-A7B4-7EF62C88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D59E-85AD-456D-87AE-17A474FD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9DD8-A298-4C0A-ACC7-D1216158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6934320" cy="12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2008-CC02-47CD-8F54-B1340067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5139-97DE-4E45-B34A-947F248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4244-116A-455D-B5A7-4552BEBE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65CE-C1B9-4046-8F14-0EC1F663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70E-23AB-41A5-87CB-0A26CC00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287B-87D3-4296-BBB3-560EE063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3995F-16D1-48A1-AB13-09DAADFE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37160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3556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699880" y="509256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D30F-912D-4D88-8BD1-467B162D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9256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800-E77F-40BB-8660-54B9C0A6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9256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99A-FCAE-4ED3-9A72-6D6E22DC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E29F-4D8B-4366-950D-33CB4D997D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E2EA-EC28-44B6-AB67-AF9198F26A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73392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553080" y="4370400"/>
            <a:ext cx="2590920" cy="2487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290F-EBED-48BF-8DB8-5D94488BB1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B7F5-6652-40A8-AF3C-E8B42E281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0" t="7808" r="10003" b="3659"/>
          <a:stretch/>
        </p:blipFill>
        <p:spPr>
          <a:xfrm>
            <a:off x="3657600" y="1676520"/>
            <a:ext cx="5486400" cy="5181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572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181-36A9-4581-94A8-4A0258FE59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C716-0CAC-436A-BED2-A7ACD8A70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1DA3-E1BA-40C7-A7E8-DFE12BD53F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38F8-F6B9-406A-84CF-2FECBBE80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cc0000"/>
              </a:solidFill>
              <a:latin typeface="Andy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896040" algn="ctr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3" marL="1343880" algn="ctr">
              <a:spcBef>
                <a:spcPts val="601"/>
              </a:spcBef>
              <a:buClr>
                <a:srgbClr val="cc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4" marL="1792080" algn="ctr">
              <a:spcBef>
                <a:spcPts val="601"/>
              </a:spcBef>
              <a:buClr>
                <a:srgbClr val="cc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5" marL="179208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6" marL="179208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6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4.png"/><Relationship Id="rId9" Type="http://schemas.openxmlformats.org/officeDocument/2006/relationships/image" Target="../media/image10.wmf"/><Relationship Id="rId10" Type="http://schemas.openxmlformats.org/officeDocument/2006/relationships/image" Target="../media/image11.jpeg"/><Relationship Id="rId11" Type="http://schemas.openxmlformats.org/officeDocument/2006/relationships/image" Target="../media/image9.jpe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8360" y="333360"/>
            <a:ext cx="575928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Daily life situations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 rot="1388400">
            <a:off x="623520" y="3225960"/>
            <a:ext cx="36115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Greetings</a:t>
            </a:r>
            <a:endParaRPr b="0" lang="en-US" sz="60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rcRect l="0" t="722" r="0" b="0"/>
          <a:stretch/>
        </p:blipFill>
        <p:spPr>
          <a:xfrm>
            <a:off x="4211640" y="1197000"/>
            <a:ext cx="3676680" cy="4608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 rot="20515800">
            <a:off x="1547280" y="1773360"/>
            <a:ext cx="30243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50000">
                      <a:srgbClr val="96ab94"/>
                    </a:gs>
                    <a:gs pos="100000">
                      <a:srgbClr val="8488c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LD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50000">
                    <a:srgbClr val="96ab94"/>
                  </a:gs>
                  <a:gs pos="100000">
                    <a:srgbClr val="8488c4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rcRect l="762" t="0" r="0" b="0"/>
          <a:stretch/>
        </p:blipFill>
        <p:spPr>
          <a:xfrm>
            <a:off x="1547640" y="1125360"/>
            <a:ext cx="3740400" cy="4032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 rot="20515800">
            <a:off x="4731840" y="3429000"/>
            <a:ext cx="3295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4092480" cy="4321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 rot="20515800">
            <a:off x="4822560" y="3638520"/>
            <a:ext cx="302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50000">
                      <a:srgbClr val="d1c39f"/>
                    </a:gs>
                    <a:gs pos="100000">
                      <a:srgbClr val="ffefd1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AD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50000">
                    <a:srgbClr val="d1c39f"/>
                  </a:gs>
                  <a:gs pos="100000">
                    <a:srgbClr val="ffefd1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564000" y="1773360"/>
            <a:ext cx="4578120" cy="424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 rot="20515800">
            <a:off x="1402920" y="1483920"/>
            <a:ext cx="302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GR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rcRect l="0" t="1015" r="0" b="0"/>
          <a:stretch/>
        </p:blipFill>
        <p:spPr>
          <a:xfrm>
            <a:off x="3276720" y="2492280"/>
            <a:ext cx="4721040" cy="35085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 rot="20515800">
            <a:off x="1387440" y="1420560"/>
            <a:ext cx="33498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CARE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rcRect l="621" t="722" r="0" b="0"/>
          <a:stretch/>
        </p:blipFill>
        <p:spPr>
          <a:xfrm>
            <a:off x="2987640" y="1484280"/>
            <a:ext cx="5187960" cy="4475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 rot="20515800">
            <a:off x="1320480" y="1415520"/>
            <a:ext cx="34560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UNGR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rcRect l="518" t="722" r="0" b="19481"/>
          <a:stretch/>
        </p:blipFill>
        <p:spPr>
          <a:xfrm>
            <a:off x="971640" y="1989000"/>
            <a:ext cx="6915240" cy="3981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 rot="20515800">
            <a:off x="3995640" y="1557360"/>
            <a:ext cx="34228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IRSTY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5" name="wind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 rot="20515800">
            <a:off x="1258560" y="1628280"/>
            <a:ext cx="43876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67a58"/>
                    </a:gs>
                    <a:gs pos="50000">
                      <a:srgbClr val="ee2849"/>
                    </a:gs>
                    <a:gs pos="100000">
                      <a:srgbClr val="f67a5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URPRISED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67a58"/>
                  </a:gs>
                  <a:gs pos="50000">
                    <a:srgbClr val="ee2849"/>
                  </a:gs>
                  <a:gs pos="100000">
                    <a:srgbClr val="f67a5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932360" y="2349360"/>
            <a:ext cx="29224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rcRect l="585" t="722" r="0" b="0"/>
          <a:stretch/>
        </p:blipFill>
        <p:spPr>
          <a:xfrm>
            <a:off x="3149640" y="1859040"/>
            <a:ext cx="5022720" cy="4064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 rot="20515800">
            <a:off x="1115640" y="1413000"/>
            <a:ext cx="30243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IRED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 rot="21010200">
            <a:off x="1834920" y="1345680"/>
            <a:ext cx="5545080" cy="38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HOW DO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YOU FEEL?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split dir="out" orient="vert"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718240" y="3139920"/>
            <a:ext cx="3246480" cy="3529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160720" cy="2121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067280" y="620640"/>
            <a:ext cx="3960720" cy="2448000"/>
          </a:xfrm>
          <a:prstGeom prst="wedgeEllipseCallout">
            <a:avLst>
              <a:gd name="adj1" fmla="val 20819"/>
              <a:gd name="adj2" fmla="val 90921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7640" y="1197000"/>
            <a:ext cx="354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9900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669900"/>
                </a:solidFill>
                <a:latin typeface="Comic Sans MS"/>
              </a:rPr>
              <a:t>Good morning, how are you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 rot="21162000">
            <a:off x="1566720" y="1869840"/>
            <a:ext cx="3529080" cy="35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 am...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hungry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6701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0" t="1635" r="0" b="0"/>
          <a:stretch/>
        </p:blipFill>
        <p:spPr>
          <a:xfrm>
            <a:off x="5435640" y="3573360"/>
            <a:ext cx="3708360" cy="2417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2160720" cy="2121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716360" y="1484280"/>
            <a:ext cx="3961080" cy="1511280"/>
          </a:xfrm>
          <a:prstGeom prst="wedgeEllipseCallout">
            <a:avLst>
              <a:gd name="adj1" fmla="val 2624"/>
              <a:gd name="adj2" fmla="val 97268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7840" y="1652760"/>
            <a:ext cx="268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9900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669900"/>
                </a:solidFill>
                <a:latin typeface="Comic Sans MS"/>
              </a:rPr>
              <a:t>I’m fine, thank you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3444840" cy="3743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2340000" cy="179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55640" y="476280"/>
            <a:ext cx="4537080" cy="2232000"/>
          </a:xfrm>
          <a:prstGeom prst="wedgeEllipseCallout">
            <a:avLst>
              <a:gd name="adj1" fmla="val -14449"/>
              <a:gd name="adj2" fmla="val 7525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68560" y="101448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Good afternoon,</a:t>
            </a:r>
            <a:r>
              <a:rPr b="0" lang="es-ES_tradnl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how are you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0E9-56F3-4D89-90AF-A8F961FCD35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6DB3C-CB80-4FA1-9214-A6E94DC2AAD2}" type="datetime1">
              <a:rPr lang="en-US"/>
              <a:t>07/31/26</a:t>
            </a:fld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16131" t="806" r="16131" b="0"/>
          <a:stretch/>
        </p:blipFill>
        <p:spPr>
          <a:xfrm>
            <a:off x="34920" y="3645000"/>
            <a:ext cx="3475080" cy="3217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093080" y="476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95280" y="981000"/>
            <a:ext cx="4537080" cy="1943280"/>
          </a:xfrm>
          <a:prstGeom prst="wedgeEllipseCallout">
            <a:avLst>
              <a:gd name="adj1" fmla="val -14449"/>
              <a:gd name="adj2" fmla="val 79004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1446120"/>
            <a:ext cx="39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We are fine,</a:t>
            </a:r>
            <a:r>
              <a:rPr b="0" lang="es-ES_tradnl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399ff"/>
                </a:solidFill>
                <a:latin typeface="Comic Sans MS"/>
              </a:rPr>
              <a:t>thank you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F6A-C71E-43E0-AF10-653AA519910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37E48-A809-474E-A658-76764F2B94F3}" type="datetime1">
              <a:rPr lang="en-US"/>
              <a:t>07/31/26</a:t>
            </a:fld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89994" r="0" b="0"/>
          <a:stretch/>
        </p:blipFill>
        <p:spPr>
          <a:xfrm>
            <a:off x="6877080" y="1989000"/>
            <a:ext cx="2016000" cy="69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0" t="89994" r="0" b="0"/>
          <a:stretch/>
        </p:blipFill>
        <p:spPr>
          <a:xfrm>
            <a:off x="6948360" y="1197000"/>
            <a:ext cx="2016360" cy="69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0" t="89994" r="0" b="0"/>
          <a:stretch/>
        </p:blipFill>
        <p:spPr>
          <a:xfrm>
            <a:off x="6877080" y="692280"/>
            <a:ext cx="2016000" cy="69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rcRect l="0" t="89994" r="0" b="0"/>
          <a:stretch/>
        </p:blipFill>
        <p:spPr>
          <a:xfrm>
            <a:off x="4427640" y="2422440"/>
            <a:ext cx="2016000" cy="69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rcRect l="0" t="89994" r="0" b="0"/>
          <a:stretch/>
        </p:blipFill>
        <p:spPr>
          <a:xfrm>
            <a:off x="4068720" y="1916280"/>
            <a:ext cx="2016000" cy="698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rcRect l="0" t="89994" r="0" b="0"/>
          <a:stretch/>
        </p:blipFill>
        <p:spPr>
          <a:xfrm>
            <a:off x="4356000" y="765000"/>
            <a:ext cx="2016360" cy="70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rcRect l="0" t="89994" r="0" b="0"/>
          <a:stretch/>
        </p:blipFill>
        <p:spPr>
          <a:xfrm>
            <a:off x="4643280" y="1341360"/>
            <a:ext cx="2016360" cy="6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5718240" y="3139920"/>
            <a:ext cx="3246480" cy="3529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5796000" y="404640"/>
            <a:ext cx="2424240" cy="2448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rcRect l="0" t="0" r="0" b="89994"/>
          <a:stretch/>
        </p:blipFill>
        <p:spPr>
          <a:xfrm>
            <a:off x="3419640" y="333360"/>
            <a:ext cx="3095640" cy="106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1"/>
          <a:srcRect l="0" t="89994" r="0" b="0"/>
          <a:stretch/>
        </p:blipFill>
        <p:spPr>
          <a:xfrm>
            <a:off x="5219640" y="2852640"/>
            <a:ext cx="3457800" cy="119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635280" y="3213000"/>
            <a:ext cx="3241800" cy="1149480"/>
          </a:xfrm>
          <a:prstGeom prst="wedgeEllipseCallout">
            <a:avLst>
              <a:gd name="adj1" fmla="val 43240"/>
              <a:gd name="adj2" fmla="val 55939"/>
            </a:avLst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328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ood night, 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rcRect l="0" t="722" r="0" b="0"/>
          <a:stretch/>
        </p:blipFill>
        <p:spPr>
          <a:xfrm>
            <a:off x="5435640" y="3789360"/>
            <a:ext cx="356400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643280" y="2421000"/>
            <a:ext cx="3241800" cy="1149120"/>
          </a:xfrm>
          <a:prstGeom prst="wedgeEllipseCallout">
            <a:avLst>
              <a:gd name="adj1" fmla="val 27912"/>
              <a:gd name="adj2" fmla="val 77902"/>
            </a:avLst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659640" y="44280"/>
            <a:ext cx="2423880" cy="244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859280" y="249228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I’m fine, 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68360" y="333360"/>
            <a:ext cx="575928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Daily life situations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 rot="1388400">
            <a:off x="826560" y="2421000"/>
            <a:ext cx="36118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Moods</a:t>
            </a:r>
            <a:endParaRPr b="0" lang="en-US" sz="60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1" name=""/>
          <p:cNvSpPr txBox="1"/>
          <p:nvPr/>
        </p:nvSpPr>
        <p:spPr>
          <a:xfrm rot="1935600">
            <a:off x="1692000" y="3573000"/>
            <a:ext cx="10285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and</a:t>
            </a:r>
            <a:endParaRPr b="0" lang="en-US" sz="48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"/>
          <p:cNvSpPr txBox="1"/>
          <p:nvPr/>
        </p:nvSpPr>
        <p:spPr>
          <a:xfrm rot="1388400">
            <a:off x="168120" y="4437000"/>
            <a:ext cx="36118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6699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feelings</a:t>
            </a:r>
            <a:endParaRPr b="0" lang="en-US" sz="6000" spc="1" strike="noStrike">
              <a:ln w="158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6699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vert"/>
    <p:sndAc>
      <p:stSnd>
        <p:snd r:embed="rId1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rcRect l="0" t="722" r="0" b="0"/>
          <a:stretch/>
        </p:blipFill>
        <p:spPr>
          <a:xfrm>
            <a:off x="3978360" y="836640"/>
            <a:ext cx="3952800" cy="4896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 rot="20515800">
            <a:off x="1547280" y="2492280"/>
            <a:ext cx="30243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T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  <p:sndAc>
      <p:stSnd>
        <p:snd r:embed="rId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45:09Z</dcterms:created>
  <dc:creator>Manager</dc:creator>
  <dc:description/>
  <dc:language>en-US</dc:language>
  <cp:lastModifiedBy> </cp:lastModifiedBy>
  <dcterms:modified xsi:type="dcterms:W3CDTF">2008-04-02T18:22:44Z</dcterms:modified>
  <cp:revision>27</cp:revision>
  <dc:subject/>
  <dc:title>Slide 1</dc:title>
</cp:coreProperties>
</file>