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chimes.wav" ContentType="audio/x-wav"/>
  <Override PartName="/ppt/media/image29.png" ContentType="image/png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24.wmf" ContentType="image/x-wmf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7.png" ContentType="image/png"/>
  <Override PartName="/ppt/media/image40.wmf" ContentType="image/x-wmf"/>
  <Override PartName="/ppt/media/image39.wmf" ContentType="image/x-wmf"/>
  <Override PartName="/ppt/media/image41.wmf" ContentType="image/x-wmf"/>
  <Override PartName="/ppt/media/image28.wmf" ContentType="image/x-wmf"/>
  <Override PartName="/ppt/media/image10.png" ContentType="image/png"/>
  <Override PartName="/ppt/media/image42.jpeg" ContentType="image/jpeg"/>
  <Override PartName="/ppt/media/image43.wmf" ContentType="image/x-wmf"/>
  <Override PartName="/ppt/media/image44.png" ContentType="image/png"/>
  <Override PartName="/ppt/media/image45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3.wmf" ContentType="image/x-wmf"/>
  <Override PartName="/ppt/media/whoosh.wav" ContentType="audio/x-wav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540C-9127-4CAD-A3D5-91EE05237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A55-6AD5-48EF-834E-8899D0F242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2152-760D-42D7-BB95-9FD43124F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A53-F730-4C98-8B2A-6B9C71515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231B-9AEA-48C3-80EB-603B98284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9C5E-5D4A-4EA4-BE4F-88DFC09D21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E65-79AF-4A27-9642-6D351E940A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82D4-0B7C-41E7-99B1-2117D724F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A4A-FB79-4E4F-A61E-8C6F01C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912-9DED-4027-B188-19F8527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872-5A4F-430F-A95C-614D7DA8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B94-6A68-4E4B-B8B7-41455666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57F3-136B-4970-85B9-6D5EFB2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1363-FECE-4478-B6E1-3B2C4CDF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38C-59C9-47C2-84E7-B826A86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167B-4278-4049-A8DF-D2616C7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CA85-4B05-41A7-9EA9-0402EF1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3068-4898-48F9-A817-FED5C59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470-D65C-4436-A0A6-1966071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BA1-3B61-4EE8-9DB9-B990009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9FF-5BAF-46B8-961C-EAC7259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4C21-C0C0-4AC9-B797-D64AFCF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F0E-C144-458A-AD09-AC27D3F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8F09-3BCB-4BDC-A489-05443B44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507F-B229-4FCB-A736-3E7E5E76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3BF4-3970-4D7E-B5A8-F367339E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A28C-4EE5-4921-87C2-C9D184D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042F-027B-4C89-9DBC-22A9BA3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AC7E-0AA8-4062-817D-14E139C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DDDD-C2FC-4F7D-9FCC-9CF7783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E9A-53CB-400A-B1B7-053A42C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68F1-007D-49D8-8C61-A9BFA31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8DB6-0F68-4FE4-9A4C-4D295C9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A1AF-F7EF-4D37-AAD3-B949DCA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9588-88DC-4138-AD3A-9D3EA98B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C9E5-8CB7-4A8E-A2CB-AAE91C7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2D9C-868E-4045-B806-1BD7173F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18E9-4BBE-4B65-89DE-5AFECFBD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5E5C-0726-4A1A-8302-49D0D042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D7A0-114D-48A2-A7B8-B75D5D1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EB99-49AE-47E6-B1C6-95158466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384-070F-4441-B58C-5F8DA3BC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A175-0D85-4F51-8194-4D8F88A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1F48F-CC26-4878-9A67-ECB96A0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BEEB-ED03-4AE2-89C6-1D65ADF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0C2F-9F4D-41C9-9E57-D4099B6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F1ED-003A-42BF-80F2-D791AD1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4AA1-5819-451E-9D4C-0942F70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7E4E-B216-42D0-A8DF-7919B3E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0F68-AFF2-41EE-A9E6-2ED5EE2D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D50E-8F87-4A9E-B6F1-95B741B1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3A47B-92A4-441B-8754-C7534C31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F3E-A753-4C8D-A1F9-519EAD29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36F86-8771-4607-B53F-155992E6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5E0B-8DDB-4BFF-B878-44B6E51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3A6B-452D-44A1-82C6-654B16B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48AE-FFEB-435F-926D-FC06210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6680-7217-427C-B1B0-D8D3F441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40B6-FE12-4F46-A565-499FD17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D8C9-6774-4B81-B384-B3DC743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93ED-F6A1-47F5-92E3-7396861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DAE3-92F4-48DF-BE08-EEBFB0B8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5012-90A2-4D73-B602-C62724A6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368-190B-4D83-80D0-1083590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86E0-217E-4393-8751-D5C46F91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F772-1CE0-4E5B-9573-FA8779C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1355-531D-4E84-A5D3-9F4D09E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4788-83E0-409C-8939-C990EF4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326A-C0DE-4299-AF56-C0E2CB8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0787-151C-4756-8D23-E52B10A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12453-6F80-4858-B488-FC9102F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8385-242C-42FD-878C-9D8BFD3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8A6AD-7B0E-4822-9660-74DDC1A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0461-78B7-4228-B4E5-74B2092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35B-42DF-4728-AA84-337B2AD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B739-4B03-4E9E-9863-594223A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5B31-A10F-4232-8F9C-A2C1D7BD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999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898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999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898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075A-7A65-43CF-B6B9-4987B2D9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88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9F9-C9FD-4D79-8BA0-2D5DABD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88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494-3B3F-4151-8EDC-D3FCB7C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745-654B-42FF-B49F-6F9648AE6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BFEF-D77A-40A0-A2CC-3181AA3C666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209680" y="638136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610480" y="63813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13EA-0BF8-4503-95E3-8F9550273224}" type="slidenum">
              <a:rPr b="0" lang="en-US" sz="1400" spc="-1" strike="noStrike">
                <a:solidFill>
                  <a:srgbClr val="66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7998-D377-4FE2-997A-D72B36EBBF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EA6-72B4-45D5-ABCA-2BD63A97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7D0-B7DF-4257-A404-A866AE22F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8.jpeg"/><Relationship Id="rId10" Type="http://schemas.openxmlformats.org/officeDocument/2006/relationships/image" Target="../media/image14.gi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wmf"/><Relationship Id="rId3" Type="http://schemas.openxmlformats.org/officeDocument/2006/relationships/image" Target="../media/image43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0.wmf"/><Relationship Id="rId4" Type="http://schemas.openxmlformats.org/officeDocument/2006/relationships/image" Target="../media/image1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2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 rot="19682400">
            <a:off x="900000" y="2707920"/>
            <a:ext cx="7705800" cy="172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381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t the park 2</a:t>
            </a:r>
            <a:endParaRPr b="0" lang="en-US" sz="9600" spc="1" strike="noStrike">
              <a:ln w="381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256" name="Picture 5" descr="frank"/>
          <p:cNvPicPr/>
          <p:nvPr/>
        </p:nvPicPr>
        <p:blipFill>
          <a:blip r:embed="rId4"/>
          <a:stretch/>
        </p:blipFill>
        <p:spPr>
          <a:xfrm>
            <a:off x="611280" y="189000"/>
            <a:ext cx="204156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j0193284"/>
          <p:cNvPicPr/>
          <p:nvPr/>
        </p:nvPicPr>
        <p:blipFill>
          <a:blip r:embed="rId1"/>
          <a:stretch/>
        </p:blipFill>
        <p:spPr>
          <a:xfrm>
            <a:off x="-684360" y="-533520"/>
            <a:ext cx="10591920" cy="739152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6" descr=""/>
          <p:cNvPicPr/>
          <p:nvPr/>
        </p:nvPicPr>
        <p:blipFill>
          <a:blip r:embed="rId2"/>
          <a:stretch/>
        </p:blipFill>
        <p:spPr>
          <a:xfrm>
            <a:off x="7236000" y="4292640"/>
            <a:ext cx="1420560" cy="18288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8" descr=""/>
          <p:cNvPicPr/>
          <p:nvPr/>
        </p:nvPicPr>
        <p:blipFill>
          <a:blip r:embed="rId3"/>
          <a:stretch/>
        </p:blipFill>
        <p:spPr>
          <a:xfrm>
            <a:off x="-609480" y="-1600200"/>
            <a:ext cx="5087880" cy="7620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j0232429"/>
          <p:cNvPicPr/>
          <p:nvPr/>
        </p:nvPicPr>
        <p:blipFill>
          <a:blip r:embed="rId4"/>
          <a:stretch/>
        </p:blipFill>
        <p:spPr>
          <a:xfrm>
            <a:off x="4643280" y="3860640"/>
            <a:ext cx="1204920" cy="19656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3816360" y="189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went back 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3564000" y="1773360"/>
            <a:ext cx="3384360" cy="1655640"/>
          </a:xfrm>
          <a:prstGeom prst="wedgeEllipseCallout">
            <a:avLst>
              <a:gd name="adj1" fmla="val -3236"/>
              <a:gd name="adj2" fmla="val 72435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851280" y="1844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Marta! How was the WAL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8"/>
          <p:cNvSpPr/>
          <p:nvPr/>
        </p:nvSpPr>
        <p:spPr>
          <a:xfrm>
            <a:off x="6516720" y="2708280"/>
            <a:ext cx="2736720" cy="1222200"/>
          </a:xfrm>
          <a:prstGeom prst="wedgeEllipseCallout">
            <a:avLst>
              <a:gd name="adj1" fmla="val -2263"/>
              <a:gd name="adj2" fmla="val 79222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6443640" y="285264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It was lovely, 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5" name="chimes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5"/>
          <p:cNvSpPr txBox="1"/>
          <p:nvPr/>
        </p:nvSpPr>
        <p:spPr>
          <a:xfrm>
            <a:off x="1042920" y="1197000"/>
            <a:ext cx="7201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How do you feel 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hen you see 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your friend?</a:t>
            </a:r>
            <a:endParaRPr b="0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4"/>
          <p:cNvSpPr/>
          <p:nvPr/>
        </p:nvSpPr>
        <p:spPr>
          <a:xfrm>
            <a:off x="250920" y="134136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6"/>
          <p:cNvSpPr/>
          <p:nvPr/>
        </p:nvSpPr>
        <p:spPr>
          <a:xfrm>
            <a:off x="324000" y="371628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17" descr="MPj02020470000[1]"/>
          <p:cNvPicPr/>
          <p:nvPr/>
        </p:nvPicPr>
        <p:blipFill>
          <a:blip r:embed="rId1"/>
          <a:stretch/>
        </p:blipFill>
        <p:spPr>
          <a:xfrm>
            <a:off x="755640" y="620640"/>
            <a:ext cx="3657600" cy="240192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330" name="Picture 18" descr="MCj04244880000[1]"/>
          <p:cNvPicPr/>
          <p:nvPr/>
        </p:nvPicPr>
        <p:blipFill>
          <a:blip r:embed="rId2"/>
          <a:stretch/>
        </p:blipFill>
        <p:spPr>
          <a:xfrm>
            <a:off x="5435640" y="260280"/>
            <a:ext cx="2376360" cy="963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MPj04264580000[1]"/>
          <p:cNvPicPr/>
          <p:nvPr/>
        </p:nvPicPr>
        <p:blipFill>
          <a:blip r:embed="rId3"/>
          <a:srcRect l="13716" t="4152" r="7620" b="45676"/>
          <a:stretch/>
        </p:blipFill>
        <p:spPr>
          <a:xfrm>
            <a:off x="4788000" y="3213000"/>
            <a:ext cx="3727440" cy="327204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332" name="WordArt 20"/>
          <p:cNvSpPr txBox="1"/>
          <p:nvPr/>
        </p:nvSpPr>
        <p:spPr>
          <a:xfrm>
            <a:off x="4932360" y="184464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CITED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684360" y="458136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PPY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1042920" y="1197000"/>
            <a:ext cx="7201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How do you 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greet 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your friends?</a:t>
            </a:r>
            <a:endParaRPr b="0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8" name="whoosh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24000" y="184464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250920" y="342900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395280" y="213372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y: "hello, how are you?"</a:t>
            </a:r>
            <a:endParaRPr b="0" i="1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468360" y="3789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ve a handshake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6"/>
          <p:cNvSpPr txBox="1"/>
          <p:nvPr/>
        </p:nvSpPr>
        <p:spPr>
          <a:xfrm>
            <a:off x="468360" y="692280"/>
            <a:ext cx="4897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ve your hand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250920" y="4869000"/>
            <a:ext cx="85341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WordArt 8"/>
          <p:cNvSpPr txBox="1"/>
          <p:nvPr/>
        </p:nvSpPr>
        <p:spPr>
          <a:xfrm>
            <a:off x="395280" y="5300640"/>
            <a:ext cx="55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ve them a hug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2" name="Picture 9" descr="MPj01851710000[1]"/>
          <p:cNvPicPr/>
          <p:nvPr/>
        </p:nvPicPr>
        <p:blipFill>
          <a:blip r:embed="rId9"/>
          <a:stretch/>
        </p:blipFill>
        <p:spPr>
          <a:xfrm>
            <a:off x="7236000" y="1268280"/>
            <a:ext cx="1641240" cy="2468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43" name="Picture 10" descr="MMj02363240000[1]"/>
          <p:cNvPicPr/>
          <p:nvPr/>
        </p:nvPicPr>
        <p:blipFill>
          <a:blip r:embed="rId10"/>
          <a:stretch/>
        </p:blipFill>
        <p:spPr>
          <a:xfrm>
            <a:off x="6227640" y="404640"/>
            <a:ext cx="1295640" cy="11430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1"/>
          <p:cNvSpPr txBox="1"/>
          <p:nvPr/>
        </p:nvSpPr>
        <p:spPr>
          <a:xfrm>
            <a:off x="6372360" y="162864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006600"/>
                </a:solidFill>
                <a:latin typeface="Comic Sans MS"/>
              </a:rPr>
              <a:t>Hello!</a:t>
            </a:r>
            <a:endParaRPr b="0" i="1" lang="en-US" sz="2800" spc="1" strike="noStrike">
              <a:ln w="0">
                <a:noFill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pic>
        <p:nvPicPr>
          <p:cNvPr id="345" name="Picture 16" descr="MCPE03603_0000[1]"/>
          <p:cNvPicPr/>
          <p:nvPr/>
        </p:nvPicPr>
        <p:blipFill>
          <a:blip r:embed="rId11"/>
          <a:stretch/>
        </p:blipFill>
        <p:spPr>
          <a:xfrm rot="2961600">
            <a:off x="6731640" y="3358440"/>
            <a:ext cx="1665000" cy="1663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MCj03975620000[1]"/>
          <p:cNvPicPr/>
          <p:nvPr/>
        </p:nvPicPr>
        <p:blipFill>
          <a:blip r:embed="rId12"/>
          <a:stretch/>
        </p:blipFill>
        <p:spPr>
          <a:xfrm>
            <a:off x="6732720" y="4869000"/>
            <a:ext cx="19098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whoosh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2"/>
          <p:cNvSpPr txBox="1"/>
          <p:nvPr/>
        </p:nvSpPr>
        <p:spPr>
          <a:xfrm rot="2089200">
            <a:off x="58320" y="2517840"/>
            <a:ext cx="8186760" cy="29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6812000"/>
                </a:gradFill>
                <a:latin typeface="Arial Black"/>
              </a:rPr>
              <a:t>Dancing with ribbons</a:t>
            </a:r>
            <a:endParaRPr b="0" lang="en-US" sz="72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6812000"/>
              </a:gradFill>
              <a:latin typeface="Arial Black"/>
              <a:ea typeface="Arial Black"/>
            </a:endParaRPr>
          </a:p>
        </p:txBody>
      </p:sp>
      <p:pic>
        <p:nvPicPr>
          <p:cNvPr id="348" name="Picture 4" descr="MCBD20236_0000[1]"/>
          <p:cNvPicPr/>
          <p:nvPr/>
        </p:nvPicPr>
        <p:blipFill>
          <a:blip r:embed="rId2"/>
          <a:stretch/>
        </p:blipFill>
        <p:spPr>
          <a:xfrm>
            <a:off x="6443640" y="0"/>
            <a:ext cx="22734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whoosh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2" descr="MPj04037420000[1]"/>
          <p:cNvPicPr/>
          <p:nvPr/>
        </p:nvPicPr>
        <p:blipFill>
          <a:blip r:embed="rId1"/>
          <a:stretch/>
        </p:blipFill>
        <p:spPr>
          <a:xfrm>
            <a:off x="4716360" y="3716280"/>
            <a:ext cx="4356360" cy="2903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80920" cy="99072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228600" y="1219320"/>
            <a:ext cx="853452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3" descr="MCj04247360000[1]"/>
          <p:cNvPicPr/>
          <p:nvPr/>
        </p:nvPicPr>
        <p:blipFill>
          <a:blip r:embed="rId3"/>
          <a:srcRect l="0" t="0" r="25505" b="0"/>
          <a:stretch/>
        </p:blipFill>
        <p:spPr>
          <a:xfrm>
            <a:off x="2627280" y="1557360"/>
            <a:ext cx="1365120" cy="14796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7"/>
          <p:cNvSpPr/>
          <p:nvPr/>
        </p:nvSpPr>
        <p:spPr>
          <a:xfrm rot="1634400">
            <a:off x="3276360" y="2491920"/>
            <a:ext cx="1512720" cy="727200"/>
          </a:xfrm>
          <a:custGeom>
            <a:avLst/>
            <a:gdLst>
              <a:gd name="textAreaLeft" fmla="*/ 0 w 1512720"/>
              <a:gd name="textAreaRight" fmla="*/ 1513080 w 1512720"/>
              <a:gd name="textAreaTop" fmla="*/ 93960 h 727200"/>
              <a:gd name="textAreaBottom" fmla="*/ 633240 h 72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8"/>
          <p:cNvSpPr/>
          <p:nvPr/>
        </p:nvSpPr>
        <p:spPr>
          <a:xfrm rot="1560000">
            <a:off x="3276360" y="2637000"/>
            <a:ext cx="1368360" cy="288720"/>
          </a:xfrm>
          <a:custGeom>
            <a:avLst/>
            <a:gdLst>
              <a:gd name="textAreaLeft" fmla="*/ 100800 w 1368360"/>
              <a:gd name="textAreaRight" fmla="*/ 1267560 w 1368360"/>
              <a:gd name="textAreaTop" fmla="*/ 59400 h 288720"/>
              <a:gd name="textAreaBottom" fmla="*/ 2293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2803" y="-5667"/>
                  <a:pt x="7200" y="10125"/>
                  <a:pt x="10003" y="2229"/>
                </a:cubicBezTo>
                <a:cubicBezTo>
                  <a:pt x="12806" y="-5667"/>
                  <a:pt x="17203" y="10125"/>
                  <a:pt x="20006" y="2229"/>
                </a:cubicBezTo>
                <a:lnTo>
                  <a:pt x="21600" y="19371"/>
                </a:lnTo>
                <a:cubicBezTo>
                  <a:pt x="18797" y="27267"/>
                  <a:pt x="14400" y="11475"/>
                  <a:pt x="11597" y="19371"/>
                </a:cubicBezTo>
                <a:cubicBezTo>
                  <a:pt x="8794" y="27267"/>
                  <a:pt x="4397" y="11475"/>
                  <a:pt x="1594" y="19371"/>
                </a:cubicBez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WordArt 19"/>
          <p:cNvSpPr txBox="1"/>
          <p:nvPr/>
        </p:nvSpPr>
        <p:spPr>
          <a:xfrm>
            <a:off x="2627280" y="189000"/>
            <a:ext cx="5473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ct the ribbon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20"/>
          <p:cNvSpPr txBox="1"/>
          <p:nvPr/>
        </p:nvSpPr>
        <p:spPr>
          <a:xfrm rot="19209600">
            <a:off x="2556000" y="3141360"/>
            <a:ext cx="554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dance with it!</a:t>
            </a:r>
            <a:endParaRPr b="0" lang="en-US" sz="2400" spc="1" strike="noStrike">
              <a:ln w="22320">
                <a:solidFill>
                  <a:srgbClr val="33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7" name="Picture 21" descr="MCj03104200000[1]"/>
          <p:cNvPicPr/>
          <p:nvPr/>
        </p:nvPicPr>
        <p:blipFill>
          <a:blip r:embed="rId8"/>
          <a:stretch/>
        </p:blipFill>
        <p:spPr>
          <a:xfrm>
            <a:off x="7616880" y="1916280"/>
            <a:ext cx="1527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8092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Line 4"/>
          <p:cNvSpPr/>
          <p:nvPr/>
        </p:nvSpPr>
        <p:spPr>
          <a:xfrm>
            <a:off x="228600" y="1219320"/>
            <a:ext cx="853452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30"/>
          <p:cNvSpPr txBox="1"/>
          <p:nvPr/>
        </p:nvSpPr>
        <p:spPr>
          <a:xfrm>
            <a:off x="2556000" y="189000"/>
            <a:ext cx="54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MEMBER!</a:t>
            </a:r>
            <a:endParaRPr b="0" lang="en-US" sz="66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Picture 31" descr="MCj02772160000[1]"/>
          <p:cNvPicPr/>
          <p:nvPr/>
        </p:nvPicPr>
        <p:blipFill>
          <a:blip r:embed="rId4"/>
          <a:stretch/>
        </p:blipFill>
        <p:spPr>
          <a:xfrm>
            <a:off x="2411280" y="1413000"/>
            <a:ext cx="1833840" cy="1477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MCEN00081_0000[1]"/>
          <p:cNvPicPr/>
          <p:nvPr/>
        </p:nvPicPr>
        <p:blipFill>
          <a:blip r:embed="rId5"/>
          <a:stretch/>
        </p:blipFill>
        <p:spPr>
          <a:xfrm>
            <a:off x="6732720" y="4797360"/>
            <a:ext cx="1987560" cy="1916280"/>
          </a:xfrm>
          <a:prstGeom prst="rect">
            <a:avLst/>
          </a:prstGeom>
          <a:ln w="0">
            <a:noFill/>
          </a:ln>
        </p:spPr>
      </p:pic>
      <p:sp>
        <p:nvSpPr>
          <p:cNvPr id="262" name="WordArt 33"/>
          <p:cNvSpPr txBox="1"/>
          <p:nvPr/>
        </p:nvSpPr>
        <p:spPr>
          <a:xfrm>
            <a:off x="4643280" y="1628640"/>
            <a:ext cx="3600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a slide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2627280" y="5373720"/>
            <a:ext cx="36003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a swin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4" name="Picture 40" descr="Monkey Bars Accessory"/>
          <p:cNvPicPr/>
          <p:nvPr/>
        </p:nvPicPr>
        <p:blipFill>
          <a:blip r:embed="rId10"/>
          <a:stretch/>
        </p:blipFill>
        <p:spPr>
          <a:xfrm>
            <a:off x="2484360" y="3141720"/>
            <a:ext cx="2210040" cy="21873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43"/>
          <p:cNvSpPr txBox="1"/>
          <p:nvPr/>
        </p:nvSpPr>
        <p:spPr>
          <a:xfrm>
            <a:off x="4932360" y="2565360"/>
            <a:ext cx="35146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se are</a:t>
            </a:r>
            <a:endParaRPr b="0" lang="en-US" sz="40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nkey bars</a:t>
            </a:r>
            <a:endParaRPr b="0" lang="en-US" sz="40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15" name="whoo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 rot="2089200">
            <a:off x="178920" y="2565000"/>
            <a:ext cx="8439120" cy="268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6812000"/>
                </a:gradFill>
                <a:latin typeface="Arial Black"/>
              </a:rPr>
              <a:t>Greeting a friend</a:t>
            </a:r>
            <a:endParaRPr b="0" lang="en-US" sz="72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6812000"/>
              </a:gradFill>
              <a:latin typeface="Arial Black"/>
              <a:ea typeface="Arial Black"/>
            </a:endParaRPr>
          </a:p>
        </p:txBody>
      </p:sp>
      <p:pic>
        <p:nvPicPr>
          <p:cNvPr id="267" name="Picture 3" descr="MMj02363240000[1]"/>
          <p:cNvPicPr/>
          <p:nvPr/>
        </p:nvPicPr>
        <p:blipFill>
          <a:blip r:embed="rId2"/>
          <a:stretch/>
        </p:blipFill>
        <p:spPr>
          <a:xfrm>
            <a:off x="6372360" y="836640"/>
            <a:ext cx="2016000" cy="177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whoo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4" descr="j0193284"/>
          <p:cNvPicPr/>
          <p:nvPr/>
        </p:nvPicPr>
        <p:blipFill>
          <a:blip r:embed="rId1"/>
          <a:stretch/>
        </p:blipFill>
        <p:spPr>
          <a:xfrm>
            <a:off x="0" y="-496800"/>
            <a:ext cx="9601200" cy="7495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2627280" y="33336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One day, I went for a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1" descr="j0283876"/>
          <p:cNvPicPr/>
          <p:nvPr/>
        </p:nvPicPr>
        <p:blipFill>
          <a:blip r:embed="rId2"/>
          <a:stretch/>
        </p:blipFill>
        <p:spPr>
          <a:xfrm>
            <a:off x="2590920" y="3581280"/>
            <a:ext cx="1981080" cy="1839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j0354730"/>
          <p:cNvPicPr/>
          <p:nvPr/>
        </p:nvPicPr>
        <p:blipFill>
          <a:blip r:embed="rId3"/>
          <a:stretch/>
        </p:blipFill>
        <p:spPr>
          <a:xfrm>
            <a:off x="1219320" y="1143000"/>
            <a:ext cx="777600" cy="743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"/>
          <p:cNvPicPr/>
          <p:nvPr/>
        </p:nvPicPr>
        <p:blipFill>
          <a:blip r:embed="rId4"/>
          <a:stretch/>
        </p:blipFill>
        <p:spPr>
          <a:xfrm>
            <a:off x="1040436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  <p:sndAc>
      <p:stSnd>
        <p:snd r:embed="rId5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68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j0193284"/>
          <p:cNvPicPr/>
          <p:nvPr/>
        </p:nvPicPr>
        <p:blipFill>
          <a:blip r:embed="rId1"/>
          <a:stretch/>
        </p:blipFill>
        <p:spPr>
          <a:xfrm>
            <a:off x="0" y="-304920"/>
            <a:ext cx="9601200" cy="7496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j0283876"/>
          <p:cNvPicPr/>
          <p:nvPr/>
        </p:nvPicPr>
        <p:blipFill>
          <a:blip r:embed="rId2"/>
          <a:stretch/>
        </p:blipFill>
        <p:spPr>
          <a:xfrm>
            <a:off x="1295280" y="4343400"/>
            <a:ext cx="1981440" cy="183996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0"/>
          <p:cNvSpPr/>
          <p:nvPr/>
        </p:nvSpPr>
        <p:spPr>
          <a:xfrm>
            <a:off x="1835280" y="2590920"/>
            <a:ext cx="2952720" cy="1774800"/>
          </a:xfrm>
          <a:prstGeom prst="wedgeEllipseCallout">
            <a:avLst>
              <a:gd name="adj1" fmla="val -34787"/>
              <a:gd name="adj2" fmla="val 70125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763640" y="2924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What’s your name</a:t>
            </a:r>
            <a:r>
              <a:rPr b="1" i="1" lang="en-GB" sz="3200" spc="-1" strike="noStrike">
                <a:solidFill>
                  <a:srgbClr val="3366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5364000" y="2637000"/>
            <a:ext cx="3167280" cy="1531800"/>
          </a:xfrm>
          <a:prstGeom prst="wedgeEllipseCallout">
            <a:avLst>
              <a:gd name="adj1" fmla="val 22078"/>
              <a:gd name="adj2" fmla="val 91037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5148360" y="2852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My name is Prin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j0361660"/>
          <p:cNvPicPr/>
          <p:nvPr/>
        </p:nvPicPr>
        <p:blipFill>
          <a:blip r:embed="rId3"/>
          <a:stretch/>
        </p:blipFill>
        <p:spPr>
          <a:xfrm>
            <a:off x="7596360" y="4076640"/>
            <a:ext cx="1330200" cy="18637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2666880" y="54936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 met a girl at the </a:t>
            </a: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j0193284"/>
          <p:cNvPicPr/>
          <p:nvPr/>
        </p:nvPicPr>
        <p:blipFill>
          <a:blip r:embed="rId1"/>
          <a:stretch/>
        </p:blipFill>
        <p:spPr>
          <a:xfrm>
            <a:off x="-181080" y="-316080"/>
            <a:ext cx="9601200" cy="7496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j0283876"/>
          <p:cNvPicPr/>
          <p:nvPr/>
        </p:nvPicPr>
        <p:blipFill>
          <a:blip r:embed="rId2"/>
          <a:stretch/>
        </p:blipFill>
        <p:spPr>
          <a:xfrm>
            <a:off x="1295280" y="4343400"/>
            <a:ext cx="1981440" cy="1839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j0361658"/>
          <p:cNvPicPr/>
          <p:nvPr/>
        </p:nvPicPr>
        <p:blipFill>
          <a:blip r:embed="rId3"/>
          <a:stretch/>
        </p:blipFill>
        <p:spPr>
          <a:xfrm>
            <a:off x="3924360" y="5035680"/>
            <a:ext cx="1452600" cy="1822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j0361660"/>
          <p:cNvPicPr/>
          <p:nvPr/>
        </p:nvPicPr>
        <p:blipFill>
          <a:blip r:embed="rId4"/>
          <a:stretch/>
        </p:blipFill>
        <p:spPr>
          <a:xfrm>
            <a:off x="7451640" y="3645000"/>
            <a:ext cx="1330560" cy="18637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3"/>
          <p:cNvSpPr/>
          <p:nvPr/>
        </p:nvSpPr>
        <p:spPr>
          <a:xfrm>
            <a:off x="5003640" y="4149720"/>
            <a:ext cx="2305080" cy="1511280"/>
          </a:xfrm>
          <a:prstGeom prst="wedgeEllipseCallout">
            <a:avLst>
              <a:gd name="adj1" fmla="val -40564"/>
              <a:gd name="adj2" fmla="val 55250"/>
            </a:avLst>
          </a:prstGeom>
          <a:solidFill>
            <a:srgbClr val="ff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I’m he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2411280" y="4762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was waiting for a </a:t>
            </a: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b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1763640" y="2492280"/>
            <a:ext cx="2952720" cy="1774800"/>
          </a:xfrm>
          <a:prstGeom prst="wedgeEllipseCallout">
            <a:avLst>
              <a:gd name="adj1" fmla="val -32365"/>
              <a:gd name="adj2" fmla="val 75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1908000" y="2781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What are you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4500720" y="1773360"/>
            <a:ext cx="3166920" cy="1531800"/>
          </a:xfrm>
          <a:prstGeom prst="wedgeEllipseCallout">
            <a:avLst>
              <a:gd name="adj1" fmla="val 46189"/>
              <a:gd name="adj2" fmla="val 123680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4500720" y="2060640"/>
            <a:ext cx="322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I’m waiting for my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5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j0193284"/>
          <p:cNvPicPr/>
          <p:nvPr/>
        </p:nvPicPr>
        <p:blipFill>
          <a:blip r:embed="rId1"/>
          <a:stretch/>
        </p:blipFill>
        <p:spPr>
          <a:xfrm>
            <a:off x="-54144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283876"/>
          <p:cNvPicPr/>
          <p:nvPr/>
        </p:nvPicPr>
        <p:blipFill>
          <a:blip r:embed="rId2"/>
          <a:stretch/>
        </p:blipFill>
        <p:spPr>
          <a:xfrm>
            <a:off x="900000" y="4508640"/>
            <a:ext cx="1981440" cy="1839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0" descr="MCj02320630000[1]"/>
          <p:cNvPicPr/>
          <p:nvPr/>
        </p:nvPicPr>
        <p:blipFill>
          <a:blip r:embed="rId3"/>
          <a:stretch/>
        </p:blipFill>
        <p:spPr>
          <a:xfrm>
            <a:off x="6659640" y="2852640"/>
            <a:ext cx="1488960" cy="244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1"/>
          <p:cNvSpPr/>
          <p:nvPr/>
        </p:nvSpPr>
        <p:spPr>
          <a:xfrm>
            <a:off x="2666880" y="3016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her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22"/>
          <p:cNvSpPr/>
          <p:nvPr/>
        </p:nvSpPr>
        <p:spPr>
          <a:xfrm>
            <a:off x="1403280" y="2708280"/>
            <a:ext cx="2952720" cy="1873080"/>
          </a:xfrm>
          <a:prstGeom prst="wedgeEllipseCallout">
            <a:avLst>
              <a:gd name="adj1" fmla="val -32365"/>
              <a:gd name="adj2" fmla="val 69069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1547640" y="285264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ello Albert! How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24"/>
          <p:cNvSpPr/>
          <p:nvPr/>
        </p:nvSpPr>
        <p:spPr>
          <a:xfrm>
            <a:off x="3203640" y="1123920"/>
            <a:ext cx="3959280" cy="2089080"/>
          </a:xfrm>
          <a:prstGeom prst="wedgeEllipseCallout">
            <a:avLst>
              <a:gd name="adj1" fmla="val 35486"/>
              <a:gd name="adj2" fmla="val 54712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564000" y="1268280"/>
            <a:ext cx="322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Hello Marta, I’m fine. I’m 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excited</a:t>
            </a: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 at the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30" descr="MCj03512520000[1]"/>
          <p:cNvPicPr/>
          <p:nvPr/>
        </p:nvPicPr>
        <p:blipFill>
          <a:blip r:embed="rId4"/>
          <a:stretch/>
        </p:blipFill>
        <p:spPr>
          <a:xfrm>
            <a:off x="4643280" y="4005360"/>
            <a:ext cx="16351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1" descr="MCSL00488_0000[1]"/>
          <p:cNvPicPr/>
          <p:nvPr/>
        </p:nvPicPr>
        <p:blipFill>
          <a:blip r:embed="rId5"/>
          <a:stretch/>
        </p:blipFill>
        <p:spPr>
          <a:xfrm>
            <a:off x="5940360" y="5502240"/>
            <a:ext cx="2303640" cy="135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6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j0193284"/>
          <p:cNvPicPr/>
          <p:nvPr/>
        </p:nvPicPr>
        <p:blipFill>
          <a:blip r:embed="rId1"/>
          <a:stretch/>
        </p:blipFill>
        <p:spPr>
          <a:xfrm>
            <a:off x="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j0283876"/>
          <p:cNvPicPr/>
          <p:nvPr/>
        </p:nvPicPr>
        <p:blipFill>
          <a:blip r:embed="rId2"/>
          <a:stretch/>
        </p:blipFill>
        <p:spPr>
          <a:xfrm>
            <a:off x="826920" y="4221000"/>
            <a:ext cx="1981440" cy="1839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MCj02377280000[1]"/>
          <p:cNvPicPr/>
          <p:nvPr/>
        </p:nvPicPr>
        <p:blipFill>
          <a:blip r:embed="rId3"/>
          <a:stretch/>
        </p:blipFill>
        <p:spPr>
          <a:xfrm>
            <a:off x="6588000" y="2781360"/>
            <a:ext cx="1690920" cy="25207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2666880" y="372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another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1692360" y="2852640"/>
            <a:ext cx="3600360" cy="1800360"/>
          </a:xfrm>
          <a:prstGeom prst="wedgeEllipseCallout">
            <a:avLst>
              <a:gd name="adj1" fmla="val -48060"/>
              <a:gd name="adj2" fmla="val 5335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2124000" y="2924280"/>
            <a:ext cx="280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Marc! I’m </a:t>
            </a:r>
            <a:r>
              <a:rPr b="1" i="1" lang="en-US" sz="4000" spc="-1" strike="noStrike">
                <a:solidFill>
                  <a:srgbClr val="336600"/>
                </a:solidFill>
                <a:latin typeface="Comic Sans MS"/>
              </a:rPr>
              <a:t>happy </a:t>
            </a: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to see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3780000" y="1413000"/>
            <a:ext cx="3779640" cy="1366560"/>
          </a:xfrm>
          <a:prstGeom prst="wedgeEllipseCallout">
            <a:avLst>
              <a:gd name="adj1" fmla="val 30513"/>
              <a:gd name="adj2" fmla="val 93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067280" y="1628640"/>
            <a:ext cx="322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Hi Marta, enjoy the afterno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j0193284"/>
          <p:cNvPicPr/>
          <p:nvPr/>
        </p:nvPicPr>
        <p:blipFill>
          <a:blip r:embed="rId1"/>
          <a:stretch/>
        </p:blipFill>
        <p:spPr>
          <a:xfrm>
            <a:off x="0" y="-458640"/>
            <a:ext cx="9906120" cy="749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j0283876"/>
          <p:cNvPicPr/>
          <p:nvPr/>
        </p:nvPicPr>
        <p:blipFill>
          <a:blip r:embed="rId2"/>
          <a:stretch/>
        </p:blipFill>
        <p:spPr>
          <a:xfrm>
            <a:off x="826920" y="4221000"/>
            <a:ext cx="1981440" cy="1839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2700360" y="35100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 found her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best fri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908000" y="2852640"/>
            <a:ext cx="3456000" cy="2160720"/>
          </a:xfrm>
          <a:prstGeom prst="wedgeEllipseCallout">
            <a:avLst>
              <a:gd name="adj1" fmla="val -54226"/>
              <a:gd name="adj2" fmla="val 3611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124000" y="2924280"/>
            <a:ext cx="2808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Hi Gemma! Do you want to </a:t>
            </a:r>
            <a:r>
              <a:rPr b="1" i="1" lang="en-US" sz="4000" spc="-1" strike="noStrike">
                <a:solidFill>
                  <a:srgbClr val="336600"/>
                </a:solidFill>
                <a:latin typeface="Comic Sans MS"/>
              </a:rPr>
              <a:t>walk</a:t>
            </a:r>
            <a:r>
              <a:rPr b="1" i="1" lang="en-US" sz="3200" spc="-1" strike="noStrike">
                <a:solidFill>
                  <a:srgbClr val="336600"/>
                </a:solidFill>
                <a:latin typeface="Comic Sans MS"/>
              </a:rPr>
              <a:t> with 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4211640" y="1413000"/>
            <a:ext cx="3168720" cy="1366560"/>
          </a:xfrm>
          <a:prstGeom prst="wedgeEllipseCallout">
            <a:avLst>
              <a:gd name="adj1" fmla="val 32416"/>
              <a:gd name="adj2" fmla="val 9367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427640" y="1557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Yes Marta, good ide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1" descr="MCj04247400000[1]"/>
          <p:cNvPicPr/>
          <p:nvPr/>
        </p:nvPicPr>
        <p:blipFill>
          <a:blip r:embed="rId3"/>
          <a:stretch/>
        </p:blipFill>
        <p:spPr>
          <a:xfrm>
            <a:off x="6372360" y="3429000"/>
            <a:ext cx="154116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24T08:11:53Z</dcterms:modified>
  <cp:revision>73</cp:revision>
  <dc:subject/>
  <dc:title>PowerPoint Presentation</dc:title>
</cp:coreProperties>
</file>