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0.wmf" ContentType="image/x-wmf"/>
  <Override PartName="/ppt/media/image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86D99-7AFC-4C4A-8FB9-9F1804ED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9100A-C8BA-4254-AD53-1C067C44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5F546-B3F3-4DA1-8E26-B7CD6087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8E462-C557-4D95-B2B4-25DA441D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2CEC-174D-411D-8B53-B2E2EF1B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B007-5C1F-4712-BFC1-6C40E8AC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72BD-3003-431B-A24C-5B10DB2E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09AA-3AEF-4EC4-A295-B6EB17CB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7BCB-FF6C-4D61-9834-275889B0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48F4-9E26-43C9-8684-3FD996D1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DDBF-D1FF-4DC3-930C-460C6196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61F43-3CC6-4458-BBDB-AA887F91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515B-2EDA-43E2-A1CB-B4CC5072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B544-D8EC-40D4-9B33-528273E5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EB7B-4F1D-4F9D-B38B-ECF4EFA1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459F-3FE9-4925-BAF3-A8641907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C53F-F056-41B9-BED9-BD44DF84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87705-D959-439E-941C-886DE015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19BB1-506E-4A62-944B-FEAFA681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DD7B4-1648-49EB-A7FB-5C6B504F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9B016-0049-4FB7-99A2-F1AD4020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11B55-DEA8-4813-AB0C-58BBE844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1C7EE-443E-4DB7-AC14-BFD1D4DD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D4A10-66B6-48F4-860C-1B8A82A4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1E2E-C614-4CA8-8932-2F6E4EF206D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C231-A2A0-4AC4-9CE7-CC49371073F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5640" y="549360"/>
            <a:ext cx="4896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TOYS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059280" y="3429000"/>
            <a:ext cx="1766880" cy="2664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292720" y="4005360"/>
            <a:ext cx="2994120" cy="2266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6227640" y="333360"/>
            <a:ext cx="1833840" cy="2951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324000" y="3141720"/>
            <a:ext cx="2154240" cy="3157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012000" y="3500280"/>
            <a:ext cx="3382920" cy="309096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4211640" y="1484280"/>
            <a:ext cx="3097080" cy="1870200"/>
            <a:chOff x="4211640" y="1484280"/>
            <a:chExt cx="3097080" cy="1870200"/>
          </a:xfrm>
        </p:grpSpPr>
        <p:sp>
          <p:nvSpPr>
            <p:cNvPr id="179" name=""/>
            <p:cNvSpPr/>
            <p:nvPr/>
          </p:nvSpPr>
          <p:spPr>
            <a:xfrm>
              <a:off x="4211640" y="1484280"/>
              <a:ext cx="3097080" cy="1870200"/>
            </a:xfrm>
            <a:prstGeom prst="wedgeEllipseCallout">
              <a:avLst>
                <a:gd name="adj1" fmla="val 38569"/>
                <a:gd name="adj2" fmla="val 7877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72000" y="1844640"/>
              <a:ext cx="251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WHO ARE YOU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39640" y="549360"/>
            <a:ext cx="3816000" cy="2145960"/>
            <a:chOff x="539640" y="549360"/>
            <a:chExt cx="3816000" cy="2145960"/>
          </a:xfrm>
        </p:grpSpPr>
        <p:sp>
          <p:nvSpPr>
            <p:cNvPr id="182" name=""/>
            <p:cNvSpPr/>
            <p:nvPr/>
          </p:nvSpPr>
          <p:spPr>
            <a:xfrm>
              <a:off x="539640" y="549360"/>
              <a:ext cx="3816000" cy="2145960"/>
            </a:xfrm>
            <a:prstGeom prst="wedgeEllipseCallout">
              <a:avLst>
                <a:gd name="adj1" fmla="val -4041"/>
                <a:gd name="adj2" fmla="val 92462"/>
              </a:avLst>
            </a:prstGeom>
            <a:gradFill rotWithShape="0">
              <a:gsLst>
                <a:gs pos="0">
                  <a:srgbClr val="808000"/>
                </a:gs>
                <a:gs pos="50000">
                  <a:srgbClr val="ffffff"/>
                </a:gs>
                <a:gs pos="100000">
                  <a:srgbClr val="808000"/>
                </a:gs>
              </a:gsLst>
              <a:lin ang="5400000"/>
            </a:gra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14040" y="908280"/>
              <a:ext cx="2842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I AM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THE SOLDIER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755640" y="3068640"/>
            <a:ext cx="2087640" cy="3443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012000" y="3500280"/>
            <a:ext cx="3382920" cy="309096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4211640" y="1484280"/>
            <a:ext cx="3097080" cy="1870200"/>
            <a:chOff x="4211640" y="1484280"/>
            <a:chExt cx="3097080" cy="1870200"/>
          </a:xfrm>
        </p:grpSpPr>
        <p:sp>
          <p:nvSpPr>
            <p:cNvPr id="187" name=""/>
            <p:cNvSpPr/>
            <p:nvPr/>
          </p:nvSpPr>
          <p:spPr>
            <a:xfrm>
              <a:off x="4211640" y="1484280"/>
              <a:ext cx="3097080" cy="1870200"/>
            </a:xfrm>
            <a:prstGeom prst="wedgeEllipseCallout">
              <a:avLst>
                <a:gd name="adj1" fmla="val 38569"/>
                <a:gd name="adj2" fmla="val 7877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72000" y="1844640"/>
              <a:ext cx="251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WHO ARE YOU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971640" y="333360"/>
            <a:ext cx="3456000" cy="2307960"/>
            <a:chOff x="971640" y="333360"/>
            <a:chExt cx="3456000" cy="2307960"/>
          </a:xfrm>
        </p:grpSpPr>
        <p:sp>
          <p:nvSpPr>
            <p:cNvPr id="190" name=""/>
            <p:cNvSpPr/>
            <p:nvPr/>
          </p:nvSpPr>
          <p:spPr>
            <a:xfrm>
              <a:off x="971640" y="333360"/>
              <a:ext cx="3456000" cy="2307960"/>
            </a:xfrm>
            <a:prstGeom prst="wedgeEllipseCallout">
              <a:avLst>
                <a:gd name="adj1" fmla="val -4041"/>
                <a:gd name="adj2" fmla="val 92462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10760" y="719640"/>
              <a:ext cx="2574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I AM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THE ROBOT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971640" y="3141720"/>
            <a:ext cx="2523960" cy="3382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012000" y="3500280"/>
            <a:ext cx="3382920" cy="309096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4211640" y="1484280"/>
            <a:ext cx="3097080" cy="1870200"/>
            <a:chOff x="4211640" y="1484280"/>
            <a:chExt cx="3097080" cy="1870200"/>
          </a:xfrm>
        </p:grpSpPr>
        <p:sp>
          <p:nvSpPr>
            <p:cNvPr id="195" name=""/>
            <p:cNvSpPr/>
            <p:nvPr/>
          </p:nvSpPr>
          <p:spPr>
            <a:xfrm>
              <a:off x="4211640" y="1484280"/>
              <a:ext cx="3097080" cy="1870200"/>
            </a:xfrm>
            <a:prstGeom prst="wedgeEllipseCallout">
              <a:avLst>
                <a:gd name="adj1" fmla="val 38569"/>
                <a:gd name="adj2" fmla="val 7877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1844640"/>
              <a:ext cx="251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WHO ARE YOU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68360" y="476280"/>
            <a:ext cx="3816000" cy="2145960"/>
            <a:chOff x="468360" y="476280"/>
            <a:chExt cx="3816000" cy="2145960"/>
          </a:xfrm>
        </p:grpSpPr>
        <p:sp>
          <p:nvSpPr>
            <p:cNvPr id="198" name=""/>
            <p:cNvSpPr/>
            <p:nvPr/>
          </p:nvSpPr>
          <p:spPr>
            <a:xfrm>
              <a:off x="468360" y="476280"/>
              <a:ext cx="3816000" cy="2145960"/>
            </a:xfrm>
            <a:prstGeom prst="wedgeEllipseCallout">
              <a:avLst>
                <a:gd name="adj1" fmla="val -4041"/>
                <a:gd name="adj2" fmla="val 92462"/>
              </a:avLst>
            </a:prstGeom>
            <a:gradFill rotWithShape="0">
              <a:gsLst>
                <a:gs pos="0">
                  <a:srgbClr val="800080"/>
                </a:gs>
                <a:gs pos="50000">
                  <a:srgbClr val="ffffff"/>
                </a:gs>
                <a:gs pos="100000">
                  <a:srgbClr val="800080"/>
                </a:gs>
              </a:gsLst>
              <a:lin ang="5400000"/>
            </a:gra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42760" y="835200"/>
              <a:ext cx="2842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I AM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THE PUPPET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1835280" y="2637000"/>
            <a:ext cx="2195280" cy="4221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012000" y="3500280"/>
            <a:ext cx="3382920" cy="309096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4211640" y="1484280"/>
            <a:ext cx="3097080" cy="1870200"/>
            <a:chOff x="4211640" y="1484280"/>
            <a:chExt cx="3097080" cy="1870200"/>
          </a:xfrm>
        </p:grpSpPr>
        <p:sp>
          <p:nvSpPr>
            <p:cNvPr id="203" name=""/>
            <p:cNvSpPr/>
            <p:nvPr/>
          </p:nvSpPr>
          <p:spPr>
            <a:xfrm>
              <a:off x="4211640" y="1484280"/>
              <a:ext cx="3097080" cy="1870200"/>
            </a:xfrm>
            <a:prstGeom prst="wedgeEllipseCallout">
              <a:avLst>
                <a:gd name="adj1" fmla="val 38569"/>
                <a:gd name="adj2" fmla="val 7877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72000" y="1844640"/>
              <a:ext cx="251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WHO ARE YOU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95280" y="476280"/>
            <a:ext cx="3671640" cy="2185560"/>
            <a:chOff x="395280" y="476280"/>
            <a:chExt cx="3671640" cy="2185560"/>
          </a:xfrm>
        </p:grpSpPr>
        <p:sp>
          <p:nvSpPr>
            <p:cNvPr id="206" name=""/>
            <p:cNvSpPr/>
            <p:nvPr/>
          </p:nvSpPr>
          <p:spPr>
            <a:xfrm>
              <a:off x="395280" y="476280"/>
              <a:ext cx="3671640" cy="2185560"/>
            </a:xfrm>
            <a:prstGeom prst="wedgeEllipseCallout">
              <a:avLst>
                <a:gd name="adj1" fmla="val -4041"/>
                <a:gd name="adj2" fmla="val 92462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5640" y="842040"/>
              <a:ext cx="273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I AM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THE FAIRY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1187280" y="3141720"/>
            <a:ext cx="3457800" cy="3220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012000" y="3500280"/>
            <a:ext cx="3382920" cy="309096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4211640" y="1484280"/>
            <a:ext cx="3097080" cy="1870200"/>
            <a:chOff x="4211640" y="1484280"/>
            <a:chExt cx="3097080" cy="1870200"/>
          </a:xfrm>
        </p:grpSpPr>
        <p:sp>
          <p:nvSpPr>
            <p:cNvPr id="211" name=""/>
            <p:cNvSpPr/>
            <p:nvPr/>
          </p:nvSpPr>
          <p:spPr>
            <a:xfrm>
              <a:off x="4211640" y="1484280"/>
              <a:ext cx="3097080" cy="1870200"/>
            </a:xfrm>
            <a:prstGeom prst="wedgeEllipseCallout">
              <a:avLst>
                <a:gd name="adj1" fmla="val 38569"/>
                <a:gd name="adj2" fmla="val 7877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72000" y="1844640"/>
              <a:ext cx="251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WHO ARE YOU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55640" y="692280"/>
            <a:ext cx="3671640" cy="1726920"/>
            <a:chOff x="755640" y="692280"/>
            <a:chExt cx="3671640" cy="1726920"/>
          </a:xfrm>
        </p:grpSpPr>
        <p:sp>
          <p:nvSpPr>
            <p:cNvPr id="214" name=""/>
            <p:cNvSpPr/>
            <p:nvPr/>
          </p:nvSpPr>
          <p:spPr>
            <a:xfrm>
              <a:off x="755640" y="692280"/>
              <a:ext cx="3671640" cy="1726920"/>
            </a:xfrm>
            <a:prstGeom prst="wedgeEllipseCallout">
              <a:avLst>
                <a:gd name="adj1" fmla="val -4041"/>
                <a:gd name="adj2" fmla="val 92462"/>
              </a:avLst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16000" y="981000"/>
              <a:ext cx="273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I AM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THE BIKE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689040" y="3213000"/>
            <a:ext cx="338148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356000" y="3284640"/>
            <a:ext cx="1467000" cy="2952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2340000" y="4581360"/>
            <a:ext cx="1827360" cy="15051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0" y="3068640"/>
            <a:ext cx="1776240" cy="2374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5867280" y="4221000"/>
            <a:ext cx="2808360" cy="22384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 rot="20130000">
            <a:off x="684360" y="620280"/>
            <a:ext cx="1465200" cy="2664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2340000" y="836640"/>
            <a:ext cx="547380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atisse ITC"/>
              </a:rPr>
              <a:t>WHICH IS YOUR</a:t>
            </a:r>
            <a:endParaRPr b="0" lang="en-US" sz="7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atisse ITC"/>
              <a:ea typeface="Matiss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atisse ITC"/>
              </a:rPr>
              <a:t>FAVOURITE TOY?</a:t>
            </a:r>
            <a:endParaRPr b="0" lang="en-US" sz="7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atisse ITC"/>
              <a:ea typeface="Matisse ITC"/>
            </a:endParaRPr>
          </a:p>
        </p:txBody>
      </p: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83 -0.04704 L 0.11944 0.35217 E">
                                      <p:cBhvr>
                                        <p:cTn id="207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971640" y="692280"/>
            <a:ext cx="66960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atisse ITC"/>
              </a:rPr>
              <a:t>MY FAVOURITE </a:t>
            </a:r>
            <a:endParaRPr b="0" lang="en-US" sz="7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atisse ITC"/>
              <a:ea typeface="Matiss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atisse ITC"/>
              </a:rPr>
              <a:t>TOY IS the...</a:t>
            </a:r>
            <a:endParaRPr b="0" lang="en-US" sz="7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atisse ITC"/>
              <a:ea typeface="Matisse ITC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332000" y="3076560"/>
            <a:ext cx="6267240" cy="378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971640" y="692280"/>
            <a:ext cx="69850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f8b049"/>
                    </a:gs>
                    <a:gs pos="100000">
                      <a:srgbClr val="fc9fcb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atisse ITC"/>
              </a:rPr>
              <a:t>See you in the </a:t>
            </a:r>
            <a:endParaRPr b="0" lang="en-US" sz="7200" spc="1" strike="noStrike">
              <a:ln w="0">
                <a:noFill/>
              </a:ln>
              <a:gradFill rotWithShape="0">
                <a:gsLst>
                  <a:gs pos="0">
                    <a:srgbClr val="f8b049"/>
                  </a:gs>
                  <a:gs pos="100000">
                    <a:srgbClr val="fc9fcb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atisse ITC"/>
              <a:ea typeface="Matiss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f8b049"/>
                    </a:gs>
                    <a:gs pos="100000">
                      <a:srgbClr val="fc9fcb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atisse ITC"/>
              </a:rPr>
              <a:t>toy world!</a:t>
            </a:r>
            <a:endParaRPr b="0" lang="en-US" sz="7200" spc="1" strike="noStrike">
              <a:ln w="0">
                <a:noFill/>
              </a:ln>
              <a:gradFill rotWithShape="0">
                <a:gsLst>
                  <a:gs pos="0">
                    <a:srgbClr val="f8b049"/>
                  </a:gs>
                  <a:gs pos="100000">
                    <a:srgbClr val="fc9fcb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atisse ITC"/>
              <a:ea typeface="Matisse ITC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219640" y="3357720"/>
            <a:ext cx="3392640" cy="310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11280" y="1197000"/>
            <a:ext cx="770400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atisse ITC"/>
              </a:rPr>
              <a:t>WHERE CAN YOU </a:t>
            </a:r>
            <a:endParaRPr b="0" lang="en-US" sz="7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atisse ITC"/>
              <a:ea typeface="Matiss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atisse ITC"/>
              </a:rPr>
              <a:t>BUY TOYS?</a:t>
            </a:r>
            <a:endParaRPr b="0" lang="en-US" sz="7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atisse ITC"/>
              <a:ea typeface="Matisse ITC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0760" y="1144440"/>
            <a:ext cx="8572320" cy="5713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1258920" y="260280"/>
            <a:ext cx="6697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istral"/>
              </a:rPr>
              <a:t>IN THE TOY SHOP!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istral"/>
              <a:ea typeface="Mistral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148360" y="3141720"/>
            <a:ext cx="3382920" cy="309096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684360" y="692280"/>
            <a:ext cx="6192720" cy="2089080"/>
            <a:chOff x="684360" y="692280"/>
            <a:chExt cx="6192720" cy="2089080"/>
          </a:xfrm>
        </p:grpSpPr>
        <p:sp>
          <p:nvSpPr>
            <p:cNvPr id="135" name=""/>
            <p:cNvSpPr/>
            <p:nvPr/>
          </p:nvSpPr>
          <p:spPr>
            <a:xfrm>
              <a:off x="684360" y="692280"/>
              <a:ext cx="6192720" cy="2089080"/>
            </a:xfrm>
            <a:prstGeom prst="wedgeEllipseCallout">
              <a:avLst>
                <a:gd name="adj1" fmla="val 34976"/>
                <a:gd name="adj2" fmla="val 84648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76360" y="1052640"/>
              <a:ext cx="504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800000"/>
                  </a:solidFill>
                  <a:latin typeface="Comic Sans MS"/>
                </a:rPr>
                <a:t>BOYS and GIRLS,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these</a:t>
              </a:r>
              <a:r>
                <a:rPr b="1" i="1" lang="es-ES_tradnl" sz="3600" spc="-1" strike="noStrike">
                  <a:solidFill>
                    <a:srgbClr val="800000"/>
                  </a:solidFill>
                  <a:latin typeface="Comic Sans MS"/>
                </a:rPr>
                <a:t> are our TOYS!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02 0.033 -0.05872 0.058 -0.05872 C 0.095 -0.05872 0.125 -0.02269 0.125 0.02269 C 0.125 0.03737 0.122 0.05071 0.116 0.06272 C 0.117 0.06272 0 0.24289 0 0.24423 C 0 0.24289 -0.117 0.06272 -0.116 0.06272 C -0.122 0.05071 -0.125 0.03737 -0.125 0.02269 C -0.125 -0.02269 -0.095 -0.05872 -0.057 -0.05872 C -0.033 -0.05872 -0.012 -0.02402 0 0 Z">
                                      <p:cBhvr>
                                        <p:cTn id="6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012000" y="3500280"/>
            <a:ext cx="3382920" cy="30909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4211640" y="1484280"/>
            <a:ext cx="3097080" cy="1870200"/>
            <a:chOff x="4211640" y="1484280"/>
            <a:chExt cx="3097080" cy="1870200"/>
          </a:xfrm>
        </p:grpSpPr>
        <p:sp>
          <p:nvSpPr>
            <p:cNvPr id="139" name=""/>
            <p:cNvSpPr/>
            <p:nvPr/>
          </p:nvSpPr>
          <p:spPr>
            <a:xfrm>
              <a:off x="4211640" y="1484280"/>
              <a:ext cx="3097080" cy="1870200"/>
            </a:xfrm>
            <a:prstGeom prst="wedgeEllipseCallout">
              <a:avLst>
                <a:gd name="adj1" fmla="val 38569"/>
                <a:gd name="adj2" fmla="val 7877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0" y="1844640"/>
              <a:ext cx="251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WHO ARE YOU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 rot="19666800">
            <a:off x="971280" y="3428640"/>
            <a:ext cx="2579760" cy="302436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611280" y="907920"/>
            <a:ext cx="3671640" cy="1727280"/>
            <a:chOff x="611280" y="907920"/>
            <a:chExt cx="3671640" cy="1727280"/>
          </a:xfrm>
        </p:grpSpPr>
        <p:sp>
          <p:nvSpPr>
            <p:cNvPr id="143" name=""/>
            <p:cNvSpPr/>
            <p:nvPr/>
          </p:nvSpPr>
          <p:spPr>
            <a:xfrm>
              <a:off x="611280" y="907920"/>
              <a:ext cx="3671640" cy="1727280"/>
            </a:xfrm>
            <a:prstGeom prst="wedgeEllipseCallout">
              <a:avLst>
                <a:gd name="adj1" fmla="val -4041"/>
                <a:gd name="adj2" fmla="val 92462"/>
              </a:avLst>
            </a:prstGeom>
            <a:gradFill rotWithShape="0">
              <a:gsLst>
                <a:gs pos="0">
                  <a:srgbClr val="00ccff"/>
                </a:gs>
                <a:gs pos="50000">
                  <a:srgbClr val="ffffff"/>
                </a:gs>
                <a:gs pos="100000">
                  <a:srgbClr val="00ccff"/>
                </a:gs>
              </a:gsLst>
              <a:lin ang="5400000"/>
            </a:gra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00000" y="1125360"/>
              <a:ext cx="273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I AM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THE DOLL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012000" y="3500280"/>
            <a:ext cx="3382920" cy="309096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4211640" y="1484280"/>
            <a:ext cx="3097080" cy="1870200"/>
            <a:chOff x="4211640" y="1484280"/>
            <a:chExt cx="3097080" cy="1870200"/>
          </a:xfrm>
        </p:grpSpPr>
        <p:sp>
          <p:nvSpPr>
            <p:cNvPr id="147" name=""/>
            <p:cNvSpPr/>
            <p:nvPr/>
          </p:nvSpPr>
          <p:spPr>
            <a:xfrm>
              <a:off x="4211640" y="1484280"/>
              <a:ext cx="3097080" cy="1870200"/>
            </a:xfrm>
            <a:prstGeom prst="wedgeEllipseCallout">
              <a:avLst>
                <a:gd name="adj1" fmla="val 38569"/>
                <a:gd name="adj2" fmla="val 7877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1844640"/>
              <a:ext cx="251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WHO ARE YOU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11280" y="907920"/>
            <a:ext cx="3671640" cy="1773720"/>
            <a:chOff x="611280" y="907920"/>
            <a:chExt cx="3671640" cy="1773720"/>
          </a:xfrm>
        </p:grpSpPr>
        <p:sp>
          <p:nvSpPr>
            <p:cNvPr id="150" name=""/>
            <p:cNvSpPr/>
            <p:nvPr/>
          </p:nvSpPr>
          <p:spPr>
            <a:xfrm>
              <a:off x="611280" y="907920"/>
              <a:ext cx="3671640" cy="1727280"/>
            </a:xfrm>
            <a:prstGeom prst="wedgeEllipseCallout">
              <a:avLst>
                <a:gd name="adj1" fmla="val -4041"/>
                <a:gd name="adj2" fmla="val 92462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00000" y="1125360"/>
              <a:ext cx="27352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800000"/>
                  </a:solidFill>
                  <a:latin typeface="Comic Sans MS"/>
                </a:rPr>
                <a:t>I AM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800000"/>
                  </a:solidFill>
                  <a:latin typeface="Comic Sans MS"/>
                </a:rPr>
                <a:t>THE TEDDY BEA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332000" y="3284640"/>
            <a:ext cx="251928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012000" y="3500280"/>
            <a:ext cx="3382920" cy="309096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4211640" y="1484280"/>
            <a:ext cx="3097080" cy="1870200"/>
            <a:chOff x="4211640" y="1484280"/>
            <a:chExt cx="3097080" cy="1870200"/>
          </a:xfrm>
        </p:grpSpPr>
        <p:sp>
          <p:nvSpPr>
            <p:cNvPr id="155" name=""/>
            <p:cNvSpPr/>
            <p:nvPr/>
          </p:nvSpPr>
          <p:spPr>
            <a:xfrm>
              <a:off x="4211640" y="1484280"/>
              <a:ext cx="3097080" cy="1870200"/>
            </a:xfrm>
            <a:prstGeom prst="wedgeEllipseCallout">
              <a:avLst>
                <a:gd name="adj1" fmla="val 38569"/>
                <a:gd name="adj2" fmla="val 7877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2000" y="1844640"/>
              <a:ext cx="251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WHO ARE YOU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11280" y="836640"/>
            <a:ext cx="4105080" cy="1871640"/>
            <a:chOff x="611280" y="836640"/>
            <a:chExt cx="4105080" cy="1871640"/>
          </a:xfrm>
        </p:grpSpPr>
        <p:sp>
          <p:nvSpPr>
            <p:cNvPr id="158" name=""/>
            <p:cNvSpPr/>
            <p:nvPr/>
          </p:nvSpPr>
          <p:spPr>
            <a:xfrm>
              <a:off x="611280" y="836640"/>
              <a:ext cx="4105080" cy="1871640"/>
            </a:xfrm>
            <a:prstGeom prst="wedgeEllipseCallout">
              <a:avLst>
                <a:gd name="adj1" fmla="val -8893"/>
                <a:gd name="adj2" fmla="val 814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00000" y="1125360"/>
              <a:ext cx="345600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800" spc="-1" strike="noStrike">
                  <a:solidFill>
                    <a:srgbClr val="800000"/>
                  </a:solidFill>
                  <a:latin typeface="Comic Sans MS"/>
                </a:rPr>
                <a:t>I AM</a:t>
              </a: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800" spc="-1" strike="noStrike">
                  <a:solidFill>
                    <a:srgbClr val="800000"/>
                  </a:solidFill>
                  <a:latin typeface="Comic Sans MS"/>
                </a:rPr>
                <a:t>THE CLOWN</a:t>
              </a: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332000" y="3357720"/>
            <a:ext cx="2286000" cy="350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12000" y="3500280"/>
            <a:ext cx="3382920" cy="309096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4211640" y="1484280"/>
            <a:ext cx="3097080" cy="1870200"/>
            <a:chOff x="4211640" y="1484280"/>
            <a:chExt cx="3097080" cy="1870200"/>
          </a:xfrm>
        </p:grpSpPr>
        <p:sp>
          <p:nvSpPr>
            <p:cNvPr id="163" name=""/>
            <p:cNvSpPr/>
            <p:nvPr/>
          </p:nvSpPr>
          <p:spPr>
            <a:xfrm>
              <a:off x="4211640" y="1484280"/>
              <a:ext cx="3097080" cy="1870200"/>
            </a:xfrm>
            <a:prstGeom prst="wedgeEllipseCallout">
              <a:avLst>
                <a:gd name="adj1" fmla="val 38569"/>
                <a:gd name="adj2" fmla="val 7877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0" y="1844640"/>
              <a:ext cx="251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WHO ARE YOU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95280" y="1268280"/>
            <a:ext cx="3671640" cy="1727280"/>
            <a:chOff x="395280" y="1268280"/>
            <a:chExt cx="3671640" cy="1727280"/>
          </a:xfrm>
        </p:grpSpPr>
        <p:sp>
          <p:nvSpPr>
            <p:cNvPr id="166" name=""/>
            <p:cNvSpPr/>
            <p:nvPr/>
          </p:nvSpPr>
          <p:spPr>
            <a:xfrm>
              <a:off x="395280" y="1268280"/>
              <a:ext cx="3671640" cy="1727280"/>
            </a:xfrm>
            <a:prstGeom prst="wedgeEllipseCallout">
              <a:avLst>
                <a:gd name="adj1" fmla="val -4041"/>
                <a:gd name="adj2" fmla="val 92462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5640" y="1557360"/>
              <a:ext cx="273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I AM THE TRAI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6265800" cy="1962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012000" y="3500280"/>
            <a:ext cx="3382920" cy="309096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4211640" y="1484280"/>
            <a:ext cx="3097080" cy="1870200"/>
            <a:chOff x="4211640" y="1484280"/>
            <a:chExt cx="3097080" cy="1870200"/>
          </a:xfrm>
        </p:grpSpPr>
        <p:sp>
          <p:nvSpPr>
            <p:cNvPr id="171" name=""/>
            <p:cNvSpPr/>
            <p:nvPr/>
          </p:nvSpPr>
          <p:spPr>
            <a:xfrm>
              <a:off x="4211640" y="1484280"/>
              <a:ext cx="3097080" cy="1870200"/>
            </a:xfrm>
            <a:prstGeom prst="wedgeEllipseCallout">
              <a:avLst>
                <a:gd name="adj1" fmla="val 38569"/>
                <a:gd name="adj2" fmla="val 7877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0" y="1844640"/>
              <a:ext cx="251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WHO ARE YOU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95280" y="1268280"/>
            <a:ext cx="3671640" cy="1727280"/>
            <a:chOff x="395280" y="1268280"/>
            <a:chExt cx="3671640" cy="1727280"/>
          </a:xfrm>
        </p:grpSpPr>
        <p:sp>
          <p:nvSpPr>
            <p:cNvPr id="174" name=""/>
            <p:cNvSpPr/>
            <p:nvPr/>
          </p:nvSpPr>
          <p:spPr>
            <a:xfrm>
              <a:off x="395280" y="1268280"/>
              <a:ext cx="3671640" cy="1727280"/>
            </a:xfrm>
            <a:prstGeom prst="wedgeEllipseCallout">
              <a:avLst>
                <a:gd name="adj1" fmla="val -4041"/>
                <a:gd name="adj2" fmla="val 92462"/>
              </a:avLst>
            </a:prstGeom>
            <a:gradFill rotWithShape="0">
              <a:gsLst>
                <a:gs pos="0">
                  <a:srgbClr val="ff00ff"/>
                </a:gs>
                <a:gs pos="50000">
                  <a:srgbClr val="ffffff"/>
                </a:gs>
                <a:gs pos="100000">
                  <a:srgbClr val="ff00ff"/>
                </a:gs>
              </a:gsLst>
              <a:lin ang="5400000"/>
            </a:gra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5640" y="1557360"/>
              <a:ext cx="273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I AM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800000"/>
                  </a:solidFill>
                  <a:latin typeface="Comic Sans MS"/>
                </a:rPr>
                <a:t>THE BALL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826920" y="371628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22:44:39Z</dcterms:created>
  <dc:creator> </dc:creator>
  <dc:description/>
  <dc:language>en-US</dc:language>
  <cp:lastModifiedBy> </cp:lastModifiedBy>
  <dcterms:modified xsi:type="dcterms:W3CDTF">2008-04-16T16:38:15Z</dcterms:modified>
  <cp:revision>16</cp:revision>
  <dc:subject/>
  <dc:title>Diapositiva 1</dc:title>
</cp:coreProperties>
</file>