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laser.wav" ContentType="audio/x-wav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232-C821-4CDF-977B-40B0F80D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480-B5C6-4BA4-BE1A-38C2AFB3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D18-E625-4581-B438-0EFAF4BF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93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51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93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51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9BE-8969-4F6A-8723-6E011C48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D0D0-974F-49CC-957A-C88BB420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646D-783F-4518-B79B-AD648862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8616-D45C-45E5-8923-81A6C716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A8B3-4D5C-4B1D-8E23-D09F76C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20FE-E710-4CBE-81FA-16D18E20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0F2C-116A-40E7-9153-C2CD1009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F2A5-C3FB-4B83-AA0D-51B2B706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5A1-C7A9-4700-921D-92BBCD6D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2E1A-99C9-4B21-9F5E-D62730A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B709-4194-49FB-8FAF-F7162A3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A30C-A2A1-44FA-B38F-1624F341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7178-346E-48C4-A82F-FD19C9D0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93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51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93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51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E306-CE73-4B5E-8CA4-E4D56DBD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ACD2-234A-4921-A19B-5878AEF2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D69C-1247-4929-8D50-92438B0C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10EE-9E66-475F-B161-811E9C76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603D-F10E-4299-86C8-A26418CF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7DF8-C15F-4104-B19A-4054B548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418-96C5-4127-8AB3-6104DDA7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26E1-BC4A-4420-830B-8AB6D43A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A569-44E6-4E3B-830B-A7BD0DF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DAEF-B0DD-467A-BB4C-E5AF907B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DAF6-1526-4BBE-947D-1F7D5A4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F648-C0B9-42A0-B4D8-7079E237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1F91-65D7-4FCE-82C1-00D48E96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93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951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2388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93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951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9697-C0BC-4858-A388-AD566BD2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AF21-0D10-4D10-93B5-6F90F0C9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06D4-6258-4A11-B117-AB119CD4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9E0E-577F-414E-A713-8C1EC79C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ADE-6223-4B22-B59E-E7DFEBE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E301-E63B-40D9-9EFA-DE87DEDC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B048-9F89-4653-BCCE-8E7D35FD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AF83-D3D5-4FC1-9627-695115EC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B83C-FA2C-4119-80C6-685CFAA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48DA-970D-46B3-BD6C-E59E26A3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9ABC-5C26-49BE-8146-77C4E22B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C170-89BE-4CB3-95BD-F3F2284E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6B540-C70C-4A89-93AA-B4E121A8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593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95120" y="159984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52388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593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595120" y="3590280"/>
            <a:ext cx="1938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8CA3-145A-47AF-ADED-5E95A294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5C8-A585-4DD4-9D37-52D3C4C9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0DB-3705-4167-A50B-AB21E085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5E7-DD67-4E8E-8905-BBCAD2C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8720" y="359028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501-32DE-4D72-838E-F5E4D612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720" y="1599840"/>
            <a:ext cx="2937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590280"/>
            <a:ext cx="6019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5F8-BE92-4195-AC65-19F5633B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880" y="15998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1" marL="497520" indent="-1911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2" marL="765720" indent="-15300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3" marL="1072080" indent="-15300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4" marL="1378440" indent="-15300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5" marL="1378440" indent="-15300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  <a:p>
            <a:pPr lvl="6" marL="1378440" indent="-15300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432F-511D-42D5-9C6A-38AF61CE0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ndy"/>
              </a:rPr>
              <a:t>Click to edit the title text format</a:t>
            </a:r>
            <a:endParaRPr b="0" lang="en-US" sz="7200" spc="-1" strike="noStrike">
              <a:solidFill>
                <a:srgbClr val="333399"/>
              </a:solidFill>
              <a:latin typeface="And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EEFA-FBAD-4F62-A27A-7B4C77CCC9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ndy"/>
              </a:rPr>
              <a:t>Click to edit the outline text format</a:t>
            </a:r>
            <a:endParaRPr b="0" lang="en-US" sz="4400" spc="-1" strike="noStrike">
              <a:solidFill>
                <a:srgbClr val="333399"/>
              </a:solidFill>
              <a:latin typeface="Andy"/>
            </a:endParaRPr>
          </a:p>
          <a:p>
            <a:pPr lvl="1" marL="4068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Andy"/>
            </a:endParaRPr>
          </a:p>
          <a:p>
            <a:pPr lvl="2" marL="813600" algn="ctr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ndy"/>
            </a:endParaRPr>
          </a:p>
          <a:p>
            <a:pPr lvl="3" marL="1220400" algn="ctr">
              <a:spcBef>
                <a:spcPts val="700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ndy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ndy"/>
            </a:endParaRPr>
          </a:p>
          <a:p>
            <a:pPr lvl="4" marL="1627560" algn="ctr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ndy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ndy"/>
            </a:endParaRPr>
          </a:p>
          <a:p>
            <a:pPr lvl="5" marL="162756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ndy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ndy"/>
            </a:endParaRPr>
          </a:p>
          <a:p>
            <a:pPr lvl="6" marL="1627560">
              <a:spcBef>
                <a:spcPts val="700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ndy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gency F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gency F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gency F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gency FB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4593-447D-4285-B060-7D6F723C6473}" type="slidenum">
              <a:rPr b="0" lang="en-GB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gency FB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1625-409A-4551-9FE6-2C001651C58F}" type="slidenum">
              <a:rPr b="0" lang="en-GB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scap0s12\Local Settings\Temporary Internet Files\Content.IE5\TNE0XPGR\MCj00787930000[1].wmf"/>
          <p:cNvPicPr/>
          <p:nvPr/>
        </p:nvPicPr>
        <p:blipFill>
          <a:blip r:embed="rId2"/>
          <a:stretch/>
        </p:blipFill>
        <p:spPr>
          <a:xfrm>
            <a:off x="5651640" y="1413000"/>
            <a:ext cx="1942920" cy="1050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124000" y="1628640"/>
            <a:ext cx="3086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>
                        <a:alpha val="50196"/>
                      </a:srgbClr>
                    </a:gs>
                    <a:gs pos="50000">
                      <a:srgbClr val="ffffff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QUIPMENT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ff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1280" y="3357720"/>
            <a:ext cx="30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>
                        <a:alpha val="50196"/>
                      </a:srgbClr>
                    </a:gs>
                    <a:gs pos="50000">
                      <a:srgbClr val="ffffff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PARATUS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ff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427640" y="2637000"/>
            <a:ext cx="107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3300">
                        <a:alpha val="50196"/>
                      </a:srgbClr>
                    </a:gs>
                    <a:gs pos="50000">
                      <a:srgbClr val="ffffff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d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50000">
                    <a:srgbClr val="ffffff"/>
                  </a:gs>
                  <a:gs pos="100000">
                    <a:srgbClr val="ff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1908000" y="4437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0033"/>
                </a:solidFill>
                <a:latin typeface="Arial"/>
              </a:rPr>
              <a:t>In PHISIC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4103640" cy="3079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5292720" y="836640"/>
            <a:ext cx="331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FT 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219640" y="3789360"/>
            <a:ext cx="338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OLLEY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3025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24000" y="3643200"/>
            <a:ext cx="4032000" cy="302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932360" y="692280"/>
            <a:ext cx="3672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KIPP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P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788000" y="3645000"/>
            <a:ext cx="36716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ONG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P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3114720" cy="4149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961080" cy="2971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50920" y="3141720"/>
            <a:ext cx="295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CKE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NIS 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56000" y="4869000"/>
            <a:ext cx="302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CKEY STICK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UC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3280" y="404640"/>
            <a:ext cx="2953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ODEN BA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ONGE 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919600" cy="3889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2916360" cy="3887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708360" y="549360"/>
            <a:ext cx="367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PP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UNCE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258920" y="4292640"/>
            <a:ext cx="367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MPI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WL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033800" cy="302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0" y="765000"/>
            <a:ext cx="395928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AFETY MATTRE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 rot="21372600">
            <a:off x="4932360" y="407628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62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ENCH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62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148360" y="836640"/>
            <a:ext cx="273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LID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148360" y="3429000"/>
            <a:ext cx="360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RINGBOAR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AMPOLI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68360" y="49417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R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616360" cy="4213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364000" y="3573360"/>
            <a:ext cx="28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R BO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2" name="laser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8360" y="25884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932360" y="692280"/>
            <a:ext cx="3672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ODEN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360" y="357192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5076720" y="3573360"/>
            <a:ext cx="36720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ODEN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ENC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292720" y="3789360"/>
            <a:ext cx="273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K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24360" y="404640"/>
            <a:ext cx="3600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ASURING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OS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050920" y="4365720"/>
            <a:ext cx="3241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UM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CAL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897280" cy="3860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291780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laser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219640" y="4076640"/>
            <a:ext cx="27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OP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49800" cy="3187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4249800" cy="31892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219640" y="1052640"/>
            <a:ext cx="295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DI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788000" y="3213000"/>
            <a:ext cx="3887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LASTIC BA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ASURING TAP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547640" y="1628640"/>
            <a:ext cx="6264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 YOU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ANT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 PLAY?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  <p:sndAc>
      <p:stSnd>
        <p:snd r:embed="rId2" name="laser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744720" cy="2809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940360" y="3141720"/>
            <a:ext cx="2702160" cy="3600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63640" y="4076640"/>
            <a:ext cx="27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ICK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5292720" y="836640"/>
            <a:ext cx="273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IB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219640" y="4005360"/>
            <a:ext cx="27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OTH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24836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4248360" cy="318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SBE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48360" y="3429000"/>
            <a:ext cx="331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ONG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ISK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033800" cy="3025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5148360" y="90792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OI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219640" y="3933720"/>
            <a:ext cx="27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RKE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248000" cy="3187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5219640" y="4005360"/>
            <a:ext cx="27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IL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148360" y="836640"/>
            <a:ext cx="273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ICK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788000" y="836640"/>
            <a:ext cx="3600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EBAL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219640" y="4005360"/>
            <a:ext cx="27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USHIO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5003640" y="765000"/>
            <a:ext cx="3456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KET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OT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76720" y="3429000"/>
            <a:ext cx="3672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UGBY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ND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UBBER BAL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  <p:sndAc>
      <p:stSnd>
        <p:snd r:embed="rId3" name="laser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9:34:30Z</dcterms:created>
  <dc:creator>admin</dc:creator>
  <dc:description/>
  <dc:language>en-US</dc:language>
  <cp:lastModifiedBy> </cp:lastModifiedBy>
  <dcterms:modified xsi:type="dcterms:W3CDTF">2008-05-25T19:26:34Z</dcterms:modified>
  <cp:revision>14</cp:revision>
  <dc:subject/>
  <dc:title>Slide 1</dc:title>
</cp:coreProperties>
</file>