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6.wmf" ContentType="image/x-wmf"/>
  <Override PartName="/ppt/media/image36.wmf" ContentType="image/x-wmf"/>
  <Override PartName="/ppt/media/image34.png" ContentType="image/png"/>
  <Override PartName="/ppt/media/image40.wmf" ContentType="image/x-wmf"/>
  <Override PartName="/ppt/media/image43.wmf" ContentType="image/x-wmf"/>
  <Override PartName="/ppt/media/image44.jpeg" ContentType="image/jpeg"/>
  <Override PartName="/ppt/media/image45.png" ContentType="image/png"/>
  <Override PartName="/ppt/media/image30.wmf" ContentType="image/x-wmf"/>
  <Override PartName="/ppt/media/applause.wav" ContentType="audio/x-wav"/>
  <Override PartName="/ppt/media/image28.wmf" ContentType="image/x-wmf"/>
  <Override PartName="/ppt/media/image46.wmf" ContentType="image/x-wmf"/>
  <Override PartName="/ppt/media/image47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2.wmf" ContentType="image/x-wmf"/>
  <Override PartName="/ppt/media/image51.gif" ContentType="image/gif"/>
  <Override PartName="/ppt/media/image41.wmf" ContentType="image/x-wmf"/>
  <Override PartName="/ppt/media/image53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49.wmf" ContentType="image/x-wmf"/>
  <Override PartName="/ppt/media/image11.jpeg" ContentType="image/jpeg"/>
  <Override PartName="/ppt/media/image37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B2D-F606-48FC-BCCB-F042B102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272-E253-4C56-95B4-9A1E560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00C-BD6B-44BA-9FA2-BDB6115B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048-A887-47D3-A6BA-FC9D2EA9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FFE6-F0DE-46E6-893B-721BEC99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16DA-70C5-4775-9F8F-40EA7FC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2C5-2B1E-4C49-9947-600983F9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02E8-ACD2-4925-9739-DF658162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F9A-6DF9-4D4C-B622-49D2A06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964D-2930-4F4B-A8EC-BC45122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8A74-C6FB-4029-A90F-AF449A82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2C2-D135-4A04-AAFD-3D56B254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2559-BCA8-48D0-BAEF-80243E9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F748-061B-47DB-BAD0-47F6793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0DB-EBAC-411C-8E6B-9823C0D8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618-37FB-4F20-A348-6264F854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8529-3E92-4C3E-8E85-F7E728D1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6626-31AD-4E4E-BBC4-2FE778B0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01E3-E4F7-474D-83BF-A2AE63F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DC47-0AC9-496F-8AE4-DD67C2B1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D9B8-64B5-418B-A7F4-2AAB053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DA5A-331E-4411-A47B-D18C109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916-2A3A-417F-B16E-5BD4DE11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87D5-CBAA-4A90-A90E-9B74D96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9637-06EF-4410-942F-7258444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B324-2C78-4BB8-A90D-30CC6237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376F-4B98-421E-9FB3-5F2CDF1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B585-82F2-43B1-9CD3-C9AB79EB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72A4-AB14-4CA8-B8DB-9CFBA44B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D36B-256F-40D9-89AC-E6222C21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46A4-48C4-4A1F-89A4-BD2EC84A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A107-8000-40E8-B20E-2BA6F2FF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0D29-6A7D-43A4-9BC7-30C1BD8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1C8-FCC6-4BF1-9EF1-81E609F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02BA-307B-49A6-985A-FF03F950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B9D9-28A9-404C-B854-E0D71C77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57C4-90D8-4276-B370-781A766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A0AB-A17E-45A1-BE12-98230D6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0967-389F-4B4E-A9FD-26B856E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5390-BA71-4FCB-83AF-D8DBFCFF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D2E3-C0F0-4F08-A0B5-2930F06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FDF1-BF92-4461-8854-F2C2E6D4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E935-18C2-485F-A86E-07E2CAA0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23030-6E9D-444C-9FA2-564FDC97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A25-4C69-4732-A88C-E2C5E941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01CC-999B-4861-A19C-64B1C5D7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7C6F0-3DFC-48A2-8509-8E0C3914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8BE09-BDBC-48A6-B6E4-D4DC445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4BDE-98C4-4A3E-98B7-27F450CD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AD75-B913-429C-AAF1-8715F9EB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5847-A768-4F85-8D8C-96D77D6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2066-39DD-4E5C-8DA6-C9B46579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0ED3-D815-4015-92C8-3538F2B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D362-BDBA-4943-82D1-BA335BDD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9AFA-4BFF-49F3-B8D3-797C8342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14E-D960-4BD2-88BD-A66F0B19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5A60-C5CF-4EFC-9904-A9E0DDED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A2A-D4C4-49AB-B14E-47532519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23B-4D95-4F7A-A8DE-EC349A2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1408-B7B5-4C31-ABFB-91CC7EE7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10605-406B-40FF-8360-35196D4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EF48-351E-4304-ADA1-4D69028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31D04-343F-4AE3-AA8C-0AA83C6F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9C1E-D4DD-4E9C-82A5-5F9162B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C0C-0E41-4B7E-8E3A-94F123E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0199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B9CC-8D5B-45EF-8BD3-6BF8C23E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90E6-EF5A-43ED-BA39-2206B3B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52758-6CE2-4042-8EB6-C6E1FE1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1F23-AE98-4C5C-B68A-EE39D6D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89AF-B2C0-4761-81CE-E62E0BD9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6C409-0012-4E48-B9D0-DBB5D9D4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2687-F93A-440F-9EC0-0CDEA5E1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GCAH4496"/>
          <p:cNvPicPr/>
          <p:nvPr/>
        </p:nvPicPr>
        <p:blipFill>
          <a:blip r:embed="rId2"/>
          <a:stretch/>
        </p:blipFill>
        <p:spPr>
          <a:xfrm>
            <a:off x="0" y="0"/>
            <a:ext cx="2108160" cy="159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" name="Picture 7" descr="GCAH4538"/>
          <p:cNvPicPr/>
          <p:nvPr/>
        </p:nvPicPr>
        <p:blipFill>
          <a:blip r:embed="rId3"/>
          <a:stretch/>
        </p:blipFill>
        <p:spPr>
          <a:xfrm>
            <a:off x="6072120" y="4346640"/>
            <a:ext cx="3071880" cy="251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12A-160D-46A1-8D8A-0836A9834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lipping a Coin"/>
          <p:cNvPicPr/>
          <p:nvPr/>
        </p:nvPicPr>
        <p:blipFill>
          <a:blip r:embed="rId2"/>
          <a:stretch/>
        </p:blipFill>
        <p:spPr>
          <a:xfrm>
            <a:off x="7859880" y="4419720"/>
            <a:ext cx="1284120" cy="19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7983-E82A-46EA-9C5B-6AF2CA2060AD}" type="slidenum">
              <a:rPr b="0" lang="en-GB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WV00007"/>
          <p:cNvPicPr/>
          <p:nvPr/>
        </p:nvPicPr>
        <p:blipFill>
          <a:blip r:embed="rId2"/>
          <a:stretch/>
        </p:blipFill>
        <p:spPr>
          <a:xfrm>
            <a:off x="5549760" y="5715000"/>
            <a:ext cx="359424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489-3575-41A9-B609-D74B4FBFE5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008a"/>
                </a:solidFill>
                <a:latin typeface="BlizzardD"/>
              </a:rPr>
              <a:t>Click to edit the title text format</a:t>
            </a:r>
            <a:endParaRPr b="0" lang="en-US" sz="44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Click to edit the outline text format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1" marL="735480" indent="-28296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con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2" marL="113148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Thir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3" marL="158400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our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4" marL="2036520" indent="-226080">
              <a:spcBef>
                <a:spcPts val="799"/>
              </a:spcBef>
              <a:buClr>
                <a:srgbClr val="14008a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if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ix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ven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4008a"/>
                </a:solidFill>
                <a:latin typeface="Blizzard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C01A-D991-41F0-9882-F6872FEE4EC0}" type="slidenum">
              <a:rPr b="0" lang="en-GB" sz="1400" spc="-1" strike="noStrike">
                <a:solidFill>
                  <a:srgbClr val="14008a"/>
                </a:solidFill>
                <a:latin typeface="Blizzard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Vertical 05"/>
          <p:cNvPicPr/>
          <p:nvPr/>
        </p:nvPicPr>
        <p:blipFill>
          <a:blip r:embed="rId2"/>
          <a:stretch/>
        </p:blipFill>
        <p:spPr>
          <a:xfrm>
            <a:off x="7780320" y="1252440"/>
            <a:ext cx="1363680" cy="560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GCAH4537"/>
          <p:cNvPicPr/>
          <p:nvPr/>
        </p:nvPicPr>
        <p:blipFill>
          <a:blip r:embed="rId2"/>
          <a:stretch/>
        </p:blipFill>
        <p:spPr>
          <a:xfrm>
            <a:off x="6019920" y="4549680"/>
            <a:ext cx="3124080" cy="230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0" name="Picture 9" descr="GCAH4536"/>
          <p:cNvPicPr/>
          <p:nvPr/>
        </p:nvPicPr>
        <p:blipFill>
          <a:blip r:embed="rId3"/>
          <a:stretch/>
        </p:blipFill>
        <p:spPr>
          <a:xfrm>
            <a:off x="0" y="0"/>
            <a:ext cx="3429000" cy="274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6F0-67C8-4737-81C5-60A46049B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rinking Coffee 2"/>
          <p:cNvPicPr/>
          <p:nvPr/>
        </p:nvPicPr>
        <p:blipFill>
          <a:blip r:embed="rId2"/>
          <a:stretch/>
        </p:blipFill>
        <p:spPr>
          <a:xfrm>
            <a:off x="0" y="1252440"/>
            <a:ext cx="3700440" cy="5605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WV00007"/>
          <p:cNvPicPr/>
          <p:nvPr/>
        </p:nvPicPr>
        <p:blipFill>
          <a:blip r:embed="rId2"/>
          <a:stretch/>
        </p:blipFill>
        <p:spPr>
          <a:xfrm>
            <a:off x="228600" y="3795840"/>
            <a:ext cx="8915400" cy="2833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Frame 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008a"/>
                </a:solidFill>
                <a:latin typeface="BlizzardD"/>
              </a:rPr>
              <a:t>Click to edit the title text format</a:t>
            </a:r>
            <a:endParaRPr b="0" lang="en-US" sz="44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Click to edit the outline text format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1" marL="735480" indent="-28296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con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2" marL="113148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Third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3" marL="1584000" indent="-226080">
              <a:spcBef>
                <a:spcPts val="799"/>
              </a:spcBef>
              <a:buClr>
                <a:srgbClr val="14008a"/>
              </a:buClr>
              <a:buFont typeface="Blizzard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our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4" marL="2036520" indent="-226080">
              <a:spcBef>
                <a:spcPts val="799"/>
              </a:spcBef>
              <a:buClr>
                <a:srgbClr val="14008a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Fif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ix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zzard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008a"/>
                </a:solidFill>
                <a:latin typeface="BlizzardD"/>
              </a:rPr>
              <a:t>Seventh Outline Level</a:t>
            </a:r>
            <a:endParaRPr b="0" lang="en-US" sz="3200" spc="-1" strike="noStrike">
              <a:solidFill>
                <a:srgbClr val="14008a"/>
              </a:solidFill>
              <a:latin typeface="Blizzard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4008a"/>
                </a:solidFill>
                <a:latin typeface="Blizzard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62C5-ACCE-4D9F-81E3-81DF43BC7A46}" type="slidenum">
              <a:rPr b="0" lang="en-GB" sz="1400" spc="-1" strike="noStrike">
                <a:solidFill>
                  <a:srgbClr val="14008a"/>
                </a:solidFill>
                <a:latin typeface="Blizzard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53.wmf"/><Relationship Id="rId5" Type="http://schemas.openxmlformats.org/officeDocument/2006/relationships/image" Target="../media/image32.wmf"/><Relationship Id="rId6" Type="http://schemas.openxmlformats.org/officeDocument/2006/relationships/image" Target="../media/image34.png"/><Relationship Id="rId7" Type="http://schemas.openxmlformats.org/officeDocument/2006/relationships/image" Target="../media/image35.wmf"/><Relationship Id="rId8" Type="http://schemas.openxmlformats.org/officeDocument/2006/relationships/image" Target="../media/image33.wmf"/><Relationship Id="rId9" Type="http://schemas.openxmlformats.org/officeDocument/2006/relationships/image" Target="../media/image36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3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png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5"/>
          <p:cNvSpPr txBox="1"/>
          <p:nvPr/>
        </p:nvSpPr>
        <p:spPr>
          <a:xfrm rot="21405000">
            <a:off x="971280" y="2360160"/>
            <a:ext cx="748800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cc00"/>
                    </a:gs>
                    <a:gs pos="100000">
                      <a:srgbClr val="008000"/>
                    </a:gs>
                  </a:gsLst>
                  <a:lin ang="57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E MAGIC TOYS</a:t>
            </a:r>
            <a:endParaRPr b="1" lang="en-US" sz="5400" spc="1" strike="noStrike">
              <a:ln w="2844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cc00"/>
                  </a:gs>
                  <a:gs pos="100000">
                    <a:srgbClr val="008000"/>
                  </a:gs>
                </a:gsLst>
                <a:lin ang="57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wheel spokes="1"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5" descr="C:\Documents and Settings\scap0s12\Local Settings\Temporary Internet Files\Content.IE5\DPD1Z1Z2\MCj04362100000[1].png"/>
          <p:cNvPicPr/>
          <p:nvPr/>
        </p:nvPicPr>
        <p:blipFill>
          <a:blip r:embed="rId2"/>
          <a:stretch/>
        </p:blipFill>
        <p:spPr>
          <a:xfrm rot="21331800">
            <a:off x="3985920" y="3068640"/>
            <a:ext cx="182880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C:\Documents and Settings\scap0s12\Local Settings\Temporary Internet Files\Content.IE5\PWHEYQTV\MCj03315760000[1].wmf"/>
          <p:cNvPicPr/>
          <p:nvPr/>
        </p:nvPicPr>
        <p:blipFill>
          <a:blip r:embed="rId3"/>
          <a:stretch/>
        </p:blipFill>
        <p:spPr>
          <a:xfrm rot="15559800">
            <a:off x="1887120" y="2964960"/>
            <a:ext cx="1555920" cy="17877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2214720" y="285840"/>
            <a:ext cx="601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309760" y="0"/>
            <a:ext cx="619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Y 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CLEA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HE TOY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8" descr="C:\Documents and Settings\scap0s12\Local Settings\Temporary Internet Files\Content.IE5\PWHEYQTV\MCj03986910000[1].wmf"/>
          <p:cNvPicPr/>
          <p:nvPr/>
        </p:nvPicPr>
        <p:blipFill>
          <a:blip r:embed="rId4"/>
          <a:stretch/>
        </p:blipFill>
        <p:spPr>
          <a:xfrm>
            <a:off x="0" y="3929040"/>
            <a:ext cx="2490840" cy="2498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7" descr="C:\Documents and Settings\scap0s12\Local Settings\Temporary Internet Files\Content.IE5\TNE0XPGR\MCj04348380000[1].png"/>
          <p:cNvPicPr/>
          <p:nvPr/>
        </p:nvPicPr>
        <p:blipFill>
          <a:blip r:embed="rId5"/>
          <a:stretch/>
        </p:blipFill>
        <p:spPr>
          <a:xfrm rot="1936200">
            <a:off x="1924200" y="4362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C:\Documents and Settings\scap0s12\Local Settings\Temporary Internet Files\Content.IE5\TNE0XPGR\MCj01383450000[1].wmf"/>
          <p:cNvPicPr/>
          <p:nvPr/>
        </p:nvPicPr>
        <p:blipFill>
          <a:blip r:embed="rId6"/>
          <a:stretch/>
        </p:blipFill>
        <p:spPr>
          <a:xfrm>
            <a:off x="500040" y="1785960"/>
            <a:ext cx="2220840" cy="1785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C:\Documents and Settings\scap0s12\Local Settings\Temporary Internet Files\Content.IE5\PWHEYQTV\MCj01002840000[1].wmf"/>
          <p:cNvPicPr/>
          <p:nvPr/>
        </p:nvPicPr>
        <p:blipFill>
          <a:blip r:embed="rId7"/>
          <a:stretch/>
        </p:blipFill>
        <p:spPr>
          <a:xfrm>
            <a:off x="5357880" y="1857240"/>
            <a:ext cx="2388960" cy="3071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C:\Documents and Settings\scap0s12\Local Settings\Temporary Internet Files\Content.IE5\6G5PWHFH\MMj02839070000[1].gif"/>
          <p:cNvPicPr/>
          <p:nvPr/>
        </p:nvPicPr>
        <p:blipFill>
          <a:blip r:embed="rId8"/>
          <a:stretch/>
        </p:blipFill>
        <p:spPr>
          <a:xfrm rot="18567000">
            <a:off x="4917600" y="4946760"/>
            <a:ext cx="857160" cy="928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219240" y="5715000"/>
            <a:ext cx="871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HEY CELEBRATE A 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PAR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j0214098.wav" descr=""/>
          <p:cNvPicPr/>
          <p:nvPr/>
        </p:nvPicPr>
        <p:blipFill>
          <a:blip r:embed="rId2"/>
          <a:stretch/>
        </p:blipFill>
        <p:spPr>
          <a:xfrm>
            <a:off x="7715160" y="5214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8" name="MSj03883740000[1].wav" descr=""/>
          <p:cNvPicPr/>
          <p:nvPr/>
        </p:nvPicPr>
        <p:blipFill>
          <a:blip r:embed="rId3"/>
          <a:stretch/>
        </p:blipFill>
        <p:spPr>
          <a:xfrm>
            <a:off x="7786800" y="3714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scap0s12\Local Settings\Temporary Internet Files\Content.IE5\6G5PWHFH\MCj02792860000[1].wmf"/>
          <p:cNvPicPr/>
          <p:nvPr/>
        </p:nvPicPr>
        <p:blipFill>
          <a:blip r:embed="rId4"/>
          <a:stretch/>
        </p:blipFill>
        <p:spPr>
          <a:xfrm>
            <a:off x="4000680" y="2428920"/>
            <a:ext cx="1842840" cy="1724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MCj01383550000[1]"/>
          <p:cNvPicPr/>
          <p:nvPr/>
        </p:nvPicPr>
        <p:blipFill>
          <a:blip r:embed="rId5"/>
          <a:stretch/>
        </p:blipFill>
        <p:spPr>
          <a:xfrm>
            <a:off x="928800" y="2000160"/>
            <a:ext cx="1293840" cy="1981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MCj04348700000[1]"/>
          <p:cNvPicPr/>
          <p:nvPr/>
        </p:nvPicPr>
        <p:blipFill>
          <a:blip r:embed="rId6"/>
          <a:stretch/>
        </p:blipFill>
        <p:spPr>
          <a:xfrm>
            <a:off x="6429240" y="350028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6" descr="MCj04108470000[1]"/>
          <p:cNvPicPr/>
          <p:nvPr/>
        </p:nvPicPr>
        <p:blipFill>
          <a:blip r:embed="rId7"/>
          <a:stretch/>
        </p:blipFill>
        <p:spPr>
          <a:xfrm>
            <a:off x="2357280" y="2357280"/>
            <a:ext cx="1222560" cy="2016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CDD00112_0000[1]"/>
          <p:cNvPicPr/>
          <p:nvPr/>
        </p:nvPicPr>
        <p:blipFill>
          <a:blip r:embed="rId8"/>
          <a:stretch/>
        </p:blipFill>
        <p:spPr>
          <a:xfrm>
            <a:off x="3357720" y="4357800"/>
            <a:ext cx="3809880" cy="1193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MCj02327250000[1]"/>
          <p:cNvPicPr/>
          <p:nvPr/>
        </p:nvPicPr>
        <p:blipFill>
          <a:blip r:embed="rId9"/>
          <a:stretch/>
        </p:blipFill>
        <p:spPr>
          <a:xfrm>
            <a:off x="1214280" y="3929040"/>
            <a:ext cx="1332000" cy="1785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Cj02979170000[1]"/>
          <p:cNvPicPr/>
          <p:nvPr/>
        </p:nvPicPr>
        <p:blipFill>
          <a:blip r:embed="rId10"/>
          <a:stretch/>
        </p:blipFill>
        <p:spPr>
          <a:xfrm>
            <a:off x="6500880" y="1571760"/>
            <a:ext cx="148104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45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627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MCj04283130000[1]"/>
          <p:cNvPicPr/>
          <p:nvPr/>
        </p:nvPicPr>
        <p:blipFill>
          <a:blip r:embed="rId1"/>
          <a:stretch/>
        </p:blipFill>
        <p:spPr>
          <a:xfrm>
            <a:off x="127080" y="3857760"/>
            <a:ext cx="2692440" cy="2555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MCj04343770000[1]"/>
          <p:cNvPicPr/>
          <p:nvPr/>
        </p:nvPicPr>
        <p:blipFill>
          <a:blip r:embed="rId2"/>
          <a:stretch/>
        </p:blipFill>
        <p:spPr>
          <a:xfrm>
            <a:off x="6948360" y="4437000"/>
            <a:ext cx="1838520" cy="1784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2286000" y="0"/>
            <a:ext cx="6858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TOYS 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SLEEP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3433680" y="5132520"/>
            <a:ext cx="23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Comic Sans MS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9" descr="C:\Documents and Settings\scap0s12\Local Settings\Temporary Internet Files\Content.IE5\DPD1Z1Z2\MCj02151770000[1].wmf"/>
          <p:cNvPicPr/>
          <p:nvPr/>
        </p:nvPicPr>
        <p:blipFill>
          <a:blip r:embed="rId3"/>
          <a:stretch/>
        </p:blipFill>
        <p:spPr>
          <a:xfrm>
            <a:off x="2143080" y="1571760"/>
            <a:ext cx="4884840" cy="3313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C:\Documents and Settings\scap0s12\Local Settings\Temporary Internet Files\Content.IE5\PWHEYQTV\MCj01394730000[1].wmf"/>
          <p:cNvPicPr/>
          <p:nvPr/>
        </p:nvPicPr>
        <p:blipFill>
          <a:blip r:embed="rId4"/>
          <a:stretch/>
        </p:blipFill>
        <p:spPr>
          <a:xfrm>
            <a:off x="3214800" y="2286000"/>
            <a:ext cx="282420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dark in the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ysho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4" descr="MPj01490170000[1]"/>
          <p:cNvPicPr/>
          <p:nvPr/>
        </p:nvPicPr>
        <p:blipFill>
          <a:blip r:embed="rId1"/>
          <a:stretch/>
        </p:blipFill>
        <p:spPr>
          <a:xfrm>
            <a:off x="1692360" y="1892160"/>
            <a:ext cx="7451640" cy="49658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5"/>
          <p:cNvSpPr txBox="1"/>
          <p:nvPr/>
        </p:nvSpPr>
        <p:spPr>
          <a:xfrm>
            <a:off x="3851280" y="3860640"/>
            <a:ext cx="352908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osed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1" descr="C:\Documents and Settings\scap0s12\Local Settings\Temporary Internet Files\Content.IE5\TNE0XPGR\MCj04283130000[1].wmf"/>
          <p:cNvPicPr/>
          <p:nvPr/>
        </p:nvPicPr>
        <p:blipFill>
          <a:blip r:embed="rId1"/>
          <a:stretch/>
        </p:blipFill>
        <p:spPr>
          <a:xfrm>
            <a:off x="3714840" y="4429080"/>
            <a:ext cx="2135160" cy="20289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YS SL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484360" y="33336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TOYS SL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30" descr="C:\Documents and Settings\scap0s12\Local Settings\Temporary Internet Files\Content.IE5\6G5PWHFH\MCj04343770000[1].wmf"/>
          <p:cNvPicPr/>
          <p:nvPr/>
        </p:nvPicPr>
        <p:blipFill>
          <a:blip r:embed="rId2"/>
          <a:stretch/>
        </p:blipFill>
        <p:spPr>
          <a:xfrm>
            <a:off x="6929280" y="4572000"/>
            <a:ext cx="1838520" cy="1784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2" descr="C:\Documents and Settings\scap0s12\Local Settings\Temporary Internet Files\Content.IE5\PWHEYQTV\MCj03579670000[1].wmf"/>
          <p:cNvPicPr/>
          <p:nvPr/>
        </p:nvPicPr>
        <p:blipFill>
          <a:blip r:embed="rId3"/>
          <a:stretch/>
        </p:blipFill>
        <p:spPr>
          <a:xfrm>
            <a:off x="6786720" y="2143080"/>
            <a:ext cx="2546280" cy="1785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3" descr="C:\Documents and Settings\scap0s12\Local Settings\Temporary Internet Files\Content.IE5\DPD1Z1Z2\MCj01160440000[1].wmf"/>
          <p:cNvPicPr/>
          <p:nvPr/>
        </p:nvPicPr>
        <p:blipFill>
          <a:blip r:embed="rId4"/>
          <a:stretch/>
        </p:blipFill>
        <p:spPr>
          <a:xfrm>
            <a:off x="357120" y="1357200"/>
            <a:ext cx="3000600" cy="2713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4" descr="C:\Documents and Settings\scap0s12\Local Settings\Temporary Internet Files\Content.IE5\PWHEYQTV\MCj02909250000[1].wmf"/>
          <p:cNvPicPr/>
          <p:nvPr/>
        </p:nvPicPr>
        <p:blipFill>
          <a:blip r:embed="rId5"/>
          <a:stretch/>
        </p:blipFill>
        <p:spPr>
          <a:xfrm>
            <a:off x="3857760" y="1357200"/>
            <a:ext cx="3558960" cy="37148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8"/>
          <p:cNvGrpSpPr/>
          <p:nvPr/>
        </p:nvGrpSpPr>
        <p:grpSpPr>
          <a:xfrm>
            <a:off x="0" y="3902040"/>
            <a:ext cx="4357800" cy="2955960"/>
            <a:chOff x="0" y="3902040"/>
            <a:chExt cx="4357800" cy="2955960"/>
          </a:xfrm>
        </p:grpSpPr>
        <p:pic>
          <p:nvPicPr>
            <p:cNvPr id="344" name="Picture 29" descr="C:\Documents and Settings\scap0s12\Local Settings\Temporary Internet Files\Content.IE5\DPD1Z1Z2\MCj02151770000[1].wmf"/>
            <p:cNvPicPr/>
            <p:nvPr/>
          </p:nvPicPr>
          <p:blipFill>
            <a:blip r:embed="rId6"/>
            <a:stretch/>
          </p:blipFill>
          <p:spPr>
            <a:xfrm>
              <a:off x="0" y="3902040"/>
              <a:ext cx="4357800" cy="29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C:\Documents and Settings\scap0s12\Local Settings\Temporary Internet Files\Content.IE5\PWHEYQTV\MCj01394730000[1].wmf"/>
            <p:cNvPicPr/>
            <p:nvPr/>
          </p:nvPicPr>
          <p:blipFill>
            <a:blip r:embed="rId7"/>
            <a:stretch/>
          </p:blipFill>
          <p:spPr>
            <a:xfrm>
              <a:off x="642960" y="4428720"/>
              <a:ext cx="282456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27" descr="C:\Documents and Settings\scap0s12\Local Settings\Temporary Internet Files\Content.IE5\6G5PWHFH\MCj04345910000[1].wmf"/>
          <p:cNvPicPr/>
          <p:nvPr/>
        </p:nvPicPr>
        <p:blipFill>
          <a:blip r:embed="rId8"/>
          <a:stretch/>
        </p:blipFill>
        <p:spPr>
          <a:xfrm>
            <a:off x="4840200" y="2193840"/>
            <a:ext cx="1243080" cy="866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MAGIC WAND falls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104292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17" descr="C:\Documents and Settings\scap0s12\Local Settings\Temporary Internet Files\Content.IE5\6G5PWHFH\MCj04315590000[1].png"/>
          <p:cNvPicPr/>
          <p:nvPr/>
        </p:nvPicPr>
        <p:blipFill>
          <a:blip r:embed="rId1"/>
          <a:stretch/>
        </p:blipFill>
        <p:spPr>
          <a:xfrm>
            <a:off x="4857840" y="2000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8" descr="C:\Documents and Settings\scap0s12\Local Settings\Temporary Internet Files\Content.IE5\PWHEYQTV\MCj04316110000[1].png"/>
          <p:cNvPicPr/>
          <p:nvPr/>
        </p:nvPicPr>
        <p:blipFill>
          <a:blip r:embed="rId2"/>
          <a:stretch/>
        </p:blipFill>
        <p:spPr>
          <a:xfrm>
            <a:off x="3286080" y="2214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9" descr="C:\Documents and Settings\scap0s12\Local Settings\Temporary Internet Files\Content.IE5\DPD1Z1Z2\MCj04325920000[1].png"/>
          <p:cNvPicPr/>
          <p:nvPr/>
        </p:nvPicPr>
        <p:blipFill>
          <a:blip r:embed="rId3"/>
          <a:stretch/>
        </p:blipFill>
        <p:spPr>
          <a:xfrm>
            <a:off x="357120" y="1857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C:\Documents and Settings\scap0s12\Local Settings\Temporary Internet Files\Content.IE5\PWHEYQTV\MCj04316110000[1].png"/>
          <p:cNvPicPr/>
          <p:nvPr/>
        </p:nvPicPr>
        <p:blipFill>
          <a:blip r:embed="rId4"/>
          <a:stretch/>
        </p:blipFill>
        <p:spPr>
          <a:xfrm>
            <a:off x="242892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C:\Documents and Settings\scap0s12\Local Settings\Temporary Internet Files\Content.IE5\PWHEYQTV\MCj04316110000[1].png"/>
          <p:cNvPicPr/>
          <p:nvPr/>
        </p:nvPicPr>
        <p:blipFill>
          <a:blip r:embed="rId5"/>
          <a:stretch/>
        </p:blipFill>
        <p:spPr>
          <a:xfrm>
            <a:off x="5072040" y="5357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scap0s12\Local Settings\Temporary Internet Files\Content.IE5\PWHEYQTV\MCj04316110000[1].png"/>
          <p:cNvPicPr/>
          <p:nvPr/>
        </p:nvPicPr>
        <p:blipFill>
          <a:blip r:embed="rId6"/>
          <a:stretch/>
        </p:blipFill>
        <p:spPr>
          <a:xfrm>
            <a:off x="1571760" y="4857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8" descr="C:\Documents and Settings\scap0s12\Local Settings\Temporary Internet Files\Content.IE5\PWHEYQTV\MCj04316110000[1].png"/>
          <p:cNvPicPr/>
          <p:nvPr/>
        </p:nvPicPr>
        <p:blipFill>
          <a:blip r:embed="rId7"/>
          <a:stretch/>
        </p:blipFill>
        <p:spPr>
          <a:xfrm>
            <a:off x="857160" y="4000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C:\Documents and Settings\scap0s12\Local Settings\Temporary Internet Files\Content.IE5\6G5PWHFH\MCj04315590000[1].png"/>
          <p:cNvPicPr/>
          <p:nvPr/>
        </p:nvPicPr>
        <p:blipFill>
          <a:blip r:embed="rId8"/>
          <a:stretch/>
        </p:blipFill>
        <p:spPr>
          <a:xfrm>
            <a:off x="414324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C:\Documents and Settings\scap0s12\Local Settings\Temporary Internet Files\Content.IE5\6G5PWHFH\MCj04315590000[1].png"/>
          <p:cNvPicPr/>
          <p:nvPr/>
        </p:nvPicPr>
        <p:blipFill>
          <a:blip r:embed="rId9"/>
          <a:stretch/>
        </p:blipFill>
        <p:spPr>
          <a:xfrm>
            <a:off x="3857760" y="42148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C:\Documents and Settings\scap0s12\Local Settings\Temporary Internet Files\Content.IE5\PWHEYQTV\MCj04316110000[1].png"/>
          <p:cNvPicPr/>
          <p:nvPr/>
        </p:nvPicPr>
        <p:blipFill>
          <a:blip r:embed="rId10"/>
          <a:stretch/>
        </p:blipFill>
        <p:spPr>
          <a:xfrm>
            <a:off x="792972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C:\Documents and Settings\scap0s12\Local Settings\Temporary Internet Files\Content.IE5\PWHEYQTV\MCj04316110000[1].png"/>
          <p:cNvPicPr/>
          <p:nvPr/>
        </p:nvPicPr>
        <p:blipFill>
          <a:blip r:embed="rId11"/>
          <a:stretch/>
        </p:blipFill>
        <p:spPr>
          <a:xfrm>
            <a:off x="814392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Imagen1"/>
          <p:cNvPicPr/>
          <p:nvPr/>
        </p:nvPicPr>
        <p:blipFill>
          <a:blip r:embed="rId12"/>
          <a:stretch/>
        </p:blipFill>
        <p:spPr>
          <a:xfrm rot="18636000">
            <a:off x="7435800" y="709200"/>
            <a:ext cx="230796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396 -0.02317 C -0.23264 -0.02131 -0.24115 -0.01946 -0.24931 -0.01552 C -0.25417 -0.01066 -0.25642 -0.00602 -0.26059 -0.00069 C -0.26406 0.00881 -0.26597 0.01645 -0.27188 0.02387 C -0.27639 0.04796 -0.27517 0.076 -0.28299 0.09894 C -0.28628 0.10867 -0.2967 0.11701 -0.30417 0.11979 C -0.30885 0.12164 -0.31823 0.12535 -0.31823 0.12535 C -0.34705 0.12373 -0.38264 0.11678 -0.41267 0.11979 C -0.41719 0.12187 -0.42535 0.12906 -0.42535 0.12906 C -0.42778 0.13948 -0.43212 0.14898 -0.43524 0.15918 C -0.43368 0.18142 -0.43038 0.20019 -0.42535 0.22127 C -0.42188 0.23564 -0.42205 0.25371 -0.42118 0.26831 C -0.42309 0.27711 -0.42483 0.28568 -0.42674 0.29449 C -0.42726 0.29704 -0.42969 0.29796 -0.4309 0.30005 C -0.45 0.33643 -0.42604 0.2975 -0.44219 0.31905 C -0.45955 0.34222 -0.47708 0.36863 -0.50278 0.3735 C -0.51858 0.36979 -0.51823 0.36794 -0.5309 0.36029 C -0.53542 0.35751 -0.54497 0.35288 -0.54497 0.35288 C -0.54757 0.34824 -0.55104 0.34453 -0.55347 0.33967 C -0.5566 0.33364 -0.55747 0.32693 -0.56059 0.3209 C -0.55938 0.29495 -0.56042 0.2697 -0.5408 0.25695 C -0.53229 0.25765 -0.52396 0.25788 -0.51545 0.25881 C -0.51163 0.25927 -0.50781 0.2595 -0.50417 0.26066 C -0.50139 0.26159 -0.49583 0.26437 -0.49583 0.26437 C -0.4875 0.27549 -0.4783 0.28568 -0.46753 0.29263 C -0.46615 0.29449 -0.46424 0.29588 -0.46337 0.2982 C -0.46198 0.30167 -0.46059 0.30955 -0.46059 0.30955 C -0.46024 0.31187 -0.45833 0.32924 -0.45764 0.33017 C -0.4559 0.33249 -0.45295 0.33133 -0.45069 0.33202 C -0.44549 0.33944 -0.4434 0.35149 -0.43941 0.36029 C -0.43767 0.36423 -0.43385 0.37164 -0.43385 0.37164 C -0.43333 0.37419 -0.43281 0.37651 -0.43229 0.37906 C -0.43142 0.38276 -0.42951 0.39041 -0.42951 0.39041 C -0.42656 0.41845 -0.43003 0.44185 -0.44497 0.46177 C -0.44913 0.47683 -0.46545 0.47845 -0.47604 0.48054 C -0.49045 0.48819 -0.48056 0.48378 -0.50694 0.48819 C -0.51667 0.48981 -0.5283 0.49583 -0.53802 0.49931 C -0.53941 0.49977 -0.5408 0.50093 -0.54219 0.50139 C -0.54688 0.50278 -0.55156 0.50394 -0.55625 0.5051 C -0.5592 0.50579 -0.56198 0.50765 -0.56476 0.50881 C -0.56615 0.5095 -0.56892 0.51066 -0.56892 0.51066 C -0.57222 0.51483 -0.575 0.51854 -0.57882 0.52201 C -0.58559 0.53499 -0.58177 0.53059 -0.58872 0.53707 C -0.58958 0.53893 -0.59028 0.54124 -0.59149 0.54263 C -0.60365 0.55561 -0.60278 0.54565 -0.60278 0.55584 E">
                                      <p:cBhvr>
                                        <p:cTn id="6" dur="3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2438280" y="30492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ake u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9" descr="C:\Documents and Settings\scap0s12\Local Settings\Temporary Internet Files\Content.IE5\PWHEYQTV\MCj04344130000[1].wmf"/>
          <p:cNvPicPr/>
          <p:nvPr/>
        </p:nvPicPr>
        <p:blipFill>
          <a:blip r:embed="rId1"/>
          <a:stretch/>
        </p:blipFill>
        <p:spPr>
          <a:xfrm>
            <a:off x="3786120" y="1928880"/>
            <a:ext cx="5085000" cy="3429000"/>
          </a:xfrm>
          <a:prstGeom prst="rect">
            <a:avLst/>
          </a:prstGeom>
          <a:ln w="0">
            <a:noFill/>
          </a:ln>
        </p:spPr>
      </p:pic>
      <p:pic>
        <p:nvPicPr>
          <p:cNvPr id="364" name="MSj03885260000[1].wav" descr=""/>
          <p:cNvPicPr/>
          <p:nvPr/>
        </p:nvPicPr>
        <p:blipFill>
          <a:blip r:embed="rId2"/>
          <a:stretch/>
        </p:blipFill>
        <p:spPr>
          <a:xfrm>
            <a:off x="81439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4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571760" y="1285920"/>
            <a:ext cx="6019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tretc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2484360" y="54936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ARE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8" descr="C:\Documents and Settings\scap0s12\Local Settings\Temporary Internet Files\Content.IE5\6G5PWHFH\MCj04238420000[1].wmf"/>
          <p:cNvPicPr/>
          <p:nvPr/>
        </p:nvPicPr>
        <p:blipFill>
          <a:blip r:embed="rId1"/>
          <a:stretch/>
        </p:blipFill>
        <p:spPr>
          <a:xfrm>
            <a:off x="1428840" y="1714680"/>
            <a:ext cx="2786040" cy="3011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C:\Documents and Settings\scap0s12\Local Settings\Temporary Internet Files\Content.IE5\6G5PWHFH\MCj04260320000[1].wmf"/>
          <p:cNvPicPr/>
          <p:nvPr/>
        </p:nvPicPr>
        <p:blipFill>
          <a:blip r:embed="rId2"/>
          <a:stretch/>
        </p:blipFill>
        <p:spPr>
          <a:xfrm>
            <a:off x="5072040" y="1928880"/>
            <a:ext cx="2340000" cy="345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scap0s12\Local Settings\Temporary Internet Files\Content.IE5\TNE0XPGR\MCj04345970000[1].wmf"/>
          <p:cNvPicPr/>
          <p:nvPr/>
        </p:nvPicPr>
        <p:blipFill>
          <a:blip r:embed="rId3"/>
          <a:stretch/>
        </p:blipFill>
        <p:spPr>
          <a:xfrm>
            <a:off x="357120" y="4786200"/>
            <a:ext cx="33544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484360" y="54936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Y ARE HAP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500200" y="0"/>
            <a:ext cx="5072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4" descr="MCj02979030000[1]"/>
          <p:cNvPicPr/>
          <p:nvPr/>
        </p:nvPicPr>
        <p:blipFill>
          <a:blip r:embed="rId1"/>
          <a:stretch/>
        </p:blipFill>
        <p:spPr>
          <a:xfrm rot="19666800">
            <a:off x="755640" y="5300280"/>
            <a:ext cx="1550880" cy="1817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MCj02979170000[1]"/>
          <p:cNvPicPr/>
          <p:nvPr/>
        </p:nvPicPr>
        <p:blipFill>
          <a:blip r:embed="rId2"/>
          <a:stretch/>
        </p:blipFill>
        <p:spPr>
          <a:xfrm>
            <a:off x="3635280" y="2852640"/>
            <a:ext cx="1481400" cy="1820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MCj01383550000[1]"/>
          <p:cNvPicPr/>
          <p:nvPr/>
        </p:nvPicPr>
        <p:blipFill>
          <a:blip r:embed="rId3"/>
          <a:stretch/>
        </p:blipFill>
        <p:spPr>
          <a:xfrm>
            <a:off x="4067280" y="907920"/>
            <a:ext cx="129384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MCDD00112_0000[1]"/>
          <p:cNvPicPr/>
          <p:nvPr/>
        </p:nvPicPr>
        <p:blipFill>
          <a:blip r:embed="rId4"/>
          <a:stretch/>
        </p:blipFill>
        <p:spPr>
          <a:xfrm>
            <a:off x="5076720" y="3213000"/>
            <a:ext cx="3810240" cy="1193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MCj04348700000[1]"/>
          <p:cNvPicPr/>
          <p:nvPr/>
        </p:nvPicPr>
        <p:blipFill>
          <a:blip r:embed="rId5"/>
          <a:stretch/>
        </p:blipFill>
        <p:spPr>
          <a:xfrm>
            <a:off x="2124000" y="44370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MCj04108470000[1]"/>
          <p:cNvPicPr/>
          <p:nvPr/>
        </p:nvPicPr>
        <p:blipFill>
          <a:blip r:embed="rId6"/>
          <a:stretch/>
        </p:blipFill>
        <p:spPr>
          <a:xfrm>
            <a:off x="2124000" y="907920"/>
            <a:ext cx="1222560" cy="2016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7" descr="MCj02327250000[1]"/>
          <p:cNvPicPr/>
          <p:nvPr/>
        </p:nvPicPr>
        <p:blipFill>
          <a:blip r:embed="rId7"/>
          <a:stretch/>
        </p:blipFill>
        <p:spPr>
          <a:xfrm>
            <a:off x="-885960" y="3573360"/>
            <a:ext cx="1771920" cy="2374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8" descr="MCj02908700000[1]"/>
          <p:cNvPicPr/>
          <p:nvPr/>
        </p:nvPicPr>
        <p:blipFill>
          <a:blip r:embed="rId8"/>
          <a:stretch/>
        </p:blipFill>
        <p:spPr>
          <a:xfrm>
            <a:off x="8319960" y="0"/>
            <a:ext cx="1648080" cy="3168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9" descr="MCj03616560000[1]"/>
          <p:cNvPicPr/>
          <p:nvPr/>
        </p:nvPicPr>
        <p:blipFill>
          <a:blip r:embed="rId9"/>
          <a:stretch/>
        </p:blipFill>
        <p:spPr>
          <a:xfrm>
            <a:off x="6877080" y="-806400"/>
            <a:ext cx="1728720" cy="1611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0" descr="MCj04046010000[1]"/>
          <p:cNvPicPr/>
          <p:nvPr/>
        </p:nvPicPr>
        <p:blipFill>
          <a:blip r:embed="rId10"/>
          <a:stretch/>
        </p:blipFill>
        <p:spPr>
          <a:xfrm>
            <a:off x="-757080" y="1413000"/>
            <a:ext cx="190332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01 0.02641 C -0.08108 0.02757 -0.06597 0.02803 -0.05104 0.03012 C -0.03958 0.03174 -0.02951 0.0417 -0.01858 0.04518 C -0.01267 0.05004 -0.00729 0.05398 -0.00052 0.05653 C 0.00903 0.06395 0.01945 0.07321 0.025 0.08642 C 0.03021 0.0994 0.03229 0.10727 0.04184 0.11469 C 0.0533 0.14041 0.03837 0.10889 0.05174 0.1316 C 0.05625 0.13925 0.05938 0.14967 0.06285 0.15801 C 0.0684 0.18327 0.06042 0.14967 0.06719 0.17099 C 0.06997 0.17979 0.06754 0.19115 0.07135 0.19926 C 0.07274 0.20273 0.07535 0.20551 0.07726 0.20876 C 0.08038 0.22104 0.07587 0.20737 0.08281 0.21988 C 0.08368 0.22219 0.08472 0.22497 0.08559 0.22752 C 0.08576 0.22938 0.08576 0.23146 0.08681 0.23308 C 0.08785 0.2354 0.08976 0.23679 0.09097 0.23888 C 0.09965 0.25347 0.10365 0.27409 0.11806 0.28012 C 0.12778 0.29309 0.14931 0.29657 0.16285 0.29703 C 0.19722 0.29819 0.23142 0.29819 0.26563 0.29889 C 0.27917 0.3019 0.29149 0.30838 0.30399 0.31395 C 0.30642 0.3151 0.31059 0.3158 0.31372 0.31765 C 0.31528 0.31858 0.31632 0.31997 0.31806 0.32136 C 0.32014 0.32368 0.32205 0.32715 0.32465 0.32901 C 0.33004 0.33271 0.34254 0.33503 0.34861 0.33642 C 0.36111 0.34615 0.3724 0.35565 0.38004 0.37233 C 0.38212 0.38345 0.38611 0.39527 0.39097 0.40408 C 0.3934 0.41265 0.39705 0.43906 0.4026 0.4437 C 0.40625 0.44694 0.41493 0.44926 0.41493 0.44949 C 0.41302 0.45041 0.41007 0.45018 0.4092 0.45296 C 0.40868 0.45713 0.41285 0.48563 0.41337 0.48864 C 0.41563 0.50394 0.41684 0.519 0.42083 0.53359 C 0.4224 0.53985 0.42639 0.54471 0.4276 0.55074 C 0.4309 0.56209 0.4309 0.5702 0.43733 0.57901 C 0.44497 0.60472 0.48646 0.59731 0.49809 0.59777 C 0.51267 0.60148 0.51337 0.61353 0.52205 0.62604 C 0.52396 0.63345 0.5276 0.63994 0.53056 0.64666 C 0.53229 0.6506 0.53611 0.65801 0.53611 0.65825 C 0.5401 0.6842 0.5526 0.6974 0.57274 0.6974 E">
                                      <p:cBhvr>
                                        <p:cTn id="1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12 0.08109 L -0.9566 0.07044 E">
                                      <p:cBhvr>
                                        <p:cTn id="22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0.04518 C -0.10451 0.05491 -0.11302 0.06048 -0.12396 0.06395 C -0.13524 0.07136 -0.15139 0.08411 -0.16337 0.08828 C -0.17899 0.09384 -0.1967 0.09361 -0.21267 0.09778 C -0.21806 0.10241 -0.2217 0.10357 -0.22812 0.10519 C -0.21771 0.13392 -0.23385 0.0906 -0.22118 0.12025 C -0.22049 0.12187 -0.22066 0.12419 -0.21979 0.12581 C -0.21597 0.13207 -0.20764 0.13647 -0.20278 0.14087 C -0.19601 0.1469 -0.19236 0.15617 -0.18455 0.15964 C -0.18056 0.17632 -0.1875 0.15084 -0.17743 0.17285 C -0.17222 0.18443 -0.17396 0.19509 -0.16615 0.20482 C -0.16806 0.2127 -0.17378 0.2222 -0.17743 0.22938 C -0.18715 0.24884 -0.1967 0.26831 -0.20851 0.28568 C -0.21042 0.2887 -0.21337 0.29032 -0.21545 0.2931 C -0.22135 0.30098 -0.22413 0.31048 -0.23247 0.31395 C -0.23299 0.3158 -0.23524 0.31905 -0.23385 0.31951 C -0.23142 0.32021 -0.22934 0.31604 -0.22674 0.3158 C -0.22153 0.31534 -0.21649 0.31696 -0.21128 0.31766 C -0.20851 0.31951 -0.20538 0.3209 -0.20278 0.32322 C -0.19913 0.32646 -0.1967 0.33156 -0.19288 0.33457 C -0.18767 0.33874 -0.18142 0.34036 -0.17604 0.34384 C -0.16233 0.35288 -0.14896 0.36284 -0.13524 0.37211 C -0.12969 0.37605 -0.12344 0.37859 -0.11823 0.38346 C -0.11163 0.38972 -0.10365 0.39389 -0.09861 0.40223 C -0.09497 0.40825 -0.08924 0.41984 -0.08455 0.4247 C -0.07222 0.43744 -0.06736 0.4342 -0.05486 0.44162 C -0.04722 0.44602 -0.0408 0.45065 -0.03247 0.45297 C -0.03142 0.45413 -0.02951 0.45668 -0.02951 0.45668 E">
                                      <p:cBhvr>
                                        <p:cTn id="26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75 -0.02665 C -0.09948 -0.03638 -0.1059 -0.04935 -0.11788 -0.05468 C -0.12934 -0.0709 -0.14948 -0.05955 -0.16441 -0.05468 C -0.17378 -0.04634 -0.1783 -0.03244 -0.18559 -0.02085 C -0.18715 -0.01483 -0.19253 -0.00394 -0.19253 -0.00394 C -0.18889 0.01089 -0.19826 0.0139 -0.19826 0.02595 L -0.08975 -0.02665 Z">
                                      <p:cBhvr>
                                        <p:cTn id="3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54217E-006 C 0.00104 -0.01947 0.00069 -0.05052 0.01823 -0.05839 C 0.02483 -0.06674 0.02899 -0.06998 0.03802 -0.07346 C 0.05729 -0.07206 0.08646 -0.0723 0.09861 -0.04704 C 0.10139 -0.03221 0.10399 -0.03082 0.1099 -0.01901 C 0.10208 -0.01182 0.10174 -0.01321 0.09149 -0.01692 C 0.05729 -0.01599 0.03437 -0.01738 0.00417 -0.00951 C -0.00122 -0.00464 2.77778E-006 -0.00812 2.77778E-006 -5.54217E-006 Z">
                                      <p:cBhvr>
                                        <p:cTn id="34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2 0.058 -0.05872 C 0.095 -0.05872 0.125 -0.02269 0.125 0.02269 C 0.125 0.03737 0.122 0.05071 0.116 0.06272 C 0.117 0.06272 0 0.24289 0 0.24423 C 0 0.24289 -0.117 0.06272 -0.116 0.06272 C -0.122 0.05071 -0.125 0.03737 -0.125 0.02269 C -0.125 -0.02269 -0.095 -0.05872 -0.057 -0.05872 C -0.033 -0.05872 -0.012 -0.02402 0 0 Z">
                                      <p:cBhvr>
                                        <p:cTn id="3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4374E-007 C 0.0059 -0.00533 0.01007 -0.0102 0.01701 -0.01321 C 0.02778 -0.02271 0.01649 -0.01391 0.04236 -0.02062 C 0.04531 -0.02132 0.04774 -0.02387 0.05069 -0.02456 C 0.05486 -0.02572 0.0592 -0.02572 0.06337 -0.02642 C 0.07361 -0.02989 0.0842 -0.03175 0.09444 -0.03568 C 0.09653 -0.03638 0.09809 -0.03846 0.1 -0.03962 C 0.10278 -0.04101 0.10833 -0.04333 0.10833 -0.04333 C 0.11806 -0.04009 0.12187 -0.0285 0.12812 -0.01877 C 0.12917 -0.01692 0.12951 -0.01437 0.1309 -0.01321 C 0.13299 -0.01159 0.13576 -0.01205 0.13802 -0.01136 C 0.14219 -0.00603 0.14514 -0.00255 0.15069 -3.24374E-007 C 0.15573 -0.00163 0.15764 -0.00163 0.16198 -0.0058 C 0.16493 -0.00858 0.16615 -0.01414 0.1691 -0.01692 C 0.17535 -0.02248 0.1875 -0.02989 0.19444 -0.03383 C 0.19531 -0.03522 0.19583 -0.03684 0.19705 -0.03777 C 0.19983 -0.03962 0.20573 -0.04148 0.20573 -0.04148 C 0.2066 -0.04333 0.20677 -0.04704 0.20851 -0.04704 C 0.2099 -0.04704 0.2092 -0.04333 0.2099 -0.04148 C 0.21059 -0.03939 0.21198 -0.03777 0.2125 -0.03568 C 0.21806 -0.02132 0.21944 -0.00556 0.22656 0.00741 C 0.22726 0.01112 0.22691 0.01529 0.22812 0.01876 C 0.22986 0.02363 0.23524 0.03197 0.23524 0.03197 C 0.23733 0.04078 0.23403 0.04657 0.24219 0.04309 C 0.24757 0.03823 0.25295 0.03591 0.25903 0.03382 C 0.26597 0.0278 0.27378 0.02409 0.28177 0.02247 C 0.28924 0.01853 0.29653 0.01714 0.30399 0.0132 C 0.30469 0.01251 0.31181 0.00231 0.31267 0.00556 C 0.31389 0.00973 0.31059 0.01436 0.30972 0.01876 C 0.30729 0.0322 0.30608 0.04518 0.30278 0.05815 C 0.30365 0.07831 0.30191 0.09893 0.30573 0.11839 C 0.30642 0.1221 0.31128 0.11561 0.31389 0.11469 C 0.31875 0.11306 0.32344 0.11214 0.32812 0.11075 C 0.33993 0.10704 0.35174 0.10287 0.36337 0.09777 C 0.3691 0.0987 0.37622 0.09615 0.38038 0.10148 C 0.38142 0.10287 0.3809 0.10542 0.38177 0.10704 C 0.38281 0.10889 0.38455 0.10959 0.38594 0.11075 C 0.38802 0.11932 0.3908 0.12534 0.39306 0.13345 C 0.39427 0.15523 0.39566 0.17771 0.40278 0.1974 C 0.40295 0.19763 0.40538 0.20829 0.40573 0.20852 C 0.40955 0.21061 0.41406 0.20968 0.4184 0.21038 C 0.42517 0.21339 0.43229 0.21571 0.43941 0.21802 C 0.4375 0.22173 0.4349 0.22497 0.43385 0.22914 C 0.43281 0.23355 0.43299 0.23864 0.43108 0.24235 C 0.43003 0.2442 0.42812 0.2449 0.42674 0.24629 C 0.4224 0.25509 0.41528 0.26135 0.40851 0.26691 C 0.40521 0.27363 0.4066 0.27062 0.40417 0.27618 E">
                                      <p:cBhvr>
                                        <p:cTn id="42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4796 C 0.09219 0.04935 0.10452 0.05143 0.12257 0.05746 C 0.12708 0.0614 0.12952 0.06464 0.13247 0.07067 C 0.13559 0.09152 0.13264 0.0841 0.13802 0.09499 C 0.13958 0.10171 0.14236 0.10866 0.14236 0.11585 E">
                                      <p:cBhvr>
                                        <p:cTn id="4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9991E-006 C -0.02466 -0.00649 -0.0132 -0.00881 -0.04358 -0.00371 C -0.05521 0.00649 -0.06025 0.02548 -0.07171 0.03568 C -0.07379 0.04402 -0.079 0.05143 -0.08299 0.05815 C -0.08507 0.06186 -0.08872 0.06951 -0.08872 0.06951 C -0.09185 0.08202 -0.08785 0.06696 -0.09428 0.08457 C -0.09705 0.09198 -0.09775 0.09847 -0.10139 0.10519 C -0.10365 0.15222 -0.09584 0.17076 -0.12674 0.1842 C -0.13751 0.17933 -0.14462 0.17447 -0.15626 0.17076 C -0.16441 0.16381 -0.1691 0.1601 -0.17882 0.1557 C -0.19237 0.15662 -0.20678 0.15361 -0.21962 0.15964 C -0.24445 0.17076 -0.20851 0.16103 -0.23507 0.16728 C -0.2448 0.17609 -0.25122 0.17933 -0.25903 0.18976 C -0.26181 0.20134 -0.25834 0.18976 -0.26476 0.20111 C -0.27709 0.22266 -0.26389 0.20111 -0.27032 0.21617 C -0.27501 0.22729 -0.27882 0.22891 -0.2816 0.24212 C -0.28299 0.2493 -0.28907 0.2727 -0.29289 0.27827 C -0.29428 0.28035 -0.29671 0.28058 -0.29844 0.28197 C -0.30764 0.28892 -0.31702 0.29054 -0.32674 0.29518 C -0.32969 0.30097 -0.32952 0.29842 -0.32952 0.30259 E">
                                      <p:cBhvr>
                                        <p:cTn id="5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2214720" y="285840"/>
            <a:ext cx="601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Y ARE 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C:\Documents and Settings\scap0s12\Local Settings\Temporary Internet Files\Content.IE5\6G5PWHFH\MCj04346050000[1].wmf"/>
          <p:cNvPicPr/>
          <p:nvPr/>
        </p:nvPicPr>
        <p:blipFill>
          <a:blip r:embed="rId1"/>
          <a:stretch/>
        </p:blipFill>
        <p:spPr>
          <a:xfrm>
            <a:off x="3000240" y="1500120"/>
            <a:ext cx="3203640" cy="509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Documents and Settings\scap0s12\Local Settings\Temporary Internet Files\Content.IE5\DPD1Z1Z2\MCj04283070000[1].wmf"/>
          <p:cNvPicPr/>
          <p:nvPr/>
        </p:nvPicPr>
        <p:blipFill>
          <a:blip r:embed="rId2"/>
          <a:stretch/>
        </p:blipFill>
        <p:spPr>
          <a:xfrm>
            <a:off x="285840" y="1785960"/>
            <a:ext cx="1906560" cy="2038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C:\Documents and Settings\scap0s12\Local Settings\Temporary Internet Files\Content.IE5\PWHEYQTV\MCj00843060000[1].wmf"/>
          <p:cNvPicPr/>
          <p:nvPr/>
        </p:nvPicPr>
        <p:blipFill>
          <a:blip r:embed="rId3"/>
          <a:stretch/>
        </p:blipFill>
        <p:spPr>
          <a:xfrm>
            <a:off x="6429240" y="1643040"/>
            <a:ext cx="2033640" cy="2571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scap0s12\Local Settings\Temporary Internet Files\Content.IE5\TNE0XPGR\MCj00844280000[1].wmf"/>
          <p:cNvPicPr/>
          <p:nvPr/>
        </p:nvPicPr>
        <p:blipFill>
          <a:blip r:embed="rId4"/>
          <a:stretch/>
        </p:blipFill>
        <p:spPr>
          <a:xfrm>
            <a:off x="1357200" y="3714840"/>
            <a:ext cx="152244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6:24Z</dcterms:created>
  <dc:creator>Manager</dc:creator>
  <dc:description/>
  <dc:language>en-US</dc:language>
  <cp:lastModifiedBy> </cp:lastModifiedBy>
  <dcterms:modified xsi:type="dcterms:W3CDTF">2008-02-27T21:57:44Z</dcterms:modified>
  <cp:revision>32</cp:revision>
  <dc:subject/>
  <dc:title>TOYS </dc:title>
</cp:coreProperties>
</file>