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jpeg" ContentType="image/jpeg"/>
  <Override PartName="/ppt/media/image17.gif" ContentType="image/gif"/>
  <Override PartName="/ppt/media/image13.wmf" ContentType="image/x-wmf"/>
  <Override PartName="/ppt/media/image29.wmf" ContentType="image/x-wmf"/>
  <Override PartName="/ppt/media/image19.jpeg" ContentType="image/jpeg"/>
  <Override PartName="/ppt/media/image21.jpeg" ContentType="image/jpeg"/>
  <Override PartName="/ppt/media/image2.wmf" ContentType="image/x-wmf"/>
  <Override PartName="/ppt/media/image6.gif" ContentType="image/gif"/>
  <Override PartName="/ppt/media/image16.wmf" ContentType="image/x-wmf"/>
  <Override PartName="/ppt/media/image12.wmf" ContentType="image/x-wmf"/>
  <Override PartName="/ppt/media/image34.jpeg" ContentType="image/jpeg"/>
  <Override PartName="/ppt/media/image40.wmf" ContentType="image/x-wmf"/>
  <Override PartName="/ppt/media/image10.wmf" ContentType="image/x-wmf"/>
  <Override PartName="/ppt/media/image22.gif" ContentType="image/gif"/>
  <Override PartName="/ppt/media/image3.png" ContentType="image/png"/>
  <Override PartName="/ppt/media/image30.wmf" ContentType="image/x-wmf"/>
  <Override PartName="/ppt/media/image33.jpeg" ContentType="image/jpeg"/>
  <Override PartName="/ppt/media/image38.wmf" ContentType="image/x-wmf"/>
  <Override PartName="/ppt/media/image8.wmf" ContentType="image/x-wmf"/>
  <Override PartName="/ppt/media/image37.jpeg" ContentType="image/jpeg"/>
  <Override PartName="/ppt/media/image35.jpeg" ContentType="image/jpeg"/>
  <Override PartName="/ppt/media/image39.wmf" ContentType="image/x-wmf"/>
  <Override PartName="/ppt/media/image7.wmf" ContentType="image/x-wmf"/>
  <Override PartName="/ppt/media/image11.wmf" ContentType="image/x-wmf"/>
  <Override PartName="/ppt/media/image5.jpeg" ContentType="image/jpeg"/>
  <Override PartName="/ppt/media/image24.gif" ContentType="image/gif"/>
  <Override PartName="/ppt/media/image32.jpeg" ContentType="image/jpeg"/>
  <Override PartName="/ppt/media/image20.wmf" ContentType="image/x-wmf"/>
  <Override PartName="/ppt/media/image18.wmf" ContentType="image/x-wmf"/>
  <Override PartName="/ppt/media/image36.jpeg" ContentType="image/jpeg"/>
  <Override PartName="/ppt/media/image9.jpeg" ContentType="image/jpeg"/>
  <Override PartName="/ppt/media/image4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25.wmf" ContentType="image/x-wmf"/>
  <Override PartName="/ppt/media/image15.jpeg" ContentType="image/jpeg"/>
  <Override PartName="/ppt/media/image2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766-BFF6-4872-AC21-63AE7DEF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2C7-F33F-4BF2-83A3-883167A3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9E8-7B1B-4AB7-8164-46304319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B0F-F597-4A72-A8AE-EA589819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CC22-FF36-4111-B012-9100B161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02AE-AAB2-425A-A9AB-FCC65049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8F23-C165-4CE4-889A-31345FEA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7376-FF00-49E6-B909-3FB3C28F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B718-1CDE-472B-87A1-CE05931C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929D-4D4B-4F67-8F21-45BF55E7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9CCB-0240-4256-BE0D-D43DC190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7AA-1A8A-4C50-B03C-5789717C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6C3F-0490-4135-80F2-0E31B1D2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34D3-F6B4-4B7A-86CD-565B78C0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7F83-6A47-47A6-B5EE-5634B71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6CF5-98C2-40D3-948A-91B8EFE2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4ADF-CA81-493C-ABB9-AFACCCD8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F42A-0EE8-4482-B6A0-C56439E1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F25E-80BB-4833-94F3-C94307DF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251D-2BCC-4649-8A23-D736E603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FF9B-543F-4BAF-B21C-29B21487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5069-818A-45D9-B62D-BD13AB8B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1CC-52D0-4D37-9421-BE3334F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78EB-DA82-44A3-8487-7D8663E1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53DE-FC63-4DC5-AF2A-4C8CA53A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258D-7019-4CB6-B4AF-DF1049B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806CA-8918-43AE-BA7B-C8A0EA10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F201-0B11-4370-A592-6F24E5B8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48C4-83A0-4A01-817A-3030FA07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73EB-E305-4673-9E3A-00400A5C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66D2-63BE-4594-9CB9-55081515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5950A-C506-490E-B599-18D5554D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E9B76-9AA6-4302-8B69-B7748C30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A1B-163E-4798-805A-F0968EB9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0317-FBBD-4B6C-93F4-05FD1647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9186-41CD-458B-833A-1468AB1E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E3E7-43A8-4BF8-936E-129F2389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14ED-2753-4410-A31C-8B4294FB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2409-610C-4CC4-89CB-F954AB16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32DB-977D-4A45-93BD-50A38C7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2BF2-24A5-4023-993D-2CCB5F1F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6C43-5DCC-4F1D-998B-A0BD0A3F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B38E-C672-496A-A3FD-97A11CE7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3EF-3665-4D46-BE8E-9D62D65F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F9C-60C1-4B0A-83AA-800C1D1F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8E1-D315-435A-9BB6-4906AFCA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2FD-07F8-4BDC-BC66-61CD5578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CF7-990A-4EB1-A682-3B928F68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770C-AD1A-4A4E-80F0-7A2AD0557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LA01638A"/>
          <p:cNvPicPr/>
          <p:nvPr/>
        </p:nvPicPr>
        <p:blipFill>
          <a:blip r:embed="rId2"/>
          <a:stretch/>
        </p:blipFill>
        <p:spPr>
          <a:xfrm>
            <a:off x="0" y="4206960"/>
            <a:ext cx="1959120" cy="26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RS"/>
          <p:cNvPicPr/>
          <p:nvPr/>
        </p:nvPicPr>
        <p:blipFill>
          <a:blip r:embed="rId2"/>
          <a:stretch/>
        </p:blipFill>
        <p:spPr>
          <a:xfrm>
            <a:off x="0" y="0"/>
            <a:ext cx="5029200" cy="5211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dventur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C017-53BE-4C59-88CD-74CDE7131ABA}" type="slidenum">
              <a:rPr b="0" lang="en-US" sz="1400" spc="-1" strike="noStrike">
                <a:solidFill>
                  <a:srgbClr val="000000"/>
                </a:solidFill>
                <a:latin typeface="Adventur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4F3A-665C-48E0-AE91-B680978D9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LA01638A"/>
          <p:cNvPicPr/>
          <p:nvPr/>
        </p:nvPicPr>
        <p:blipFill>
          <a:blip r:embed="rId2"/>
          <a:stretch/>
        </p:blipFill>
        <p:spPr>
          <a:xfrm>
            <a:off x="0" y="4206960"/>
            <a:ext cx="1959120" cy="26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BARS"/>
          <p:cNvPicPr/>
          <p:nvPr/>
        </p:nvPicPr>
        <p:blipFill>
          <a:blip r:embed="rId2"/>
          <a:stretch/>
        </p:blipFill>
        <p:spPr>
          <a:xfrm>
            <a:off x="0" y="0"/>
            <a:ext cx="5029200" cy="5211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dventur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EA56-D9CC-42CF-A491-2B426676E2CD}" type="slidenum">
              <a:rPr b="0" lang="en-US" sz="1400" spc="-1" strike="noStrike">
                <a:solidFill>
                  <a:srgbClr val="000000"/>
                </a:solidFill>
                <a:latin typeface="Adventur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3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16.wm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dventure"/>
              </a:rPr>
              <a:t>Why is the </a:t>
            </a:r>
            <a:r>
              <a:rPr b="0" lang="en-GB" sz="6000" spc="-1" strike="noStrike">
                <a:solidFill>
                  <a:srgbClr val="ffffff"/>
                </a:solidFill>
                <a:latin typeface="Adventure"/>
              </a:rPr>
              <a:t>WARM UP</a:t>
            </a:r>
            <a:r>
              <a:rPr b="0" lang="en-GB" sz="4800" spc="-1" strike="noStrike">
                <a:solidFill>
                  <a:srgbClr val="ffffff"/>
                </a:solidFill>
                <a:latin typeface="Adventure"/>
              </a:rPr>
              <a:t> important before exercis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029200" y="4495680"/>
            <a:ext cx="4114800" cy="236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dventure"/>
              </a:rPr>
              <a:t>It is important becau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MSSN00578A0000[1].wav" descr=""/>
          <p:cNvPicPr/>
          <p:nvPr/>
        </p:nvPicPr>
        <p:blipFill>
          <a:blip r:embed="rId1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Documents and Settings\scap0s12\Local Settings\Temporary Internet Files\Content.IE5\TNE0XPGR\MCj03666180000[1].wmf"/>
          <p:cNvPicPr/>
          <p:nvPr/>
        </p:nvPicPr>
        <p:blipFill>
          <a:blip r:embed="rId2"/>
          <a:stretch/>
        </p:blipFill>
        <p:spPr>
          <a:xfrm>
            <a:off x="5651640" y="5056200"/>
            <a:ext cx="1736640" cy="1801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WHY  </a:t>
            </a:r>
            <a:r>
              <a:rPr b="0" lang="en-GB" sz="5000" spc="-1" strike="noStrike">
                <a:solidFill>
                  <a:srgbClr val="ffffff"/>
                </a:solidFill>
                <a:latin typeface="Adventure"/>
              </a:rPr>
              <a:t>EXERCISING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29200" y="4495680"/>
            <a:ext cx="4114800" cy="236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is importan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4360" y="692280"/>
            <a:ext cx="45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ercise makes me... </a:t>
            </a:r>
            <a:endParaRPr b="0" lang="en-US" sz="24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1844640"/>
            <a:ext cx="525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FEEL GOOD</a:t>
            </a:r>
            <a:endParaRPr b="0" lang="en-US" sz="24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435640" y="3284640"/>
            <a:ext cx="3333600" cy="2209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4360" y="692280"/>
            <a:ext cx="45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80008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ercise makes me... </a:t>
            </a:r>
            <a:endParaRPr b="0" lang="en-US" sz="2400" spc="1" strike="noStrike">
              <a:ln w="255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80008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32000" y="1628640"/>
            <a:ext cx="518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80008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NJOY LIFE MORE</a:t>
            </a:r>
            <a:endParaRPr b="0" lang="en-US" sz="2400" spc="1" strike="noStrike">
              <a:ln w="255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80008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2" descr="C:\Documents and Settings\scap0s12\Local Settings\Temporary Internet Files\Content.IE5\PWHEYQTV\MCj04360410000[1].wmf"/>
          <p:cNvPicPr/>
          <p:nvPr/>
        </p:nvPicPr>
        <p:blipFill>
          <a:blip r:embed="rId1"/>
          <a:stretch/>
        </p:blipFill>
        <p:spPr>
          <a:xfrm>
            <a:off x="6696000" y="2924280"/>
            <a:ext cx="2448000" cy="1974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Documents and Settings\scap0s12\Local Settings\Temporary Internet Files\Content.IE5\6G5PWHFH\MCj04360450000[1].wmf"/>
          <p:cNvPicPr/>
          <p:nvPr/>
        </p:nvPicPr>
        <p:blipFill>
          <a:blip r:embed="rId2"/>
          <a:stretch/>
        </p:blipFill>
        <p:spPr>
          <a:xfrm>
            <a:off x="4427640" y="4149720"/>
            <a:ext cx="2419200" cy="2565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scap0s12\Local Settings\Temporary Internet Files\Content.IE5\DPD1Z1Z2\MCj04360490000[1].wmf"/>
          <p:cNvPicPr/>
          <p:nvPr/>
        </p:nvPicPr>
        <p:blipFill>
          <a:blip r:embed="rId3"/>
          <a:stretch/>
        </p:blipFill>
        <p:spPr>
          <a:xfrm>
            <a:off x="1908000" y="3068640"/>
            <a:ext cx="22323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4360" y="260280"/>
            <a:ext cx="45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ercise makes me... 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1280" y="1198440"/>
            <a:ext cx="8207280" cy="10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AVE FUN WITH MY FRIENDS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2667240" cy="40003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050920" y="3213000"/>
            <a:ext cx="3888000" cy="2587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55640" y="404640"/>
            <a:ext cx="45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ercise makes me... 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55640" y="155736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FEEL RELAXED and SLEEP BETTER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2895480" cy="2616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rcRect l="8504" t="7087" r="8504" b="23386"/>
          <a:stretch/>
        </p:blipFill>
        <p:spPr>
          <a:xfrm>
            <a:off x="5076720" y="3164040"/>
            <a:ext cx="3932280" cy="2635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AFTER the EXERCISE you need to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029200" y="4495680"/>
            <a:ext cx="4114800" cy="236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dventure"/>
              </a:rPr>
              <a:t>COOL 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84360" y="620640"/>
            <a:ext cx="741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COOL DOWN helps my body to</a:t>
            </a:r>
            <a:endParaRPr b="0" lang="en-US" sz="2400" spc="1" strike="noStrike">
              <a:ln w="255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1413000"/>
            <a:ext cx="28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COVER</a:t>
            </a:r>
            <a:endParaRPr b="0" lang="en-US" sz="2400" spc="1" strike="noStrike">
              <a:ln w="255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564000" y="177336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fter activity.</a:t>
            </a:r>
            <a:endParaRPr b="0" lang="en-US" sz="2400" spc="1" strike="noStrike">
              <a:ln w="255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14919" t="0" r="7459" b="0"/>
          <a:stretch/>
        </p:blipFill>
        <p:spPr>
          <a:xfrm>
            <a:off x="2050920" y="2781360"/>
            <a:ext cx="374652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921040" cy="3441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C:\Documents and Settings\scap0s12\Local Settings\Temporary Internet Files\Content.IE5\PWHEYQTV\MCj01393530000[1].wmf"/>
          <p:cNvPicPr/>
          <p:nvPr/>
        </p:nvPicPr>
        <p:blipFill>
          <a:blip r:embed="rId1"/>
          <a:stretch/>
        </p:blipFill>
        <p:spPr>
          <a:xfrm>
            <a:off x="250920" y="189000"/>
            <a:ext cx="2847960" cy="3816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scap0s12\Local Settings\Temporary Internet Files\Content.IE5\DPD1Z1Z2\MCj01393470000[1].wmf"/>
          <p:cNvPicPr/>
          <p:nvPr/>
        </p:nvPicPr>
        <p:blipFill>
          <a:blip r:embed="rId2"/>
          <a:stretch/>
        </p:blipFill>
        <p:spPr>
          <a:xfrm>
            <a:off x="6588000" y="260280"/>
            <a:ext cx="2378160" cy="345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Documents and Settings\scap0s12\Local Settings\Temporary Internet Files\Content.IE5\6G5PWHFH\MCj01393490000[1].wmf"/>
          <p:cNvPicPr/>
          <p:nvPr/>
        </p:nvPicPr>
        <p:blipFill>
          <a:blip r:embed="rId3"/>
          <a:stretch/>
        </p:blipFill>
        <p:spPr>
          <a:xfrm>
            <a:off x="3924360" y="4005360"/>
            <a:ext cx="3313080" cy="2332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 rot="1863000">
            <a:off x="3348000" y="2133720"/>
            <a:ext cx="292428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njoy the P.E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42920" y="69228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t helps us to prepare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ur body to take par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 energetic games and activities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700360" y="2997360"/>
            <a:ext cx="208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</a:t>
            </a:r>
            <a:endParaRPr b="0" lang="en-US" sz="4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59280" y="4869000"/>
            <a:ext cx="4032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ARM-UP?</a:t>
            </a:r>
            <a:endParaRPr b="0" lang="en-US" sz="4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48360" y="335772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n we</a:t>
            </a:r>
            <a:endParaRPr b="0" lang="en-US" sz="32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84360" y="549360"/>
            <a:ext cx="2087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UN</a:t>
            </a:r>
            <a:endParaRPr b="0" lang="en-US" sz="48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03640" y="765000"/>
            <a:ext cx="5689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ntly for 5 minutes</a:t>
            </a:r>
            <a:endParaRPr b="0" lang="en-US" sz="48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2000" y="2133720"/>
            <a:ext cx="2857320" cy="42861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179" name="Picture 4" descr="C:\Documents and Settings\scap0s12\Local Settings\Temporary Internet Files\Content.IE5\6G5PWHFH\MMj02364080000[1].gif"/>
          <p:cNvPicPr/>
          <p:nvPr/>
        </p:nvPicPr>
        <p:blipFill>
          <a:blip r:embed="rId2"/>
          <a:stretch/>
        </p:blipFill>
        <p:spPr>
          <a:xfrm>
            <a:off x="2843280" y="0"/>
            <a:ext cx="944640" cy="871560"/>
          </a:xfrm>
          <a:prstGeom prst="rect">
            <a:avLst/>
          </a:prstGeom>
          <a:ln w="0">
            <a:noFill/>
          </a:ln>
        </p:spPr>
      </p:pic>
      <p:pic>
        <p:nvPicPr>
          <p:cNvPr id="180" name="MSj03886040000[1].wav" descr=""/>
          <p:cNvPicPr/>
          <p:nvPr/>
        </p:nvPicPr>
        <p:blipFill>
          <a:blip r:embed="rId3"/>
          <a:stretch/>
        </p:blipFill>
        <p:spPr>
          <a:xfrm>
            <a:off x="1547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124000" y="227664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 play</a:t>
            </a:r>
            <a:endParaRPr b="0" lang="en-US" sz="24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4360" y="3213000"/>
            <a:ext cx="5182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less energetic activity</a:t>
            </a:r>
            <a:endParaRPr b="0" lang="en-US" sz="24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3" name="Picture 7" descr="C:\Documents and Settings\scap0s12\Local Settings\Temporary Internet Files\Content.IE5\TNE0XPGR\MCj04241560000[1].wmf"/>
          <p:cNvPicPr/>
          <p:nvPr/>
        </p:nvPicPr>
        <p:blipFill>
          <a:blip r:embed="rId4"/>
          <a:stretch/>
        </p:blipFill>
        <p:spPr>
          <a:xfrm>
            <a:off x="2268360" y="4365720"/>
            <a:ext cx="1111320" cy="1834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C:\Documents and Settings\scap0s12\Local Settings\Temporary Internet Files\Content.IE5\PWHEYQTV\MCj04360430000[1].wmf"/>
          <p:cNvPicPr/>
          <p:nvPr/>
        </p:nvPicPr>
        <p:blipFill>
          <a:blip r:embed="rId5"/>
          <a:stretch/>
        </p:blipFill>
        <p:spPr>
          <a:xfrm>
            <a:off x="3708360" y="4653000"/>
            <a:ext cx="187344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59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4360" y="549360"/>
            <a:ext cx="777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 the end of the warm-up</a:t>
            </a:r>
            <a:endParaRPr b="0" lang="en-US" sz="48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11280" y="1413000"/>
            <a:ext cx="266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 some </a:t>
            </a:r>
            <a:endParaRPr b="0" lang="en-US" sz="32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64000" y="1413000"/>
            <a:ext cx="3800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ETCHES</a:t>
            </a:r>
            <a:endParaRPr b="0" lang="en-US" sz="4400" spc="1" strike="noStrike">
              <a:ln w="3168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12000" y="3645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Documents and Settings\scap0s12\Local Settings\Temporary Internet Files\Content.IE5\6G5PWHFH\MCSL01386_0000[1].wmf"/>
          <p:cNvPicPr/>
          <p:nvPr/>
        </p:nvPicPr>
        <p:blipFill>
          <a:blip r:embed="rId2"/>
          <a:stretch/>
        </p:blipFill>
        <p:spPr>
          <a:xfrm>
            <a:off x="611280" y="2565360"/>
            <a:ext cx="1809720" cy="1276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C:\Documents and Settings\scap0s12\Local Settings\Temporary Internet Files\Content.IE5\PWHEYQTV\MCSL01376_0000[1].wmf"/>
          <p:cNvPicPr/>
          <p:nvPr/>
        </p:nvPicPr>
        <p:blipFill>
          <a:blip r:embed="rId3"/>
          <a:stretch/>
        </p:blipFill>
        <p:spPr>
          <a:xfrm>
            <a:off x="3635280" y="2781360"/>
            <a:ext cx="1366920" cy="1808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C:\Documents and Settings\scap0s12\Local Settings\Temporary Internet Files\Content.IE5\PWHEYQTV\MCSL01377_0000[1].wmf"/>
          <p:cNvPicPr/>
          <p:nvPr/>
        </p:nvPicPr>
        <p:blipFill>
          <a:blip r:embed="rId4"/>
          <a:stretch/>
        </p:blipFill>
        <p:spPr>
          <a:xfrm>
            <a:off x="4932360" y="4581360"/>
            <a:ext cx="720720" cy="1825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C:\Documents and Settings\scap0s12\Local Settings\Temporary Internet Files\Content.IE5\TNE0XPGR\MCSL01385_0000[1].wmf"/>
          <p:cNvPicPr/>
          <p:nvPr/>
        </p:nvPicPr>
        <p:blipFill>
          <a:blip r:embed="rId5"/>
          <a:stretch/>
        </p:blipFill>
        <p:spPr>
          <a:xfrm>
            <a:off x="6516720" y="2565360"/>
            <a:ext cx="1809720" cy="836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C:\Documents and Settings\scap0s12\Local Settings\Temporary Internet Files\Content.IE5\DPD1Z1Z2\MCSL01378_0000[1].wmf"/>
          <p:cNvPicPr/>
          <p:nvPr/>
        </p:nvPicPr>
        <p:blipFill>
          <a:blip r:embed="rId6"/>
          <a:stretch/>
        </p:blipFill>
        <p:spPr>
          <a:xfrm>
            <a:off x="2124000" y="4724280"/>
            <a:ext cx="1290600" cy="1825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How do you </a:t>
            </a:r>
            <a:r>
              <a:rPr b="0" lang="en-GB" sz="6000" spc="-1" strike="noStrike">
                <a:solidFill>
                  <a:srgbClr val="ffffff"/>
                </a:solidFill>
                <a:latin typeface="Adventure"/>
              </a:rPr>
              <a:t>FEEL</a:t>
            </a: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 after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29200" y="4495680"/>
            <a:ext cx="4114800" cy="236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dventure"/>
              </a:rPr>
              <a:t>WARM-UP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47628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y</a:t>
            </a:r>
            <a:endParaRPr b="0" lang="en-US" sz="24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411280" y="260280"/>
            <a:ext cx="344808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EART</a:t>
            </a:r>
            <a:endParaRPr b="0" lang="en-US" sz="80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84720" y="476280"/>
            <a:ext cx="244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eats faster.</a:t>
            </a:r>
            <a:endParaRPr b="0" lang="en-US" sz="24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9" name="Picture 5" descr="C:\Documents and Settings\scap0s12\Local Settings\Temporary Internet Files\Content.IE5\TNE0XPGR\MPj04332180000[1].jpg"/>
          <p:cNvPicPr/>
          <p:nvPr/>
        </p:nvPicPr>
        <p:blipFill>
          <a:blip r:embed="rId1"/>
          <a:stretch/>
        </p:blipFill>
        <p:spPr>
          <a:xfrm>
            <a:off x="1332000" y="162864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C:\Documents and Settings\scap0s12\Local Settings\Temporary Internet Files\Content.IE5\TNE0XPGR\MCj03666180000[1].wmf"/>
          <p:cNvPicPr/>
          <p:nvPr/>
        </p:nvPicPr>
        <p:blipFill>
          <a:blip r:embed="rId2"/>
          <a:stretch/>
        </p:blipFill>
        <p:spPr>
          <a:xfrm>
            <a:off x="6881760" y="4581360"/>
            <a:ext cx="1874880" cy="1944720"/>
          </a:xfrm>
          <a:prstGeom prst="rect">
            <a:avLst/>
          </a:prstGeom>
          <a:ln w="0">
            <a:noFill/>
          </a:ln>
        </p:spPr>
      </p:pic>
      <p:pic>
        <p:nvPicPr>
          <p:cNvPr id="201" name="MSSN00578A0000[1].wav" descr=""/>
          <p:cNvPicPr/>
          <p:nvPr/>
        </p:nvPicPr>
        <p:blipFill>
          <a:blip r:embed="rId3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 rot="19778400">
            <a:off x="2916360" y="3212640"/>
            <a:ext cx="42764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isten to your heart</a:t>
            </a:r>
            <a:endParaRPr b="1" i="1" lang="en-US" sz="2400" spc="1" strike="noStrike">
              <a:ln w="2232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03" name="Picture 7" descr="C:\Documents and Settings\scap0s12\Local Settings\Temporary Internet Files\Content.IE5\PWHEYQTV\MCHM00379_0000[1].wmf"/>
          <p:cNvPicPr/>
          <p:nvPr/>
        </p:nvPicPr>
        <p:blipFill>
          <a:blip r:embed="rId4"/>
          <a:stretch/>
        </p:blipFill>
        <p:spPr>
          <a:xfrm rot="19329000">
            <a:off x="2268360" y="5084280"/>
            <a:ext cx="965520" cy="115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scap0s12\Local Settings\Temporary Internet Files\Content.IE5\6G5PWHFH\MMj02841050000[1].gif"/>
          <p:cNvPicPr/>
          <p:nvPr/>
        </p:nvPicPr>
        <p:blipFill>
          <a:blip r:embed="rId5"/>
          <a:stretch/>
        </p:blipFill>
        <p:spPr>
          <a:xfrm>
            <a:off x="5651640" y="5551560"/>
            <a:ext cx="1074600" cy="75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95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MSj00749480000[1].wav" descr=""/>
          <p:cNvPicPr/>
          <p:nvPr/>
        </p:nvPicPr>
        <p:blipFill>
          <a:blip r:embed="rId1"/>
          <a:stretch/>
        </p:blipFill>
        <p:spPr>
          <a:xfrm>
            <a:off x="883908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Documents and Settings\scap0s12\Local Settings\Temporary Internet Files\Content.IE5\DPD1Z1Z2\MCj02114780000[1].wmf"/>
          <p:cNvPicPr/>
          <p:nvPr/>
        </p:nvPicPr>
        <p:blipFill>
          <a:blip r:embed="rId2"/>
          <a:stretch/>
        </p:blipFill>
        <p:spPr>
          <a:xfrm>
            <a:off x="2843280" y="3068640"/>
            <a:ext cx="2476440" cy="3168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156360" y="2276640"/>
            <a:ext cx="2619360" cy="3609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900000" y="189000"/>
            <a:ext cx="14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</a:t>
            </a:r>
            <a:endParaRPr b="0" lang="en-US" sz="24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92360" y="189000"/>
            <a:ext cx="34480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REATH</a:t>
            </a:r>
            <a:endParaRPr b="0" lang="en-US" sz="80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24360" y="40464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ore</a:t>
            </a:r>
            <a:endParaRPr b="0" lang="en-US" sz="24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692360" y="1700280"/>
            <a:ext cx="34480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cc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EAVILY</a:t>
            </a:r>
            <a:endParaRPr b="0" lang="en-US" sz="80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cc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508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C:\Documents and Settings\scap0s12\Local Settings\Temporary Internet Files\Content.IE5\6G5PWHFH\MCj04238580000[1].wmf"/>
          <p:cNvPicPr/>
          <p:nvPr/>
        </p:nvPicPr>
        <p:blipFill>
          <a:blip r:embed="rId1"/>
          <a:stretch/>
        </p:blipFill>
        <p:spPr>
          <a:xfrm>
            <a:off x="3851280" y="3141720"/>
            <a:ext cx="2954160" cy="2805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:\Documents and Settings\scap0s12\Local Settings\Temporary Internet Files\Content.IE5\DPD1Z1Z2\MPj04094230000[1].jpg"/>
          <p:cNvPicPr/>
          <p:nvPr/>
        </p:nvPicPr>
        <p:blipFill>
          <a:blip r:embed="rId2"/>
          <a:stretch/>
        </p:blipFill>
        <p:spPr>
          <a:xfrm>
            <a:off x="395280" y="404640"/>
            <a:ext cx="2043000" cy="3071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C:\Documents and Settings\scap0s12\Local Settings\Temporary Internet Files\Content.IE5\TNE0XPGR\MMj02952060000[1].gif"/>
          <p:cNvPicPr/>
          <p:nvPr/>
        </p:nvPicPr>
        <p:blipFill>
          <a:blip r:embed="rId3"/>
          <a:stretch/>
        </p:blipFill>
        <p:spPr>
          <a:xfrm rot="20251200">
            <a:off x="3348000" y="5229000"/>
            <a:ext cx="258840" cy="1247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C:\Documents and Settings\scap0s12\Local Settings\Temporary Internet Files\Content.IE5\PWHEYQTV\MCj01993600000[1].wmf"/>
          <p:cNvPicPr/>
          <p:nvPr/>
        </p:nvPicPr>
        <p:blipFill>
          <a:blip r:embed="rId4"/>
          <a:stretch/>
        </p:blipFill>
        <p:spPr>
          <a:xfrm rot="1247400">
            <a:off x="8101080" y="1988640"/>
            <a:ext cx="433440" cy="1998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:\Documents and Settings\scap0s12\Local Settings\Temporary Internet Files\Content.IE5\PWHEYQTV\MMj02347030000[1].gif"/>
          <p:cNvPicPr/>
          <p:nvPr/>
        </p:nvPicPr>
        <p:blipFill>
          <a:blip r:embed="rId5"/>
          <a:stretch/>
        </p:blipFill>
        <p:spPr>
          <a:xfrm>
            <a:off x="7093080" y="4869000"/>
            <a:ext cx="1692000" cy="1692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843280" y="549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y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0" y="26028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MPERATURE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067280" y="1700280"/>
            <a:ext cx="208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aises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C:\Documents and Settings\scap0s12\Local Settings\Temporary Internet Files\Content.IE5\6G5PWHFH\MCj04238120000[1].wmf"/>
          <p:cNvPicPr/>
          <p:nvPr/>
        </p:nvPicPr>
        <p:blipFill>
          <a:blip r:embed="rId1"/>
          <a:stretch/>
        </p:blipFill>
        <p:spPr>
          <a:xfrm>
            <a:off x="6084720" y="260280"/>
            <a:ext cx="1803600" cy="2016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403280" y="549360"/>
            <a:ext cx="15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 feel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492360" y="47628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OT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Picture 6" descr="C:\Documents and Settings\scap0s12\Local Settings\Temporary Internet Files\Content.IE5\PWHEYQTV\MCSL01391_0000[1].wmf"/>
          <p:cNvPicPr/>
          <p:nvPr/>
        </p:nvPicPr>
        <p:blipFill>
          <a:blip r:embed="rId2"/>
          <a:stretch/>
        </p:blipFill>
        <p:spPr>
          <a:xfrm>
            <a:off x="6084720" y="2565360"/>
            <a:ext cx="2063880" cy="4032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116000" y="2637000"/>
            <a:ext cx="15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nd I 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59280" y="2492280"/>
            <a:ext cx="2374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WEAT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419640" y="4005360"/>
            <a:ext cx="259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 little bit</a:t>
            </a:r>
            <a:endParaRPr b="0" lang="en-US" sz="24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42:50Z</dcterms:created>
  <dc:creator>Manager</dc:creator>
  <dc:description/>
  <dc:language>en-US</dc:language>
  <cp:lastModifiedBy> </cp:lastModifiedBy>
  <dcterms:modified xsi:type="dcterms:W3CDTF">2008-04-28T14:42:55Z</dcterms:modified>
  <cp:revision>40</cp:revision>
  <dc:subject/>
  <dc:title>Slide 1</dc:title>
</cp:coreProperties>
</file>