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328-8560-45EA-8D35-7E55E837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8B6-6CC2-4116-8230-E41EC0C9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66D-B54C-4511-95FD-5D81C3F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826-2F46-4169-84C0-073B10B4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F09-032B-4034-8DE4-5142C5D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3DE-CC96-496B-B719-C3125585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EC5-C231-4978-AD47-EA90BEF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A75-926A-4CCA-9F4C-40F5062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7DA-AE54-41F2-B547-36CF046D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673-53C1-4FAA-A04D-2793774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D5E-1CAD-4065-87C5-9E10E12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B41-3FD1-42E7-A0C6-6B2275B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BA70-1492-4F51-A1D5-7EE137D8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413000"/>
            <a:ext cx="54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Impact"/>
              </a:rPr>
              <a:t>Key 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2924280"/>
            <a:ext cx="560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ttle Red Riding Hoo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948360" y="2781360"/>
            <a:ext cx="1496520" cy="3168000"/>
            <a:chOff x="6948360" y="2781360"/>
            <a:chExt cx="1496520" cy="3168000"/>
          </a:xfrm>
        </p:grpSpPr>
        <p:sp>
          <p:nvSpPr>
            <p:cNvPr id="44" name=""/>
            <p:cNvSpPr/>
            <p:nvPr/>
          </p:nvSpPr>
          <p:spPr>
            <a:xfrm>
              <a:off x="7706520" y="5707440"/>
              <a:ext cx="232920" cy="132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37800" y="4671000"/>
              <a:ext cx="401040" cy="873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62960" y="4658400"/>
              <a:ext cx="303480" cy="89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45240" y="4461840"/>
              <a:ext cx="636480" cy="32328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12560" y="4368600"/>
              <a:ext cx="542520" cy="25704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88000" y="3769920"/>
              <a:ext cx="535680" cy="58896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9480" y="3554640"/>
              <a:ext cx="505080" cy="24192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63640" y="3382560"/>
              <a:ext cx="324000" cy="2934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60880" y="3446280"/>
              <a:ext cx="208440" cy="184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45800" y="3174120"/>
              <a:ext cx="522720" cy="450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92040" y="3534120"/>
              <a:ext cx="107640" cy="237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92040" y="3536640"/>
              <a:ext cx="107640" cy="3888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54160" y="3092400"/>
              <a:ext cx="450720" cy="2595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48360" y="3672360"/>
              <a:ext cx="731520" cy="112500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15440" y="3645720"/>
              <a:ext cx="255960" cy="1630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24720" y="3688200"/>
              <a:ext cx="191880" cy="23832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14160" y="3624480"/>
              <a:ext cx="236160" cy="1868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10480" y="3781440"/>
              <a:ext cx="734400" cy="87048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75120" y="3888000"/>
              <a:ext cx="198720" cy="2959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84640" y="4253400"/>
              <a:ext cx="255960" cy="2055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10480" y="5411160"/>
              <a:ext cx="229320" cy="28980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03640" y="5668560"/>
              <a:ext cx="239040" cy="788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73040" y="5774040"/>
              <a:ext cx="276480" cy="14508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4720" y="5480640"/>
              <a:ext cx="232920" cy="27828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11960" y="5728680"/>
              <a:ext cx="222120" cy="151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82080" y="2781360"/>
              <a:ext cx="626760" cy="682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77200" y="3482640"/>
              <a:ext cx="94680" cy="7812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27040" y="3491640"/>
              <a:ext cx="81000" cy="78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10480" y="3772800"/>
              <a:ext cx="444600" cy="24444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9480" y="4302000"/>
              <a:ext cx="262800" cy="201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44640" y="5704920"/>
              <a:ext cx="357480" cy="24444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15440" y="3479040"/>
              <a:ext cx="66960" cy="36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41280" y="3303720"/>
              <a:ext cx="83880" cy="60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7800" y="3346200"/>
              <a:ext cx="134280" cy="87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5320" y="3376440"/>
              <a:ext cx="4032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10480" y="3306960"/>
              <a:ext cx="83880" cy="60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73040" y="3349440"/>
              <a:ext cx="135000" cy="867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16600" y="3379680"/>
              <a:ext cx="40320" cy="36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24720" y="4365720"/>
            <a:ext cx="576000" cy="718560"/>
            <a:chOff x="7524720" y="4365720"/>
            <a:chExt cx="576000" cy="718560"/>
          </a:xfrm>
        </p:grpSpPr>
        <p:sp>
          <p:nvSpPr>
            <p:cNvPr id="83" name=""/>
            <p:cNvSpPr/>
            <p:nvPr/>
          </p:nvSpPr>
          <p:spPr>
            <a:xfrm>
              <a:off x="7963920" y="4669560"/>
              <a:ext cx="119160" cy="17172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3800" y="4376520"/>
              <a:ext cx="220680" cy="28440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8000" y="4591080"/>
              <a:ext cx="302760" cy="2826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720" y="4606560"/>
              <a:ext cx="155880" cy="12168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3480" y="5006520"/>
              <a:ext cx="312480" cy="7776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91280" y="4756680"/>
              <a:ext cx="79200" cy="712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25600" y="4609080"/>
              <a:ext cx="210960" cy="12996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82480" y="4624200"/>
              <a:ext cx="94320" cy="777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2560" y="4669560"/>
              <a:ext cx="232920" cy="15660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54480" y="4708800"/>
              <a:ext cx="96840" cy="80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10200" y="4663080"/>
              <a:ext cx="109080" cy="910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5400" y="4595760"/>
              <a:ext cx="96840" cy="630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84360" y="4752360"/>
              <a:ext cx="109080" cy="889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23680" y="4701960"/>
              <a:ext cx="54360" cy="56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69240" y="4836960"/>
              <a:ext cx="67320" cy="34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9200" y="4639320"/>
              <a:ext cx="243000" cy="2408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13640" y="4732560"/>
              <a:ext cx="183960" cy="15192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2600" y="4841280"/>
              <a:ext cx="61920" cy="51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12360" y="4778280"/>
              <a:ext cx="52200" cy="561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5280" y="4804560"/>
              <a:ext cx="56880" cy="49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19560" y="4811040"/>
              <a:ext cx="5940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94720" y="4841280"/>
              <a:ext cx="59400" cy="47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35040" y="4849920"/>
              <a:ext cx="568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05440" y="4836960"/>
              <a:ext cx="622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27760" y="4802040"/>
              <a:ext cx="5724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57640" y="4763160"/>
              <a:ext cx="59400" cy="56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82480" y="4741560"/>
              <a:ext cx="5436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76200" y="4839120"/>
              <a:ext cx="498960" cy="21060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36960" y="4736880"/>
              <a:ext cx="563760" cy="18900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2920" y="4365720"/>
              <a:ext cx="295560" cy="4885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440" y="1916280"/>
            <a:ext cx="6550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EAT SOME F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IMITATE A GRANDM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MELL SOME FLOWER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868400" cy="197496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6012000" y="4581360"/>
            <a:ext cx="1510200" cy="1941480"/>
            <a:chOff x="6012000" y="4581360"/>
            <a:chExt cx="1510200" cy="1941480"/>
          </a:xfrm>
        </p:grpSpPr>
        <p:sp>
          <p:nvSpPr>
            <p:cNvPr id="479" name=""/>
            <p:cNvSpPr/>
            <p:nvPr/>
          </p:nvSpPr>
          <p:spPr>
            <a:xfrm>
              <a:off x="7347240" y="4759920"/>
              <a:ext cx="99720" cy="81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27280" y="4734000"/>
              <a:ext cx="152280" cy="114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14760" y="4734000"/>
              <a:ext cx="177480" cy="11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32120" y="5222160"/>
              <a:ext cx="937800" cy="126000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92440" y="5222160"/>
              <a:ext cx="77400" cy="128376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840" y="4979160"/>
              <a:ext cx="660240" cy="152712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14680" y="4857480"/>
              <a:ext cx="187560" cy="159156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7160" y="5002920"/>
              <a:ext cx="99720" cy="151956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62040" y="5091480"/>
              <a:ext cx="262440" cy="14313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2240" y="5295960"/>
              <a:ext cx="407520" cy="122688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11720" y="5100840"/>
              <a:ext cx="19728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09360" y="5067720"/>
              <a:ext cx="254880" cy="154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9360" y="5214960"/>
              <a:ext cx="167400" cy="121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66880" y="5246280"/>
              <a:ext cx="97200" cy="1544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12000" y="5229720"/>
              <a:ext cx="287280" cy="130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2280" y="5157720"/>
              <a:ext cx="197280" cy="12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79920" y="5174280"/>
              <a:ext cx="242280" cy="1526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79920" y="5060160"/>
              <a:ext cx="167400" cy="114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24840" y="4995720"/>
              <a:ext cx="109800" cy="145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2200" y="5036400"/>
              <a:ext cx="277560" cy="1288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49880" y="5295960"/>
              <a:ext cx="19728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07240" y="5262840"/>
              <a:ext cx="252360" cy="154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94720" y="5408280"/>
              <a:ext cx="154800" cy="123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800" y="5441400"/>
              <a:ext cx="109800" cy="1544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72200" y="5424840"/>
              <a:ext cx="284760" cy="130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27120" y="4621680"/>
              <a:ext cx="199800" cy="12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14680" y="4581360"/>
              <a:ext cx="254880" cy="152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4767120"/>
              <a:ext cx="109800" cy="145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16960" y="4743360"/>
              <a:ext cx="287280" cy="1288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87120" y="4857480"/>
              <a:ext cx="199800" cy="137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4480" y="4872240"/>
              <a:ext cx="242280" cy="1544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21880" y="4759920"/>
              <a:ext cx="164880" cy="11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32040" y="4693680"/>
              <a:ext cx="109800" cy="147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9440" y="4734000"/>
              <a:ext cx="275040" cy="1306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74680" y="5448960"/>
              <a:ext cx="232560" cy="1951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54360" y="5376960"/>
              <a:ext cx="232560" cy="16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59680" y="4774680"/>
              <a:ext cx="275040" cy="244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9440" y="4629240"/>
              <a:ext cx="782640" cy="6667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21960" y="5246280"/>
              <a:ext cx="452520" cy="162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19760" y="5295960"/>
              <a:ext cx="207360" cy="29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6840" y="5295960"/>
              <a:ext cx="320040" cy="20988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19760" y="4921920"/>
              <a:ext cx="152280" cy="128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262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IMITATE A WO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TOUCH THE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AY HELLO TO THE SU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1517760" cy="173664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5724360" y="1484280"/>
            <a:ext cx="1296720" cy="1800360"/>
            <a:chOff x="5724360" y="1484280"/>
            <a:chExt cx="1296720" cy="1800360"/>
          </a:xfrm>
        </p:grpSpPr>
        <p:sp>
          <p:nvSpPr>
            <p:cNvPr id="526" name=""/>
            <p:cNvSpPr/>
            <p:nvPr/>
          </p:nvSpPr>
          <p:spPr>
            <a:xfrm>
              <a:off x="5788800" y="1846440"/>
              <a:ext cx="125280" cy="9468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02480" y="1864440"/>
              <a:ext cx="132840" cy="8208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68440" y="2142360"/>
              <a:ext cx="265680" cy="27504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29400" y="1484280"/>
              <a:ext cx="1291680" cy="180036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15160" y="1512000"/>
              <a:ext cx="63000" cy="1108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3560" y="1857960"/>
              <a:ext cx="285840" cy="38268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01440" y="2206800"/>
              <a:ext cx="189360" cy="21456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24360" y="1899720"/>
              <a:ext cx="42840" cy="3024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25280" y="2548080"/>
              <a:ext cx="26640" cy="14508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40680" y="2061360"/>
              <a:ext cx="16200" cy="17676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3840" y="1717560"/>
              <a:ext cx="11592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93840" y="1717560"/>
              <a:ext cx="11592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3840" y="1771920"/>
              <a:ext cx="50400" cy="327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47120" y="1716480"/>
              <a:ext cx="11628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47120" y="1716480"/>
              <a:ext cx="116280" cy="896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1720" y="1771920"/>
              <a:ext cx="50760" cy="327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44600" y="1694880"/>
              <a:ext cx="155520" cy="529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44600" y="1694880"/>
              <a:ext cx="155520" cy="529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77280" y="1700280"/>
              <a:ext cx="83160" cy="378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77280" y="1698840"/>
              <a:ext cx="83160" cy="3924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079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47856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BUILD A HO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OPEN AND CLOSE A DO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SLEEP ON THE B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2457360" cy="2113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093080" y="2924280"/>
            <a:ext cx="1334880" cy="2232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25892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d844b3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d844b3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32000" y="54936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we….?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440" y="1916280"/>
            <a:ext cx="6550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THROW THE PILLO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IMITATE A WOODCU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99"/>
                </a:solidFill>
                <a:latin typeface="Comic Sans MS"/>
              </a:rPr>
              <a:t>. CELEBRATE A PART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1662120" cy="132408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7164360" y="2708280"/>
            <a:ext cx="1225440" cy="2231640"/>
            <a:chOff x="7164360" y="2708280"/>
            <a:chExt cx="1225440" cy="2231640"/>
          </a:xfrm>
        </p:grpSpPr>
        <p:sp>
          <p:nvSpPr>
            <p:cNvPr id="558" name=""/>
            <p:cNvSpPr/>
            <p:nvPr/>
          </p:nvSpPr>
          <p:spPr>
            <a:xfrm flipH="1">
              <a:off x="7563960" y="2708280"/>
              <a:ext cx="304920" cy="30960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619760" y="3067200"/>
              <a:ext cx="159480" cy="13824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575480" y="2799720"/>
              <a:ext cx="276120" cy="31968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430040" y="3661200"/>
              <a:ext cx="744480" cy="80064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8119800" y="2917440"/>
              <a:ext cx="49680" cy="70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455600" y="3119400"/>
              <a:ext cx="392040" cy="69768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791120" y="3120840"/>
              <a:ext cx="182880" cy="7012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759800" y="3120840"/>
              <a:ext cx="73080" cy="84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670160" y="3138120"/>
              <a:ext cx="91800" cy="673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727760" y="3200400"/>
              <a:ext cx="90720" cy="10512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354080" y="3159720"/>
              <a:ext cx="273600" cy="35136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880760" y="3141000"/>
              <a:ext cx="121680" cy="20916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907760" y="3319920"/>
              <a:ext cx="139320" cy="21060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337160" y="3331440"/>
              <a:ext cx="159480" cy="21276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296840" y="3472200"/>
              <a:ext cx="321120" cy="5518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8143560" y="2815920"/>
              <a:ext cx="227520" cy="20160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171640" y="2969640"/>
              <a:ext cx="185400" cy="51372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303400" y="3455640"/>
              <a:ext cx="53640" cy="327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986600" y="4318200"/>
              <a:ext cx="293760" cy="53892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44920" y="4743720"/>
              <a:ext cx="344880" cy="19620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457040" y="389340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240320" y="4342680"/>
              <a:ext cx="389880" cy="49464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164000" y="4704120"/>
              <a:ext cx="335160" cy="22068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759080" y="3059640"/>
              <a:ext cx="19440" cy="36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738560" y="3047040"/>
              <a:ext cx="52200" cy="468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596720" y="2939040"/>
              <a:ext cx="8280" cy="201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389720" y="478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920360" y="3165120"/>
              <a:ext cx="340920" cy="45540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225640" y="3185280"/>
              <a:ext cx="77040" cy="50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232120" y="3211920"/>
              <a:ext cx="80640" cy="5184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238600" y="3242520"/>
              <a:ext cx="75600" cy="504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242200" y="3274200"/>
              <a:ext cx="70560" cy="468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789320" y="2918880"/>
              <a:ext cx="5364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715160" y="2921400"/>
              <a:ext cx="5688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699680" y="2918880"/>
              <a:ext cx="74520" cy="75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794360" y="2907360"/>
              <a:ext cx="52200" cy="1728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736400" y="2944440"/>
              <a:ext cx="22320" cy="22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810920" y="2941920"/>
              <a:ext cx="18360" cy="21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762320" y="2993760"/>
              <a:ext cx="41040" cy="22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790760" y="2917440"/>
              <a:ext cx="52200" cy="24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716240" y="2920320"/>
              <a:ext cx="54720" cy="252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8301240" y="2842920"/>
              <a:ext cx="50760" cy="14580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1990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238428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randm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76360" y="549360"/>
            <a:ext cx="2155320" cy="2805840"/>
            <a:chOff x="1476360" y="549360"/>
            <a:chExt cx="2155320" cy="2805840"/>
          </a:xfrm>
        </p:grpSpPr>
        <p:sp>
          <p:nvSpPr>
            <p:cNvPr id="120" name=""/>
            <p:cNvSpPr/>
            <p:nvPr/>
          </p:nvSpPr>
          <p:spPr>
            <a:xfrm>
              <a:off x="3382200" y="807480"/>
              <a:ext cx="142560" cy="117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7920" y="770040"/>
              <a:ext cx="217440" cy="164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92840" y="770040"/>
              <a:ext cx="253080" cy="16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5760" y="1475640"/>
              <a:ext cx="1338120" cy="182088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0800" y="1475640"/>
              <a:ext cx="110520" cy="185544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54240" y="1124280"/>
              <a:ext cx="942120" cy="220680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0280" y="948600"/>
              <a:ext cx="267480" cy="230004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9280" y="1158840"/>
              <a:ext cx="142560" cy="219636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32480" y="1286640"/>
              <a:ext cx="374400" cy="206856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7000" y="1582200"/>
              <a:ext cx="581400" cy="17730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8920" y="1299960"/>
              <a:ext cx="2818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0800" y="1252080"/>
              <a:ext cx="3639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0800" y="1464840"/>
              <a:ext cx="239040" cy="17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0320" y="1510200"/>
              <a:ext cx="138960" cy="223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76360" y="1486440"/>
              <a:ext cx="410400" cy="1890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03840" y="1382400"/>
              <a:ext cx="28188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85720" y="1406520"/>
              <a:ext cx="345960" cy="220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5720" y="1241280"/>
              <a:ext cx="239040" cy="16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7240" y="1148040"/>
              <a:ext cx="15696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60920" y="1206720"/>
              <a:ext cx="396000" cy="18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57400" y="1582200"/>
              <a:ext cx="2818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11080" y="1534320"/>
              <a:ext cx="3603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6000" y="1744560"/>
              <a:ext cx="221040" cy="178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920" y="1792440"/>
              <a:ext cx="156960" cy="2235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89440" y="1768680"/>
              <a:ext cx="406800" cy="1890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2440" y="607680"/>
              <a:ext cx="28548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0280" y="549360"/>
              <a:ext cx="363960" cy="2206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9440" y="817920"/>
              <a:ext cx="15696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25480" y="783360"/>
              <a:ext cx="410400" cy="18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1680" y="948600"/>
              <a:ext cx="28548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65360" y="969840"/>
              <a:ext cx="345960" cy="223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75880" y="807480"/>
              <a:ext cx="235440" cy="162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2840" y="711720"/>
              <a:ext cx="156960" cy="212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3720" y="770040"/>
              <a:ext cx="392400" cy="1890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160" y="1803240"/>
              <a:ext cx="331920" cy="2818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5240" y="1699200"/>
              <a:ext cx="331920" cy="244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4360" y="828720"/>
              <a:ext cx="392400" cy="353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43720" y="618480"/>
              <a:ext cx="1117080" cy="9637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800" y="1510200"/>
              <a:ext cx="645840" cy="234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6160" y="1582200"/>
              <a:ext cx="295920" cy="420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4240" y="1582200"/>
              <a:ext cx="456480" cy="30348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6160" y="1041840"/>
              <a:ext cx="217440" cy="186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51640" y="2276640"/>
            <a:ext cx="2088720" cy="2734560"/>
            <a:chOff x="5651640" y="2276640"/>
            <a:chExt cx="2088720" cy="2734560"/>
          </a:xfrm>
        </p:grpSpPr>
        <p:sp>
          <p:nvSpPr>
            <p:cNvPr id="163" name=""/>
            <p:cNvSpPr/>
            <p:nvPr/>
          </p:nvSpPr>
          <p:spPr>
            <a:xfrm>
              <a:off x="5755320" y="2827080"/>
              <a:ext cx="201960" cy="1440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77640" y="2854080"/>
              <a:ext cx="214200" cy="12492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44760" y="3276360"/>
              <a:ext cx="427680" cy="41796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9920" y="2276640"/>
              <a:ext cx="2080440" cy="273456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9440" y="2318760"/>
              <a:ext cx="101520" cy="1688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9240" y="2844360"/>
              <a:ext cx="460440" cy="58140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80800" y="3374280"/>
              <a:ext cx="305280" cy="32616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1640" y="2907720"/>
              <a:ext cx="69120" cy="4608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0600" y="3892680"/>
              <a:ext cx="42840" cy="22068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44160" y="3153600"/>
              <a:ext cx="26280" cy="26856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3600" y="2631240"/>
              <a:ext cx="18684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3600" y="2631240"/>
              <a:ext cx="18684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63600" y="2714040"/>
              <a:ext cx="81000" cy="50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9280" y="2629440"/>
              <a:ext cx="18756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49280" y="2629440"/>
              <a:ext cx="187560" cy="1360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1000" y="2714040"/>
              <a:ext cx="81720" cy="50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4960" y="2596680"/>
              <a:ext cx="250200" cy="8028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4960" y="2596680"/>
              <a:ext cx="250200" cy="8028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6960" y="2604600"/>
              <a:ext cx="134280" cy="5724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36960" y="2602440"/>
              <a:ext cx="134280" cy="5940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13840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25923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956200" y="2852640"/>
            <a:ext cx="1335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Pi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2665440" cy="2494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64000" y="2781360"/>
            <a:ext cx="2808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328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oodcu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522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549360"/>
            <a:ext cx="1562400" cy="2791800"/>
            <a:chOff x="1908000" y="549360"/>
            <a:chExt cx="1562400" cy="2791800"/>
          </a:xfrm>
        </p:grpSpPr>
        <p:sp>
          <p:nvSpPr>
            <p:cNvPr id="198" name=""/>
            <p:cNvSpPr/>
            <p:nvPr/>
          </p:nvSpPr>
          <p:spPr>
            <a:xfrm flipH="1">
              <a:off x="2417760" y="549360"/>
              <a:ext cx="388800" cy="38700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488680" y="998280"/>
              <a:ext cx="203400" cy="17280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431800" y="663480"/>
              <a:ext cx="352440" cy="39960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246040" y="1741320"/>
              <a:ext cx="949320" cy="100152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125880" y="811080"/>
              <a:ext cx="63360" cy="8856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279160" y="1063440"/>
              <a:ext cx="500040" cy="87264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706840" y="1065240"/>
              <a:ext cx="233280" cy="87732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66880" y="1065240"/>
              <a:ext cx="93600" cy="10584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552760" y="1087200"/>
              <a:ext cx="117360" cy="8388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625840" y="1164960"/>
              <a:ext cx="115920" cy="13140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149560" y="1114200"/>
              <a:ext cx="349200" cy="43956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820960" y="1090440"/>
              <a:ext cx="155520" cy="26172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855880" y="1314360"/>
              <a:ext cx="177840" cy="26316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128320" y="1328760"/>
              <a:ext cx="203400" cy="26604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076480" y="1504800"/>
              <a:ext cx="409680" cy="69012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55400" y="684000"/>
              <a:ext cx="290520" cy="25200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192120" y="876240"/>
              <a:ext cx="236520" cy="64260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60600" y="1484280"/>
              <a:ext cx="68400" cy="40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955600" y="2563560"/>
              <a:ext cx="374760" cy="67428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030480" y="3095640"/>
              <a:ext cx="439920" cy="24552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280960" y="2031840"/>
              <a:ext cx="324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004480" y="2593800"/>
              <a:ext cx="497160" cy="61884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907640" y="3046320"/>
              <a:ext cx="427320" cy="27576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665440" y="988920"/>
              <a:ext cx="25200" cy="43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639880" y="973080"/>
              <a:ext cx="66960" cy="576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59160" y="83808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195640" y="31464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871720" y="1120680"/>
              <a:ext cx="434880" cy="56952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60520" y="1145880"/>
              <a:ext cx="98280" cy="633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68800" y="1179360"/>
              <a:ext cx="102960" cy="648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276360" y="1217520"/>
              <a:ext cx="96840" cy="6300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281040" y="1257120"/>
              <a:ext cx="90360" cy="583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705040" y="812520"/>
              <a:ext cx="684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610000" y="815760"/>
              <a:ext cx="727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90920" y="812520"/>
              <a:ext cx="95040" cy="93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11160" y="798480"/>
              <a:ext cx="66600" cy="2160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636640" y="844560"/>
              <a:ext cx="28800" cy="28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732040" y="841320"/>
              <a:ext cx="23760" cy="26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670120" y="906480"/>
              <a:ext cx="52560" cy="28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706480" y="81108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611440" y="814320"/>
              <a:ext cx="69840" cy="3132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357720" y="717480"/>
              <a:ext cx="64800" cy="18216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508720" y="2135160"/>
            <a:ext cx="2950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27640" y="4697280"/>
            <a:ext cx="2043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395280" y="2276640"/>
            <a:ext cx="1295280" cy="2160000"/>
            <a:chOff x="395280" y="2276640"/>
            <a:chExt cx="1295280" cy="2160000"/>
          </a:xfrm>
        </p:grpSpPr>
        <p:sp>
          <p:nvSpPr>
            <p:cNvPr id="244" name=""/>
            <p:cNvSpPr/>
            <p:nvPr/>
          </p:nvSpPr>
          <p:spPr>
            <a:xfrm flipH="1">
              <a:off x="817920" y="2276640"/>
              <a:ext cx="322200" cy="29952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77320" y="2624040"/>
              <a:ext cx="168480" cy="13392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29800" y="2365200"/>
              <a:ext cx="291960" cy="30924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76080" y="3198960"/>
              <a:ext cx="786960" cy="7750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405080" y="2479320"/>
              <a:ext cx="52200" cy="6876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03440" y="2674440"/>
              <a:ext cx="414360" cy="67536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057320" y="2675880"/>
              <a:ext cx="193320" cy="67896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024560" y="2675880"/>
              <a:ext cx="77400" cy="8208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929880" y="2692800"/>
              <a:ext cx="97200" cy="6516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990720" y="2752920"/>
              <a:ext cx="95760" cy="10188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95800" y="2713680"/>
              <a:ext cx="289440" cy="34020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152360" y="2695320"/>
              <a:ext cx="128880" cy="2026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81160" y="2868480"/>
              <a:ext cx="147240" cy="20376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78520" y="2879640"/>
              <a:ext cx="168480" cy="20592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34960" y="3016080"/>
              <a:ext cx="339480" cy="5338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429560" y="2381040"/>
              <a:ext cx="240840" cy="19512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60520" y="2529720"/>
              <a:ext cx="195840" cy="4971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599480" y="2999880"/>
              <a:ext cx="56520" cy="31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263960" y="3835080"/>
              <a:ext cx="310680" cy="521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325520" y="4246560"/>
              <a:ext cx="364680" cy="1900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04880" y="342360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75920" y="3858480"/>
              <a:ext cx="411840" cy="4788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95280" y="4208400"/>
              <a:ext cx="354240" cy="21348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023480" y="2616840"/>
              <a:ext cx="20880" cy="36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002240" y="2604600"/>
              <a:ext cx="55440" cy="468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52840" y="2500200"/>
              <a:ext cx="8640" cy="194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33600" y="42858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194120" y="2718720"/>
              <a:ext cx="360360" cy="44064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517040" y="2738160"/>
              <a:ext cx="81360" cy="48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23160" y="2764080"/>
              <a:ext cx="85320" cy="504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529640" y="2793600"/>
              <a:ext cx="80280" cy="489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533960" y="2824200"/>
              <a:ext cx="74880" cy="453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055880" y="2480400"/>
              <a:ext cx="5652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77040" y="2482920"/>
              <a:ext cx="60120" cy="6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61920" y="2480400"/>
              <a:ext cx="78480" cy="720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61280" y="2469600"/>
              <a:ext cx="55080" cy="169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999720" y="2505240"/>
              <a:ext cx="23760" cy="21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78920" y="2502720"/>
              <a:ext cx="1944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027080" y="2553120"/>
              <a:ext cx="4356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057320" y="2479320"/>
              <a:ext cx="55080" cy="230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78840" y="2481840"/>
              <a:ext cx="57600" cy="244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596960" y="2406960"/>
              <a:ext cx="53640" cy="1411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2340000" cy="2330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700360" y="404640"/>
            <a:ext cx="1944720" cy="1819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2303640" cy="183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1979640" y="2205000"/>
            <a:ext cx="2376360" cy="2043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8067600" y="3141720"/>
            <a:ext cx="1076400" cy="1800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4859280" y="476280"/>
            <a:ext cx="1573200" cy="180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5940360" y="2781360"/>
            <a:ext cx="2089080" cy="202716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4356000" y="2637000"/>
            <a:ext cx="1580400" cy="2805480"/>
            <a:chOff x="4356000" y="2637000"/>
            <a:chExt cx="1580400" cy="2805480"/>
          </a:xfrm>
        </p:grpSpPr>
        <p:sp>
          <p:nvSpPr>
            <p:cNvPr id="294" name=""/>
            <p:cNvSpPr/>
            <p:nvPr/>
          </p:nvSpPr>
          <p:spPr>
            <a:xfrm>
              <a:off x="5753160" y="2895120"/>
              <a:ext cx="104400" cy="117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3120" y="2857680"/>
              <a:ext cx="159480" cy="164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14560" y="2857680"/>
              <a:ext cx="185760" cy="16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95560" y="3563280"/>
              <a:ext cx="981360" cy="182052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1160" y="3563280"/>
              <a:ext cx="81000" cy="185508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3160" y="3211920"/>
              <a:ext cx="690840" cy="220644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9800" y="3036240"/>
              <a:ext cx="196200" cy="229968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48760" y="3246480"/>
              <a:ext cx="104400" cy="219600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50320" y="3374280"/>
              <a:ext cx="274680" cy="206820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40800" y="3669480"/>
              <a:ext cx="426240" cy="177264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0400" y="3387600"/>
              <a:ext cx="20664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7400" y="3339720"/>
              <a:ext cx="26676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67400" y="3552480"/>
              <a:ext cx="175320" cy="17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2760" y="3597840"/>
              <a:ext cx="101880" cy="223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56000" y="3573720"/>
              <a:ext cx="300600" cy="188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75960" y="3470040"/>
              <a:ext cx="20664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82600" y="3493800"/>
              <a:ext cx="253800" cy="2206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82600" y="3328920"/>
              <a:ext cx="175320" cy="16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5000" y="3235680"/>
              <a:ext cx="11484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1200" y="3294360"/>
              <a:ext cx="290160" cy="18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41760" y="3669480"/>
              <a:ext cx="20664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87960" y="3621600"/>
              <a:ext cx="264240" cy="223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79760" y="3832200"/>
              <a:ext cx="162000" cy="178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84160" y="3880080"/>
              <a:ext cx="114840" cy="2235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5520" y="3855960"/>
              <a:ext cx="298080" cy="188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3600" y="2695320"/>
              <a:ext cx="209160" cy="18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9800" y="2637000"/>
              <a:ext cx="266760" cy="2206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5520" y="2905560"/>
              <a:ext cx="114840" cy="21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98400" y="2871000"/>
              <a:ext cx="300600" cy="18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8400" y="3036240"/>
              <a:ext cx="209160" cy="1994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4600" y="3057480"/>
              <a:ext cx="253800" cy="223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5600" y="2895120"/>
              <a:ext cx="172440" cy="162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0800" y="2799360"/>
              <a:ext cx="114840" cy="212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71800" y="2857680"/>
              <a:ext cx="287640" cy="1886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44600" y="3890520"/>
              <a:ext cx="243360" cy="2818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14200" y="3786840"/>
              <a:ext cx="243360" cy="244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56960" y="2916360"/>
              <a:ext cx="287640" cy="353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1800" y="2706120"/>
              <a:ext cx="819000" cy="96336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0360" y="3597840"/>
              <a:ext cx="473400" cy="2340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6520" y="3669480"/>
              <a:ext cx="217080" cy="4204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3160" y="3669480"/>
              <a:ext cx="334800" cy="3031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96520" y="3129120"/>
              <a:ext cx="159480" cy="186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995640" y="4365720"/>
            <a:ext cx="1944360" cy="2349000"/>
            <a:chOff x="3995640" y="4365720"/>
            <a:chExt cx="1944360" cy="2349000"/>
          </a:xfrm>
        </p:grpSpPr>
        <p:sp>
          <p:nvSpPr>
            <p:cNvPr id="337" name=""/>
            <p:cNvSpPr/>
            <p:nvPr/>
          </p:nvSpPr>
          <p:spPr>
            <a:xfrm>
              <a:off x="4092120" y="4838400"/>
              <a:ext cx="187920" cy="12348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13000" y="4861800"/>
              <a:ext cx="199440" cy="10728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1760" y="5224320"/>
              <a:ext cx="398160" cy="35928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03200" y="4365720"/>
              <a:ext cx="1936800" cy="234900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1840" y="4401720"/>
              <a:ext cx="94320" cy="1450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4440" y="4853520"/>
              <a:ext cx="428760" cy="49932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0720" y="5308560"/>
              <a:ext cx="284040" cy="28044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95640" y="4907880"/>
              <a:ext cx="64440" cy="39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6480" y="5753880"/>
              <a:ext cx="39960" cy="18936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9760" y="5118840"/>
              <a:ext cx="24480" cy="23040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00040" y="4670280"/>
              <a:ext cx="17424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040" y="4670280"/>
              <a:ext cx="17424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00040" y="4741200"/>
              <a:ext cx="75600" cy="428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9600" y="4668840"/>
              <a:ext cx="17460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9600" y="4668840"/>
              <a:ext cx="174600" cy="1170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71680" y="4741200"/>
              <a:ext cx="75960" cy="428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5640" y="4640760"/>
              <a:ext cx="232920" cy="691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75640" y="4640760"/>
              <a:ext cx="232920" cy="6912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5200" y="4647600"/>
              <a:ext cx="124920" cy="493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4645440"/>
              <a:ext cx="124920" cy="511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976400" cy="208944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0" y="2852640"/>
            <a:ext cx="1561680" cy="2792520"/>
            <a:chOff x="0" y="2852640"/>
            <a:chExt cx="1561680" cy="2792520"/>
          </a:xfrm>
        </p:grpSpPr>
        <p:sp>
          <p:nvSpPr>
            <p:cNvPr id="360" name=""/>
            <p:cNvSpPr/>
            <p:nvPr/>
          </p:nvSpPr>
          <p:spPr>
            <a:xfrm flipH="1">
              <a:off x="509400" y="2852640"/>
              <a:ext cx="388440" cy="38736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228" y="42"/>
                  </a:moveTo>
                  <a:lnTo>
                    <a:pt x="234" y="52"/>
                  </a:lnTo>
                  <a:lnTo>
                    <a:pt x="239" y="64"/>
                  </a:lnTo>
                  <a:lnTo>
                    <a:pt x="242" y="76"/>
                  </a:lnTo>
                  <a:lnTo>
                    <a:pt x="244" y="88"/>
                  </a:lnTo>
                  <a:lnTo>
                    <a:pt x="242" y="103"/>
                  </a:lnTo>
                  <a:lnTo>
                    <a:pt x="241" y="116"/>
                  </a:lnTo>
                  <a:lnTo>
                    <a:pt x="238" y="131"/>
                  </a:lnTo>
                  <a:lnTo>
                    <a:pt x="234" y="158"/>
                  </a:lnTo>
                  <a:lnTo>
                    <a:pt x="221" y="228"/>
                  </a:lnTo>
                  <a:lnTo>
                    <a:pt x="197" y="243"/>
                  </a:lnTo>
                  <a:lnTo>
                    <a:pt x="184" y="157"/>
                  </a:lnTo>
                  <a:lnTo>
                    <a:pt x="140" y="139"/>
                  </a:lnTo>
                  <a:lnTo>
                    <a:pt x="45" y="126"/>
                  </a:lnTo>
                  <a:lnTo>
                    <a:pt x="18" y="121"/>
                  </a:lnTo>
                  <a:lnTo>
                    <a:pt x="9" y="122"/>
                  </a:lnTo>
                  <a:lnTo>
                    <a:pt x="5" y="120"/>
                  </a:lnTo>
                  <a:lnTo>
                    <a:pt x="2" y="117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3" y="78"/>
                  </a:lnTo>
                  <a:lnTo>
                    <a:pt x="7" y="67"/>
                  </a:lnTo>
                  <a:lnTo>
                    <a:pt x="12" y="55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21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0" y="7"/>
                  </a:lnTo>
                  <a:lnTo>
                    <a:pt x="112" y="1"/>
                  </a:lnTo>
                  <a:lnTo>
                    <a:pt x="136" y="0"/>
                  </a:lnTo>
                  <a:lnTo>
                    <a:pt x="160" y="3"/>
                  </a:lnTo>
                  <a:lnTo>
                    <a:pt x="179" y="8"/>
                  </a:lnTo>
                  <a:lnTo>
                    <a:pt x="198" y="16"/>
                  </a:lnTo>
                  <a:lnTo>
                    <a:pt x="217" y="28"/>
                  </a:lnTo>
                  <a:lnTo>
                    <a:pt x="228" y="42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81040" y="3301920"/>
              <a:ext cx="20304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19" y="0"/>
                  </a:moveTo>
                  <a:lnTo>
                    <a:pt x="119" y="13"/>
                  </a:lnTo>
                  <a:lnTo>
                    <a:pt x="121" y="26"/>
                  </a:lnTo>
                  <a:lnTo>
                    <a:pt x="124" y="38"/>
                  </a:lnTo>
                  <a:lnTo>
                    <a:pt x="127" y="48"/>
                  </a:lnTo>
                  <a:lnTo>
                    <a:pt x="118" y="50"/>
                  </a:lnTo>
                  <a:lnTo>
                    <a:pt x="110" y="52"/>
                  </a:lnTo>
                  <a:lnTo>
                    <a:pt x="97" y="54"/>
                  </a:lnTo>
                  <a:lnTo>
                    <a:pt x="87" y="56"/>
                  </a:lnTo>
                  <a:lnTo>
                    <a:pt x="14" y="108"/>
                  </a:lnTo>
                  <a:lnTo>
                    <a:pt x="0" y="44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38" y="37"/>
                  </a:lnTo>
                  <a:lnTo>
                    <a:pt x="47" y="36"/>
                  </a:lnTo>
                  <a:lnTo>
                    <a:pt x="57" y="35"/>
                  </a:lnTo>
                  <a:lnTo>
                    <a:pt x="63" y="33"/>
                  </a:lnTo>
                  <a:lnTo>
                    <a:pt x="88" y="22"/>
                  </a:lnTo>
                  <a:lnTo>
                    <a:pt x="103" y="13"/>
                  </a:lnTo>
                  <a:lnTo>
                    <a:pt x="113" y="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24160" y="2967120"/>
              <a:ext cx="352080" cy="39996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78" y="82"/>
                  </a:moveTo>
                  <a:lnTo>
                    <a:pt x="187" y="98"/>
                  </a:lnTo>
                  <a:lnTo>
                    <a:pt x="195" y="85"/>
                  </a:lnTo>
                  <a:lnTo>
                    <a:pt x="204" y="75"/>
                  </a:lnTo>
                  <a:lnTo>
                    <a:pt x="214" y="80"/>
                  </a:lnTo>
                  <a:lnTo>
                    <a:pt x="221" y="89"/>
                  </a:lnTo>
                  <a:lnTo>
                    <a:pt x="221" y="104"/>
                  </a:lnTo>
                  <a:lnTo>
                    <a:pt x="216" y="125"/>
                  </a:lnTo>
                  <a:lnTo>
                    <a:pt x="209" y="135"/>
                  </a:lnTo>
                  <a:lnTo>
                    <a:pt x="207" y="138"/>
                  </a:lnTo>
                  <a:lnTo>
                    <a:pt x="196" y="149"/>
                  </a:lnTo>
                  <a:lnTo>
                    <a:pt x="197" y="152"/>
                  </a:lnTo>
                  <a:lnTo>
                    <a:pt x="195" y="169"/>
                  </a:lnTo>
                  <a:lnTo>
                    <a:pt x="185" y="193"/>
                  </a:lnTo>
                  <a:lnTo>
                    <a:pt x="177" y="207"/>
                  </a:lnTo>
                  <a:lnTo>
                    <a:pt x="154" y="226"/>
                  </a:lnTo>
                  <a:lnTo>
                    <a:pt x="131" y="243"/>
                  </a:lnTo>
                  <a:lnTo>
                    <a:pt x="101" y="251"/>
                  </a:lnTo>
                  <a:lnTo>
                    <a:pt x="72" y="249"/>
                  </a:lnTo>
                  <a:lnTo>
                    <a:pt x="52" y="240"/>
                  </a:lnTo>
                  <a:lnTo>
                    <a:pt x="41" y="230"/>
                  </a:lnTo>
                  <a:lnTo>
                    <a:pt x="33" y="223"/>
                  </a:lnTo>
                  <a:lnTo>
                    <a:pt x="30" y="211"/>
                  </a:lnTo>
                  <a:lnTo>
                    <a:pt x="29" y="196"/>
                  </a:lnTo>
                  <a:lnTo>
                    <a:pt x="20" y="168"/>
                  </a:lnTo>
                  <a:lnTo>
                    <a:pt x="12" y="143"/>
                  </a:lnTo>
                  <a:lnTo>
                    <a:pt x="6" y="123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2" y="59"/>
                  </a:lnTo>
                  <a:lnTo>
                    <a:pt x="7" y="44"/>
                  </a:lnTo>
                  <a:lnTo>
                    <a:pt x="20" y="44"/>
                  </a:lnTo>
                  <a:lnTo>
                    <a:pt x="25" y="35"/>
                  </a:lnTo>
                  <a:lnTo>
                    <a:pt x="29" y="32"/>
                  </a:lnTo>
                  <a:lnTo>
                    <a:pt x="36" y="20"/>
                  </a:lnTo>
                  <a:lnTo>
                    <a:pt x="34" y="37"/>
                  </a:lnTo>
                  <a:lnTo>
                    <a:pt x="37" y="43"/>
                  </a:lnTo>
                  <a:lnTo>
                    <a:pt x="45" y="39"/>
                  </a:lnTo>
                  <a:lnTo>
                    <a:pt x="56" y="31"/>
                  </a:lnTo>
                  <a:lnTo>
                    <a:pt x="55" y="41"/>
                  </a:lnTo>
                  <a:lnTo>
                    <a:pt x="58" y="50"/>
                  </a:lnTo>
                  <a:lnTo>
                    <a:pt x="73" y="39"/>
                  </a:lnTo>
                  <a:lnTo>
                    <a:pt x="78" y="46"/>
                  </a:lnTo>
                  <a:lnTo>
                    <a:pt x="82" y="46"/>
                  </a:lnTo>
                  <a:lnTo>
                    <a:pt x="95" y="36"/>
                  </a:lnTo>
                  <a:lnTo>
                    <a:pt x="115" y="11"/>
                  </a:lnTo>
                  <a:lnTo>
                    <a:pt x="143" y="0"/>
                  </a:lnTo>
                  <a:lnTo>
                    <a:pt x="154" y="8"/>
                  </a:lnTo>
                  <a:lnTo>
                    <a:pt x="162" y="17"/>
                  </a:lnTo>
                  <a:lnTo>
                    <a:pt x="160" y="35"/>
                  </a:lnTo>
                  <a:lnTo>
                    <a:pt x="166" y="68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8400" y="4044960"/>
              <a:ext cx="948960" cy="1001880"/>
            </a:xfrm>
            <a:custGeom>
              <a:avLst/>
              <a:gdLst/>
              <a:ahLst/>
              <a:rect l="l" t="t" r="r" b="b"/>
              <a:pathLst>
                <a:path w="598" h="631">
                  <a:moveTo>
                    <a:pt x="484" y="10"/>
                  </a:moveTo>
                  <a:lnTo>
                    <a:pt x="489" y="84"/>
                  </a:lnTo>
                  <a:lnTo>
                    <a:pt x="504" y="100"/>
                  </a:lnTo>
                  <a:lnTo>
                    <a:pt x="524" y="122"/>
                  </a:lnTo>
                  <a:lnTo>
                    <a:pt x="528" y="157"/>
                  </a:lnTo>
                  <a:lnTo>
                    <a:pt x="532" y="222"/>
                  </a:lnTo>
                  <a:lnTo>
                    <a:pt x="533" y="267"/>
                  </a:lnTo>
                  <a:lnTo>
                    <a:pt x="537" y="330"/>
                  </a:lnTo>
                  <a:lnTo>
                    <a:pt x="533" y="423"/>
                  </a:lnTo>
                  <a:lnTo>
                    <a:pt x="545" y="485"/>
                  </a:lnTo>
                  <a:lnTo>
                    <a:pt x="554" y="514"/>
                  </a:lnTo>
                  <a:lnTo>
                    <a:pt x="568" y="539"/>
                  </a:lnTo>
                  <a:lnTo>
                    <a:pt x="597" y="595"/>
                  </a:lnTo>
                  <a:lnTo>
                    <a:pt x="472" y="630"/>
                  </a:lnTo>
                  <a:lnTo>
                    <a:pt x="437" y="593"/>
                  </a:lnTo>
                  <a:lnTo>
                    <a:pt x="428" y="582"/>
                  </a:lnTo>
                  <a:lnTo>
                    <a:pt x="405" y="562"/>
                  </a:lnTo>
                  <a:lnTo>
                    <a:pt x="388" y="540"/>
                  </a:lnTo>
                  <a:lnTo>
                    <a:pt x="376" y="515"/>
                  </a:lnTo>
                  <a:lnTo>
                    <a:pt x="370" y="493"/>
                  </a:lnTo>
                  <a:lnTo>
                    <a:pt x="365" y="476"/>
                  </a:lnTo>
                  <a:lnTo>
                    <a:pt x="360" y="452"/>
                  </a:lnTo>
                  <a:lnTo>
                    <a:pt x="351" y="416"/>
                  </a:lnTo>
                  <a:lnTo>
                    <a:pt x="340" y="366"/>
                  </a:lnTo>
                  <a:lnTo>
                    <a:pt x="331" y="313"/>
                  </a:lnTo>
                  <a:lnTo>
                    <a:pt x="330" y="300"/>
                  </a:lnTo>
                  <a:lnTo>
                    <a:pt x="312" y="276"/>
                  </a:lnTo>
                  <a:lnTo>
                    <a:pt x="330" y="300"/>
                  </a:lnTo>
                  <a:lnTo>
                    <a:pt x="327" y="319"/>
                  </a:lnTo>
                  <a:lnTo>
                    <a:pt x="283" y="370"/>
                  </a:lnTo>
                  <a:lnTo>
                    <a:pt x="210" y="428"/>
                  </a:lnTo>
                  <a:lnTo>
                    <a:pt x="166" y="462"/>
                  </a:lnTo>
                  <a:lnTo>
                    <a:pt x="145" y="493"/>
                  </a:lnTo>
                  <a:lnTo>
                    <a:pt x="148" y="554"/>
                  </a:lnTo>
                  <a:lnTo>
                    <a:pt x="135" y="610"/>
                  </a:lnTo>
                  <a:lnTo>
                    <a:pt x="20" y="578"/>
                  </a:lnTo>
                  <a:lnTo>
                    <a:pt x="0" y="521"/>
                  </a:lnTo>
                  <a:lnTo>
                    <a:pt x="3" y="481"/>
                  </a:lnTo>
                  <a:lnTo>
                    <a:pt x="4" y="442"/>
                  </a:lnTo>
                  <a:lnTo>
                    <a:pt x="6" y="421"/>
                  </a:lnTo>
                  <a:lnTo>
                    <a:pt x="14" y="397"/>
                  </a:lnTo>
                  <a:lnTo>
                    <a:pt x="28" y="371"/>
                  </a:lnTo>
                  <a:lnTo>
                    <a:pt x="51" y="346"/>
                  </a:lnTo>
                  <a:lnTo>
                    <a:pt x="78" y="312"/>
                  </a:lnTo>
                  <a:lnTo>
                    <a:pt x="131" y="236"/>
                  </a:lnTo>
                  <a:lnTo>
                    <a:pt x="162" y="193"/>
                  </a:lnTo>
                  <a:lnTo>
                    <a:pt x="193" y="147"/>
                  </a:lnTo>
                  <a:lnTo>
                    <a:pt x="229" y="94"/>
                  </a:lnTo>
                  <a:lnTo>
                    <a:pt x="260" y="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217520" y="311472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29" y="55"/>
                  </a:moveTo>
                  <a:lnTo>
                    <a:pt x="10" y="55"/>
                  </a:lnTo>
                  <a:lnTo>
                    <a:pt x="0" y="53"/>
                  </a:lnTo>
                  <a:lnTo>
                    <a:pt x="9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4" y="12"/>
                  </a:lnTo>
                  <a:lnTo>
                    <a:pt x="38" y="21"/>
                  </a:lnTo>
                  <a:lnTo>
                    <a:pt x="39" y="31"/>
                  </a:lnTo>
                  <a:lnTo>
                    <a:pt x="37" y="42"/>
                  </a:lnTo>
                  <a:lnTo>
                    <a:pt x="33" y="5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71520" y="3367080"/>
              <a:ext cx="499680" cy="873000"/>
            </a:xfrm>
            <a:custGeom>
              <a:avLst/>
              <a:gdLst/>
              <a:ahLst/>
              <a:rect l="l" t="t" r="r" b="b"/>
              <a:pathLst>
                <a:path w="315" h="550">
                  <a:moveTo>
                    <a:pt x="190" y="6"/>
                  </a:moveTo>
                  <a:lnTo>
                    <a:pt x="205" y="4"/>
                  </a:lnTo>
                  <a:lnTo>
                    <a:pt x="222" y="0"/>
                  </a:lnTo>
                  <a:lnTo>
                    <a:pt x="234" y="1"/>
                  </a:lnTo>
                  <a:lnTo>
                    <a:pt x="254" y="6"/>
                  </a:lnTo>
                  <a:lnTo>
                    <a:pt x="285" y="18"/>
                  </a:lnTo>
                  <a:lnTo>
                    <a:pt x="314" y="32"/>
                  </a:lnTo>
                  <a:lnTo>
                    <a:pt x="266" y="271"/>
                  </a:lnTo>
                  <a:lnTo>
                    <a:pt x="273" y="282"/>
                  </a:lnTo>
                  <a:lnTo>
                    <a:pt x="270" y="291"/>
                  </a:lnTo>
                  <a:lnTo>
                    <a:pt x="261" y="318"/>
                  </a:lnTo>
                  <a:lnTo>
                    <a:pt x="254" y="346"/>
                  </a:lnTo>
                  <a:lnTo>
                    <a:pt x="246" y="392"/>
                  </a:lnTo>
                  <a:lnTo>
                    <a:pt x="243" y="430"/>
                  </a:lnTo>
                  <a:lnTo>
                    <a:pt x="243" y="443"/>
                  </a:lnTo>
                  <a:lnTo>
                    <a:pt x="246" y="455"/>
                  </a:lnTo>
                  <a:lnTo>
                    <a:pt x="247" y="460"/>
                  </a:lnTo>
                  <a:lnTo>
                    <a:pt x="252" y="474"/>
                  </a:lnTo>
                  <a:lnTo>
                    <a:pt x="252" y="492"/>
                  </a:lnTo>
                  <a:lnTo>
                    <a:pt x="250" y="501"/>
                  </a:lnTo>
                  <a:lnTo>
                    <a:pt x="247" y="505"/>
                  </a:lnTo>
                  <a:lnTo>
                    <a:pt x="239" y="513"/>
                  </a:lnTo>
                  <a:lnTo>
                    <a:pt x="234" y="517"/>
                  </a:lnTo>
                  <a:lnTo>
                    <a:pt x="225" y="520"/>
                  </a:lnTo>
                  <a:lnTo>
                    <a:pt x="219" y="504"/>
                  </a:lnTo>
                  <a:lnTo>
                    <a:pt x="225" y="520"/>
                  </a:lnTo>
                  <a:lnTo>
                    <a:pt x="224" y="520"/>
                  </a:lnTo>
                  <a:lnTo>
                    <a:pt x="219" y="522"/>
                  </a:lnTo>
                  <a:lnTo>
                    <a:pt x="187" y="526"/>
                  </a:lnTo>
                  <a:lnTo>
                    <a:pt x="157" y="528"/>
                  </a:lnTo>
                  <a:lnTo>
                    <a:pt x="129" y="527"/>
                  </a:lnTo>
                  <a:lnTo>
                    <a:pt x="100" y="530"/>
                  </a:lnTo>
                  <a:lnTo>
                    <a:pt x="81" y="536"/>
                  </a:lnTo>
                  <a:lnTo>
                    <a:pt x="63" y="546"/>
                  </a:lnTo>
                  <a:lnTo>
                    <a:pt x="56" y="549"/>
                  </a:lnTo>
                  <a:lnTo>
                    <a:pt x="51" y="549"/>
                  </a:lnTo>
                  <a:lnTo>
                    <a:pt x="48" y="546"/>
                  </a:lnTo>
                  <a:lnTo>
                    <a:pt x="47" y="536"/>
                  </a:lnTo>
                  <a:lnTo>
                    <a:pt x="48" y="522"/>
                  </a:lnTo>
                  <a:lnTo>
                    <a:pt x="49" y="507"/>
                  </a:lnTo>
                  <a:lnTo>
                    <a:pt x="48" y="496"/>
                  </a:lnTo>
                  <a:lnTo>
                    <a:pt x="45" y="483"/>
                  </a:lnTo>
                  <a:lnTo>
                    <a:pt x="41" y="468"/>
                  </a:lnTo>
                  <a:lnTo>
                    <a:pt x="36" y="454"/>
                  </a:lnTo>
                  <a:lnTo>
                    <a:pt x="10" y="442"/>
                  </a:lnTo>
                  <a:lnTo>
                    <a:pt x="0" y="142"/>
                  </a:lnTo>
                  <a:lnTo>
                    <a:pt x="31" y="146"/>
                  </a:lnTo>
                  <a:lnTo>
                    <a:pt x="34" y="137"/>
                  </a:lnTo>
                  <a:lnTo>
                    <a:pt x="80" y="68"/>
                  </a:lnTo>
                  <a:lnTo>
                    <a:pt x="92" y="58"/>
                  </a:lnTo>
                  <a:lnTo>
                    <a:pt x="142" y="15"/>
                  </a:lnTo>
                  <a:lnTo>
                    <a:pt x="147" y="14"/>
                  </a:lnTo>
                  <a:lnTo>
                    <a:pt x="161" y="12"/>
                  </a:lnTo>
                  <a:lnTo>
                    <a:pt x="176" y="9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98480" y="3368880"/>
              <a:ext cx="232920" cy="877680"/>
            </a:xfrm>
            <a:custGeom>
              <a:avLst/>
              <a:gdLst/>
              <a:ahLst/>
              <a:rect l="l" t="t" r="r" b="b"/>
              <a:pathLst>
                <a:path w="147" h="553">
                  <a:moveTo>
                    <a:pt x="146" y="0"/>
                  </a:moveTo>
                  <a:lnTo>
                    <a:pt x="132" y="145"/>
                  </a:lnTo>
                  <a:lnTo>
                    <a:pt x="124" y="158"/>
                  </a:lnTo>
                  <a:lnTo>
                    <a:pt x="119" y="173"/>
                  </a:lnTo>
                  <a:lnTo>
                    <a:pt x="116" y="196"/>
                  </a:lnTo>
                  <a:lnTo>
                    <a:pt x="118" y="230"/>
                  </a:lnTo>
                  <a:lnTo>
                    <a:pt x="120" y="279"/>
                  </a:lnTo>
                  <a:lnTo>
                    <a:pt x="123" y="345"/>
                  </a:lnTo>
                  <a:lnTo>
                    <a:pt x="126" y="387"/>
                  </a:lnTo>
                  <a:lnTo>
                    <a:pt x="130" y="419"/>
                  </a:lnTo>
                  <a:lnTo>
                    <a:pt x="137" y="453"/>
                  </a:lnTo>
                  <a:lnTo>
                    <a:pt x="136" y="462"/>
                  </a:lnTo>
                  <a:lnTo>
                    <a:pt x="135" y="471"/>
                  </a:lnTo>
                  <a:lnTo>
                    <a:pt x="131" y="496"/>
                  </a:lnTo>
                  <a:lnTo>
                    <a:pt x="125" y="516"/>
                  </a:lnTo>
                  <a:lnTo>
                    <a:pt x="121" y="530"/>
                  </a:lnTo>
                  <a:lnTo>
                    <a:pt x="116" y="540"/>
                  </a:lnTo>
                  <a:lnTo>
                    <a:pt x="108" y="549"/>
                  </a:lnTo>
                  <a:lnTo>
                    <a:pt x="104" y="551"/>
                  </a:lnTo>
                  <a:lnTo>
                    <a:pt x="96" y="552"/>
                  </a:lnTo>
                  <a:lnTo>
                    <a:pt x="91" y="550"/>
                  </a:lnTo>
                  <a:lnTo>
                    <a:pt x="73" y="539"/>
                  </a:lnTo>
                  <a:lnTo>
                    <a:pt x="38" y="518"/>
                  </a:lnTo>
                  <a:lnTo>
                    <a:pt x="42" y="509"/>
                  </a:lnTo>
                  <a:lnTo>
                    <a:pt x="46" y="501"/>
                  </a:lnTo>
                  <a:lnTo>
                    <a:pt x="53" y="484"/>
                  </a:lnTo>
                  <a:lnTo>
                    <a:pt x="57" y="466"/>
                  </a:lnTo>
                  <a:lnTo>
                    <a:pt x="59" y="448"/>
                  </a:lnTo>
                  <a:lnTo>
                    <a:pt x="59" y="407"/>
                  </a:lnTo>
                  <a:lnTo>
                    <a:pt x="56" y="355"/>
                  </a:lnTo>
                  <a:lnTo>
                    <a:pt x="52" y="317"/>
                  </a:lnTo>
                  <a:lnTo>
                    <a:pt x="0" y="171"/>
                  </a:lnTo>
                  <a:lnTo>
                    <a:pt x="24" y="37"/>
                  </a:lnTo>
                  <a:lnTo>
                    <a:pt x="75" y="18"/>
                  </a:lnTo>
                  <a:lnTo>
                    <a:pt x="80" y="14"/>
                  </a:lnTo>
                  <a:lnTo>
                    <a:pt x="93" y="8"/>
                  </a:lnTo>
                  <a:lnTo>
                    <a:pt x="113" y="3"/>
                  </a:lnTo>
                  <a:lnTo>
                    <a:pt x="130" y="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58520" y="3368880"/>
              <a:ext cx="9324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9" y="6"/>
                  </a:moveTo>
                  <a:lnTo>
                    <a:pt x="53" y="14"/>
                  </a:lnTo>
                  <a:lnTo>
                    <a:pt x="56" y="24"/>
                  </a:lnTo>
                  <a:lnTo>
                    <a:pt x="57" y="33"/>
                  </a:lnTo>
                  <a:lnTo>
                    <a:pt x="58" y="43"/>
                  </a:lnTo>
                  <a:lnTo>
                    <a:pt x="57" y="54"/>
                  </a:lnTo>
                  <a:lnTo>
                    <a:pt x="57" y="66"/>
                  </a:lnTo>
                  <a:lnTo>
                    <a:pt x="34" y="64"/>
                  </a:lnTo>
                  <a:lnTo>
                    <a:pt x="13" y="63"/>
                  </a:lnTo>
                  <a:lnTo>
                    <a:pt x="0" y="64"/>
                  </a:lnTo>
                  <a:lnTo>
                    <a:pt x="10" y="48"/>
                  </a:lnTo>
                  <a:lnTo>
                    <a:pt x="19" y="33"/>
                  </a:lnTo>
                  <a:lnTo>
                    <a:pt x="24" y="22"/>
                  </a:lnTo>
                  <a:lnTo>
                    <a:pt x="26" y="17"/>
                  </a:lnTo>
                  <a:lnTo>
                    <a:pt x="31" y="6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44400" y="3390840"/>
              <a:ext cx="11700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27" y="51"/>
                  </a:moveTo>
                  <a:lnTo>
                    <a:pt x="13" y="51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18" y="35"/>
                  </a:lnTo>
                  <a:lnTo>
                    <a:pt x="34" y="22"/>
                  </a:lnTo>
                  <a:lnTo>
                    <a:pt x="44" y="15"/>
                  </a:lnTo>
                  <a:lnTo>
                    <a:pt x="56" y="7"/>
                  </a:lnTo>
                  <a:lnTo>
                    <a:pt x="67" y="2"/>
                  </a:lnTo>
                  <a:lnTo>
                    <a:pt x="73" y="0"/>
                  </a:lnTo>
                  <a:lnTo>
                    <a:pt x="70" y="7"/>
                  </a:lnTo>
                  <a:lnTo>
                    <a:pt x="64" y="20"/>
                  </a:lnTo>
                  <a:lnTo>
                    <a:pt x="60" y="26"/>
                  </a:lnTo>
                  <a:lnTo>
                    <a:pt x="56" y="32"/>
                  </a:lnTo>
                  <a:lnTo>
                    <a:pt x="48" y="43"/>
                  </a:lnTo>
                  <a:lnTo>
                    <a:pt x="41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17480" y="3468600"/>
              <a:ext cx="11556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72" y="2"/>
                  </a:moveTo>
                  <a:lnTo>
                    <a:pt x="69" y="5"/>
                  </a:lnTo>
                  <a:lnTo>
                    <a:pt x="64" y="11"/>
                  </a:lnTo>
                  <a:lnTo>
                    <a:pt x="56" y="19"/>
                  </a:lnTo>
                  <a:lnTo>
                    <a:pt x="47" y="27"/>
                  </a:lnTo>
                  <a:lnTo>
                    <a:pt x="37" y="36"/>
                  </a:lnTo>
                  <a:lnTo>
                    <a:pt x="28" y="47"/>
                  </a:lnTo>
                  <a:lnTo>
                    <a:pt x="16" y="66"/>
                  </a:lnTo>
                  <a:lnTo>
                    <a:pt x="7" y="82"/>
                  </a:lnTo>
                  <a:lnTo>
                    <a:pt x="3" y="60"/>
                  </a:lnTo>
                  <a:lnTo>
                    <a:pt x="1" y="39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3" y="2"/>
                  </a:lnTo>
                  <a:lnTo>
                    <a:pt x="45" y="3"/>
                  </a:lnTo>
                  <a:lnTo>
                    <a:pt x="58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41200" y="3417840"/>
              <a:ext cx="348840" cy="439920"/>
            </a:xfrm>
            <a:custGeom>
              <a:avLst/>
              <a:gdLst/>
              <a:ahLst/>
              <a:rect l="l" t="t" r="r" b="b"/>
              <a:pathLst>
                <a:path w="220" h="277">
                  <a:moveTo>
                    <a:pt x="2" y="154"/>
                  </a:moveTo>
                  <a:lnTo>
                    <a:pt x="0" y="138"/>
                  </a:lnTo>
                  <a:lnTo>
                    <a:pt x="1" y="118"/>
                  </a:lnTo>
                  <a:lnTo>
                    <a:pt x="3" y="103"/>
                  </a:lnTo>
                  <a:lnTo>
                    <a:pt x="8" y="91"/>
                  </a:lnTo>
                  <a:lnTo>
                    <a:pt x="15" y="79"/>
                  </a:lnTo>
                  <a:lnTo>
                    <a:pt x="23" y="67"/>
                  </a:lnTo>
                  <a:lnTo>
                    <a:pt x="37" y="52"/>
                  </a:lnTo>
                  <a:lnTo>
                    <a:pt x="54" y="40"/>
                  </a:lnTo>
                  <a:lnTo>
                    <a:pt x="73" y="28"/>
                  </a:lnTo>
                  <a:lnTo>
                    <a:pt x="96" y="17"/>
                  </a:lnTo>
                  <a:lnTo>
                    <a:pt x="120" y="6"/>
                  </a:lnTo>
                  <a:lnTo>
                    <a:pt x="137" y="0"/>
                  </a:lnTo>
                  <a:lnTo>
                    <a:pt x="151" y="6"/>
                  </a:lnTo>
                  <a:lnTo>
                    <a:pt x="163" y="13"/>
                  </a:lnTo>
                  <a:lnTo>
                    <a:pt x="173" y="22"/>
                  </a:lnTo>
                  <a:lnTo>
                    <a:pt x="182" y="34"/>
                  </a:lnTo>
                  <a:lnTo>
                    <a:pt x="187" y="48"/>
                  </a:lnTo>
                  <a:lnTo>
                    <a:pt x="188" y="71"/>
                  </a:lnTo>
                  <a:lnTo>
                    <a:pt x="188" y="105"/>
                  </a:lnTo>
                  <a:lnTo>
                    <a:pt x="189" y="120"/>
                  </a:lnTo>
                  <a:lnTo>
                    <a:pt x="192" y="135"/>
                  </a:lnTo>
                  <a:lnTo>
                    <a:pt x="219" y="165"/>
                  </a:lnTo>
                  <a:lnTo>
                    <a:pt x="123" y="276"/>
                  </a:lnTo>
                  <a:lnTo>
                    <a:pt x="102" y="258"/>
                  </a:lnTo>
                  <a:lnTo>
                    <a:pt x="98" y="252"/>
                  </a:lnTo>
                  <a:lnTo>
                    <a:pt x="97" y="250"/>
                  </a:lnTo>
                  <a:lnTo>
                    <a:pt x="95" y="247"/>
                  </a:lnTo>
                  <a:lnTo>
                    <a:pt x="94" y="236"/>
                  </a:lnTo>
                  <a:lnTo>
                    <a:pt x="95" y="247"/>
                  </a:lnTo>
                  <a:lnTo>
                    <a:pt x="96" y="250"/>
                  </a:lnTo>
                  <a:lnTo>
                    <a:pt x="93" y="252"/>
                  </a:lnTo>
                  <a:lnTo>
                    <a:pt x="83" y="254"/>
                  </a:lnTo>
                  <a:lnTo>
                    <a:pt x="72" y="252"/>
                  </a:lnTo>
                  <a:lnTo>
                    <a:pt x="66" y="250"/>
                  </a:lnTo>
                  <a:lnTo>
                    <a:pt x="51" y="241"/>
                  </a:lnTo>
                  <a:lnTo>
                    <a:pt x="35" y="227"/>
                  </a:lnTo>
                  <a:lnTo>
                    <a:pt x="18" y="204"/>
                  </a:lnTo>
                  <a:lnTo>
                    <a:pt x="9" y="181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912600" y="3394080"/>
              <a:ext cx="15516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87" y="15"/>
                  </a:moveTo>
                  <a:lnTo>
                    <a:pt x="82" y="30"/>
                  </a:lnTo>
                  <a:lnTo>
                    <a:pt x="74" y="56"/>
                  </a:lnTo>
                  <a:lnTo>
                    <a:pt x="70" y="69"/>
                  </a:lnTo>
                  <a:lnTo>
                    <a:pt x="65" y="81"/>
                  </a:lnTo>
                  <a:lnTo>
                    <a:pt x="57" y="99"/>
                  </a:lnTo>
                  <a:lnTo>
                    <a:pt x="52" y="113"/>
                  </a:lnTo>
                  <a:lnTo>
                    <a:pt x="48" y="129"/>
                  </a:lnTo>
                  <a:lnTo>
                    <a:pt x="47" y="145"/>
                  </a:lnTo>
                  <a:lnTo>
                    <a:pt x="48" y="164"/>
                  </a:lnTo>
                  <a:lnTo>
                    <a:pt x="31" y="164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3" y="126"/>
                  </a:lnTo>
                  <a:lnTo>
                    <a:pt x="0" y="114"/>
                  </a:lnTo>
                  <a:lnTo>
                    <a:pt x="2" y="105"/>
                  </a:lnTo>
                  <a:lnTo>
                    <a:pt x="7" y="96"/>
                  </a:lnTo>
                  <a:lnTo>
                    <a:pt x="17" y="89"/>
                  </a:lnTo>
                  <a:lnTo>
                    <a:pt x="27" y="86"/>
                  </a:lnTo>
                  <a:lnTo>
                    <a:pt x="22" y="80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6" y="4"/>
                  </a:lnTo>
                  <a:lnTo>
                    <a:pt x="80" y="0"/>
                  </a:lnTo>
                  <a:lnTo>
                    <a:pt x="97" y="2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947520" y="3618000"/>
              <a:ext cx="17748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14" y="29"/>
                  </a:moveTo>
                  <a:lnTo>
                    <a:pt x="14" y="25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4" y="12"/>
                  </a:lnTo>
                  <a:lnTo>
                    <a:pt x="71" y="16"/>
                  </a:lnTo>
                  <a:lnTo>
                    <a:pt x="78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6" y="32"/>
                  </a:lnTo>
                  <a:lnTo>
                    <a:pt x="90" y="55"/>
                  </a:lnTo>
                  <a:lnTo>
                    <a:pt x="94" y="78"/>
                  </a:lnTo>
                  <a:lnTo>
                    <a:pt x="99" y="100"/>
                  </a:lnTo>
                  <a:lnTo>
                    <a:pt x="104" y="123"/>
                  </a:lnTo>
                  <a:lnTo>
                    <a:pt x="111" y="161"/>
                  </a:lnTo>
                  <a:lnTo>
                    <a:pt x="102" y="165"/>
                  </a:lnTo>
                  <a:lnTo>
                    <a:pt x="101" y="145"/>
                  </a:lnTo>
                  <a:lnTo>
                    <a:pt x="7" y="79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20680" y="3632400"/>
              <a:ext cx="203040" cy="26640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11" y="74"/>
                  </a:moveTo>
                  <a:lnTo>
                    <a:pt x="100" y="94"/>
                  </a:lnTo>
                  <a:lnTo>
                    <a:pt x="91" y="107"/>
                  </a:lnTo>
                  <a:lnTo>
                    <a:pt x="85" y="115"/>
                  </a:lnTo>
                  <a:lnTo>
                    <a:pt x="80" y="120"/>
                  </a:lnTo>
                  <a:lnTo>
                    <a:pt x="85" y="115"/>
                  </a:lnTo>
                  <a:lnTo>
                    <a:pt x="91" y="107"/>
                  </a:lnTo>
                  <a:lnTo>
                    <a:pt x="100" y="94"/>
                  </a:lnTo>
                  <a:lnTo>
                    <a:pt x="111" y="74"/>
                  </a:lnTo>
                  <a:lnTo>
                    <a:pt x="119" y="79"/>
                  </a:lnTo>
                  <a:lnTo>
                    <a:pt x="125" y="88"/>
                  </a:lnTo>
                  <a:lnTo>
                    <a:pt x="127" y="94"/>
                  </a:lnTo>
                  <a:lnTo>
                    <a:pt x="126" y="105"/>
                  </a:lnTo>
                  <a:lnTo>
                    <a:pt x="123" y="112"/>
                  </a:lnTo>
                  <a:lnTo>
                    <a:pt x="116" y="122"/>
                  </a:lnTo>
                  <a:lnTo>
                    <a:pt x="104" y="134"/>
                  </a:lnTo>
                  <a:lnTo>
                    <a:pt x="87" y="147"/>
                  </a:lnTo>
                  <a:lnTo>
                    <a:pt x="63" y="160"/>
                  </a:lnTo>
                  <a:lnTo>
                    <a:pt x="49" y="165"/>
                  </a:lnTo>
                  <a:lnTo>
                    <a:pt x="33" y="167"/>
                  </a:lnTo>
                  <a:lnTo>
                    <a:pt x="23" y="166"/>
                  </a:lnTo>
                  <a:lnTo>
                    <a:pt x="15" y="162"/>
                  </a:lnTo>
                  <a:lnTo>
                    <a:pt x="8" y="154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8" y="124"/>
                  </a:lnTo>
                  <a:lnTo>
                    <a:pt x="15" y="121"/>
                  </a:lnTo>
                  <a:lnTo>
                    <a:pt x="32" y="113"/>
                  </a:lnTo>
                  <a:lnTo>
                    <a:pt x="42" y="106"/>
                  </a:lnTo>
                  <a:lnTo>
                    <a:pt x="54" y="95"/>
                  </a:lnTo>
                  <a:lnTo>
                    <a:pt x="66" y="81"/>
                  </a:lnTo>
                  <a:lnTo>
                    <a:pt x="77" y="65"/>
                  </a:lnTo>
                  <a:lnTo>
                    <a:pt x="86" y="45"/>
                  </a:lnTo>
                  <a:lnTo>
                    <a:pt x="91" y="29"/>
                  </a:lnTo>
                  <a:lnTo>
                    <a:pt x="91" y="13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5" y="5"/>
                  </a:lnTo>
                  <a:lnTo>
                    <a:pt x="115" y="13"/>
                  </a:lnTo>
                  <a:lnTo>
                    <a:pt x="123" y="24"/>
                  </a:lnTo>
                  <a:lnTo>
                    <a:pt x="127" y="35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68120" y="3808440"/>
              <a:ext cx="409320" cy="690480"/>
            </a:xfrm>
            <a:custGeom>
              <a:avLst/>
              <a:gdLst/>
              <a:ahLst/>
              <a:rect l="l" t="t" r="r" b="b"/>
              <a:pathLst>
                <a:path w="258" h="435">
                  <a:moveTo>
                    <a:pt x="251" y="63"/>
                  </a:moveTo>
                  <a:lnTo>
                    <a:pt x="254" y="81"/>
                  </a:lnTo>
                  <a:lnTo>
                    <a:pt x="257" y="108"/>
                  </a:lnTo>
                  <a:lnTo>
                    <a:pt x="257" y="121"/>
                  </a:lnTo>
                  <a:lnTo>
                    <a:pt x="254" y="134"/>
                  </a:lnTo>
                  <a:lnTo>
                    <a:pt x="242" y="168"/>
                  </a:lnTo>
                  <a:lnTo>
                    <a:pt x="228" y="208"/>
                  </a:lnTo>
                  <a:lnTo>
                    <a:pt x="213" y="241"/>
                  </a:lnTo>
                  <a:lnTo>
                    <a:pt x="181" y="291"/>
                  </a:lnTo>
                  <a:lnTo>
                    <a:pt x="152" y="327"/>
                  </a:lnTo>
                  <a:lnTo>
                    <a:pt x="131" y="349"/>
                  </a:lnTo>
                  <a:lnTo>
                    <a:pt x="126" y="361"/>
                  </a:lnTo>
                  <a:lnTo>
                    <a:pt x="122" y="384"/>
                  </a:lnTo>
                  <a:lnTo>
                    <a:pt x="120" y="403"/>
                  </a:lnTo>
                  <a:lnTo>
                    <a:pt x="116" y="416"/>
                  </a:lnTo>
                  <a:lnTo>
                    <a:pt x="111" y="421"/>
                  </a:lnTo>
                  <a:lnTo>
                    <a:pt x="110" y="423"/>
                  </a:lnTo>
                  <a:lnTo>
                    <a:pt x="104" y="424"/>
                  </a:lnTo>
                  <a:lnTo>
                    <a:pt x="96" y="420"/>
                  </a:lnTo>
                  <a:lnTo>
                    <a:pt x="93" y="418"/>
                  </a:lnTo>
                  <a:lnTo>
                    <a:pt x="91" y="421"/>
                  </a:lnTo>
                  <a:lnTo>
                    <a:pt x="87" y="429"/>
                  </a:lnTo>
                  <a:lnTo>
                    <a:pt x="83" y="433"/>
                  </a:lnTo>
                  <a:lnTo>
                    <a:pt x="81" y="433"/>
                  </a:lnTo>
                  <a:lnTo>
                    <a:pt x="77" y="429"/>
                  </a:lnTo>
                  <a:lnTo>
                    <a:pt x="72" y="418"/>
                  </a:lnTo>
                  <a:lnTo>
                    <a:pt x="69" y="425"/>
                  </a:lnTo>
                  <a:lnTo>
                    <a:pt x="67" y="429"/>
                  </a:lnTo>
                  <a:lnTo>
                    <a:pt x="62" y="434"/>
                  </a:lnTo>
                  <a:lnTo>
                    <a:pt x="58" y="434"/>
                  </a:lnTo>
                  <a:lnTo>
                    <a:pt x="53" y="427"/>
                  </a:lnTo>
                  <a:lnTo>
                    <a:pt x="48" y="416"/>
                  </a:lnTo>
                  <a:lnTo>
                    <a:pt x="48" y="421"/>
                  </a:lnTo>
                  <a:lnTo>
                    <a:pt x="45" y="427"/>
                  </a:lnTo>
                  <a:lnTo>
                    <a:pt x="36" y="432"/>
                  </a:lnTo>
                  <a:lnTo>
                    <a:pt x="26" y="429"/>
                  </a:lnTo>
                  <a:lnTo>
                    <a:pt x="22" y="421"/>
                  </a:lnTo>
                  <a:lnTo>
                    <a:pt x="23" y="403"/>
                  </a:lnTo>
                  <a:lnTo>
                    <a:pt x="24" y="387"/>
                  </a:lnTo>
                  <a:lnTo>
                    <a:pt x="32" y="363"/>
                  </a:lnTo>
                  <a:lnTo>
                    <a:pt x="29" y="375"/>
                  </a:lnTo>
                  <a:lnTo>
                    <a:pt x="20" y="396"/>
                  </a:lnTo>
                  <a:lnTo>
                    <a:pt x="11" y="412"/>
                  </a:lnTo>
                  <a:lnTo>
                    <a:pt x="3" y="404"/>
                  </a:lnTo>
                  <a:lnTo>
                    <a:pt x="0" y="394"/>
                  </a:lnTo>
                  <a:lnTo>
                    <a:pt x="0" y="382"/>
                  </a:lnTo>
                  <a:lnTo>
                    <a:pt x="4" y="369"/>
                  </a:lnTo>
                  <a:lnTo>
                    <a:pt x="17" y="353"/>
                  </a:lnTo>
                  <a:lnTo>
                    <a:pt x="33" y="339"/>
                  </a:lnTo>
                  <a:lnTo>
                    <a:pt x="53" y="330"/>
                  </a:lnTo>
                  <a:lnTo>
                    <a:pt x="73" y="325"/>
                  </a:lnTo>
                  <a:lnTo>
                    <a:pt x="77" y="320"/>
                  </a:lnTo>
                  <a:lnTo>
                    <a:pt x="91" y="285"/>
                  </a:lnTo>
                  <a:lnTo>
                    <a:pt x="101" y="243"/>
                  </a:lnTo>
                  <a:lnTo>
                    <a:pt x="106" y="206"/>
                  </a:lnTo>
                  <a:lnTo>
                    <a:pt x="114" y="159"/>
                  </a:lnTo>
                  <a:lnTo>
                    <a:pt x="128" y="123"/>
                  </a:lnTo>
                  <a:lnTo>
                    <a:pt x="144" y="96"/>
                  </a:lnTo>
                  <a:lnTo>
                    <a:pt x="146" y="81"/>
                  </a:lnTo>
                  <a:lnTo>
                    <a:pt x="142" y="73"/>
                  </a:lnTo>
                  <a:lnTo>
                    <a:pt x="135" y="65"/>
                  </a:lnTo>
                  <a:lnTo>
                    <a:pt x="125" y="56"/>
                  </a:lnTo>
                  <a:lnTo>
                    <a:pt x="136" y="56"/>
                  </a:lnTo>
                  <a:lnTo>
                    <a:pt x="159" y="50"/>
                  </a:lnTo>
                  <a:lnTo>
                    <a:pt x="188" y="33"/>
                  </a:lnTo>
                  <a:lnTo>
                    <a:pt x="209" y="15"/>
                  </a:lnTo>
                  <a:lnTo>
                    <a:pt x="222" y="0"/>
                  </a:lnTo>
                  <a:lnTo>
                    <a:pt x="231" y="14"/>
                  </a:lnTo>
                  <a:lnTo>
                    <a:pt x="251" y="6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247760" y="2987640"/>
              <a:ext cx="290160" cy="252360"/>
            </a:xfrm>
            <a:custGeom>
              <a:avLst/>
              <a:gdLst/>
              <a:ahLst/>
              <a:rect l="l" t="t" r="r" b="b"/>
              <a:pathLst>
                <a:path w="183" h="159">
                  <a:moveTo>
                    <a:pt x="114" y="57"/>
                  </a:moveTo>
                  <a:lnTo>
                    <a:pt x="121" y="61"/>
                  </a:lnTo>
                  <a:lnTo>
                    <a:pt x="136" y="67"/>
                  </a:lnTo>
                  <a:lnTo>
                    <a:pt x="154" y="73"/>
                  </a:lnTo>
                  <a:lnTo>
                    <a:pt x="162" y="75"/>
                  </a:lnTo>
                  <a:lnTo>
                    <a:pt x="169" y="77"/>
                  </a:lnTo>
                  <a:lnTo>
                    <a:pt x="182" y="80"/>
                  </a:lnTo>
                  <a:lnTo>
                    <a:pt x="175" y="94"/>
                  </a:lnTo>
                  <a:lnTo>
                    <a:pt x="167" y="114"/>
                  </a:lnTo>
                  <a:lnTo>
                    <a:pt x="163" y="127"/>
                  </a:lnTo>
                  <a:lnTo>
                    <a:pt x="160" y="136"/>
                  </a:lnTo>
                  <a:lnTo>
                    <a:pt x="151" y="129"/>
                  </a:lnTo>
                  <a:lnTo>
                    <a:pt x="137" y="123"/>
                  </a:lnTo>
                  <a:lnTo>
                    <a:pt x="119" y="119"/>
                  </a:lnTo>
                  <a:lnTo>
                    <a:pt x="102" y="122"/>
                  </a:lnTo>
                  <a:lnTo>
                    <a:pt x="84" y="129"/>
                  </a:lnTo>
                  <a:lnTo>
                    <a:pt x="59" y="142"/>
                  </a:lnTo>
                  <a:lnTo>
                    <a:pt x="47" y="149"/>
                  </a:lnTo>
                  <a:lnTo>
                    <a:pt x="27" y="155"/>
                  </a:lnTo>
                  <a:lnTo>
                    <a:pt x="13" y="158"/>
                  </a:lnTo>
                  <a:lnTo>
                    <a:pt x="7" y="157"/>
                  </a:lnTo>
                  <a:lnTo>
                    <a:pt x="4" y="155"/>
                  </a:lnTo>
                  <a:lnTo>
                    <a:pt x="4" y="153"/>
                  </a:lnTo>
                  <a:lnTo>
                    <a:pt x="0" y="127"/>
                  </a:lnTo>
                  <a:lnTo>
                    <a:pt x="0" y="100"/>
                  </a:lnTo>
                  <a:lnTo>
                    <a:pt x="3" y="75"/>
                  </a:lnTo>
                  <a:lnTo>
                    <a:pt x="11" y="49"/>
                  </a:lnTo>
                  <a:lnTo>
                    <a:pt x="22" y="26"/>
                  </a:lnTo>
                  <a:lnTo>
                    <a:pt x="38" y="8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3"/>
                  </a:lnTo>
                  <a:lnTo>
                    <a:pt x="72" y="14"/>
                  </a:lnTo>
                  <a:lnTo>
                    <a:pt x="79" y="26"/>
                  </a:lnTo>
                  <a:lnTo>
                    <a:pt x="87" y="37"/>
                  </a:lnTo>
                  <a:lnTo>
                    <a:pt x="101" y="50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284480" y="3179880"/>
              <a:ext cx="236160" cy="642960"/>
            </a:xfrm>
            <a:custGeom>
              <a:avLst/>
              <a:gdLst/>
              <a:ahLst/>
              <a:rect l="l" t="t" r="r" b="b"/>
              <a:pathLst>
                <a:path w="149" h="405">
                  <a:moveTo>
                    <a:pt x="119" y="0"/>
                  </a:moveTo>
                  <a:lnTo>
                    <a:pt x="126" y="2"/>
                  </a:lnTo>
                  <a:lnTo>
                    <a:pt x="133" y="5"/>
                  </a:lnTo>
                  <a:lnTo>
                    <a:pt x="140" y="8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42" y="404"/>
                  </a:lnTo>
                  <a:lnTo>
                    <a:pt x="0" y="387"/>
                  </a:lnTo>
                  <a:lnTo>
                    <a:pt x="112" y="25"/>
                  </a:lnTo>
                  <a:lnTo>
                    <a:pt x="119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452240" y="3787920"/>
              <a:ext cx="6804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0" y="4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3" y="23"/>
                  </a:lnTo>
                  <a:lnTo>
                    <a:pt x="7" y="1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047960" y="4867200"/>
              <a:ext cx="374400" cy="674640"/>
            </a:xfrm>
            <a:custGeom>
              <a:avLst/>
              <a:gdLst/>
              <a:ahLst/>
              <a:rect l="l" t="t" r="r" b="b"/>
              <a:pathLst>
                <a:path w="236" h="425">
                  <a:moveTo>
                    <a:pt x="86" y="0"/>
                  </a:moveTo>
                  <a:lnTo>
                    <a:pt x="91" y="3"/>
                  </a:lnTo>
                  <a:lnTo>
                    <a:pt x="113" y="13"/>
                  </a:lnTo>
                  <a:lnTo>
                    <a:pt x="143" y="23"/>
                  </a:lnTo>
                  <a:lnTo>
                    <a:pt x="169" y="29"/>
                  </a:lnTo>
                  <a:lnTo>
                    <a:pt x="193" y="32"/>
                  </a:lnTo>
                  <a:lnTo>
                    <a:pt x="212" y="33"/>
                  </a:lnTo>
                  <a:lnTo>
                    <a:pt x="233" y="33"/>
                  </a:lnTo>
                  <a:lnTo>
                    <a:pt x="232" y="63"/>
                  </a:lnTo>
                  <a:lnTo>
                    <a:pt x="235" y="118"/>
                  </a:lnTo>
                  <a:lnTo>
                    <a:pt x="233" y="175"/>
                  </a:lnTo>
                  <a:lnTo>
                    <a:pt x="229" y="206"/>
                  </a:lnTo>
                  <a:lnTo>
                    <a:pt x="218" y="241"/>
                  </a:lnTo>
                  <a:lnTo>
                    <a:pt x="204" y="269"/>
                  </a:lnTo>
                  <a:lnTo>
                    <a:pt x="194" y="290"/>
                  </a:lnTo>
                  <a:lnTo>
                    <a:pt x="178" y="338"/>
                  </a:lnTo>
                  <a:lnTo>
                    <a:pt x="172" y="374"/>
                  </a:lnTo>
                  <a:lnTo>
                    <a:pt x="168" y="388"/>
                  </a:lnTo>
                  <a:lnTo>
                    <a:pt x="159" y="424"/>
                  </a:lnTo>
                  <a:lnTo>
                    <a:pt x="0" y="389"/>
                  </a:lnTo>
                  <a:lnTo>
                    <a:pt x="41" y="377"/>
                  </a:lnTo>
                  <a:lnTo>
                    <a:pt x="62" y="349"/>
                  </a:lnTo>
                  <a:lnTo>
                    <a:pt x="75" y="323"/>
                  </a:lnTo>
                  <a:lnTo>
                    <a:pt x="83" y="309"/>
                  </a:lnTo>
                  <a:lnTo>
                    <a:pt x="88" y="291"/>
                  </a:lnTo>
                  <a:lnTo>
                    <a:pt x="88" y="272"/>
                  </a:lnTo>
                  <a:lnTo>
                    <a:pt x="83" y="238"/>
                  </a:lnTo>
                  <a:lnTo>
                    <a:pt x="78" y="196"/>
                  </a:lnTo>
                  <a:lnTo>
                    <a:pt x="77" y="137"/>
                  </a:lnTo>
                  <a:lnTo>
                    <a:pt x="79" y="80"/>
                  </a:lnTo>
                  <a:lnTo>
                    <a:pt x="83" y="3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121760" y="5399280"/>
              <a:ext cx="439560" cy="24588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121" y="34"/>
                  </a:moveTo>
                  <a:lnTo>
                    <a:pt x="132" y="55"/>
                  </a:lnTo>
                  <a:lnTo>
                    <a:pt x="159" y="64"/>
                  </a:lnTo>
                  <a:lnTo>
                    <a:pt x="217" y="80"/>
                  </a:lnTo>
                  <a:lnTo>
                    <a:pt x="258" y="66"/>
                  </a:lnTo>
                  <a:lnTo>
                    <a:pt x="274" y="84"/>
                  </a:lnTo>
                  <a:lnTo>
                    <a:pt x="276" y="103"/>
                  </a:lnTo>
                  <a:lnTo>
                    <a:pt x="270" y="132"/>
                  </a:lnTo>
                  <a:lnTo>
                    <a:pt x="242" y="151"/>
                  </a:lnTo>
                  <a:lnTo>
                    <a:pt x="208" y="154"/>
                  </a:lnTo>
                  <a:lnTo>
                    <a:pt x="174" y="149"/>
                  </a:lnTo>
                  <a:lnTo>
                    <a:pt x="149" y="120"/>
                  </a:lnTo>
                  <a:lnTo>
                    <a:pt x="131" y="118"/>
                  </a:lnTo>
                  <a:lnTo>
                    <a:pt x="109" y="120"/>
                  </a:lnTo>
                  <a:lnTo>
                    <a:pt x="77" y="110"/>
                  </a:lnTo>
                  <a:lnTo>
                    <a:pt x="37" y="81"/>
                  </a:lnTo>
                  <a:lnTo>
                    <a:pt x="0" y="44"/>
                  </a:lnTo>
                  <a:lnTo>
                    <a:pt x="7" y="9"/>
                  </a:lnTo>
                  <a:lnTo>
                    <a:pt x="32" y="0"/>
                  </a:lnTo>
                  <a:lnTo>
                    <a:pt x="66" y="12"/>
                  </a:lnTo>
                  <a:lnTo>
                    <a:pt x="92" y="18"/>
                  </a:lnTo>
                  <a:lnTo>
                    <a:pt x="121" y="3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73320" y="4335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96840" y="4897440"/>
              <a:ext cx="496800" cy="619200"/>
            </a:xfrm>
            <a:custGeom>
              <a:avLst/>
              <a:gdLst/>
              <a:ahLst/>
              <a:rect l="l" t="t" r="r" b="b"/>
              <a:pathLst>
                <a:path w="313" h="390">
                  <a:moveTo>
                    <a:pt x="211" y="101"/>
                  </a:moveTo>
                  <a:lnTo>
                    <a:pt x="218" y="123"/>
                  </a:lnTo>
                  <a:lnTo>
                    <a:pt x="236" y="175"/>
                  </a:lnTo>
                  <a:lnTo>
                    <a:pt x="248" y="215"/>
                  </a:lnTo>
                  <a:lnTo>
                    <a:pt x="262" y="242"/>
                  </a:lnTo>
                  <a:lnTo>
                    <a:pt x="280" y="266"/>
                  </a:lnTo>
                  <a:lnTo>
                    <a:pt x="289" y="276"/>
                  </a:lnTo>
                  <a:lnTo>
                    <a:pt x="294" y="284"/>
                  </a:lnTo>
                  <a:lnTo>
                    <a:pt x="295" y="289"/>
                  </a:lnTo>
                  <a:lnTo>
                    <a:pt x="312" y="320"/>
                  </a:lnTo>
                  <a:lnTo>
                    <a:pt x="192" y="389"/>
                  </a:lnTo>
                  <a:lnTo>
                    <a:pt x="192" y="347"/>
                  </a:lnTo>
                  <a:lnTo>
                    <a:pt x="192" y="342"/>
                  </a:lnTo>
                  <a:lnTo>
                    <a:pt x="192" y="327"/>
                  </a:lnTo>
                  <a:lnTo>
                    <a:pt x="190" y="315"/>
                  </a:lnTo>
                  <a:lnTo>
                    <a:pt x="184" y="296"/>
                  </a:lnTo>
                  <a:lnTo>
                    <a:pt x="174" y="276"/>
                  </a:lnTo>
                  <a:lnTo>
                    <a:pt x="154" y="247"/>
                  </a:lnTo>
                  <a:lnTo>
                    <a:pt x="133" y="218"/>
                  </a:lnTo>
                  <a:lnTo>
                    <a:pt x="113" y="194"/>
                  </a:lnTo>
                  <a:lnTo>
                    <a:pt x="82" y="161"/>
                  </a:lnTo>
                  <a:lnTo>
                    <a:pt x="48" y="128"/>
                  </a:lnTo>
                  <a:lnTo>
                    <a:pt x="26" y="100"/>
                  </a:lnTo>
                  <a:lnTo>
                    <a:pt x="11" y="75"/>
                  </a:lnTo>
                  <a:lnTo>
                    <a:pt x="0" y="54"/>
                  </a:lnTo>
                  <a:lnTo>
                    <a:pt x="20" y="51"/>
                  </a:lnTo>
                  <a:lnTo>
                    <a:pt x="46" y="46"/>
                  </a:lnTo>
                  <a:lnTo>
                    <a:pt x="66" y="41"/>
                  </a:lnTo>
                  <a:lnTo>
                    <a:pt x="95" y="30"/>
                  </a:lnTo>
                  <a:lnTo>
                    <a:pt x="110" y="22"/>
                  </a:lnTo>
                  <a:lnTo>
                    <a:pt x="117" y="17"/>
                  </a:lnTo>
                  <a:lnTo>
                    <a:pt x="128" y="3"/>
                  </a:lnTo>
                  <a:lnTo>
                    <a:pt x="131" y="0"/>
                  </a:lnTo>
                  <a:lnTo>
                    <a:pt x="136" y="7"/>
                  </a:lnTo>
                  <a:lnTo>
                    <a:pt x="154" y="24"/>
                  </a:lnTo>
                  <a:lnTo>
                    <a:pt x="172" y="40"/>
                  </a:lnTo>
                  <a:lnTo>
                    <a:pt x="183" y="53"/>
                  </a:lnTo>
                  <a:lnTo>
                    <a:pt x="193" y="68"/>
                  </a:lnTo>
                  <a:lnTo>
                    <a:pt x="203" y="84"/>
                  </a:lnTo>
                  <a:lnTo>
                    <a:pt x="211" y="101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0" y="5349960"/>
              <a:ext cx="426960" cy="27612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232" y="5"/>
                  </a:moveTo>
                  <a:lnTo>
                    <a:pt x="249" y="14"/>
                  </a:lnTo>
                  <a:lnTo>
                    <a:pt x="268" y="40"/>
                  </a:lnTo>
                  <a:lnTo>
                    <a:pt x="258" y="59"/>
                  </a:lnTo>
                  <a:lnTo>
                    <a:pt x="241" y="80"/>
                  </a:lnTo>
                  <a:lnTo>
                    <a:pt x="213" y="106"/>
                  </a:lnTo>
                  <a:lnTo>
                    <a:pt x="196" y="110"/>
                  </a:lnTo>
                  <a:lnTo>
                    <a:pt x="176" y="103"/>
                  </a:lnTo>
                  <a:lnTo>
                    <a:pt x="154" y="116"/>
                  </a:lnTo>
                  <a:lnTo>
                    <a:pt x="113" y="144"/>
                  </a:lnTo>
                  <a:lnTo>
                    <a:pt x="78" y="161"/>
                  </a:lnTo>
                  <a:lnTo>
                    <a:pt x="24" y="173"/>
                  </a:lnTo>
                  <a:lnTo>
                    <a:pt x="0" y="155"/>
                  </a:lnTo>
                  <a:lnTo>
                    <a:pt x="6" y="123"/>
                  </a:lnTo>
                  <a:lnTo>
                    <a:pt x="26" y="90"/>
                  </a:lnTo>
                  <a:lnTo>
                    <a:pt x="51" y="72"/>
                  </a:lnTo>
                  <a:lnTo>
                    <a:pt x="87" y="58"/>
                  </a:lnTo>
                  <a:lnTo>
                    <a:pt x="92" y="65"/>
                  </a:lnTo>
                  <a:lnTo>
                    <a:pt x="118" y="73"/>
                  </a:lnTo>
                  <a:lnTo>
                    <a:pt x="150" y="57"/>
                  </a:lnTo>
                  <a:lnTo>
                    <a:pt x="167" y="41"/>
                  </a:lnTo>
                  <a:lnTo>
                    <a:pt x="186" y="9"/>
                  </a:lnTo>
                  <a:lnTo>
                    <a:pt x="195" y="0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57080" y="3292560"/>
              <a:ext cx="2484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1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5" y="2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31520" y="3276720"/>
              <a:ext cx="6660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1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50800" y="3141720"/>
              <a:ext cx="1044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0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7280" y="54500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963360" y="3424320"/>
              <a:ext cx="434520" cy="569880"/>
            </a:xfrm>
            <a:custGeom>
              <a:avLst/>
              <a:gdLst/>
              <a:ahLst/>
              <a:rect l="l" t="t" r="r" b="b"/>
              <a:pathLst>
                <a:path w="274" h="359">
                  <a:moveTo>
                    <a:pt x="162" y="193"/>
                  </a:moveTo>
                  <a:lnTo>
                    <a:pt x="167" y="200"/>
                  </a:lnTo>
                  <a:lnTo>
                    <a:pt x="170" y="205"/>
                  </a:lnTo>
                  <a:lnTo>
                    <a:pt x="173" y="214"/>
                  </a:lnTo>
                  <a:lnTo>
                    <a:pt x="174" y="217"/>
                  </a:lnTo>
                  <a:lnTo>
                    <a:pt x="173" y="214"/>
                  </a:lnTo>
                  <a:lnTo>
                    <a:pt x="170" y="205"/>
                  </a:lnTo>
                  <a:lnTo>
                    <a:pt x="169" y="201"/>
                  </a:lnTo>
                  <a:lnTo>
                    <a:pt x="170" y="196"/>
                  </a:lnTo>
                  <a:lnTo>
                    <a:pt x="172" y="187"/>
                  </a:lnTo>
                  <a:lnTo>
                    <a:pt x="175" y="181"/>
                  </a:lnTo>
                  <a:lnTo>
                    <a:pt x="177" y="182"/>
                  </a:lnTo>
                  <a:lnTo>
                    <a:pt x="190" y="185"/>
                  </a:lnTo>
                  <a:lnTo>
                    <a:pt x="208" y="191"/>
                  </a:lnTo>
                  <a:lnTo>
                    <a:pt x="223" y="198"/>
                  </a:lnTo>
                  <a:lnTo>
                    <a:pt x="233" y="205"/>
                  </a:lnTo>
                  <a:lnTo>
                    <a:pt x="245" y="217"/>
                  </a:lnTo>
                  <a:lnTo>
                    <a:pt x="256" y="229"/>
                  </a:lnTo>
                  <a:lnTo>
                    <a:pt x="266" y="249"/>
                  </a:lnTo>
                  <a:lnTo>
                    <a:pt x="273" y="266"/>
                  </a:lnTo>
                  <a:lnTo>
                    <a:pt x="264" y="279"/>
                  </a:lnTo>
                  <a:lnTo>
                    <a:pt x="241" y="320"/>
                  </a:lnTo>
                  <a:lnTo>
                    <a:pt x="232" y="332"/>
                  </a:lnTo>
                  <a:lnTo>
                    <a:pt x="223" y="340"/>
                  </a:lnTo>
                  <a:lnTo>
                    <a:pt x="213" y="347"/>
                  </a:lnTo>
                  <a:lnTo>
                    <a:pt x="204" y="351"/>
                  </a:lnTo>
                  <a:lnTo>
                    <a:pt x="192" y="356"/>
                  </a:lnTo>
                  <a:lnTo>
                    <a:pt x="176" y="358"/>
                  </a:lnTo>
                  <a:lnTo>
                    <a:pt x="162" y="356"/>
                  </a:lnTo>
                  <a:lnTo>
                    <a:pt x="149" y="350"/>
                  </a:lnTo>
                  <a:lnTo>
                    <a:pt x="137" y="340"/>
                  </a:lnTo>
                  <a:lnTo>
                    <a:pt x="129" y="332"/>
                  </a:lnTo>
                  <a:lnTo>
                    <a:pt x="117" y="318"/>
                  </a:lnTo>
                  <a:lnTo>
                    <a:pt x="102" y="299"/>
                  </a:lnTo>
                  <a:lnTo>
                    <a:pt x="78" y="267"/>
                  </a:lnTo>
                  <a:lnTo>
                    <a:pt x="61" y="240"/>
                  </a:lnTo>
                  <a:lnTo>
                    <a:pt x="45" y="210"/>
                  </a:lnTo>
                  <a:lnTo>
                    <a:pt x="31" y="180"/>
                  </a:lnTo>
                  <a:lnTo>
                    <a:pt x="22" y="157"/>
                  </a:lnTo>
                  <a:lnTo>
                    <a:pt x="19" y="145"/>
                  </a:lnTo>
                  <a:lnTo>
                    <a:pt x="15" y="137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0" y="121"/>
                  </a:lnTo>
                  <a:lnTo>
                    <a:pt x="24" y="31"/>
                  </a:lnTo>
                  <a:lnTo>
                    <a:pt x="38" y="43"/>
                  </a:lnTo>
                  <a:lnTo>
                    <a:pt x="24" y="31"/>
                  </a:lnTo>
                  <a:lnTo>
                    <a:pt x="24" y="23"/>
                  </a:lnTo>
                  <a:lnTo>
                    <a:pt x="8" y="18"/>
                  </a:lnTo>
                  <a:lnTo>
                    <a:pt x="1" y="9"/>
                  </a:lnTo>
                  <a:lnTo>
                    <a:pt x="5" y="3"/>
                  </a:lnTo>
                  <a:lnTo>
                    <a:pt x="16" y="0"/>
                  </a:lnTo>
                  <a:lnTo>
                    <a:pt x="27" y="2"/>
                  </a:lnTo>
                  <a:lnTo>
                    <a:pt x="37" y="9"/>
                  </a:lnTo>
                  <a:lnTo>
                    <a:pt x="45" y="17"/>
                  </a:lnTo>
                  <a:lnTo>
                    <a:pt x="52" y="27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1" y="68"/>
                  </a:lnTo>
                  <a:lnTo>
                    <a:pt x="59" y="87"/>
                  </a:lnTo>
                  <a:lnTo>
                    <a:pt x="56" y="99"/>
                  </a:lnTo>
                  <a:lnTo>
                    <a:pt x="61" y="102"/>
                  </a:lnTo>
                  <a:lnTo>
                    <a:pt x="73" y="110"/>
                  </a:lnTo>
                  <a:lnTo>
                    <a:pt x="81" y="119"/>
                  </a:lnTo>
                  <a:lnTo>
                    <a:pt x="90" y="133"/>
                  </a:lnTo>
                  <a:lnTo>
                    <a:pt x="111" y="156"/>
                  </a:lnTo>
                  <a:lnTo>
                    <a:pt x="130" y="169"/>
                  </a:lnTo>
                  <a:lnTo>
                    <a:pt x="147" y="178"/>
                  </a:lnTo>
                  <a:lnTo>
                    <a:pt x="159" y="190"/>
                  </a:lnTo>
                  <a:lnTo>
                    <a:pt x="162" y="19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352880" y="3449520"/>
              <a:ext cx="9792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3" y="37"/>
                  </a:moveTo>
                  <a:lnTo>
                    <a:pt x="32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8" y="19"/>
                  </a:lnTo>
                  <a:lnTo>
                    <a:pt x="58" y="29"/>
                  </a:lnTo>
                  <a:lnTo>
                    <a:pt x="61" y="34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4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360440" y="3483000"/>
              <a:ext cx="10260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5" y="38"/>
                  </a:moveTo>
                  <a:lnTo>
                    <a:pt x="34" y="35"/>
                  </a:lnTo>
                  <a:lnTo>
                    <a:pt x="20" y="29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1" y="10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51" y="19"/>
                  </a:lnTo>
                  <a:lnTo>
                    <a:pt x="61" y="29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45" y="3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68720" y="3521160"/>
              <a:ext cx="9648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3" y="37"/>
                  </a:moveTo>
                  <a:lnTo>
                    <a:pt x="31" y="34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5" y="5"/>
                  </a:lnTo>
                  <a:lnTo>
                    <a:pt x="36" y="11"/>
                  </a:lnTo>
                  <a:lnTo>
                    <a:pt x="48" y="19"/>
                  </a:lnTo>
                  <a:lnTo>
                    <a:pt x="57" y="29"/>
                  </a:lnTo>
                  <a:lnTo>
                    <a:pt x="60" y="34"/>
                  </a:lnTo>
                  <a:lnTo>
                    <a:pt x="60" y="37"/>
                  </a:lnTo>
                  <a:lnTo>
                    <a:pt x="59" y="38"/>
                  </a:lnTo>
                  <a:lnTo>
                    <a:pt x="53" y="39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373400" y="3560760"/>
              <a:ext cx="9000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40" y="34"/>
                  </a:moveTo>
                  <a:lnTo>
                    <a:pt x="29" y="31"/>
                  </a:lnTo>
                  <a:lnTo>
                    <a:pt x="17" y="26"/>
                  </a:lnTo>
                  <a:lnTo>
                    <a:pt x="8" y="20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1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33" y="10"/>
                  </a:lnTo>
                  <a:lnTo>
                    <a:pt x="45" y="15"/>
                  </a:lnTo>
                  <a:lnTo>
                    <a:pt x="53" y="24"/>
                  </a:lnTo>
                  <a:lnTo>
                    <a:pt x="56" y="28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0" y="36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96680" y="3116160"/>
              <a:ext cx="680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01640" y="3119400"/>
              <a:ext cx="723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82560" y="3116160"/>
              <a:ext cx="94680" cy="9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5"/>
                  </a:moveTo>
                  <a:lnTo>
                    <a:pt x="6" y="4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59" y="3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03520" y="3102120"/>
              <a:ext cx="6624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37" y="9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28280" y="3148200"/>
              <a:ext cx="28440" cy="28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23680" y="3144960"/>
              <a:ext cx="23400" cy="27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61760" y="3210120"/>
              <a:ext cx="52200" cy="28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3" y="2"/>
                  </a:moveTo>
                  <a:lnTo>
                    <a:pt x="32" y="4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1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11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98840" y="3114720"/>
              <a:ext cx="6624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1" y="18"/>
                  </a:moveTo>
                  <a:lnTo>
                    <a:pt x="41" y="16"/>
                  </a:lnTo>
                  <a:lnTo>
                    <a:pt x="39" y="11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03080" y="3117960"/>
              <a:ext cx="6948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43" y="19"/>
                  </a:moveTo>
                  <a:lnTo>
                    <a:pt x="42" y="16"/>
                  </a:lnTo>
                  <a:lnTo>
                    <a:pt x="40" y="11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449360" y="3021120"/>
              <a:ext cx="6444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13" y="114"/>
                  </a:moveTo>
                  <a:lnTo>
                    <a:pt x="20" y="104"/>
                  </a:lnTo>
                  <a:lnTo>
                    <a:pt x="23" y="94"/>
                  </a:lnTo>
                  <a:lnTo>
                    <a:pt x="17" y="87"/>
                  </a:lnTo>
                  <a:lnTo>
                    <a:pt x="27" y="67"/>
                  </a:lnTo>
                  <a:lnTo>
                    <a:pt x="20" y="51"/>
                  </a:lnTo>
                  <a:lnTo>
                    <a:pt x="33" y="41"/>
                  </a:lnTo>
                  <a:lnTo>
                    <a:pt x="33" y="31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0" y="34"/>
                  </a:lnTo>
                  <a:lnTo>
                    <a:pt x="0" y="91"/>
                  </a:lnTo>
                  <a:lnTo>
                    <a:pt x="7" y="11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556000" cy="2544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2340000" y="333360"/>
            <a:ext cx="2160720" cy="2021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1908000" y="4941720"/>
            <a:ext cx="2232360" cy="17780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1619280" y="213372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8110440" y="2852640"/>
            <a:ext cx="1033560" cy="1727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1760400" cy="2016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5651640" y="2924280"/>
            <a:ext cx="2592360" cy="251604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27640" y="2637000"/>
            <a:ext cx="1437480" cy="2302560"/>
            <a:chOff x="4427640" y="2637000"/>
            <a:chExt cx="1437480" cy="2302560"/>
          </a:xfrm>
        </p:grpSpPr>
        <p:sp>
          <p:nvSpPr>
            <p:cNvPr id="410" name=""/>
            <p:cNvSpPr/>
            <p:nvPr/>
          </p:nvSpPr>
          <p:spPr>
            <a:xfrm>
              <a:off x="5698440" y="2848680"/>
              <a:ext cx="95040" cy="9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8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8920" y="2818080"/>
              <a:ext cx="145080" cy="135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8" y="11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72440" y="2818080"/>
              <a:ext cx="168840" cy="1353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13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7240" y="3397320"/>
              <a:ext cx="892440" cy="149436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84" y="154"/>
                  </a:moveTo>
                  <a:lnTo>
                    <a:pt x="84" y="91"/>
                  </a:lnTo>
                  <a:lnTo>
                    <a:pt x="81" y="57"/>
                  </a:lnTo>
                  <a:lnTo>
                    <a:pt x="75" y="35"/>
                  </a:lnTo>
                  <a:lnTo>
                    <a:pt x="63" y="22"/>
                  </a:lnTo>
                  <a:lnTo>
                    <a:pt x="35" y="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50840" y="3397320"/>
              <a:ext cx="73440" cy="1522800"/>
            </a:xfrm>
            <a:custGeom>
              <a:avLst/>
              <a:gdLst/>
              <a:ahLst/>
              <a:rect l="l" t="t" r="r" b="b"/>
              <a:pathLst>
                <a:path w="7" h="158">
                  <a:moveTo>
                    <a:pt x="0" y="157"/>
                  </a:moveTo>
                  <a:lnTo>
                    <a:pt x="2" y="79"/>
                  </a:lnTo>
                  <a:lnTo>
                    <a:pt x="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79800" y="3108600"/>
              <a:ext cx="628200" cy="181116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59" y="187"/>
                  </a:moveTo>
                  <a:lnTo>
                    <a:pt x="56" y="115"/>
                  </a:lnTo>
                  <a:lnTo>
                    <a:pt x="49" y="68"/>
                  </a:lnTo>
                  <a:lnTo>
                    <a:pt x="37" y="4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77040" y="2964600"/>
              <a:ext cx="178200" cy="1887480"/>
            </a:xfrm>
            <a:custGeom>
              <a:avLst/>
              <a:gdLst/>
              <a:ahLst/>
              <a:rect l="l" t="t" r="r" b="b"/>
              <a:pathLst>
                <a:path w="17" h="196">
                  <a:moveTo>
                    <a:pt x="16" y="195"/>
                  </a:moveTo>
                  <a:lnTo>
                    <a:pt x="16" y="118"/>
                  </a:lnTo>
                  <a:lnTo>
                    <a:pt x="12" y="7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03400" y="3137040"/>
              <a:ext cx="95040" cy="1802520"/>
            </a:xfrm>
            <a:custGeom>
              <a:avLst/>
              <a:gdLst/>
              <a:ahLst/>
              <a:rect l="l" t="t" r="r" b="b"/>
              <a:pathLst>
                <a:path w="9" h="187">
                  <a:moveTo>
                    <a:pt x="1" y="186"/>
                  </a:moveTo>
                  <a:lnTo>
                    <a:pt x="0" y="144"/>
                  </a:lnTo>
                  <a:lnTo>
                    <a:pt x="0" y="96"/>
                  </a:lnTo>
                  <a:lnTo>
                    <a:pt x="3" y="50"/>
                  </a:lnTo>
                  <a:lnTo>
                    <a:pt x="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31960" y="3242160"/>
              <a:ext cx="249840" cy="1697400"/>
            </a:xfrm>
            <a:custGeom>
              <a:avLst/>
              <a:gdLst/>
              <a:ahLst/>
              <a:rect l="l" t="t" r="r" b="b"/>
              <a:pathLst>
                <a:path w="24" h="176">
                  <a:moveTo>
                    <a:pt x="23" y="175"/>
                  </a:moveTo>
                  <a:lnTo>
                    <a:pt x="22" y="119"/>
                  </a:lnTo>
                  <a:lnTo>
                    <a:pt x="17" y="42"/>
                  </a:lnTo>
                  <a:lnTo>
                    <a:pt x="9" y="1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41520" y="3484440"/>
              <a:ext cx="387720" cy="145512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36" y="150"/>
                  </a:moveTo>
                  <a:lnTo>
                    <a:pt x="35" y="73"/>
                  </a:lnTo>
                  <a:lnTo>
                    <a:pt x="32" y="43"/>
                  </a:lnTo>
                  <a:lnTo>
                    <a:pt x="28" y="23"/>
                  </a:lnTo>
                  <a:lnTo>
                    <a:pt x="20" y="8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22680" y="3252960"/>
              <a:ext cx="18792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"/>
                  </a:move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0600" y="3213720"/>
              <a:ext cx="242640" cy="183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3" y="6"/>
                  </a:move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10600" y="3388320"/>
              <a:ext cx="159120" cy="144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70280" y="3425400"/>
              <a:ext cx="92520" cy="183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27640" y="3405960"/>
              <a:ext cx="273600" cy="1548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4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46080" y="3320640"/>
              <a:ext cx="187920" cy="1526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4"/>
                  </a:move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34360" y="3340440"/>
              <a:ext cx="23076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3" y="11"/>
                  </a:moveTo>
                  <a:lnTo>
                    <a:pt x="7" y="15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34360" y="3204720"/>
              <a:ext cx="159120" cy="135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9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81800" y="3128400"/>
              <a:ext cx="104400" cy="172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51040" y="3176640"/>
              <a:ext cx="263880" cy="1526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6" y="2"/>
                  </a:move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5120" y="3484440"/>
              <a:ext cx="18792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"/>
                  </a:move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4360" y="3445200"/>
              <a:ext cx="240120" cy="183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9" y="6"/>
                  </a:moveTo>
                  <a:lnTo>
                    <a:pt x="14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2" y="13"/>
                  </a:lnTo>
                  <a:lnTo>
                    <a:pt x="21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7520" y="3618000"/>
              <a:ext cx="147240" cy="146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2920" y="3657240"/>
              <a:ext cx="104400" cy="183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6720" y="3637440"/>
              <a:ext cx="271080" cy="1548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8" y="13"/>
                  </a:moveTo>
                  <a:lnTo>
                    <a:pt x="10" y="14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98480" y="2684880"/>
              <a:ext cx="190080" cy="1526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7" y="1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77040" y="2637000"/>
              <a:ext cx="24264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7"/>
                  </a:moveTo>
                  <a:lnTo>
                    <a:pt x="8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6720" y="2857320"/>
              <a:ext cx="104400" cy="172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7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93720" y="2829240"/>
              <a:ext cx="273600" cy="1526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17" y="13"/>
                  </a:moveTo>
                  <a:lnTo>
                    <a:pt x="15" y="14"/>
                  </a:lnTo>
                  <a:lnTo>
                    <a:pt x="10" y="15"/>
                  </a:lnTo>
                  <a:lnTo>
                    <a:pt x="5" y="14"/>
                  </a:lnTo>
                  <a:lnTo>
                    <a:pt x="0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84400" y="2964600"/>
              <a:ext cx="190080" cy="163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4"/>
                  </a:move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3640" y="2981880"/>
              <a:ext cx="230760" cy="183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1"/>
                  </a:moveTo>
                  <a:lnTo>
                    <a:pt x="14" y="15"/>
                  </a:lnTo>
                  <a:lnTo>
                    <a:pt x="9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27440" y="2848680"/>
              <a:ext cx="156960" cy="1332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3"/>
                  </a:move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32200" y="2770200"/>
              <a:ext cx="104400" cy="174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6000" y="2818080"/>
              <a:ext cx="261720" cy="1548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7" y="2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6fb5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2960" y="3665880"/>
              <a:ext cx="221040" cy="23148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0" y="16"/>
                  </a:moveTo>
                  <a:lnTo>
                    <a:pt x="17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14"/>
                  </a:lnTo>
                  <a:lnTo>
                    <a:pt x="0" y="6"/>
                  </a:lnTo>
                  <a:lnTo>
                    <a:pt x="15" y="0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3440" y="3580560"/>
              <a:ext cx="221040" cy="2008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3"/>
                  </a:move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8" y="19"/>
                  </a:lnTo>
                  <a:lnTo>
                    <a:pt x="5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4"/>
                  </a:lnTo>
                  <a:lnTo>
                    <a:pt x="5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19880" y="2866320"/>
              <a:ext cx="261720" cy="290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28"/>
                  </a:moveTo>
                  <a:lnTo>
                    <a:pt x="8" y="27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06000" y="2693520"/>
              <a:ext cx="744840" cy="7909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9" y="58"/>
                  </a:moveTo>
                  <a:lnTo>
                    <a:pt x="49" y="60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3" y="75"/>
                  </a:lnTo>
                  <a:lnTo>
                    <a:pt x="50" y="79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37" y="76"/>
                  </a:lnTo>
                  <a:lnTo>
                    <a:pt x="35" y="69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17" y="68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3" y="56"/>
                  </a:lnTo>
                  <a:lnTo>
                    <a:pt x="6" y="55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3"/>
                  </a:lnTo>
                  <a:lnTo>
                    <a:pt x="17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6" y="24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23" y="23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3" y="12"/>
                  </a:lnTo>
                  <a:lnTo>
                    <a:pt x="35" y="8"/>
                  </a:lnTo>
                  <a:lnTo>
                    <a:pt x="40" y="3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50" y="9"/>
                  </a:lnTo>
                  <a:lnTo>
                    <a:pt x="49" y="16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61" y="36"/>
                  </a:lnTo>
                  <a:lnTo>
                    <a:pt x="65" y="38"/>
                  </a:lnTo>
                  <a:lnTo>
                    <a:pt x="68" y="41"/>
                  </a:lnTo>
                  <a:lnTo>
                    <a:pt x="69" y="44"/>
                  </a:lnTo>
                  <a:lnTo>
                    <a:pt x="70" y="47"/>
                  </a:lnTo>
                  <a:lnTo>
                    <a:pt x="70" y="49"/>
                  </a:lnTo>
                  <a:lnTo>
                    <a:pt x="69" y="50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55" y="53"/>
                  </a:lnTo>
                  <a:lnTo>
                    <a:pt x="48" y="55"/>
                  </a:lnTo>
                  <a:lnTo>
                    <a:pt x="49" y="58"/>
                  </a:lnTo>
                  <a:close/>
                </a:path>
              </a:pathLst>
            </a:custGeom>
            <a:solidFill>
              <a:srgbClr val="f31b1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2480" y="3425400"/>
              <a:ext cx="430560" cy="19224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2"/>
                  </a:moveTo>
                  <a:lnTo>
                    <a:pt x="4" y="9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17" y="19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1200" y="3484440"/>
              <a:ext cx="197280" cy="344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4" y="0"/>
                  </a:moveTo>
                  <a:lnTo>
                    <a:pt x="7" y="2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79800" y="3484440"/>
              <a:ext cx="304560" cy="2487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3" y="11"/>
                  </a:move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466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01200" y="3040920"/>
              <a:ext cx="145080" cy="152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284720" y="4527720"/>
            <a:ext cx="1584000" cy="2329920"/>
            <a:chOff x="4284720" y="4527720"/>
            <a:chExt cx="1584000" cy="2329920"/>
          </a:xfrm>
        </p:grpSpPr>
        <p:sp>
          <p:nvSpPr>
            <p:cNvPr id="453" name=""/>
            <p:cNvSpPr/>
            <p:nvPr/>
          </p:nvSpPr>
          <p:spPr>
            <a:xfrm>
              <a:off x="4363560" y="4996800"/>
              <a:ext cx="153000" cy="1227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28" y="28"/>
                  </a:moveTo>
                  <a:lnTo>
                    <a:pt x="96" y="0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21"/>
                  </a:lnTo>
                  <a:lnTo>
                    <a:pt x="71" y="13"/>
                  </a:lnTo>
                  <a:lnTo>
                    <a:pt x="68" y="29"/>
                  </a:lnTo>
                  <a:lnTo>
                    <a:pt x="54" y="24"/>
                  </a:lnTo>
                  <a:lnTo>
                    <a:pt x="55" y="38"/>
                  </a:lnTo>
                  <a:lnTo>
                    <a:pt x="39" y="33"/>
                  </a:lnTo>
                  <a:lnTo>
                    <a:pt x="36" y="45"/>
                  </a:lnTo>
                  <a:lnTo>
                    <a:pt x="25" y="43"/>
                  </a:lnTo>
                  <a:lnTo>
                    <a:pt x="26" y="55"/>
                  </a:lnTo>
                  <a:lnTo>
                    <a:pt x="14" y="49"/>
                  </a:lnTo>
                  <a:lnTo>
                    <a:pt x="22" y="74"/>
                  </a:lnTo>
                  <a:lnTo>
                    <a:pt x="0" y="5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80120" y="5019840"/>
              <a:ext cx="162360" cy="106200"/>
            </a:xfrm>
            <a:custGeom>
              <a:avLst/>
              <a:gdLst/>
              <a:ahLst/>
              <a:rect l="l" t="t" r="r" b="b"/>
              <a:pathLst>
                <a:path w="105" h="65">
                  <a:moveTo>
                    <a:pt x="62" y="44"/>
                  </a:moveTo>
                  <a:lnTo>
                    <a:pt x="104" y="4"/>
                  </a:lnTo>
                  <a:lnTo>
                    <a:pt x="89" y="0"/>
                  </a:lnTo>
                  <a:lnTo>
                    <a:pt x="89" y="11"/>
                  </a:lnTo>
                  <a:lnTo>
                    <a:pt x="76" y="11"/>
                  </a:lnTo>
                  <a:lnTo>
                    <a:pt x="75" y="26"/>
                  </a:lnTo>
                  <a:lnTo>
                    <a:pt x="63" y="20"/>
                  </a:lnTo>
                  <a:lnTo>
                    <a:pt x="57" y="37"/>
                  </a:lnTo>
                  <a:lnTo>
                    <a:pt x="46" y="33"/>
                  </a:lnTo>
                  <a:lnTo>
                    <a:pt x="40" y="45"/>
                  </a:lnTo>
                  <a:lnTo>
                    <a:pt x="29" y="41"/>
                  </a:lnTo>
                  <a:lnTo>
                    <a:pt x="25" y="54"/>
                  </a:lnTo>
                  <a:lnTo>
                    <a:pt x="14" y="48"/>
                  </a:lnTo>
                  <a:lnTo>
                    <a:pt x="10" y="61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2800" y="5379480"/>
              <a:ext cx="324360" cy="356400"/>
            </a:xfrm>
            <a:custGeom>
              <a:avLst/>
              <a:gdLst/>
              <a:ahLst/>
              <a:rect l="l" t="t" r="r" b="b"/>
              <a:pathLst>
                <a:path w="210" h="218">
                  <a:moveTo>
                    <a:pt x="138" y="0"/>
                  </a:moveTo>
                  <a:lnTo>
                    <a:pt x="48" y="30"/>
                  </a:lnTo>
                  <a:lnTo>
                    <a:pt x="28" y="44"/>
                  </a:lnTo>
                  <a:lnTo>
                    <a:pt x="15" y="63"/>
                  </a:lnTo>
                  <a:lnTo>
                    <a:pt x="4" y="99"/>
                  </a:lnTo>
                  <a:lnTo>
                    <a:pt x="0" y="198"/>
                  </a:lnTo>
                  <a:lnTo>
                    <a:pt x="3" y="210"/>
                  </a:lnTo>
                  <a:lnTo>
                    <a:pt x="13" y="217"/>
                  </a:lnTo>
                  <a:lnTo>
                    <a:pt x="19" y="216"/>
                  </a:lnTo>
                  <a:lnTo>
                    <a:pt x="25" y="214"/>
                  </a:lnTo>
                  <a:lnTo>
                    <a:pt x="32" y="200"/>
                  </a:lnTo>
                  <a:lnTo>
                    <a:pt x="41" y="203"/>
                  </a:lnTo>
                  <a:lnTo>
                    <a:pt x="48" y="202"/>
                  </a:lnTo>
                  <a:lnTo>
                    <a:pt x="60" y="191"/>
                  </a:lnTo>
                  <a:lnTo>
                    <a:pt x="68" y="173"/>
                  </a:lnTo>
                  <a:lnTo>
                    <a:pt x="68" y="144"/>
                  </a:lnTo>
                  <a:lnTo>
                    <a:pt x="60" y="109"/>
                  </a:lnTo>
                  <a:lnTo>
                    <a:pt x="64" y="94"/>
                  </a:lnTo>
                  <a:lnTo>
                    <a:pt x="77" y="85"/>
                  </a:lnTo>
                  <a:lnTo>
                    <a:pt x="107" y="81"/>
                  </a:lnTo>
                  <a:lnTo>
                    <a:pt x="146" y="84"/>
                  </a:lnTo>
                  <a:lnTo>
                    <a:pt x="170" y="74"/>
                  </a:lnTo>
                  <a:lnTo>
                    <a:pt x="201" y="71"/>
                  </a:lnTo>
                  <a:lnTo>
                    <a:pt x="209" y="73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0840" y="4527720"/>
              <a:ext cx="1577880" cy="2329920"/>
            </a:xfrm>
            <a:custGeom>
              <a:avLst/>
              <a:gdLst/>
              <a:ahLst/>
              <a:rect l="l" t="t" r="r" b="b"/>
              <a:pathLst>
                <a:path w="1021" h="1425">
                  <a:moveTo>
                    <a:pt x="379" y="594"/>
                  </a:moveTo>
                  <a:lnTo>
                    <a:pt x="289" y="624"/>
                  </a:lnTo>
                  <a:lnTo>
                    <a:pt x="269" y="638"/>
                  </a:lnTo>
                  <a:lnTo>
                    <a:pt x="257" y="657"/>
                  </a:lnTo>
                  <a:lnTo>
                    <a:pt x="245" y="693"/>
                  </a:lnTo>
                  <a:lnTo>
                    <a:pt x="241" y="792"/>
                  </a:lnTo>
                  <a:lnTo>
                    <a:pt x="245" y="804"/>
                  </a:lnTo>
                  <a:lnTo>
                    <a:pt x="254" y="811"/>
                  </a:lnTo>
                  <a:lnTo>
                    <a:pt x="260" y="810"/>
                  </a:lnTo>
                  <a:lnTo>
                    <a:pt x="267" y="808"/>
                  </a:lnTo>
                  <a:lnTo>
                    <a:pt x="273" y="794"/>
                  </a:lnTo>
                  <a:lnTo>
                    <a:pt x="282" y="797"/>
                  </a:lnTo>
                  <a:lnTo>
                    <a:pt x="289" y="796"/>
                  </a:lnTo>
                  <a:lnTo>
                    <a:pt x="301" y="785"/>
                  </a:lnTo>
                  <a:lnTo>
                    <a:pt x="309" y="767"/>
                  </a:lnTo>
                  <a:lnTo>
                    <a:pt x="309" y="738"/>
                  </a:lnTo>
                  <a:lnTo>
                    <a:pt x="301" y="703"/>
                  </a:lnTo>
                  <a:lnTo>
                    <a:pt x="305" y="688"/>
                  </a:lnTo>
                  <a:lnTo>
                    <a:pt x="318" y="679"/>
                  </a:lnTo>
                  <a:lnTo>
                    <a:pt x="348" y="675"/>
                  </a:lnTo>
                  <a:lnTo>
                    <a:pt x="387" y="678"/>
                  </a:lnTo>
                  <a:lnTo>
                    <a:pt x="411" y="667"/>
                  </a:lnTo>
                  <a:lnTo>
                    <a:pt x="443" y="665"/>
                  </a:lnTo>
                  <a:lnTo>
                    <a:pt x="450" y="666"/>
                  </a:lnTo>
                  <a:lnTo>
                    <a:pt x="518" y="726"/>
                  </a:lnTo>
                  <a:lnTo>
                    <a:pt x="459" y="767"/>
                  </a:lnTo>
                  <a:lnTo>
                    <a:pt x="440" y="775"/>
                  </a:lnTo>
                  <a:lnTo>
                    <a:pt x="451" y="781"/>
                  </a:lnTo>
                  <a:lnTo>
                    <a:pt x="461" y="784"/>
                  </a:lnTo>
                  <a:lnTo>
                    <a:pt x="448" y="787"/>
                  </a:lnTo>
                  <a:lnTo>
                    <a:pt x="422" y="796"/>
                  </a:lnTo>
                  <a:lnTo>
                    <a:pt x="407" y="808"/>
                  </a:lnTo>
                  <a:lnTo>
                    <a:pt x="418" y="804"/>
                  </a:lnTo>
                  <a:lnTo>
                    <a:pt x="428" y="807"/>
                  </a:lnTo>
                  <a:lnTo>
                    <a:pt x="422" y="811"/>
                  </a:lnTo>
                  <a:lnTo>
                    <a:pt x="393" y="824"/>
                  </a:lnTo>
                  <a:lnTo>
                    <a:pt x="377" y="839"/>
                  </a:lnTo>
                  <a:lnTo>
                    <a:pt x="410" y="833"/>
                  </a:lnTo>
                  <a:lnTo>
                    <a:pt x="392" y="852"/>
                  </a:lnTo>
                  <a:lnTo>
                    <a:pt x="364" y="872"/>
                  </a:lnTo>
                  <a:lnTo>
                    <a:pt x="304" y="941"/>
                  </a:lnTo>
                  <a:lnTo>
                    <a:pt x="307" y="943"/>
                  </a:lnTo>
                  <a:lnTo>
                    <a:pt x="326" y="939"/>
                  </a:lnTo>
                  <a:lnTo>
                    <a:pt x="323" y="953"/>
                  </a:lnTo>
                  <a:lnTo>
                    <a:pt x="320" y="976"/>
                  </a:lnTo>
                  <a:lnTo>
                    <a:pt x="323" y="998"/>
                  </a:lnTo>
                  <a:lnTo>
                    <a:pt x="335" y="1038"/>
                  </a:lnTo>
                  <a:lnTo>
                    <a:pt x="347" y="1063"/>
                  </a:lnTo>
                  <a:lnTo>
                    <a:pt x="370" y="1097"/>
                  </a:lnTo>
                  <a:lnTo>
                    <a:pt x="393" y="1122"/>
                  </a:lnTo>
                  <a:lnTo>
                    <a:pt x="406" y="1138"/>
                  </a:lnTo>
                  <a:lnTo>
                    <a:pt x="410" y="1158"/>
                  </a:lnTo>
                  <a:lnTo>
                    <a:pt x="400" y="1194"/>
                  </a:lnTo>
                  <a:lnTo>
                    <a:pt x="378" y="1221"/>
                  </a:lnTo>
                  <a:lnTo>
                    <a:pt x="354" y="1238"/>
                  </a:lnTo>
                  <a:lnTo>
                    <a:pt x="284" y="1255"/>
                  </a:lnTo>
                  <a:lnTo>
                    <a:pt x="274" y="1260"/>
                  </a:lnTo>
                  <a:lnTo>
                    <a:pt x="261" y="1276"/>
                  </a:lnTo>
                  <a:lnTo>
                    <a:pt x="258" y="1302"/>
                  </a:lnTo>
                  <a:lnTo>
                    <a:pt x="263" y="1323"/>
                  </a:lnTo>
                  <a:lnTo>
                    <a:pt x="274" y="1333"/>
                  </a:lnTo>
                  <a:lnTo>
                    <a:pt x="282" y="1334"/>
                  </a:lnTo>
                  <a:lnTo>
                    <a:pt x="297" y="1328"/>
                  </a:lnTo>
                  <a:lnTo>
                    <a:pt x="300" y="1332"/>
                  </a:lnTo>
                  <a:lnTo>
                    <a:pt x="320" y="1339"/>
                  </a:lnTo>
                  <a:lnTo>
                    <a:pt x="334" y="1334"/>
                  </a:lnTo>
                  <a:lnTo>
                    <a:pt x="365" y="1311"/>
                  </a:lnTo>
                  <a:lnTo>
                    <a:pt x="482" y="1197"/>
                  </a:lnTo>
                  <a:lnTo>
                    <a:pt x="494" y="1173"/>
                  </a:lnTo>
                  <a:lnTo>
                    <a:pt x="493" y="1140"/>
                  </a:lnTo>
                  <a:lnTo>
                    <a:pt x="477" y="1049"/>
                  </a:lnTo>
                  <a:lnTo>
                    <a:pt x="485" y="1021"/>
                  </a:lnTo>
                  <a:lnTo>
                    <a:pt x="504" y="1003"/>
                  </a:lnTo>
                  <a:lnTo>
                    <a:pt x="530" y="988"/>
                  </a:lnTo>
                  <a:lnTo>
                    <a:pt x="543" y="976"/>
                  </a:lnTo>
                  <a:lnTo>
                    <a:pt x="551" y="957"/>
                  </a:lnTo>
                  <a:lnTo>
                    <a:pt x="568" y="1000"/>
                  </a:lnTo>
                  <a:lnTo>
                    <a:pt x="581" y="1020"/>
                  </a:lnTo>
                  <a:lnTo>
                    <a:pt x="619" y="1069"/>
                  </a:lnTo>
                  <a:lnTo>
                    <a:pt x="679" y="1134"/>
                  </a:lnTo>
                  <a:lnTo>
                    <a:pt x="689" y="1164"/>
                  </a:lnTo>
                  <a:lnTo>
                    <a:pt x="687" y="1205"/>
                  </a:lnTo>
                  <a:lnTo>
                    <a:pt x="662" y="1252"/>
                  </a:lnTo>
                  <a:lnTo>
                    <a:pt x="653" y="1274"/>
                  </a:lnTo>
                  <a:lnTo>
                    <a:pt x="646" y="1300"/>
                  </a:lnTo>
                  <a:lnTo>
                    <a:pt x="641" y="1305"/>
                  </a:lnTo>
                  <a:lnTo>
                    <a:pt x="571" y="1347"/>
                  </a:lnTo>
                  <a:lnTo>
                    <a:pt x="560" y="1359"/>
                  </a:lnTo>
                  <a:lnTo>
                    <a:pt x="552" y="1377"/>
                  </a:lnTo>
                  <a:lnTo>
                    <a:pt x="555" y="1412"/>
                  </a:lnTo>
                  <a:lnTo>
                    <a:pt x="564" y="1422"/>
                  </a:lnTo>
                  <a:lnTo>
                    <a:pt x="587" y="1424"/>
                  </a:lnTo>
                  <a:lnTo>
                    <a:pt x="623" y="1411"/>
                  </a:lnTo>
                  <a:lnTo>
                    <a:pt x="656" y="1386"/>
                  </a:lnTo>
                  <a:lnTo>
                    <a:pt x="674" y="1364"/>
                  </a:lnTo>
                  <a:lnTo>
                    <a:pt x="687" y="1359"/>
                  </a:lnTo>
                  <a:lnTo>
                    <a:pt x="706" y="1348"/>
                  </a:lnTo>
                  <a:lnTo>
                    <a:pt x="719" y="1334"/>
                  </a:lnTo>
                  <a:lnTo>
                    <a:pt x="724" y="1320"/>
                  </a:lnTo>
                  <a:lnTo>
                    <a:pt x="736" y="1261"/>
                  </a:lnTo>
                  <a:lnTo>
                    <a:pt x="770" y="1184"/>
                  </a:lnTo>
                  <a:lnTo>
                    <a:pt x="774" y="1167"/>
                  </a:lnTo>
                  <a:lnTo>
                    <a:pt x="767" y="1137"/>
                  </a:lnTo>
                  <a:lnTo>
                    <a:pt x="754" y="1113"/>
                  </a:lnTo>
                  <a:lnTo>
                    <a:pt x="748" y="1084"/>
                  </a:lnTo>
                  <a:lnTo>
                    <a:pt x="750" y="1048"/>
                  </a:lnTo>
                  <a:lnTo>
                    <a:pt x="747" y="1023"/>
                  </a:lnTo>
                  <a:lnTo>
                    <a:pt x="738" y="998"/>
                  </a:lnTo>
                  <a:lnTo>
                    <a:pt x="776" y="995"/>
                  </a:lnTo>
                  <a:lnTo>
                    <a:pt x="797" y="979"/>
                  </a:lnTo>
                  <a:lnTo>
                    <a:pt x="799" y="976"/>
                  </a:lnTo>
                  <a:lnTo>
                    <a:pt x="792" y="980"/>
                  </a:lnTo>
                  <a:lnTo>
                    <a:pt x="772" y="982"/>
                  </a:lnTo>
                  <a:lnTo>
                    <a:pt x="758" y="975"/>
                  </a:lnTo>
                  <a:lnTo>
                    <a:pt x="750" y="959"/>
                  </a:lnTo>
                  <a:lnTo>
                    <a:pt x="756" y="945"/>
                  </a:lnTo>
                  <a:lnTo>
                    <a:pt x="765" y="937"/>
                  </a:lnTo>
                  <a:lnTo>
                    <a:pt x="787" y="946"/>
                  </a:lnTo>
                  <a:lnTo>
                    <a:pt x="777" y="927"/>
                  </a:lnTo>
                  <a:lnTo>
                    <a:pt x="774" y="912"/>
                  </a:lnTo>
                  <a:lnTo>
                    <a:pt x="776" y="892"/>
                  </a:lnTo>
                  <a:lnTo>
                    <a:pt x="780" y="882"/>
                  </a:lnTo>
                  <a:lnTo>
                    <a:pt x="790" y="892"/>
                  </a:lnTo>
                  <a:lnTo>
                    <a:pt x="806" y="898"/>
                  </a:lnTo>
                  <a:lnTo>
                    <a:pt x="794" y="879"/>
                  </a:lnTo>
                  <a:lnTo>
                    <a:pt x="792" y="865"/>
                  </a:lnTo>
                  <a:lnTo>
                    <a:pt x="797" y="846"/>
                  </a:lnTo>
                  <a:lnTo>
                    <a:pt x="804" y="852"/>
                  </a:lnTo>
                  <a:lnTo>
                    <a:pt x="814" y="855"/>
                  </a:lnTo>
                  <a:lnTo>
                    <a:pt x="823" y="854"/>
                  </a:lnTo>
                  <a:lnTo>
                    <a:pt x="814" y="842"/>
                  </a:lnTo>
                  <a:lnTo>
                    <a:pt x="806" y="813"/>
                  </a:lnTo>
                  <a:lnTo>
                    <a:pt x="806" y="804"/>
                  </a:lnTo>
                  <a:lnTo>
                    <a:pt x="816" y="806"/>
                  </a:lnTo>
                  <a:lnTo>
                    <a:pt x="840" y="805"/>
                  </a:lnTo>
                  <a:lnTo>
                    <a:pt x="874" y="792"/>
                  </a:lnTo>
                  <a:lnTo>
                    <a:pt x="894" y="769"/>
                  </a:lnTo>
                  <a:lnTo>
                    <a:pt x="916" y="729"/>
                  </a:lnTo>
                  <a:lnTo>
                    <a:pt x="921" y="701"/>
                  </a:lnTo>
                  <a:lnTo>
                    <a:pt x="925" y="607"/>
                  </a:lnTo>
                  <a:lnTo>
                    <a:pt x="935" y="587"/>
                  </a:lnTo>
                  <a:lnTo>
                    <a:pt x="944" y="574"/>
                  </a:lnTo>
                  <a:lnTo>
                    <a:pt x="900" y="587"/>
                  </a:lnTo>
                  <a:lnTo>
                    <a:pt x="910" y="578"/>
                  </a:lnTo>
                  <a:lnTo>
                    <a:pt x="922" y="563"/>
                  </a:lnTo>
                  <a:lnTo>
                    <a:pt x="928" y="547"/>
                  </a:lnTo>
                  <a:lnTo>
                    <a:pt x="919" y="551"/>
                  </a:lnTo>
                  <a:lnTo>
                    <a:pt x="902" y="552"/>
                  </a:lnTo>
                  <a:lnTo>
                    <a:pt x="914" y="548"/>
                  </a:lnTo>
                  <a:lnTo>
                    <a:pt x="927" y="536"/>
                  </a:lnTo>
                  <a:lnTo>
                    <a:pt x="931" y="516"/>
                  </a:lnTo>
                  <a:lnTo>
                    <a:pt x="939" y="525"/>
                  </a:lnTo>
                  <a:lnTo>
                    <a:pt x="961" y="537"/>
                  </a:lnTo>
                  <a:lnTo>
                    <a:pt x="993" y="534"/>
                  </a:lnTo>
                  <a:lnTo>
                    <a:pt x="1012" y="521"/>
                  </a:lnTo>
                  <a:lnTo>
                    <a:pt x="1020" y="503"/>
                  </a:lnTo>
                  <a:lnTo>
                    <a:pt x="1017" y="475"/>
                  </a:lnTo>
                  <a:lnTo>
                    <a:pt x="995" y="397"/>
                  </a:lnTo>
                  <a:lnTo>
                    <a:pt x="974" y="368"/>
                  </a:lnTo>
                  <a:lnTo>
                    <a:pt x="957" y="354"/>
                  </a:lnTo>
                  <a:lnTo>
                    <a:pt x="927" y="347"/>
                  </a:lnTo>
                  <a:lnTo>
                    <a:pt x="891" y="348"/>
                  </a:lnTo>
                  <a:lnTo>
                    <a:pt x="864" y="356"/>
                  </a:lnTo>
                  <a:lnTo>
                    <a:pt x="816" y="384"/>
                  </a:lnTo>
                  <a:lnTo>
                    <a:pt x="785" y="417"/>
                  </a:lnTo>
                  <a:lnTo>
                    <a:pt x="772" y="445"/>
                  </a:lnTo>
                  <a:lnTo>
                    <a:pt x="765" y="475"/>
                  </a:lnTo>
                  <a:lnTo>
                    <a:pt x="764" y="525"/>
                  </a:lnTo>
                  <a:lnTo>
                    <a:pt x="772" y="562"/>
                  </a:lnTo>
                  <a:lnTo>
                    <a:pt x="782" y="584"/>
                  </a:lnTo>
                  <a:lnTo>
                    <a:pt x="821" y="649"/>
                  </a:lnTo>
                  <a:lnTo>
                    <a:pt x="831" y="683"/>
                  </a:lnTo>
                  <a:lnTo>
                    <a:pt x="824" y="725"/>
                  </a:lnTo>
                  <a:lnTo>
                    <a:pt x="800" y="768"/>
                  </a:lnTo>
                  <a:lnTo>
                    <a:pt x="796" y="757"/>
                  </a:lnTo>
                  <a:lnTo>
                    <a:pt x="796" y="751"/>
                  </a:lnTo>
                  <a:lnTo>
                    <a:pt x="813" y="735"/>
                  </a:lnTo>
                  <a:lnTo>
                    <a:pt x="804" y="735"/>
                  </a:lnTo>
                  <a:lnTo>
                    <a:pt x="790" y="729"/>
                  </a:lnTo>
                  <a:lnTo>
                    <a:pt x="785" y="724"/>
                  </a:lnTo>
                  <a:lnTo>
                    <a:pt x="798" y="714"/>
                  </a:lnTo>
                  <a:lnTo>
                    <a:pt x="803" y="705"/>
                  </a:lnTo>
                  <a:lnTo>
                    <a:pt x="803" y="693"/>
                  </a:lnTo>
                  <a:lnTo>
                    <a:pt x="797" y="681"/>
                  </a:lnTo>
                  <a:lnTo>
                    <a:pt x="785" y="689"/>
                  </a:lnTo>
                  <a:lnTo>
                    <a:pt x="776" y="688"/>
                  </a:lnTo>
                  <a:lnTo>
                    <a:pt x="767" y="681"/>
                  </a:lnTo>
                  <a:lnTo>
                    <a:pt x="770" y="674"/>
                  </a:lnTo>
                  <a:lnTo>
                    <a:pt x="776" y="666"/>
                  </a:lnTo>
                  <a:lnTo>
                    <a:pt x="745" y="654"/>
                  </a:lnTo>
                  <a:lnTo>
                    <a:pt x="726" y="642"/>
                  </a:lnTo>
                  <a:lnTo>
                    <a:pt x="739" y="639"/>
                  </a:lnTo>
                  <a:lnTo>
                    <a:pt x="750" y="633"/>
                  </a:lnTo>
                  <a:lnTo>
                    <a:pt x="761" y="622"/>
                  </a:lnTo>
                  <a:lnTo>
                    <a:pt x="762" y="618"/>
                  </a:lnTo>
                  <a:lnTo>
                    <a:pt x="731" y="621"/>
                  </a:lnTo>
                  <a:lnTo>
                    <a:pt x="711" y="618"/>
                  </a:lnTo>
                  <a:lnTo>
                    <a:pt x="691" y="610"/>
                  </a:lnTo>
                  <a:lnTo>
                    <a:pt x="710" y="606"/>
                  </a:lnTo>
                  <a:lnTo>
                    <a:pt x="727" y="599"/>
                  </a:lnTo>
                  <a:lnTo>
                    <a:pt x="726" y="594"/>
                  </a:lnTo>
                  <a:lnTo>
                    <a:pt x="689" y="595"/>
                  </a:lnTo>
                  <a:lnTo>
                    <a:pt x="667" y="589"/>
                  </a:lnTo>
                  <a:lnTo>
                    <a:pt x="646" y="577"/>
                  </a:lnTo>
                  <a:lnTo>
                    <a:pt x="633" y="564"/>
                  </a:lnTo>
                  <a:lnTo>
                    <a:pt x="621" y="548"/>
                  </a:lnTo>
                  <a:lnTo>
                    <a:pt x="606" y="520"/>
                  </a:lnTo>
                  <a:lnTo>
                    <a:pt x="595" y="497"/>
                  </a:lnTo>
                  <a:lnTo>
                    <a:pt x="571" y="469"/>
                  </a:lnTo>
                  <a:lnTo>
                    <a:pt x="596" y="459"/>
                  </a:lnTo>
                  <a:lnTo>
                    <a:pt x="613" y="442"/>
                  </a:lnTo>
                  <a:lnTo>
                    <a:pt x="590" y="444"/>
                  </a:lnTo>
                  <a:lnTo>
                    <a:pt x="562" y="442"/>
                  </a:lnTo>
                  <a:lnTo>
                    <a:pt x="565" y="439"/>
                  </a:lnTo>
                  <a:lnTo>
                    <a:pt x="597" y="421"/>
                  </a:lnTo>
                  <a:lnTo>
                    <a:pt x="574" y="422"/>
                  </a:lnTo>
                  <a:lnTo>
                    <a:pt x="554" y="415"/>
                  </a:lnTo>
                  <a:lnTo>
                    <a:pt x="548" y="410"/>
                  </a:lnTo>
                  <a:lnTo>
                    <a:pt x="566" y="407"/>
                  </a:lnTo>
                  <a:lnTo>
                    <a:pt x="588" y="396"/>
                  </a:lnTo>
                  <a:lnTo>
                    <a:pt x="577" y="396"/>
                  </a:lnTo>
                  <a:lnTo>
                    <a:pt x="553" y="393"/>
                  </a:lnTo>
                  <a:lnTo>
                    <a:pt x="541" y="384"/>
                  </a:lnTo>
                  <a:lnTo>
                    <a:pt x="504" y="329"/>
                  </a:lnTo>
                  <a:lnTo>
                    <a:pt x="519" y="330"/>
                  </a:lnTo>
                  <a:lnTo>
                    <a:pt x="533" y="330"/>
                  </a:lnTo>
                  <a:lnTo>
                    <a:pt x="545" y="328"/>
                  </a:lnTo>
                  <a:lnTo>
                    <a:pt x="545" y="323"/>
                  </a:lnTo>
                  <a:lnTo>
                    <a:pt x="529" y="321"/>
                  </a:lnTo>
                  <a:lnTo>
                    <a:pt x="514" y="316"/>
                  </a:lnTo>
                  <a:lnTo>
                    <a:pt x="483" y="294"/>
                  </a:lnTo>
                  <a:lnTo>
                    <a:pt x="462" y="272"/>
                  </a:lnTo>
                  <a:lnTo>
                    <a:pt x="441" y="255"/>
                  </a:lnTo>
                  <a:lnTo>
                    <a:pt x="407" y="243"/>
                  </a:lnTo>
                  <a:lnTo>
                    <a:pt x="424" y="233"/>
                  </a:lnTo>
                  <a:lnTo>
                    <a:pt x="436" y="221"/>
                  </a:lnTo>
                  <a:lnTo>
                    <a:pt x="437" y="215"/>
                  </a:lnTo>
                  <a:lnTo>
                    <a:pt x="433" y="217"/>
                  </a:lnTo>
                  <a:lnTo>
                    <a:pt x="418" y="221"/>
                  </a:lnTo>
                  <a:lnTo>
                    <a:pt x="395" y="217"/>
                  </a:lnTo>
                  <a:lnTo>
                    <a:pt x="365" y="203"/>
                  </a:lnTo>
                  <a:lnTo>
                    <a:pt x="343" y="193"/>
                  </a:lnTo>
                  <a:lnTo>
                    <a:pt x="303" y="164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23" y="149"/>
                  </a:lnTo>
                  <a:lnTo>
                    <a:pt x="340" y="140"/>
                  </a:lnTo>
                  <a:lnTo>
                    <a:pt x="346" y="135"/>
                  </a:lnTo>
                  <a:lnTo>
                    <a:pt x="313" y="137"/>
                  </a:lnTo>
                  <a:lnTo>
                    <a:pt x="306" y="136"/>
                  </a:lnTo>
                  <a:lnTo>
                    <a:pt x="299" y="131"/>
                  </a:lnTo>
                  <a:lnTo>
                    <a:pt x="287" y="114"/>
                  </a:lnTo>
                  <a:lnTo>
                    <a:pt x="263" y="103"/>
                  </a:lnTo>
                  <a:lnTo>
                    <a:pt x="235" y="101"/>
                  </a:lnTo>
                  <a:lnTo>
                    <a:pt x="225" y="71"/>
                  </a:lnTo>
                  <a:lnTo>
                    <a:pt x="210" y="55"/>
                  </a:lnTo>
                  <a:lnTo>
                    <a:pt x="137" y="0"/>
                  </a:lnTo>
                  <a:lnTo>
                    <a:pt x="133" y="61"/>
                  </a:lnTo>
                  <a:lnTo>
                    <a:pt x="134" y="72"/>
                  </a:lnTo>
                  <a:lnTo>
                    <a:pt x="136" y="85"/>
                  </a:lnTo>
                  <a:lnTo>
                    <a:pt x="147" y="107"/>
                  </a:lnTo>
                  <a:lnTo>
                    <a:pt x="133" y="117"/>
                  </a:lnTo>
                  <a:lnTo>
                    <a:pt x="112" y="123"/>
                  </a:lnTo>
                  <a:lnTo>
                    <a:pt x="91" y="117"/>
                  </a:lnTo>
                  <a:lnTo>
                    <a:pt x="18" y="68"/>
                  </a:lnTo>
                  <a:lnTo>
                    <a:pt x="20" y="91"/>
                  </a:lnTo>
                  <a:lnTo>
                    <a:pt x="35" y="133"/>
                  </a:lnTo>
                  <a:lnTo>
                    <a:pt x="44" y="146"/>
                  </a:lnTo>
                  <a:lnTo>
                    <a:pt x="61" y="156"/>
                  </a:lnTo>
                  <a:lnTo>
                    <a:pt x="73" y="159"/>
                  </a:lnTo>
                  <a:lnTo>
                    <a:pt x="93" y="159"/>
                  </a:lnTo>
                  <a:lnTo>
                    <a:pt x="82" y="168"/>
                  </a:lnTo>
                  <a:lnTo>
                    <a:pt x="75" y="186"/>
                  </a:lnTo>
                  <a:lnTo>
                    <a:pt x="79" y="206"/>
                  </a:lnTo>
                  <a:lnTo>
                    <a:pt x="83" y="220"/>
                  </a:lnTo>
                  <a:lnTo>
                    <a:pt x="82" y="231"/>
                  </a:lnTo>
                  <a:lnTo>
                    <a:pt x="74" y="247"/>
                  </a:lnTo>
                  <a:lnTo>
                    <a:pt x="30" y="289"/>
                  </a:lnTo>
                  <a:lnTo>
                    <a:pt x="6" y="320"/>
                  </a:lnTo>
                  <a:lnTo>
                    <a:pt x="4" y="331"/>
                  </a:lnTo>
                  <a:lnTo>
                    <a:pt x="0" y="338"/>
                  </a:lnTo>
                  <a:lnTo>
                    <a:pt x="22" y="352"/>
                  </a:lnTo>
                  <a:lnTo>
                    <a:pt x="34" y="353"/>
                  </a:lnTo>
                  <a:lnTo>
                    <a:pt x="60" y="338"/>
                  </a:lnTo>
                  <a:lnTo>
                    <a:pt x="104" y="314"/>
                  </a:lnTo>
                  <a:lnTo>
                    <a:pt x="139" y="293"/>
                  </a:lnTo>
                  <a:lnTo>
                    <a:pt x="159" y="288"/>
                  </a:lnTo>
                  <a:lnTo>
                    <a:pt x="154" y="297"/>
                  </a:lnTo>
                  <a:lnTo>
                    <a:pt x="129" y="323"/>
                  </a:lnTo>
                  <a:lnTo>
                    <a:pt x="73" y="357"/>
                  </a:lnTo>
                  <a:lnTo>
                    <a:pt x="55" y="365"/>
                  </a:lnTo>
                  <a:lnTo>
                    <a:pt x="57" y="374"/>
                  </a:lnTo>
                  <a:lnTo>
                    <a:pt x="74" y="374"/>
                  </a:lnTo>
                  <a:lnTo>
                    <a:pt x="80" y="373"/>
                  </a:lnTo>
                  <a:lnTo>
                    <a:pt x="93" y="369"/>
                  </a:lnTo>
                  <a:lnTo>
                    <a:pt x="163" y="344"/>
                  </a:lnTo>
                  <a:lnTo>
                    <a:pt x="182" y="340"/>
                  </a:lnTo>
                  <a:lnTo>
                    <a:pt x="193" y="343"/>
                  </a:lnTo>
                  <a:lnTo>
                    <a:pt x="199" y="349"/>
                  </a:lnTo>
                  <a:lnTo>
                    <a:pt x="191" y="368"/>
                  </a:lnTo>
                  <a:lnTo>
                    <a:pt x="185" y="390"/>
                  </a:lnTo>
                  <a:lnTo>
                    <a:pt x="183" y="413"/>
                  </a:lnTo>
                  <a:lnTo>
                    <a:pt x="191" y="431"/>
                  </a:lnTo>
                  <a:lnTo>
                    <a:pt x="198" y="443"/>
                  </a:lnTo>
                  <a:lnTo>
                    <a:pt x="379" y="594"/>
                  </a:lnTo>
                  <a:close/>
                </a:path>
              </a:pathLst>
            </a:custGeom>
            <a:solidFill>
              <a:srgbClr val="ccc0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4563360"/>
              <a:ext cx="77040" cy="1436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29" y="87"/>
                  </a:moveTo>
                  <a:lnTo>
                    <a:pt x="36" y="86"/>
                  </a:lnTo>
                  <a:lnTo>
                    <a:pt x="43" y="82"/>
                  </a:lnTo>
                  <a:lnTo>
                    <a:pt x="48" y="75"/>
                  </a:lnTo>
                  <a:lnTo>
                    <a:pt x="49" y="66"/>
                  </a:lnTo>
                  <a:lnTo>
                    <a:pt x="47" y="54"/>
                  </a:lnTo>
                  <a:lnTo>
                    <a:pt x="41" y="37"/>
                  </a:lnTo>
                  <a:lnTo>
                    <a:pt x="29" y="20"/>
                  </a:lnTo>
                  <a:lnTo>
                    <a:pt x="17" y="9"/>
                  </a:lnTo>
                  <a:lnTo>
                    <a:pt x="1" y="0"/>
                  </a:lnTo>
                  <a:lnTo>
                    <a:pt x="0" y="5"/>
                  </a:lnTo>
                  <a:lnTo>
                    <a:pt x="3" y="21"/>
                  </a:lnTo>
                  <a:lnTo>
                    <a:pt x="17" y="56"/>
                  </a:lnTo>
                  <a:lnTo>
                    <a:pt x="25" y="87"/>
                  </a:lnTo>
                  <a:lnTo>
                    <a:pt x="29" y="87"/>
                  </a:lnTo>
                  <a:close/>
                </a:path>
              </a:pathLst>
            </a:custGeom>
            <a:solidFill>
              <a:srgbClr val="0f0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01520" y="5011560"/>
              <a:ext cx="349200" cy="495360"/>
            </a:xfrm>
            <a:custGeom>
              <a:avLst/>
              <a:gdLst/>
              <a:ahLst/>
              <a:rect l="l" t="t" r="r" b="b"/>
              <a:pathLst>
                <a:path w="226" h="303">
                  <a:moveTo>
                    <a:pt x="225" y="52"/>
                  </a:moveTo>
                  <a:lnTo>
                    <a:pt x="219" y="49"/>
                  </a:lnTo>
                  <a:lnTo>
                    <a:pt x="201" y="41"/>
                  </a:lnTo>
                  <a:lnTo>
                    <a:pt x="183" y="37"/>
                  </a:lnTo>
                  <a:lnTo>
                    <a:pt x="164" y="37"/>
                  </a:lnTo>
                  <a:lnTo>
                    <a:pt x="146" y="41"/>
                  </a:lnTo>
                  <a:lnTo>
                    <a:pt x="127" y="49"/>
                  </a:lnTo>
                  <a:lnTo>
                    <a:pt x="131" y="44"/>
                  </a:lnTo>
                  <a:lnTo>
                    <a:pt x="133" y="37"/>
                  </a:lnTo>
                  <a:lnTo>
                    <a:pt x="131" y="33"/>
                  </a:lnTo>
                  <a:lnTo>
                    <a:pt x="123" y="38"/>
                  </a:lnTo>
                  <a:lnTo>
                    <a:pt x="115" y="41"/>
                  </a:lnTo>
                  <a:lnTo>
                    <a:pt x="113" y="41"/>
                  </a:lnTo>
                  <a:lnTo>
                    <a:pt x="107" y="41"/>
                  </a:lnTo>
                  <a:lnTo>
                    <a:pt x="112" y="33"/>
                  </a:lnTo>
                  <a:lnTo>
                    <a:pt x="121" y="22"/>
                  </a:lnTo>
                  <a:lnTo>
                    <a:pt x="135" y="12"/>
                  </a:lnTo>
                  <a:lnTo>
                    <a:pt x="154" y="4"/>
                  </a:lnTo>
                  <a:lnTo>
                    <a:pt x="169" y="1"/>
                  </a:lnTo>
                  <a:lnTo>
                    <a:pt x="157" y="0"/>
                  </a:lnTo>
                  <a:lnTo>
                    <a:pt x="140" y="2"/>
                  </a:lnTo>
                  <a:lnTo>
                    <a:pt x="128" y="5"/>
                  </a:lnTo>
                  <a:lnTo>
                    <a:pt x="109" y="14"/>
                  </a:lnTo>
                  <a:lnTo>
                    <a:pt x="84" y="31"/>
                  </a:lnTo>
                  <a:lnTo>
                    <a:pt x="54" y="57"/>
                  </a:lnTo>
                  <a:lnTo>
                    <a:pt x="32" y="79"/>
                  </a:lnTo>
                  <a:lnTo>
                    <a:pt x="20" y="97"/>
                  </a:lnTo>
                  <a:lnTo>
                    <a:pt x="6" y="122"/>
                  </a:lnTo>
                  <a:lnTo>
                    <a:pt x="0" y="137"/>
                  </a:lnTo>
                  <a:lnTo>
                    <a:pt x="2" y="152"/>
                  </a:lnTo>
                  <a:lnTo>
                    <a:pt x="9" y="170"/>
                  </a:lnTo>
                  <a:lnTo>
                    <a:pt x="16" y="180"/>
                  </a:lnTo>
                  <a:lnTo>
                    <a:pt x="29" y="194"/>
                  </a:lnTo>
                  <a:lnTo>
                    <a:pt x="30" y="202"/>
                  </a:lnTo>
                  <a:lnTo>
                    <a:pt x="39" y="213"/>
                  </a:lnTo>
                  <a:lnTo>
                    <a:pt x="48" y="229"/>
                  </a:lnTo>
                  <a:lnTo>
                    <a:pt x="45" y="235"/>
                  </a:lnTo>
                  <a:lnTo>
                    <a:pt x="50" y="240"/>
                  </a:lnTo>
                  <a:lnTo>
                    <a:pt x="60" y="254"/>
                  </a:lnTo>
                  <a:lnTo>
                    <a:pt x="75" y="269"/>
                  </a:lnTo>
                  <a:lnTo>
                    <a:pt x="89" y="276"/>
                  </a:lnTo>
                  <a:lnTo>
                    <a:pt x="101" y="281"/>
                  </a:lnTo>
                  <a:lnTo>
                    <a:pt x="119" y="289"/>
                  </a:lnTo>
                  <a:lnTo>
                    <a:pt x="134" y="297"/>
                  </a:lnTo>
                  <a:lnTo>
                    <a:pt x="151" y="302"/>
                  </a:lnTo>
                  <a:lnTo>
                    <a:pt x="170" y="301"/>
                  </a:lnTo>
                  <a:lnTo>
                    <a:pt x="181" y="298"/>
                  </a:lnTo>
                  <a:lnTo>
                    <a:pt x="193" y="292"/>
                  </a:lnTo>
                  <a:lnTo>
                    <a:pt x="201" y="282"/>
                  </a:lnTo>
                  <a:lnTo>
                    <a:pt x="205" y="265"/>
                  </a:lnTo>
                  <a:lnTo>
                    <a:pt x="201" y="238"/>
                  </a:lnTo>
                  <a:lnTo>
                    <a:pt x="191" y="207"/>
                  </a:lnTo>
                  <a:lnTo>
                    <a:pt x="173" y="175"/>
                  </a:lnTo>
                  <a:lnTo>
                    <a:pt x="155" y="152"/>
                  </a:lnTo>
                  <a:lnTo>
                    <a:pt x="146" y="131"/>
                  </a:lnTo>
                  <a:lnTo>
                    <a:pt x="142" y="105"/>
                  </a:lnTo>
                  <a:lnTo>
                    <a:pt x="142" y="93"/>
                  </a:lnTo>
                  <a:lnTo>
                    <a:pt x="147" y="66"/>
                  </a:lnTo>
                  <a:lnTo>
                    <a:pt x="156" y="54"/>
                  </a:lnTo>
                  <a:lnTo>
                    <a:pt x="170" y="47"/>
                  </a:lnTo>
                  <a:lnTo>
                    <a:pt x="188" y="45"/>
                  </a:lnTo>
                  <a:lnTo>
                    <a:pt x="203" y="47"/>
                  </a:lnTo>
                  <a:lnTo>
                    <a:pt x="225" y="52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89600" y="5463000"/>
              <a:ext cx="231480" cy="277920"/>
            </a:xfrm>
            <a:custGeom>
              <a:avLst/>
              <a:gdLst/>
              <a:ahLst/>
              <a:rect l="l" t="t" r="r" b="b"/>
              <a:pathLst>
                <a:path w="150" h="170">
                  <a:moveTo>
                    <a:pt x="142" y="106"/>
                  </a:moveTo>
                  <a:lnTo>
                    <a:pt x="134" y="108"/>
                  </a:lnTo>
                  <a:lnTo>
                    <a:pt x="126" y="109"/>
                  </a:lnTo>
                  <a:lnTo>
                    <a:pt x="113" y="108"/>
                  </a:lnTo>
                  <a:lnTo>
                    <a:pt x="101" y="105"/>
                  </a:lnTo>
                  <a:lnTo>
                    <a:pt x="83" y="97"/>
                  </a:lnTo>
                  <a:lnTo>
                    <a:pt x="71" y="90"/>
                  </a:lnTo>
                  <a:lnTo>
                    <a:pt x="64" y="85"/>
                  </a:lnTo>
                  <a:lnTo>
                    <a:pt x="60" y="81"/>
                  </a:lnTo>
                  <a:lnTo>
                    <a:pt x="55" y="75"/>
                  </a:lnTo>
                  <a:lnTo>
                    <a:pt x="53" y="67"/>
                  </a:lnTo>
                  <a:lnTo>
                    <a:pt x="54" y="56"/>
                  </a:lnTo>
                  <a:lnTo>
                    <a:pt x="60" y="44"/>
                  </a:lnTo>
                  <a:lnTo>
                    <a:pt x="69" y="34"/>
                  </a:lnTo>
                  <a:lnTo>
                    <a:pt x="78" y="25"/>
                  </a:lnTo>
                  <a:lnTo>
                    <a:pt x="85" y="15"/>
                  </a:lnTo>
                  <a:lnTo>
                    <a:pt x="88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1" y="4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7"/>
                  </a:lnTo>
                  <a:lnTo>
                    <a:pt x="32" y="14"/>
                  </a:lnTo>
                  <a:lnTo>
                    <a:pt x="29" y="23"/>
                  </a:lnTo>
                  <a:lnTo>
                    <a:pt x="26" y="37"/>
                  </a:lnTo>
                  <a:lnTo>
                    <a:pt x="26" y="53"/>
                  </a:lnTo>
                  <a:lnTo>
                    <a:pt x="21" y="67"/>
                  </a:lnTo>
                  <a:lnTo>
                    <a:pt x="14" y="81"/>
                  </a:lnTo>
                  <a:lnTo>
                    <a:pt x="6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07"/>
                  </a:lnTo>
                  <a:lnTo>
                    <a:pt x="7" y="111"/>
                  </a:lnTo>
                  <a:lnTo>
                    <a:pt x="12" y="115"/>
                  </a:lnTo>
                  <a:lnTo>
                    <a:pt x="29" y="129"/>
                  </a:lnTo>
                  <a:lnTo>
                    <a:pt x="39" y="141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72" y="158"/>
                  </a:lnTo>
                  <a:lnTo>
                    <a:pt x="86" y="159"/>
                  </a:lnTo>
                  <a:lnTo>
                    <a:pt x="110" y="165"/>
                  </a:lnTo>
                  <a:lnTo>
                    <a:pt x="123" y="168"/>
                  </a:lnTo>
                  <a:lnTo>
                    <a:pt x="135" y="169"/>
                  </a:lnTo>
                  <a:lnTo>
                    <a:pt x="143" y="167"/>
                  </a:lnTo>
                  <a:lnTo>
                    <a:pt x="142" y="162"/>
                  </a:lnTo>
                  <a:lnTo>
                    <a:pt x="137" y="161"/>
                  </a:lnTo>
                  <a:lnTo>
                    <a:pt x="123" y="157"/>
                  </a:lnTo>
                  <a:lnTo>
                    <a:pt x="114" y="153"/>
                  </a:lnTo>
                  <a:lnTo>
                    <a:pt x="106" y="148"/>
                  </a:lnTo>
                  <a:lnTo>
                    <a:pt x="112" y="140"/>
                  </a:lnTo>
                  <a:lnTo>
                    <a:pt x="121" y="134"/>
                  </a:lnTo>
                  <a:lnTo>
                    <a:pt x="140" y="123"/>
                  </a:lnTo>
                  <a:lnTo>
                    <a:pt x="149" y="116"/>
                  </a:lnTo>
                  <a:lnTo>
                    <a:pt x="145" y="117"/>
                  </a:lnTo>
                  <a:lnTo>
                    <a:pt x="137" y="120"/>
                  </a:lnTo>
                  <a:lnTo>
                    <a:pt x="124" y="120"/>
                  </a:lnTo>
                  <a:lnTo>
                    <a:pt x="116" y="117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2" y="106"/>
                  </a:lnTo>
                  <a:close/>
                </a:path>
              </a:pathLst>
            </a:custGeom>
            <a:solidFill>
              <a:srgbClr val="39322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84720" y="5065200"/>
              <a:ext cx="52560" cy="3924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" y="9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40800" y="5904720"/>
              <a:ext cx="32400" cy="187920"/>
            </a:xfrm>
            <a:custGeom>
              <a:avLst/>
              <a:gdLst/>
              <a:ahLst/>
              <a:rect l="l" t="t" r="r" b="b"/>
              <a:pathLst>
                <a:path w="21" h="115">
                  <a:moveTo>
                    <a:pt x="20" y="0"/>
                  </a:moveTo>
                  <a:lnTo>
                    <a:pt x="3" y="51"/>
                  </a:lnTo>
                  <a:lnTo>
                    <a:pt x="0" y="81"/>
                  </a:lnTo>
                  <a:lnTo>
                    <a:pt x="3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7480" y="5274720"/>
              <a:ext cx="19800" cy="22860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9" y="0"/>
                  </a:moveTo>
                  <a:lnTo>
                    <a:pt x="12" y="77"/>
                  </a:lnTo>
                  <a:lnTo>
                    <a:pt x="0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69680" y="4829760"/>
              <a:ext cx="14184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60" y="0"/>
                  </a:lnTo>
                  <a:lnTo>
                    <a:pt x="35" y="1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3" y="61"/>
                  </a:lnTo>
                  <a:lnTo>
                    <a:pt x="66" y="53"/>
                  </a:lnTo>
                  <a:lnTo>
                    <a:pt x="72" y="40"/>
                  </a:lnTo>
                  <a:lnTo>
                    <a:pt x="80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69680" y="4829760"/>
              <a:ext cx="14184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81" y="9"/>
                  </a:move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3"/>
                  </a:lnTo>
                  <a:lnTo>
                    <a:pt x="63" y="60"/>
                  </a:lnTo>
                  <a:lnTo>
                    <a:pt x="63" y="68"/>
                  </a:lnTo>
                  <a:lnTo>
                    <a:pt x="43" y="70"/>
                  </a:lnTo>
                  <a:lnTo>
                    <a:pt x="25" y="69"/>
                  </a:lnTo>
                  <a:lnTo>
                    <a:pt x="13" y="65"/>
                  </a:lnTo>
                  <a:lnTo>
                    <a:pt x="9" y="62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60" y="0"/>
                  </a:lnTo>
                  <a:lnTo>
                    <a:pt x="81" y="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69680" y="4900320"/>
              <a:ext cx="61560" cy="42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34480" y="4828320"/>
              <a:ext cx="14220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4" y="4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10" y="62"/>
                  </a:lnTo>
                  <a:lnTo>
                    <a:pt x="14" y="65"/>
                  </a:lnTo>
                  <a:lnTo>
                    <a:pt x="26" y="69"/>
                  </a:lnTo>
                  <a:lnTo>
                    <a:pt x="43" y="70"/>
                  </a:lnTo>
                  <a:lnTo>
                    <a:pt x="63" y="68"/>
                  </a:lnTo>
                  <a:lnTo>
                    <a:pt x="64" y="61"/>
                  </a:lnTo>
                  <a:lnTo>
                    <a:pt x="66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1" y="24"/>
                  </a:lnTo>
                  <a:lnTo>
                    <a:pt x="90" y="21"/>
                  </a:lnTo>
                  <a:lnTo>
                    <a:pt x="82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34480" y="4828320"/>
              <a:ext cx="142200" cy="11592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60" y="0"/>
                  </a:moveTo>
                  <a:lnTo>
                    <a:pt x="82" y="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81" y="31"/>
                  </a:lnTo>
                  <a:lnTo>
                    <a:pt x="72" y="40"/>
                  </a:lnTo>
                  <a:lnTo>
                    <a:pt x="66" y="52"/>
                  </a:lnTo>
                  <a:lnTo>
                    <a:pt x="64" y="61"/>
                  </a:lnTo>
                  <a:lnTo>
                    <a:pt x="63" y="69"/>
                  </a:lnTo>
                  <a:lnTo>
                    <a:pt x="43" y="70"/>
                  </a:lnTo>
                  <a:lnTo>
                    <a:pt x="26" y="69"/>
                  </a:lnTo>
                  <a:lnTo>
                    <a:pt x="14" y="65"/>
                  </a:lnTo>
                  <a:lnTo>
                    <a:pt x="10" y="63"/>
                  </a:lnTo>
                  <a:lnTo>
                    <a:pt x="3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28360" y="4900320"/>
              <a:ext cx="61920" cy="42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2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0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31240" y="4800600"/>
              <a:ext cx="189720" cy="684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1" y="11"/>
                  </a:moveTo>
                  <a:lnTo>
                    <a:pt x="31" y="2"/>
                  </a:lnTo>
                  <a:lnTo>
                    <a:pt x="9" y="18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28" y="27"/>
                  </a:lnTo>
                  <a:lnTo>
                    <a:pt x="34" y="23"/>
                  </a:lnTo>
                  <a:lnTo>
                    <a:pt x="56" y="20"/>
                  </a:lnTo>
                  <a:lnTo>
                    <a:pt x="103" y="32"/>
                  </a:lnTo>
                  <a:lnTo>
                    <a:pt x="122" y="34"/>
                  </a:lnTo>
                  <a:lnTo>
                    <a:pt x="91" y="18"/>
                  </a:lnTo>
                  <a:lnTo>
                    <a:pt x="106" y="20"/>
                  </a:lnTo>
                  <a:lnTo>
                    <a:pt x="106" y="16"/>
                  </a:lnTo>
                  <a:lnTo>
                    <a:pt x="96" y="11"/>
                  </a:lnTo>
                  <a:lnTo>
                    <a:pt x="81" y="6"/>
                  </a:lnTo>
                  <a:lnTo>
                    <a:pt x="62" y="6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47" y="4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31240" y="4800600"/>
              <a:ext cx="189720" cy="684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32" y="11"/>
                  </a:moveTo>
                  <a:lnTo>
                    <a:pt x="47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6"/>
                  </a:lnTo>
                  <a:lnTo>
                    <a:pt x="81" y="6"/>
                  </a:lnTo>
                  <a:lnTo>
                    <a:pt x="96" y="11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90" y="18"/>
                  </a:lnTo>
                  <a:lnTo>
                    <a:pt x="122" y="34"/>
                  </a:lnTo>
                  <a:lnTo>
                    <a:pt x="103" y="32"/>
                  </a:lnTo>
                  <a:lnTo>
                    <a:pt x="56" y="20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9" y="18"/>
                  </a:lnTo>
                  <a:lnTo>
                    <a:pt x="32" y="2"/>
                  </a:lnTo>
                  <a:lnTo>
                    <a:pt x="32" y="1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9520" y="4807080"/>
              <a:ext cx="101880" cy="4860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9" y="29"/>
                  </a:moveTo>
                  <a:lnTo>
                    <a:pt x="15" y="26"/>
                  </a:lnTo>
                  <a:lnTo>
                    <a:pt x="21" y="24"/>
                  </a:lnTo>
                  <a:lnTo>
                    <a:pt x="33" y="22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57" y="5"/>
                  </a:lnTo>
                  <a:lnTo>
                    <a:pt x="45" y="4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32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6" y="10"/>
                  </a:lnTo>
                  <a:lnTo>
                    <a:pt x="17" y="8"/>
                  </a:lnTo>
                  <a:lnTo>
                    <a:pt x="4" y="10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9520" y="4805280"/>
              <a:ext cx="101880" cy="507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9" y="25"/>
                  </a:moveTo>
                  <a:lnTo>
                    <a:pt x="9" y="30"/>
                  </a:lnTo>
                  <a:lnTo>
                    <a:pt x="16" y="27"/>
                  </a:lnTo>
                  <a:lnTo>
                    <a:pt x="21" y="25"/>
                  </a:lnTo>
                  <a:lnTo>
                    <a:pt x="33" y="23"/>
                  </a:lnTo>
                  <a:lnTo>
                    <a:pt x="64" y="28"/>
                  </a:lnTo>
                  <a:lnTo>
                    <a:pt x="65" y="23"/>
                  </a:lnTo>
                  <a:lnTo>
                    <a:pt x="57" y="6"/>
                  </a:lnTo>
                  <a:lnTo>
                    <a:pt x="45" y="5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32" y="0"/>
                  </a:lnTo>
                  <a:lnTo>
                    <a:pt x="16" y="2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17" y="9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3:04:49Z</dcterms:modified>
  <cp:revision>23</cp:revision>
  <dc:subject/>
  <dc:title>PowerPoint Presentation</dc:title>
</cp:coreProperties>
</file>