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9.wmf" ContentType="image/x-wmf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13.jpeg" ContentType="image/jpeg"/>
  <Override PartName="/ppt/media/coin.wav" ContentType="audio/x-wav"/>
  <Override PartName="/ppt/media/image3.wmf" ContentType="image/x-wmf"/>
  <Override PartName="/ppt/media/image15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B7B-F7CC-4DFF-BD57-316D3265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6E6-B615-419F-9C8B-6F9D0E5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0AE-A26E-4C15-9CE6-E89DA305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B8D-EBEF-4ECF-9B79-69ABC97F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8A0F-6896-4B22-B652-89D3E07A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C4BA-5BB2-4D33-B228-ADBEE85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EE1-F688-4D08-B479-02D2E2F1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AAC0-7675-4E17-97C1-0F7F8D5D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D272-7BA2-4443-ACCE-A1DE9000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812-59B2-46CF-812C-ABFDEE9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C0A-08D0-4EB6-9EA2-7F57C64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3B6-C188-4177-84C2-01DD2C6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633E-BDD3-46B1-8D01-0C4BB2E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621-1742-43B0-B347-38504BB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DDB8-4AA2-4CB9-AB59-0AEF4994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4E1-E793-41B0-902F-09CCBDA7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85B8-2E21-4DA4-9519-12900B9B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00F-8664-4C49-A3C7-104787E0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075-9CFD-43D7-9691-37A20EDA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77D-D091-46D7-BCE5-97C1553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132-2737-4811-B84F-BFAE89EC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2BA-E41A-4B6C-B1A5-0E21495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AAE-316B-4D63-A6B7-CCDEB36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028-C0FD-4D66-9133-EEF5D2F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195264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3E03-F22A-4DAE-BD87-CCB4D239CEFA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E53F-A518-42DD-B7FD-D278810604C3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317016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2.jpeg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0947800">
            <a:off x="1116000" y="549000"/>
            <a:ext cx="381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oi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4392360" cy="329544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p:transition spd="slow">
    <p:comb dir="vert"/>
    <p:sndAc>
      <p:stSnd>
        <p:snd r:embed="rId2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66920" y="1268280"/>
            <a:ext cx="68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QUOIT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2305080" cy="202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2621160" cy="169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303640" cy="198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HAT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6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59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WHEEL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300720" y="1557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19680" y="2992320"/>
            <a:ext cx="2597040" cy="2597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5" name="coi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411640" cy="13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2800080" cy="26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1081200">
            <a:off x="6659280" y="1052280"/>
            <a:ext cx="2087640" cy="777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 rot="21330000">
            <a:off x="2471400" y="1727280"/>
            <a:ext cx="39718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BRACELET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6" name="coin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38120" cy="130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392800" cy="539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THE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1468600">
            <a:off x="2771640" y="1557000"/>
            <a:ext cx="18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MOON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5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698400"/>
            <a:ext cx="6400800" cy="5035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43280" y="155736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AKE</a:t>
            </a:r>
            <a:endParaRPr b="0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4" name="coin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11280" y="981000"/>
            <a:ext cx="6121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QUOIT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156384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404640"/>
            <a:ext cx="6985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quoit is used for      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25560">
                  <a:solidFill>
                    <a:srgbClr val="3399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ying games</a:t>
            </a:r>
            <a:endParaRPr b="0" lang="en-US" sz="1800" spc="1" strike="noStrike">
              <a:ln w="25560">
                <a:solidFill>
                  <a:srgbClr val="3399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7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1:52:04Z</dcterms:created>
  <dc:creator>Manager</dc:creator>
  <dc:description/>
  <dc:language>en-US</dc:language>
  <cp:lastModifiedBy> </cp:lastModifiedBy>
  <dcterms:modified xsi:type="dcterms:W3CDTF">2008-05-18T14:24:42Z</dcterms:modified>
  <cp:revision>10</cp:revision>
  <dc:subject/>
  <dc:title>Slide 1</dc:title>
</cp:coreProperties>
</file>