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gif" ContentType="image/gif"/>
  <Override PartName="/ppt/media/image7.wmf" ContentType="image/x-wmf"/>
  <Override PartName="/ppt/media/image8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CA5-0D88-4653-BD77-A4CFC7A0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5E8-3B0F-4F84-8657-9971A72A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101-936D-4D2E-8177-CF125C7F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B3B-A412-42D2-BCD3-3351FD74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A5C-531A-4644-B19B-D61CF87F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0A4-5B32-4880-ADF7-9C92987D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859-4DD9-4134-A5AF-5F7EBA2D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DE3-C891-4D0B-8B9A-2BAA19DD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E4B-7060-4D1F-846D-57942C47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AF3-9761-4F34-9C19-0682AC6C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FA1-70E9-4552-A223-A0F27A7E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E62-C0FB-4803-B0FF-615E084D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7513-36F6-4246-B2C7-C90F86C71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2592720" cy="131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1828800" cy="2000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6836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386064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TAST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MOU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1828800" cy="2000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6836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86064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EAT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TEE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6000" y="1484280"/>
            <a:ext cx="18730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549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E, L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3860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SEE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 LO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E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2016000" cy="2009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4762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EAR, 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64500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HEAR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 LIS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E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024360" cy="1468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232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86064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TOUCH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HA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1633680" cy="2449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5308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76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M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86064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SM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ITH OUR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N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223380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17874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6:56:35Z</dcterms:created>
  <dc:creator>Manager</dc:creator>
  <dc:description/>
  <dc:language>en-US</dc:language>
  <cp:lastModifiedBy> </cp:lastModifiedBy>
  <dcterms:modified xsi:type="dcterms:W3CDTF">2008-02-24T12:14:46Z</dcterms:modified>
  <cp:revision>4</cp:revision>
  <dc:subject/>
  <dc:title>Slide 1</dc:title>
</cp:coreProperties>
</file>