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1.png" ContentType="image/png"/>
  <Override PartName="/ppt/media/image19.wmf" ContentType="image/x-wmf"/>
  <Override PartName="/ppt/media/image17.png" ContentType="image/png"/>
  <Override PartName="/ppt/media/image20.wmf" ContentType="image/x-wmf"/>
  <Override PartName="/ppt/media/image32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2.png" ContentType="image/png"/>
  <Override PartName="/ppt/media/image7.jpeg" ContentType="image/jpeg"/>
  <Override PartName="/ppt/media/image40.wmf" ContentType="image/x-wmf"/>
  <Override PartName="/ppt/media/image33.wmf" ContentType="image/x-wmf"/>
  <Override PartName="/ppt/media/image13.png" ContentType="image/png"/>
  <Override PartName="/ppt/media/image12.png" ContentType="image/png"/>
  <Override PartName="/ppt/media/image35.wmf" ContentType="image/x-wmf"/>
  <Override PartName="/ppt/media/image15.png" ContentType="image/png"/>
  <Override PartName="/ppt/media/image36.wmf" ContentType="image/x-wmf"/>
  <Override PartName="/ppt/media/image39.wmf" ContentType="image/x-wmf"/>
  <Override PartName="/ppt/media/image42.png" ContentType="image/png"/>
  <Override PartName="/ppt/media/image43.jpeg" ContentType="image/jpeg"/>
  <Override PartName="/ppt/media/image44.wmf" ContentType="image/x-wmf"/>
  <Override PartName="/ppt/media/image38.png" ContentType="image/png"/>
  <Override PartName="/ppt/media/image41.wmf" ContentType="image/x-wmf"/>
  <Override PartName="/ppt/media/image8.png" ContentType="image/png"/>
  <Override PartName="/ppt/media/image14.jpeg" ContentType="image/jpeg"/>
  <Override PartName="/ppt/media/image16.wmf" ContentType="image/x-wmf"/>
  <Override PartName="/ppt/media/image6.jpeg" ContentType="image/jpeg"/>
  <Override PartName="/ppt/media/image37.jpeg" ContentType="image/jpeg"/>
  <Override PartName="/ppt/media/image3.jpeg" ContentType="image/jpeg"/>
  <Override PartName="/ppt/media/image28.wmf" ContentType="image/x-wmf"/>
  <Override PartName="/ppt/media/image10.jpeg" ContentType="image/jpeg"/>
  <Override PartName="/ppt/media/image11.wmf" ContentType="image/x-wmf"/>
  <Override PartName="/ppt/media/image5.jpeg" ContentType="image/jpeg"/>
  <Override PartName="/ppt/media/image18.wmf" ContentType="image/x-wmf"/>
  <Override PartName="/ppt/media/image34.png" ContentType="image/png"/>
  <Override PartName="/ppt/media/image4.png" ContentType="image/png"/>
  <Override PartName="/ppt/media/image30.wmf" ContentType="image/x-wmf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F4EA-774C-4802-977A-A80F02D61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2CDC-74FC-4948-B963-2CD06A3D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B394-87E1-4F63-9F4F-8C0428FB4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029B-74DC-4763-8326-0289DA319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57EE-D335-4C3F-9C4A-596341198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A4BE-25EE-4041-A7FA-FDADE597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D91F-58E8-4731-A92F-AB04855A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9DF63-2C53-4546-8D85-63EF3D0C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0CFC-C99D-4B7E-AB32-B89FDDB3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1A50-9558-4BC9-BA4F-DCE4B2C7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BF81E-3036-456E-8094-1463FD9F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EAF0-B7A7-4BD3-A6C7-4969ECF8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D320-5AFB-41C3-96F1-19AE5ADC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5F104-9A08-423D-96AB-D36D3643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0766-076B-4FAC-BB2B-EA0C7CDD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0AA4-50B1-4517-9D4D-4FE925628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5E73-76D2-4975-A1AE-4E18A220E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3074-C84E-48BA-B31F-DF11169E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8CB6-6E65-44BA-8966-D5D6390E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5E78-674C-4FFC-B27C-B95828A9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0130-E83B-49B9-8EE2-86DE53F0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1A6A-6A01-4088-A68C-8F44BCF4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9B2E-E050-40A6-B655-FE928E92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D32D-8627-4A0D-BA9B-D1DD3F03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FFC7-7A74-4948-8B66-D64699E02A9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1AEA-3943-4D3A-A90E-8D638775BA6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9.wmf"/><Relationship Id="rId4" Type="http://schemas.openxmlformats.org/officeDocument/2006/relationships/image" Target="../media/image40.wmf"/><Relationship Id="rId5" Type="http://schemas.openxmlformats.org/officeDocument/2006/relationships/image" Target="../media/image41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 SKI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ND YOU HO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E ALL CRAW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ND THEN RO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56000" y="476280"/>
            <a:ext cx="3456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MOVING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rcRect l="0" t="722" r="0" b="0"/>
          <a:stretch/>
        </p:blipFill>
        <p:spPr>
          <a:xfrm>
            <a:off x="4859280" y="1916280"/>
            <a:ext cx="2932200" cy="36306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556000" y="2133720"/>
            <a:ext cx="20872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5440" y="1828440"/>
            <a:ext cx="5830920" cy="37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00"/>
                </a:solidFill>
                <a:latin typeface="Comic Sans MS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is for APPLE PI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TASTY AND HO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00"/>
                </a:solidFill>
                <a:latin typeface="Comic Sans MS"/>
              </a:rPr>
              <a:t>B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s for BUT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N A GLASS PO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00"/>
                </a:solidFill>
                <a:latin typeface="Comic Sans MS"/>
              </a:rPr>
              <a:t>C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is for CEREA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WITH MILK or T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nd that is MY TEA-TIME </a:t>
            </a:r>
            <a:r>
              <a:rPr b="1" lang="en-GB" sz="2400" spc="-1" strike="noStrike">
                <a:solidFill>
                  <a:srgbClr val="993300"/>
                </a:solidFill>
                <a:latin typeface="Comic Sans MS"/>
              </a:rPr>
              <a:t>A-B-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556000" y="476280"/>
            <a:ext cx="3887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TEA-TIME ABC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4356000" y="1484280"/>
            <a:ext cx="1657440" cy="14479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6156360" y="2565360"/>
            <a:ext cx="1695240" cy="12891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4500720" y="3645000"/>
            <a:ext cx="1560240" cy="13572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708360" y="3068640"/>
            <a:ext cx="2376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4000" y="1484280"/>
            <a:ext cx="53276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EET ARE FOR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HOP and SKI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LIDE and SLI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or PLAY in the RA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And for JUMP again and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556000" y="476280"/>
            <a:ext cx="367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FEET ARE FOR...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3"/>
          <a:srcRect l="795" t="792" r="0" b="0"/>
          <a:stretch/>
        </p:blipFill>
        <p:spPr>
          <a:xfrm>
            <a:off x="5003640" y="1989000"/>
            <a:ext cx="3148200" cy="31561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 flipV="1">
            <a:off x="1692360" y="2276640"/>
            <a:ext cx="2016000" cy="288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08360" y="2276640"/>
            <a:ext cx="1943280" cy="1728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755640" y="1486080"/>
            <a:ext cx="4680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 AM THE BO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WHAT I SAY GO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LAP YOUR HAN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ND TOUCH YOUR TO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WAVE YOUR H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WHEREVER IT GO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556000" y="476280"/>
            <a:ext cx="374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I AM THE BOS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5580000" y="1628640"/>
            <a:ext cx="2160720" cy="20275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284720" y="3141720"/>
            <a:ext cx="15825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5867280" y="3716280"/>
            <a:ext cx="1430280" cy="21319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213080" y="4581360"/>
            <a:ext cx="16542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7416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BOOM BOOM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YOUR HEART IS A PUM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T BEATS ALL NIGHT AND D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WHILE YOU SLEEP AND WHILE YOU PLA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RUN AROUND THE PLAYGROU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PUT YOUR HAND ON YOUR VE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EEL YOUR HEART BEAT FAS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S IT “BOOMS” IN YOUR CHE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556000" y="476280"/>
            <a:ext cx="3816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YOUR HEART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10" name="Picture 6" descr="C:\Documents and Settings\scap0s12\Local Settings\Temporary Internet Files\Content.IE5\TNE0XPGR\MCj03666180000[1].wmf"/>
          <p:cNvPicPr/>
          <p:nvPr/>
        </p:nvPicPr>
        <p:blipFill>
          <a:blip r:embed="rId1"/>
          <a:stretch/>
        </p:blipFill>
        <p:spPr>
          <a:xfrm>
            <a:off x="6443640" y="1125360"/>
            <a:ext cx="1736640" cy="1802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539280" y="1197000"/>
            <a:ext cx="43196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WITH MY HAND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 CAN TURN ON A T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 CAN GIVE YOU A CL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 CAN SCRATCH MY NO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 CAN TICKLE MY TO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 CAN POINT TO THE SK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AND I CAN SAY GOODBY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556000" y="260280"/>
            <a:ext cx="3887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WITH MY HAND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5651640" y="4137120"/>
            <a:ext cx="2592360" cy="20509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643280" y="5013360"/>
            <a:ext cx="11509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5435640" y="1557360"/>
            <a:ext cx="1716120" cy="27352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213080" y="1916280"/>
            <a:ext cx="14385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84000" y="1557000"/>
            <a:ext cx="41036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ROAR LIKE A L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IAOW LIKE A C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ND BUZZ LIKE A B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THEN SHOUT WITH YOUR OWN VOIC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HELLO, THIS IS ME!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268360" y="476280"/>
            <a:ext cx="374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SOUNDS LIKE M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435640" y="1989000"/>
            <a:ext cx="2841480" cy="30592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4211640" y="1844640"/>
            <a:ext cx="1224000" cy="504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11280" y="1412640"/>
            <a:ext cx="6192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YOU MUST SHOU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F I’M FAR AW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O I CAN HE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WHAT YOU WANT TO S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BUT IF YOU AND I ARE NE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YOU CAN WHISP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AND I WILL HE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411280" y="260280"/>
            <a:ext cx="3888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LOUD AND SOFT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5580000" y="4292640"/>
            <a:ext cx="2333520" cy="15606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6156360" y="1557360"/>
            <a:ext cx="1830240" cy="18302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5686560" cy="31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AUTUM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REES ARE BR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 KICK THE LEAV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L OVER THE T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556000" y="476280"/>
            <a:ext cx="3456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AUTUMN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076720" y="1700280"/>
            <a:ext cx="3021120" cy="25398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5940360" y="4365720"/>
            <a:ext cx="2448000" cy="21668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611280" y="1988640"/>
            <a:ext cx="453384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WIN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VERYTHING IS COL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’M FREEZ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ITH THIS SNOW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771640" y="476280"/>
            <a:ext cx="3456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8c3d91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WINTE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50000">
                    <a:srgbClr val="8c3d91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rcRect l="0" t="722" r="0" b="0"/>
          <a:stretch/>
        </p:blipFill>
        <p:spPr>
          <a:xfrm>
            <a:off x="5219640" y="2060640"/>
            <a:ext cx="2932200" cy="36306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199280" cy="34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SPR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LOWERS IN THE TRE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T’S LIGHTER EACH D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SO WE CAN STAY OUT AND PLA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2556000" y="476280"/>
            <a:ext cx="3456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SPRING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5867280" y="1773360"/>
            <a:ext cx="2519640" cy="25146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5651640" y="5084640"/>
            <a:ext cx="1168200" cy="1440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7524720" y="4653000"/>
            <a:ext cx="1235160" cy="1942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 CAN DA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ND I CAN JUM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 CAN WAL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ND I CAN RUN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556000" y="476280"/>
            <a:ext cx="3456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I CAN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4761000" y="2446200"/>
            <a:ext cx="3771720" cy="28544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708360" y="2133720"/>
            <a:ext cx="934920" cy="2872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685440" y="2204640"/>
            <a:ext cx="46069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UMME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BY THE S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ANDY FOOTPRI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ADE BY M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556000" y="476280"/>
            <a:ext cx="3456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SUMMER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5435640" y="3357720"/>
            <a:ext cx="2254320" cy="30826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5508720" y="1413000"/>
            <a:ext cx="1841400" cy="1838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4000" y="1557000"/>
            <a:ext cx="53276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NE STEP, TWO STE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THE BABY SMIL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THREE STEPS, FOUR STE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THE BABY CRI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IVE STEPS, SIX STE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THE BABY FALLS FLAT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T’S NOT EASY TO DO THAT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050920" y="476280"/>
            <a:ext cx="4103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FIRST STEP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2757600" cy="30970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932360" y="1773360"/>
            <a:ext cx="1295280" cy="20872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5800" y="1557360"/>
            <a:ext cx="62625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AN YOU BOUNCE, BOUNCE,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BOU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LIKE A BIG BOUNCY BAL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AN YOU FLY, FLY, FL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LIKE A BIG RED BALLOON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YES, I WANT TO SEE THE MOON!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56000" y="476280"/>
            <a:ext cx="3456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cc33"/>
                    </a:gs>
                    <a:gs pos="50000">
                      <a:srgbClr val="ffff00"/>
                    </a:gs>
                    <a:gs pos="100000">
                      <a:srgbClr val="33cc33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PLAYING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cc33"/>
                  </a:gs>
                  <a:gs pos="50000">
                    <a:srgbClr val="ffff00"/>
                  </a:gs>
                  <a:gs pos="100000">
                    <a:srgbClr val="33cc33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621" t="722" r="0" b="0"/>
          <a:stretch/>
        </p:blipFill>
        <p:spPr>
          <a:xfrm>
            <a:off x="5884920" y="2151000"/>
            <a:ext cx="2825640" cy="24289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580000" y="1844640"/>
            <a:ext cx="504720" cy="1224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rcRect l="0" t="722" r="0" b="0"/>
          <a:stretch/>
        </p:blipFill>
        <p:spPr>
          <a:xfrm>
            <a:off x="6588000" y="1646280"/>
            <a:ext cx="1905120" cy="23590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4360" y="1484280"/>
            <a:ext cx="6264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NE, TWO : HOW ARE YO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THREE, FOUR: LIE ON THE FLO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IVE, SIX: I CAN DO TRIC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SEVEN, EIGHT: JUMP OVER THE GAT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INE, TEN: LET’S DO IT AGAIN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556000" y="476280"/>
            <a:ext cx="3456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COUNTING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6012000" y="1197000"/>
            <a:ext cx="936360" cy="180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773000"/>
            <a:ext cx="55418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HOW MANY EARS HAS A RABBIT?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HOW MANY TAILS HAS A DOG?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HOW MANY FEET HAS A BABY?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HOW MANY EYES HAS A FROG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556000" y="476280"/>
            <a:ext cx="3816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HOW MANY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5867280" y="2133720"/>
            <a:ext cx="2681280" cy="33843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003640" y="2133720"/>
            <a:ext cx="1729080" cy="1871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116000" y="177336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 WENT TO THE ZOO ONE D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LL THE ANIMALS CAME OUT TO PL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THERE WERE EIGHT MONKEYS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EVEN DONKEYS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IX WHALES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AND FIVE SNAK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804000" y="2708280"/>
            <a:ext cx="1608120" cy="16416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2556000" y="476280"/>
            <a:ext cx="3744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TO THE ZOO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5580000" y="3716280"/>
            <a:ext cx="1608120" cy="16416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4356000" y="4149720"/>
            <a:ext cx="1608120" cy="16416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5076720" y="2060640"/>
            <a:ext cx="1608120" cy="16412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7"/>
          <a:stretch/>
        </p:blipFill>
        <p:spPr>
          <a:xfrm>
            <a:off x="7020000" y="4508640"/>
            <a:ext cx="1608120" cy="16412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 flipV="1">
            <a:off x="4067280" y="5734080"/>
            <a:ext cx="720720" cy="2872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54720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ONE, TWO, THREE, FOU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OPEN THE DO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VE, SIX, SEVEN, EIGH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AT FROM THE PL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INE, T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BED AGAIN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556000" y="476280"/>
            <a:ext cx="3816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IN BED AGAIN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rcRect l="9898" t="3608" r="7199" b="0"/>
          <a:stretch/>
        </p:blipFill>
        <p:spPr>
          <a:xfrm>
            <a:off x="6156360" y="2192400"/>
            <a:ext cx="2448000" cy="35258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572000" y="2349360"/>
            <a:ext cx="1728720" cy="3589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685440" y="1828440"/>
            <a:ext cx="6118200" cy="37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Comic Sans MS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for an A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Comic Sans MS"/>
              </a:rPr>
              <a:t>B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for a BE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Comic Sans MS"/>
              </a:rPr>
              <a:t>C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for the C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ICH CLIMBS UP THE TRE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556000" y="476280"/>
            <a:ext cx="367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ANIMAL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716360" y="2349360"/>
          <a:ext cx="2592360" cy="259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2349360"/>
                    <a:ext cx="259236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08360" y="4149720"/>
            <a:ext cx="11509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1:49:50Z</dcterms:created>
  <dc:creator> </dc:creator>
  <dc:description/>
  <dc:language>en-US</dc:language>
  <cp:lastModifiedBy> </cp:lastModifiedBy>
  <dcterms:modified xsi:type="dcterms:W3CDTF">2008-04-28T14:52:41Z</dcterms:modified>
  <cp:revision>54</cp:revision>
  <dc:subject/>
  <dc:title>Diapositiva 1</dc:title>
</cp:coreProperties>
</file>