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8.wmf" ContentType="image/x-wmf"/>
  <Override PartName="/ppt/media/voltage.wav" ContentType="audio/x-wav"/>
  <Override PartName="/ppt/media/image57.wmf" ContentType="image/x-wmf"/>
  <Override PartName="/ppt/media/image56.png" ContentType="image/png"/>
  <Override PartName="/ppt/media/image40.jpeg" ContentType="image/jpeg"/>
  <Override PartName="/ppt/media/image55.wmf" ContentType="image/x-wmf"/>
  <Override PartName="/ppt/media/image49.jpeg" ContentType="image/jpeg"/>
  <Override PartName="/ppt/media/image85.gif" ContentType="image/gif"/>
  <Override PartName="/ppt/media/image48.jpeg" ContentType="image/jpeg"/>
  <Override PartName="/ppt/media/image75.gif" ContentType="image/gif"/>
  <Override PartName="/ppt/media/image78.png" ContentType="image/png"/>
  <Override PartName="/ppt/media/image47.gif" ContentType="image/gif"/>
  <Override PartName="/ppt/media/image26.jpeg" ContentType="image/jpeg"/>
  <Override PartName="/ppt/media/image46.jpeg" ContentType="image/jpeg"/>
  <Override PartName="/ppt/media/image44.jpeg" ContentType="image/jpeg"/>
  <Override PartName="/ppt/media/image60.wmf" ContentType="image/x-wmf"/>
  <Override PartName="/ppt/media/image43.jpeg" ContentType="image/jpeg"/>
  <Override PartName="/ppt/media/image50.wmf" ContentType="image/x-wmf"/>
  <Override PartName="/ppt/media/image42.gif" ContentType="image/gif"/>
  <Override PartName="/ppt/media/image34.gif" ContentType="image/gif"/>
  <Override PartName="/ppt/media/image33.gif" ContentType="image/gif"/>
  <Override PartName="/ppt/media/image9.jpeg" ContentType="image/jpeg"/>
  <Override PartName="/ppt/media/image32.gif" ContentType="image/gif"/>
  <Override PartName="/ppt/media/image30.jpeg" ContentType="image/jpeg"/>
  <Override PartName="/ppt/media/image29.gif" ContentType="image/gif"/>
  <Override PartName="/ppt/media/image54.wmf" ContentType="image/x-wmf"/>
  <Override PartName="/ppt/media/image31.gif" ContentType="image/gif"/>
  <Override PartName="/ppt/media/image11.jpeg" ContentType="image/jpeg"/>
  <Override PartName="/ppt/media/image87.jpeg" ContentType="image/jpeg"/>
  <Override PartName="/ppt/media/image21.jpeg" ContentType="image/jpeg"/>
  <Override PartName="/ppt/media/image69.wmf" ContentType="image/x-wmf"/>
  <Override PartName="/ppt/media/image20.gif" ContentType="image/gif"/>
  <Override PartName="/ppt/media/image14.png" ContentType="image/png"/>
  <Override PartName="/ppt/media/image17.jpeg" ContentType="image/jpeg"/>
  <Override PartName="/ppt/media/image7.png" ContentType="image/png"/>
  <Override PartName="/ppt/media/image76.gif" ContentType="image/gif"/>
  <Override PartName="/ppt/media/image25.jpeg" ContentType="image/jpeg"/>
  <Override PartName="/ppt/media/image62.wmf" ContentType="image/x-wmf"/>
  <Override PartName="/ppt/media/image59.gif" ContentType="image/gif"/>
  <Override PartName="/ppt/media/image84.wmf" ContentType="image/x-wmf"/>
  <Override PartName="/ppt/media/image13.jpeg" ContentType="image/jpeg"/>
  <Override PartName="/ppt/media/image61.wmf" ContentType="image/x-wmf"/>
  <Override PartName="/ppt/media/image86.gif" ContentType="image/gif"/>
  <Override PartName="/ppt/media/image10.jpeg" ContentType="image/jpeg"/>
  <Override PartName="/ppt/media/image27.jpeg" ContentType="image/jpeg"/>
  <Override PartName="/ppt/media/image65.wmf" ContentType="image/x-wmf"/>
  <Override PartName="/ppt/media/image19.gif" ContentType="image/gif"/>
  <Override PartName="/ppt/media/image81.wmf" ContentType="image/x-wmf"/>
  <Override PartName="/ppt/media/image79.gif" ContentType="image/gif"/>
  <Override PartName="/ppt/media/image67.wmf" ContentType="image/x-wmf"/>
  <Override PartName="/ppt/media/image7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71.wmf" ContentType="image/x-wmf"/>
  <Override PartName="/ppt/media/image66.wmf" ContentType="image/x-wmf"/>
  <Override PartName="/ppt/media/image64.wmf" ContentType="image/x-wmf"/>
  <Override PartName="/ppt/media/image63.wmf" ContentType="image/x-wmf"/>
  <Override PartName="/ppt/media/image6.gif" ContentType="image/gif"/>
  <Override PartName="/ppt/media/image83.gif" ContentType="image/gif"/>
  <Override PartName="/ppt/media/image18.gif" ContentType="image/gif"/>
  <Override PartName="/ppt/media/image2.jpeg" ContentType="image/jpeg"/>
  <Override PartName="/ppt/media/image36.jpeg" ContentType="image/jpeg"/>
  <Override PartName="/ppt/media/image24.jpeg" ContentType="image/jpeg"/>
  <Override PartName="/ppt/media/image52.wmf" ContentType="image/x-wmf"/>
  <Override PartName="/ppt/media/image3.jpeg" ContentType="image/jpeg"/>
  <Override PartName="/ppt/media/image37.jpeg" ContentType="image/jpeg"/>
  <Override PartName="/ppt/media/image80.gif" ContentType="image/gif"/>
  <Override PartName="/ppt/media/image15.gif" ContentType="image/gif"/>
  <Override PartName="/ppt/media/image4.png" ContentType="image/png"/>
  <Override PartName="/ppt/media/image12.jpeg" ContentType="image/jpeg"/>
  <Override PartName="/ppt/media/image41.gif" ContentType="image/gif"/>
  <Override PartName="/ppt/media/image53.wmf" ContentType="image/x-wmf"/>
  <Override PartName="/ppt/media/image28.gif" ContentType="image/gif"/>
  <Override PartName="/ppt/media/image23.jpeg" ContentType="image/jpeg"/>
  <Override PartName="/ppt/media/image5.gif" ContentType="image/gif"/>
  <Override PartName="/ppt/media/image38.jpeg" ContentType="image/jpeg"/>
  <Override PartName="/ppt/media/image8.jpeg" ContentType="image/jpeg"/>
  <Override PartName="/ppt/media/image70.wmf" ContentType="image/x-wmf"/>
  <Override PartName="/ppt/media/image45.gif" ContentType="image/gif"/>
  <Override PartName="/ppt/media/image39.jpeg" ContentType="image/jpeg"/>
  <Override PartName="/ppt/media/image82.png" ContentType="image/png"/>
  <Override PartName="/ppt/media/image72.gif" ContentType="image/gif"/>
  <Override PartName="/ppt/media/image22.jpeg" ContentType="image/jpeg"/>
  <Override PartName="/ppt/media/image1.jpeg" ContentType="image/jpeg"/>
  <Override PartName="/ppt/media/image68.wmf" ContentType="image/x-wmf"/>
  <Override PartName="/ppt/media/image35.jpeg" ContentType="image/jpeg"/>
  <Override PartName="/ppt/media/image5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533-92B2-4EAE-9739-7D0BC919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14A-17D8-405B-BB47-1F0B1AE2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DE9-8206-4BBC-80F0-F19B8980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C47-41AD-40F5-89A0-09E0A42E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BD2-F72B-47D0-8C39-EE1F2150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7E67-6849-4F7F-A0CA-C7356389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80D9-28FB-4851-9136-D20F550F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9681-529C-43D0-A5F2-7917E8F9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C6C2-0E8E-45A6-B318-CBE591C3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26C5-BAB3-41B2-A514-281DC7D3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074-394B-4007-ADFC-06335F87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D6FB-DC8E-4084-8A43-2757294C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A576-E877-430E-A5DF-48B81EB7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31B2-72EE-44E0-94C9-BD1ECF6F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6FF2-B24A-44DF-B2CA-4FD81751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CBE9-4426-4658-AEDE-F15EB259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90C7-295A-4D10-AF63-4C87900A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9DCD-90C6-41B8-A33D-03C38BB1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2F6-DDFA-497C-8E1F-4A4C0809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DB65D-EA68-4140-BFFD-C5786EB2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453-5AF9-483E-9C55-017EB09B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711D-9837-43B6-8DB6-1F8532B6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E7EF-207B-4958-872E-DC8158EC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EEF9-664F-4763-8888-AC84362C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E04A-14AF-40D1-8B2D-CABEE4A4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933B-E785-41B1-9188-F2AAFD66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6F75-5393-4830-95CE-2557C6EF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3ECC-416B-467B-B03B-17F18BC9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BBAF7-2F8D-42F9-85D9-FD423CB0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3462-6CD1-4CBE-A9AF-3AAA58A4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8660-7E4E-490C-9600-77FC1EE3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745-72A7-4046-BCDC-DFC0DFFB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84C0D-1F66-4D80-92C6-BA6E7642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9C1E5-8FCC-4B2B-9E8A-90FD31B0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B6E5A-666B-460D-90DF-4C19E2FD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20DF-DB7B-48E7-B667-DB409117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88F8F-AE9C-4907-AD52-B5CBC1C9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E2CB-6F78-4F98-86C6-DA029700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8986-D6EB-4539-9DE9-2F8C765A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FE1D-F092-4406-BF8B-46E02BDA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A04A-4E95-4225-BB3F-FB29191A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B4C6-85A8-40B2-BAD2-1811EC65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83B-AECB-40FB-A7BB-B3860DA7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F97CE-74D0-4C89-A59F-3A684446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8F119-E961-4A23-8CCD-3038AC7E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15469-02BD-4B09-9135-66A95123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E3858-76FC-48A1-BB75-DFF43F86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37AA9-2B98-4EB4-9A67-2CBE869F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383C3-B881-421C-8767-54A95A55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8BB2F-4CC1-4563-BDD4-6731B821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ADD19-C4B0-4E4B-96A1-45CC2DA0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36DF2-7B0C-4B29-9D46-80F8D9F8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E7BCD-BEC7-45FF-A312-905ED0B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5B2-2F85-470A-A629-7FCF1EF6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35E7-2835-4645-A2D8-BEA3DEB8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34DB0-6A56-4C60-AEB6-39DAF4F8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9D15-F3D3-4144-8992-A6340386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5F014-7CB9-4065-8080-704C4BC4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33774-5E9E-4657-B87C-4C796E08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4F456-974D-432F-933E-F4F4FACF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D2611-E027-445A-AAD8-4F16AD1F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626D1-8A10-44CB-8C70-B56F6904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008C9-9F6F-4151-9512-066C974E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241AB-B4F2-46AF-BA6F-66AAD8CF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B7E-3F3C-4A80-B228-1B12564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B00AF-E57E-4866-847D-B48AC434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2E1C-0443-4E4A-B6F4-DC22DFF5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A0CAB-8F6F-4BA6-A84D-9F9F97C6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CB5B0-8E2B-4D32-B993-0080D559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2EDEF-797A-46AD-A28B-E2CA600F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97305-87D2-40E0-83E3-083DBD4C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7A5F1-546E-47D3-B572-509CFB8B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arbabeHmk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tarbabeHmk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Click to edit the outline text format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tarbabeHmk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tarbabeHmk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Third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StarbabeHmk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Fourth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Fifth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Sixth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tarbabeHmkBold"/>
              </a:rPr>
              <a:t>Seventh Outline Level</a:t>
            </a:r>
            <a:endParaRPr b="0" i="1" lang="en-US" sz="2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238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StarbabeHmk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arbabeHmk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800"/>
            <a:ext cx="362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StarbabeHmk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arbabeHmk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400800"/>
            <a:ext cx="238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StarbabeHmk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7EE2-439A-4DAF-9BCF-2BFDCB9E2891}" type="slidenum">
              <a:rPr b="0" lang="en-US" sz="1400" spc="-1" strike="noStrike">
                <a:solidFill>
                  <a:srgbClr val="ffffff"/>
                </a:solidFill>
                <a:latin typeface="StarbabeHmk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7086600" cy="3733920"/>
          </a:xfrm>
          <a:prstGeom prst="rect">
            <a:avLst/>
          </a:prstGeom>
          <a:solidFill>
            <a:srgbClr val="111111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tarbabeHmkBold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arbabeHmk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StarbabeHmkBol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tarbabeHmkBold"/>
              </a:rPr>
              <a:t>Second Outline Level</a:t>
            </a:r>
            <a:endParaRPr b="0" i="1" lang="en-US" sz="2400" spc="-1" strike="noStrike">
              <a:solidFill>
                <a:srgbClr val="ffffff"/>
              </a:solidFill>
              <a:latin typeface="StarbabeHmkBold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StarbabeHmk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tarbabeHmkBold"/>
              </a:rPr>
              <a:t>Third Outline Level</a:t>
            </a:r>
            <a:endParaRPr b="0" i="1" lang="en-US" sz="2000" spc="-1" strike="noStrike">
              <a:solidFill>
                <a:srgbClr val="ffffff"/>
              </a:solidFill>
              <a:latin typeface="StarbabeHmkBold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StarbabeHmk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tarbabeHmkBold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StarbabeHmkBold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StarbabeHmk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tarbabeHmkBold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StarbabeHmkBold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tarbabeHmkBold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StarbabeHmkBold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tarbabeHmkBold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E747-E85A-4970-9F5D-08C470795882}" type="slidenum">
              <a:rPr b="0" lang="en-US" sz="2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4572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2" algn="ctr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3" algn="ctr">
              <a:spcBef>
                <a:spcPts val="451"/>
              </a:spcBef>
              <a:buClr>
                <a:srgbClr val="9966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4" algn="ctr">
              <a:spcBef>
                <a:spcPts val="451"/>
              </a:spcBef>
              <a:buClr>
                <a:srgbClr val="9966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contrast="6000"/>
          </a:blip>
          <a:srcRect l="10000" t="8898" r="11122" b="2224"/>
          <a:stretch/>
        </p:blipFill>
        <p:spPr>
          <a:xfrm>
            <a:off x="7115040" y="4572000"/>
            <a:ext cx="2028960" cy="2286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7DC5-8917-43FB-90DE-F4F181A2E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>
            <a:lum contrast="6000"/>
          </a:blip>
          <a:srcRect l="10000" t="8898" r="11122" b="2224"/>
          <a:stretch/>
        </p:blipFill>
        <p:spPr>
          <a:xfrm>
            <a:off x="0" y="762120"/>
            <a:ext cx="5410080" cy="609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4120" y="45684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C95C-FFFD-4C20-B769-EAACEEE7E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D5F0-1436-4D49-9220-0D3D20B49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001D-8222-49CD-9AD7-78350FDAD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MSj03884700000%5B1%5D.wav" TargetMode="External"/><Relationship Id="rId3" Type="http://schemas.microsoft.com/office/2007/relationships/media" Target="file:///tmp/home/.config/libreoffice/4/user/gallery/MSj03884700000%5B1%5D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7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7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7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5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7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7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7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2.gif"/><Relationship Id="rId3" Type="http://schemas.openxmlformats.org/officeDocument/2006/relationships/image" Target="../media/image43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7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file:///tmp/home/.config/libreoffice/4/user/gallery/MSSN00623A0000%5B1%5D.wav" TargetMode="External"/><Relationship Id="rId5" Type="http://schemas.microsoft.com/office/2007/relationships/media" Target="file:///tmp/home/.config/libreoffice/4/user/gallery/MSSN00623A0000%5B1%5D.wav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7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5.gif"/><Relationship Id="rId3" Type="http://schemas.openxmlformats.org/officeDocument/2006/relationships/image" Target="../media/image46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7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7.gif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7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5.wmf"/><Relationship Id="rId10" Type="http://schemas.openxmlformats.org/officeDocument/2006/relationships/image" Target="../media/image56.png"/><Relationship Id="rId11" Type="http://schemas.openxmlformats.org/officeDocument/2006/relationships/image" Target="../media/image57.wmf"/><Relationship Id="rId12" Type="http://schemas.openxmlformats.org/officeDocument/2006/relationships/image" Target="../media/image58.wmf"/><Relationship Id="rId13" Type="http://schemas.openxmlformats.org/officeDocument/2006/relationships/image" Target="../media/image59.gif"/><Relationship Id="rId14" Type="http://schemas.openxmlformats.org/officeDocument/2006/relationships/audio" Target="../media/voltage.wav"/><Relationship Id="rId15" Type="http://schemas.openxmlformats.org/officeDocument/2006/relationships/slideLayout" Target="../slideLayouts/slideLayout7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5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66.wmf"/><Relationship Id="rId14" Type="http://schemas.openxmlformats.org/officeDocument/2006/relationships/image" Target="../media/image67.wmf"/><Relationship Id="rId15" Type="http://schemas.openxmlformats.org/officeDocument/2006/relationships/image" Target="../media/image68.wmf"/><Relationship Id="rId16" Type="http://schemas.openxmlformats.org/officeDocument/2006/relationships/image" Target="../media/image69.wmf"/><Relationship Id="rId17" Type="http://schemas.openxmlformats.org/officeDocument/2006/relationships/image" Target="../media/image70.wmf"/><Relationship Id="rId18" Type="http://schemas.openxmlformats.org/officeDocument/2006/relationships/image" Target="../media/image71.wmf"/><Relationship Id="rId19" Type="http://schemas.openxmlformats.org/officeDocument/2006/relationships/audio" Target="../media/voltage.wav"/><Relationship Id="rId20" Type="http://schemas.openxmlformats.org/officeDocument/2006/relationships/slideLayout" Target="../slideLayouts/slideLayout7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6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68.wmf"/><Relationship Id="rId3" Type="http://schemas.openxmlformats.org/officeDocument/2006/relationships/image" Target="../media/image74.png"/><Relationship Id="rId4" Type="http://schemas.openxmlformats.org/officeDocument/2006/relationships/image" Target="../media/image74.png"/><Relationship Id="rId5" Type="http://schemas.openxmlformats.org/officeDocument/2006/relationships/image" Target="../media/image74.png"/><Relationship Id="rId6" Type="http://schemas.openxmlformats.org/officeDocument/2006/relationships/image" Target="../media/image74.pn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image" Target="../media/image76.gif"/><Relationship Id="rId3" Type="http://schemas.openxmlformats.org/officeDocument/2006/relationships/image" Target="../media/image77.wmf"/><Relationship Id="rId4" Type="http://schemas.openxmlformats.org/officeDocument/2006/relationships/image" Target="../media/image78.png"/><Relationship Id="rId5" Type="http://schemas.openxmlformats.org/officeDocument/2006/relationships/image" Target="../media/image78.png"/><Relationship Id="rId6" Type="http://schemas.openxmlformats.org/officeDocument/2006/relationships/image" Target="../media/image79.gif"/><Relationship Id="rId7" Type="http://schemas.openxmlformats.org/officeDocument/2006/relationships/image" Target="../media/image78.png"/><Relationship Id="rId8" Type="http://schemas.openxmlformats.org/officeDocument/2006/relationships/image" Target="../media/image78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0.gif"/><Relationship Id="rId2" Type="http://schemas.openxmlformats.org/officeDocument/2006/relationships/image" Target="../media/image81.wmf"/><Relationship Id="rId3" Type="http://schemas.openxmlformats.org/officeDocument/2006/relationships/image" Target="../media/image78.png"/><Relationship Id="rId4" Type="http://schemas.openxmlformats.org/officeDocument/2006/relationships/image" Target="../media/image78.png"/><Relationship Id="rId5" Type="http://schemas.openxmlformats.org/officeDocument/2006/relationships/image" Target="../media/image82.png"/><Relationship Id="rId6" Type="http://schemas.openxmlformats.org/officeDocument/2006/relationships/image" Target="../media/image82.pn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6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gif"/><Relationship Id="rId2" Type="http://schemas.openxmlformats.org/officeDocument/2006/relationships/image" Target="../media/image84.wmf"/><Relationship Id="rId3" Type="http://schemas.openxmlformats.org/officeDocument/2006/relationships/image" Target="../media/image85.gif"/><Relationship Id="rId4" Type="http://schemas.openxmlformats.org/officeDocument/2006/relationships/image" Target="../media/image86.gif"/><Relationship Id="rId5" Type="http://schemas.openxmlformats.org/officeDocument/2006/relationships/image" Target="../media/image87.jpeg"/><Relationship Id="rId6" Type="http://schemas.openxmlformats.org/officeDocument/2006/relationships/image" Target="../media/image29.gif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file:///tmp/home/.config/libreoffice/4/user/gallery/MSj03884640000%5B1%5D.wav" TargetMode="External"/><Relationship Id="rId5" Type="http://schemas.microsoft.com/office/2007/relationships/media" Target="file:///tmp/home/.config/libreoffice/4/user/gallery/MSj03884640000%5B1%5D.wav" TargetMode="External"/><Relationship Id="rId6" Type="http://schemas.openxmlformats.org/officeDocument/2006/relationships/image" Target="../media/image7.pn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7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14.png"/><Relationship Id="rId6" Type="http://schemas.openxmlformats.org/officeDocument/2006/relationships/image" Target="../media/image21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7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086600" cy="3733920"/>
          </a:xfrm>
          <a:prstGeom prst="rect">
            <a:avLst/>
          </a:prstGeom>
          <a:solidFill>
            <a:srgbClr val="111111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Tahoma"/>
              </a:rPr>
              <a:t>ANIMALS</a:t>
            </a:r>
            <a:endParaRPr b="0" lang="en-US" sz="8800" spc="-1" strike="noStrike">
              <a:solidFill>
                <a:srgbClr val="ffffff"/>
              </a:solidFill>
              <a:latin typeface="StarbabeHmkBold"/>
            </a:endParaRPr>
          </a:p>
        </p:txBody>
      </p:sp>
      <p:sp>
        <p:nvSpPr>
          <p:cNvPr id="327" name=""/>
          <p:cNvSpPr/>
          <p:nvPr/>
        </p:nvSpPr>
        <p:spPr>
          <a:xfrm>
            <a:off x="4427640" y="5229360"/>
            <a:ext cx="4464000" cy="936360"/>
          </a:xfrm>
          <a:prstGeom prst="rect">
            <a:avLst/>
          </a:prstGeom>
          <a:solidFill>
            <a:srgbClr val="1111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The crocodi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71640" y="4724280"/>
            <a:ext cx="410508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e9a9d4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990099"/>
                </a:solidFill>
                <a:latin typeface="Arial"/>
              </a:rPr>
              <a:t>TIG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5"/>
          <a:stretch/>
        </p:blipFill>
        <p:spPr>
          <a:xfrm>
            <a:off x="395280" y="476280"/>
            <a:ext cx="4896000" cy="3263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6"/>
          <a:stretch/>
        </p:blipFill>
        <p:spPr>
          <a:xfrm>
            <a:off x="4859280" y="1773360"/>
            <a:ext cx="4284720" cy="2857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4173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65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71640" y="4869000"/>
            <a:ext cx="4105080" cy="143964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f9a5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9900"/>
                </a:solidFill>
                <a:latin typeface="Arial"/>
              </a:rPr>
              <a:t>DO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608720" cy="4608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71640" y="4797360"/>
            <a:ext cx="403200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c4edad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7ca800"/>
                </a:solidFill>
                <a:latin typeface="Arial"/>
              </a:rPr>
              <a:t>C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419640" cy="27334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108000" y="820800"/>
            <a:ext cx="5473800" cy="39765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4" name="voltage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0000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f6565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ffff"/>
                </a:solidFill>
                <a:latin typeface="Arial"/>
              </a:rPr>
              <a:t>FRO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380360" y="765000"/>
            <a:ext cx="1603440" cy="10843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6588000" y="2060640"/>
            <a:ext cx="1533600" cy="11221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108000" y="620640"/>
            <a:ext cx="5832360" cy="38894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6" name="voltage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4609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4869000"/>
            <a:ext cx="5219640" cy="1224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ce9d6c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663300"/>
                </a:solidFill>
                <a:latin typeface="Arial"/>
              </a:rPr>
              <a:t>BUTTERFL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451640" y="3679920"/>
            <a:ext cx="1131840" cy="10206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003640" y="549360"/>
            <a:ext cx="1297080" cy="811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7380360" y="1413000"/>
            <a:ext cx="1547640" cy="8683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4716360" y="2349360"/>
            <a:ext cx="2089080" cy="1710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727200" y="260280"/>
            <a:ext cx="3628800" cy="45370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68360" y="4797360"/>
            <a:ext cx="4464000" cy="129564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4b48c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800000"/>
                </a:solidFill>
                <a:latin typeface="Arial"/>
              </a:rPr>
              <a:t>RABB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162080" y="476280"/>
            <a:ext cx="2689200" cy="4032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154400" y="907920"/>
            <a:ext cx="4449960" cy="3019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4" name="voltage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4797360"/>
            <a:ext cx="475308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ae7b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b04700"/>
                </a:solidFill>
                <a:latin typeface="Arial"/>
              </a:rPr>
              <a:t>MOUS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6697800" cy="41515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692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41400">
            <a:solidFill>
              <a:srgbClr val="000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33cc"/>
                </a:solidFill>
                <a:latin typeface="Arial"/>
              </a:rPr>
              <a:t>FO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826920" y="523800"/>
            <a:ext cx="6121440" cy="40816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71280" y="4869000"/>
            <a:ext cx="5148360" cy="1224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e9a9d4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990099"/>
                </a:solidFill>
                <a:latin typeface="Arial"/>
              </a:rPr>
              <a:t>CHICK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79280" y="789120"/>
            <a:ext cx="5761080" cy="38113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6877080" y="981000"/>
            <a:ext cx="1942920" cy="1440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4" name="voltage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50920" y="4797360"/>
            <a:ext cx="475452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f9a5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9900"/>
                </a:solidFill>
                <a:latin typeface="Arial"/>
              </a:rPr>
              <a:t>SPID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647640" cy="19047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5688000" cy="4133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4" name="voltage.wav"/>
      </p:stSnd>
    </p:sndAc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82692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41400">
            <a:solidFill>
              <a:srgbClr val="000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33cc"/>
                </a:solidFill>
                <a:latin typeface="Arial"/>
              </a:rPr>
              <a:t>L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1584360" cy="8841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588000" y="2708280"/>
            <a:ext cx="1781280" cy="1568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1397160" y="260280"/>
            <a:ext cx="3030480" cy="4464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8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627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31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79280" y="4797360"/>
            <a:ext cx="496908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c4edad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7ca800"/>
                </a:solidFill>
                <a:latin typeface="Arial"/>
              </a:rPr>
              <a:t>SNAK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7057800" cy="35510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95280" y="4797360"/>
            <a:ext cx="475308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ae7b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b04700"/>
                </a:solidFill>
                <a:latin typeface="Arial"/>
              </a:rPr>
              <a:t>HORS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6372360" y="2421000"/>
            <a:ext cx="2251080" cy="1427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5473440" cy="428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4" name="voltage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08000" y="4797360"/>
            <a:ext cx="5148360" cy="1511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41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33cc"/>
                </a:solidFill>
                <a:latin typeface="Arial"/>
              </a:rPr>
              <a:t>GIRAFF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732720" y="3141720"/>
            <a:ext cx="2087280" cy="16304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030480" cy="4535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3419640" y="260280"/>
            <a:ext cx="4176720" cy="2799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5" name="voltage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2195640" y="189000"/>
            <a:ext cx="1692000" cy="18223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4284720" y="620640"/>
            <a:ext cx="1830240" cy="1474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6419880" y="333360"/>
            <a:ext cx="2724120" cy="173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250920" y="549360"/>
          <a:ext cx="1296720" cy="11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549360"/>
                    <a:ext cx="12967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2124000" y="2492280"/>
            <a:ext cx="1941480" cy="23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395280" y="1989000"/>
          <a:ext cx="14716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989000"/>
                    <a:ext cx="14716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7" name="Picture 5" descr=""/>
          <p:cNvPicPr/>
          <p:nvPr/>
        </p:nvPicPr>
        <p:blipFill>
          <a:blip r:embed="rId10"/>
          <a:stretch/>
        </p:blipFill>
        <p:spPr>
          <a:xfrm>
            <a:off x="6948360" y="2205000"/>
            <a:ext cx="1806840" cy="23050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324000" y="4437000"/>
            <a:ext cx="2400120" cy="22003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3276720" y="5373720"/>
            <a:ext cx="1854000" cy="5792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6084720" y="3933720"/>
            <a:ext cx="1152720" cy="9795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140360" y="2565360"/>
            <a:ext cx="2303280" cy="1511280"/>
          </a:xfrm>
          <a:prstGeom prst="wedgeEllipseCallout">
            <a:avLst>
              <a:gd name="adj1" fmla="val 38560"/>
              <a:gd name="adj2" fmla="val 4905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2637000"/>
            <a:ext cx="182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Comic Sans MS"/>
              </a:rPr>
              <a:t>Which animals do you remember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4" name="voltage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368360" cy="13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324000" y="2205000"/>
          <a:ext cx="133344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205000"/>
                    <a:ext cx="13334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2268360" y="2565360"/>
          <a:ext cx="1582920" cy="14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2565360"/>
                    <a:ext cx="158292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5148360" y="404640"/>
          <a:ext cx="1271520" cy="122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404640"/>
                    <a:ext cx="127152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1" name="" descr=""/>
          <p:cNvPicPr/>
          <p:nvPr/>
        </p:nvPicPr>
        <p:blipFill>
          <a:blip r:embed="rId9"/>
          <a:stretch/>
        </p:blipFill>
        <p:spPr>
          <a:xfrm>
            <a:off x="7451640" y="3141720"/>
            <a:ext cx="1619280" cy="11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7467480" y="762120"/>
          <a:ext cx="1222560" cy="1442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67480" y="762120"/>
                    <a:ext cx="1222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165240" y="4724280"/>
          <a:ext cx="1503360" cy="1584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5240" y="4724280"/>
                    <a:ext cx="15033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6" name="" descr=""/>
          <p:cNvPicPr/>
          <p:nvPr/>
        </p:nvPicPr>
        <p:blipFill>
          <a:blip r:embed="rId14"/>
          <a:stretch/>
        </p:blipFill>
        <p:spPr>
          <a:xfrm>
            <a:off x="2411280" y="476280"/>
            <a:ext cx="1827360" cy="14986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5"/>
          <a:stretch/>
        </p:blipFill>
        <p:spPr>
          <a:xfrm>
            <a:off x="4140360" y="1916280"/>
            <a:ext cx="1616040" cy="13618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6"/>
          <a:stretch/>
        </p:blipFill>
        <p:spPr>
          <a:xfrm>
            <a:off x="2124000" y="4653000"/>
            <a:ext cx="1513080" cy="1754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7"/>
          <a:stretch/>
        </p:blipFill>
        <p:spPr>
          <a:xfrm>
            <a:off x="3708360" y="3933720"/>
            <a:ext cx="1608120" cy="16416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8"/>
          <a:stretch/>
        </p:blipFill>
        <p:spPr>
          <a:xfrm>
            <a:off x="5796000" y="2276640"/>
            <a:ext cx="1403280" cy="20746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9" name="voltage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940000" y="1484280"/>
            <a:ext cx="3203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</a:rPr>
              <a:t>WHICH IS YOUR </a:t>
            </a:r>
            <a:r>
              <a:rPr b="1" i="1" lang="en-GB" sz="4000" spc="-1" strike="noStrike">
                <a:solidFill>
                  <a:srgbClr val="cc0000"/>
                </a:solidFill>
                <a:latin typeface="Arial"/>
              </a:rPr>
              <a:t>FAVOURITE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</a:rPr>
              <a:t> ANIMAL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voltag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867280" y="765000"/>
            <a:ext cx="3276720" cy="2376720"/>
          </a:xfrm>
          <a:prstGeom prst="wedgeEllipseCallout">
            <a:avLst>
              <a:gd name="adj1" fmla="val -48013"/>
              <a:gd name="adj2" fmla="val 80393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11640" y="765000"/>
            <a:ext cx="298764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99"/>
                </a:solidFill>
                <a:latin typeface="Arial"/>
              </a:rPr>
              <a:t>MY </a:t>
            </a:r>
            <a:r>
              <a:rPr b="1" i="1" lang="en-GB" sz="3000" spc="-1" strike="noStrike">
                <a:solidFill>
                  <a:srgbClr val="cc0000"/>
                </a:solidFill>
                <a:latin typeface="Arial"/>
              </a:rPr>
              <a:t>FAVOURITE</a:t>
            </a: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333399"/>
                </a:solidFill>
                <a:latin typeface="Arial"/>
              </a:rPr>
              <a:t>ANIMAL IS…</a:t>
            </a:r>
            <a:br>
              <a:rPr sz="3000"/>
            </a:br>
            <a:r>
              <a:rPr b="1" i="1" lang="en-GB" sz="3000" spc="-1" strike="noStrike">
                <a:solidFill>
                  <a:srgbClr val="333399"/>
                </a:solidFill>
                <a:latin typeface="Arial"/>
              </a:rPr>
              <a:t>THE GIRAFF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voltag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767676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3816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 Unicode MS"/>
              </a:rPr>
              <a:t>HOW DO ANIMALS </a:t>
            </a:r>
            <a:r>
              <a:rPr b="0" i="1" lang="en-GB" sz="6000" spc="-1" strike="noStrike">
                <a:solidFill>
                  <a:srgbClr val="990099"/>
                </a:solidFill>
                <a:latin typeface="Arial Unicode MS"/>
              </a:rPr>
              <a:t>MOVE</a:t>
            </a:r>
            <a:r>
              <a:rPr b="0" i="1" lang="en-GB" sz="6000" spc="-1" strike="noStrike">
                <a:solidFill>
                  <a:srgbClr val="000000"/>
                </a:solidFill>
                <a:latin typeface="Arial Unicode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427640" y="3141720"/>
            <a:ext cx="3132000" cy="33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voltag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552320" cy="68137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 rot="1959600">
            <a:off x="900000" y="4224240"/>
            <a:ext cx="3127320" cy="26337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900000" y="2708280"/>
            <a:ext cx="28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W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140360" y="333360"/>
            <a:ext cx="28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LL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258920" y="378936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 fox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788000" y="148428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 giraffe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7667640" y="404640"/>
            <a:ext cx="1008000" cy="9637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4140360" y="2492280"/>
            <a:ext cx="1989000" cy="13384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867280" y="2924280"/>
            <a:ext cx="2562480" cy="36129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138560" y="47628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ICKLY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788000" y="1557360"/>
            <a:ext cx="23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 monkey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395280" y="5445000"/>
            <a:ext cx="1873080" cy="9432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611280" y="350028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LOWLY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42920" y="465300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 turtle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horz"/>
    <p:sndAc>
      <p:stSnd>
        <p:snd r:embed="rId9" name="voltage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3052 L 0.22153 0.03052 E">
                                      <p:cBhvr>
                                        <p:cTn id="413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82692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e9a9d4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800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990099"/>
                </a:solidFill>
                <a:latin typeface="Arial"/>
              </a:rPr>
              <a:t>ZEBR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5545440" cy="3678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57080" y="3068640"/>
            <a:ext cx="3167280" cy="22287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5796000" y="4941720"/>
            <a:ext cx="2644560" cy="11829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754200" y="981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AVILY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435640" y="277956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GHTLY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867280" y="393372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 mouse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26920" y="2276640"/>
            <a:ext cx="309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66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ke an elephant</a:t>
            </a:r>
            <a:endParaRPr b="0" lang="en-US" sz="2400" spc="1" strike="noStrike">
              <a:ln w="19080">
                <a:solidFill>
                  <a:srgbClr val="660066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33cc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3960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 Unicode MS"/>
              </a:rPr>
              <a:t>LET’S PAY ATTENTION TO THESE </a:t>
            </a:r>
            <a:r>
              <a:rPr b="0" i="1" lang="en-GB" sz="4400" spc="-1" strike="noStrike">
                <a:solidFill>
                  <a:srgbClr val="990099"/>
                </a:solidFill>
                <a:latin typeface="Arial Unicode MS"/>
              </a:rPr>
              <a:t>MOV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3132000" cy="338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voltag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089080" cy="1422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7596360" y="2637000"/>
            <a:ext cx="1795320" cy="15825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5580000" y="4869000"/>
            <a:ext cx="2089080" cy="16192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468360" y="4365720"/>
            <a:ext cx="1871640" cy="1490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340000" y="40464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LY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179280" y="1916280"/>
            <a:ext cx="2376720" cy="17236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2843280" y="242100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WIM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771640" y="4149720"/>
            <a:ext cx="194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O ON 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 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URS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7343640" y="5516640"/>
            <a:ext cx="1692360" cy="12380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6659640" y="400536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UMP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724360" y="18900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LITHER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16 -0.09453 C -0.09149 -0.11654 -0.09965 -0.13832 -0.12604 -0.14597 C -0.15243 -0.15338 -0.21875 -0.13253 -0.24115 -0.13971 C -0.26337 -0.14689 -0.2566 -0.18072 -0.25972 -0.18883 E">
                                      <p:cBhvr>
                                        <p:cTn id="456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10480" cy="1371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See you!</a:t>
            </a:r>
            <a:endParaRPr b="0" lang="en-US" sz="8800" spc="-1" strike="noStrike">
              <a:solidFill>
                <a:srgbClr val="ffffff"/>
              </a:solidFill>
              <a:latin typeface="StarbabeHmkBold"/>
            </a:endParaRPr>
          </a:p>
        </p:txBody>
      </p:sp>
    </p:spTree>
  </p:cSld>
  <p:transition spd="med">
    <p:blinds dir="horz"/>
    <p:sndAc>
      <p:stSnd>
        <p:snd r:embed="rId2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82692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f9a5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9900"/>
                </a:solidFill>
                <a:latin typeface="Arial"/>
              </a:rPr>
              <a:t>BIR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828720" y="620640"/>
            <a:ext cx="5183280" cy="388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292720" y="5661000"/>
            <a:ext cx="647640" cy="432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50920" y="4797360"/>
            <a:ext cx="496872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c4edad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00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7ca800"/>
                </a:solidFill>
                <a:latin typeface="Arial"/>
              </a:rPr>
              <a:t>PARRO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2641680" cy="4032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5195880" y="476280"/>
            <a:ext cx="2687760" cy="4032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0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43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26920" y="4797360"/>
            <a:ext cx="41054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f6565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826920" y="896760"/>
            <a:ext cx="6336000" cy="36118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-360" y="4797360"/>
            <a:ext cx="52196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ce9d6c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66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663300"/>
                </a:solidFill>
                <a:latin typeface="Arial"/>
              </a:rPr>
              <a:t>MONKE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8101080" y="3500280"/>
            <a:ext cx="676080" cy="1028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187280" y="333360"/>
            <a:ext cx="2857680" cy="4334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4284720" y="333360"/>
            <a:ext cx="4465440" cy="29480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6" name="voltag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6506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-360" y="4797360"/>
            <a:ext cx="521964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4b48c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8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800000"/>
                </a:solidFill>
                <a:latin typeface="Arial"/>
              </a:rPr>
              <a:t>ELEPHA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1341360" cy="1143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5148360" y="1989000"/>
            <a:ext cx="1133280" cy="1800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6588000" y="549360"/>
            <a:ext cx="1440000" cy="1419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6"/>
          <a:stretch/>
        </p:blipFill>
        <p:spPr>
          <a:xfrm>
            <a:off x="990720" y="0"/>
            <a:ext cx="3220920" cy="47242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7" name="voltage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982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324000" y="4797360"/>
            <a:ext cx="4752720" cy="1440000"/>
          </a:xfrm>
          <a:prstGeom prst="rect">
            <a:avLst/>
          </a:prstGeom>
          <a:gradFill rotWithShape="0">
            <a:gsLst>
              <a:gs pos="0">
                <a:srgbClr val="566869"/>
              </a:gs>
              <a:gs pos="50000">
                <a:srgbClr val="f1ae7b"/>
              </a:gs>
              <a:gs pos="100000">
                <a:srgbClr val="566869"/>
              </a:gs>
            </a:gsLst>
            <a:lin ang="5400000"/>
          </a:gradFill>
          <a:ln w="41400">
            <a:solidFill>
              <a:srgbClr val="ff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b04700"/>
                </a:solidFill>
                <a:latin typeface="Arial"/>
              </a:rPr>
              <a:t>TURT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192720" cy="4086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292720" y="5734080"/>
            <a:ext cx="647640" cy="3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voltage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39:49Z</dcterms:created>
  <dc:creator>Manager</dc:creator>
  <dc:description/>
  <dc:language>en-US</dc:language>
  <cp:lastModifiedBy> </cp:lastModifiedBy>
  <dcterms:modified xsi:type="dcterms:W3CDTF">2008-03-31T11:12:40Z</dcterms:modified>
  <cp:revision>32</cp:revision>
  <dc:subject/>
  <dc:title>Alligator Adventure!</dc:title>
</cp:coreProperties>
</file>