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6.jpeg" ContentType="image/jpeg"/>
  <Override PartName="/ppt/media/image14.png" ContentType="image/png"/>
  <Override PartName="/ppt/media/image13.wmf" ContentType="image/x-wmf"/>
  <Override PartName="/ppt/media/coin.wav" ContentType="audio/x-wav"/>
  <Override PartName="/ppt/media/image3.wmf" ContentType="image/x-wmf"/>
  <Override PartName="/ppt/media/image2.wmf" ContentType="image/x-wm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1F5-B18D-4AC3-A563-D5784FB3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CC4-0BD2-4BAE-9CF1-9635C058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0ED-58E0-4270-92F9-A623D407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AA7-27A0-4E92-B116-FE8EEF21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0F5-E0F0-440F-BF1C-676C363A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97E-947E-4184-815C-612686DA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DCF-DCDB-43FF-B300-D1614C89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97E-EB35-49CD-AEAD-018E118F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017-A699-42EA-92CA-9A9E745D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E67-F171-45BB-A3F4-12C2A159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1C7-D479-4D2D-A6B6-1439803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619-8E57-4E92-9CE8-6CF3B8C0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0D9-227A-47F7-A887-6676AEE0B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508720" y="4724280"/>
            <a:ext cx="33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2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71640" y="1773360"/>
            <a:ext cx="68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CONE 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1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3433800">
            <a:off x="4947480" y="2692800"/>
            <a:ext cx="1868400" cy="406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48360" y="549360"/>
            <a:ext cx="1598760" cy="165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26920" y="4508640"/>
            <a:ext cx="1368720" cy="136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N...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 rot="21327600">
            <a:off x="1525320" y="1557360"/>
            <a:ext cx="374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ICECREAM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4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3180000">
            <a:off x="6520680" y="61056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063960" cy="3471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20286000">
            <a:off x="1187280" y="3429000"/>
            <a:ext cx="2843280" cy="300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21327600">
            <a:off x="1835280" y="1628640"/>
            <a:ext cx="254304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HAT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4" name="coin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6000" y="5300640"/>
            <a:ext cx="1385640" cy="1125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780840" cy="9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88000" y="549360"/>
            <a:ext cx="18082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20746200">
            <a:off x="2484360" y="3068280"/>
            <a:ext cx="4583160" cy="249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 rot="21327600">
            <a:off x="1525320" y="1557360"/>
            <a:ext cx="374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TRUMPET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5" name="coin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2663640" cy="2602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08720" y="2852640"/>
            <a:ext cx="2733480" cy="1679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 rot="21327600">
            <a:off x="1257120" y="1566720"/>
            <a:ext cx="401148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LOUDSPEAKER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  <p:sndAc>
      <p:stSnd>
        <p:snd r:embed="rId5" name="coin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47640" y="1700280"/>
            <a:ext cx="68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CONE 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1563480" cy="172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8000" y="763560"/>
            <a:ext cx="68770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CONE IS USED 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5416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PLAYING GAMES</a:t>
            </a:r>
            <a:endParaRPr b="0" lang="en-US" sz="1800" spc="1" strike="noStrike">
              <a:ln w="34920">
                <a:solidFill>
                  <a:srgbClr val="800000"/>
                </a:solidFill>
                <a:miter/>
              </a:ln>
              <a:solidFill>
                <a:srgbClr val="f5416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4321080" cy="32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co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5:27:29Z</dcterms:created>
  <dc:creator>admin</dc:creator>
  <dc:description/>
  <dc:language>en-US</dc:language>
  <cp:lastModifiedBy> </cp:lastModifiedBy>
  <dcterms:modified xsi:type="dcterms:W3CDTF">2008-05-19T15:27:44Z</dcterms:modified>
  <cp:revision>5</cp:revision>
  <dc:subject/>
  <dc:title>Slide 1</dc:title>
</cp:coreProperties>
</file>