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8.png" ContentType="image/png"/>
  <Override PartName="/ppt/media/image16.wmf" ContentType="image/x-wmf"/>
  <Override PartName="/ppt/media/image7.gif" ContentType="image/gif"/>
  <Override PartName="/ppt/media/image9.wmf" ContentType="image/x-wmf"/>
  <Override PartName="/ppt/media/image6.gif" ContentType="image/gif"/>
  <Override PartName="/ppt/media/image17.wmf" ContentType="image/x-wmf"/>
  <Override PartName="/ppt/media/image11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type.wav" ContentType="audio/x-wav"/>
  <Override PartName="/ppt/media/image15.wmf" ContentType="image/x-wmf"/>
  <Override PartName="/ppt/media/image14.wmf" ContentType="image/x-wmf"/>
  <Override PartName="/ppt/media/image13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C67A-B11E-44D7-B9AD-ABCC553E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F86-D7CA-4661-9EDE-EB47F6F3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610-A123-497B-BB2F-E0C37996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224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6656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43828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224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6656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D5CE-1E4F-4DF1-9CFF-DDD94CA0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E383-26A8-45EF-B9D7-F4041B48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4424-11A5-465C-BDD8-BA162913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FB94-7061-4EEC-AD34-894BB381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2040-696C-432D-94BF-9E008B46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56F6-14D2-41FB-87CC-DBB93D64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12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D6B1-F447-4CF5-906F-151FCD01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3034-4210-44EE-A3C0-CE9BAF00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6DD-72BA-4481-8268-91DA5118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9EEB-50E7-460A-890D-0255E5A0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3E00-C198-4CBB-B96F-7B274A6D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0089-EEC7-4298-83B9-07EE9A7E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2383-27C3-4911-8759-4D3091D2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83EA-722F-49E7-9E0C-BDD7056E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B983-5185-47A0-805C-BBD831F5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D82-C4C5-4116-AD0E-F2B78473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029-0521-4200-836F-749628BC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12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4E2-0A2F-41AF-A715-1223620D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6DA-B1FE-417A-AB26-01689072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08E-89A1-446D-A430-41E23482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434-717D-4C1B-A4A8-9136D5B2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1" marL="639000" indent="-24552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2" marL="982800" indent="-19656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3" marL="1375920" indent="-19656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4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5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6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dy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dy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2310-CF55-41BE-B974-7F077763C0A3}" type="slidenum">
              <a:rPr b="1" lang="en-US" sz="2000" spc="-1" strike="noStrike">
                <a:solidFill>
                  <a:srgbClr val="ffffff"/>
                </a:solidFill>
                <a:latin typeface="Andy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Andy"/>
              </a:rPr>
              <a:t>Click to edit the title text format</a:t>
            </a: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81680" y="38862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cc"/>
                </a:solidFill>
                <a:latin typeface="Andy"/>
              </a:rPr>
              <a:t>Click to edit the title text format</a:t>
            </a: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dy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dy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73CA-F593-4E05-8E7D-7E5185EAD05E}" type="slidenum">
              <a:rPr b="0" lang="en-US" sz="2400" spc="-1" strike="noStrike">
                <a:solidFill>
                  <a:srgbClr val="ffffff"/>
                </a:solidFill>
                <a:latin typeface="And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1" marL="45252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2" marL="905040" algn="ctr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357560" algn="ctr">
              <a:spcBef>
                <a:spcPts val="700"/>
              </a:spcBef>
              <a:buClr>
                <a:srgbClr val="000000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4" marL="1810440" algn="ctr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5" marL="1810440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6" marL="1810440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3.jpe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 rot="21249600">
            <a:off x="1834920" y="623520"/>
            <a:ext cx="4168800" cy="12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ACKETS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95640" y="2205000"/>
            <a:ext cx="4400640" cy="33019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spd="med">
    <p:zoom dir="out"/>
    <p:sndAc>
      <p:stSnd>
        <p:snd r:embed="rId4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56000" y="907920"/>
            <a:ext cx="6156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99">
                        <a:alpha val="50196"/>
                      </a:srgbClr>
                    </a:gs>
                    <a:gs pos="100000">
                      <a:srgbClr val="4675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3492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99">
                        <a:alpha val="50196"/>
                      </a:srgbClr>
                    </a:gs>
                    <a:gs pos="100000">
                      <a:srgbClr val="4675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IS </a:t>
            </a:r>
            <a:endParaRPr b="0" lang="en-US" sz="1800" spc="1" strike="noStrike">
              <a:ln w="34920">
                <a:solidFill>
                  <a:srgbClr val="009900"/>
                </a:solidFill>
                <a:miter/>
              </a:ln>
              <a:gradFill rotWithShape="0">
                <a:gsLst>
                  <a:gs pos="0">
                    <a:srgbClr val="99ff99">
                      <a:alpha val="50196"/>
                    </a:srgbClr>
                  </a:gs>
                  <a:gs pos="100000">
                    <a:srgbClr val="46754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99">
                        <a:alpha val="50196"/>
                      </a:srgbClr>
                    </a:gs>
                    <a:gs pos="100000">
                      <a:srgbClr val="4675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</a:t>
            </a:r>
            <a:r>
              <a:rPr b="0" lang="en-US" sz="1800" spc="1" strike="noStrike">
                <a:ln w="3492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99">
                        <a:alpha val="50196"/>
                      </a:srgbClr>
                    </a:gs>
                    <a:gs pos="100000">
                      <a:srgbClr val="4675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RACKET </a:t>
            </a:r>
            <a:endParaRPr b="0" lang="en-US" sz="1800" spc="1" strike="noStrike">
              <a:ln w="34920">
                <a:solidFill>
                  <a:srgbClr val="009900"/>
                </a:solidFill>
                <a:miter/>
              </a:ln>
              <a:gradFill rotWithShape="0">
                <a:gsLst>
                  <a:gs pos="0">
                    <a:srgbClr val="99ff99">
                      <a:alpha val="50196"/>
                    </a:srgbClr>
                  </a:gs>
                  <a:gs pos="100000">
                    <a:srgbClr val="46754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99">
                        <a:alpha val="50196"/>
                      </a:srgbClr>
                    </a:gs>
                    <a:gs pos="100000">
                      <a:srgbClr val="4675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 </a:t>
            </a:r>
            <a:r>
              <a:rPr b="0" lang="en-US" sz="1800" spc="1" strike="noStrike">
                <a:ln w="3492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99">
                        <a:alpha val="50196"/>
                      </a:srgbClr>
                    </a:gs>
                    <a:gs pos="100000">
                      <a:srgbClr val="4675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SED FOR?</a:t>
            </a:r>
            <a:endParaRPr b="0" lang="en-US" sz="1800" spc="1" strike="noStrike">
              <a:ln w="34920">
                <a:solidFill>
                  <a:srgbClr val="009900"/>
                </a:solidFill>
                <a:miter/>
              </a:ln>
              <a:gradFill rotWithShape="0">
                <a:gsLst>
                  <a:gs pos="0">
                    <a:srgbClr val="99ff99">
                      <a:alpha val="50196"/>
                    </a:srgbClr>
                  </a:gs>
                  <a:gs pos="100000">
                    <a:srgbClr val="46754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156384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979640" y="0"/>
            <a:ext cx="6207120" cy="247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255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4800" spc="1" strike="noStrike">
                <a:ln w="255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 RACKET IS USED </a:t>
            </a:r>
            <a:endParaRPr b="0" lang="en-US" sz="4800" spc="1" strike="noStrike">
              <a:ln w="255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255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OR PLAYING GAMES</a:t>
            </a:r>
            <a:endParaRPr b="0" lang="en-US" sz="4800" spc="1" strike="noStrike">
              <a:ln w="255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148360" y="2565360"/>
            <a:ext cx="3824280" cy="2870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spd="med">
    <p:zoom dir="out"/>
    <p:sndAc>
      <p:stSnd>
        <p:snd r:embed="rId7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56000" y="907920"/>
            <a:ext cx="6156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99">
                        <a:alpha val="50196"/>
                      </a:srgbClr>
                    </a:gs>
                    <a:gs pos="100000">
                      <a:srgbClr val="4675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COULD</a:t>
            </a:r>
            <a:endParaRPr b="0" lang="en-US" sz="1800" spc="1" strike="noStrike">
              <a:ln w="34920">
                <a:solidFill>
                  <a:srgbClr val="009900"/>
                </a:solidFill>
                <a:miter/>
              </a:ln>
              <a:gradFill rotWithShape="0">
                <a:gsLst>
                  <a:gs pos="0">
                    <a:srgbClr val="99ff99">
                      <a:alpha val="50196"/>
                    </a:srgbClr>
                  </a:gs>
                  <a:gs pos="100000">
                    <a:srgbClr val="46754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99">
                        <a:alpha val="50196"/>
                      </a:srgbClr>
                    </a:gs>
                    <a:gs pos="100000">
                      <a:srgbClr val="4675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RACKET </a:t>
            </a:r>
            <a:endParaRPr b="0" lang="en-US" sz="1800" spc="1" strike="noStrike">
              <a:ln w="34920">
                <a:solidFill>
                  <a:srgbClr val="009900"/>
                </a:solidFill>
                <a:miter/>
              </a:ln>
              <a:gradFill rotWithShape="0">
                <a:gsLst>
                  <a:gs pos="0">
                    <a:srgbClr val="99ff99">
                      <a:alpha val="50196"/>
                    </a:srgbClr>
                  </a:gs>
                  <a:gs pos="100000">
                    <a:srgbClr val="46754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99">
                        <a:alpha val="50196"/>
                      </a:srgbClr>
                    </a:gs>
                    <a:gs pos="100000">
                      <a:srgbClr val="4675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 </a:t>
            </a:r>
            <a:r>
              <a:rPr b="0" lang="en-US" sz="1800" spc="1" strike="noStrike">
                <a:ln w="3492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99">
                        <a:alpha val="50196"/>
                      </a:srgbClr>
                    </a:gs>
                    <a:gs pos="100000">
                      <a:srgbClr val="4675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?</a:t>
            </a:r>
            <a:endParaRPr b="0" lang="en-US" sz="1800" spc="1" strike="noStrike">
              <a:ln w="34920">
                <a:solidFill>
                  <a:srgbClr val="009900"/>
                </a:solidFill>
                <a:miter/>
              </a:ln>
              <a:gradFill rotWithShape="0">
                <a:gsLst>
                  <a:gs pos="0">
                    <a:srgbClr val="99ff99">
                      <a:alpha val="50196"/>
                    </a:srgbClr>
                  </a:gs>
                  <a:gs pos="100000">
                    <a:srgbClr val="46754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zoom dir="out"/>
    <p:sndAc>
      <p:stSnd>
        <p:snd r:embed="rId1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867280" y="620640"/>
            <a:ext cx="2952720" cy="2541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348000" y="2997360"/>
            <a:ext cx="4032360" cy="1965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101080" y="4581360"/>
            <a:ext cx="714240" cy="619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877080" y="4797360"/>
            <a:ext cx="857160" cy="79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ccff99"/>
                    </a:gs>
                    <a:gs pos="50000">
                      <a:srgbClr val="66ff33"/>
                    </a:gs>
                    <a:gs pos="100000">
                      <a:srgbClr val="ccff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ccff99"/>
                  </a:gs>
                  <a:gs pos="50000">
                    <a:srgbClr val="66ff33"/>
                  </a:gs>
                  <a:gs pos="100000">
                    <a:srgbClr val="ccff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 rot="21249600">
            <a:off x="3132000" y="1557000"/>
            <a:ext cx="20894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N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  <p:sndAc>
      <p:stSnd>
        <p:snd r:embed="rId7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671640" cy="367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ccff99"/>
                    </a:gs>
                    <a:gs pos="50000">
                      <a:srgbClr val="66ff33"/>
                    </a:gs>
                    <a:gs pos="100000">
                      <a:srgbClr val="ccff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ccff99"/>
                  </a:gs>
                  <a:gs pos="50000">
                    <a:srgbClr val="66ff33"/>
                  </a:gs>
                  <a:gs pos="100000">
                    <a:srgbClr val="ccff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 rot="20920200">
            <a:off x="3132000" y="1700280"/>
            <a:ext cx="288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LATE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  <p:sndAc>
      <p:stSnd>
        <p:snd r:embed="rId4" name="typ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59280" y="3141720"/>
            <a:ext cx="2808360" cy="2092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128000" y="981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ccff99"/>
                    </a:gs>
                    <a:gs pos="50000">
                      <a:srgbClr val="66ff33"/>
                    </a:gs>
                    <a:gs pos="100000">
                      <a:srgbClr val="ccff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ccff99"/>
                  </a:gs>
                  <a:gs pos="50000">
                    <a:srgbClr val="66ff33"/>
                  </a:gs>
                  <a:gs pos="100000">
                    <a:srgbClr val="ccff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 rot="21009600">
            <a:off x="3131640" y="1628640"/>
            <a:ext cx="381960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LEPHONE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  <p:sndAc>
      <p:stSnd>
        <p:snd r:embed="rId5" name="typ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16360" y="2997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588000" y="476280"/>
            <a:ext cx="1679760" cy="2521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172360" y="4365720"/>
            <a:ext cx="304920" cy="542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ccff99"/>
                    </a:gs>
                    <a:gs pos="50000">
                      <a:srgbClr val="66ff33"/>
                    </a:gs>
                    <a:gs pos="100000">
                      <a:srgbClr val="ccff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ccff99"/>
                  </a:gs>
                  <a:gs pos="50000">
                    <a:srgbClr val="66ff33"/>
                  </a:gs>
                  <a:gs pos="100000">
                    <a:srgbClr val="ccff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 rot="21249600">
            <a:off x="3132000" y="1557000"/>
            <a:ext cx="20894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EAR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  <p:sndAc>
      <p:stSnd>
        <p:snd r:embed="rId6" name="typ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51280" y="3068640"/>
            <a:ext cx="2881440" cy="2389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948360" y="2637000"/>
            <a:ext cx="1814760" cy="1703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443640" y="476280"/>
            <a:ext cx="2278080" cy="1814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ccff99"/>
                    </a:gs>
                    <a:gs pos="50000">
                      <a:srgbClr val="66ff33"/>
                    </a:gs>
                    <a:gs pos="100000">
                      <a:srgbClr val="ccff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ccff99"/>
                  </a:gs>
                  <a:gs pos="50000">
                    <a:srgbClr val="66ff33"/>
                  </a:gs>
                  <a:gs pos="100000">
                    <a:srgbClr val="ccff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 rot="21249600">
            <a:off x="2997360" y="1525320"/>
            <a:ext cx="2954160" cy="14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ILLOW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  <p:sndAc>
      <p:stSnd>
        <p:snd r:embed="rId6" name="type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 rot="1629000">
            <a:off x="5003640" y="2781360"/>
            <a:ext cx="2006640" cy="2305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624720" y="83664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ccff99"/>
                    </a:gs>
                    <a:gs pos="50000">
                      <a:srgbClr val="66ff33"/>
                    </a:gs>
                    <a:gs pos="100000">
                      <a:srgbClr val="ccff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ccff99"/>
                  </a:gs>
                  <a:gs pos="50000">
                    <a:srgbClr val="66ff33"/>
                  </a:gs>
                  <a:gs pos="100000">
                    <a:srgbClr val="ccff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 rot="20955600">
            <a:off x="3276360" y="1773000"/>
            <a:ext cx="287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ROOM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  <p:sndAc>
      <p:stSnd>
        <p:snd r:embed="rId5" name="type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282096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ccff99"/>
                    </a:gs>
                    <a:gs pos="50000">
                      <a:srgbClr val="66ff33"/>
                    </a:gs>
                    <a:gs pos="100000">
                      <a:srgbClr val="ccff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ccff99"/>
                  </a:gs>
                  <a:gs pos="50000">
                    <a:srgbClr val="66ff33"/>
                  </a:gs>
                  <a:gs pos="100000">
                    <a:srgbClr val="ccff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 rot="20979600">
            <a:off x="3133440" y="1526760"/>
            <a:ext cx="2663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POON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  <p:sndAc>
      <p:stSnd>
        <p:snd r:embed="rId4" name="typ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4:28:20Z</dcterms:created>
  <dc:creator>Manager</dc:creator>
  <dc:description/>
  <dc:language>en-US</dc:language>
  <cp:lastModifiedBy> </cp:lastModifiedBy>
  <dcterms:modified xsi:type="dcterms:W3CDTF">2008-05-18T14:46:53Z</dcterms:modified>
  <cp:revision>6</cp:revision>
  <dc:subject/>
  <dc:title>Slide 1</dc:title>
</cp:coreProperties>
</file>