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9.gif" ContentType="image/gif"/>
  <Override PartName="/ppt/media/image2.png" ContentType="image/png"/>
  <Override PartName="/ppt/media/image10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7CF-CE4D-420C-B8D5-4C6336E3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C2E-8297-43DB-8A53-DE677A7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3EA-0718-41CD-A23D-0FB73328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B20-0A3B-4894-89E3-03E11DBC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FF5A-C451-415B-A75B-3493A909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1D3E-6E46-4D9C-ACD6-7D332EB4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849C-E517-4DA0-8739-EC460F2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985-FB22-44DD-B7CB-FED7F0B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4458-DB7C-45E0-81FE-6AC2E4BE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04C-9423-4682-BCBF-9F8DAC9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505-0E68-4BFF-9D13-D1BD940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316-D4AC-4047-84F9-1B9569B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4D15-3031-4066-8828-DFA885F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7B7A-0E11-4BF4-9E44-0639D2C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68A9-F090-480B-AD11-9E6E8D0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40CE-0ED9-4316-BE55-B6201D24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DE4B-6676-40DC-9B3A-D40402CD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283-0F47-4EA4-87F0-F703ED06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3DA-2233-4DA3-9409-40FC48B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DF8-0378-44F5-AA2B-7E7F8D9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13E-DFFE-4165-A8FB-0602C32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779-8B8C-4715-989F-3ABC61C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C7F-B6EE-4D28-9072-35EFC72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987-498E-4C78-9928-147D9AA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8472d"/>
                </a:gs>
                <a:gs pos="100000">
                  <a:srgbClr val="5c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A46-69F3-4091-9FFA-F3EAACCF7B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8472d"/>
                </a:gs>
                <a:gs pos="100000">
                  <a:srgbClr val="5c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1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c1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C29-DE80-4853-B18B-CA737D3A4E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47640" y="1844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 of the BOD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19280" y="191628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 of the BODY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364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32464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4328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877080" y="2492280"/>
            <a:ext cx="144000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4033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84328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659280" y="2924280"/>
            <a:ext cx="1439640" cy="576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729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63640" y="51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2000" y="4005000"/>
            <a:ext cx="144000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4033800" cy="397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1871640" cy="1844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272360" y="2781360"/>
            <a:ext cx="1871640" cy="1844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H="1" flipV="1">
            <a:off x="8532360" y="4292640"/>
            <a:ext cx="7164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667640" y="5300640"/>
            <a:ext cx="93672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80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2920" y="189000"/>
            <a:ext cx="8893080" cy="1434600"/>
          </a:xfrm>
          <a:prstGeom prst="rect">
            <a:avLst/>
          </a:prstGeom>
          <a:solidFill>
            <a:srgbClr val="ffffff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Can you touch or move these parts of the bod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989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A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198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E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27640" y="5229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E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4076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TEE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781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149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52360" y="486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LE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3141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ING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2060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TO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4941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A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1f00"/>
                </a:solidFill>
                <a:latin typeface="Comic Sans MS"/>
              </a:rPr>
              <a:t>FE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90920" y="907920"/>
            <a:ext cx="4212720" cy="4681440"/>
            <a:chOff x="2590920" y="907920"/>
            <a:chExt cx="4212720" cy="46814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2682720" y="907920"/>
              <a:ext cx="4120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90920" y="2001240"/>
              <a:ext cx="3601080" cy="31892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419640" y="5516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A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38890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43280" y="620640"/>
            <a:ext cx="4168800" cy="4135320"/>
            <a:chOff x="2843280" y="620640"/>
            <a:chExt cx="4168800" cy="41353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2843280" y="1306440"/>
              <a:ext cx="416880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53120" y="696960"/>
              <a:ext cx="761760" cy="21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586120" y="620640"/>
              <a:ext cx="762120" cy="19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19640" y="692280"/>
            <a:ext cx="792000" cy="223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484280"/>
            <a:ext cx="217440" cy="289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2421000"/>
            <a:ext cx="4316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564000" y="508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43280" y="1066680"/>
            <a:ext cx="4680720" cy="4162320"/>
            <a:chOff x="2843280" y="1066680"/>
            <a:chExt cx="4680720" cy="41623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843280" y="1066680"/>
              <a:ext cx="381456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flipH="1">
              <a:off x="5736600" y="1598040"/>
              <a:ext cx="1787400" cy="70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651640" y="1484280"/>
            <a:ext cx="1944720" cy="863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95640" y="501336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O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3902040" cy="4030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56000" y="2349360"/>
            <a:ext cx="2880000" cy="1079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32720" y="3500280"/>
            <a:ext cx="1873080" cy="136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300720" y="3141720"/>
            <a:ext cx="2374920" cy="2016000"/>
          </a:xfrm>
          <a:prstGeom prst="ellipse">
            <a:avLst/>
          </a:prstGeom>
          <a:noFill/>
          <a:ln w="604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86560" y="530064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ET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916360" y="508464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148000" y="2349360"/>
            <a:ext cx="2879640" cy="1079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53992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03640" y="51577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659280" y="1484280"/>
            <a:ext cx="143964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4720" y="981000"/>
            <a:ext cx="3903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51577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00720" y="3141720"/>
            <a:ext cx="1440000" cy="576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311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2:58:59Z</dcterms:modified>
  <cp:revision>19</cp:revision>
  <dc:subject/>
  <dc:title>PowerPoint Presentation</dc:title>
</cp:coreProperties>
</file>