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654-EC92-450A-B3DB-6315394F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5CC-785C-4C32-B553-4DB52F9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6F9-6C62-4ADA-9E66-A26A3E45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B7A-7CB3-4B83-BD90-BD48C46E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8C0-05C9-4CAE-BE92-DC6C4885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636-9955-434A-B6C7-7A87C130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5E4-C7D4-4F25-BD76-E51EBD7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CFB-562E-4C49-8A7A-D5F0E60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56A-66CB-4CF3-87DF-4E8C73A5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5FA-D2F6-4A5A-B1E1-E3A36F49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5D7-9F69-48C4-9861-3BE22F7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D37-AF89-4663-9B3C-F1BEE7E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DC84-7D16-4053-B312-6F4494DC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4097160" cy="41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692280"/>
            <a:ext cx="3816360" cy="3313080"/>
          </a:xfrm>
          <a:prstGeom prst="cloudCallout">
            <a:avLst>
              <a:gd name="adj1" fmla="val 92388"/>
              <a:gd name="adj2" fmla="val 25800"/>
            </a:avLst>
          </a:prstGeom>
          <a:solidFill>
            <a:srgbClr val="bbe0e3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12536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660066"/>
                </a:solidFill>
                <a:latin typeface="Comic Sans MS"/>
              </a:rPr>
              <a:t>IN MY OPINION THE PLAY W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HENOME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7879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VERY G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3927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REG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265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B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1767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VERY B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6083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07:51Z</dcterms:created>
  <dc:creator>NICKYB</dc:creator>
  <dc:description/>
  <dc:language>en-US</dc:language>
  <cp:lastModifiedBy> </cp:lastModifiedBy>
  <dcterms:modified xsi:type="dcterms:W3CDTF">2008-01-16T23:31:25Z</dcterms:modified>
  <cp:revision>6</cp:revision>
  <dc:subject/>
  <dc:title>¿Qué tal?</dc:title>
</cp:coreProperties>
</file>