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jpeg" ContentType="image/jpeg"/>
  <Override PartName="/ppt/media/image5.wmf" ContentType="image/x-wmf"/>
  <Override PartName="/ppt/media/image12.wmf" ContentType="image/x-wmf"/>
  <Override PartName="/ppt/media/image24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gif" ContentType="image/gif"/>
  <Override PartName="/ppt/media/image2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voltage.wav" ContentType="audio/x-wav"/>
  <Override PartName="/ppt/media/image3.wmf" ContentType="image/x-wmf"/>
  <Override PartName="/ppt/media/image4.gif" ContentType="image/gi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F57-F124-47DC-AD20-4A041453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93F-FF06-4AD6-82A0-246D99EC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6A50-B437-49BA-9AB5-531544A1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690-4C8A-4AEB-A02F-C881D696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D66-17FE-4AE0-91B0-130F122B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E66-881B-4DF9-A066-CB07175C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E09-980D-4C30-988C-ED908132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77C-70C3-42EE-A0B2-81B40CFA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599-1040-426E-A821-D5E18D61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439-9E03-4D37-8BD7-BD05E122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34B-1CA9-4DDF-BFF0-9F7BFB06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F11-69FA-464C-9BAD-C0929A9B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8EB7-B8AA-4C5A-B24C-76CBC5A8B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56000" y="5084640"/>
            <a:ext cx="4464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OPES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  <p:sndAc>
      <p:stSnd>
        <p:snd r:embed="rId2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116000" y="1628640"/>
            <a:ext cx="6877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S</a:t>
            </a:r>
            <a:endParaRPr b="0" lang="en-US" sz="1800" spc="1" strike="noStrike">
              <a:ln w="3492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>
                      <a:alpha val="5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 </a:t>
            </a: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ROPE </a:t>
            </a:r>
            <a:endParaRPr b="0" lang="en-US" sz="1800" spc="1" strike="noStrike">
              <a:ln w="3492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>
                      <a:alpha val="5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SED FOR?</a:t>
            </a:r>
            <a:endParaRPr b="0" lang="en-US" sz="1800" spc="1" strike="noStrike">
              <a:ln w="3492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>
                      <a:alpha val="5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1563480" cy="1728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voltag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403280" y="620640"/>
            <a:ext cx="640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ROPE IS USED </a:t>
            </a:r>
            <a:endParaRPr b="0" lang="en-US" sz="1800" spc="1" strike="noStrike">
              <a:ln w="3492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>
                      <a:alpha val="5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 PLAYING GAMES</a:t>
            </a:r>
            <a:endParaRPr b="0" lang="en-US" sz="1800" spc="1" strike="noStrike">
              <a:ln w="3492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>
                      <a:alpha val="5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116000" y="1628640"/>
            <a:ext cx="6877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COULD</a:t>
            </a:r>
            <a:endParaRPr b="0" lang="en-US" sz="1800" spc="1" strike="noStrike">
              <a:ln w="3492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>
                      <a:alpha val="5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ROPE </a:t>
            </a:r>
            <a:endParaRPr b="0" lang="en-US" sz="1800" spc="1" strike="noStrike">
              <a:ln w="3492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>
                      <a:alpha val="5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3492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?</a:t>
            </a:r>
            <a:endParaRPr b="0" lang="en-US" sz="1800" spc="1" strike="noStrike">
              <a:ln w="3492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>
                      <a:alpha val="5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  <p:sndAc>
      <p:stSnd>
        <p:snd r:embed="rId1" name="voltag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98960" cy="2025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435640" y="1989000"/>
            <a:ext cx="3095640" cy="782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55640" y="5373720"/>
            <a:ext cx="952560" cy="961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04000" y="3789360"/>
            <a:ext cx="2089080" cy="1506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11280" y="2276640"/>
            <a:ext cx="855720" cy="2244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 rot="21468600">
            <a:off x="2700360" y="1988640"/>
            <a:ext cx="187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66"/>
                    </a:gs>
                    <a:gs pos="100000">
                      <a:srgbClr val="ffffff"/>
                    </a:gs>
                  </a:gsLst>
                  <a:lin ang="13632000"/>
                </a:gradFill>
                <a:latin typeface="Arial Black"/>
              </a:rPr>
              <a:t>SNAKE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66"/>
                  </a:gs>
                  <a:gs pos="100000">
                    <a:srgbClr val="ffffff"/>
                  </a:gs>
                </a:gsLst>
                <a:lin ang="13632000"/>
              </a:gradFill>
              <a:latin typeface="Arial Black"/>
              <a:ea typeface="Arial Black"/>
            </a:endParaRPr>
          </a:p>
        </p:txBody>
      </p:sp>
    </p:spTree>
  </p:cSld>
  <p:transition>
    <p:dissolve/>
    <p:sndAc>
      <p:stSnd>
        <p:snd r:embed="rId6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95640" y="5373720"/>
            <a:ext cx="1190880" cy="723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500280" cy="2689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419640" y="3284640"/>
            <a:ext cx="1812600" cy="1225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164360" y="4941720"/>
            <a:ext cx="1809720" cy="1162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1809720" cy="106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 rot="21468600">
            <a:off x="1979640" y="1773000"/>
            <a:ext cx="187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66"/>
                    </a:gs>
                    <a:gs pos="100000">
                      <a:srgbClr val="ffffff"/>
                    </a:gs>
                  </a:gsLst>
                  <a:lin ang="13632000"/>
                </a:gradFill>
                <a:latin typeface="Arial Black"/>
              </a:rPr>
              <a:t>HOSE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66"/>
                  </a:gs>
                  <a:gs pos="100000">
                    <a:srgbClr val="ffffff"/>
                  </a:gs>
                </a:gsLst>
                <a:lin ang="13632000"/>
              </a:gradFill>
              <a:latin typeface="Arial Black"/>
              <a:ea typeface="Arial Black"/>
            </a:endParaRPr>
          </a:p>
        </p:txBody>
      </p:sp>
    </p:spTree>
  </p:cSld>
  <p:transition>
    <p:dissolve/>
    <p:sndAc>
      <p:stSnd>
        <p:snd r:embed="rId6" name="voltag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61280" y="0"/>
            <a:ext cx="2682720" cy="2876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16360" y="2852640"/>
            <a:ext cx="525600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...</a:t>
            </a:r>
            <a:endParaRPr b="0" lang="en-US" sz="1800" spc="1" strike="noStrike">
              <a:ln w="255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 rot="21468600">
            <a:off x="826920" y="1700280"/>
            <a:ext cx="467388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66"/>
                    </a:gs>
                    <a:gs pos="100000">
                      <a:srgbClr val="ffffff"/>
                    </a:gs>
                  </a:gsLst>
                  <a:lin ang="13632000"/>
                </a:gradFill>
                <a:latin typeface="Arial Black"/>
              </a:rPr>
              <a:t>SOME SPAGHETTI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66"/>
                  </a:gs>
                  <a:gs pos="100000">
                    <a:srgbClr val="ffffff"/>
                  </a:gs>
                </a:gsLst>
                <a:lin ang="13632000"/>
              </a:gradFill>
              <a:latin typeface="Arial Black"/>
              <a:ea typeface="Arial Black"/>
            </a:endParaRPr>
          </a:p>
        </p:txBody>
      </p:sp>
    </p:spTree>
  </p:cSld>
  <p:transition>
    <p:dissolve/>
    <p:sndAc>
      <p:stSnd>
        <p:snd r:embed="rId3" name="voltag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1643040" cy="1195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71640" y="3500280"/>
            <a:ext cx="4032000" cy="3195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932360" y="2276640"/>
            <a:ext cx="3708360" cy="1831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 rot="21468600">
            <a:off x="1908000" y="1557000"/>
            <a:ext cx="18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66"/>
                    </a:gs>
                    <a:gs pos="100000">
                      <a:srgbClr val="ffffff"/>
                    </a:gs>
                  </a:gsLst>
                  <a:lin ang="13632000"/>
                </a:gradFill>
                <a:latin typeface="Arial Black"/>
              </a:rPr>
              <a:t>BELT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66"/>
                  </a:gs>
                  <a:gs pos="100000">
                    <a:srgbClr val="ffffff"/>
                  </a:gs>
                </a:gsLst>
                <a:lin ang="13632000"/>
              </a:gradFill>
              <a:latin typeface="Arial Black"/>
              <a:ea typeface="Arial Black"/>
            </a:endParaRPr>
          </a:p>
        </p:txBody>
      </p:sp>
    </p:spTree>
  </p:cSld>
  <p:transition>
    <p:dissolve/>
    <p:sndAc>
      <p:stSnd>
        <p:snd r:embed="rId4" name="voltag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276560" cy="1123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16360" y="2238480"/>
            <a:ext cx="5040360" cy="3606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 rot="21468600">
            <a:off x="1908000" y="1699920"/>
            <a:ext cx="18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66"/>
                    </a:gs>
                    <a:gs pos="100000">
                      <a:srgbClr val="ffffff"/>
                    </a:gs>
                  </a:gsLst>
                  <a:lin ang="13632000"/>
                </a:gradFill>
                <a:latin typeface="Arial Black"/>
              </a:rPr>
              <a:t>WHIP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66"/>
                  </a:gs>
                  <a:gs pos="100000">
                    <a:srgbClr val="ffffff"/>
                  </a:gs>
                </a:gsLst>
                <a:lin ang="13632000"/>
              </a:gradFill>
              <a:latin typeface="Arial Black"/>
              <a:ea typeface="Arial Black"/>
            </a:endParaRPr>
          </a:p>
        </p:txBody>
      </p:sp>
    </p:spTree>
  </p:cSld>
  <p:transition>
    <p:dissolve/>
    <p:sndAc>
      <p:stSnd>
        <p:snd r:embed="rId3" name="voltage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3716280"/>
            <a:ext cx="2952720" cy="2411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022480" cy="3024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 rot="21173400">
            <a:off x="2771280" y="1844280"/>
            <a:ext cx="223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66"/>
                    </a:gs>
                    <a:gs pos="100000">
                      <a:srgbClr val="ffffff"/>
                    </a:gs>
                  </a:gsLst>
                  <a:lin ang="13926000"/>
                </a:gradFill>
                <a:latin typeface="Arial Black"/>
              </a:rPr>
              <a:t>RIVER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66"/>
                  </a:gs>
                  <a:gs pos="100000">
                    <a:srgbClr val="ffffff"/>
                  </a:gs>
                </a:gsLst>
                <a:lin ang="13926000"/>
              </a:gradFill>
              <a:latin typeface="Arial Black"/>
              <a:ea typeface="Arial Black"/>
            </a:endParaRPr>
          </a:p>
        </p:txBody>
      </p:sp>
    </p:spTree>
  </p:cSld>
  <p:transition>
    <p:dissolve/>
    <p:sndAc>
      <p:stSnd>
        <p:snd r:embed="rId3" name="voltage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3933720"/>
            <a:ext cx="2373120" cy="1436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89360" y="2505240"/>
            <a:ext cx="1565280" cy="1847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556000" y="2492280"/>
            <a:ext cx="6022800" cy="3969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 rot="21258000">
            <a:off x="899640" y="1628280"/>
            <a:ext cx="2592360" cy="17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66"/>
                    </a:gs>
                    <a:gs pos="100000">
                      <a:srgbClr val="ffffff"/>
                    </a:gs>
                  </a:gsLst>
                  <a:lin ang="13842000"/>
                </a:gradFill>
                <a:latin typeface="Arial Black"/>
              </a:rPr>
              <a:t>NECKLACE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66"/>
                  </a:gs>
                  <a:gs pos="100000">
                    <a:srgbClr val="ffffff"/>
                  </a:gs>
                </a:gsLst>
                <a:lin ang="13842000"/>
              </a:gradFill>
              <a:latin typeface="Arial Black"/>
              <a:ea typeface="Arial Black"/>
            </a:endParaRPr>
          </a:p>
        </p:txBody>
      </p:sp>
    </p:spTree>
  </p:cSld>
  <p:transition>
    <p:dissolve/>
    <p:sndAc>
      <p:stSnd>
        <p:snd r:embed="rId4" name="voltag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5:10:47Z</dcterms:created>
  <dc:creator>admin</dc:creator>
  <dc:description/>
  <dc:language>en-US</dc:language>
  <cp:lastModifiedBy> </cp:lastModifiedBy>
  <dcterms:modified xsi:type="dcterms:W3CDTF">2008-05-19T16:33:15Z</dcterms:modified>
  <cp:revision>9</cp:revision>
  <dc:subject/>
  <dc:title>Slide 1</dc:title>
</cp:coreProperties>
</file>