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8251-8073-4377-9DFF-8C49C8F0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E50B-B31C-4F20-817D-30E6BEBB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5A72-1704-4988-B1A7-330A7A56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9552-9E00-4303-A330-7D104F41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FE1F-B88B-43E4-BB19-647BAE78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EC98-5BC4-4F6A-BEF5-462F85DF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7A40-DA53-4ACC-A81A-7A5C9965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2AB-6D88-4C98-A55B-893CAAE6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D28-726C-477F-A8CB-CBFDA99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5525-A6AB-428A-8D0C-A2A259A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E93D-75BD-463F-9C66-EBF9DEC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7FEF-92B4-4BCD-9A9B-624EE07A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E740-FB92-4CF6-AC3C-8586D5A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47E6-4245-48CA-A38E-5DFECDA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27E1-2296-4F7D-B01F-80257DE4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2380-A939-4A5A-94DB-B29B0B2F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562C-3880-4393-A83A-C3E43E9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1D3C-6705-44F2-8459-DEA93F17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144C-4FDD-4020-AE9E-694848F4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CB7F-D7D3-403C-8003-BE6929DB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705A-0044-4536-A6D0-5115C1F3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2069-EBE9-4A0E-8099-2E8B1BC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FA9F-EB3F-4D4D-9902-DF3A67C3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A75C-86FA-4123-834A-8E9E18E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1CB2-DFAB-411A-804C-007E6BDFE1B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713-42C4-4FFB-8124-3CBEE7D652B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1295280"/>
            <a:ext cx="5105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PACE</a:t>
            </a:r>
            <a:endParaRPr b="0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766800">
            <a:off x="5257440" y="3047760"/>
            <a:ext cx="3389400" cy="3468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2120" y="3048120"/>
            <a:ext cx="3657600" cy="2286000"/>
          </a:xfrm>
          <a:prstGeom prst="cloudCallout">
            <a:avLst>
              <a:gd name="adj1" fmla="val 67402"/>
              <a:gd name="adj2" fmla="val 26597"/>
            </a:avLst>
          </a:prstGeom>
          <a:solidFill>
            <a:srgbClr val="cccc00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7200" y="3429000"/>
            <a:ext cx="33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Balloonist"/>
              </a:rPr>
              <a:t>Where ar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Balloonist"/>
              </a:rPr>
              <a:t> </a:t>
            </a:r>
            <a:r>
              <a:rPr b="1" lang="en-GB" sz="4800" spc="-1" strike="noStrike">
                <a:solidFill>
                  <a:srgbClr val="003300"/>
                </a:solidFill>
                <a:latin typeface="Balloonist"/>
              </a:rPr>
              <a:t>you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8634" t="6638" r="39734" b="61465"/>
          <a:stretch/>
        </p:blipFill>
        <p:spPr>
          <a:xfrm>
            <a:off x="533520" y="5029200"/>
            <a:ext cx="1676160" cy="118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00200" y="2743200"/>
            <a:ext cx="2743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FAR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31581" t="10018" r="13409" b="11063"/>
          <a:stretch/>
        </p:blipFill>
        <p:spPr>
          <a:xfrm>
            <a:off x="5486400" y="1066680"/>
            <a:ext cx="29433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8654" t="8003" r="8654" b="8003"/>
          <a:stretch/>
        </p:blipFill>
        <p:spPr>
          <a:xfrm>
            <a:off x="1131840" y="973080"/>
            <a:ext cx="6878520" cy="4910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371600" y="1295280"/>
            <a:ext cx="2743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UP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8654" t="6772" r="8654" b="6156"/>
          <a:stretch/>
        </p:blipFill>
        <p:spPr>
          <a:xfrm>
            <a:off x="1143000" y="914400"/>
            <a:ext cx="6878520" cy="5089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371600" y="1295280"/>
            <a:ext cx="350532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DOW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8651" t="11985" r="8651" b="12292"/>
          <a:stretch/>
        </p:blipFill>
        <p:spPr>
          <a:xfrm>
            <a:off x="1143000" y="1143000"/>
            <a:ext cx="6881760" cy="4435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4800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4343400"/>
            <a:ext cx="1238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I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767" t="6638" r="8638" b="6760"/>
          <a:stretch/>
        </p:blipFill>
        <p:spPr>
          <a:xfrm>
            <a:off x="1135080" y="888840"/>
            <a:ext cx="6885000" cy="5073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19810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19920" y="1981080"/>
            <a:ext cx="1828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OUT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 rot="12774600">
            <a:off x="3968280" y="2533320"/>
            <a:ext cx="1774800" cy="130968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475367"/>
                <a:lnTo>
                  <a:pt x="7476" y="524"/>
                </a:lnTo>
                <a:arcTo wR="10800" hR="10800" stAng="-6475367" swAng="647536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8651" t="8358" r="8651" b="8604"/>
          <a:stretch/>
        </p:blipFill>
        <p:spPr>
          <a:xfrm>
            <a:off x="1131840" y="988920"/>
            <a:ext cx="6881760" cy="4864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47242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4343400"/>
            <a:ext cx="1523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O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8651" t="8358" r="8651" b="7990"/>
          <a:stretch/>
        </p:blipFill>
        <p:spPr>
          <a:xfrm>
            <a:off x="1131840" y="988920"/>
            <a:ext cx="6881760" cy="4900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219320" y="4800600"/>
            <a:ext cx="2438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UNDER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8651" t="8543" r="8651" b="7990"/>
          <a:stretch/>
        </p:blipFill>
        <p:spPr>
          <a:xfrm>
            <a:off x="1131840" y="1000080"/>
            <a:ext cx="6881760" cy="4889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52280" y="5791320"/>
            <a:ext cx="403884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IN FRONT OF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8651" t="8174" r="8651" b="7990"/>
          <a:stretch/>
        </p:blipFill>
        <p:spPr>
          <a:xfrm>
            <a:off x="1131840" y="979560"/>
            <a:ext cx="6881760" cy="4910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49528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5410080"/>
            <a:ext cx="32004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BEHIND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8638" t="8113" r="8638" b="7990"/>
          <a:stretch/>
        </p:blipFill>
        <p:spPr>
          <a:xfrm>
            <a:off x="1125360" y="974880"/>
            <a:ext cx="6894720" cy="491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143000" y="5715000"/>
            <a:ext cx="69343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BY/ NEXT TO/ NEAR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5623" t="8113" r="5623" b="10448"/>
          <a:stretch/>
        </p:blipFill>
        <p:spPr>
          <a:xfrm>
            <a:off x="879480" y="974880"/>
            <a:ext cx="7385040" cy="477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743200" y="5181480"/>
            <a:ext cx="40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cccc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BETWEEN</a:t>
            </a:r>
            <a:endParaRPr b="0" lang="en-US" sz="6000" spc="1" strike="noStrike">
              <a:ln w="38160">
                <a:solidFill>
                  <a:srgbClr val="cccc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7:32:42Z</dcterms:created>
  <dc:creator>User</dc:creator>
  <dc:description/>
  <dc:language>en-US</dc:language>
  <cp:lastModifiedBy>admin</cp:lastModifiedBy>
  <dcterms:modified xsi:type="dcterms:W3CDTF">2008-01-17T16:45:22Z</dcterms:modified>
  <cp:revision>17</cp:revision>
  <dc:subject/>
  <dc:title>Slide 1</dc:title>
</cp:coreProperties>
</file>