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BE80-373D-4AE0-851A-438D1533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2D4A-6D06-493C-84DA-5E4F83ED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6FD3-AD6A-4054-B06C-69372AA9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3DCA-32D2-4BC3-8133-04894B20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3B23-2833-42C8-8797-FAC603C1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6BCB-54A4-493B-AAED-AFEBBCDB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EFF3-C62C-4F34-894A-21B488EA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692F-4C55-4056-8A34-2FA845A6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B103-C7C9-4B62-85BA-89B1068A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9793-A585-4601-99BA-27746E71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3CA5-E459-4223-A00B-7C91EF61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1DF8-85E3-411A-AC2A-72D923D1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08D5-5262-4C5B-83FD-C5E40AE6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1730-1F77-4088-9509-69CDF82B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60EE-618B-44AB-B0A9-FC438BF4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B11B-167F-4FED-80E6-C4442044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6744-7F30-4D6E-9CC2-C93FCE8F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8F228-0707-47E4-89B3-C92234CB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791DA-E737-4713-997F-865B51D5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340A4-60B0-4B97-97ED-E1A99E6E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CA341-E589-4674-90D8-8920580A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1F60E-EB62-440B-98C1-FD149C9A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DAAA-7009-4494-86FA-DCDFEA6B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013F3-906B-46E3-A28B-4CAC0FF2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CE4E5-64AF-4CCB-AAB6-C590E5FA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DDFB1-6F02-4B2C-A178-95D2AFFD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1FAAC-6497-4AE6-9C41-FE1A8C61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AA254-0C03-4595-8C24-5D933132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32428-6A30-49AA-9BB5-66B98010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A04EA-2482-4CC1-9799-008383B5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6B36B-5CF2-4DB4-A1A7-1A94FA96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6867E-2C82-4FFF-8BCB-3E9964AE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7042B-30D6-4AEB-8966-ED487831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8BA4-10B2-4D1F-845F-91D9AB0F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811CF-C09A-447F-9C28-7A0E9E8E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01A98-24D1-49EA-8139-B2A9E7D0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8F2B9-AC7A-43FE-B330-5B4A36F3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3E794-979A-4E0F-B7D8-B9783B9E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A0678-C38D-4B77-9682-E9939C5F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4D655-D751-4063-9BD6-B108ED40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E71CD-6907-4296-A16B-347BAA84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6A24D-A471-4DD9-BFBA-DB7A75F4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1DBEF-B09F-4289-B567-9F91393E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D97AF-95BA-4E44-B6D9-16EEB9E5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E26D-5ACD-475E-AA58-7A268DFF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114EE-3198-442D-B160-190EA9EA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72A23-1120-4869-9338-DB5DE442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50DCC-6CE2-4274-BC7D-8F92DBA5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FEE96-553B-4E0C-846F-CCC91177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4B7C6-7957-4027-A0EF-1BEF3F89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E2288-6AA0-466B-A9B8-404B8589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1BE08-66A0-47E6-B0FE-AAC87C0C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9C7A1-DFA0-4AB5-9A24-31973B30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7E3A8-F06C-430E-B84F-53455B33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CF0FE-E4C6-42DB-8745-098A1750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7184-2409-470B-A9EF-E13F77D4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4E93A-8877-437F-A414-79C0F336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BB78C-5B61-484C-ADC3-33751E9C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02266-8081-424A-9F2E-4917AFB1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8A705-183E-4AF2-841C-A44A8441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EEBF9-C840-427E-B648-649595EF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1DE69-C60C-4EDD-A177-BD496BFB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F378F-7EC2-47D6-AAB7-B6898DBD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1B19E-C79D-420B-8C79-BA0D0A32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D2B5C-44C3-4593-8FC2-9F473D26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CA278-10A9-4B1C-8590-C2633443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964E-2726-4FDE-919D-7D51206E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030A4-BC86-4990-A7A3-45CFFEA5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122C2-C1A0-4AEA-98D4-24EB87CA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4ADE3-FC86-4E0A-AE14-D2E3942A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DBD86-9682-4DA6-BAD6-A9A51F7A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6A21D-CE07-42F2-ACC9-0C89E13C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F0E74-303E-453F-92ED-D2DBD14D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5D3A4-212C-4F12-B458-335F9256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177C8-4E58-4405-AA35-2EAA94A7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4804A-4B88-4324-B965-A8DCF4DD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9AAA3-F5BC-4594-996A-4EAF3394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3D23-D4B9-41CB-976A-36FFF17B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27DFC-40CF-4A4C-ABEF-6DE6F7B9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87C35-23EB-4E38-87C7-7F003A01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4608D-6FC5-40B6-A4FB-04E7876C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50827-FF42-41ED-8758-17AB3B88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24E15-29F2-4683-B025-D37A3105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81720-6882-43E1-8D8E-13750513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B5CF3-A6B1-4EA1-BA29-11F961AE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8AA6C-9D8E-4305-9F6D-61215DA0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2EB49-F3FE-4B83-8F2A-8DBF8F33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D7197-6B27-4FCE-9EDB-8EDA267E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2EAD-C4B9-4E93-94C8-3AB82766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E367D-A9F6-47D2-B955-0210FA64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62F91-26F5-4013-9172-619FDC4D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2EBD9-2658-4566-8D08-45854DD6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47211-6022-4FCE-9905-D40CBA0B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B38AA-1D5D-4E7D-A4E0-8BCC283C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6EB5F-F081-41A4-AF9C-8052B296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6182B-1BE0-4F2F-A7D0-A72D7950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C77A-7055-4AFF-B4B5-CD093F3E660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6558-A7F3-4D64-9E02-AF7B585AAE26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B54A-7550-46D9-A2A4-6E51BA129AA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F0E2-1541-4EA4-85A7-34366E6297C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1E12-EBC1-439E-8F79-F24333B4E49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228A-602F-40B0-93CA-8E3F4475EB4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02BD-7D59-4369-9FFA-1C88CA714D6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6AC1-4B2D-4759-87E1-A0FA9364420B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3 Título" descr=""/>
          <p:cNvPicPr/>
          <p:nvPr/>
        </p:nvPicPr>
        <p:blipFill>
          <a:blip r:embed="rId1"/>
          <a:stretch/>
        </p:blipFill>
        <p:spPr>
          <a:xfrm>
            <a:off x="682560" y="1384200"/>
            <a:ext cx="778500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1f497d"/>
                </a:solidFill>
                <a:latin typeface="Lucida Sans Unicode"/>
              </a:rPr>
              <a:t>How do you understand them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72" name="Group 4"/>
          <p:cNvGrpSpPr/>
          <p:nvPr/>
        </p:nvGrpSpPr>
        <p:grpSpPr>
          <a:xfrm>
            <a:off x="4648320" y="533160"/>
            <a:ext cx="4004640" cy="1981080"/>
            <a:chOff x="4648320" y="533160"/>
            <a:chExt cx="4004640" cy="1981080"/>
          </a:xfrm>
        </p:grpSpPr>
        <p:cxnSp>
          <p:nvCxnSpPr>
            <p:cNvPr id="373" name="AutoShape 5"/>
            <p:cNvCxnSpPr/>
            <p:nvPr/>
          </p:nvCxnSpPr>
          <p:spPr>
            <a:xfrm>
              <a:off x="4648320" y="533880"/>
              <a:ext cx="2911680" cy="161172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374" name="Group 6"/>
            <p:cNvGrpSpPr/>
            <p:nvPr/>
          </p:nvGrpSpPr>
          <p:grpSpPr>
            <a:xfrm>
              <a:off x="6958440" y="533160"/>
              <a:ext cx="1694520" cy="1981080"/>
              <a:chOff x="6958440" y="533160"/>
              <a:chExt cx="1694520" cy="1981080"/>
            </a:xfrm>
          </p:grpSpPr>
          <p:sp>
            <p:nvSpPr>
              <p:cNvPr id="375" name="Freeform 7"/>
              <p:cNvSpPr/>
              <p:nvPr/>
            </p:nvSpPr>
            <p:spPr>
              <a:xfrm flipH="1" flipV="1" rot="5400000">
                <a:off x="6814800" y="676080"/>
                <a:ext cx="1981080" cy="1694520"/>
              </a:xfrm>
              <a:custGeom>
                <a:avLst/>
                <a:gdLst>
                  <a:gd name="textAreaLeft" fmla="*/ -360 w 1981080"/>
                  <a:gd name="textAreaRight" fmla="*/ 1981080 w 1981080"/>
                  <a:gd name="textAreaTop" fmla="*/ -360 h 1694520"/>
                  <a:gd name="textAreaBottom" fmla="*/ 1694520 h 1694520"/>
                </a:gdLst>
                <a:ahLst/>
                <a:rect l="textAreaLeft" t="textAreaTop" r="textAreaRight" b="textAreaBottom"/>
                <a:pathLst>
                  <a:path w="6418" h="6670">
                    <a:moveTo>
                      <a:pt x="6418" y="1185"/>
                    </a:moveTo>
                    <a:lnTo>
                      <a:pt x="6418" y="6670"/>
                    </a:lnTo>
                    <a:lnTo>
                      <a:pt x="1809" y="6669"/>
                    </a:lnTo>
                    <a:cubicBezTo>
                      <a:pt x="974" y="5889"/>
                      <a:pt x="0" y="3958"/>
                      <a:pt x="1407" y="1987"/>
                    </a:cubicBezTo>
                    <a:cubicBezTo>
                      <a:pt x="2830" y="0"/>
                      <a:pt x="5591" y="411"/>
                      <a:pt x="6418" y="118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8"/>
              <p:cNvSpPr/>
              <p:nvPr/>
            </p:nvSpPr>
            <p:spPr>
              <a:xfrm flipH="1" rot="10728000">
                <a:off x="7204680" y="650520"/>
                <a:ext cx="1312200" cy="159444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9"/>
              <p:cNvSpPr/>
              <p:nvPr/>
            </p:nvSpPr>
            <p:spPr>
              <a:xfrm flipH="1" rot="10728000">
                <a:off x="7291800" y="1013040"/>
                <a:ext cx="992520" cy="120636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All male ballet dancers are ga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All construction workers have a poor educ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udents with “skinhead” haircuts are flashy typ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e is so smart, he must belong to a well-being fami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mosexuals are so sensitive and get offended easily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All politicians are corrupt and egois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Vegetaria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Boys who wear an ear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heerlea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ich peop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People with A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each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udents with punk-style haircu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Burgla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A man in a tracksu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A woman breast feeding in the stre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2 Título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7:48:40Z</dcterms:created>
  <dc:creator>Portatil</dc:creator>
  <dc:description/>
  <dc:language>en-US</dc:language>
  <cp:lastModifiedBy>Portatil</cp:lastModifiedBy>
  <dcterms:modified xsi:type="dcterms:W3CDTF">2009-12-02T19:41:59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