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8060-CE25-4DA7-B0A6-E6AA4AE7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F3B4-C173-4E76-B44D-F9EAE805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BC5E-5CAD-4E51-B124-21993EF3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612-641B-4777-932A-5B071A4D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0F82-7A96-45FC-90C2-4358FEFF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3C1C-0751-4537-A2BE-0538E653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8BC5-2CCA-4933-80BD-DF222CF5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5798-2532-462D-8FB4-4E9CA997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5C0F-9FFE-48BF-8C70-84457A6F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4E21-7365-426A-9BDB-214F82E3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5117-59B6-435C-8988-5D1CA0DA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DF2-56E0-4D96-BEF9-38939A32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9433-A8EA-48B5-A1F9-0DAC6385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FDE7-5D85-41E0-8F4F-33D393DD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E277-C840-4DB2-BEEC-2CA63343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4D73-730E-4E53-8AEC-0B84B7E4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2B49-3A5F-48F2-B147-BE75E48D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DD8D6-72A4-43AB-B238-214F7DC8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DBD80-6B18-4BEE-BCC7-176AFEE8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7D6C4-15FA-45AB-A351-8B04440A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5975C-ED58-45E0-B966-C3F3F4A4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26725-FCDA-4C39-8CEE-37970C1C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3AA-D493-4090-9C88-2C6A051C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C9803-B7A1-4DF0-9FBC-D5E8911D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521B7-32FD-4EEC-8969-1AF16A75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C1D4D-89DB-4F0C-9F0F-683FEC7D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7656D-0089-49C1-A703-4247815C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81CF5-F079-4043-8069-61B7439F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C1BC1-E32C-4648-808A-FFF62680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7CDBD-DE44-4D5C-8030-53BBA6B1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1312F-1F04-47D2-8FD0-CCF64940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C6F30-914F-4A79-83A3-AD896D6C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1706F-63C3-4A53-8F24-2FD8210B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D3C1-1FF5-4406-AB18-7495087B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76F62-928A-44E4-9A6A-66B0C924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3BC55-F151-456C-A274-822A8AFC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75535-C307-45F7-AF30-2E0EA948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D370D-3177-43C2-9808-61373ACC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B8437-8885-419E-AA66-04EDAC4E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2EAE6-138D-4EE0-9548-10592B0F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0B939-5C78-42F0-8C69-5052D6FD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FCD58-59D0-492A-A316-2EE697AF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99C46-4F62-4AB1-904E-FF4CD6AE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AFEC0-9770-4A52-BA3D-E7D496B2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E7B2-317C-4154-BE41-08CEC3D4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2DEEA-8787-4DF2-A166-7B46351B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35117-70AE-44BE-A04A-8BD20580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F9995-D72E-4853-A260-5F1DC793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35D1B-F68A-4E85-9333-B7047D01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AC83F-8DFD-42A4-93E8-310BFF32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3B9D7-13C0-4191-8A45-91F906F7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CD250-6C5D-41D9-B880-C3BC155D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E598D-1053-4E76-8CC2-94711308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181DF-E4AB-4E37-8711-05527651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A0429-0C24-4DA2-8238-B0AF26A9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52B-EF2E-43AD-BA9F-805FEB7C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C0210-C305-4C3D-A3CE-B81D9C2E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C040C-AF38-435A-BEE9-FD3F527E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B8E85-FC1E-4102-9DE0-71BD61F0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7BD42-4519-4989-BEAB-07962BB8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E86DB-B9AF-4C69-8774-0C3A8F57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D6AB9-B867-4F7C-812E-E9C7490E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E61ED-C36F-498B-9638-C486CE62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A587C-37A4-4DC0-B04B-DEFDCC6B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E8DCF-131E-447F-9B41-4C786E27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EAA42-66E8-47F2-95DF-174FF00C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1E7-CBC9-4B29-85DC-92C1CB19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92FF4-4642-40F0-B266-E9A7A646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6E1D2-55DA-4A26-ACDF-C60454F2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AF11A-99B5-443C-988E-769F1998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63FB6-1AC3-4A50-A227-EF1BC142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662D9-D21B-4F73-AB3E-937DBDB3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1D6ED-69D0-4C8A-BFB3-C06FA151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B8EF5-E45C-4E4B-8129-9153EE5D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55AC3-F12D-44EA-BDE1-7C66413B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622D7-CFC9-4EB6-8CBE-97005CE3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C4C32-A523-4403-A260-B751BEAF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840-3FBB-4333-B9EA-AABFB5B7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5AD89-50EA-4363-A122-16C79997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55AA8-2787-4FB9-BFDC-3ADC6E4C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5D3A6-3D12-42EE-8B4A-54E30F1E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5F555-16A3-428A-8126-CE5FF642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2D874-6CDD-4283-990C-87B9DCEB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214C4-BD39-455F-827B-6F7E3E8A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C9B67-DA96-49A4-8770-968A45DF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36E57-FDFA-42AD-8773-13957E06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FA6AA-84C9-4780-9398-17AC6D13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1F710-365C-4853-ADE6-A823C97D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36E-25DA-4D94-A628-D2858A59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5561B-F3E2-4DA8-ADEE-478620AA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7C84D-7A0E-49B2-B235-BBCE0B7D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4AD55-992C-4DFC-83B8-ECBCBFD7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0F1F7-478A-43EF-BF9A-DAA296B3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37587-4920-403B-AE14-28AC25E1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24DCC-8E56-4177-A7A0-69AA41D5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9E619-7C7F-4E8E-9995-A95235FD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BB36-0769-414A-85C9-F28EF55A74EE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25FA-4B6F-49FF-92A9-0B9352EB57B7}" type="slidenum"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D724-686D-4014-AC5F-F251603F4DDC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C505-0EB0-4A66-955F-EE78EA480649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8BCB-CA83-48FC-86A7-117816FE0F6D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9DAA-262A-4AA6-9FAF-4C609F74D6F5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1A78-53BC-4EBD-8927-08CD37E695F4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5845-C706-4996-8FF8-1605DB8EAAC1}" type="slidenum"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images.google.es/imgres?imgurl=http://www.seedmagazine.com/news/uploads/attractive_article.jpg&amp;imgrefurl=http://seedmagazine.com/news/2006/10/beauty_is_in_the_processingtim.php&amp;usg=__BjcvKQ6nvVMuKEswkItp5GdDgT0=&amp;h=491&amp;w=368&amp;sz=27&amp;hl=es&amp;start=21&amp;tbnid=giaO7F9441Kx4M:&amp;tbnh=130&amp;tbnw=97&amp;prev=/images%3Fq%3Dface%26start%3D18%26gbv%3D2%26ndsp%3D18%26hl%3Des%26sa%3DN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es/imgres?imgurl=http://i154.photobucket.com/albums/s248/Naigrami/IMG_0330.jpg&amp;imgrefurl=http://forums.wow-europe.com/thread.html%3Bjsessionid%3D6B239CF6A4EE70D2837FB80D66B149F5.app09_02%3FtopicId%3D3704721232%26sid%3D1%26pageNo%3D6&amp;usg=__o3W9P32AJRnVDnBACi4m5b1nH8o=&amp;h=1024&amp;w=768&amp;sz=120&amp;hl=es&amp;start=14&amp;tbnid=VcGdBY4zPC172M:&amp;tbnh=150&amp;tbnw=113&amp;prev=/images%3Fq%3Dangry%2Bface%26gbv%3D2%26ndsp%3D18%26hl%3Des%26sa%3DN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es/imgres?imgurl=http://static-p4.fotolia.com/jpg/00/00/07/99/400_F_79906_nvRNg7m5Opc4jfymnFXdQMJkgURNol.jpg&amp;imgrefurl=http://es.fotolia.com/id/79906&amp;usg=__p6ADtr6NpnjZ8u4ZNwH65_6AgoY=&amp;h=266&amp;w=400&amp;sz=40&amp;hl=es&amp;start=44&amp;tbnid=YkjSW84bgyr8IM:&amp;tbnh=82&amp;tbnw=124&amp;prev=/images%3Fq%3Dconfident%26start%3D36%26gbv%3D2%26ndsp%3D18%26hl%3Des%26sa%3DN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hyperlink" Target="file:///../../VIDEOS%20project/Assertiveness%20scenarios_%2010%20examples.avi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images.google.es/imgres?imgurl=http://www.seedmagazine.com/news/uploads/attractive_article.jpg&amp;imgrefurl=http://seedmagazine.com/news/2006/10/beauty_is_in_the_processingtim.php&amp;usg=__BjcvKQ6nvVMuKEswkItp5GdDgT0=&amp;h=491&amp;w=368&amp;sz=27&amp;hl=es&amp;start=21&amp;tbnid=giaO7F9441Kx4M:&amp;tbnh=130&amp;tbnw=97&amp;prev=/images%3Fq%3Dface%26start%3D18%26gbv%3D2%26ndsp%3D18%26hl%3Des%26sa%3DN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es/imgres?imgurl=http://i154.photobucket.com/albums/s248/Naigrami/IMG_0330.jpg&amp;imgrefurl=http://forums.wow-europe.com/thread.html%3Bjsessionid%3D6B239CF6A4EE70D2837FB80D66B149F5.app09_02%3FtopicId%3D3704721232%26sid%3D1%26pageNo%3D6&amp;usg=__o3W9P32AJRnVDnBACi4m5b1nH8o=&amp;h=1024&amp;w=768&amp;sz=120&amp;hl=es&amp;start=14&amp;tbnid=VcGdBY4zPC172M:&amp;tbnh=150&amp;tbnw=113&amp;prev=/images%3Fq%3Dangry%2Bface%26gbv%3D2%26ndsp%3D18%26hl%3Des%26sa%3DN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4"/>
          <p:cNvGrpSpPr/>
          <p:nvPr/>
        </p:nvGrpSpPr>
        <p:grpSpPr>
          <a:xfrm>
            <a:off x="5286240" y="571680"/>
            <a:ext cx="3310200" cy="1714320"/>
            <a:chOff x="5286240" y="571680"/>
            <a:chExt cx="3310200" cy="1714320"/>
          </a:xfrm>
        </p:grpSpPr>
        <p:cxnSp>
          <p:nvCxnSpPr>
            <p:cNvPr id="371" name="AutoShape 5"/>
            <p:cNvCxnSpPr/>
            <p:nvPr/>
          </p:nvCxnSpPr>
          <p:spPr>
            <a:xfrm>
              <a:off x="5286240" y="572040"/>
              <a:ext cx="2406960" cy="13950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372" name="Group 6"/>
            <p:cNvGrpSpPr/>
            <p:nvPr/>
          </p:nvGrpSpPr>
          <p:grpSpPr>
            <a:xfrm>
              <a:off x="7195680" y="571680"/>
              <a:ext cx="1400760" cy="1714320"/>
              <a:chOff x="7195680" y="571680"/>
              <a:chExt cx="1400760" cy="1714320"/>
            </a:xfrm>
          </p:grpSpPr>
          <p:sp>
            <p:nvSpPr>
              <p:cNvPr id="373" name="Freeform 7"/>
              <p:cNvSpPr/>
              <p:nvPr/>
            </p:nvSpPr>
            <p:spPr>
              <a:xfrm flipH="1" flipV="1" rot="5400000">
                <a:off x="7038360" y="728280"/>
                <a:ext cx="1714320" cy="1400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8"/>
              <p:cNvSpPr/>
              <p:nvPr/>
            </p:nvSpPr>
            <p:spPr>
              <a:xfrm flipH="1" rot="10728000">
                <a:off x="7398720" y="672840"/>
                <a:ext cx="1084680" cy="137952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9"/>
              <p:cNvSpPr/>
              <p:nvPr/>
            </p:nvSpPr>
            <p:spPr>
              <a:xfrm flipH="1" rot="10728000">
                <a:off x="7470360" y="987120"/>
                <a:ext cx="820800" cy="104400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76" name="27 Rectángulo" descr=""/>
          <p:cNvPicPr/>
          <p:nvPr/>
        </p:nvPicPr>
        <p:blipFill>
          <a:blip r:embed="rId1"/>
          <a:stretch/>
        </p:blipFill>
        <p:spPr>
          <a:xfrm>
            <a:off x="1755720" y="2097000"/>
            <a:ext cx="5486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1 Rectángulo" descr=""/>
          <p:cNvPicPr/>
          <p:nvPr/>
        </p:nvPicPr>
        <p:blipFill>
          <a:blip r:embed="rId1"/>
          <a:stretch/>
        </p:blipFill>
        <p:spPr>
          <a:xfrm>
            <a:off x="353880" y="749160"/>
            <a:ext cx="4797720" cy="689040"/>
          </a:xfrm>
          <a:prstGeom prst="rect">
            <a:avLst/>
          </a:prstGeom>
          <a:ln w="0">
            <a:noFill/>
          </a:ln>
        </p:spPr>
      </p:pic>
      <p:grpSp>
        <p:nvGrpSpPr>
          <p:cNvPr id="378" name="Group 4"/>
          <p:cNvGrpSpPr/>
          <p:nvPr/>
        </p:nvGrpSpPr>
        <p:grpSpPr>
          <a:xfrm>
            <a:off x="5286240" y="571680"/>
            <a:ext cx="3310200" cy="1714320"/>
            <a:chOff x="5286240" y="571680"/>
            <a:chExt cx="3310200" cy="1714320"/>
          </a:xfrm>
        </p:grpSpPr>
        <p:cxnSp>
          <p:nvCxnSpPr>
            <p:cNvPr id="379" name="AutoShape 5"/>
            <p:cNvCxnSpPr/>
            <p:nvPr/>
          </p:nvCxnSpPr>
          <p:spPr>
            <a:xfrm>
              <a:off x="5286240" y="572040"/>
              <a:ext cx="2406960" cy="13950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380" name="Group 6"/>
            <p:cNvGrpSpPr/>
            <p:nvPr/>
          </p:nvGrpSpPr>
          <p:grpSpPr>
            <a:xfrm>
              <a:off x="7195680" y="571680"/>
              <a:ext cx="1400760" cy="1714320"/>
              <a:chOff x="7195680" y="571680"/>
              <a:chExt cx="1400760" cy="1714320"/>
            </a:xfrm>
          </p:grpSpPr>
          <p:sp>
            <p:nvSpPr>
              <p:cNvPr id="381" name="Freeform 7"/>
              <p:cNvSpPr/>
              <p:nvPr/>
            </p:nvSpPr>
            <p:spPr>
              <a:xfrm flipH="1" flipV="1" rot="5400000">
                <a:off x="7038360" y="728280"/>
                <a:ext cx="1714320" cy="1400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8"/>
              <p:cNvSpPr/>
              <p:nvPr/>
            </p:nvSpPr>
            <p:spPr>
              <a:xfrm flipH="1" rot="10728000">
                <a:off x="7398720" y="672840"/>
                <a:ext cx="1084680" cy="137952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9"/>
              <p:cNvSpPr/>
              <p:nvPr/>
            </p:nvSpPr>
            <p:spPr>
              <a:xfrm flipH="1" rot="10728000">
                <a:off x="7470360" y="987120"/>
                <a:ext cx="820800" cy="104400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9 CuadroTexto"/>
          <p:cNvSpPr/>
          <p:nvPr/>
        </p:nvSpPr>
        <p:spPr>
          <a:xfrm>
            <a:off x="1714680" y="2143080"/>
            <a:ext cx="61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9639d"/>
                </a:solidFill>
                <a:latin typeface="Comic Sans MS"/>
              </a:rPr>
              <a:t>Not expressing your own feelings or saying noth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11 CuadroTexto"/>
          <p:cNvSpPr/>
          <p:nvPr/>
        </p:nvSpPr>
        <p:spPr>
          <a:xfrm>
            <a:off x="1785960" y="3071880"/>
            <a:ext cx="614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9639d"/>
                </a:solidFill>
                <a:latin typeface="Comic Sans MS"/>
              </a:rPr>
              <a:t>Asking for what you want or saying how you feel in a threatening, sarcastic or humiliating 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12 CuadroTexto"/>
          <p:cNvSpPr/>
          <p:nvPr/>
        </p:nvSpPr>
        <p:spPr>
          <a:xfrm>
            <a:off x="1857240" y="4500720"/>
            <a:ext cx="614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9639d"/>
                </a:solidFill>
                <a:latin typeface="Comic Sans MS"/>
              </a:rPr>
              <a:t>Asking for what you want or saying how you feel in an honest and respectful way, without hurting anybody’s feeling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http://tbn2.google.com/images?q=tbn:giaO7F9441Kx4M:http://www.seedmagazine.com/news/uploads/attractive_artic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1500120"/>
            <a:ext cx="923760" cy="1238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http://tbn1.google.com/images?q=tbn:VcGdBY4zPC172M:http://i154.photobucket.com/albums/s248/Naigrami/IMG_033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2960" y="2928960"/>
            <a:ext cx="928800" cy="12142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http://tbn2.google.com/images?q=tbn:YkjSW84bgyr8IM:http://static-p4.fotolia.com/jpg/00/00/07/99/400_F_79906_nvRNg7m5Opc4jfymnFXdQMJkgURNol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1680" y="4286160"/>
            <a:ext cx="1180800" cy="1000080"/>
          </a:xfrm>
          <a:prstGeom prst="rect">
            <a:avLst/>
          </a:prstGeom>
          <a:ln w="0">
            <a:noFill/>
          </a:ln>
        </p:spPr>
      </p:pic>
      <p:sp>
        <p:nvSpPr>
          <p:cNvPr id="390" name="20 CuadroTexto"/>
          <p:cNvSpPr/>
          <p:nvPr/>
        </p:nvSpPr>
        <p:spPr>
          <a:xfrm>
            <a:off x="6357960" y="2571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 Rounded MT Bold"/>
              </a:rPr>
              <a:t>p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21 CuadroTexto"/>
          <p:cNvSpPr/>
          <p:nvPr/>
        </p:nvSpPr>
        <p:spPr>
          <a:xfrm>
            <a:off x="6357960" y="3643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 Rounded MT Bold"/>
              </a:rPr>
              <a:t>ag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22 CuadroTexto"/>
          <p:cNvSpPr/>
          <p:nvPr/>
        </p:nvSpPr>
        <p:spPr>
          <a:xfrm>
            <a:off x="6357960" y="52862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 Rounded MT Bold"/>
              </a:rPr>
              <a:t>asser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4"/>
          <p:cNvGrpSpPr/>
          <p:nvPr/>
        </p:nvGrpSpPr>
        <p:grpSpPr>
          <a:xfrm>
            <a:off x="5286240" y="571680"/>
            <a:ext cx="3310200" cy="1714320"/>
            <a:chOff x="5286240" y="571680"/>
            <a:chExt cx="3310200" cy="1714320"/>
          </a:xfrm>
        </p:grpSpPr>
        <p:cxnSp>
          <p:nvCxnSpPr>
            <p:cNvPr id="394" name="AutoShape 5"/>
            <p:cNvCxnSpPr/>
            <p:nvPr/>
          </p:nvCxnSpPr>
          <p:spPr>
            <a:xfrm>
              <a:off x="5286240" y="572040"/>
              <a:ext cx="2406960" cy="13950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395" name="Group 6"/>
            <p:cNvGrpSpPr/>
            <p:nvPr/>
          </p:nvGrpSpPr>
          <p:grpSpPr>
            <a:xfrm>
              <a:off x="7195680" y="571680"/>
              <a:ext cx="1400760" cy="1714320"/>
              <a:chOff x="7195680" y="571680"/>
              <a:chExt cx="1400760" cy="1714320"/>
            </a:xfrm>
          </p:grpSpPr>
          <p:sp>
            <p:nvSpPr>
              <p:cNvPr id="396" name="Freeform 7"/>
              <p:cNvSpPr/>
              <p:nvPr/>
            </p:nvSpPr>
            <p:spPr>
              <a:xfrm flipH="1" flipV="1" rot="5400000">
                <a:off x="7038360" y="728280"/>
                <a:ext cx="1714320" cy="1400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8"/>
              <p:cNvSpPr/>
              <p:nvPr/>
            </p:nvSpPr>
            <p:spPr>
              <a:xfrm flipH="1" rot="10728000">
                <a:off x="7398720" y="672840"/>
                <a:ext cx="1084680" cy="137952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9"/>
              <p:cNvSpPr/>
              <p:nvPr/>
            </p:nvSpPr>
            <p:spPr>
              <a:xfrm flipH="1" rot="10728000">
                <a:off x="7470360" y="987120"/>
                <a:ext cx="820800" cy="104400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9" name="7 Rectángulo" descr=""/>
          <p:cNvPicPr/>
          <p:nvPr/>
        </p:nvPicPr>
        <p:blipFill>
          <a:blip r:embed="rId1"/>
          <a:stretch/>
        </p:blipFill>
        <p:spPr>
          <a:xfrm>
            <a:off x="353880" y="749160"/>
            <a:ext cx="4797720" cy="689040"/>
          </a:xfrm>
          <a:prstGeom prst="rect">
            <a:avLst/>
          </a:prstGeom>
          <a:ln w="0">
            <a:noFill/>
          </a:ln>
        </p:spPr>
      </p:pic>
      <p:sp>
        <p:nvSpPr>
          <p:cNvPr id="400" name="10 CuadroTexto"/>
          <p:cNvSpPr/>
          <p:nvPr/>
        </p:nvSpPr>
        <p:spPr>
          <a:xfrm>
            <a:off x="1000080" y="2143080"/>
            <a:ext cx="614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9639d"/>
                </a:solidFill>
                <a:latin typeface="Comic Sans MS"/>
              </a:rPr>
              <a:t>1. The student who uses the locker next to yours pushes you out of the 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2 CuadroTexto"/>
          <p:cNvSpPr/>
          <p:nvPr/>
        </p:nvSpPr>
        <p:spPr>
          <a:xfrm>
            <a:off x="1071720" y="3000240"/>
            <a:ext cx="61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9639d"/>
                </a:solidFill>
                <a:latin typeface="Comic Sans MS"/>
              </a:rPr>
              <a:t>2. There is a boy in the school that calls you names every 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3 CuadroTexto"/>
          <p:cNvSpPr/>
          <p:nvPr/>
        </p:nvSpPr>
        <p:spPr>
          <a:xfrm>
            <a:off x="1071720" y="3643200"/>
            <a:ext cx="61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9639d"/>
                </a:solidFill>
                <a:latin typeface="Comic Sans MS"/>
              </a:rPr>
              <a:t>3. A girl is spreading rumors about you that aren’t tr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4 CuadroTexto"/>
          <p:cNvSpPr/>
          <p:nvPr/>
        </p:nvSpPr>
        <p:spPr>
          <a:xfrm>
            <a:off x="1071720" y="4214880"/>
            <a:ext cx="61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9639d"/>
                </a:solidFill>
                <a:latin typeface="Comic Sans MS"/>
              </a:rPr>
              <a:t>4. A classmate always asks you to copy your compositions and you know the teacher is suspecting and is going to compare your resul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1 Rectángulo" descr=""/>
          <p:cNvPicPr/>
          <p:nvPr/>
        </p:nvPicPr>
        <p:blipFill>
          <a:blip r:embed="rId1"/>
          <a:stretch/>
        </p:blipFill>
        <p:spPr>
          <a:xfrm>
            <a:off x="353880" y="749160"/>
            <a:ext cx="4797720" cy="409680"/>
          </a:xfrm>
          <a:prstGeom prst="rect">
            <a:avLst/>
          </a:prstGeom>
          <a:ln w="0">
            <a:noFill/>
          </a:ln>
        </p:spPr>
      </p:pic>
      <p:grpSp>
        <p:nvGrpSpPr>
          <p:cNvPr id="405" name="Group 4"/>
          <p:cNvGrpSpPr/>
          <p:nvPr/>
        </p:nvGrpSpPr>
        <p:grpSpPr>
          <a:xfrm>
            <a:off x="5286240" y="571680"/>
            <a:ext cx="3310200" cy="1714320"/>
            <a:chOff x="5286240" y="571680"/>
            <a:chExt cx="3310200" cy="1714320"/>
          </a:xfrm>
        </p:grpSpPr>
        <p:cxnSp>
          <p:nvCxnSpPr>
            <p:cNvPr id="406" name="AutoShape 5"/>
            <p:cNvCxnSpPr/>
            <p:nvPr/>
          </p:nvCxnSpPr>
          <p:spPr>
            <a:xfrm>
              <a:off x="5286240" y="572040"/>
              <a:ext cx="2406960" cy="13950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407" name="Group 6"/>
            <p:cNvGrpSpPr/>
            <p:nvPr/>
          </p:nvGrpSpPr>
          <p:grpSpPr>
            <a:xfrm>
              <a:off x="7195680" y="571680"/>
              <a:ext cx="1400760" cy="1714320"/>
              <a:chOff x="7195680" y="571680"/>
              <a:chExt cx="1400760" cy="1714320"/>
            </a:xfrm>
          </p:grpSpPr>
          <p:sp>
            <p:nvSpPr>
              <p:cNvPr id="408" name="Freeform 7"/>
              <p:cNvSpPr/>
              <p:nvPr/>
            </p:nvSpPr>
            <p:spPr>
              <a:xfrm flipH="1" flipV="1" rot="5400000">
                <a:off x="7038360" y="728280"/>
                <a:ext cx="1714320" cy="1400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Oval 8"/>
              <p:cNvSpPr/>
              <p:nvPr/>
            </p:nvSpPr>
            <p:spPr>
              <a:xfrm flipH="1" rot="10728000">
                <a:off x="7398720" y="672840"/>
                <a:ext cx="1084680" cy="137952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9"/>
              <p:cNvSpPr/>
              <p:nvPr/>
            </p:nvSpPr>
            <p:spPr>
              <a:xfrm flipH="1" rot="10728000">
                <a:off x="7470360" y="987120"/>
                <a:ext cx="820800" cy="104400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8 Botón de acción: Hacia delante o Siguiente">
            <a:hlinkClick r:id="" action="ppaction://hlinkshowjump?jump=nextslide"/>
          </p:cNvPr>
          <p:cNvSpPr/>
          <p:nvPr/>
        </p:nvSpPr>
        <p:spPr>
          <a:xfrm>
            <a:off x="1000080" y="1285920"/>
            <a:ext cx="642960" cy="285840"/>
          </a:xfrm>
          <a:custGeom>
            <a:avLst/>
            <a:gdLst>
              <a:gd name="textAreaLeft" fmla="*/ 18360 w 642960"/>
              <a:gd name="textAreaRight" fmla="*/ 624600 w 6429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48552" h="21600">
                <a:moveTo>
                  <a:pt x="0" y="0"/>
                </a:moveTo>
                <a:lnTo>
                  <a:pt x="48552" y="0"/>
                </a:lnTo>
                <a:lnTo>
                  <a:pt x="48552" y="21600"/>
                </a:lnTo>
                <a:lnTo>
                  <a:pt x="0" y="21600"/>
                </a:lnTo>
                <a:close/>
              </a:path>
              <a:path fill="lightenLess" w="48552" h="21600">
                <a:moveTo>
                  <a:pt x="0" y="0"/>
                </a:moveTo>
                <a:lnTo>
                  <a:pt x="48552" y="0"/>
                </a:lnTo>
                <a:lnTo>
                  <a:pt x="47152" y="1400"/>
                </a:lnTo>
                <a:lnTo>
                  <a:pt x="1400" y="1400"/>
                </a:lnTo>
                <a:close/>
              </a:path>
              <a:path fill="darken" w="48552" h="21600">
                <a:moveTo>
                  <a:pt x="48552" y="0"/>
                </a:moveTo>
                <a:lnTo>
                  <a:pt x="48552" y="21600"/>
                </a:lnTo>
                <a:lnTo>
                  <a:pt x="47152" y="20200"/>
                </a:lnTo>
                <a:lnTo>
                  <a:pt x="47152" y="1400"/>
                </a:lnTo>
                <a:close/>
              </a:path>
              <a:path fill="darkenLess" w="48552" h="21600">
                <a:moveTo>
                  <a:pt x="48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52" y="20200"/>
                </a:lnTo>
                <a:close/>
              </a:path>
              <a:path fill="lighten" w="48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52" h="21600">
                <a:moveTo>
                  <a:pt x="17270" y="3794"/>
                </a:moveTo>
                <a:lnTo>
                  <a:pt x="31283" y="10800"/>
                </a:lnTo>
                <a:lnTo>
                  <a:pt x="1727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9 Botón de acción: Hacia delante o Siguiente">
            <a:hlinkClick r:id="" action="ppaction://hlinkshowjump?jump=nextslide"/>
          </p:cNvPr>
          <p:cNvSpPr/>
          <p:nvPr/>
        </p:nvSpPr>
        <p:spPr>
          <a:xfrm>
            <a:off x="1000080" y="1785960"/>
            <a:ext cx="642960" cy="285840"/>
          </a:xfrm>
          <a:custGeom>
            <a:avLst/>
            <a:gdLst>
              <a:gd name="textAreaLeft" fmla="*/ 18360 w 642960"/>
              <a:gd name="textAreaRight" fmla="*/ 624600 w 6429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48552" h="21600">
                <a:moveTo>
                  <a:pt x="0" y="0"/>
                </a:moveTo>
                <a:lnTo>
                  <a:pt x="48552" y="0"/>
                </a:lnTo>
                <a:lnTo>
                  <a:pt x="48552" y="21600"/>
                </a:lnTo>
                <a:lnTo>
                  <a:pt x="0" y="21600"/>
                </a:lnTo>
                <a:close/>
              </a:path>
              <a:path fill="lightenLess" w="48552" h="21600">
                <a:moveTo>
                  <a:pt x="0" y="0"/>
                </a:moveTo>
                <a:lnTo>
                  <a:pt x="48552" y="0"/>
                </a:lnTo>
                <a:lnTo>
                  <a:pt x="47152" y="1400"/>
                </a:lnTo>
                <a:lnTo>
                  <a:pt x="1400" y="1400"/>
                </a:lnTo>
                <a:close/>
              </a:path>
              <a:path fill="darken" w="48552" h="21600">
                <a:moveTo>
                  <a:pt x="48552" y="0"/>
                </a:moveTo>
                <a:lnTo>
                  <a:pt x="48552" y="21600"/>
                </a:lnTo>
                <a:lnTo>
                  <a:pt x="47152" y="20200"/>
                </a:lnTo>
                <a:lnTo>
                  <a:pt x="47152" y="1400"/>
                </a:lnTo>
                <a:close/>
              </a:path>
              <a:path fill="darkenLess" w="48552" h="21600">
                <a:moveTo>
                  <a:pt x="48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52" y="20200"/>
                </a:lnTo>
                <a:close/>
              </a:path>
              <a:path fill="lighten" w="48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52" h="21600">
                <a:moveTo>
                  <a:pt x="17270" y="3794"/>
                </a:moveTo>
                <a:lnTo>
                  <a:pt x="31283" y="10800"/>
                </a:lnTo>
                <a:lnTo>
                  <a:pt x="1727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10 Botón de acción: Hacia delante o Siguiente">
            <a:hlinkClick r:id="" action="ppaction://hlinkshowjump?jump=nextslide"/>
          </p:cNvPr>
          <p:cNvSpPr/>
          <p:nvPr/>
        </p:nvSpPr>
        <p:spPr>
          <a:xfrm>
            <a:off x="1000080" y="2286000"/>
            <a:ext cx="642960" cy="285840"/>
          </a:xfrm>
          <a:custGeom>
            <a:avLst/>
            <a:gdLst>
              <a:gd name="textAreaLeft" fmla="*/ 18360 w 642960"/>
              <a:gd name="textAreaRight" fmla="*/ 624600 w 6429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48552" h="21600">
                <a:moveTo>
                  <a:pt x="0" y="0"/>
                </a:moveTo>
                <a:lnTo>
                  <a:pt x="48552" y="0"/>
                </a:lnTo>
                <a:lnTo>
                  <a:pt x="48552" y="21600"/>
                </a:lnTo>
                <a:lnTo>
                  <a:pt x="0" y="21600"/>
                </a:lnTo>
                <a:close/>
              </a:path>
              <a:path fill="lightenLess" w="48552" h="21600">
                <a:moveTo>
                  <a:pt x="0" y="0"/>
                </a:moveTo>
                <a:lnTo>
                  <a:pt x="48552" y="0"/>
                </a:lnTo>
                <a:lnTo>
                  <a:pt x="47152" y="1400"/>
                </a:lnTo>
                <a:lnTo>
                  <a:pt x="1400" y="1400"/>
                </a:lnTo>
                <a:close/>
              </a:path>
              <a:path fill="darken" w="48552" h="21600">
                <a:moveTo>
                  <a:pt x="48552" y="0"/>
                </a:moveTo>
                <a:lnTo>
                  <a:pt x="48552" y="21600"/>
                </a:lnTo>
                <a:lnTo>
                  <a:pt x="47152" y="20200"/>
                </a:lnTo>
                <a:lnTo>
                  <a:pt x="47152" y="1400"/>
                </a:lnTo>
                <a:close/>
              </a:path>
              <a:path fill="darkenLess" w="48552" h="21600">
                <a:moveTo>
                  <a:pt x="48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52" y="20200"/>
                </a:lnTo>
                <a:close/>
              </a:path>
              <a:path fill="lighten" w="48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52" h="21600">
                <a:moveTo>
                  <a:pt x="17270" y="3794"/>
                </a:moveTo>
                <a:lnTo>
                  <a:pt x="31283" y="10800"/>
                </a:lnTo>
                <a:lnTo>
                  <a:pt x="1727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11 Botón de acción: Hacia delante o Siguiente">
            <a:hlinkClick r:id="" action="ppaction://hlinkshowjump?jump=nextslide"/>
          </p:cNvPr>
          <p:cNvSpPr/>
          <p:nvPr/>
        </p:nvSpPr>
        <p:spPr>
          <a:xfrm>
            <a:off x="1000080" y="2714760"/>
            <a:ext cx="642960" cy="285480"/>
          </a:xfrm>
          <a:custGeom>
            <a:avLst/>
            <a:gdLst>
              <a:gd name="textAreaLeft" fmla="*/ 18360 w 642960"/>
              <a:gd name="textAreaRight" fmla="*/ 624600 w 64296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48614" h="21600">
                <a:moveTo>
                  <a:pt x="0" y="0"/>
                </a:moveTo>
                <a:lnTo>
                  <a:pt x="48614" y="0"/>
                </a:lnTo>
                <a:lnTo>
                  <a:pt x="48614" y="21600"/>
                </a:lnTo>
                <a:lnTo>
                  <a:pt x="0" y="21600"/>
                </a:lnTo>
                <a:close/>
              </a:path>
              <a:path fill="lightenLess" w="48614" h="21600">
                <a:moveTo>
                  <a:pt x="0" y="0"/>
                </a:moveTo>
                <a:lnTo>
                  <a:pt x="48614" y="0"/>
                </a:lnTo>
                <a:lnTo>
                  <a:pt x="47214" y="1400"/>
                </a:lnTo>
                <a:lnTo>
                  <a:pt x="1400" y="1400"/>
                </a:lnTo>
                <a:close/>
              </a:path>
              <a:path fill="darken" w="48614" h="21600">
                <a:moveTo>
                  <a:pt x="48614" y="0"/>
                </a:moveTo>
                <a:lnTo>
                  <a:pt x="48614" y="21600"/>
                </a:lnTo>
                <a:lnTo>
                  <a:pt x="47214" y="20200"/>
                </a:lnTo>
                <a:lnTo>
                  <a:pt x="47214" y="1400"/>
                </a:lnTo>
                <a:close/>
              </a:path>
              <a:path fill="darkenLess" w="48614" h="21600">
                <a:moveTo>
                  <a:pt x="48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14" y="20200"/>
                </a:lnTo>
                <a:close/>
              </a:path>
              <a:path fill="lighten" w="48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14" h="21600">
                <a:moveTo>
                  <a:pt x="17300" y="3794"/>
                </a:moveTo>
                <a:lnTo>
                  <a:pt x="31313" y="10800"/>
                </a:lnTo>
                <a:lnTo>
                  <a:pt x="1730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12 Botón de acción: Hacia delante o Siguiente">
            <a:hlinkClick r:id="" action="ppaction://hlinkshowjump?jump=nextslide"/>
          </p:cNvPr>
          <p:cNvSpPr/>
          <p:nvPr/>
        </p:nvSpPr>
        <p:spPr>
          <a:xfrm>
            <a:off x="1000080" y="3214800"/>
            <a:ext cx="642960" cy="285480"/>
          </a:xfrm>
          <a:custGeom>
            <a:avLst/>
            <a:gdLst>
              <a:gd name="textAreaLeft" fmla="*/ 18360 w 642960"/>
              <a:gd name="textAreaRight" fmla="*/ 624600 w 64296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48614" h="21600">
                <a:moveTo>
                  <a:pt x="0" y="0"/>
                </a:moveTo>
                <a:lnTo>
                  <a:pt x="48614" y="0"/>
                </a:lnTo>
                <a:lnTo>
                  <a:pt x="48614" y="21600"/>
                </a:lnTo>
                <a:lnTo>
                  <a:pt x="0" y="21600"/>
                </a:lnTo>
                <a:close/>
              </a:path>
              <a:path fill="lightenLess" w="48614" h="21600">
                <a:moveTo>
                  <a:pt x="0" y="0"/>
                </a:moveTo>
                <a:lnTo>
                  <a:pt x="48614" y="0"/>
                </a:lnTo>
                <a:lnTo>
                  <a:pt x="47214" y="1400"/>
                </a:lnTo>
                <a:lnTo>
                  <a:pt x="1400" y="1400"/>
                </a:lnTo>
                <a:close/>
              </a:path>
              <a:path fill="darken" w="48614" h="21600">
                <a:moveTo>
                  <a:pt x="48614" y="0"/>
                </a:moveTo>
                <a:lnTo>
                  <a:pt x="48614" y="21600"/>
                </a:lnTo>
                <a:lnTo>
                  <a:pt x="47214" y="20200"/>
                </a:lnTo>
                <a:lnTo>
                  <a:pt x="47214" y="1400"/>
                </a:lnTo>
                <a:close/>
              </a:path>
              <a:path fill="darkenLess" w="48614" h="21600">
                <a:moveTo>
                  <a:pt x="48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14" y="20200"/>
                </a:lnTo>
                <a:close/>
              </a:path>
              <a:path fill="lighten" w="48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14" h="21600">
                <a:moveTo>
                  <a:pt x="17300" y="3794"/>
                </a:moveTo>
                <a:lnTo>
                  <a:pt x="31313" y="10800"/>
                </a:lnTo>
                <a:lnTo>
                  <a:pt x="1730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13 Botón de acción: Hacia delante o Siguiente">
            <a:hlinkClick r:id="" action="ppaction://hlinkshowjump?jump=nextslide"/>
          </p:cNvPr>
          <p:cNvSpPr/>
          <p:nvPr/>
        </p:nvSpPr>
        <p:spPr>
          <a:xfrm>
            <a:off x="1000080" y="3714840"/>
            <a:ext cx="642960" cy="285840"/>
          </a:xfrm>
          <a:custGeom>
            <a:avLst/>
            <a:gdLst>
              <a:gd name="textAreaLeft" fmla="*/ 18360 w 642960"/>
              <a:gd name="textAreaRight" fmla="*/ 624600 w 6429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48552" h="21600">
                <a:moveTo>
                  <a:pt x="0" y="0"/>
                </a:moveTo>
                <a:lnTo>
                  <a:pt x="48552" y="0"/>
                </a:lnTo>
                <a:lnTo>
                  <a:pt x="48552" y="21600"/>
                </a:lnTo>
                <a:lnTo>
                  <a:pt x="0" y="21600"/>
                </a:lnTo>
                <a:close/>
              </a:path>
              <a:path fill="lightenLess" w="48552" h="21600">
                <a:moveTo>
                  <a:pt x="0" y="0"/>
                </a:moveTo>
                <a:lnTo>
                  <a:pt x="48552" y="0"/>
                </a:lnTo>
                <a:lnTo>
                  <a:pt x="47152" y="1400"/>
                </a:lnTo>
                <a:lnTo>
                  <a:pt x="1400" y="1400"/>
                </a:lnTo>
                <a:close/>
              </a:path>
              <a:path fill="darken" w="48552" h="21600">
                <a:moveTo>
                  <a:pt x="48552" y="0"/>
                </a:moveTo>
                <a:lnTo>
                  <a:pt x="48552" y="21600"/>
                </a:lnTo>
                <a:lnTo>
                  <a:pt x="47152" y="20200"/>
                </a:lnTo>
                <a:lnTo>
                  <a:pt x="47152" y="1400"/>
                </a:lnTo>
                <a:close/>
              </a:path>
              <a:path fill="darkenLess" w="48552" h="21600">
                <a:moveTo>
                  <a:pt x="48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52" y="20200"/>
                </a:lnTo>
                <a:close/>
              </a:path>
              <a:path fill="lighten" w="48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52" h="21600">
                <a:moveTo>
                  <a:pt x="17270" y="3794"/>
                </a:moveTo>
                <a:lnTo>
                  <a:pt x="31283" y="10800"/>
                </a:lnTo>
                <a:lnTo>
                  <a:pt x="1727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14 Botón de acción: Hacia delante o Siguiente">
            <a:hlinkClick r:id="" action="ppaction://hlinkshowjump?jump=nextslide"/>
          </p:cNvPr>
          <p:cNvSpPr/>
          <p:nvPr/>
        </p:nvSpPr>
        <p:spPr>
          <a:xfrm>
            <a:off x="1000080" y="4214880"/>
            <a:ext cx="642960" cy="285840"/>
          </a:xfrm>
          <a:custGeom>
            <a:avLst/>
            <a:gdLst>
              <a:gd name="textAreaLeft" fmla="*/ 18360 w 642960"/>
              <a:gd name="textAreaRight" fmla="*/ 624600 w 6429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48552" h="21600">
                <a:moveTo>
                  <a:pt x="0" y="0"/>
                </a:moveTo>
                <a:lnTo>
                  <a:pt x="48552" y="0"/>
                </a:lnTo>
                <a:lnTo>
                  <a:pt x="48552" y="21600"/>
                </a:lnTo>
                <a:lnTo>
                  <a:pt x="0" y="21600"/>
                </a:lnTo>
                <a:close/>
              </a:path>
              <a:path fill="lightenLess" w="48552" h="21600">
                <a:moveTo>
                  <a:pt x="0" y="0"/>
                </a:moveTo>
                <a:lnTo>
                  <a:pt x="48552" y="0"/>
                </a:lnTo>
                <a:lnTo>
                  <a:pt x="47152" y="1400"/>
                </a:lnTo>
                <a:lnTo>
                  <a:pt x="1400" y="1400"/>
                </a:lnTo>
                <a:close/>
              </a:path>
              <a:path fill="darken" w="48552" h="21600">
                <a:moveTo>
                  <a:pt x="48552" y="0"/>
                </a:moveTo>
                <a:lnTo>
                  <a:pt x="48552" y="21600"/>
                </a:lnTo>
                <a:lnTo>
                  <a:pt x="47152" y="20200"/>
                </a:lnTo>
                <a:lnTo>
                  <a:pt x="47152" y="1400"/>
                </a:lnTo>
                <a:close/>
              </a:path>
              <a:path fill="darkenLess" w="48552" h="21600">
                <a:moveTo>
                  <a:pt x="48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52" y="20200"/>
                </a:lnTo>
                <a:close/>
              </a:path>
              <a:path fill="lighten" w="48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52" h="21600">
                <a:moveTo>
                  <a:pt x="17270" y="3794"/>
                </a:moveTo>
                <a:lnTo>
                  <a:pt x="31283" y="10800"/>
                </a:lnTo>
                <a:lnTo>
                  <a:pt x="1727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15 Botón de acción: Hacia delante o Siguiente">
            <a:hlinkClick r:id="" action="ppaction://hlinkshowjump?jump=nextslide"/>
          </p:cNvPr>
          <p:cNvSpPr/>
          <p:nvPr/>
        </p:nvSpPr>
        <p:spPr>
          <a:xfrm>
            <a:off x="1000080" y="4714920"/>
            <a:ext cx="642960" cy="285840"/>
          </a:xfrm>
          <a:custGeom>
            <a:avLst/>
            <a:gdLst>
              <a:gd name="textAreaLeft" fmla="*/ 18360 w 642960"/>
              <a:gd name="textAreaRight" fmla="*/ 624600 w 6429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48552" h="21600">
                <a:moveTo>
                  <a:pt x="0" y="0"/>
                </a:moveTo>
                <a:lnTo>
                  <a:pt x="48552" y="0"/>
                </a:lnTo>
                <a:lnTo>
                  <a:pt x="48552" y="21600"/>
                </a:lnTo>
                <a:lnTo>
                  <a:pt x="0" y="21600"/>
                </a:lnTo>
                <a:close/>
              </a:path>
              <a:path fill="lightenLess" w="48552" h="21600">
                <a:moveTo>
                  <a:pt x="0" y="0"/>
                </a:moveTo>
                <a:lnTo>
                  <a:pt x="48552" y="0"/>
                </a:lnTo>
                <a:lnTo>
                  <a:pt x="47152" y="1400"/>
                </a:lnTo>
                <a:lnTo>
                  <a:pt x="1400" y="1400"/>
                </a:lnTo>
                <a:close/>
              </a:path>
              <a:path fill="darken" w="48552" h="21600">
                <a:moveTo>
                  <a:pt x="48552" y="0"/>
                </a:moveTo>
                <a:lnTo>
                  <a:pt x="48552" y="21600"/>
                </a:lnTo>
                <a:lnTo>
                  <a:pt x="47152" y="20200"/>
                </a:lnTo>
                <a:lnTo>
                  <a:pt x="47152" y="1400"/>
                </a:lnTo>
                <a:close/>
              </a:path>
              <a:path fill="darkenLess" w="48552" h="21600">
                <a:moveTo>
                  <a:pt x="48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52" y="20200"/>
                </a:lnTo>
                <a:close/>
              </a:path>
              <a:path fill="lighten" w="48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52" h="21600">
                <a:moveTo>
                  <a:pt x="17270" y="3794"/>
                </a:moveTo>
                <a:lnTo>
                  <a:pt x="31283" y="10800"/>
                </a:lnTo>
                <a:lnTo>
                  <a:pt x="1727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16 Botón de acción: Hacia delante o Siguiente">
            <a:hlinkClick r:id="" action="ppaction://hlinkshowjump?jump=nextslide"/>
          </p:cNvPr>
          <p:cNvSpPr/>
          <p:nvPr/>
        </p:nvSpPr>
        <p:spPr>
          <a:xfrm>
            <a:off x="1000080" y="5214960"/>
            <a:ext cx="642960" cy="285840"/>
          </a:xfrm>
          <a:custGeom>
            <a:avLst/>
            <a:gdLst>
              <a:gd name="textAreaLeft" fmla="*/ 18360 w 642960"/>
              <a:gd name="textAreaRight" fmla="*/ 624600 w 6429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48552" h="21600">
                <a:moveTo>
                  <a:pt x="0" y="0"/>
                </a:moveTo>
                <a:lnTo>
                  <a:pt x="48552" y="0"/>
                </a:lnTo>
                <a:lnTo>
                  <a:pt x="48552" y="21600"/>
                </a:lnTo>
                <a:lnTo>
                  <a:pt x="0" y="21600"/>
                </a:lnTo>
                <a:close/>
              </a:path>
              <a:path fill="lightenLess" w="48552" h="21600">
                <a:moveTo>
                  <a:pt x="0" y="0"/>
                </a:moveTo>
                <a:lnTo>
                  <a:pt x="48552" y="0"/>
                </a:lnTo>
                <a:lnTo>
                  <a:pt x="47152" y="1400"/>
                </a:lnTo>
                <a:lnTo>
                  <a:pt x="1400" y="1400"/>
                </a:lnTo>
                <a:close/>
              </a:path>
              <a:path fill="darken" w="48552" h="21600">
                <a:moveTo>
                  <a:pt x="48552" y="0"/>
                </a:moveTo>
                <a:lnTo>
                  <a:pt x="48552" y="21600"/>
                </a:lnTo>
                <a:lnTo>
                  <a:pt x="47152" y="20200"/>
                </a:lnTo>
                <a:lnTo>
                  <a:pt x="47152" y="1400"/>
                </a:lnTo>
                <a:close/>
              </a:path>
              <a:path fill="darkenLess" w="48552" h="21600">
                <a:moveTo>
                  <a:pt x="48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52" y="20200"/>
                </a:lnTo>
                <a:close/>
              </a:path>
              <a:path fill="lighten" w="48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52" h="21600">
                <a:moveTo>
                  <a:pt x="17270" y="3794"/>
                </a:moveTo>
                <a:lnTo>
                  <a:pt x="31283" y="10800"/>
                </a:lnTo>
                <a:lnTo>
                  <a:pt x="1727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7 Botón de acción: Hacia delante o Siguiente">
            <a:hlinkClick r:id="" action="ppaction://hlinkshowjump?jump=nextslide"/>
          </p:cNvPr>
          <p:cNvSpPr/>
          <p:nvPr/>
        </p:nvSpPr>
        <p:spPr>
          <a:xfrm>
            <a:off x="1000080" y="5715000"/>
            <a:ext cx="642960" cy="285840"/>
          </a:xfrm>
          <a:custGeom>
            <a:avLst/>
            <a:gdLst>
              <a:gd name="textAreaLeft" fmla="*/ 18360 w 642960"/>
              <a:gd name="textAreaRight" fmla="*/ 624600 w 6429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48552" h="21600">
                <a:moveTo>
                  <a:pt x="0" y="0"/>
                </a:moveTo>
                <a:lnTo>
                  <a:pt x="48552" y="0"/>
                </a:lnTo>
                <a:lnTo>
                  <a:pt x="48552" y="21600"/>
                </a:lnTo>
                <a:lnTo>
                  <a:pt x="0" y="21600"/>
                </a:lnTo>
                <a:close/>
              </a:path>
              <a:path fill="lightenLess" w="48552" h="21600">
                <a:moveTo>
                  <a:pt x="0" y="0"/>
                </a:moveTo>
                <a:lnTo>
                  <a:pt x="48552" y="0"/>
                </a:lnTo>
                <a:lnTo>
                  <a:pt x="47152" y="1400"/>
                </a:lnTo>
                <a:lnTo>
                  <a:pt x="1400" y="1400"/>
                </a:lnTo>
                <a:close/>
              </a:path>
              <a:path fill="darken" w="48552" h="21600">
                <a:moveTo>
                  <a:pt x="48552" y="0"/>
                </a:moveTo>
                <a:lnTo>
                  <a:pt x="48552" y="21600"/>
                </a:lnTo>
                <a:lnTo>
                  <a:pt x="47152" y="20200"/>
                </a:lnTo>
                <a:lnTo>
                  <a:pt x="47152" y="1400"/>
                </a:lnTo>
                <a:close/>
              </a:path>
              <a:path fill="darkenLess" w="48552" h="21600">
                <a:moveTo>
                  <a:pt x="48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52" y="20200"/>
                </a:lnTo>
                <a:close/>
              </a:path>
              <a:path fill="lighten" w="48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52" h="21600">
                <a:moveTo>
                  <a:pt x="17270" y="3794"/>
                </a:moveTo>
                <a:lnTo>
                  <a:pt x="31283" y="10800"/>
                </a:lnTo>
                <a:lnTo>
                  <a:pt x="1727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19 CuadroTexto"/>
          <p:cNvSpPr/>
          <p:nvPr/>
        </p:nvSpPr>
        <p:spPr>
          <a:xfrm>
            <a:off x="1928880" y="178596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9639d"/>
                </a:solidFill>
                <a:latin typeface="Arial"/>
              </a:rPr>
              <a:t>Queu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20 CuadroTexto"/>
          <p:cNvSpPr/>
          <p:nvPr/>
        </p:nvSpPr>
        <p:spPr>
          <a:xfrm>
            <a:off x="1928880" y="26431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9639d"/>
                </a:solidFill>
                <a:latin typeface="Arial"/>
              </a:rPr>
              <a:t>Where to ea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21 CuadroTexto"/>
          <p:cNvSpPr/>
          <p:nvPr/>
        </p:nvSpPr>
        <p:spPr>
          <a:xfrm>
            <a:off x="1928880" y="321480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9639d"/>
                </a:solidFill>
                <a:latin typeface="Arial"/>
              </a:rPr>
              <a:t>Where to ea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22 CuadroTexto"/>
          <p:cNvSpPr/>
          <p:nvPr/>
        </p:nvSpPr>
        <p:spPr>
          <a:xfrm>
            <a:off x="1928880" y="371484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9639d"/>
                </a:solidFill>
                <a:latin typeface="Arial"/>
              </a:rPr>
              <a:t>Lost ti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23 CuadroTexto"/>
          <p:cNvSpPr/>
          <p:nvPr/>
        </p:nvSpPr>
        <p:spPr>
          <a:xfrm>
            <a:off x="1857240" y="471492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9639d"/>
                </a:solidFill>
                <a:latin typeface="Arial"/>
              </a:rPr>
              <a:t>B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24 CuadroTexto"/>
          <p:cNvSpPr/>
          <p:nvPr/>
        </p:nvSpPr>
        <p:spPr>
          <a:xfrm>
            <a:off x="1928880" y="521496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9639d"/>
                </a:solidFill>
                <a:latin typeface="Arial"/>
              </a:rPr>
              <a:t>Sof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25 CuadroTexto"/>
          <p:cNvSpPr/>
          <p:nvPr/>
        </p:nvSpPr>
        <p:spPr>
          <a:xfrm>
            <a:off x="1928880" y="22147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9639d"/>
                </a:solidFill>
                <a:latin typeface="Arial"/>
              </a:rPr>
              <a:t>Queue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26 CuadroTexto"/>
          <p:cNvSpPr/>
          <p:nvPr/>
        </p:nvSpPr>
        <p:spPr>
          <a:xfrm>
            <a:off x="1928880" y="56437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9639d"/>
                </a:solidFill>
                <a:latin typeface="Arial"/>
              </a:rPr>
              <a:t>Sofa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27 CuadroTexto"/>
          <p:cNvSpPr/>
          <p:nvPr/>
        </p:nvSpPr>
        <p:spPr>
          <a:xfrm>
            <a:off x="1857240" y="42148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9639d"/>
                </a:solidFill>
                <a:latin typeface="Arial"/>
              </a:rPr>
              <a:t>Breaking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28 CuadroTexto"/>
          <p:cNvSpPr/>
          <p:nvPr/>
        </p:nvSpPr>
        <p:spPr>
          <a:xfrm>
            <a:off x="1928880" y="135720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9639d"/>
                </a:solidFill>
                <a:latin typeface="Arial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Assertiveness scenarios_ 10 examples.avi" descr=""/>
          <p:cNvPicPr/>
          <p:nvPr/>
        </p:nvPicPr>
        <p:blipFill>
          <a:blip r:embed="rId2"/>
          <a:stretch/>
        </p:blipFill>
        <p:spPr>
          <a:xfrm>
            <a:off x="4643280" y="2500200"/>
            <a:ext cx="3048120" cy="2438640"/>
          </a:xfrm>
          <a:prstGeom prst="rect">
            <a:avLst/>
          </a:prstGeom>
          <a:ln w="0">
            <a:noFill/>
          </a:ln>
        </p:spPr>
      </p:pic>
      <p:sp>
        <p:nvSpPr>
          <p:cNvPr id="432" name="33 CuadroTexto"/>
          <p:cNvSpPr/>
          <p:nvPr/>
        </p:nvSpPr>
        <p:spPr>
          <a:xfrm>
            <a:off x="4714920" y="52149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8119"/>
                </a:solidFill>
                <a:uFillTx/>
                <a:latin typeface="Arial"/>
                <a:hlinkClick r:id="rId3"/>
              </a:rPr>
              <a:t>VIDEOS project\Assertiveness scenarios_ 10 examples.a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4"/>
          <p:cNvGrpSpPr/>
          <p:nvPr/>
        </p:nvGrpSpPr>
        <p:grpSpPr>
          <a:xfrm>
            <a:off x="5000400" y="571680"/>
            <a:ext cx="3310200" cy="1714320"/>
            <a:chOff x="5000400" y="571680"/>
            <a:chExt cx="3310200" cy="1714320"/>
          </a:xfrm>
        </p:grpSpPr>
        <p:cxnSp>
          <p:nvCxnSpPr>
            <p:cNvPr id="434" name="AutoShape 5"/>
            <p:cNvCxnSpPr/>
            <p:nvPr/>
          </p:nvCxnSpPr>
          <p:spPr>
            <a:xfrm>
              <a:off x="5000400" y="572040"/>
              <a:ext cx="2406600" cy="13950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435" name="Group 6"/>
            <p:cNvGrpSpPr/>
            <p:nvPr/>
          </p:nvGrpSpPr>
          <p:grpSpPr>
            <a:xfrm>
              <a:off x="6910200" y="571680"/>
              <a:ext cx="1400400" cy="1714320"/>
              <a:chOff x="6910200" y="571680"/>
              <a:chExt cx="1400400" cy="1714320"/>
            </a:xfrm>
          </p:grpSpPr>
          <p:sp>
            <p:nvSpPr>
              <p:cNvPr id="436" name="Freeform 7"/>
              <p:cNvSpPr/>
              <p:nvPr/>
            </p:nvSpPr>
            <p:spPr>
              <a:xfrm flipH="1" flipV="1" rot="5400000">
                <a:off x="6753240" y="728640"/>
                <a:ext cx="1714320" cy="140040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8"/>
              <p:cNvSpPr/>
              <p:nvPr/>
            </p:nvSpPr>
            <p:spPr>
              <a:xfrm flipH="1" rot="10728000">
                <a:off x="7113600" y="672840"/>
                <a:ext cx="1084320" cy="137952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9"/>
              <p:cNvSpPr/>
              <p:nvPr/>
            </p:nvSpPr>
            <p:spPr>
              <a:xfrm flipH="1" rot="10728000">
                <a:off x="7184880" y="987120"/>
                <a:ext cx="820800" cy="104400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39" name="7 Rectángulo" descr=""/>
          <p:cNvPicPr/>
          <p:nvPr/>
        </p:nvPicPr>
        <p:blipFill>
          <a:blip r:embed="rId1"/>
          <a:stretch/>
        </p:blipFill>
        <p:spPr>
          <a:xfrm>
            <a:off x="324000" y="749160"/>
            <a:ext cx="4913280" cy="7509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http://tbn2.google.com/images?q=tbn:giaO7F9441Kx4M:http://www.seedmagazine.com/news/uploads/attractive_artic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240" y="1785960"/>
            <a:ext cx="924120" cy="12384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http://tbn1.google.com/images?q=tbn:VcGdBY4zPC172M:http://i154.photobucket.com/albums/s248/Naigrami/IMG_033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4240" y="3286080"/>
            <a:ext cx="928800" cy="12146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http://tbn2.google.com/images?q=tbn:YkjSW84bgyr8IM:http://static-p4.fotolia.com/jpg/00/00/07/99/400_F_79906_nvRNg7m5Opc4jfymnFXdQMJkgURNol.jpg"/>
          <p:cNvPicPr/>
          <p:nvPr/>
        </p:nvPicPr>
        <p:blipFill>
          <a:blip r:embed="rId6"/>
          <a:stretch/>
        </p:blipFill>
        <p:spPr>
          <a:xfrm>
            <a:off x="571680" y="4786200"/>
            <a:ext cx="1180800" cy="1000080"/>
          </a:xfrm>
          <a:prstGeom prst="rect">
            <a:avLst/>
          </a:prstGeom>
          <a:ln w="0">
            <a:noFill/>
          </a:ln>
        </p:spPr>
      </p:pic>
      <p:sp>
        <p:nvSpPr>
          <p:cNvPr id="443" name="11 CuadroTexto"/>
          <p:cNvSpPr/>
          <p:nvPr/>
        </p:nvSpPr>
        <p:spPr>
          <a:xfrm>
            <a:off x="2000160" y="1571760"/>
            <a:ext cx="9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9639d"/>
                </a:solidFill>
                <a:latin typeface="Comic Sans MS"/>
              </a:rPr>
              <a:t>To 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15 CuadroTexto"/>
          <p:cNvSpPr/>
          <p:nvPr/>
        </p:nvSpPr>
        <p:spPr>
          <a:xfrm>
            <a:off x="2000160" y="1928880"/>
            <a:ext cx="24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9639d"/>
                </a:solidFill>
                <a:latin typeface="Comic Sans MS"/>
              </a:rPr>
              <a:t>To put yourself 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16 CuadroTexto"/>
          <p:cNvSpPr/>
          <p:nvPr/>
        </p:nvSpPr>
        <p:spPr>
          <a:xfrm>
            <a:off x="2000160" y="23572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9639d"/>
                </a:solidFill>
                <a:latin typeface="Comic Sans MS"/>
              </a:rPr>
              <a:t>To apolog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17 CuadroTexto"/>
          <p:cNvSpPr/>
          <p:nvPr/>
        </p:nvSpPr>
        <p:spPr>
          <a:xfrm>
            <a:off x="2071800" y="2786040"/>
            <a:ext cx="92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9639d"/>
                </a:solidFill>
                <a:latin typeface="Comic Sans MS"/>
              </a:rPr>
              <a:t>To c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18 CuadroTexto"/>
          <p:cNvSpPr/>
          <p:nvPr/>
        </p:nvSpPr>
        <p:spPr>
          <a:xfrm>
            <a:off x="2071800" y="3643200"/>
            <a:ext cx="22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9639d"/>
                </a:solidFill>
                <a:latin typeface="Comic Sans MS"/>
              </a:rPr>
              <a:t>To blame some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19 CuadroTexto"/>
          <p:cNvSpPr/>
          <p:nvPr/>
        </p:nvSpPr>
        <p:spPr>
          <a:xfrm>
            <a:off x="2071800" y="328608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9639d"/>
                </a:solidFill>
                <a:latin typeface="Comic Sans MS"/>
              </a:rPr>
              <a:t>To sh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20 CuadroTexto"/>
          <p:cNvSpPr/>
          <p:nvPr/>
        </p:nvSpPr>
        <p:spPr>
          <a:xfrm>
            <a:off x="2071800" y="400068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9639d"/>
                </a:solidFill>
                <a:latin typeface="Comic Sans MS"/>
              </a:rPr>
              <a:t>To make people feel 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21 CuadroTexto"/>
          <p:cNvSpPr/>
          <p:nvPr/>
        </p:nvSpPr>
        <p:spPr>
          <a:xfrm>
            <a:off x="2071800" y="4357800"/>
            <a:ext cx="42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9639d"/>
                </a:solidFill>
                <a:latin typeface="Comic Sans MS"/>
              </a:rPr>
              <a:t>To do things your way whatever th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23 CuadroTexto"/>
          <p:cNvSpPr/>
          <p:nvPr/>
        </p:nvSpPr>
        <p:spPr>
          <a:xfrm>
            <a:off x="2214720" y="4929120"/>
            <a:ext cx="42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9639d"/>
                </a:solidFill>
                <a:latin typeface="Comic Sans MS"/>
              </a:rPr>
              <a:t>To be hon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24 CuadroTexto"/>
          <p:cNvSpPr/>
          <p:nvPr/>
        </p:nvSpPr>
        <p:spPr>
          <a:xfrm>
            <a:off x="2214720" y="5357880"/>
            <a:ext cx="42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9639d"/>
                </a:solidFill>
                <a:latin typeface="Comic Sans MS"/>
              </a:rPr>
              <a:t>To be confident, sure of your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25 CuadroTexto"/>
          <p:cNvSpPr/>
          <p:nvPr/>
        </p:nvSpPr>
        <p:spPr>
          <a:xfrm>
            <a:off x="2214720" y="5786280"/>
            <a:ext cx="63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9639d"/>
                </a:solidFill>
                <a:latin typeface="Comic Sans MS"/>
              </a:rPr>
              <a:t>To say what you think without hurting other people’s feel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3:38:38Z</dcterms:created>
  <dc:creator>Portatil</dc:creator>
  <dc:description/>
  <dc:language>en-US</dc:language>
  <cp:lastModifiedBy>Portatil</cp:lastModifiedBy>
  <dcterms:modified xsi:type="dcterms:W3CDTF">2009-02-27T14:53:52Z</dcterms:modified>
  <cp:revision>89</cp:revision>
  <dc:subject/>
  <dc:title>Diapositiva 1</dc:title>
</cp:coreProperties>
</file>