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96F-EEC4-4868-8FC1-13B3C648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015-CA23-4A6A-BA67-C62B366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8FC-0217-4345-861C-24B266C9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64C-F69D-4CFB-A439-50301565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01E6-0387-4C92-9B40-3DAC97B6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145-15F6-436C-887E-124048EC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6829-659C-4E5B-B402-11C6A361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826A-DBCD-45B5-80B7-238D338D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01A0-29F0-4104-8B49-DB4D1793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126D-95D1-452F-9E55-5B18E324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F5FD-8539-46DB-98F2-B0906C6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FBD-E44D-48DD-8E27-323FB6B3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BB3B-A264-4105-8FF7-573829C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188F-B0CC-4590-9448-4671BD3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3168-F620-400C-8C94-873C1576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47BE-1922-475A-8522-CCF6E0F9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B7CE-8D2A-4300-8D9F-9DEA185D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161-684C-4F81-A014-23ECB58B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E91-687F-48E5-9033-433530EF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4D1-EF08-4B43-99F4-667D867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C65-FB51-4A0D-B5B8-59FE6D1D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D12-3C6C-4C7F-9964-6329B6D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E04-871A-41E5-BC67-83DF5DAE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2ED-A855-4F2D-B54A-84488BBB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EB10-915C-47CF-9853-961D54B01F4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38A-7437-4D4D-B089-CBEBF23A914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5867280" y="475920"/>
            <a:ext cx="2952720" cy="1330200"/>
            <a:chOff x="5867280" y="475920"/>
            <a:chExt cx="2952720" cy="1330200"/>
          </a:xfrm>
        </p:grpSpPr>
        <p:cxnSp>
          <p:nvCxnSpPr>
            <p:cNvPr id="96" name="AutoShape 5"/>
            <p:cNvCxnSpPr/>
            <p:nvPr/>
          </p:nvCxnSpPr>
          <p:spPr>
            <a:xfrm>
              <a:off x="5867280" y="476280"/>
              <a:ext cx="2147040" cy="10825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97" name="Group 6"/>
            <p:cNvGrpSpPr/>
            <p:nvPr/>
          </p:nvGrpSpPr>
          <p:grpSpPr>
            <a:xfrm>
              <a:off x="7570440" y="475920"/>
              <a:ext cx="1249560" cy="1330200"/>
              <a:chOff x="7570440" y="475920"/>
              <a:chExt cx="1249560" cy="1330200"/>
            </a:xfrm>
          </p:grpSpPr>
          <p:sp>
            <p:nvSpPr>
              <p:cNvPr id="98" name="Freeform 7"/>
              <p:cNvSpPr/>
              <p:nvPr/>
            </p:nvSpPr>
            <p:spPr>
              <a:xfrm flipH="1" flipV="1" rot="5400000">
                <a:off x="7529760" y="515880"/>
                <a:ext cx="1330200" cy="12495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8"/>
              <p:cNvSpPr/>
              <p:nvPr/>
            </p:nvSpPr>
            <p:spPr>
              <a:xfrm flipH="1" rot="10728000">
                <a:off x="7751880" y="554400"/>
                <a:ext cx="967680" cy="107100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9"/>
              <p:cNvSpPr/>
              <p:nvPr/>
            </p:nvSpPr>
            <p:spPr>
              <a:xfrm flipH="1" rot="10728000">
                <a:off x="7816320" y="798480"/>
                <a:ext cx="731880" cy="809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Text Box 10"/>
          <p:cNvSpPr/>
          <p:nvPr/>
        </p:nvSpPr>
        <p:spPr>
          <a:xfrm>
            <a:off x="1258920" y="620640"/>
            <a:ext cx="48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55640" y="549360"/>
            <a:ext cx="53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87280" y="2205000"/>
            <a:ext cx="69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7448c"/>
                </a:solidFill>
                <a:latin typeface="Arial"/>
              </a:rPr>
              <a:t>How do these people </a:t>
            </a:r>
            <a:r>
              <a:rPr b="1" lang="es-ES" sz="4800" spc="-1" strike="noStrike">
                <a:solidFill>
                  <a:srgbClr val="47448c"/>
                </a:solidFill>
                <a:latin typeface="Arial"/>
              </a:rPr>
              <a:t>feel</a:t>
            </a:r>
            <a:r>
              <a:rPr b="0" lang="es-ES" sz="4800" spc="-1" strike="noStrike">
                <a:solidFill>
                  <a:srgbClr val="47448c"/>
                </a:solidFill>
                <a:latin typeface="Arial"/>
              </a:rPr>
              <a:t> according to the situ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85480" y="1988640"/>
            <a:ext cx="8715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have not played very well in your football/baske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team, in fact, you have been a disaster. The couch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     ‘</a:t>
            </a:r>
            <a:r>
              <a:rPr b="0" i="1" lang="es-ES" sz="2400" spc="-1" strike="noStrike">
                <a:solidFill>
                  <a:srgbClr val="47448c"/>
                </a:solidFill>
                <a:latin typeface="Comic Sans MS"/>
              </a:rPr>
              <a:t>The next time I’ll pull you out of the team</a:t>
            </a: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! ‘ he sho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feel - - - - - - - - -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86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87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88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Text Box 10"/>
          <p:cNvSpPr/>
          <p:nvPr/>
        </p:nvSpPr>
        <p:spPr>
          <a:xfrm>
            <a:off x="1835280" y="45813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268360" y="4869000"/>
            <a:ext cx="41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threate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70496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r dog/ hamster / pet is dying because of 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feel - -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96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97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98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10"/>
          <p:cNvSpPr/>
          <p:nvPr/>
        </p:nvSpPr>
        <p:spPr>
          <a:xfrm>
            <a:off x="2556000" y="414972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2700360" y="414972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s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2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indefinite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4" dur="indefinite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went on holiday and left your dog / hamster / 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with your neigh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have just arrived and …. he is d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feel really A - - - -  / C - - -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206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207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208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Text Box 10"/>
          <p:cNvSpPr/>
          <p:nvPr/>
        </p:nvSpPr>
        <p:spPr>
          <a:xfrm>
            <a:off x="183528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ang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364000" y="515772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4356000" y="4869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cro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3" descr=""/>
          <p:cNvPicPr/>
          <p:nvPr/>
        </p:nvPicPr>
        <p:blipFill>
          <a:blip r:embed="rId1"/>
          <a:stretch/>
        </p:blipFill>
        <p:spPr>
          <a:xfrm>
            <a:off x="7093080" y="465300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0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2" dur="indefinite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3" dur="indefinite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39640" y="1988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r boyfriend / girlfriend / best friend move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Madrid to live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will feel really - - - - -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217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218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219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10"/>
          <p:cNvSpPr/>
          <p:nvPr/>
        </p:nvSpPr>
        <p:spPr>
          <a:xfrm>
            <a:off x="3419640" y="4724280"/>
            <a:ext cx="23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lone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7" dur="indefinit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8" dur="indefinit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06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07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08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"/>
          <p:cNvSpPr txBox="1"/>
          <p:nvPr/>
        </p:nvSpPr>
        <p:spPr>
          <a:xfrm>
            <a:off x="468360" y="1989000"/>
            <a:ext cx="82296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feel - - - - - - -, you have studied a lot and your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exams were quite g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But you are not sure if you will pass all th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However, you think posi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7448c"/>
                </a:solidFill>
                <a:latin typeface="Comic Sans MS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755640" y="4508640"/>
            <a:ext cx="48974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hopef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000680" y="27468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5508360" y="230040"/>
            <a:ext cx="3384720" cy="1611360"/>
            <a:chOff x="5508360" y="230040"/>
            <a:chExt cx="3384720" cy="1611360"/>
          </a:xfrm>
        </p:grpSpPr>
        <p:cxnSp>
          <p:nvCxnSpPr>
            <p:cNvPr id="116" name="AutoShape 6"/>
            <p:cNvCxnSpPr/>
            <p:nvPr/>
          </p:nvCxnSpPr>
          <p:spPr>
            <a:xfrm>
              <a:off x="5508360" y="230400"/>
              <a:ext cx="2460600" cy="13111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17" name="Group 7"/>
            <p:cNvGrpSpPr/>
            <p:nvPr/>
          </p:nvGrpSpPr>
          <p:grpSpPr>
            <a:xfrm>
              <a:off x="7461000" y="230040"/>
              <a:ext cx="1432080" cy="1611360"/>
              <a:chOff x="7461000" y="230040"/>
              <a:chExt cx="1432080" cy="1611360"/>
            </a:xfrm>
          </p:grpSpPr>
          <p:sp>
            <p:nvSpPr>
              <p:cNvPr id="118" name="Freeform 8"/>
              <p:cNvSpPr/>
              <p:nvPr/>
            </p:nvSpPr>
            <p:spPr>
              <a:xfrm flipH="1" flipV="1" rot="5400000">
                <a:off x="7371360" y="319680"/>
                <a:ext cx="1611360" cy="143208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9"/>
              <p:cNvSpPr/>
              <p:nvPr/>
            </p:nvSpPr>
            <p:spPr>
              <a:xfrm flipH="1" rot="10728000">
                <a:off x="7668360" y="324720"/>
                <a:ext cx="1109160" cy="12970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0"/>
              <p:cNvSpPr/>
              <p:nvPr/>
            </p:nvSpPr>
            <p:spPr>
              <a:xfrm flipH="1" rot="10728000">
                <a:off x="7742880" y="619920"/>
                <a:ext cx="838800" cy="98172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 Box 11"/>
          <p:cNvSpPr/>
          <p:nvPr/>
        </p:nvSpPr>
        <p:spPr>
          <a:xfrm>
            <a:off x="1187280" y="2133720"/>
            <a:ext cx="734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have discovered a new talent in yourself. You know how to jump up to your chin. Your Physical Education teacher is amaz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are - - - - - of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332000" y="46530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prou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5280" y="191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r friend, who is sitting next to you, is c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during the maths exam. The teacher thinks it is you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expells you from school for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are - - - -, this is - - - - - -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25" name="AutoShape 6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26" name="Group 7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27" name="Freeform 8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9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0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1"/>
          <p:cNvSpPr/>
          <p:nvPr/>
        </p:nvSpPr>
        <p:spPr>
          <a:xfrm>
            <a:off x="755640" y="472428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82692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cro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284720" y="4508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unf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9528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36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37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38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Text Box 11"/>
          <p:cNvSpPr/>
          <p:nvPr/>
        </p:nvSpPr>
        <p:spPr>
          <a:xfrm>
            <a:off x="611280" y="2421000"/>
            <a:ext cx="763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It’s midnight, you have had a long, hard day and you have not had time to write your 500 words essay. You are too tired and decide not to write it, besides, it’s a useless effort, you are sure you are going to fail the subject any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feel  - - - - - - - -  with this su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619280" y="5300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hopel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19159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have won a radio programme quiz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The prize is a free ticket to get to your favourite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group concert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feel so - - - - - - -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46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47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48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Text Box 10"/>
          <p:cNvSpPr/>
          <p:nvPr/>
        </p:nvSpPr>
        <p:spPr>
          <a:xfrm>
            <a:off x="2411280" y="4869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exci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9998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are in a marathon, you are really thirsty…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forgot your water bottle and the runner next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shares his/her bottle with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   </a:t>
            </a: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That’s - - - -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55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56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57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Text Box 11"/>
          <p:cNvSpPr/>
          <p:nvPr/>
        </p:nvSpPr>
        <p:spPr>
          <a:xfrm>
            <a:off x="1116000" y="4365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fa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2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helped your best friend all night with his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and now you need him/her to help you and he does no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7448c"/>
                </a:solidFill>
                <a:latin typeface="Comic Sans MS"/>
              </a:rPr>
              <a:t>You feel - - - - - - - - - - -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64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65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66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10"/>
          <p:cNvSpPr/>
          <p:nvPr/>
        </p:nvSpPr>
        <p:spPr>
          <a:xfrm>
            <a:off x="2050920" y="407664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7448c"/>
                </a:solidFill>
                <a:latin typeface="Arial"/>
              </a:rPr>
              <a:t>disappoin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68360" y="19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You have a cheat-sheet under your exam pap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the teacher suspects on you and he is all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looking at your pl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You feel t - - - - / a - - - - -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              </a:t>
            </a: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w - - - - -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              </a:t>
            </a: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s - - - -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	</a:t>
            </a: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        </a:t>
            </a:r>
            <a:r>
              <a:rPr b="0" lang="es-ES" sz="2200" spc="-1" strike="noStrike">
                <a:solidFill>
                  <a:srgbClr val="47448c"/>
                </a:solidFill>
                <a:latin typeface="Comic Sans MS"/>
              </a:rPr>
              <a:t>s - - - - - -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5580000" y="260280"/>
            <a:ext cx="3168360" cy="1403280"/>
            <a:chOff x="5580000" y="260280"/>
            <a:chExt cx="3168360" cy="1403280"/>
          </a:xfrm>
        </p:grpSpPr>
        <p:cxnSp>
          <p:nvCxnSpPr>
            <p:cNvPr id="173" name="AutoShape 5"/>
            <p:cNvCxnSpPr/>
            <p:nvPr/>
          </p:nvCxnSpPr>
          <p:spPr>
            <a:xfrm>
              <a:off x="5580000" y="260280"/>
              <a:ext cx="2304000" cy="11419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74" name="Group 6"/>
            <p:cNvGrpSpPr/>
            <p:nvPr/>
          </p:nvGrpSpPr>
          <p:grpSpPr>
            <a:xfrm>
              <a:off x="7407720" y="260280"/>
              <a:ext cx="1340640" cy="1403280"/>
              <a:chOff x="7407720" y="260280"/>
              <a:chExt cx="1340640" cy="1403280"/>
            </a:xfrm>
          </p:grpSpPr>
          <p:sp>
            <p:nvSpPr>
              <p:cNvPr id="175" name="Freeform 7"/>
              <p:cNvSpPr/>
              <p:nvPr/>
            </p:nvSpPr>
            <p:spPr>
              <a:xfrm flipH="1" flipV="1" rot="5400000">
                <a:off x="7376400" y="291600"/>
                <a:ext cx="1403280" cy="134064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8"/>
              <p:cNvSpPr/>
              <p:nvPr/>
            </p:nvSpPr>
            <p:spPr>
              <a:xfrm flipH="1" rot="10728000">
                <a:off x="7601760" y="343080"/>
                <a:ext cx="1038240" cy="11296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9"/>
              <p:cNvSpPr/>
              <p:nvPr/>
            </p:nvSpPr>
            <p:spPr>
              <a:xfrm flipH="1" rot="10728000">
                <a:off x="7672320" y="599760"/>
                <a:ext cx="785520" cy="855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11"/>
          <p:cNvSpPr/>
          <p:nvPr/>
        </p:nvSpPr>
        <p:spPr>
          <a:xfrm>
            <a:off x="5076720" y="314172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7448c"/>
                </a:solidFill>
                <a:latin typeface="Arial"/>
              </a:rPr>
              <a:t>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6588000" y="3141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7448c"/>
                </a:solidFill>
                <a:latin typeface="Arial"/>
              </a:rPr>
              <a:t>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378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7448c"/>
                </a:solidFill>
                <a:latin typeface="Arial"/>
              </a:rPr>
              <a:t>wor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5076720" y="443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7448c"/>
                </a:solidFill>
                <a:latin typeface="Arial"/>
              </a:rPr>
              <a:t>sca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003640" y="522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7448c"/>
                </a:solidFill>
                <a:latin typeface="Arial"/>
              </a:rPr>
              <a:t>st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7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6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8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9" dur="indefinite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1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2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5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2:03:25Z</dcterms:created>
  <dc:creator>Portatil</dc:creator>
  <dc:description/>
  <dc:language>en-US</dc:language>
  <cp:lastModifiedBy>Portatil</cp:lastModifiedBy>
  <dcterms:modified xsi:type="dcterms:W3CDTF">2009-01-22T14:51:29Z</dcterms:modified>
  <cp:revision>16</cp:revision>
  <dc:subject/>
  <dc:title>Diapositiva 1</dc:title>
</cp:coreProperties>
</file>