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38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png" ContentType="image/pn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2AC1-CFDD-4BDF-A4C2-E494B1609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C8A9-88E9-440E-928F-FA5420B1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1B13-4F5C-47C4-8F30-6F128147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0F45-54DD-4F9E-AE5B-8CF62C59E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7306-B6BD-4B0F-8487-207EB2306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ED6E-B077-4BAE-BFD6-0B54B790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1302-F7DC-4451-A525-A96E0545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9C4E-CAB6-4EB3-A221-6DE1F250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DFE1-A462-4FFB-8CCB-6DB79263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1FB4-2A27-47BC-8AE6-7DB489AF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302B-F47C-4D3E-BC5C-0F5E8F2E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B514-10F8-4EB9-ABB4-DEEEDB44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4126-0D29-420F-83B8-EAE7A111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4E2C-D368-44A1-A0B8-659781E3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13A5-C8BB-40BE-AFFF-E15C3CCB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DF36-804A-44E7-8E56-A68726F68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488E-9405-4D42-B79D-493EB71DD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A222-B4A4-41DC-95BA-2D5E7332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7F02-D022-4978-B5EF-0555B87F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0182-4DF2-4BA3-A6CD-7943D6ED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9D6F-4FC4-42DE-B9A8-251AD66E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3F02-8883-42D1-BF4E-4940A14F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673B-6DF4-4D55-9F08-62545AB3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8C7E-44A0-49F8-889A-C8C0DAB1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D0EB-5DAE-4A6A-8C58-26022ADD26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01BF-8A13-4A07-BCFF-BFC2CD0DFC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it/imgres?imgurl=http://static-p4.fotolia.com/jpg/00/08/01/03/400_F_8010307_56S70N3jhXHEoRcCek74BumvNXjwwg1r.jpg&amp;imgrefurl=http://www.fotolia.com/id/8010307&amp;usg=__xcC6WnUxW8K3I1cr03tBGqEXlL0=&amp;h=283&amp;w=400&amp;sz=15&amp;hl=es&amp;start=2&amp;um=1&amp;tbnid=wHAh5qW_VZIQuM:&amp;tbnh=88&amp;tbnw=124&amp;prev=/images%3Fq%3DSIMBOLOS%2BHOMBRE%2BMUJER%26um%3D1%26hl%3Des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it/imgres?imgurl=http://www.cremedelacreme.com/images/left/l_toddler.jpg&amp;imgrefurl=http://www.cremedelacreme.com/programs/toddlers.asp&amp;usg=__h-tp_n2GE9w6f0QVUKmmYg_pGFw=&amp;h=265&amp;w=253&amp;sz=12&amp;hl=es&amp;start=15&amp;um=1&amp;tbnid=t_Cf5nT1ZkM7oM:&amp;tbnh=112&amp;tbnw=107&amp;prev=/images%3Fq%3DTODDLER%26um%3D1%26hl%3Des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es/imgres?imgurl=http://www.stmarys.org/images/Teenager.jpg&amp;imgrefurl=http://www.stmarys.org/body.cfm%3Fid%3D505&amp;usg=__NNWKxqvuaO2qyY70FSuCL9swMJw=&amp;h=1027&amp;w=685&amp;sz=500&amp;hl=es&amp;start=7&amp;um=1&amp;tbnid=57nBT2Y0OnB7sM:&amp;tbnh=150&amp;tbnw=100&amp;prev=/images%3Fq%3DTEENAGER%26um%3D1%26hl%3Des%26rlz%3D1T4SKPB_esES294ES294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images.google.es/imgres?imgurl=http://www.gmuerstudio.com/blog/wp-content/uploads/2007/04/camiseta_man01.png&amp;imgrefurl=http://www.gmuerstudio.com/blog/%3Fp%3D77&amp;usg=__C1DrUG_9en9-ewEDAeRCXGLZUZk=&amp;h=472&amp;w=377&amp;sz=299&amp;hl=es&amp;start=15&amp;um=1&amp;tbnid=RCFN2VWJXxkCaM:&amp;tbnh=129&amp;tbnw=103&amp;prev=/images%3Fq%3DMAN%26um%3D1%26hl%3Des%26rlz%3D1T4SKPB_esES294ES294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images.google.es/imgres?imgurl=http://i1.trekearth.com/photos/13171/pretty_woman.jpg&amp;imgrefurl=http://www.trekearth.com/gallery/South_America/Paraguay/North/Boqueron/photo389012.htm&amp;usg=__3tEU_gNxDZE6ypyiOuqU3JM8bjE=&amp;h=533&amp;w=800&amp;sz=103&amp;hl=es&amp;start=4&amp;um=1&amp;tbnid=g1ovWNHZG2ZnvM:&amp;tbnh=95&amp;tbnw=143&amp;prev=/images%3Fq%3Dwoman%26um%3D1%26hl%3Des%26rlz%3D1T4SKPB_esES294ES294" TargetMode="External"/><Relationship Id="rId8" Type="http://schemas.openxmlformats.org/officeDocument/2006/relationships/image" Target="../media/image12.jpeg"/><Relationship Id="rId9" Type="http://schemas.openxmlformats.org/officeDocument/2006/relationships/hyperlink" Target="http://images.google.es/imgres?imgurl=http://images.inmagine.com/img/stockbyte/cd277/347041rkt.jpg&amp;imgrefurl=http://www.inmagine.com/cd277/347041rkt-photo&amp;usg=__HsbYV4bSnTHI6Vl8AEeNvvbfzig=&amp;h=400&amp;w=300&amp;sz=25&amp;hl=es&amp;start=9&amp;um=1&amp;tbnid=FjWS_LVPm9arUM:&amp;tbnh=124&amp;tbnw=93&amp;prev=/images%3Fq%3Dadult%2Bwoman%26um%3D1%26hl%3Des%26rlz%3D1T4SKPB_esES294ES294" TargetMode="External"/><Relationship Id="rId10" Type="http://schemas.openxmlformats.org/officeDocument/2006/relationships/image" Target="../media/image13.jpeg"/><Relationship Id="rId11" Type="http://schemas.openxmlformats.org/officeDocument/2006/relationships/hyperlink" Target="http://images.google.es/imgres?imgurl=http://www.jdch.com/images/jdsb_childserv7.jpg&amp;imgrefurl=http://es.mhs.net/enes/24/_es_jdch_com/mhs2/enes/djdch/childrensservices/childlifeprogram.aspx&amp;usg=__60FaFa6Ks08o19kBBI29lzFdhGc=&amp;h=326&amp;w=268&amp;sz=14&amp;hl=es&amp;start=3&amp;um=1&amp;tbnid=bNUv9ArjyhKC0M:&amp;tbnh=118&amp;tbnw=97&amp;prev=/images%3Fq%3Dchild%26um%3D1%26hl%3Des%26rlz%3D1T4SKPB_esES294ES294" TargetMode="External"/><Relationship Id="rId12" Type="http://schemas.openxmlformats.org/officeDocument/2006/relationships/image" Target="../media/image14.jpeg"/><Relationship Id="rId13" Type="http://schemas.openxmlformats.org/officeDocument/2006/relationships/hyperlink" Target="http://images.google.es/imgres?imgurl=http://www.cs.princeton.edu/~chazelle/pics/teenager.jpg&amp;imgrefurl=http://www.cs.princeton.edu/~chazelle/photoblog.html&amp;usg=__dvlS1G3mPBT5D8M3ANE8XA7KF9M=&amp;h=1019&amp;w=685&amp;sz=105&amp;hl=es&amp;start=48&amp;um=1&amp;tbnid=63OqmetAsF8b9M:&amp;tbnh=150&amp;tbnw=101&amp;prev=/images%3Fq%3Dteenager%26start%3D36%26ndsp%3D18%26um%3D1%26hl%3Des%26rlz%3D1T4SKPB_esES294ES294%26sa%3DN" TargetMode="External"/><Relationship Id="rId14" Type="http://schemas.openxmlformats.org/officeDocument/2006/relationships/image" Target="../media/image15.jpeg"/><Relationship Id="rId15" Type="http://schemas.openxmlformats.org/officeDocument/2006/relationships/hyperlink" Target="http://images.google.es/imgres?imgurl=http://www.arbonne.com/images/products/landing/baby/baby.jpg&amp;imgrefurl=http://www.arbonne.com/products/baby/index.asp%3Flang%3Dspa&amp;usg=__j-VLmoFPDQFtoHn6okwL-Ts9d80=&amp;h=334&amp;w=500&amp;sz=100&amp;hl=es&amp;start=34&amp;um=1&amp;tbnid=-95dPKL5cNx1xM:&amp;tbnh=87&amp;tbnw=130&amp;prev=/images%3Fq%3Dbaby%26start%3D18%26ndsp%3D18%26um%3D1%26hl%3Des%26rlz%3D1T4SKPB_esES294ES294%26sa%3DN" TargetMode="External"/><Relationship Id="rId16" Type="http://schemas.openxmlformats.org/officeDocument/2006/relationships/image" Target="../media/image16.jpeg"/><Relationship Id="rId17" Type="http://schemas.openxmlformats.org/officeDocument/2006/relationships/hyperlink" Target="http://images.google.es/imgres?imgurl=http://stoneponystore.com/images/Toddler%2520Football%2520Jersey.JPG&amp;imgrefurl=http://stoneponystore.com/product_info.php%3Fproducts_id%3D97&amp;usg=__mPlQWjNOiomMi12oRCKsvkYjY2w=&amp;h=600&amp;w=600&amp;sz=91&amp;hl=es&amp;start=29&amp;um=1&amp;tbnid=nUWu1ttF11E-hM:&amp;tbnh=135&amp;tbnw=135&amp;prev=/images%3Fq%3Dtoddler%26start%3D18%26ndsp%3D18%26um%3D1%26hl%3Des%26rlz%3D1T4SKPB_esES294ES294%26sa%3DN" TargetMode="External"/><Relationship Id="rId18" Type="http://schemas.openxmlformats.org/officeDocument/2006/relationships/image" Target="../media/image17.jpeg"/><Relationship Id="rId19" Type="http://schemas.openxmlformats.org/officeDocument/2006/relationships/hyperlink" Target="http://images.google.es/imgres?imgurl=http://www.babysource.com/images/toddler-clothing2.jpg&amp;imgrefurl=http://www.babysource.com/toddler.shtml&amp;usg=__mOYneKT8Xy-FhnYzRcq9fAFv4m4=&amp;h=312&amp;w=442&amp;sz=20&amp;hl=es&amp;start=43&amp;um=1&amp;tbnid=eWw6jGgoiXSjvM:&amp;tbnh=90&amp;tbnw=127&amp;prev=/images%3Fq%3Dtoddler%26start%3D36%26ndsp%3D18%26um%3D1%26hl%3Des%26rlz%3D1T4SKPB_esES294ES294%26sa%3DN" TargetMode="External"/><Relationship Id="rId20" Type="http://schemas.openxmlformats.org/officeDocument/2006/relationships/image" Target="../media/image18.jpeg"/><Relationship Id="rId21" Type="http://schemas.openxmlformats.org/officeDocument/2006/relationships/hyperlink" Target="http://images.google.es/imgres?imgurl=http://www.baby-lane.com/imgs/baby-girl-birth-announcements.jpg&amp;imgrefurl=http://www.noticierodigital.com/forum/viewtopic.php%3Ft%3D427589%26sid%3D41a3cc682b985d0cb546c305075e8cc3&amp;usg=__f1DZPFlsbscgOOsgMfXgHpp_WEI=&amp;h=322&amp;w=475&amp;sz=36&amp;hl=es&amp;start=4&amp;um=1&amp;tbnid=59aP8Qcva34FdM:&amp;tbnh=87&amp;tbnw=129&amp;prev=/images%3Fq%3Dbaby%2Bgirl%26um%3D1%26hl%3Des%26rlz%3D1T4SKPB_esES294ES294" TargetMode="External"/><Relationship Id="rId22" Type="http://schemas.openxmlformats.org/officeDocument/2006/relationships/image" Target="../media/image19.jpeg"/><Relationship Id="rId23" Type="http://schemas.openxmlformats.org/officeDocument/2006/relationships/hyperlink" Target="http://images.google.es/imgres?imgurl=http://www.harrycutting.com/graphics/photos/elderly_people/old-woman-KC5007-90.jpg&amp;imgrefurl=http://www.harrycutting.com/photos_people/elderly-pictures-90-KC5007.htm&amp;usg=__AmaKW3c08PRpsWWRZmZWijV8m2U=&amp;h=334&amp;w=433&amp;sz=48&amp;hl=es&amp;start=6&amp;um=1&amp;tbnid=IUh4upAeWjGS3M:&amp;tbnh=97&amp;tbnw=126&amp;prev=/images%3Fq%3Dold%2Bwoman%26um%3D1%26hl%3Des%26rlz%3D1T4SKPB_esES294ES294" TargetMode="External"/><Relationship Id="rId24" Type="http://schemas.openxmlformats.org/officeDocument/2006/relationships/image" Target="../media/image20.jpeg"/><Relationship Id="rId25" Type="http://schemas.openxmlformats.org/officeDocument/2006/relationships/hyperlink" Target="http://images.google.es/imgres?imgurl=http://cindysense.com/wp-content/uploads/2008/02/old-man-on-rocker.jpg&amp;imgrefurl=http://cindysense.com/things-to-ponder/hello-world/&amp;usg=__D_3t4aHvlnvgAKVny2UEAX1MMlQ=&amp;h=418&amp;w=302&amp;sz=148&amp;hl=es&amp;start=55&amp;um=1&amp;tbnid=xqMcwJMkqVLhFM:&amp;tbnh=125&amp;tbnw=90&amp;prev=/images%3Fq%3Dold%2Bman%26start%3D54%26ndsp%3D18%26um%3D1%26hl%3Des%26rlz%3D1T4SKPB_esES294ES294%26sa%3DN" TargetMode="External"/><Relationship Id="rId26" Type="http://schemas.openxmlformats.org/officeDocument/2006/relationships/image" Target="../media/image21.jpeg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canadiancontent.net/images/people/picture/Keanu-Reeves.jpg&amp;imgrefurl=http://forums.therandirhodesshow.com/index.php%3Fshowtopic%3D6244&amp;usg=__EAng3Ol_hupN_ilMiFanoaRp-Ko=&amp;h=2143&amp;w=1500&amp;sz=186&amp;hl=es&amp;start=31&amp;um=1&amp;tbnid=tRLJIXgmOAQ9EM:&amp;tbnh=150&amp;tbnw=105&amp;prev=/images%3Fq%3Dwhite%2Bperson%26start%3D18%26ndsp%3D18%26um%3D1%26hl%3Des%26rlz%3D1T4SKPB_esES294ES294%26sa%3DN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images.google.es/imgres?imgurl=http://www.fashionafrica.com/wp-content/uploads/2008/03/milisuthando-bongela.jpg&amp;imgrefurl=http://www.fashionafrica.com/blog/interview-youngest-and-first-black-media-spoke-person-for-sanlam-fashion-week-milisuthando-bongela/&amp;usg=__stbllVK3vYCv1QBWxvOmQB_XdFc=&amp;h=567&amp;w=377&amp;sz=153&amp;hl=es&amp;start=10&amp;um=1&amp;tbnid=UKTtxEX2y68yOM:&amp;tbnh=134&amp;tbnw=89&amp;prev=/images%3Fq%3Dblack%2Bperson%26um%3D1%26hl%3Des%26rlz%3D1T4SKPB_esES294ES294%26sa%3DN" TargetMode="External"/><Relationship Id="rId4" Type="http://schemas.openxmlformats.org/officeDocument/2006/relationships/image" Target="../media/image23.jpeg"/><Relationship Id="rId5" Type="http://schemas.openxmlformats.org/officeDocument/2006/relationships/hyperlink" Target="http://images.google.es/imgres?imgurl=http://pics.storythai.com/user/eat_tpin/images/Picture021.jpg&amp;imgrefurl=http://eat_tpin.storythai.com/&amp;usg=__P5tk8S8OTCo1ptN1ZQOrZCYVzS4=&amp;h=600&amp;w=450&amp;sz=39&amp;hl=es&amp;start=10&amp;um=1&amp;tbnid=zFWp7p4o36klOM:&amp;tbnh=135&amp;tbnw=101&amp;prev=/images%3Fq%3Dchinese%2Bperson%26um%3D1%26hl%3Des%26rlz%3D1T4SKPB_esES294ES294%26sa%3DN" TargetMode="External"/><Relationship Id="rId6" Type="http://schemas.openxmlformats.org/officeDocument/2006/relationships/image" Target="../media/image24.jpeg"/><Relationship Id="rId7" Type="http://schemas.openxmlformats.org/officeDocument/2006/relationships/hyperlink" Target="http://images.google.es/imgres?imgurl=http://bp2.blogger.com/_43WPogPAvRc/RgS6eolSrDI/AAAAAAAAAFw/93HaeIkl7BU/s320/Bangladeshi_woman.jpg&amp;imgrefurl=http://dhaka-pic.blogspot.com/2007/03/bangladeshi-villages-woman.html&amp;usg=__8ibvX6UFW1RH-qIC4lIk9zt38QE=&amp;h=320&amp;w=240&amp;sz=24&amp;hl=es&amp;start=1&amp;um=1&amp;tbnid=XioQapNAUJKMkM:&amp;tbnh=118&amp;tbnw=89&amp;prev=/images%3Fq%3Dbangladeshi%26um%3D1%26hl%3Des%26rlz%3D1T4SKPB_esES294ES294" TargetMode="External"/><Relationship Id="rId8" Type="http://schemas.openxmlformats.org/officeDocument/2006/relationships/image" Target="../media/image25.jpeg"/><Relationship Id="rId9" Type="http://schemas.openxmlformats.org/officeDocument/2006/relationships/hyperlink" Target="http://images.google.es/imgres?imgurl=http://cache.gizmodo.com/assets/resources/2007/05/lg_green_banana.jpg&amp;imgrefurl=http://www.asian-central.com/stuffasianpeoplelike/2008/03/12/32-speaking-loudly/&amp;usg=__MqjZ0DW2SZtPF3bZ6FAUxCZsqQM=&amp;h=351&amp;w=500&amp;sz=49&amp;hl=es&amp;start=5&amp;um=1&amp;tbnid=wYJpcr3L3AXIPM:&amp;tbnh=91&amp;tbnw=130&amp;prev=/images%3Fq%3Dasian%2Bperson%26ndsp%3D18%26um%3D1%26hl%3Des%26rlz%3D1T4SKPB_esES294ES294%26sa%3DN" TargetMode="External"/><Relationship Id="rId10" Type="http://schemas.openxmlformats.org/officeDocument/2006/relationships/image" Target="../media/image26.jpeg"/><Relationship Id="rId11" Type="http://schemas.openxmlformats.org/officeDocument/2006/relationships/hyperlink" Target="http://images.google.es/imgres?imgurl=http://www.paxhumana.dk/darfur/Graphics/Darfur1.JPG&amp;imgrefurl=http://www.paxhumana.dk/darfur/qa_darfur.htm&amp;usg=__rACR1bpB67DPEBL7e4454AGZ9iQ=&amp;h=384&amp;w=275&amp;sz=89&amp;hl=es&amp;start=3&amp;um=1&amp;tbnid=hPqvdmXNwoKNwM:&amp;tbnh=123&amp;tbnw=88&amp;prev=/images%3Fq%3Dblack%2Bafrican%26um%3D1%26hl%3Des%26rlz%3D1T4SKPB_esES294ES294" TargetMode="External"/><Relationship Id="rId12" Type="http://schemas.openxmlformats.org/officeDocument/2006/relationships/image" Target="../media/image27.jpeg"/><Relationship Id="rId13" Type="http://schemas.openxmlformats.org/officeDocument/2006/relationships/hyperlink" Target="http://images.google.es/imgres?imgurl=http://www.themuslimwoman.org/images/mukhtaran_mai_pakistani_women_pakistani_rape_victim.jpg&amp;imgrefurl=http://www.themuslimwoman.org/entry/shame-a-moving-documentary-on-pakistani-rape-victim-mukhtaran-mai/&amp;usg=__dwifoY1xI9qIdDbs9LO9ojZbRmo=&amp;h=551&amp;w=400&amp;sz=44&amp;hl=es&amp;start=42&amp;um=1&amp;tbnid=fRn4FopX7_jhoM:&amp;tbnh=133&amp;tbnw=97&amp;prev=/images%3Fq%3Dpakistani%26start%3D36%26ndsp%3D18%26um%3D1%26hl%3Des%26rlz%3D1T4SKPB_esES294ES294%26sa%3DN" TargetMode="External"/><Relationship Id="rId14" Type="http://schemas.openxmlformats.org/officeDocument/2006/relationships/image" Target="../media/image28.jpeg"/><Relationship Id="rId15" Type="http://schemas.openxmlformats.org/officeDocument/2006/relationships/hyperlink" Target="http://images.google.es/imgres?imgurl=http://www.nvtc.gov/lotw/months/november/images/ArabMan.jpg&amp;imgrefurl=http://www.nvtc.gov/lotw/months/november/worldlanguages.htm&amp;usg=__rYZS7Y2miCE6U8JdYVyvW1L5rVs=&amp;h=100&amp;w=100&amp;sz=4&amp;hl=es&amp;start=13&amp;um=1&amp;tbnid=DF1jIUEDgFevKM:&amp;tbnh=82&amp;tbnw=82&amp;prev=/images%3Fq%3Darab%2Bman%26um%3D1%26hl%3Des%26rlz%3D1T4SKPB_esES294ES294" TargetMode="External"/><Relationship Id="rId16" Type="http://schemas.openxmlformats.org/officeDocument/2006/relationships/image" Target="../media/image29.jpeg"/><Relationship Id="rId17" Type="http://schemas.openxmlformats.org/officeDocument/2006/relationships/hyperlink" Target="http://images.google.es/imgres?imgurl=http://farm1.static.flickr.com/248/458600882_0c8ad8da1a.jpg%3Fv%3D0&amp;imgrefurl=http://flickr.com/photos/87039642%40N00/458600882/&amp;usg=__4SrMYwYNh6idt7bLp0PfVSytL1c=&amp;h=500&amp;w=343&amp;sz=102&amp;hl=es&amp;start=87&amp;um=1&amp;tbnid=VGqAeeFwc_pHiM:&amp;tbnh=130&amp;tbnw=89&amp;prev=/images%3Fq%3Dblack%2Bcaribbean%2Bpeople%26start%3D72%26ndsp%3D18%26um%3D1%26hl%3Des%26rlz%3D1T4SKPB_esES294ES294%26sa%3DN" TargetMode="External"/><Relationship Id="rId18" Type="http://schemas.openxmlformats.org/officeDocument/2006/relationships/image" Target="../media/image30.jpeg"/><Relationship Id="rId19" Type="http://schemas.openxmlformats.org/officeDocument/2006/relationships/hyperlink" Target="http://images.google.es/imgres?imgurl=http://news.bbc.co.uk/nol/shared/spl/hi/pop_ups/04/uk_are_police_searches_flawed0/img/3.jpg&amp;imgrefurl=http://news.bbc.co.uk/1/shared/spl/hi/pop_ups/04/uk_are_police_searches_flawed0/html/3.stm&amp;usg=__FwTTtX2zJKCXBfef2p24F7SOD48=&amp;h=300&amp;w=300&amp;sz=18&amp;hl=es&amp;start=14&amp;um=1&amp;tbnid=Xh2Z8Fdfokoz-M:&amp;tbnh=116&amp;tbnw=116&amp;prev=/images%3Fq%3Dmixed%2Brace%2Bperson%26um%3D1%26hl%3Des%26rlz%3D1T4SKPB_esES294ES294" TargetMode="External"/><Relationship Id="rId20" Type="http://schemas.openxmlformats.org/officeDocument/2006/relationships/image" Target="../media/image31.jpeg"/><Relationship Id="rId21" Type="http://schemas.openxmlformats.org/officeDocument/2006/relationships/hyperlink" Target="http://images.google.es/imgres?imgurl=http://cache.daylife.com/imageserve/0eaqg3q0IS8Am/610x.jpg&amp;imgrefurl=http://www.daylife.com/photo/0eaqg3q0IS8Am&amp;usg=__tRUsU63WuNgYRJPDMOkCut1lfpU=&amp;h=419&amp;w=610&amp;sz=90&amp;hl=es&amp;start=5&amp;um=1&amp;tbnid=o_Q9lPkfHS57QM:&amp;tbnh=93&amp;tbnw=136&amp;prev=/images%3Fq%3Dbangladeshi%2Bpeople%26um%3D1%26hl%3Des%26rlz%3D1T4SKPB_esES294ES294" TargetMode="External"/><Relationship Id="rId22" Type="http://schemas.openxmlformats.org/officeDocument/2006/relationships/image" Target="../media/image32.jpeg"/><Relationship Id="rId2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bp1.blogger.com/_nVkz0fDKz2s/Rp81wj5uqWI/AAAAAAAAAFg/fipMwq3aPCI/s320/grandpa%2Bsimpson.jpg&amp;imgrefurl=http://localauthorityprojectmanager.blogspot.com/2007_07_01_archive.html&amp;usg=__gJD-g0jWQAtPydiGS8ngpELDMn8=&amp;h=320&amp;w=252&amp;sz=17&amp;hl=es&amp;start=3&amp;um=1&amp;tbnid=bna44s02YuZ4RM:&amp;tbnh=118&amp;tbnw=93&amp;prev=/images%3Fq%3Dsimpson%2Bgrandparents%26um%3D1%26hl%3Des%26rlz%3D1T4SKPB_esES294ES294" TargetMode="External"/><Relationship Id="rId2" Type="http://schemas.openxmlformats.org/officeDocument/2006/relationships/image" Target="../media/image33.jpeg"/><Relationship Id="rId3" Type="http://schemas.openxmlformats.org/officeDocument/2006/relationships/hyperlink" Target="http://images.google.es/imgres?imgurl=http://www.duffgardens.net/media/guests/character/mother.gif&amp;imgrefurl=http://www.duffgardens.net/%3Fgo%3Dguests/Guests&amp;usg=__0XropylQBoip_nR5UG1druZj3vI=&amp;h=112&amp;w=82&amp;sz=3&amp;hl=es&amp;start=2&amp;um=1&amp;tbnid=TTqBevUbS_1zpM:&amp;tbnh=86&amp;tbnw=63&amp;prev=/images%3Fq%3Dsimpson%2Bgrandmother%26um%3D1%26hl%3Des%26rlz%3D1T4SKPB_esES294ES294" TargetMode="External"/><Relationship Id="rId4" Type="http://schemas.openxmlformats.org/officeDocument/2006/relationships/image" Target="../media/image34.jpeg"/><Relationship Id="rId5" Type="http://schemas.openxmlformats.org/officeDocument/2006/relationships/hyperlink" Target="http://images.google.es/imgres?imgurl=http://z.about.com/d/animatedtv/1/0/Q/U/simpFamily_vertical.jpg&amp;imgrefurl=http://animatedtv.about.com/od/picturegalleries/ig/Simpsons-Pictures---Season-17/simpFamily_vertical.htm&amp;usg=__0ZYTKbSjiGYryXmM8sC6-avbTNQ=&amp;h=468&amp;w=362&amp;sz=172&amp;hl=es&amp;start=5&amp;tbnid=ZHLqek00TjSMCM:&amp;tbnh=128&amp;tbnw=99&amp;prev=/images%3Fq%3Dsimpson%2Bfamily%26hl%3Des%26rlz%3D1T4SKPB_esES294ES294" TargetMode="External"/><Relationship Id="rId6" Type="http://schemas.openxmlformats.org/officeDocument/2006/relationships/image" Target="../media/image35.jpeg"/><Relationship Id="rId7" Type="http://schemas.openxmlformats.org/officeDocument/2006/relationships/hyperlink" Target="http://images.google.es/imgres?imgurl=http://upload.wikimedia.org/wikipedia/en/thumb/f/f1/GladysBouvier.jpg/200px-GladysBouvier.jpg&amp;imgrefurl=http://www.nationmaster.com/encyclopedia/Bouvier-family&amp;usg=__lQlskz-X1fxc7DC8wpWpW1paJyo=&amp;h=150&amp;w=200&amp;sz=7&amp;hl=es&amp;start=3&amp;tbnid=lNH3315pOcUFoM:&amp;tbnh=78&amp;tbnw=104&amp;prev=/images%3Fq%3Dsimpson%2Baunt%26hl%3Des%26rlz%3D1T4SKPB_esES294ES294" TargetMode="External"/><Relationship Id="rId8" Type="http://schemas.openxmlformats.org/officeDocument/2006/relationships/image" Target="../media/image36.jpeg"/><Relationship Id="rId9" Type="http://schemas.openxmlformats.org/officeDocument/2006/relationships/hyperlink" Target="http://images.google.es/imgres?imgurl=http://bp2.blogger.com/_MAsHYt6DxEY/SB7-wjrADbI/AAAAAAAAAAw/AWQxiX43PYc/s320/benji%2Bsimpson.jpg&amp;imgrefurl=http://tonytheironmanstark.blogspot.com/2008/05/wow.html&amp;usg=__15KJ2u5lxYCTdwMGekWj2UqPLWk=&amp;h=320&amp;w=320&amp;sz=13&amp;hl=es&amp;start=2&amp;tbnid=48idAGJpllCL8M:&amp;tbnh=118&amp;tbnw=118&amp;prev=/images%3Fq%3Dsimpson%2Buncle%26hl%3Des%26rlz%3D1T4SKPB_esES294ES294" TargetMode="External"/><Relationship Id="rId10" Type="http://schemas.openxmlformats.org/officeDocument/2006/relationships/image" Target="../media/image37.jpe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lifeasachristianwoman.com/wp-content/uploads/Dove.png&amp;imgrefurl=http://www.lifeasachristianwoman.com/the-dove-as-a-christian-symbol-of-peace-and-purity/&amp;usg=__NFahMGvRAZsw8ZXb2CA2fYFxLhU=&amp;h=390&amp;w=317&amp;sz=28&amp;hl=es&amp;start=9&amp;um=1&amp;tbnid=wpvsaVmA83iFCM:&amp;tbnh=123&amp;tbnw=100&amp;prev=/images%3Fq%3Dchristianity%2Bsymbol%26um%3D1%26hl%3Des%26rlz%3D1T4SKPB_esES294ES294" TargetMode="External"/><Relationship Id="rId2" Type="http://schemas.openxmlformats.org/officeDocument/2006/relationships/image" Target="../media/image38.jpeg"/><Relationship Id="rId3" Type="http://schemas.openxmlformats.org/officeDocument/2006/relationships/hyperlink" Target="http://images.google.es/imgres?imgurl=http://www.guide-to-symbols.com/_images_pub2/12_8islam.jpg&amp;imgrefurl=http://www.guide-to-symbols.com/religions/&amp;usg=__x90fBsQVanuTvdE0BlY1xyivcmY=&amp;h=131&amp;w=130&amp;sz=4&amp;hl=es&amp;start=3&amp;um=1&amp;tbnid=LpBJHqOjP9r69M:&amp;tbnh=91&amp;tbnw=90&amp;prev=/images%3Fq%3Dislam%2Bsymbol%26um%3D1%26hl%3Des%26rlz%3D1T4SKPB_esES294ES294%26sa%3DN" TargetMode="External"/><Relationship Id="rId4" Type="http://schemas.openxmlformats.org/officeDocument/2006/relationships/image" Target="../media/image39.jpeg"/><Relationship Id="rId5" Type="http://schemas.openxmlformats.org/officeDocument/2006/relationships/hyperlink" Target="http://images.google.es/imgres?imgurl=http://www.guide-to-symbols.com/_images_pub2/12_2hinduism.jpg&amp;imgrefurl=http://www.guide-to-symbols.com/religions/&amp;usg=__v-0ig3MuLICzoQZDu4Nn4X6p8qM=&amp;h=147&amp;w=154&amp;sz=6&amp;hl=es&amp;start=5&amp;um=1&amp;tbnid=ZAxnAZUBflzpUM:&amp;tbnh=92&amp;tbnw=96&amp;prev=/images%3Fq%3Dhinduism%2Bsymbol%26um%3D1%26hl%3Des%26rlz%3D1T4SKPB_esES294ES294" TargetMode="External"/><Relationship Id="rId6" Type="http://schemas.openxmlformats.org/officeDocument/2006/relationships/image" Target="../media/image40.jpeg"/><Relationship Id="rId7" Type="http://schemas.openxmlformats.org/officeDocument/2006/relationships/hyperlink" Target="http://images.google.es/imgres?imgurl=http://www.roehampton.ac.uk/images/8000/inline_Sikh-symbol.jpg&amp;imgrefurl=http://www.roehampton.ac.uk/chaplaincy/faithtraditions/&amp;usg=__hfB8skvworGjqmsFPsZ5cIXZZ00=&amp;h=153&amp;w=150&amp;sz=7&amp;hl=es&amp;start=3&amp;um=1&amp;tbnid=TNsvOgN6nvv_YM:&amp;tbnh=96&amp;tbnw=94&amp;prev=/images%3Fq%3Dsikhism%2Bsymbol%26um%3D1%26hl%3Des%26rlz%3D1T4SKPB_esES294ES294" TargetMode="External"/><Relationship Id="rId8" Type="http://schemas.openxmlformats.org/officeDocument/2006/relationships/image" Target="../media/image41.jpeg"/><Relationship Id="rId9" Type="http://schemas.openxmlformats.org/officeDocument/2006/relationships/hyperlink" Target="http://images.google.it/imgres?imgurl=http://x11.xanga.com/b86e613602133186480295/z121641351.jpg&amp;imgrefurl=http://www.xanga.com/PaintingTheLie&amp;usg=__D8A1j0vUj9vNsJHbjD3049zZuZA=&amp;h=240&amp;w=240&amp;sz=24&amp;hl=es&amp;start=3&amp;um=1&amp;tbnid=85Qc7X0NaIn7_M:&amp;tbnh=110&amp;tbnw=110&amp;prev=/images%3Fq%3Dbuddhist%2Bsymbol%26um%3D1%26hl%3Des%26sa%3DN" TargetMode="External"/><Relationship Id="rId10" Type="http://schemas.openxmlformats.org/officeDocument/2006/relationships/image" Target="../media/image42.jpeg"/><Relationship Id="rId11" Type="http://schemas.openxmlformats.org/officeDocument/2006/relationships/hyperlink" Target="http://images.google.it/imgres?imgurl=http://www.gre.ac.uk/__data/assets/image/0013/30181/Judaism_symbol.jpg&amp;imgrefurl=http://www.gre.ac.uk/students/support/chaplaincy/judaism&amp;usg=__qFOwH2hEUYNIL4E0KycD-dWQsag=&amp;h=137&amp;w=120&amp;sz=4&amp;hl=es&amp;start=3&amp;um=1&amp;tbnid=1hWIqVumkxyXBM:&amp;tbnh=93&amp;tbnw=81&amp;prev=/images%3Fq%3Djudaism%2Bsymbol%26um%3D1%26hl%3Des" TargetMode="External"/><Relationship Id="rId12" Type="http://schemas.openxmlformats.org/officeDocument/2006/relationships/image" Target="../media/image43.jpeg"/><Relationship Id="rId13" Type="http://schemas.openxmlformats.org/officeDocument/2006/relationships/hyperlink" Target="http://images.google.it/imgres?imgurl=http://chrischiasson.files.wordpress.com/2008/02/atheist-symbol-altered-12a1.png&amp;imgrefurl=http://chrischiasson.wordpress.com/&amp;usg=__Pl6Vy6BTebMv7KVFPbtZKCJbCP8=&amp;h=537&amp;w=595&amp;sz=142&amp;hl=es&amp;start=4&amp;um=1&amp;tbnid=3qmrja_iggNZxM:&amp;tbnh=122&amp;tbnw=135&amp;prev=/images%3Fq%3Datheist%2Bsymbol%26um%3D1%26hl%3Des" TargetMode="External"/><Relationship Id="rId14" Type="http://schemas.openxmlformats.org/officeDocument/2006/relationships/image" Target="../media/image44.jpeg"/><Relationship Id="rId15" Type="http://schemas.openxmlformats.org/officeDocument/2006/relationships/hyperlink" Target="http://images.google.it/imgres?imgurl=http://tn3-1.deviantart.com/fs6/300W/i/2005/099/9/1/Sword_Of_Truth_Grace_by_Nefarious_lover.jpg&amp;imgrefurl=http://www.religiousforums.com/forum/fine-art-design/41430-help-finding-image.html&amp;usg=__TtRqo9oMXAWRIKJ_TJ5vyzm0Ulo=&amp;h=300&amp;w=300&amp;sz=15&amp;hl=es&amp;start=7&amp;um=1&amp;tbnid=KNKsQLs87v7QUM:&amp;tbnh=116&amp;tbnw=116&amp;prev=/images%3Fq%3Dagnostic%2Bsymbol%26um%3D1%26hl%3Des" TargetMode="External"/><Relationship Id="rId16" Type="http://schemas.openxmlformats.org/officeDocument/2006/relationships/image" Target="../media/image45.jpeg"/><Relationship Id="rId1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hyperlink" Target="http://images.google.es/imgres?imgurl=http://www.donquijote.org/culture/spain/history/images/spanish_flag2.jpg&amp;imgrefurl=http://nousha.wordpress.com/category/spanish/&amp;usg=__4Pkiwtto2ChuQHmtxn20w2owIKg=&amp;h=369&amp;w=600&amp;sz=25&amp;hl=es&amp;start=1&amp;um=1&amp;tbnid=ZlyKoGuzsag35M:&amp;tbnh=83&amp;tbnw=135&amp;prev=/images%3Fq%3Dspanish%26um%3D1%26hl%3Des%26rlz%3D1T4SKPB_esES294ES294%26sa%3DN" TargetMode="External"/><Relationship Id="rId3" Type="http://schemas.openxmlformats.org/officeDocument/2006/relationships/image" Target="../media/image47.jpeg"/><Relationship Id="rId4" Type="http://schemas.openxmlformats.org/officeDocument/2006/relationships/hyperlink" Target="http://images.google.es/imgres?imgurl=http://www.arrakis.es/~jccp/english.jpg&amp;imgrefurl=http://www.arrakis.es/~jccp/&amp;usg=__3dCPBhCK6oqCVw59S4pueNU4IRc=&amp;h=426&amp;w=564&amp;sz=44&amp;hl=es&amp;start=2&amp;um=1&amp;tbnid=c6x6XZunI--wuM:&amp;tbnh=101&amp;tbnw=134&amp;prev=/images%3Fq%3Denglish%26um%3D1%26hl%3Des%26rlz%3D1T4SKPB_esES294ES294" TargetMode="External"/><Relationship Id="rId5" Type="http://schemas.openxmlformats.org/officeDocument/2006/relationships/image" Target="../media/image48.jpeg"/><Relationship Id="rId6" Type="http://schemas.openxmlformats.org/officeDocument/2006/relationships/hyperlink" Target="http://images.google.es/imgres?imgurl=http://www.ehto.org/images/states/scotish_flag.jpg&amp;imgrefurl=http://www.ehto.org/states/uk.html&amp;usg=__10C2FRMJY5QJeaTMFWy2_0CjoLg=&amp;h=243&amp;w=365&amp;sz=12&amp;hl=es&amp;start=3&amp;um=1&amp;tbnid=wZXGq8X6hOdHIM:&amp;tbnh=81&amp;tbnw=121&amp;prev=/images%3Fq%3Dscotish%2Bflag%26um%3D1%26hl%3Des%26rlz%3D1T4SKPB_esES294ES294" TargetMode="External"/><Relationship Id="rId7" Type="http://schemas.openxmlformats.org/officeDocument/2006/relationships/image" Target="../media/image49.jpeg"/><Relationship Id="rId8" Type="http://schemas.openxmlformats.org/officeDocument/2006/relationships/hyperlink" Target="http://images.google.es/imgres?imgurl=http://www.historyimages.com/Ireland/Irish-flag-tricolor.gif&amp;imgrefurl=http://www.historyimages.com/Ireland/clipart.html&amp;usg=__WSxjpiLezLpLSqJLajaIaGZTD-I=&amp;h=350&amp;w=600&amp;sz=3&amp;hl=es&amp;start=2&amp;um=1&amp;tbnid=cij9y2hgWtG8UM:&amp;tbnh=79&amp;tbnw=135&amp;prev=/images%3Fq%3DIRish%2Bflag%26um%3D1%26hl%3Des%26rlz%3D1T4SKPB_esES294ES294" TargetMode="External"/><Relationship Id="rId9" Type="http://schemas.openxmlformats.org/officeDocument/2006/relationships/image" Target="../media/image50.jpeg"/><Relationship Id="rId10" Type="http://schemas.openxmlformats.org/officeDocument/2006/relationships/hyperlink" Target="http://images.google.es/imgres?imgurl=http://www.gladstonemrm.com/news/welsh%2520flag.jpg&amp;imgrefurl=http://www.gladstonemrm.com/news/bilingual-connect2-and-kiosk2/&amp;usg=__AdQd-Iqmg0M4s6yKeg99CliHZ9o=&amp;h=364&amp;w=481&amp;sz=185&amp;hl=es&amp;start=15&amp;um=1&amp;tbnid=nTewbPlHkq5HsM:&amp;tbnh=98&amp;tbnw=129&amp;prev=/images%3Fq%3DWELsh%2Bflag%26um%3D1%26hl%3Des%26rlz%3D1T4SKPB_esES294ES294" TargetMode="External"/><Relationship Id="rId11" Type="http://schemas.openxmlformats.org/officeDocument/2006/relationships/image" Target="../media/image51.jpeg"/><Relationship Id="rId12" Type="http://schemas.openxmlformats.org/officeDocument/2006/relationships/hyperlink" Target="http://www.google.es/imgres?imgurl=http://academic.scranton.edu/student/ZANGARAJ2/Images/italian-flag.gif&amp;imgrefurl=http://academic.scranton.edu/student/ZANGARAJ2/topframe.htm&amp;h=300&amp;w=450&amp;sz=2&amp;tbnid=xeGTqiJ6HUcJ::&amp;tbnh=85&amp;tbnw=127&amp;prev=/images%3Fq%3Ditalian%2Bflag&amp;hl=es&amp;usg=__UNJxHXANVKonWs1ktYE5dtaiCkc=&amp;sa=X&amp;oi=image_result&amp;resnum=1&amp;ct=image&amp;cd=1" TargetMode="External"/><Relationship Id="rId13" Type="http://schemas.openxmlformats.org/officeDocument/2006/relationships/image" Target="../media/image52.jpeg"/><Relationship Id="rId14" Type="http://schemas.openxmlformats.org/officeDocument/2006/relationships/hyperlink" Target="http://images.google.es/imgres?imgurl=http://privatewww.essex.ac.uk/~sjs/france_flag.png&amp;imgrefurl=http://privatewww.essex.ac.uk/~sjs/&amp;usg=__x4Ii1kdTyqoaKgYrFUlJUyu5gOY=&amp;h=533&amp;w=800&amp;sz=3&amp;hl=es&amp;start=3&amp;um=1&amp;tbnid=gXlsB2M65uFppM:&amp;tbnh=95&amp;tbnw=143&amp;prev=/images%3Fq%3Dfrench%2Bflag%26um%3D1%26hl%3Des%26rlz%3D1T4SKPB_esES294ES294%26sa%3DN" TargetMode="External"/><Relationship Id="rId15" Type="http://schemas.openxmlformats.org/officeDocument/2006/relationships/image" Target="../media/image53.jpeg"/><Relationship Id="rId16" Type="http://schemas.openxmlformats.org/officeDocument/2006/relationships/hyperlink" Target="http://images.google.es/imgres?imgurl=http://bristolflyer.com/images/germany-flag.gif&amp;imgrefurl=http://bristolflyer.com/&amp;usg=__-M86jdxPKnfruLKlrdBOzYcXqgo=&amp;h=265&amp;w=390&amp;sz=5&amp;hl=es&amp;start=1&amp;um=1&amp;tbnid=hlGVdZCyqcIrVM:&amp;tbnh=84&amp;tbnw=123&amp;prev=/images%3Fq%3Dgerman%2Bflag%26um%3D1%26hl%3Des%26rlz%3D1T4SKPB_esES294ES294" TargetMode="External"/><Relationship Id="rId17" Type="http://schemas.openxmlformats.org/officeDocument/2006/relationships/image" Target="../media/image54.jpeg"/><Relationship Id="rId18" Type="http://schemas.openxmlformats.org/officeDocument/2006/relationships/hyperlink" Target="http://images.google.es/imgres?imgurl=http://www.33ff.com/flags/XL_flags/Portugal_flag.gif&amp;imgrefurl=http://www.33ff.com/flags/worldflags/Portugal_flag.html&amp;usg=__b8iwxI0V4lBs91L9RohRbiAJmJ8=&amp;h=240&amp;w=360&amp;sz=13&amp;hl=es&amp;start=3&amp;um=1&amp;tbnid=LnKEdt_lQ1I3sM:&amp;tbnh=81&amp;tbnw=121&amp;prev=/images%3Fq%3Dportuguese%2Bflag%26um%3D1%26hl%3Des%26rlz%3D1T4SKPB_esES294ES294" TargetMode="External"/><Relationship Id="rId19" Type="http://schemas.openxmlformats.org/officeDocument/2006/relationships/image" Target="../media/image55.jpeg"/><Relationship Id="rId20" Type="http://schemas.openxmlformats.org/officeDocument/2006/relationships/hyperlink" Target="http://images.google.es/imgres?imgurl=http://cargovango.com/images/Mexican_Flag.jpg&amp;imgrefurl=http://cargovango.com/High-Top-Handicap-Vans/&amp;usg=__su0WvDLDpO7cn9qJgwQipL5rWV8=&amp;h=370&amp;w=624&amp;sz=34&amp;hl=es&amp;start=3&amp;um=1&amp;tbnid=Zj9Qar7zfFX18M:&amp;tbnh=81&amp;tbnw=136&amp;prev=/images%3Fq%3Dmexican%2Bflag%26um%3D1%26hl%3Des%26rlz%3D1T4SKPB_esES294ES294" TargetMode="External"/><Relationship Id="rId21" Type="http://schemas.openxmlformats.org/officeDocument/2006/relationships/image" Target="../media/image56.jpeg"/><Relationship Id="rId22" Type="http://schemas.openxmlformats.org/officeDocument/2006/relationships/hyperlink" Target="http://images.google.es/imgres?imgurl=http://www.azsos.gov/Images/State_Symbols/american_flag.gif&amp;imgrefurl=http://www.azsos.gov/public_services/kids/the_state_flag.htm&amp;usg=__yTNbre4IZHnVVI2Q0TO1hENtZws=&amp;h=416&amp;w=697&amp;sz=8&amp;hl=es&amp;start=3&amp;um=1&amp;tbnid=9HirK1_V1jrXvM:&amp;tbnh=83&amp;tbnw=139&amp;prev=/images%3Fq%3Damerican%2Bflag%26um%3D1%26hl%3Des%26rlz%3D1T4SKPB_esES294ES294" TargetMode="External"/><Relationship Id="rId23" Type="http://schemas.openxmlformats.org/officeDocument/2006/relationships/image" Target="../media/image57.jpeg"/><Relationship Id="rId24" Type="http://schemas.openxmlformats.org/officeDocument/2006/relationships/hyperlink" Target="http://images.google.es/imgres?imgurl=http://www.33ff.com/flags/XL_flags/Morocco_flag.gif&amp;imgrefurl=http://www.33ff.com/flags/worldflags/Morocco_flag.html&amp;usg=__2b1VzbyBeK3ucaYjkSU6ZK4-BoU=&amp;h=240&amp;w=360&amp;sz=6&amp;hl=es&amp;start=3&amp;um=1&amp;tbnid=nlFIht4gDhMH5M:&amp;tbnh=81&amp;tbnw=121&amp;prev=/images%3Fq%3Dmoroccan%2Bflag%26um%3D1%26hl%3Des%26rlz%3D1T4SKPB_esES294ES294" TargetMode="External"/><Relationship Id="rId25" Type="http://schemas.openxmlformats.org/officeDocument/2006/relationships/image" Target="../media/image58.jpeg"/><Relationship Id="rId26" Type="http://schemas.openxmlformats.org/officeDocument/2006/relationships/hyperlink" Target="http://images.google.es/imgres?imgurl=http://www.appliedlanguage.com/flags_of_the_world/large_flag_of_russia.gif&amp;imgrefurl=http://www.appliedlanguage.com/flags_of_the_world/flag_of_russia.shtml&amp;usg=__uK2_XWVJlC2dQSGFac9U1IGXrdU=&amp;h=302&amp;w=453&amp;sz=2&amp;hl=es&amp;start=3&amp;um=1&amp;tbnid=YBgg1WEBYppCVM:&amp;tbnh=85&amp;tbnw=127&amp;prev=/images%3Fq%3Drussian%2Bflag%26um%3D1%26hl%3Des%26rlz%3D1T4SKPB_esES294ES294" TargetMode="External"/><Relationship Id="rId27" Type="http://schemas.openxmlformats.org/officeDocument/2006/relationships/image" Target="../media/image59.jpeg"/><Relationship Id="rId28" Type="http://schemas.openxmlformats.org/officeDocument/2006/relationships/hyperlink" Target="http://images.google.es/imgres?imgurl=http://www.javier.net/colombia/images/stories/flags/colombia.jpg&amp;imgrefurl=http://www.javier.net/colombia/index.php%3Foption%3Dcom_content%26task%3Dview%26id%3D31%26Itemid%3D31&amp;usg=__k1ZE_J62h6SkYUvWoqFAdhtezfU=&amp;h=167&amp;w=250&amp;sz=164&amp;hl=es&amp;start=11&amp;um=1&amp;tbnid=Y9TRatfD64CP_M:&amp;tbnh=74&amp;tbnw=111&amp;prev=/images%3Fq%3Dcolombian%2Bflag%26um%3D1%26hl%3Des%26rlz%3D1T4SKPB_esES294ES294" TargetMode="External"/><Relationship Id="rId29" Type="http://schemas.openxmlformats.org/officeDocument/2006/relationships/image" Target="../media/image60.jpeg"/><Relationship Id="rId30" Type="http://schemas.openxmlformats.org/officeDocument/2006/relationships/hyperlink" Target="http://images.google.es/imgres?imgurl=http://www.33ff.com/flags/XL_flags_embossed/Bolivia_flag.gif&amp;imgrefurl=http://www.33ff.com/flags/banderasmundo/bandera_Bolivia.html&amp;usg=__cLzJwcqbezS5E0dabiD8-lDmdEs=&amp;h=240&amp;w=360&amp;sz=13&amp;hl=es&amp;start=3&amp;um=1&amp;tbnid=jnLhfZWbsURK0M:&amp;tbnh=81&amp;tbnw=121&amp;prev=/images%3Fq%3Dbolivian%2Bflag%26um%3D1%26hl%3Des%26rlz%3D1T4SKPB_esES294ES294" TargetMode="External"/><Relationship Id="rId31" Type="http://schemas.openxmlformats.org/officeDocument/2006/relationships/image" Target="../media/image61.jpeg"/><Relationship Id="rId3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258920" y="3212640"/>
            <a:ext cx="7270560" cy="31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767ff"/>
                </a:solidFill>
                <a:uFillTx/>
                <a:latin typeface="Verdana"/>
              </a:rPr>
              <a:t>IDENTITY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003640" y="188640"/>
            <a:ext cx="3772080" cy="1446120"/>
            <a:chOff x="5003640" y="188640"/>
            <a:chExt cx="3772080" cy="1446120"/>
          </a:xfrm>
        </p:grpSpPr>
        <p:cxnSp>
          <p:nvCxnSpPr>
            <p:cNvPr id="97" name=""/>
            <p:cNvCxnSpPr/>
            <p:nvPr/>
          </p:nvCxnSpPr>
          <p:spPr>
            <a:xfrm>
              <a:off x="5003640" y="189000"/>
              <a:ext cx="2742480" cy="117684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</a:ln>
          </p:spPr>
        </p:cxnSp>
        <p:grpSp>
          <p:nvGrpSpPr>
            <p:cNvPr id="98" name=""/>
            <p:cNvGrpSpPr/>
            <p:nvPr/>
          </p:nvGrpSpPr>
          <p:grpSpPr>
            <a:xfrm>
              <a:off x="7179480" y="188640"/>
              <a:ext cx="1596240" cy="1446120"/>
              <a:chOff x="7179480" y="188640"/>
              <a:chExt cx="1596240" cy="1446120"/>
            </a:xfrm>
          </p:grpSpPr>
          <p:sp>
            <p:nvSpPr>
              <p:cNvPr id="99" name=""/>
              <p:cNvSpPr/>
              <p:nvPr/>
            </p:nvSpPr>
            <p:spPr>
              <a:xfrm flipH="1" flipV="1" rot="5400000">
                <a:off x="7254360" y="113040"/>
                <a:ext cx="1446120" cy="1596240"/>
              </a:xfrm>
              <a:custGeom>
                <a:avLst/>
                <a:gdLst/>
                <a:ahLst/>
                <a:rect l="l" t="t" r="r" b="b"/>
                <a:pathLst>
                  <a:path w="6418" h="6670">
                    <a:moveTo>
                      <a:pt x="6418" y="1185"/>
                    </a:moveTo>
                    <a:lnTo>
                      <a:pt x="6418" y="6670"/>
                    </a:lnTo>
                    <a:lnTo>
                      <a:pt x="1809" y="6669"/>
                    </a:lnTo>
                    <a:cubicBezTo>
                      <a:pt x="974" y="5889"/>
                      <a:pt x="0" y="3958"/>
                      <a:pt x="1407" y="1987"/>
                    </a:cubicBezTo>
                    <a:cubicBezTo>
                      <a:pt x="2830" y="0"/>
                      <a:pt x="5591" y="411"/>
                      <a:pt x="6418" y="118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 rot="10728000">
                <a:off x="7411320" y="274320"/>
                <a:ext cx="1236240" cy="1163880"/>
              </a:xfrm>
              <a:prstGeom prst="ellipse">
                <a:avLst/>
              </a:prstGeom>
              <a:solidFill>
                <a:srgbClr val="d3d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 rot="10728000">
                <a:off x="7493040" y="539280"/>
                <a:ext cx="934920" cy="880560"/>
              </a:xfrm>
              <a:prstGeom prst="ellipse">
                <a:avLst/>
              </a:prstGeom>
              <a:solidFill>
                <a:srgbClr val="7b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"/>
          <p:cNvSpPr/>
          <p:nvPr/>
        </p:nvSpPr>
        <p:spPr>
          <a:xfrm>
            <a:off x="324000" y="5493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767ff"/>
                </a:solidFill>
                <a:latin typeface="Arial"/>
              </a:rPr>
              <a:t>CLIL in Citizenship: Educating My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67640" y="907920"/>
            <a:ext cx="79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6600"/>
                </a:solidFill>
                <a:latin typeface="Arial"/>
              </a:rPr>
              <a:t>2008/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1638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767ff"/>
                </a:solidFill>
                <a:latin typeface="Arial"/>
              </a:rPr>
              <a:t>What makes a person’s ident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&quot;Chico africano tocando la guitarra, Namibia&quot;"/>
          <p:cNvPicPr/>
          <p:nvPr/>
        </p:nvPicPr>
        <p:blipFill>
          <a:blip r:embed="rId1"/>
          <a:stretch/>
        </p:blipFill>
        <p:spPr>
          <a:xfrm>
            <a:off x="3132000" y="1773360"/>
            <a:ext cx="2233800" cy="1728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&quot;Chica sonriendo&quot;"/>
          <p:cNvPicPr/>
          <p:nvPr/>
        </p:nvPicPr>
        <p:blipFill>
          <a:blip r:embed="rId2"/>
          <a:stretch/>
        </p:blipFill>
        <p:spPr>
          <a:xfrm>
            <a:off x="6227640" y="1844640"/>
            <a:ext cx="2232000" cy="1671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&quot;Mujer hindú sentada preparando la comida&quot;"/>
          <p:cNvPicPr/>
          <p:nvPr/>
        </p:nvPicPr>
        <p:blipFill>
          <a:blip r:embed="rId3"/>
          <a:stretch/>
        </p:blipFill>
        <p:spPr>
          <a:xfrm>
            <a:off x="395280" y="1773360"/>
            <a:ext cx="2089080" cy="1800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&quot;Chico rezando&quot;"/>
          <p:cNvPicPr/>
          <p:nvPr/>
        </p:nvPicPr>
        <p:blipFill>
          <a:blip r:embed="rId4"/>
          <a:stretch/>
        </p:blipFill>
        <p:spPr>
          <a:xfrm>
            <a:off x="324000" y="4149720"/>
            <a:ext cx="2226960" cy="2065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&quot;Joven en Regent´s Park, Londres&quot;"/>
          <p:cNvPicPr/>
          <p:nvPr/>
        </p:nvPicPr>
        <p:blipFill>
          <a:blip r:embed="rId5"/>
          <a:stretch/>
        </p:blipFill>
        <p:spPr>
          <a:xfrm>
            <a:off x="3276720" y="4221000"/>
            <a:ext cx="2590560" cy="2043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&quot;Secretaria&quot;"/>
          <p:cNvPicPr/>
          <p:nvPr/>
        </p:nvPicPr>
        <p:blipFill>
          <a:blip r:embed="rId6"/>
          <a:stretch/>
        </p:blipFill>
        <p:spPr>
          <a:xfrm>
            <a:off x="6516720" y="4149720"/>
            <a:ext cx="1849320" cy="2158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24000" y="1268280"/>
            <a:ext cx="158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4869000"/>
            <a:ext cx="1368360" cy="792000"/>
          </a:xfrm>
          <a:prstGeom prst="flowChartPunchedTap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48360" y="4149720"/>
            <a:ext cx="1728720" cy="936720"/>
          </a:xfrm>
          <a:prstGeom prst="flowChartPunchedTap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3933720"/>
            <a:ext cx="1439640" cy="936720"/>
          </a:xfrm>
          <a:prstGeom prst="flowChartPunchedTap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2708280"/>
            <a:ext cx="2664000" cy="936720"/>
          </a:xfrm>
          <a:prstGeom prst="flowChartPunchedTap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NICITY AND 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00720" y="1844640"/>
            <a:ext cx="1584360" cy="863640"/>
          </a:xfrm>
          <a:prstGeom prst="flowChartPunchedTap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87640" y="1700280"/>
            <a:ext cx="1150920" cy="863640"/>
          </a:xfrm>
          <a:prstGeom prst="flowChartPunchedTap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11640" y="5445000"/>
            <a:ext cx="1727280" cy="863640"/>
          </a:xfrm>
          <a:prstGeom prst="flowChartPunchedTap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51640" y="4076640"/>
            <a:ext cx="1079640" cy="934920"/>
          </a:xfrm>
          <a:prstGeom prst="flowChartPunchedTap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00720" y="1844640"/>
            <a:ext cx="1223640" cy="936720"/>
          </a:xfrm>
          <a:prstGeom prst="flowChartPunchedTap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BB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19640" y="2997360"/>
            <a:ext cx="2592360" cy="1079280"/>
          </a:xfrm>
          <a:prstGeom prst="flowChartPunchedTap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ILY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08720" y="2852640"/>
            <a:ext cx="1440000" cy="936720"/>
          </a:xfrm>
          <a:prstGeom prst="flowChartPunchedTap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1844640"/>
            <a:ext cx="1706400" cy="865080"/>
          </a:xfrm>
          <a:prstGeom prst="flowChartPunchedTap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03640" y="4365720"/>
            <a:ext cx="1511280" cy="718920"/>
          </a:xfrm>
          <a:prstGeom prst="flowChartPunchedTap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36000" y="5589720"/>
            <a:ext cx="1223640" cy="720720"/>
          </a:xfrm>
          <a:prstGeom prst="flowChartPunchedTap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63640" y="5516640"/>
            <a:ext cx="1079640" cy="863640"/>
          </a:xfrm>
          <a:prstGeom prst="flowChartPunchedTap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148000" y="259920"/>
            <a:ext cx="3772080" cy="1446120"/>
            <a:chOff x="5148000" y="259920"/>
            <a:chExt cx="3772080" cy="1446120"/>
          </a:xfrm>
        </p:grpSpPr>
        <p:cxnSp>
          <p:nvCxnSpPr>
            <p:cNvPr id="129" name=""/>
            <p:cNvCxnSpPr/>
            <p:nvPr/>
          </p:nvCxnSpPr>
          <p:spPr>
            <a:xfrm>
              <a:off x="5148000" y="260280"/>
              <a:ext cx="2741760" cy="117684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</a:ln>
          </p:spPr>
        </p:cxnSp>
        <p:grpSp>
          <p:nvGrpSpPr>
            <p:cNvPr id="130" name=""/>
            <p:cNvGrpSpPr/>
            <p:nvPr/>
          </p:nvGrpSpPr>
          <p:grpSpPr>
            <a:xfrm>
              <a:off x="7324200" y="259920"/>
              <a:ext cx="1595880" cy="1446120"/>
              <a:chOff x="7324200" y="259920"/>
              <a:chExt cx="1595880" cy="1446120"/>
            </a:xfrm>
          </p:grpSpPr>
          <p:sp>
            <p:nvSpPr>
              <p:cNvPr id="131" name=""/>
              <p:cNvSpPr/>
              <p:nvPr/>
            </p:nvSpPr>
            <p:spPr>
              <a:xfrm flipH="1" flipV="1" rot="5400000">
                <a:off x="7398720" y="184680"/>
                <a:ext cx="1446120" cy="1595880"/>
              </a:xfrm>
              <a:custGeom>
                <a:avLst/>
                <a:gdLst/>
                <a:ahLst/>
                <a:rect l="l" t="t" r="r" b="b"/>
                <a:pathLst>
                  <a:path w="6418" h="6670">
                    <a:moveTo>
                      <a:pt x="6418" y="1185"/>
                    </a:moveTo>
                    <a:lnTo>
                      <a:pt x="6418" y="6670"/>
                    </a:lnTo>
                    <a:lnTo>
                      <a:pt x="1809" y="6669"/>
                    </a:lnTo>
                    <a:cubicBezTo>
                      <a:pt x="974" y="5889"/>
                      <a:pt x="0" y="3958"/>
                      <a:pt x="1407" y="1987"/>
                    </a:cubicBezTo>
                    <a:cubicBezTo>
                      <a:pt x="2830" y="0"/>
                      <a:pt x="5591" y="411"/>
                      <a:pt x="6418" y="118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 rot="10728000">
                <a:off x="7556400" y="345600"/>
                <a:ext cx="1235880" cy="1163880"/>
              </a:xfrm>
              <a:prstGeom prst="ellipse">
                <a:avLst/>
              </a:prstGeom>
              <a:solidFill>
                <a:srgbClr val="d3d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0728000">
                <a:off x="7637760" y="610560"/>
                <a:ext cx="934920" cy="880560"/>
              </a:xfrm>
              <a:prstGeom prst="ellipse">
                <a:avLst/>
              </a:prstGeom>
              <a:solidFill>
                <a:srgbClr val="7b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" dur="indefinite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" dur="indefinite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" dur="indefinite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" dur="indefinite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9" dur="indefinite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0" dur="indefinite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indefinite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5" dur="indefinite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6" dur="indefinite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7" dur="indefinite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8" dur="indefinite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indefinite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9" dur="indefinite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0" dur="indefinite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indefinite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1" dur="indefinite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2" dur="indefinite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indefinite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3" dur="indefinite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4" dur="indefinite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indefinite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5" dur="indefinite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6" dur="indefinite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indefinite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7" dur="indefinite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8" dur="indefinite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indefinite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9" dur="indefinite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0" dur="indefinite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indefinite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61" dur="indefinite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2" dur="indefinite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indefinite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7" dur="indefinite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78" dur="indefinite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indefinit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89" dur="indefinit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90" dur="indefinit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1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2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767ff"/>
                </a:solidFill>
                <a:latin typeface="Arial"/>
              </a:rPr>
              <a:t>GEND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2637000"/>
            <a:ext cx="1368360" cy="1726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219640" y="3141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164360" y="3068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36000" y="371628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443640" y="3284280"/>
            <a:ext cx="647640" cy="1429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43640" y="3429000"/>
            <a:ext cx="503280" cy="3603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32360" y="5084640"/>
            <a:ext cx="1150920" cy="8636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724360" y="4292280"/>
            <a:ext cx="935280" cy="865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300720" y="4292640"/>
            <a:ext cx="360360" cy="71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659640" y="4292640"/>
            <a:ext cx="0" cy="287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328464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40000" y="31417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1258920" y="3141720"/>
            <a:ext cx="719280" cy="21600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258920" y="3357720"/>
            <a:ext cx="720720" cy="35856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292428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i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35733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Wo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11280" y="4076640"/>
            <a:ext cx="1008360" cy="792360"/>
          </a:xfrm>
          <a:prstGeom prst="ellipse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16360" y="4869000"/>
            <a:ext cx="0" cy="11509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11280" y="5157720"/>
            <a:ext cx="1008360" cy="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148000" y="259920"/>
            <a:ext cx="3772080" cy="1446120"/>
            <a:chOff x="5148000" y="259920"/>
            <a:chExt cx="3772080" cy="1446120"/>
          </a:xfrm>
        </p:grpSpPr>
        <p:cxnSp>
          <p:nvCxnSpPr>
            <p:cNvPr id="155" name=""/>
            <p:cNvCxnSpPr/>
            <p:nvPr/>
          </p:nvCxnSpPr>
          <p:spPr>
            <a:xfrm>
              <a:off x="5148000" y="260280"/>
              <a:ext cx="2741760" cy="117684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</a:ln>
          </p:spPr>
        </p:cxnSp>
        <p:grpSp>
          <p:nvGrpSpPr>
            <p:cNvPr id="156" name=""/>
            <p:cNvGrpSpPr/>
            <p:nvPr/>
          </p:nvGrpSpPr>
          <p:grpSpPr>
            <a:xfrm>
              <a:off x="7324200" y="259920"/>
              <a:ext cx="1595880" cy="1446120"/>
              <a:chOff x="7324200" y="259920"/>
              <a:chExt cx="1595880" cy="1446120"/>
            </a:xfrm>
          </p:grpSpPr>
          <p:sp>
            <p:nvSpPr>
              <p:cNvPr id="157" name=""/>
              <p:cNvSpPr/>
              <p:nvPr/>
            </p:nvSpPr>
            <p:spPr>
              <a:xfrm flipH="1" flipV="1" rot="5400000">
                <a:off x="7398720" y="184680"/>
                <a:ext cx="1446120" cy="1595880"/>
              </a:xfrm>
              <a:custGeom>
                <a:avLst/>
                <a:gdLst/>
                <a:ahLst/>
                <a:rect l="l" t="t" r="r" b="b"/>
                <a:pathLst>
                  <a:path w="6418" h="6670">
                    <a:moveTo>
                      <a:pt x="6418" y="1185"/>
                    </a:moveTo>
                    <a:lnTo>
                      <a:pt x="6418" y="6670"/>
                    </a:lnTo>
                    <a:lnTo>
                      <a:pt x="1809" y="6669"/>
                    </a:lnTo>
                    <a:cubicBezTo>
                      <a:pt x="974" y="5889"/>
                      <a:pt x="0" y="3958"/>
                      <a:pt x="1407" y="1987"/>
                    </a:cubicBezTo>
                    <a:cubicBezTo>
                      <a:pt x="2830" y="0"/>
                      <a:pt x="5591" y="411"/>
                      <a:pt x="6418" y="118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rot="10728000">
                <a:off x="7556400" y="345600"/>
                <a:ext cx="1235880" cy="1163880"/>
              </a:xfrm>
              <a:prstGeom prst="ellipse">
                <a:avLst/>
              </a:prstGeom>
              <a:solidFill>
                <a:srgbClr val="d3d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rot="10728000">
                <a:off x="7637760" y="610560"/>
                <a:ext cx="934920" cy="880560"/>
              </a:xfrm>
              <a:prstGeom prst="ellipse">
                <a:avLst/>
              </a:prstGeom>
              <a:solidFill>
                <a:srgbClr val="7b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767ff"/>
                </a:solidFill>
                <a:latin typeface="Arial"/>
              </a:rPr>
              <a:t>AG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BABY (</a:t>
            </a:r>
            <a:r>
              <a:rPr b="0" lang="es-ES" sz="1400" spc="-1" strike="noStrike">
                <a:solidFill>
                  <a:srgbClr val="0000ff"/>
                </a:solidFill>
                <a:latin typeface="Arial"/>
              </a:rPr>
              <a:t>0-1 Year old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TODDLER (</a:t>
            </a:r>
            <a:r>
              <a:rPr b="0" lang="es-ES" sz="1400" spc="-1" strike="noStrike">
                <a:solidFill>
                  <a:srgbClr val="0000ff"/>
                </a:solidFill>
                <a:latin typeface="Arial"/>
              </a:rPr>
              <a:t>1-2’5 Years old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CHI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LITTLE B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LITTLE GI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TEENA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TEENAGE B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TEENAGE GI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ADOLES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YOUNG B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YOUNG GI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AD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WO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148000" y="259920"/>
            <a:ext cx="3772080" cy="1446120"/>
            <a:chOff x="5148000" y="259920"/>
            <a:chExt cx="3772080" cy="1446120"/>
          </a:xfrm>
        </p:grpSpPr>
        <p:cxnSp>
          <p:nvCxnSpPr>
            <p:cNvPr id="163" name=""/>
            <p:cNvCxnSpPr/>
            <p:nvPr/>
          </p:nvCxnSpPr>
          <p:spPr>
            <a:xfrm>
              <a:off x="5148000" y="260280"/>
              <a:ext cx="2741760" cy="117684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</a:ln>
          </p:spPr>
        </p:cxnSp>
        <p:grpSp>
          <p:nvGrpSpPr>
            <p:cNvPr id="164" name=""/>
            <p:cNvGrpSpPr/>
            <p:nvPr/>
          </p:nvGrpSpPr>
          <p:grpSpPr>
            <a:xfrm>
              <a:off x="7324200" y="259920"/>
              <a:ext cx="1595880" cy="1446120"/>
              <a:chOff x="7324200" y="259920"/>
              <a:chExt cx="1595880" cy="1446120"/>
            </a:xfrm>
          </p:grpSpPr>
          <p:sp>
            <p:nvSpPr>
              <p:cNvPr id="165" name=""/>
              <p:cNvSpPr/>
              <p:nvPr/>
            </p:nvSpPr>
            <p:spPr>
              <a:xfrm flipH="1" flipV="1" rot="5400000">
                <a:off x="7398720" y="184680"/>
                <a:ext cx="1446120" cy="1595880"/>
              </a:xfrm>
              <a:custGeom>
                <a:avLst/>
                <a:gdLst/>
                <a:ahLst/>
                <a:rect l="l" t="t" r="r" b="b"/>
                <a:pathLst>
                  <a:path w="6418" h="6670">
                    <a:moveTo>
                      <a:pt x="6418" y="1185"/>
                    </a:moveTo>
                    <a:lnTo>
                      <a:pt x="6418" y="6670"/>
                    </a:lnTo>
                    <a:lnTo>
                      <a:pt x="1809" y="6669"/>
                    </a:lnTo>
                    <a:cubicBezTo>
                      <a:pt x="974" y="5889"/>
                      <a:pt x="0" y="3958"/>
                      <a:pt x="1407" y="1987"/>
                    </a:cubicBezTo>
                    <a:cubicBezTo>
                      <a:pt x="2830" y="0"/>
                      <a:pt x="5591" y="411"/>
                      <a:pt x="6418" y="118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rot="10728000">
                <a:off x="7556400" y="345600"/>
                <a:ext cx="1235880" cy="1163880"/>
              </a:xfrm>
              <a:prstGeom prst="ellipse">
                <a:avLst/>
              </a:prstGeom>
              <a:solidFill>
                <a:srgbClr val="d3d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 rot="10728000">
                <a:off x="7637760" y="610560"/>
                <a:ext cx="934920" cy="880560"/>
              </a:xfrm>
              <a:prstGeom prst="ellipse">
                <a:avLst/>
              </a:prstGeom>
              <a:solidFill>
                <a:srgbClr val="7b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1773360"/>
            <a:ext cx="1019160" cy="1066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2637000"/>
            <a:ext cx="934920" cy="14284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0360" y="4724280"/>
            <a:ext cx="981000" cy="12286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093080" y="3933720"/>
            <a:ext cx="1361880" cy="905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020000" y="4797360"/>
            <a:ext cx="885600" cy="11811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940360" y="3645000"/>
            <a:ext cx="924120" cy="1123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788000" y="4005360"/>
            <a:ext cx="961920" cy="14284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788000" y="1773360"/>
            <a:ext cx="1238040" cy="828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380360" y="2565360"/>
            <a:ext cx="1214280" cy="1285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308720" y="1773360"/>
            <a:ext cx="1209960" cy="8571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6012000" y="2852640"/>
            <a:ext cx="1228680" cy="8287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340000" y="3213000"/>
            <a:ext cx="576360" cy="1079640"/>
          </a:xfrm>
          <a:custGeom>
            <a:avLst/>
            <a:gdLst>
              <a:gd name="textAreaLeft" fmla="*/ 0 w 576360"/>
              <a:gd name="textAreaRight" fmla="*/ 208080 w 57636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3280" y="35733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Arial"/>
              </a:rPr>
              <a:t>Adolesc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40000" y="2205000"/>
            <a:ext cx="503280" cy="792360"/>
          </a:xfrm>
          <a:custGeom>
            <a:avLst/>
            <a:gdLst>
              <a:gd name="textAreaLeft" fmla="*/ 0 w 503280"/>
              <a:gd name="textAreaRight" fmla="*/ 181800 w 50328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43280" y="249228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Arial"/>
              </a:rPr>
              <a:t>Chidh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11280" y="4365720"/>
            <a:ext cx="360360" cy="576000"/>
          </a:xfrm>
          <a:custGeom>
            <a:avLst/>
            <a:gdLst>
              <a:gd name="textAreaLeft" fmla="*/ 0 w 360360"/>
              <a:gd name="textAreaRight" fmla="*/ 129960 w 36036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43280" y="4437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Arial"/>
              </a:rPr>
              <a:t>You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84360" y="5013360"/>
            <a:ext cx="216000" cy="792000"/>
          </a:xfrm>
          <a:custGeom>
            <a:avLst/>
            <a:gdLst>
              <a:gd name="textAreaLeft" fmla="*/ 0 w 216000"/>
              <a:gd name="textAreaRight" fmla="*/ 78120 w 21600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43280" y="530064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Arial"/>
              </a:rPr>
              <a:t>Adultho</a:t>
            </a:r>
            <a:r>
              <a:rPr b="0" lang="es-ES" sz="1200" spc="-1" strike="noStrike">
                <a:solidFill>
                  <a:srgbClr val="0000ff"/>
                </a:solidFill>
                <a:latin typeface="Arial"/>
              </a:rPr>
              <a:t>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716360" y="5445000"/>
            <a:ext cx="1200240" cy="9241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7812000" y="5084640"/>
            <a:ext cx="85716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6767ff"/>
                </a:solidFill>
                <a:latin typeface="Arial"/>
              </a:rPr>
              <a:t>Ethnic origins / Backgroun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767ff"/>
                </a:solidFill>
                <a:latin typeface="Arial"/>
              </a:rPr>
              <a:t>1.Wh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767ff"/>
                </a:solidFill>
                <a:latin typeface="Arial"/>
              </a:rPr>
              <a:t>2.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767ff"/>
                </a:solidFill>
                <a:latin typeface="Arial"/>
              </a:rPr>
              <a:t>3.Mix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767ff"/>
                </a:solidFill>
                <a:latin typeface="Arial"/>
              </a:rPr>
              <a:t>4.Ar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767ff"/>
                </a:solidFill>
                <a:latin typeface="Arial"/>
              </a:rPr>
              <a:t>5.In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767ff"/>
                </a:solidFill>
                <a:latin typeface="Arial"/>
              </a:rPr>
              <a:t>6.Chin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767ff"/>
                </a:solidFill>
                <a:latin typeface="Arial"/>
              </a:rPr>
              <a:t>7.As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767ff"/>
                </a:solidFill>
                <a:latin typeface="Arial"/>
              </a:rPr>
              <a:t>8.Banglades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767ff"/>
                </a:solidFill>
                <a:latin typeface="Arial"/>
              </a:rPr>
              <a:t>9.Black Afri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767ff"/>
                </a:solidFill>
                <a:latin typeface="Arial"/>
              </a:rPr>
              <a:t>10.Black Caribb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767ff"/>
                </a:solidFill>
                <a:latin typeface="Arial"/>
              </a:rPr>
              <a:t>11.Pakist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076720" y="259920"/>
            <a:ext cx="3772080" cy="1446120"/>
            <a:chOff x="5076720" y="259920"/>
            <a:chExt cx="3772080" cy="1446120"/>
          </a:xfrm>
        </p:grpSpPr>
        <p:cxnSp>
          <p:nvCxnSpPr>
            <p:cNvPr id="192" name=""/>
            <p:cNvCxnSpPr/>
            <p:nvPr/>
          </p:nvCxnSpPr>
          <p:spPr>
            <a:xfrm>
              <a:off x="5076720" y="260280"/>
              <a:ext cx="2742480" cy="117684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</a:ln>
          </p:spPr>
        </p:cxnSp>
        <p:grpSp>
          <p:nvGrpSpPr>
            <p:cNvPr id="193" name=""/>
            <p:cNvGrpSpPr/>
            <p:nvPr/>
          </p:nvGrpSpPr>
          <p:grpSpPr>
            <a:xfrm>
              <a:off x="7252560" y="259920"/>
              <a:ext cx="1596240" cy="1446120"/>
              <a:chOff x="7252560" y="259920"/>
              <a:chExt cx="1596240" cy="1446120"/>
            </a:xfrm>
          </p:grpSpPr>
          <p:sp>
            <p:nvSpPr>
              <p:cNvPr id="194" name=""/>
              <p:cNvSpPr/>
              <p:nvPr/>
            </p:nvSpPr>
            <p:spPr>
              <a:xfrm flipH="1" flipV="1" rot="5400000">
                <a:off x="7327440" y="184320"/>
                <a:ext cx="1446120" cy="1596240"/>
              </a:xfrm>
              <a:custGeom>
                <a:avLst/>
                <a:gdLst/>
                <a:ahLst/>
                <a:rect l="l" t="t" r="r" b="b"/>
                <a:pathLst>
                  <a:path w="6418" h="6670">
                    <a:moveTo>
                      <a:pt x="6418" y="1185"/>
                    </a:moveTo>
                    <a:lnTo>
                      <a:pt x="6418" y="6670"/>
                    </a:lnTo>
                    <a:lnTo>
                      <a:pt x="1809" y="6669"/>
                    </a:lnTo>
                    <a:cubicBezTo>
                      <a:pt x="974" y="5889"/>
                      <a:pt x="0" y="3958"/>
                      <a:pt x="1407" y="1987"/>
                    </a:cubicBezTo>
                    <a:cubicBezTo>
                      <a:pt x="2830" y="0"/>
                      <a:pt x="5591" y="411"/>
                      <a:pt x="6418" y="118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 rot="10728000">
                <a:off x="7484400" y="345600"/>
                <a:ext cx="1236240" cy="1163880"/>
              </a:xfrm>
              <a:prstGeom prst="ellipse">
                <a:avLst/>
              </a:prstGeom>
              <a:solidFill>
                <a:srgbClr val="d3d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rot="10728000">
                <a:off x="7566120" y="610560"/>
                <a:ext cx="934920" cy="880560"/>
              </a:xfrm>
              <a:prstGeom prst="ellipse">
                <a:avLst/>
              </a:prstGeom>
              <a:solidFill>
                <a:srgbClr val="7b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3357720"/>
            <a:ext cx="1000080" cy="14284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84720" y="2421000"/>
            <a:ext cx="847800" cy="12762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12000" y="3860640"/>
            <a:ext cx="961920" cy="12859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093080" y="4005360"/>
            <a:ext cx="847440" cy="11239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12000" y="5229360"/>
            <a:ext cx="1238040" cy="8665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8028000" y="4005360"/>
            <a:ext cx="838080" cy="1171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076720" y="1844640"/>
            <a:ext cx="924120" cy="12668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076720" y="3213000"/>
            <a:ext cx="781200" cy="7812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076720" y="4076640"/>
            <a:ext cx="847800" cy="12384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020000" y="270828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4643280" y="5300640"/>
            <a:ext cx="129564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6767ff"/>
                </a:solidFill>
                <a:latin typeface="Arial"/>
              </a:rPr>
              <a:t>Family Memb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767ff"/>
                </a:solidFill>
                <a:latin typeface="Arial"/>
              </a:rPr>
              <a:t>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767ff"/>
                </a:solidFill>
                <a:latin typeface="Arial"/>
              </a:rPr>
              <a:t>DAUGH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767ff"/>
                </a:solidFill>
                <a:latin typeface="Arial"/>
              </a:rPr>
              <a:t>BR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767ff"/>
                </a:solidFill>
                <a:latin typeface="Arial"/>
              </a:rPr>
              <a:t>S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767ff"/>
                </a:solidFill>
                <a:latin typeface="Arial"/>
              </a:rPr>
              <a:t>M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767ff"/>
                </a:solidFill>
                <a:latin typeface="Arial"/>
              </a:rPr>
              <a:t>F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767ff"/>
                </a:solidFill>
                <a:latin typeface="Arial"/>
              </a:rPr>
              <a:t>THE ONLY 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767ff"/>
                </a:solidFill>
                <a:latin typeface="Arial"/>
              </a:rPr>
              <a:t>THE NEPH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767ff"/>
                </a:solidFill>
                <a:latin typeface="Arial"/>
              </a:rPr>
              <a:t>THE NI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767ff"/>
                </a:solidFill>
                <a:latin typeface="Arial"/>
              </a:rPr>
              <a:t>THE A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767ff"/>
                </a:solidFill>
                <a:latin typeface="Arial"/>
              </a:rPr>
              <a:t>THE UN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767ff"/>
                </a:solidFill>
                <a:latin typeface="Arial"/>
              </a:rPr>
              <a:t>THE GRANDM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767ff"/>
                </a:solidFill>
                <a:latin typeface="Arial"/>
              </a:rPr>
              <a:t>THE GRANDF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767ff"/>
                </a:solidFill>
                <a:latin typeface="Arial"/>
              </a:rPr>
              <a:t>THE COU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148000" y="259920"/>
            <a:ext cx="3772080" cy="1446120"/>
            <a:chOff x="5148000" y="259920"/>
            <a:chExt cx="3772080" cy="1446120"/>
          </a:xfrm>
        </p:grpSpPr>
        <p:cxnSp>
          <p:nvCxnSpPr>
            <p:cNvPr id="211" name=""/>
            <p:cNvCxnSpPr/>
            <p:nvPr/>
          </p:nvCxnSpPr>
          <p:spPr>
            <a:xfrm>
              <a:off x="5148000" y="260280"/>
              <a:ext cx="2741760" cy="117684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</a:ln>
          </p:spPr>
        </p:cxnSp>
        <p:grpSp>
          <p:nvGrpSpPr>
            <p:cNvPr id="212" name=""/>
            <p:cNvGrpSpPr/>
            <p:nvPr/>
          </p:nvGrpSpPr>
          <p:grpSpPr>
            <a:xfrm>
              <a:off x="7324200" y="259920"/>
              <a:ext cx="1595880" cy="1446120"/>
              <a:chOff x="7324200" y="259920"/>
              <a:chExt cx="1595880" cy="1446120"/>
            </a:xfrm>
          </p:grpSpPr>
          <p:sp>
            <p:nvSpPr>
              <p:cNvPr id="213" name=""/>
              <p:cNvSpPr/>
              <p:nvPr/>
            </p:nvSpPr>
            <p:spPr>
              <a:xfrm flipH="1" flipV="1" rot="5400000">
                <a:off x="7398720" y="184680"/>
                <a:ext cx="1446120" cy="1595880"/>
              </a:xfrm>
              <a:custGeom>
                <a:avLst/>
                <a:gdLst/>
                <a:ahLst/>
                <a:rect l="l" t="t" r="r" b="b"/>
                <a:pathLst>
                  <a:path w="6418" h="6670">
                    <a:moveTo>
                      <a:pt x="6418" y="1185"/>
                    </a:moveTo>
                    <a:lnTo>
                      <a:pt x="6418" y="6670"/>
                    </a:lnTo>
                    <a:lnTo>
                      <a:pt x="1809" y="6669"/>
                    </a:lnTo>
                    <a:cubicBezTo>
                      <a:pt x="974" y="5889"/>
                      <a:pt x="0" y="3958"/>
                      <a:pt x="1407" y="1987"/>
                    </a:cubicBezTo>
                    <a:cubicBezTo>
                      <a:pt x="2830" y="0"/>
                      <a:pt x="5591" y="411"/>
                      <a:pt x="6418" y="118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rot="10728000">
                <a:off x="7556400" y="345600"/>
                <a:ext cx="1235880" cy="1163880"/>
              </a:xfrm>
              <a:prstGeom prst="ellipse">
                <a:avLst/>
              </a:prstGeom>
              <a:solidFill>
                <a:srgbClr val="d3d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 rot="10728000">
                <a:off x="7637760" y="610560"/>
                <a:ext cx="934920" cy="880560"/>
              </a:xfrm>
              <a:prstGeom prst="ellipse">
                <a:avLst/>
              </a:prstGeom>
              <a:solidFill>
                <a:srgbClr val="7b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2852640"/>
            <a:ext cx="885960" cy="1152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4508640"/>
            <a:ext cx="792360" cy="1008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27640" y="3500280"/>
            <a:ext cx="1440000" cy="17272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667640" y="3284640"/>
            <a:ext cx="990720" cy="7426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667640" y="4437000"/>
            <a:ext cx="11239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767ff"/>
                </a:solidFill>
                <a:latin typeface="Arial"/>
              </a:rPr>
              <a:t>RELIG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148000" y="188640"/>
            <a:ext cx="3772080" cy="1446120"/>
            <a:chOff x="5148000" y="188640"/>
            <a:chExt cx="3772080" cy="1446120"/>
          </a:xfrm>
        </p:grpSpPr>
        <p:cxnSp>
          <p:nvCxnSpPr>
            <p:cNvPr id="223" name=""/>
            <p:cNvCxnSpPr/>
            <p:nvPr/>
          </p:nvCxnSpPr>
          <p:spPr>
            <a:xfrm>
              <a:off x="5148000" y="189000"/>
              <a:ext cx="2741760" cy="117684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</a:ln>
          </p:spPr>
        </p:cxnSp>
        <p:grpSp>
          <p:nvGrpSpPr>
            <p:cNvPr id="224" name=""/>
            <p:cNvGrpSpPr/>
            <p:nvPr/>
          </p:nvGrpSpPr>
          <p:grpSpPr>
            <a:xfrm>
              <a:off x="7324200" y="188640"/>
              <a:ext cx="1595880" cy="1446120"/>
              <a:chOff x="7324200" y="188640"/>
              <a:chExt cx="1595880" cy="1446120"/>
            </a:xfrm>
          </p:grpSpPr>
          <p:sp>
            <p:nvSpPr>
              <p:cNvPr id="225" name=""/>
              <p:cNvSpPr/>
              <p:nvPr/>
            </p:nvSpPr>
            <p:spPr>
              <a:xfrm flipH="1" flipV="1" rot="5400000">
                <a:off x="7398720" y="113400"/>
                <a:ext cx="1446120" cy="1595880"/>
              </a:xfrm>
              <a:custGeom>
                <a:avLst/>
                <a:gdLst/>
                <a:ahLst/>
                <a:rect l="l" t="t" r="r" b="b"/>
                <a:pathLst>
                  <a:path w="6418" h="6670">
                    <a:moveTo>
                      <a:pt x="6418" y="1185"/>
                    </a:moveTo>
                    <a:lnTo>
                      <a:pt x="6418" y="6670"/>
                    </a:lnTo>
                    <a:lnTo>
                      <a:pt x="1809" y="6669"/>
                    </a:lnTo>
                    <a:cubicBezTo>
                      <a:pt x="974" y="5889"/>
                      <a:pt x="0" y="3958"/>
                      <a:pt x="1407" y="1987"/>
                    </a:cubicBezTo>
                    <a:cubicBezTo>
                      <a:pt x="2830" y="0"/>
                      <a:pt x="5591" y="411"/>
                      <a:pt x="6418" y="118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 rot="10728000">
                <a:off x="7556400" y="274320"/>
                <a:ext cx="1235880" cy="1163880"/>
              </a:xfrm>
              <a:prstGeom prst="ellipse">
                <a:avLst/>
              </a:prstGeom>
              <a:solidFill>
                <a:srgbClr val="d3d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rot="10728000">
                <a:off x="7637760" y="539280"/>
                <a:ext cx="934920" cy="880560"/>
              </a:xfrm>
              <a:prstGeom prst="ellipse">
                <a:avLst/>
              </a:prstGeom>
              <a:solidFill>
                <a:srgbClr val="7b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2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2276640"/>
            <a:ext cx="952560" cy="738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40360" y="580536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067280" y="30686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067280" y="479736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84360" y="4221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Sikh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5640" y="2637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sl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4360" y="3429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Hindu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4360" y="508464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Buddh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4360" y="5877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Juda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08720" y="472428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Agno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64000" y="314172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Athe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4360" y="18446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Christia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995640" y="3789360"/>
            <a:ext cx="719280" cy="8319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995640" y="1557360"/>
            <a:ext cx="771480" cy="8859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451640" y="4365720"/>
            <a:ext cx="1081080" cy="8744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7451640" y="2637000"/>
            <a:ext cx="1104840" cy="9601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268360" y="2205000"/>
            <a:ext cx="1582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19280" y="2924280"/>
            <a:ext cx="2448000" cy="30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050920" y="4365720"/>
            <a:ext cx="18734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63640" y="4437000"/>
            <a:ext cx="2160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1979640" y="3429000"/>
            <a:ext cx="208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1908000" y="2060280"/>
            <a:ext cx="2087640" cy="403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6804000" y="3716280"/>
            <a:ext cx="936720" cy="11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372360" y="3429000"/>
            <a:ext cx="107928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9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4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9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6767ff"/>
                </a:solidFill>
                <a:latin typeface="Arial"/>
              </a:rPr>
              <a:t>Human personal valu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Honesty</a:t>
            </a: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Solid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Beauty</a:t>
            </a: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Tender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Fidelity</a:t>
            </a: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Aut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Happiness</a:t>
            </a: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Love</a:t>
            </a: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Imag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Truth</a:t>
            </a: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Crea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Justice</a:t>
            </a: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Peace</a:t>
            </a: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Se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Respect</a:t>
            </a: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Wis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Tolerance</a:t>
            </a: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767ff"/>
                </a:solidFill>
                <a:latin typeface="Arial"/>
              </a:rPr>
              <a:t>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5148000" y="333000"/>
            <a:ext cx="3772080" cy="1446120"/>
            <a:chOff x="5148000" y="333000"/>
            <a:chExt cx="3772080" cy="1446120"/>
          </a:xfrm>
        </p:grpSpPr>
        <p:cxnSp>
          <p:nvCxnSpPr>
            <p:cNvPr id="255" name=""/>
            <p:cNvCxnSpPr/>
            <p:nvPr/>
          </p:nvCxnSpPr>
          <p:spPr>
            <a:xfrm>
              <a:off x="5148000" y="333360"/>
              <a:ext cx="2741760" cy="117684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</a:ln>
          </p:spPr>
        </p:cxnSp>
        <p:grpSp>
          <p:nvGrpSpPr>
            <p:cNvPr id="256" name=""/>
            <p:cNvGrpSpPr/>
            <p:nvPr/>
          </p:nvGrpSpPr>
          <p:grpSpPr>
            <a:xfrm>
              <a:off x="7324200" y="333000"/>
              <a:ext cx="1595880" cy="1446120"/>
              <a:chOff x="7324200" y="333000"/>
              <a:chExt cx="1595880" cy="1446120"/>
            </a:xfrm>
          </p:grpSpPr>
          <p:sp>
            <p:nvSpPr>
              <p:cNvPr id="257" name=""/>
              <p:cNvSpPr/>
              <p:nvPr/>
            </p:nvSpPr>
            <p:spPr>
              <a:xfrm flipH="1" flipV="1" rot="5400000">
                <a:off x="7398720" y="257760"/>
                <a:ext cx="1446120" cy="1595880"/>
              </a:xfrm>
              <a:custGeom>
                <a:avLst/>
                <a:gdLst/>
                <a:ahLst/>
                <a:rect l="l" t="t" r="r" b="b"/>
                <a:pathLst>
                  <a:path w="6418" h="6670">
                    <a:moveTo>
                      <a:pt x="6418" y="1185"/>
                    </a:moveTo>
                    <a:lnTo>
                      <a:pt x="6418" y="6670"/>
                    </a:lnTo>
                    <a:lnTo>
                      <a:pt x="1809" y="6669"/>
                    </a:lnTo>
                    <a:cubicBezTo>
                      <a:pt x="974" y="5889"/>
                      <a:pt x="0" y="3958"/>
                      <a:pt x="1407" y="1987"/>
                    </a:cubicBezTo>
                    <a:cubicBezTo>
                      <a:pt x="2830" y="0"/>
                      <a:pt x="5591" y="411"/>
                      <a:pt x="6418" y="118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rot="10728000">
                <a:off x="7556400" y="418680"/>
                <a:ext cx="1235880" cy="1163880"/>
              </a:xfrm>
              <a:prstGeom prst="ellipse">
                <a:avLst/>
              </a:prstGeom>
              <a:solidFill>
                <a:srgbClr val="d3d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 rot="10728000">
                <a:off x="7637760" y="683640"/>
                <a:ext cx="934920" cy="880560"/>
              </a:xfrm>
              <a:prstGeom prst="ellipse">
                <a:avLst/>
              </a:prstGeom>
              <a:solidFill>
                <a:srgbClr val="7b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6767ff"/>
                </a:solidFill>
                <a:latin typeface="Arial"/>
              </a:rPr>
              <a:t>Nationali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15843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ta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pan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tali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cott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Wels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r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re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148000" y="259920"/>
            <a:ext cx="3772080" cy="1446120"/>
            <a:chOff x="5148000" y="259920"/>
            <a:chExt cx="3772080" cy="1446120"/>
          </a:xfrm>
        </p:grpSpPr>
        <p:cxnSp>
          <p:nvCxnSpPr>
            <p:cNvPr id="263" name=""/>
            <p:cNvCxnSpPr/>
            <p:nvPr/>
          </p:nvCxnSpPr>
          <p:spPr>
            <a:xfrm>
              <a:off x="5148000" y="260280"/>
              <a:ext cx="2741760" cy="117684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</a:ln>
          </p:spPr>
        </p:cxnSp>
        <p:grpSp>
          <p:nvGrpSpPr>
            <p:cNvPr id="264" name=""/>
            <p:cNvGrpSpPr/>
            <p:nvPr/>
          </p:nvGrpSpPr>
          <p:grpSpPr>
            <a:xfrm>
              <a:off x="7324200" y="259920"/>
              <a:ext cx="1595880" cy="1446120"/>
              <a:chOff x="7324200" y="259920"/>
              <a:chExt cx="1595880" cy="1446120"/>
            </a:xfrm>
          </p:grpSpPr>
          <p:sp>
            <p:nvSpPr>
              <p:cNvPr id="265" name=""/>
              <p:cNvSpPr/>
              <p:nvPr/>
            </p:nvSpPr>
            <p:spPr>
              <a:xfrm flipH="1" flipV="1" rot="5400000">
                <a:off x="7398720" y="184680"/>
                <a:ext cx="1446120" cy="1595880"/>
              </a:xfrm>
              <a:custGeom>
                <a:avLst/>
                <a:gdLst/>
                <a:ahLst/>
                <a:rect l="l" t="t" r="r" b="b"/>
                <a:pathLst>
                  <a:path w="6418" h="6670">
                    <a:moveTo>
                      <a:pt x="6418" y="1185"/>
                    </a:moveTo>
                    <a:lnTo>
                      <a:pt x="6418" y="6670"/>
                    </a:lnTo>
                    <a:lnTo>
                      <a:pt x="1809" y="6669"/>
                    </a:lnTo>
                    <a:cubicBezTo>
                      <a:pt x="974" y="5889"/>
                      <a:pt x="0" y="3958"/>
                      <a:pt x="1407" y="1987"/>
                    </a:cubicBezTo>
                    <a:cubicBezTo>
                      <a:pt x="2830" y="0"/>
                      <a:pt x="5591" y="411"/>
                      <a:pt x="6418" y="118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rot="10728000">
                <a:off x="7556400" y="345600"/>
                <a:ext cx="1235880" cy="1163880"/>
              </a:xfrm>
              <a:prstGeom prst="ellipse">
                <a:avLst/>
              </a:prstGeom>
              <a:solidFill>
                <a:srgbClr val="d3d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rot="10728000">
                <a:off x="7637760" y="610560"/>
                <a:ext cx="934920" cy="880560"/>
              </a:xfrm>
              <a:prstGeom prst="ellipse">
                <a:avLst/>
              </a:prstGeom>
              <a:solidFill>
                <a:srgbClr val="7b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8" name="" descr="catalunya.gif (1387 bytes)"/>
          <p:cNvPicPr/>
          <p:nvPr/>
        </p:nvPicPr>
        <p:blipFill>
          <a:blip r:embed="rId1"/>
          <a:stretch/>
        </p:blipFill>
        <p:spPr>
          <a:xfrm>
            <a:off x="1908000" y="1268280"/>
            <a:ext cx="1151280" cy="4431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08000" y="1989000"/>
            <a:ext cx="1151280" cy="4320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08000" y="2708280"/>
            <a:ext cx="1081440" cy="36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908000" y="4005360"/>
            <a:ext cx="1151280" cy="4334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908000" y="5445000"/>
            <a:ext cx="1141560" cy="4320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908000" y="4581360"/>
            <a:ext cx="1151280" cy="5763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http://academic.scranton.edu/student/ZANGARAJ2/topframe.htm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1908000" y="3284640"/>
            <a:ext cx="1008360" cy="5047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1908000" y="6165720"/>
            <a:ext cx="1152720" cy="4971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5867280" y="1125360"/>
            <a:ext cx="1171800" cy="5112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5940360" y="1844640"/>
            <a:ext cx="1079640" cy="539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3995640" y="1197000"/>
            <a:ext cx="19447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er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rtugu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xi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meri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oroc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uss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lomb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oliv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5940360" y="2565360"/>
            <a:ext cx="1079640" cy="5032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5940360" y="3213000"/>
            <a:ext cx="1152720" cy="5763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5940360" y="3860640"/>
            <a:ext cx="1152720" cy="5749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>
            <a:hlinkClick r:id="rId26"/>
          </p:cNvPr>
          <p:cNvPicPr/>
          <p:nvPr/>
        </p:nvPicPr>
        <p:blipFill>
          <a:blip r:embed="rId27"/>
          <a:stretch/>
        </p:blipFill>
        <p:spPr>
          <a:xfrm>
            <a:off x="5940360" y="4581360"/>
            <a:ext cx="1152720" cy="5763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>
            <a:hlinkClick r:id="rId28"/>
          </p:cNvPr>
          <p:cNvPicPr/>
          <p:nvPr/>
        </p:nvPicPr>
        <p:blipFill>
          <a:blip r:embed="rId29"/>
          <a:stretch/>
        </p:blipFill>
        <p:spPr>
          <a:xfrm>
            <a:off x="5940360" y="5229360"/>
            <a:ext cx="1152720" cy="5760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>
            <a:hlinkClick r:id="rId30"/>
          </p:cNvPr>
          <p:cNvPicPr/>
          <p:nvPr/>
        </p:nvPicPr>
        <p:blipFill>
          <a:blip r:embed="rId31"/>
          <a:stretch/>
        </p:blipFill>
        <p:spPr>
          <a:xfrm>
            <a:off x="5940360" y="5950080"/>
            <a:ext cx="115272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7:51:22Z</dcterms:created>
  <dc:creator>Portatil</dc:creator>
  <dc:description/>
  <dc:language>en-US</dc:language>
  <cp:lastModifiedBy>Portatil</cp:lastModifiedBy>
  <dcterms:modified xsi:type="dcterms:W3CDTF">2008-12-13T00:43:45Z</dcterms:modified>
  <cp:revision>13</cp:revision>
  <dc:subject/>
  <dc:title>Diapositiva 1</dc:title>
</cp:coreProperties>
</file>