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CB7-7E3F-4E43-B90D-EF152D70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609-CEC2-4807-86F7-F1AC59E3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FE3-402A-48D9-95C9-8007578F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60E-061A-467C-865B-E2C87208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04A-5E0D-4B99-87D8-289DAD5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E44-39C7-4E99-9942-48ADFCF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433-EDC8-4939-B9BB-12CDBF0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9D7-90DE-4AFE-B35E-9149BBFE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728-A082-49FD-A967-697CEF5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016-EEA7-463A-80D5-85513EF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4397-0A43-476A-BA0A-056725D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6A5-15DC-42C2-A7AC-338408E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4BE-0A1B-40A9-BF3B-B60B166345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CuadroTexto"/>
          <p:cNvSpPr/>
          <p:nvPr/>
        </p:nvSpPr>
        <p:spPr>
          <a:xfrm>
            <a:off x="1676520" y="26668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HOW TO WRITE AN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8"/>
          <p:cNvGrpSpPr/>
          <p:nvPr/>
        </p:nvGrpSpPr>
        <p:grpSpPr>
          <a:xfrm>
            <a:off x="3733560" y="228240"/>
            <a:ext cx="4830840" cy="2143080"/>
            <a:chOff x="3733560" y="228240"/>
            <a:chExt cx="4830840" cy="2143080"/>
          </a:xfrm>
        </p:grpSpPr>
        <p:cxnSp>
          <p:nvCxnSpPr>
            <p:cNvPr id="43" name="AutoShape 19"/>
            <p:cNvCxnSpPr/>
            <p:nvPr/>
          </p:nvCxnSpPr>
          <p:spPr>
            <a:xfrm>
              <a:off x="3733560" y="228960"/>
              <a:ext cx="3511800" cy="17434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44" name="Group 20"/>
            <p:cNvGrpSpPr/>
            <p:nvPr/>
          </p:nvGrpSpPr>
          <p:grpSpPr>
            <a:xfrm>
              <a:off x="6520320" y="228240"/>
              <a:ext cx="2044080" cy="2143080"/>
              <a:chOff x="6520320" y="228240"/>
              <a:chExt cx="2044080" cy="2143080"/>
            </a:xfrm>
          </p:grpSpPr>
          <p:sp>
            <p:nvSpPr>
              <p:cNvPr id="45" name="Freeform 21"/>
              <p:cNvSpPr/>
              <p:nvPr/>
            </p:nvSpPr>
            <p:spPr>
              <a:xfrm flipH="1" flipV="1" rot="5400000">
                <a:off x="6470640" y="277200"/>
                <a:ext cx="2143080" cy="2044080"/>
              </a:xfrm>
              <a:custGeom>
                <a:avLst/>
                <a:gdLst>
                  <a:gd name="textAreaLeft" fmla="*/ -360 w 2143080"/>
                  <a:gd name="textAreaRight" fmla="*/ 2143080 w 2143080"/>
                  <a:gd name="textAreaTop" fmla="*/ 360 h 2044080"/>
                  <a:gd name="textAreaBottom" fmla="*/ 2044800 h 204408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22"/>
              <p:cNvSpPr/>
              <p:nvPr/>
            </p:nvSpPr>
            <p:spPr>
              <a:xfrm flipH="1" rot="10728000">
                <a:off x="6817320" y="371160"/>
                <a:ext cx="1582920" cy="17089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23"/>
              <p:cNvSpPr/>
              <p:nvPr/>
            </p:nvSpPr>
            <p:spPr>
              <a:xfrm flipH="1" rot="10728000">
                <a:off x="6877440" y="748440"/>
                <a:ext cx="1242720" cy="130464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Educa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Mysel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12 Imagen" descr="essay.jpg"/>
          <p:cNvPicPr/>
          <p:nvPr/>
        </p:nvPicPr>
        <p:blipFill>
          <a:blip r:embed="rId1"/>
          <a:stretch/>
        </p:blipFill>
        <p:spPr>
          <a:xfrm>
            <a:off x="3581280" y="44197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CuadroTexto"/>
          <p:cNvSpPr/>
          <p:nvPr/>
        </p:nvSpPr>
        <p:spPr>
          <a:xfrm>
            <a:off x="609480" y="914400"/>
            <a:ext cx="8153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An essay is </a:t>
            </a:r>
            <a:r>
              <a:rPr b="0" lang="en-GB" sz="2000" spc="-1" strike="noStrike">
                <a:solidFill>
                  <a:srgbClr val="6b6bcf"/>
                </a:solidFill>
                <a:latin typeface="Arial"/>
              </a:rPr>
              <a:t>an attempt to </a:t>
            </a:r>
            <a:r>
              <a:rPr b="1" lang="en-GB" sz="2000" spc="-1" strike="noStrike">
                <a:solidFill>
                  <a:srgbClr val="6b6bcf"/>
                </a:solidFill>
                <a:latin typeface="Arial"/>
              </a:rPr>
              <a:t>answer</a:t>
            </a:r>
            <a:r>
              <a:rPr b="0" lang="en-GB" sz="2000" spc="-1" strike="noStrike">
                <a:solidFill>
                  <a:srgbClr val="6b6bcf"/>
                </a:solidFill>
                <a:latin typeface="Arial"/>
              </a:rPr>
              <a:t> a question – a short piece of writing on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533520" y="1905120"/>
            <a:ext cx="8381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ypes of essays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)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Literar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, about specific texts you have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                              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b)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Person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about specific topics and you have to give your personal opinion, giving reasons to support what you s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609480" y="3352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sa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6 Imagen" descr="essay_structure.gif"/>
          <p:cNvPicPr/>
          <p:nvPr/>
        </p:nvPicPr>
        <p:blipFill>
          <a:blip r:embed="rId1"/>
          <a:stretch/>
        </p:blipFill>
        <p:spPr>
          <a:xfrm>
            <a:off x="3200400" y="3124080"/>
            <a:ext cx="57913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troduce your argument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ith a question or a quotation or a shocking sentence to catch the reader’s attention and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560" y="160020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.g.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Freestyle Script"/>
              </a:rPr>
              <a:t>Gender equity in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Question: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Freestyle Script"/>
              </a:rPr>
              <a:t>Is education equal for boys and girls in the worl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Quotation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 phrase taken directly from a text or someone who said i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-  </a:t>
            </a:r>
            <a:r>
              <a:rPr b="0" lang="en-GB" sz="3600" spc="-1" strike="noStrike">
                <a:solidFill>
                  <a:srgbClr val="333399"/>
                </a:solidFill>
                <a:latin typeface="Freestyle Script"/>
              </a:rPr>
              <a:t>Education is a human right. </a:t>
            </a:r>
            <a:r>
              <a:rPr b="0" lang="en-GB" sz="2800" spc="-1" strike="noStrike">
                <a:solidFill>
                  <a:srgbClr val="333399"/>
                </a:solidFill>
                <a:latin typeface="Freestyle Script"/>
              </a:rPr>
              <a:t>(Convention on the Rights of the Chi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Freestyle Script"/>
              </a:rPr>
              <a:t>    </a:t>
            </a:r>
            <a:r>
              <a:rPr b="0" lang="en-GB" sz="2800" spc="-1" strike="noStrike">
                <a:solidFill>
                  <a:srgbClr val="333399"/>
                </a:solidFill>
                <a:latin typeface="Freestyle Script"/>
              </a:rPr>
              <a:t>- According to the Convention on the Rights of the Child ,”education is a human righ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Shocking sentence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333399"/>
                </a:solidFill>
                <a:latin typeface="Freestyle Script"/>
              </a:rPr>
              <a:t>Educating girls is essential to the development of a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 CuadroTexto"/>
          <p:cNvSpPr/>
          <p:nvPr/>
        </p:nvSpPr>
        <p:spPr>
          <a:xfrm>
            <a:off x="380880" y="52880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e your ideas in paragraphs,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every idea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or new point means 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a new paragraph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, paragraphs must not be too long, because they may be unclear and repetitive in som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Essay style…</a:t>
            </a:r>
            <a:br>
              <a:rPr sz="2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Write 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clear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ntences in paragraphs.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. Don’t use the same 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vocabulary and expression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3. The tone of the essay must be 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formal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4. Make sure your point is clear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if it seems confusing give a brief summary of what you have said but avoid saying the same thing twice in the same sentence).</a:t>
            </a: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atch your tense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 if you start the text in the past tense, you must stay in the past tense)</a:t>
            </a:r>
            <a:br>
              <a:rPr sz="1800"/>
            </a:b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609480" y="4038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Use these LINKING words to spice up your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762120" y="4724280"/>
            <a:ext cx="8001000" cy="1739880"/>
          </a:xfrm>
          <a:prstGeom prst="rect">
            <a:avLst/>
          </a:prstGeom>
          <a:gradFill rotWithShape="0">
            <a:gsLst>
              <a:gs pos="0">
                <a:srgbClr val="a3a3e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even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moreover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 unless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undoub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despite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besides                 perhaps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without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even though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furthermore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 alternatively                    certai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nevertheless            for example           instead                           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however                   for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73"/>
                </a:solidFill>
                <a:latin typeface="Arial"/>
              </a:rPr>
              <a:t>Introducing contrast or opposin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Despit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malgrat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) 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Despite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people don’t believed him, he tried to convinc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Even / Although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tot i que, encara que) 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Even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they had not studied, they pa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However /Nevertheles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no obstant això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he was ill.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However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, she c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Giving examples and add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Moreover /Furthermore /Beside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a més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I can’t buy the jumper.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Besides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, I don’t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hav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For example /instanc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per exemple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Vegetables contain vitamins, for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pepp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refer to exceptional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Unles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excepte si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Let’s have dinner out,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unless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you are too t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533520" y="304920"/>
            <a:ext cx="8001000" cy="1465560"/>
          </a:xfrm>
          <a:prstGeom prst="rect">
            <a:avLst/>
          </a:prstGeom>
          <a:gradFill rotWithShape="0">
            <a:gsLst>
              <a:gs pos="0">
                <a:srgbClr val="a3a3e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even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moreover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 unless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undoubte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despite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besides                  perhaps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without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even though             furthermore   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      possibly                         altern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nevertheless            for example            instead                           certai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22268"/>
                </a:solidFill>
                <a:latin typeface="Arial"/>
              </a:rPr>
              <a:t>however                   for instance                                                  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Rectángulo redondeado"/>
          <p:cNvSpPr/>
          <p:nvPr/>
        </p:nvSpPr>
        <p:spPr>
          <a:xfrm>
            <a:off x="609480" y="2057400"/>
            <a:ext cx="541044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9 Rectángulo redondeado"/>
          <p:cNvSpPr/>
          <p:nvPr/>
        </p:nvSpPr>
        <p:spPr>
          <a:xfrm>
            <a:off x="533520" y="3809880"/>
            <a:ext cx="54864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0 Rectángulo redondeado"/>
          <p:cNvSpPr/>
          <p:nvPr/>
        </p:nvSpPr>
        <p:spPr>
          <a:xfrm>
            <a:off x="609480" y="5715000"/>
            <a:ext cx="52578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 express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Perhaps /Possibly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potser, possiblement) 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Dan Brown is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perhaps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the best writer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of the twentieth centu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2d8a"/>
                </a:solidFill>
                <a:latin typeface="Arial"/>
              </a:rPr>
              <a:t>Using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nstead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en comptes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he didn’t go to school.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(Instead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) She went home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instead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Alternatively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 per altra banda, alternativament)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You can go by car, or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alternatively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, you can walk t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Without doubt/Undoubtedly/ Absolutely / Certainly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sense dub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She is </a:t>
            </a:r>
            <a:r>
              <a:rPr b="0" lang="en-GB" sz="1600" spc="-1" strike="noStrike" u="sng">
                <a:solidFill>
                  <a:srgbClr val="c00000"/>
                </a:solidFill>
                <a:uFillTx/>
                <a:latin typeface="Arial"/>
              </a:rPr>
              <a:t>certainly/absolutely/undoubtedly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3 Rectángulo redondeado"/>
          <p:cNvSpPr/>
          <p:nvPr/>
        </p:nvSpPr>
        <p:spPr>
          <a:xfrm>
            <a:off x="304920" y="762120"/>
            <a:ext cx="335268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Rectángulo redondeado"/>
          <p:cNvSpPr/>
          <p:nvPr/>
        </p:nvSpPr>
        <p:spPr>
          <a:xfrm>
            <a:off x="380880" y="2286000"/>
            <a:ext cx="236232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ncluding your ess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 need to close your essay,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sum up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your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Start a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ew paragraph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by looking at the original question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state the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main points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of your arguments brie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ish by giving a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final exampl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or explaining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why the question/topic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Write a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final sentence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s your conclu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Showing sequence and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First,  /To begin with, / Firstl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Second, /Secondly, /Then, /Also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Finally, / In short, / To sum up, / In conclusion, / Lastly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Therefore, /As a result,/ Consequently,/ For this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Rectángulo redondeado"/>
          <p:cNvSpPr/>
          <p:nvPr/>
        </p:nvSpPr>
        <p:spPr>
          <a:xfrm>
            <a:off x="304920" y="3276720"/>
            <a:ext cx="43434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errar llave"/>
          <p:cNvSpPr/>
          <p:nvPr/>
        </p:nvSpPr>
        <p:spPr>
          <a:xfrm>
            <a:off x="6705720" y="3733920"/>
            <a:ext cx="304560" cy="12189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18960"/>
              <a:gd name="textAreaBottom" fmla="*/ 121104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8 Rectángulo"/>
          <p:cNvSpPr/>
          <p:nvPr/>
        </p:nvSpPr>
        <p:spPr>
          <a:xfrm>
            <a:off x="7086600" y="41148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9 Cerrar llave"/>
          <p:cNvSpPr/>
          <p:nvPr/>
        </p:nvSpPr>
        <p:spPr>
          <a:xfrm>
            <a:off x="6705720" y="5105520"/>
            <a:ext cx="304560" cy="12189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18960"/>
              <a:gd name="textAreaBottom" fmla="*/ 121104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10 Rectángulo"/>
          <p:cNvSpPr/>
          <p:nvPr/>
        </p:nvSpPr>
        <p:spPr>
          <a:xfrm>
            <a:off x="7086600" y="5486400"/>
            <a:ext cx="1219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22:45Z</dcterms:created>
  <dc:creator>Portatil</dc:creator>
  <dc:description/>
  <dc:language>en-US</dc:language>
  <cp:lastModifiedBy>Portatil</cp:lastModifiedBy>
  <dcterms:modified xsi:type="dcterms:W3CDTF">2009-12-22T20:34:4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