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6BB-C10B-4372-AEC2-8F667E8B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7D7-9490-4DAE-BE1E-37072CB7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229-7FFC-4F9B-BC64-4E4B6EBB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3264-9D33-4BFC-98E4-13A49E7D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9FA-1C01-49E6-B22C-37215C80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D3D-8052-4BA3-808D-09C61FDD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C41-C5DB-4241-9BB9-52355F03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7481-6B4C-4499-A439-20BF3503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1F8-3DD7-44BD-A0ED-2D57D671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BEB-0121-4F1E-AEC2-6E460D31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95C-44F7-4580-B26B-9644CB51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945-E48C-4D45-AA57-05A66FBE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5140-B53D-4560-A04A-824C64589CC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8/Wars_and_Conflicts_1990-2008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8"/>
          <p:cNvGrpSpPr/>
          <p:nvPr/>
        </p:nvGrpSpPr>
        <p:grpSpPr>
          <a:xfrm>
            <a:off x="3929040" y="356760"/>
            <a:ext cx="4830840" cy="2143080"/>
            <a:chOff x="3929040" y="356760"/>
            <a:chExt cx="4830840" cy="2143080"/>
          </a:xfrm>
        </p:grpSpPr>
        <p:cxnSp>
          <p:nvCxnSpPr>
            <p:cNvPr id="42" name="AutoShape 19"/>
            <p:cNvCxnSpPr/>
            <p:nvPr/>
          </p:nvCxnSpPr>
          <p:spPr>
            <a:xfrm>
              <a:off x="3929040" y="357480"/>
              <a:ext cx="3512160" cy="174348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43" name="Group 20"/>
            <p:cNvGrpSpPr/>
            <p:nvPr/>
          </p:nvGrpSpPr>
          <p:grpSpPr>
            <a:xfrm>
              <a:off x="6715800" y="356760"/>
              <a:ext cx="2044080" cy="2143080"/>
              <a:chOff x="6715800" y="356760"/>
              <a:chExt cx="2044080" cy="2143080"/>
            </a:xfrm>
          </p:grpSpPr>
          <p:sp>
            <p:nvSpPr>
              <p:cNvPr id="44" name="Freeform 21"/>
              <p:cNvSpPr/>
              <p:nvPr/>
            </p:nvSpPr>
            <p:spPr>
              <a:xfrm flipH="1" flipV="1" rot="5400000">
                <a:off x="6666120" y="405720"/>
                <a:ext cx="2143080" cy="2044080"/>
              </a:xfrm>
              <a:custGeom>
                <a:avLst/>
                <a:gdLst>
                  <a:gd name="textAreaLeft" fmla="*/ -360 w 2143080"/>
                  <a:gd name="textAreaRight" fmla="*/ 2143080 w 2143080"/>
                  <a:gd name="textAreaTop" fmla="*/ 360 h 2044080"/>
                  <a:gd name="textAreaBottom" fmla="*/ 2044800 h 2044080"/>
                </a:gdLst>
                <a:ahLst/>
                <a:rect l="textAreaLeft" t="textAreaTop" r="textAreaRight" b="textAreaBottom"/>
                <a:pathLst>
                  <a:path w="6418" h="6670">
                    <a:moveTo>
                      <a:pt x="6418" y="1185"/>
                    </a:moveTo>
                    <a:lnTo>
                      <a:pt x="6418" y="6670"/>
                    </a:lnTo>
                    <a:lnTo>
                      <a:pt x="1809" y="6669"/>
                    </a:lnTo>
                    <a:cubicBezTo>
                      <a:pt x="974" y="5889"/>
                      <a:pt x="0" y="3958"/>
                      <a:pt x="1407" y="1987"/>
                    </a:cubicBezTo>
                    <a:cubicBezTo>
                      <a:pt x="2830" y="0"/>
                      <a:pt x="5591" y="411"/>
                      <a:pt x="6418" y="118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22"/>
              <p:cNvSpPr/>
              <p:nvPr/>
            </p:nvSpPr>
            <p:spPr>
              <a:xfrm flipH="1" rot="10728000">
                <a:off x="7012800" y="499680"/>
                <a:ext cx="1582920" cy="170892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23"/>
              <p:cNvSpPr/>
              <p:nvPr/>
            </p:nvSpPr>
            <p:spPr>
              <a:xfrm flipH="1" rot="10728000">
                <a:off x="7072920" y="876960"/>
                <a:ext cx="1242720" cy="130464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600" spc="-1" strike="noStrike">
                    <a:solidFill>
                      <a:srgbClr val="ffffff"/>
                    </a:solidFill>
                    <a:latin typeface="Calibri"/>
                    <a:ea typeface="MS Gothic"/>
                  </a:rPr>
                  <a:t>Educat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600" spc="-1" strike="noStrike">
                    <a:solidFill>
                      <a:srgbClr val="ffffff"/>
                    </a:solidFill>
                    <a:latin typeface="Calibri"/>
                    <a:ea typeface="MS Gothic"/>
                  </a:rPr>
                  <a:t>Mysel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8 Rectángulo"/>
          <p:cNvSpPr/>
          <p:nvPr/>
        </p:nvSpPr>
        <p:spPr>
          <a:xfrm>
            <a:off x="571680" y="1928880"/>
            <a:ext cx="757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1f497d"/>
                </a:solidFill>
                <a:latin typeface="Calibri"/>
              </a:rPr>
              <a:t>The geography of illiteracy around the wor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File:Wars and Conflicts 1990-2008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6040" y="4653000"/>
            <a:ext cx="40464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What do this image suggest you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3 Imagen" descr="Imagen1.png"/>
          <p:cNvPicPr/>
          <p:nvPr/>
        </p:nvPicPr>
        <p:blipFill>
          <a:blip r:embed="rId1"/>
          <a:stretch/>
        </p:blipFill>
        <p:spPr>
          <a:xfrm>
            <a:off x="785880" y="2000160"/>
            <a:ext cx="76438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3 CuadroTexto"/>
          <p:cNvSpPr/>
          <p:nvPr/>
        </p:nvSpPr>
        <p:spPr>
          <a:xfrm>
            <a:off x="642960" y="12859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Arial"/>
              </a:rPr>
              <a:t>Child lab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4071960" y="12859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Arial"/>
              </a:rPr>
              <a:t>Explo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7 Conector recto de flecha"/>
          <p:cNvCxnSpPr/>
          <p:nvPr/>
        </p:nvCxnSpPr>
        <p:spPr>
          <a:xfrm>
            <a:off x="2857320" y="1499760"/>
            <a:ext cx="643320" cy="252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4" name="8 CuadroTexto"/>
          <p:cNvSpPr/>
          <p:nvPr/>
        </p:nvSpPr>
        <p:spPr>
          <a:xfrm>
            <a:off x="6858000" y="128592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Arial"/>
              </a:rPr>
              <a:t>Sla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10 Conector recto de flecha"/>
          <p:cNvCxnSpPr/>
          <p:nvPr/>
        </p:nvCxnSpPr>
        <p:spPr>
          <a:xfrm>
            <a:off x="6000480" y="1571760"/>
            <a:ext cx="500760" cy="216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6" name="12 Llamada de flecha hacia abajo"/>
          <p:cNvSpPr/>
          <p:nvPr/>
        </p:nvSpPr>
        <p:spPr>
          <a:xfrm>
            <a:off x="6500880" y="1928880"/>
            <a:ext cx="1857240" cy="1143000"/>
          </a:xfrm>
          <a:prstGeom prst="downArrowCallout">
            <a:avLst>
              <a:gd name="adj1" fmla="val 25007"/>
              <a:gd name="adj2" fmla="val 24998"/>
              <a:gd name="adj3" fmla="val 25000"/>
              <a:gd name="adj4" fmla="val 64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on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3 CuadroTexto"/>
          <p:cNvSpPr/>
          <p:nvPr/>
        </p:nvSpPr>
        <p:spPr>
          <a:xfrm>
            <a:off x="4143240" y="321480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No access to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4 CuadroTexto"/>
          <p:cNvSpPr/>
          <p:nvPr/>
        </p:nvSpPr>
        <p:spPr>
          <a:xfrm>
            <a:off x="4143240" y="39290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Illite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5 CuadroTexto"/>
          <p:cNvSpPr/>
          <p:nvPr/>
        </p:nvSpPr>
        <p:spPr>
          <a:xfrm>
            <a:off x="4143240" y="4643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Manipulated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8 CuadroTexto"/>
          <p:cNvSpPr/>
          <p:nvPr/>
        </p:nvSpPr>
        <p:spPr>
          <a:xfrm>
            <a:off x="4143240" y="542916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Socio economic weak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Illite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004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Illiteracy</a:t>
            </a: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Conti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1. Less than 10%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Latin Ame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2.  10- 20%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Oce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3.  20 – 40%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North Ame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4.  40 – 60 %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5.  60 – 80%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A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6.  More than 80%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254061"/>
                </a:solidFill>
                <a:latin typeface="Calibri"/>
              </a:rPr>
              <a:t>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14 Conector recto de flecha"/>
          <p:cNvCxnSpPr/>
          <p:nvPr/>
        </p:nvCxnSpPr>
        <p:spPr>
          <a:xfrm>
            <a:off x="2356920" y="2499840"/>
            <a:ext cx="3644280" cy="21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" name="16 Conector recto de flecha"/>
          <p:cNvCxnSpPr/>
          <p:nvPr/>
        </p:nvCxnSpPr>
        <p:spPr>
          <a:xfrm>
            <a:off x="2356920" y="2499840"/>
            <a:ext cx="364428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5" name="18 Conector recto de flecha"/>
          <p:cNvCxnSpPr/>
          <p:nvPr/>
        </p:nvCxnSpPr>
        <p:spPr>
          <a:xfrm>
            <a:off x="2428560" y="2499840"/>
            <a:ext cx="350100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6" name="20 Conector recto de flecha"/>
          <p:cNvCxnSpPr/>
          <p:nvPr/>
        </p:nvCxnSpPr>
        <p:spPr>
          <a:xfrm>
            <a:off x="1999800" y="4642920"/>
            <a:ext cx="400140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7" name="22 Conector recto de flecha"/>
          <p:cNvCxnSpPr/>
          <p:nvPr/>
        </p:nvCxnSpPr>
        <p:spPr>
          <a:xfrm>
            <a:off x="1928520" y="5357520"/>
            <a:ext cx="407268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8" name="24 Conector recto de flecha"/>
          <p:cNvCxnSpPr/>
          <p:nvPr/>
        </p:nvCxnSpPr>
        <p:spPr>
          <a:xfrm>
            <a:off x="1928520" y="5357880"/>
            <a:ext cx="407268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9" name="26 Conector recto de flecha"/>
          <p:cNvCxnSpPr/>
          <p:nvPr/>
        </p:nvCxnSpPr>
        <p:spPr>
          <a:xfrm>
            <a:off x="2571480" y="6143760"/>
            <a:ext cx="3429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0" name="28 Conector recto de flecha"/>
          <p:cNvCxnSpPr/>
          <p:nvPr/>
        </p:nvCxnSpPr>
        <p:spPr>
          <a:xfrm flipV="1">
            <a:off x="1857240" y="2499480"/>
            <a:ext cx="4144320" cy="142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1" name="30 Conector recto de flecha"/>
          <p:cNvCxnSpPr/>
          <p:nvPr/>
        </p:nvCxnSpPr>
        <p:spPr>
          <a:xfrm flipV="1">
            <a:off x="1785960" y="2428200"/>
            <a:ext cx="421560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20:59:09Z</dcterms:created>
  <dc:creator>Portatil</dc:creator>
  <dc:description/>
  <dc:language>en-US</dc:language>
  <cp:lastModifiedBy>Portatil</cp:lastModifiedBy>
  <dcterms:modified xsi:type="dcterms:W3CDTF">2009-12-16T12:41:51Z</dcterms:modified>
  <cp:revision>24</cp:revision>
  <dc:subject/>
  <dc:title>Diapositiva 1</dc:title>
</cp:coreProperties>
</file>