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510-6333-425F-AF25-65A254A2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DD8-DF9F-4B34-A899-50A58430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1F3-0866-4D66-9879-EB20586B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1CA-1B6C-443C-B513-95E313C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46F-B47E-465E-ADD0-503C94F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20A-0779-45EA-B5A1-EC7D788E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CE3-6ED7-4741-80E2-2960066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5E8-EB1F-4053-9684-DB42166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4F7-4749-41B9-A3EC-A6A9B8F2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205-8D4C-490B-A81C-D41D9B1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002-B845-4697-A3F6-A432038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179-C814-4B0B-9304-161A71F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B4CD-A3A7-4111-8F02-AD0DE0B913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Wars_and_Conflicts_1990-2008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375e"/>
                </a:solidFill>
                <a:latin typeface="Bookman Old Style"/>
              </a:rPr>
              <a:t>International conflicts in Post World War 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Imagen" descr="j0439516.jpg"/>
          <p:cNvPicPr/>
          <p:nvPr/>
        </p:nvPicPr>
        <p:blipFill>
          <a:blip r:embed="rId1"/>
          <a:stretch/>
        </p:blipFill>
        <p:spPr>
          <a:xfrm>
            <a:off x="1371600" y="3929040"/>
            <a:ext cx="64008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8"/>
          <p:cNvGrpSpPr/>
          <p:nvPr/>
        </p:nvGrpSpPr>
        <p:grpSpPr>
          <a:xfrm>
            <a:off x="4071960" y="285480"/>
            <a:ext cx="4830840" cy="2143080"/>
            <a:chOff x="4071960" y="285480"/>
            <a:chExt cx="4830840" cy="2143080"/>
          </a:xfrm>
        </p:grpSpPr>
        <p:cxnSp>
          <p:nvCxnSpPr>
            <p:cNvPr id="44" name="AutoShape 19"/>
            <p:cNvCxnSpPr/>
            <p:nvPr/>
          </p:nvCxnSpPr>
          <p:spPr>
            <a:xfrm>
              <a:off x="4071960" y="286200"/>
              <a:ext cx="3512160" cy="17434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5" name="Group 20"/>
            <p:cNvGrpSpPr/>
            <p:nvPr/>
          </p:nvGrpSpPr>
          <p:grpSpPr>
            <a:xfrm>
              <a:off x="6858720" y="285480"/>
              <a:ext cx="2044080" cy="2143080"/>
              <a:chOff x="6858720" y="285480"/>
              <a:chExt cx="2044080" cy="2143080"/>
            </a:xfrm>
          </p:grpSpPr>
          <p:sp>
            <p:nvSpPr>
              <p:cNvPr id="46" name="Freeform 21"/>
              <p:cNvSpPr/>
              <p:nvPr/>
            </p:nvSpPr>
            <p:spPr>
              <a:xfrm flipH="1" flipV="1" rot="5400000">
                <a:off x="6809040" y="334440"/>
                <a:ext cx="2143080" cy="2044080"/>
              </a:xfrm>
              <a:custGeom>
                <a:avLst/>
                <a:gdLst>
                  <a:gd name="textAreaLeft" fmla="*/ -360 w 2143080"/>
                  <a:gd name="textAreaRight" fmla="*/ 2143080 w 2143080"/>
                  <a:gd name="textAreaTop" fmla="*/ 360 h 2044080"/>
                  <a:gd name="textAreaBottom" fmla="*/ 2044800 h 204408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22"/>
              <p:cNvSpPr/>
              <p:nvPr/>
            </p:nvSpPr>
            <p:spPr>
              <a:xfrm flipH="1" rot="10728000">
                <a:off x="7155720" y="428400"/>
                <a:ext cx="1582920" cy="17089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23"/>
              <p:cNvSpPr/>
              <p:nvPr/>
            </p:nvSpPr>
            <p:spPr>
              <a:xfrm flipH="1" rot="10728000">
                <a:off x="7215840" y="805680"/>
                <a:ext cx="1242720" cy="1304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Educa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Mysel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lchemistpoonam.files.wordpress.com/2007/11/childlabour2.jpg"/>
          <p:cNvPicPr/>
          <p:nvPr/>
        </p:nvPicPr>
        <p:blipFill>
          <a:blip r:embed="rId1"/>
          <a:stretch/>
        </p:blipFill>
        <p:spPr>
          <a:xfrm>
            <a:off x="285840" y="1285920"/>
            <a:ext cx="1500120" cy="164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chemistpoonam.files.wordpress.com/2007/11/childlabour1.jpg"/>
          <p:cNvPicPr/>
          <p:nvPr/>
        </p:nvPicPr>
        <p:blipFill>
          <a:blip r:embed="rId2"/>
          <a:stretch/>
        </p:blipFill>
        <p:spPr>
          <a:xfrm>
            <a:off x="214200" y="3143160"/>
            <a:ext cx="2143080" cy="160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instablogs.com/media/2007/06/child-labor_18.jpg"/>
          <p:cNvPicPr/>
          <p:nvPr/>
        </p:nvPicPr>
        <p:blipFill>
          <a:blip r:embed="rId3"/>
          <a:stretch/>
        </p:blipFill>
        <p:spPr>
          <a:xfrm>
            <a:off x="357120" y="4786200"/>
            <a:ext cx="1238400" cy="18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bp2.blogger.com/_aWJcjy_FkLk/SBzJNWUrEOI/AAAAAAAABHM/BFv5aA4jOfE/s400/CHild+labour.jpg"/>
          <p:cNvPicPr/>
          <p:nvPr/>
        </p:nvPicPr>
        <p:blipFill>
          <a:blip r:embed="rId4"/>
          <a:stretch/>
        </p:blipFill>
        <p:spPr>
          <a:xfrm>
            <a:off x="7000920" y="857160"/>
            <a:ext cx="1542960" cy="18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fieldnotes.unicefusa.org/not-child-friendly.jpg"/>
          <p:cNvPicPr/>
          <p:nvPr/>
        </p:nvPicPr>
        <p:blipFill>
          <a:blip r:embed="rId5"/>
          <a:stretch/>
        </p:blipFill>
        <p:spPr>
          <a:xfrm>
            <a:off x="1928880" y="1071720"/>
            <a:ext cx="2135160" cy="127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http://blogginbanat.files.wordpress.com/2009/01/palestinians-in-shelter.jpg"/>
          <p:cNvPicPr/>
          <p:nvPr/>
        </p:nvPicPr>
        <p:blipFill>
          <a:blip r:embed="rId6"/>
          <a:stretch/>
        </p:blipFill>
        <p:spPr>
          <a:xfrm>
            <a:off x="6500880" y="2857680"/>
            <a:ext cx="2012760" cy="120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http://www.treehugger.com/art-room.jpg"/>
          <p:cNvPicPr/>
          <p:nvPr/>
        </p:nvPicPr>
        <p:blipFill>
          <a:blip r:embed="rId7"/>
          <a:stretch/>
        </p:blipFill>
        <p:spPr>
          <a:xfrm>
            <a:off x="2571840" y="5286240"/>
            <a:ext cx="2008080" cy="133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http://www.funeso.org/Leng/english/imagenes/Proyectos/Esc025.JPG"/>
          <p:cNvPicPr/>
          <p:nvPr/>
        </p:nvPicPr>
        <p:blipFill>
          <a:blip r:embed="rId8"/>
          <a:stretch/>
        </p:blipFill>
        <p:spPr>
          <a:xfrm>
            <a:off x="7342200" y="5214960"/>
            <a:ext cx="1587600" cy="13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lebanon1yw2.jpg"/>
          <p:cNvPicPr/>
          <p:nvPr/>
        </p:nvPicPr>
        <p:blipFill>
          <a:blip r:embed="rId9"/>
          <a:stretch/>
        </p:blipFill>
        <p:spPr>
          <a:xfrm>
            <a:off x="3357720" y="2643120"/>
            <a:ext cx="2181240" cy="192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ttp://www.infowars.net/pictures/july2006/260706bombing3.jpg"/>
          <p:cNvPicPr/>
          <p:nvPr/>
        </p:nvPicPr>
        <p:blipFill>
          <a:blip r:embed="rId10"/>
          <a:stretch/>
        </p:blipFill>
        <p:spPr>
          <a:xfrm>
            <a:off x="4500720" y="857160"/>
            <a:ext cx="2365200" cy="183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http://genderandhealth.ca/en/modules/poverty/imageContent/JBUHX86N.jpg"/>
          <p:cNvPicPr/>
          <p:nvPr/>
        </p:nvPicPr>
        <p:blipFill>
          <a:blip r:embed="rId11"/>
          <a:stretch/>
        </p:blipFill>
        <p:spPr>
          <a:xfrm>
            <a:off x="5214960" y="5214960"/>
            <a:ext cx="2000160" cy="1344600"/>
          </a:xfrm>
          <a:prstGeom prst="rect">
            <a:avLst/>
          </a:prstGeom>
          <a:ln w="0">
            <a:noFill/>
          </a:ln>
        </p:spPr>
      </p:pic>
      <p:sp>
        <p:nvSpPr>
          <p:cNvPr id="60" name="12 CuadroTexto"/>
          <p:cNvSpPr/>
          <p:nvPr/>
        </p:nvSpPr>
        <p:spPr>
          <a:xfrm>
            <a:off x="92880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o these images sugges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5 Diagrama" descr=""/>
          <p:cNvPicPr/>
          <p:nvPr/>
        </p:nvPicPr>
        <p:blipFill>
          <a:blip r:embed="rId12"/>
          <a:stretch/>
        </p:blipFill>
        <p:spPr>
          <a:xfrm>
            <a:off x="208080" y="781200"/>
            <a:ext cx="8654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71680" y="214200"/>
          <a:ext cx="7786440" cy="6299280"/>
        </p:xfrm>
        <a:graphic>
          <a:graphicData uri="http://schemas.openxmlformats.org/drawingml/2006/table">
            <a:tbl>
              <a:tblPr/>
              <a:tblGrid>
                <a:gridCol w="2595240"/>
                <a:gridCol w="2595600"/>
                <a:gridCol w="25956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FL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jor Belligerent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.Persian Gul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q and  the United 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2.Yugosl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snia-Herzegov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-Ser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3.Peruvian -Ecuador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uador and Pe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4.Alb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nia and Yugoslavia (Serb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5.Rw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undi and Rw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6.East Tim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nesia and New Guinea insur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7.Camero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and 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8.Northern Ir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q and Kurdish insurg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9.Erit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trea and Ye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0.Ir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Britain - Iraq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1.Koso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nia     and Yugosl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2.Democratic Republic of the Co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ola-Chad-Co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-Sudan-Zimbad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3.Chech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hnya   and 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254061"/>
                          </a:solidFill>
                          <a:latin typeface="Calibri"/>
                        </a:rPr>
                        <a:t>14.War on Terror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 (Taliban) – Al Qae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States, Great Britain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reas of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4 Imagen" descr="world_map.gif"/>
          <p:cNvPicPr/>
          <p:nvPr/>
        </p:nvPicPr>
        <p:blipFill>
          <a:blip r:embed="rId1"/>
          <a:stretch/>
        </p:blipFill>
        <p:spPr>
          <a:xfrm>
            <a:off x="571680" y="2571840"/>
            <a:ext cx="8324640" cy="3457440"/>
          </a:xfrm>
          <a:prstGeom prst="rect">
            <a:avLst/>
          </a:prstGeom>
          <a:ln w="0">
            <a:noFill/>
          </a:ln>
        </p:spPr>
      </p:pic>
      <p:sp>
        <p:nvSpPr>
          <p:cNvPr id="65" name="6 Conector"/>
          <p:cNvSpPr/>
          <p:nvPr/>
        </p:nvSpPr>
        <p:spPr>
          <a:xfrm>
            <a:off x="5429160" y="3571920"/>
            <a:ext cx="142920" cy="460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7 Conector"/>
          <p:cNvSpPr/>
          <p:nvPr/>
        </p:nvSpPr>
        <p:spPr>
          <a:xfrm flipH="1">
            <a:off x="4857120" y="3000240"/>
            <a:ext cx="142920" cy="7164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Conector"/>
          <p:cNvSpPr/>
          <p:nvPr/>
        </p:nvSpPr>
        <p:spPr>
          <a:xfrm>
            <a:off x="2071800" y="4500720"/>
            <a:ext cx="142920" cy="712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9 Conector"/>
          <p:cNvSpPr/>
          <p:nvPr/>
        </p:nvSpPr>
        <p:spPr>
          <a:xfrm>
            <a:off x="4857840" y="3214800"/>
            <a:ext cx="71280" cy="712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 Conector"/>
          <p:cNvSpPr/>
          <p:nvPr/>
        </p:nvSpPr>
        <p:spPr>
          <a:xfrm>
            <a:off x="5143680" y="4286160"/>
            <a:ext cx="71280" cy="14292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1 Conector"/>
          <p:cNvSpPr/>
          <p:nvPr/>
        </p:nvSpPr>
        <p:spPr>
          <a:xfrm>
            <a:off x="7858080" y="4429080"/>
            <a:ext cx="71640" cy="142920"/>
          </a:xfrm>
          <a:prstGeom prst="flowChartConnector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"/>
          <p:cNvSpPr/>
          <p:nvPr/>
        </p:nvSpPr>
        <p:spPr>
          <a:xfrm>
            <a:off x="4643280" y="4143240"/>
            <a:ext cx="142920" cy="142920"/>
          </a:xfrm>
          <a:prstGeom prst="flowChartConnector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3 Conector"/>
          <p:cNvSpPr/>
          <p:nvPr/>
        </p:nvSpPr>
        <p:spPr>
          <a:xfrm>
            <a:off x="5429160" y="3214800"/>
            <a:ext cx="142920" cy="712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4 Conector"/>
          <p:cNvSpPr/>
          <p:nvPr/>
        </p:nvSpPr>
        <p:spPr>
          <a:xfrm>
            <a:off x="5429160" y="3857760"/>
            <a:ext cx="71640" cy="460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5 Conector"/>
          <p:cNvSpPr/>
          <p:nvPr/>
        </p:nvSpPr>
        <p:spPr>
          <a:xfrm>
            <a:off x="4857840" y="4286160"/>
            <a:ext cx="71280" cy="17172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16 Conector"/>
          <p:cNvSpPr/>
          <p:nvPr/>
        </p:nvSpPr>
        <p:spPr>
          <a:xfrm>
            <a:off x="5143680" y="2786040"/>
            <a:ext cx="142560" cy="7164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7 Conector"/>
          <p:cNvSpPr/>
          <p:nvPr/>
        </p:nvSpPr>
        <p:spPr>
          <a:xfrm>
            <a:off x="5929200" y="3143160"/>
            <a:ext cx="71640" cy="4608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8 CuadroTexto"/>
          <p:cNvSpPr/>
          <p:nvPr/>
        </p:nvSpPr>
        <p:spPr>
          <a:xfrm>
            <a:off x="571680" y="1357200"/>
            <a:ext cx="8001000" cy="11890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1. </a:t>
            </a:r>
            <a:r>
              <a:rPr b="1" lang="en-GB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Persian Gulf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                           6.East Timor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11. Kos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2.   Yugoslavia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7. Cameroon                                                        12. Congo (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3.   Peruvian-Ecuadorian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8. Northern Iraq                                                   13. Chechny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4.   Albania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 9. Eritrea                                                               14. War on 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5.   Rwanda  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e46c0a"/>
                </a:solidFill>
                <a:latin typeface="Calibri"/>
              </a:rPr>
              <a:t>10. Iraq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9 Conector"/>
          <p:cNvSpPr/>
          <p:nvPr/>
        </p:nvSpPr>
        <p:spPr>
          <a:xfrm flipH="1">
            <a:off x="2356560" y="4643280"/>
            <a:ext cx="71640" cy="71640"/>
          </a:xfrm>
          <a:prstGeom prst="flowChartConnector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1 CuadroTexto"/>
          <p:cNvSpPr/>
          <p:nvPr/>
        </p:nvSpPr>
        <p:spPr>
          <a:xfrm>
            <a:off x="571680" y="6215040"/>
            <a:ext cx="82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497d"/>
                </a:solidFill>
                <a:latin typeface="Calibri"/>
              </a:rPr>
              <a:t>Label each area on the map with its corresponding name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File:Wars and Conflicts 1990-2008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357280"/>
            <a:ext cx="6643800" cy="2857680"/>
          </a:xfrm>
          <a:prstGeom prst="rect">
            <a:avLst/>
          </a:prstGeom>
          <a:ln w="0">
            <a:noFill/>
          </a:ln>
        </p:spPr>
      </p:pic>
      <p:sp>
        <p:nvSpPr>
          <p:cNvPr id="81" name="2 Rectángulo"/>
          <p:cNvSpPr/>
          <p:nvPr/>
        </p:nvSpPr>
        <p:spPr>
          <a:xfrm>
            <a:off x="1285920" y="85716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Countries where wars occurred between 1990 a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Cerrar llave"/>
          <p:cNvSpPr/>
          <p:nvPr/>
        </p:nvSpPr>
        <p:spPr>
          <a:xfrm>
            <a:off x="7429680" y="4286160"/>
            <a:ext cx="500040" cy="5716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571680"/>
              <a:gd name="textAreaBottom" fmla="*/ 5587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8"/>
                  <a:pt x="10800" y="1575"/>
                </a:cubicBezTo>
                <a:lnTo>
                  <a:pt x="10800" y="9225"/>
                </a:lnTo>
                <a:cubicBezTo>
                  <a:pt x="10800" y="10013"/>
                  <a:pt x="16200" y="10800"/>
                  <a:pt x="21600" y="10800"/>
                </a:cubicBezTo>
                <a:cubicBezTo>
                  <a:pt x="16200" y="10800"/>
                  <a:pt x="10800" y="11588"/>
                  <a:pt x="10800" y="12375"/>
                </a:cubicBezTo>
                <a:lnTo>
                  <a:pt x="10800" y="20025"/>
                </a:lnTo>
                <a:cubicBezTo>
                  <a:pt x="10800" y="2081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8 Abrir llave"/>
          <p:cNvSpPr/>
          <p:nvPr/>
        </p:nvSpPr>
        <p:spPr>
          <a:xfrm>
            <a:off x="1785960" y="2428920"/>
            <a:ext cx="214200" cy="7858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1 Abrir llave"/>
          <p:cNvSpPr/>
          <p:nvPr/>
        </p:nvSpPr>
        <p:spPr>
          <a:xfrm>
            <a:off x="4000680" y="3214800"/>
            <a:ext cx="214200" cy="1428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428480"/>
              <a:gd name="textAreaBottom" fmla="*/ 142308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2 Abrir llave"/>
          <p:cNvSpPr/>
          <p:nvPr/>
        </p:nvSpPr>
        <p:spPr>
          <a:xfrm>
            <a:off x="2286000" y="3357720"/>
            <a:ext cx="285840" cy="71424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14240"/>
              <a:gd name="textAreaBottom" fmla="*/ 7070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3 Abrir llave"/>
          <p:cNvSpPr/>
          <p:nvPr/>
        </p:nvSpPr>
        <p:spPr>
          <a:xfrm>
            <a:off x="2643120" y="4000680"/>
            <a:ext cx="214560" cy="107136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071360"/>
              <a:gd name="textAreaBottom" fmla="*/ 106596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Abrir llave"/>
          <p:cNvSpPr/>
          <p:nvPr/>
        </p:nvSpPr>
        <p:spPr>
          <a:xfrm>
            <a:off x="4214880" y="2786040"/>
            <a:ext cx="71280" cy="42876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428760"/>
              <a:gd name="textAreaBottom" fmla="*/ 42696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7 Cerrar llave"/>
          <p:cNvSpPr/>
          <p:nvPr/>
        </p:nvSpPr>
        <p:spPr>
          <a:xfrm>
            <a:off x="7143840" y="2571840"/>
            <a:ext cx="285840" cy="1643040"/>
          </a:xfrm>
          <a:custGeom>
            <a:avLst/>
            <a:gdLst>
              <a:gd name="textAreaLeft" fmla="*/ 0 w 285840"/>
              <a:gd name="textAreaRight" fmla="*/ 103320 w 2858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Political map of th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aularagon.org/files/espa/atlas/Mundo1.jpg"/>
          <p:cNvPicPr/>
          <p:nvPr/>
        </p:nvPicPr>
        <p:blipFill>
          <a:blip r:embed="rId1"/>
          <a:stretch/>
        </p:blipFill>
        <p:spPr>
          <a:xfrm>
            <a:off x="142920" y="1571760"/>
            <a:ext cx="9001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5:07Z</dcterms:created>
  <dc:creator>Portatil</dc:creator>
  <dc:description/>
  <dc:language>en-US</dc:language>
  <cp:lastModifiedBy>Portatil</cp:lastModifiedBy>
  <dcterms:modified xsi:type="dcterms:W3CDTF">2009-12-15T20:58:43Z</dcterms:modified>
  <cp:revision>39</cp:revision>
  <dc:subject/>
  <dc:title>International conflicts in Post World War II</dc:title>
</cp:coreProperties>
</file>