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4.png" ContentType="image/png"/>
  <Override PartName="/ppt/media/image10.jpeg" ContentType="image/jpeg"/>
  <Override PartName="/ppt/media/image1.png" ContentType="image/png"/>
  <Override PartName="/ppt/media/image29.wmf" ContentType="image/x-wmf"/>
  <Override PartName="/ppt/media/image2.png" ContentType="image/png"/>
  <Override PartName="/ppt/media/image23.wmf" ContentType="image/x-wmf"/>
  <Override PartName="/ppt/media/image38.png" ContentType="image/png"/>
  <Override PartName="/ppt/media/image9.jpeg" ContentType="image/jpeg"/>
  <Override PartName="/ppt/media/image37.png" ContentType="image/png"/>
  <Override PartName="/ppt/media/image40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42.png" ContentType="image/png"/>
  <Override PartName="/ppt/media/image43.wmf" ContentType="image/x-wmf"/>
  <Override PartName="/ppt/media/image32.wmf" ContentType="image/x-wmf"/>
  <Override PartName="/ppt/media/image7.wmf" ContentType="image/x-wmf"/>
  <Override PartName="/ppt/media/image12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7.wmf" ContentType="image/x-wmf"/>
  <Override PartName="/ppt/media/image28.png" ContentType="image/png"/>
  <Override PartName="/ppt/media/image31.wmf" ContentType="image/x-wmf"/>
  <Override PartName="/ppt/media/image8.wmf" ContentType="image/x-wmf"/>
  <Override PartName="/ppt/media/image13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4.png" ContentType="image/png"/>
  <Override PartName="/ppt/media/image34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10E-E830-42C9-A4A7-45E766A56CE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41400" y="4379760"/>
            <a:ext cx="5019840" cy="40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000" spc="-1" strike="noStrike">
                <a:solidFill>
                  <a:srgbClr val="000000"/>
                </a:solidFill>
                <a:latin typeface="Times New Roman"/>
              </a:rPr>
              <a:t>La visió</a:t>
            </a: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 d’una organització és una imatge compartida pels seus membres sobre què volen ser i com aconseguir-h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La visió és la meta cap a la qual s’orienta la missió i a on va adreçada la política de l’organitzaci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La visió ha de recollir els objectius a mitjà i llarg termini de l’organització, és a dir, com vol veure’s en relació amb la satisfacció dels seus usuaris actuals i potencials, respecte dels seus serveis actuals i futurs, respecte de la satisfacció del seu personal i respecte del seu impacte a la societat, i quins resultats vol assolir en els propers any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000" spc="-1" strike="noStrike">
                <a:solidFill>
                  <a:srgbClr val="000000"/>
                </a:solidFill>
                <a:latin typeface="Times New Roman"/>
              </a:rPr>
              <a:t>La missi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a)     Ha d’explicar el que l’organització fa i quina és la seva raó de ser, fa referència al present. La missió ha de donar resposta a tres qüestions: Quin tipus de necessitat vol satisfer l’organització? A qui?  Com? (Derek F. Abell 1980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b)  “Es la razón de ser, el campo de acción de la institu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*La misión debe ser conocida y compartida por todos los integrantes de la organización, de manera que  promueva la solidaridad con ella, la cohesión del grupo y el sentido de superación “ (MANUAL PLANIFICACION ESTRATEGICA. Universitat de Los Lagos, Xile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000" spc="-1" strike="noStrike">
                <a:solidFill>
                  <a:srgbClr val="000000"/>
                </a:solidFill>
                <a:latin typeface="Times New Roman"/>
              </a:rPr>
              <a:t>Els val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a)     Una organització no és una màquina sinó un organisme viu, i com tal té un sentit col·lectiu d’identitat (…) una comprensió compartida del que és l’organització (Nonaka 199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000000"/>
                </a:solidFill>
                <a:latin typeface="Times New Roman"/>
              </a:rPr>
              <a:t>b)     Cada organització és el producte de com els seus membres pensen i interactuen (Senge P.M., et al. 1994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98440" y="7081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1040" y="4377960"/>
            <a:ext cx="5016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’ha de pensar en com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dentificar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les oportunitats i amenaces per l’esc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98440" y="7081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41040" y="4377960"/>
            <a:ext cx="5016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’ha de pensar en com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dentificar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els punts forts i febles de l’escola. Aquesta anàlisi fa referència al què fa l’escola, com ho fa, quins resultats i nivell de satisfacció obté, a quins costos?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 partir de la AGD, informació de les avaluacions internes i externes del centre, resultats acadèmics, opinions de la comunitat educativa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3600" y="4313160"/>
            <a:ext cx="6102360" cy="4586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L’ANÁLISI DAFO: DIAGNOSI I VALORA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AGNOSI (De la visió individual a la visió compart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En primer lloc caldrà fer-ne un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cull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 de tots els documents que contenen la informació (VISIÓ PANORÀMICA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nforme AG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Altres informes d’avaluació de 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Resultats 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Resultats acadè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Anàli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Estudis de l’ent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Opinions dels diferents sectors (actes, resums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esprés caldrà fer-ne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l filtrat i la agrupació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 dels descriptors en relació amb els diferents àm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QUINS?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s més relacionats amb els objectius prioritzats pel D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Programa educatiu 2004/07) : Reduir el fracàs escolar,avançar en la cohessió socia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s més relacionats amb els valors del centre (PEC)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s més relacionats amb L’ENTORN.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s més relacionats amb les FITES D’È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?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Fent agrupacions de descriptors per àmbits d’actuació (ens facilitarà la construcció del MAPA ESTRATÈGIC: selecció i interelació dels objectius estratèg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Finalment caldrà efectuar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 priorització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 (debatre i pactar) dels descriptors més significatius i prioritzar-los (VISIÓ COMPARTID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41400" y="4378320"/>
            <a:ext cx="501984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Què vol dir gestion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25440" y="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241200" y="3098880"/>
            <a:ext cx="6616800" cy="60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e Què depèn l’èxit del sistema educatiu? Dels agents educat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Factors cla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cc3300"/>
                </a:solidFill>
                <a:latin typeface="Times New Roman"/>
              </a:rPr>
              <a:t>El nivell socioeconòmic de les famílies , El projecte educatiu, La capacitat d’autoorganització i decidir, La direcció de l’escola: capacitat de lideratge i aptitud, El professorat: Actitud, aptitud i treball en equip, El clima a l’escola, Dotació de recursos equit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La direcció és l’activitat  de conducció i constant adaptació d’una organització, mitjançant un programa  d’acció  que té per finalitat  assolir els objectius previ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Facilitador del treball de l’escola, catalitzador dels resul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ls resultats a l’escola també depèn del treball del SEI, si el resultat fos el mateix amb o sense SEI aquest no faria f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B1D-DCDB-47B1-924E-5581F69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CD2-AC14-4045-995F-D088DC9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6D8-DE7D-4739-9789-36DFA355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336-3902-43D8-B63D-DB059DC8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E75C-5F9E-46E1-9452-0CC1898A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0E9D-CF6B-4FEB-A34B-9BC959B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411E-C781-43D1-B1FA-791D9B0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9CC7-3AEF-4F5E-A6DF-91D7AE43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A9CA-358B-4BAE-A753-CF24B7F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C82D-B96A-42E8-826D-3097A6B1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D751-EDC6-4D6A-A587-00D8A23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AE7-A41F-47F6-B55B-EEA0593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888D-FE84-41E6-93F4-642F53F7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388A-FFE9-405A-8BE2-8EAA747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7E96-4F5F-4960-AAE1-CD6ECB9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144-5AAD-4167-9C96-FAFD6364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797-A2F4-44EC-9FAE-25BC1BFF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87D-0F38-4A99-8E46-47F37A71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035-8DC8-4345-A8C5-EF600D02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428-0C95-4C57-B4DA-5104440A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167-9D92-4DDC-8F5E-D46D4BC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1F6-CF65-4938-9C52-E002049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FE0-6090-489D-841A-219E1BC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D34-C4E3-4FC3-9081-F1F0A50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125-BF53-4B53-86CD-E5A04AE1E96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1AC-7BB2-4B81-A3AC-FC1A8368C4F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18.wmf"/><Relationship Id="rId3" Type="http://schemas.openxmlformats.org/officeDocument/2006/relationships/image" Target="../media/image37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DIRECTORS I DIRECTORES</a:t>
            </a:r>
            <a:br>
              <a:rPr sz="2000"/>
            </a:b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CENTRES PÚBLICS DE PRIMÀRIA I SECUNDÀRIA</a:t>
            </a:r>
            <a:br>
              <a:rPr sz="2000"/>
            </a:b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 ANOIA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0" lang="ca-ES" sz="2400" spc="-1" strike="noStrike" u="sng">
                <a:solidFill>
                  <a:srgbClr val="004c2b"/>
                </a:solidFill>
                <a:uFillTx/>
                <a:latin typeface="Verdana"/>
              </a:rPr>
              <a:t>LA PLANIFICACIÓ ESTRATÈGICA PER A L’AUTONOMIA DELS CENTRES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419360" y="56386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Verdana"/>
              </a:rPr>
              <a:t>Febrer-abril de 2007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0560" y="1341360"/>
            <a:ext cx="324000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b3e1b3"/>
                </a:solidFill>
                <a:latin typeface="Tahoma"/>
              </a:rPr>
              <a:t>Qui i com som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b3e1b3"/>
                </a:solidFill>
                <a:latin typeface="Tahoma"/>
              </a:rPr>
              <a:t>On som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0560" y="3719520"/>
            <a:ext cx="3240000" cy="100800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b3e1b3"/>
                </a:solidFill>
                <a:latin typeface="Tahoma"/>
              </a:rPr>
              <a:t>Com podem aconseguir-ho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0560" y="4799160"/>
            <a:ext cx="3240000" cy="100800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b3e1b3"/>
                </a:solidFill>
                <a:latin typeface="Tahoma"/>
              </a:rPr>
              <a:t>Què necessitem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424720" cy="61128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004c2b"/>
                </a:solidFill>
                <a:latin typeface="Times New Roman"/>
              </a:rPr>
              <a:t>QÜESTIONS A PLANTEJAR-NE PER DONAR RESPOSTA AL REPTE A TRAVÈS D’UN PLA ESTRATÈGIC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5922200">
            <a:off x="7667280" y="4725360"/>
            <a:ext cx="1152360" cy="43164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5922200">
            <a:off x="7530840" y="3376440"/>
            <a:ext cx="1260360" cy="431640"/>
          </a:xfrm>
          <a:custGeom>
            <a:avLst/>
            <a:gdLst>
              <a:gd name="textAreaLeft" fmla="*/ 220320 w 1260360"/>
              <a:gd name="textAreaRight" fmla="*/ 913680 w 1260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93840" y="2025720"/>
            <a:ext cx="3816720" cy="1622520"/>
            <a:chOff x="3993840" y="2025720"/>
            <a:chExt cx="3816720" cy="1622520"/>
          </a:xfrm>
        </p:grpSpPr>
        <p:sp>
          <p:nvSpPr>
            <p:cNvPr id="246" name=""/>
            <p:cNvSpPr/>
            <p:nvPr/>
          </p:nvSpPr>
          <p:spPr>
            <a:xfrm>
              <a:off x="4570560" y="2639880"/>
              <a:ext cx="3240000" cy="1008360"/>
            </a:xfrm>
            <a:prstGeom prst="rect">
              <a:avLst/>
            </a:prstGeom>
            <a:solidFill>
              <a:srgbClr val="e7f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b3e1b3"/>
                  </a:solidFill>
                  <a:latin typeface="Tahoma"/>
                </a:rPr>
                <a:t>On volem arribar?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3579480" y="2440080"/>
              <a:ext cx="1260360" cy="431640"/>
            </a:xfrm>
            <a:custGeom>
              <a:avLst/>
              <a:gdLst>
                <a:gd name="textAreaLeft" fmla="*/ 220320 w 1260360"/>
                <a:gd name="textAreaRight" fmla="*/ 913680 w 126036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20" y="1484280"/>
            <a:ext cx="2344680" cy="4565520"/>
            <a:chOff x="250920" y="1484280"/>
            <a:chExt cx="2344680" cy="456552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50920" y="4797360"/>
              <a:ext cx="23446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849240" y="1484280"/>
              <a:ext cx="8413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 rot="16200000">
              <a:off x="107640" y="3210840"/>
              <a:ext cx="2374920" cy="936720"/>
            </a:xfrm>
            <a:prstGeom prst="leftRightArrow">
              <a:avLst>
                <a:gd name="adj1" fmla="val 50000"/>
                <a:gd name="adj2" fmla="val 50472"/>
              </a:avLst>
            </a:prstGeom>
            <a:solidFill>
              <a:srgbClr val="e1ffff">
                <a:alpha val="66000"/>
              </a:srgbClr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400" spc="-1" strike="noStrike">
                  <a:solidFill>
                    <a:srgbClr val="66ff33"/>
                  </a:solidFill>
                  <a:latin typeface="Tahoma"/>
                </a:rPr>
                <a:t>EL REPT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443400" y="4997520"/>
            <a:ext cx="984240" cy="1095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819520" y="32194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LLORA CONTINU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4080" y="121932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valua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 rot="20020800">
            <a:off x="1825560" y="1523520"/>
            <a:ext cx="1541520" cy="30481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08" stAng="10800000" swAng="5400000"/>
                <a:lnTo>
                  <a:pt x="12427" y="355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606"/>
                </a:lnTo>
                <a:lnTo>
                  <a:pt x="12427" y="8606"/>
                </a:lnTo>
                <a:arcTo wR="7373" hR="3554" stAng="16200000" swAng="-5400000"/>
                <a:lnTo>
                  <a:pt x="5054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883120" y="1300320"/>
            <a:ext cx="2992320" cy="2627640"/>
            <a:chOff x="5883120" y="1300320"/>
            <a:chExt cx="2992320" cy="2627640"/>
          </a:xfrm>
        </p:grpSpPr>
        <p:sp>
          <p:nvSpPr>
            <p:cNvPr id="259" name=""/>
            <p:cNvSpPr txBox="1"/>
            <p:nvPr/>
          </p:nvSpPr>
          <p:spPr>
            <a:xfrm rot="21502200">
              <a:off x="5893200" y="3123720"/>
              <a:ext cx="2971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Planificar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18000">
              <a:off x="6381720" y="1151640"/>
              <a:ext cx="1295280" cy="1600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71840" y="3620520"/>
            <a:ext cx="4921200" cy="2578680"/>
            <a:chOff x="2571840" y="3620520"/>
            <a:chExt cx="4921200" cy="2578680"/>
          </a:xfrm>
        </p:grpSpPr>
        <p:sp>
          <p:nvSpPr>
            <p:cNvPr id="262" name=""/>
            <p:cNvSpPr txBox="1"/>
            <p:nvPr/>
          </p:nvSpPr>
          <p:spPr>
            <a:xfrm rot="19726800">
              <a:off x="2584800" y="4690800"/>
              <a:ext cx="281916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Realitzar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1949000">
              <a:off x="5970960" y="3788280"/>
              <a:ext cx="1295280" cy="1600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71360" y="884160"/>
            <a:ext cx="883944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240" y="1295280"/>
            <a:ext cx="2398320" cy="4682520"/>
            <a:chOff x="228240" y="1295280"/>
            <a:chExt cx="2398320" cy="4682520"/>
          </a:xfrm>
        </p:grpSpPr>
        <p:sp>
          <p:nvSpPr>
            <p:cNvPr id="266" name=""/>
            <p:cNvSpPr/>
            <p:nvPr/>
          </p:nvSpPr>
          <p:spPr>
            <a:xfrm flipH="1">
              <a:off x="228240" y="4722120"/>
              <a:ext cx="359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28600" y="1295280"/>
              <a:ext cx="2397960" cy="4682520"/>
              <a:chOff x="228600" y="1295280"/>
              <a:chExt cx="2397960" cy="4682520"/>
            </a:xfrm>
          </p:grpSpPr>
          <p:sp>
            <p:nvSpPr>
              <p:cNvPr id="268" name=""/>
              <p:cNvSpPr/>
              <p:nvPr/>
            </p:nvSpPr>
            <p:spPr>
              <a:xfrm>
                <a:off x="228600" y="1295280"/>
                <a:ext cx="0" cy="46825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600" y="1349640"/>
                <a:ext cx="23979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8600" y="2443680"/>
                <a:ext cx="48024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228600" y="5949000"/>
                <a:ext cx="59904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2579760" y="3622680"/>
            <a:ext cx="1052280" cy="1725480"/>
          </a:xfrm>
          <a:prstGeom prst="flowChartProcess">
            <a:avLst/>
          </a:prstGeom>
          <a:solidFill>
            <a:srgbClr val="ffffcc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ff6600"/>
                </a:solidFill>
                <a:latin typeface="Times New Roman"/>
              </a:rPr>
              <a:t>Els valors</a:t>
            </a:r>
            <a:r>
              <a:rPr b="1" i="1" lang="ca-E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800" spc="-1" strike="noStrike">
                <a:solidFill>
                  <a:srgbClr val="333333"/>
                </a:solidFill>
                <a:latin typeface="Verdana"/>
              </a:rPr>
              <a:t>Són els principis que defineixen  la forma d’actuar de </a:t>
            </a:r>
            <a:r>
              <a:rPr b="0" lang="es-ES_tradnl" sz="800" spc="-1" strike="noStrike">
                <a:solidFill>
                  <a:srgbClr val="333333"/>
                </a:solidFill>
                <a:latin typeface="Verdana"/>
              </a:rPr>
              <a:t>l’organització</a:t>
            </a:r>
            <a:r>
              <a:rPr b="0" lang="ca-ES" sz="800" spc="-1" strike="noStrike">
                <a:solidFill>
                  <a:srgbClr val="333333"/>
                </a:solidFill>
                <a:latin typeface="Verdana"/>
              </a:rPr>
              <a:t>. Els valors clarifiquen i orienten la solució dels problemes i  la direcció de </a:t>
            </a:r>
            <a:r>
              <a:rPr b="0" lang="es-ES_tradnl" sz="800" spc="-1" strike="noStrike">
                <a:solidFill>
                  <a:srgbClr val="333333"/>
                </a:solidFill>
                <a:latin typeface="Verdana"/>
              </a:rPr>
              <a:t>l’organització</a:t>
            </a:r>
            <a:r>
              <a:rPr b="0" lang="ca-ES" sz="800" spc="-1" strike="noStrike">
                <a:solidFill>
                  <a:srgbClr val="333333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1717560"/>
            <a:ext cx="1980720" cy="2930400"/>
            <a:chOff x="685800" y="1717560"/>
            <a:chExt cx="1980720" cy="2930400"/>
          </a:xfrm>
        </p:grpSpPr>
        <p:sp>
          <p:nvSpPr>
            <p:cNvPr id="274" name=""/>
            <p:cNvSpPr/>
            <p:nvPr/>
          </p:nvSpPr>
          <p:spPr>
            <a:xfrm>
              <a:off x="685800" y="1717560"/>
              <a:ext cx="1414080" cy="2930400"/>
            </a:xfrm>
            <a:prstGeom prst="flowChartProcess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200" spc="-1" strike="noStrike">
                  <a:solidFill>
                    <a:srgbClr val="ff6600"/>
                  </a:solidFill>
                  <a:latin typeface="Verdana"/>
                </a:rPr>
                <a:t>Condicions internes i externes: 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200" spc="-1" strike="noStrike">
                  <a:solidFill>
                    <a:srgbClr val="ff6600"/>
                  </a:solidFill>
                  <a:latin typeface="Verdana"/>
                </a:rPr>
                <a:t>Investigar i avalu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200" spc="-1" strike="noStrike">
                  <a:solidFill>
                    <a:srgbClr val="333333"/>
                  </a:solidFill>
                  <a:latin typeface="Verdana"/>
                </a:rPr>
                <a:t>Internament les capacitats i externament la previsió de l’entorn per a identificar problemes estratègics als que s’enfronta  </a:t>
              </a:r>
              <a:r>
                <a:rPr b="0" lang="es-ES_tradnl" sz="1200" spc="-1" strike="noStrike">
                  <a:solidFill>
                    <a:srgbClr val="333333"/>
                  </a:solidFill>
                  <a:latin typeface="Verdana"/>
                </a:rPr>
                <a:t>l’organització</a:t>
              </a:r>
              <a:r>
                <a:rPr b="0" lang="ca-ES" sz="1200" spc="-1" strike="noStrike">
                  <a:solidFill>
                    <a:srgbClr val="333333"/>
                  </a:solidFill>
                  <a:latin typeface="Verdana"/>
                </a:rPr>
                <a:t>.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99880" y="2045520"/>
              <a:ext cx="566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267080" y="2448000"/>
            <a:ext cx="4724640" cy="981000"/>
            <a:chOff x="4267080" y="2448000"/>
            <a:chExt cx="4724640" cy="981000"/>
          </a:xfrm>
        </p:grpSpPr>
        <p:sp>
          <p:nvSpPr>
            <p:cNvPr id="277" name=""/>
            <p:cNvSpPr/>
            <p:nvPr/>
          </p:nvSpPr>
          <p:spPr>
            <a:xfrm flipH="1">
              <a:off x="4267080" y="2640240"/>
              <a:ext cx="4724640" cy="788760"/>
            </a:xfrm>
            <a:prstGeom prst="flowChartProcess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Les estratègie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Els objectius s’aconsegueixen  a través de les estratègies. Les  estratègies són grans declaracions de com es poden aconseguir els objectius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. L’organització 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tindrà entre tres i cinc estratègies per cadascun dels objectius.  Les estratègies es concreten en iniciatives.  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8680" y="2448000"/>
              <a:ext cx="0" cy="223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880" y="1219320"/>
            <a:ext cx="897120" cy="1247760"/>
            <a:chOff x="2666880" y="1219320"/>
            <a:chExt cx="897120" cy="1247760"/>
          </a:xfrm>
        </p:grpSpPr>
        <p:sp>
          <p:nvSpPr>
            <p:cNvPr id="280" name=""/>
            <p:cNvSpPr/>
            <p:nvPr/>
          </p:nvSpPr>
          <p:spPr>
            <a:xfrm>
              <a:off x="2666880" y="1219320"/>
              <a:ext cx="897120" cy="1012680"/>
            </a:xfrm>
            <a:prstGeom prst="flowChartProcess">
              <a:avLst/>
            </a:prstGeom>
            <a:solidFill>
              <a:srgbClr val="ffffcc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200" spc="-1" strike="noStrike">
                  <a:solidFill>
                    <a:srgbClr val="ff6600"/>
                  </a:solidFill>
                  <a:latin typeface="Times New Roman"/>
                </a:rPr>
                <a:t>La Visió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É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s el que 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l’organització  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vol ser en el futur.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116520" y="2243160"/>
              <a:ext cx="0" cy="22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67080" y="4452840"/>
            <a:ext cx="4724640" cy="900360"/>
            <a:chOff x="4267080" y="4452840"/>
            <a:chExt cx="4724640" cy="900360"/>
          </a:xfrm>
        </p:grpSpPr>
        <p:sp>
          <p:nvSpPr>
            <p:cNvPr id="283" name=""/>
            <p:cNvSpPr/>
            <p:nvPr/>
          </p:nvSpPr>
          <p:spPr>
            <a:xfrm>
              <a:off x="4267080" y="4610160"/>
              <a:ext cx="4724640" cy="743040"/>
            </a:xfrm>
            <a:prstGeom prst="rect">
              <a:avLst/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200" spc="-1" strike="noStrike">
                  <a:solidFill>
                    <a:srgbClr val="0000cc"/>
                  </a:solidFill>
                  <a:latin typeface="Arial"/>
                </a:rPr>
                <a:t>Els plans de trebal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Els plans de treball  identifiquen  les tasques necessàries per aplicar  cadascuna de les iniciatives, identifiquen qui i quan es farà  amb la finalitat d’assolir els objectius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28680" y="4452840"/>
              <a:ext cx="0" cy="2257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267080" y="3440160"/>
            <a:ext cx="4724640" cy="1014120"/>
            <a:chOff x="4267080" y="3440160"/>
            <a:chExt cx="4724640" cy="1014120"/>
          </a:xfrm>
        </p:grpSpPr>
        <p:sp>
          <p:nvSpPr>
            <p:cNvPr id="286" name=""/>
            <p:cNvSpPr/>
            <p:nvPr/>
          </p:nvSpPr>
          <p:spPr>
            <a:xfrm>
              <a:off x="4267080" y="3632040"/>
              <a:ext cx="4724640" cy="822240"/>
            </a:xfrm>
            <a:prstGeom prst="flowChartProcess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200" spc="-1" strike="noStrike">
                  <a:solidFill>
                    <a:srgbClr val="0000cc"/>
                  </a:solidFill>
                  <a:latin typeface="Arial"/>
                </a:rPr>
                <a:t>Les iniciatives/ activitat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Les iniciatives són els  programes específics, projectes, o activitats  que s’aplicaran durant el cicle de planificació com 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a 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aplicació de les estratègies per aconseguir els objectius.  Les iniciatives són les aportacions dels grups, equips o persones  que són responsables de la seva aplicació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8680" y="3440160"/>
              <a:ext cx="0" cy="2253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505320" y="1676520"/>
            <a:ext cx="5486040" cy="2742480"/>
            <a:chOff x="3505320" y="1676520"/>
            <a:chExt cx="5486040" cy="2742480"/>
          </a:xfrm>
        </p:grpSpPr>
        <p:sp>
          <p:nvSpPr>
            <p:cNvPr id="289" name=""/>
            <p:cNvSpPr/>
            <p:nvPr/>
          </p:nvSpPr>
          <p:spPr>
            <a:xfrm>
              <a:off x="4289040" y="1763280"/>
              <a:ext cx="4702320" cy="686160"/>
            </a:xfrm>
            <a:prstGeom prst="flowChartProcess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200" spc="-1" strike="noStrike" u="sng">
                  <a:solidFill>
                    <a:srgbClr val="339933"/>
                  </a:solidFill>
                  <a:uFillTx/>
                  <a:latin typeface="Arial"/>
                </a:rPr>
                <a:t>Els objectiu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Els  objectius són grans declaracions  que 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l’organització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 espera aconseguir. L’organització tindrà entre cinc i set  grans objectius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.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05320" y="1676520"/>
              <a:ext cx="783360" cy="2742480"/>
              <a:chOff x="3505320" y="1676520"/>
              <a:chExt cx="783360" cy="2742480"/>
            </a:xfrm>
          </p:grpSpPr>
          <p:sp>
            <p:nvSpPr>
              <p:cNvPr id="291" name=""/>
              <p:cNvSpPr/>
              <p:nvPr/>
            </p:nvSpPr>
            <p:spPr>
              <a:xfrm>
                <a:off x="3505320" y="1676520"/>
                <a:ext cx="335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05320" y="2710440"/>
                <a:ext cx="335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43920" y="4396680"/>
                <a:ext cx="2390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40840" y="2140200"/>
                <a:ext cx="44784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840840" y="1676520"/>
                <a:ext cx="0" cy="27424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797040" y="5367240"/>
            <a:ext cx="8194680" cy="838080"/>
            <a:chOff x="797040" y="5367240"/>
            <a:chExt cx="8194680" cy="838080"/>
          </a:xfrm>
        </p:grpSpPr>
        <p:sp>
          <p:nvSpPr>
            <p:cNvPr id="297" name=""/>
            <p:cNvSpPr/>
            <p:nvPr/>
          </p:nvSpPr>
          <p:spPr>
            <a:xfrm>
              <a:off x="797040" y="5672160"/>
              <a:ext cx="8194680" cy="533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200" spc="-1" strike="noStrike">
                  <a:solidFill>
                    <a:srgbClr val="ff6600"/>
                  </a:solidFill>
                  <a:latin typeface="Arial Unicode MS"/>
                </a:rPr>
                <a:t>Els resultat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Els resultats són el coneixement des canvis obtinguts en les finalitats,  objectius, estratègies i plans de treball 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53672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52280" y="222120"/>
            <a:ext cx="780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LA PLANIFICACIÓ ESTRATÈGIC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81080"/>
            <a:ext cx="914400" cy="609480"/>
          </a:xfrm>
          <a:solidFill>
            <a:srgbClr val="ff993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On som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39040" y="1066680"/>
            <a:ext cx="1584360" cy="609840"/>
          </a:xfrm>
          <a:solidFill>
            <a:srgbClr val="33cc33">
              <a:alpha val="49000"/>
            </a:srgbClr>
          </a:solidFill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On volem arribar?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14560" y="836640"/>
            <a:ext cx="2847600" cy="4789440"/>
            <a:chOff x="1114560" y="836640"/>
            <a:chExt cx="2847600" cy="4789440"/>
          </a:xfrm>
        </p:grpSpPr>
        <p:sp>
          <p:nvSpPr>
            <p:cNvPr id="303" name=""/>
            <p:cNvSpPr/>
            <p:nvPr/>
          </p:nvSpPr>
          <p:spPr>
            <a:xfrm>
              <a:off x="2156760" y="836640"/>
              <a:ext cx="1805400" cy="47894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4560" y="4726080"/>
              <a:ext cx="789840" cy="604800"/>
            </a:xfrm>
            <a:solidFill>
              <a:srgbClr val="ff9933">
                <a:alpha val="49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Qui som?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90920" y="2514600"/>
            <a:ext cx="1001160" cy="1125360"/>
            <a:chOff x="2590920" y="2514600"/>
            <a:chExt cx="1001160" cy="1125360"/>
          </a:xfrm>
        </p:grpSpPr>
        <p:sp>
          <p:nvSpPr>
            <p:cNvPr id="306" name=""/>
            <p:cNvSpPr/>
            <p:nvPr/>
          </p:nvSpPr>
          <p:spPr>
            <a:xfrm>
              <a:off x="2590920" y="2514600"/>
              <a:ext cx="1001160" cy="900000"/>
            </a:xfrm>
            <a:prstGeom prst="flowChartProcess">
              <a:avLst/>
            </a:prstGeom>
            <a:solidFill>
              <a:srgbClr val="ffffcc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ca-ES" sz="1200" spc="-1" strike="noStrike">
                  <a:solidFill>
                    <a:srgbClr val="ff6600"/>
                  </a:solidFill>
                  <a:latin typeface="Times New Roman"/>
                </a:rPr>
                <a:t>Missió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Es la raó per la que l’organització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 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existeix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;</a:t>
              </a:r>
              <a:r>
                <a:rPr b="0" lang="ca-ES" sz="800" spc="-1" strike="noStrike">
                  <a:solidFill>
                    <a:srgbClr val="333333"/>
                  </a:solidFill>
                  <a:latin typeface="Verdana"/>
                </a:rPr>
                <a:t> el seu propòsit</a:t>
              </a:r>
              <a:r>
                <a:rPr b="0" lang="es-ES_tradnl" sz="800" spc="-1" strike="noStrike">
                  <a:solidFill>
                    <a:srgbClr val="333333"/>
                  </a:solidFill>
                  <a:latin typeface="Verdana"/>
                </a:rPr>
                <a:t>.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093120" y="3414600"/>
              <a:ext cx="0" cy="225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780000" y="981000"/>
            <a:ext cx="5364000" cy="4464000"/>
            <a:chOff x="3780000" y="981000"/>
            <a:chExt cx="5364000" cy="4464000"/>
          </a:xfrm>
        </p:grpSpPr>
        <p:sp>
          <p:nvSpPr>
            <p:cNvPr id="309" name=""/>
            <p:cNvSpPr/>
            <p:nvPr/>
          </p:nvSpPr>
          <p:spPr>
            <a:xfrm>
              <a:off x="3780000" y="981000"/>
              <a:ext cx="1800000" cy="609840"/>
            </a:xfrm>
            <a:solidFill>
              <a:srgbClr val="ccffff">
                <a:alpha val="50000"/>
              </a:srgbClr>
            </a:solidFill>
            <a:ln w="25560">
              <a:solidFill>
                <a:srgbClr val="33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Com podem aconseguir-ho?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40360" y="2565360"/>
              <a:ext cx="5003640" cy="28796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31560" y="115920"/>
            <a:ext cx="80564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9933"/>
                </a:solidFill>
                <a:latin typeface="Times New Roman"/>
              </a:rPr>
              <a:t>Qüestions a superar en la planificació estratègica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9933"/>
                </a:solidFill>
                <a:latin typeface="Times New Roman"/>
              </a:rPr>
              <a:t>Principals causes de fracà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La falta de participació i compromí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La falta de motivació per fer-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Les dificultats per treballar en equi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El desconeixement o incomprensió del pla estratèg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El no saber quin és el paper de cadascuna de les unitats o persones en el 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508720" y="981000"/>
            <a:ext cx="3492360" cy="2494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343400" y="3913920"/>
            <a:ext cx="3581280" cy="833760"/>
          </a:xfrm>
          <a:prstGeom prst="upArrowCallout">
            <a:avLst>
              <a:gd name="adj1" fmla="val 107393"/>
              <a:gd name="adj2" fmla="val 107383"/>
              <a:gd name="adj3" fmla="val 16667"/>
              <a:gd name="adj4" fmla="val 66660"/>
            </a:avLst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Avaluació centre (recursos, processos, resultats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66920" y="228600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24680" y="4638600"/>
            <a:ext cx="609480" cy="1067040"/>
          </a:xfrm>
          <a:prstGeom prst="upDownArrow">
            <a:avLst>
              <a:gd name="adj1" fmla="val 50000"/>
              <a:gd name="adj2" fmla="val 34852"/>
            </a:avLst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648320"/>
            <a:ext cx="609480" cy="1066680"/>
          </a:xfrm>
          <a:prstGeom prst="upDownArrow">
            <a:avLst>
              <a:gd name="adj1" fmla="val 50000"/>
              <a:gd name="adj2" fmla="val 34841"/>
            </a:avLst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05000" y="536724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3480" y="4452840"/>
            <a:ext cx="1447920" cy="333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1200">
            <a:off x="2997720" y="4688280"/>
            <a:ext cx="843120" cy="9144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800" y="3076560"/>
            <a:ext cx="1371600" cy="780480"/>
          </a:xfrm>
          <a:prstGeom prst="rect">
            <a:avLst/>
          </a:prstGeom>
          <a:solidFill>
            <a:srgbClr val="a9bd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Anàlisi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(DAFO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190520"/>
            <a:ext cx="838080" cy="1395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2992320"/>
            <a:ext cx="3276720" cy="44676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DE L’ENTORN AL CENTR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914400"/>
            <a:ext cx="664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L’ELABORACIÓ DEL PLA ESTRATÈG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6440" y="114480"/>
            <a:ext cx="7821720" cy="73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    D’on som Cap a on volem anar</a:t>
            </a:r>
            <a:r>
              <a:rPr b="0" lang="ca-ES" sz="48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1295280"/>
            <a:ext cx="1371600" cy="1152360"/>
          </a:xfrm>
          <a:prstGeom prst="rect">
            <a:avLst/>
          </a:prstGeom>
          <a:solidFill>
            <a:srgbClr val="a9bd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Projecte Educatiu Centr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1347840"/>
            <a:ext cx="3276720" cy="44676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LA MISSIÓ: Per què existim?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1955880"/>
            <a:ext cx="3276720" cy="44676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LA V ISIÓ: Què VOLEM SER?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703600">
            <a:off x="3053880" y="1295280"/>
            <a:ext cx="468360" cy="468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703600">
            <a:off x="3055680" y="2919240"/>
            <a:ext cx="468360" cy="468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2703600">
            <a:off x="3055680" y="2057400"/>
            <a:ext cx="468360" cy="468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703600">
            <a:off x="3069720" y="3733920"/>
            <a:ext cx="468360" cy="468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352680" y="2547000"/>
            <a:ext cx="4572000" cy="484200"/>
          </a:xfrm>
          <a:prstGeom prst="wedgeRoundRectCallout">
            <a:avLst>
              <a:gd name="adj1" fmla="val 31143"/>
              <a:gd name="adj2" fmla="val -142787"/>
              <a:gd name="adj3" fmla="val 16667"/>
            </a:avLst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86080" y="2486160"/>
            <a:ext cx="471492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Debilitats, Amenaces, Fortaleses, Oportunitat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33680" y="3505320"/>
            <a:ext cx="3276720" cy="44676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DEL CENTR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1265400"/>
            <a:ext cx="2362320" cy="1236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33333"/>
                </a:solidFill>
                <a:latin typeface="Arial"/>
              </a:rPr>
              <a:t>Defineix una perspectiva a llarg i mig termini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2743200"/>
          <a:ext cx="2190600" cy="171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21906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361800" y="4821840"/>
            <a:ext cx="2486160" cy="61452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OBJECTIU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ESTRATÈGIC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890800" y="4871880"/>
            <a:ext cx="914400" cy="747360"/>
            <a:chOff x="2890800" y="4871880"/>
            <a:chExt cx="914400" cy="747360"/>
          </a:xfrm>
        </p:grpSpPr>
        <p:grpSp>
          <p:nvGrpSpPr>
            <p:cNvPr id="342" name=""/>
            <p:cNvGrpSpPr/>
            <p:nvPr/>
          </p:nvGrpSpPr>
          <p:grpSpPr>
            <a:xfrm>
              <a:off x="2890800" y="4871880"/>
              <a:ext cx="914400" cy="572040"/>
              <a:chOff x="2890800" y="4871880"/>
              <a:chExt cx="914400" cy="572040"/>
            </a:xfrm>
          </p:grpSpPr>
          <p:pic>
            <p:nvPicPr>
              <p:cNvPr id="3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0800" y="4871880"/>
                <a:ext cx="914400" cy="57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05640" y="5034960"/>
                <a:ext cx="380520" cy="246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5" name=""/>
            <p:cNvGrpSpPr/>
            <p:nvPr/>
          </p:nvGrpSpPr>
          <p:grpSpPr>
            <a:xfrm>
              <a:off x="3436200" y="4900320"/>
              <a:ext cx="273600" cy="718920"/>
              <a:chOff x="3436200" y="4900320"/>
              <a:chExt cx="273600" cy="718920"/>
            </a:xfrm>
          </p:grpSpPr>
          <p:sp>
            <p:nvSpPr>
              <p:cNvPr id="346" name=""/>
              <p:cNvSpPr/>
              <p:nvPr/>
            </p:nvSpPr>
            <p:spPr>
              <a:xfrm>
                <a:off x="3436200" y="4900320"/>
                <a:ext cx="230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79400" y="5344560"/>
                <a:ext cx="200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51680" y="5049360"/>
                <a:ext cx="258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51680" y="5196960"/>
                <a:ext cx="2440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3824280" y="4948920"/>
            <a:ext cx="1952640" cy="43668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ESTRATÈGIE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81800" y="4956840"/>
            <a:ext cx="1704960" cy="43668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ACTIVITAT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7800" y="5702040"/>
            <a:ext cx="2854440" cy="559080"/>
          </a:xfrm>
          <a:prstGeom prst="roundRect">
            <a:avLst>
              <a:gd name="adj" fmla="val 16667"/>
            </a:avLst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Indicadors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situació inicial i progré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54280" y="5690880"/>
            <a:ext cx="5436000" cy="559080"/>
          </a:xfrm>
          <a:prstGeom prst="roundRect">
            <a:avLst>
              <a:gd name="adj" fmla="val 16667"/>
            </a:avLst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Indicadors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d’aplicació i d’incidència sobre els objectius P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1200">
            <a:off x="5740560" y="4804200"/>
            <a:ext cx="842760" cy="6858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909880"/>
            <a:ext cx="838080" cy="1143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95960" y="332424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29440" y="3233880"/>
            <a:ext cx="30492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29440" y="1766880"/>
            <a:ext cx="38088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1676520"/>
            <a:ext cx="30456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71680" y="4467240"/>
            <a:ext cx="38088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04800" y="4376880"/>
            <a:ext cx="30492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I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831-1AAD-4C3A-BB8E-E59557B091B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rs PEiA S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20320" y="260280"/>
            <a:ext cx="54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EL PLANTEJAMENT INSTITU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50920" y="2421000"/>
            <a:ext cx="8562960" cy="1719360"/>
            <a:chOff x="250920" y="2421000"/>
            <a:chExt cx="8562960" cy="1719360"/>
          </a:xfrm>
        </p:grpSpPr>
        <p:grpSp>
          <p:nvGrpSpPr>
            <p:cNvPr id="364" name=""/>
            <p:cNvGrpSpPr/>
            <p:nvPr/>
          </p:nvGrpSpPr>
          <p:grpSpPr>
            <a:xfrm>
              <a:off x="250920" y="2622600"/>
              <a:ext cx="2160360" cy="1382760"/>
              <a:chOff x="250920" y="2622600"/>
              <a:chExt cx="2160360" cy="1382760"/>
            </a:xfrm>
          </p:grpSpPr>
          <p:sp>
            <p:nvSpPr>
              <p:cNvPr id="365" name=""/>
              <p:cNvSpPr/>
              <p:nvPr/>
            </p:nvSpPr>
            <p:spPr>
              <a:xfrm>
                <a:off x="1042920" y="3625920"/>
                <a:ext cx="609840" cy="379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0920" y="2622600"/>
                <a:ext cx="2160360" cy="1159560"/>
              </a:xfrm>
              <a:prstGeom prst="rect">
                <a:avLst/>
              </a:prstGeom>
              <a:solidFill>
                <a:srgbClr val="a9bda9"/>
              </a:solidFill>
              <a:ln w="936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400" spc="-1" strike="noStrike">
                    <a:solidFill>
                      <a:srgbClr val="333333"/>
                    </a:solidFill>
                    <a:latin typeface="Arial"/>
                  </a:rPr>
                  <a:t>Estableix qui som i com volem ser en una perspectiva de mig i llarg termin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156360" y="2708280"/>
              <a:ext cx="2657520" cy="1081080"/>
              <a:chOff x="6156360" y="2708280"/>
              <a:chExt cx="2657520" cy="1081080"/>
            </a:xfrm>
          </p:grpSpPr>
          <p:sp>
            <p:nvSpPr>
              <p:cNvPr id="368" name=""/>
              <p:cNvSpPr/>
              <p:nvPr/>
            </p:nvSpPr>
            <p:spPr>
              <a:xfrm>
                <a:off x="6815160" y="2732040"/>
                <a:ext cx="1998720" cy="92664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333333"/>
                    </a:solidFill>
                    <a:latin typeface="Arial"/>
                  </a:rPr>
                  <a:t>PLANTEJAMEN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lnSpc>
                    <a:spcPct val="14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333333"/>
                    </a:solidFill>
                    <a:latin typeface="Arial"/>
                  </a:rPr>
                  <a:t>INSTITUCIONAL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6156360" y="2708280"/>
                <a:ext cx="662040" cy="1081080"/>
                <a:chOff x="6156360" y="2708280"/>
                <a:chExt cx="662040" cy="10810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156360" y="2708280"/>
                  <a:ext cx="662040" cy="10810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333333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10440" y="3154680"/>
                  <a:ext cx="300600" cy="236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36720" y="3084840"/>
                  <a:ext cx="240480" cy="44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45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a-ES" sz="1600" spc="-1" strike="noStrike">
                      <a:solidFill>
                        <a:srgbClr val="333333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2468160" y="2421000"/>
              <a:ext cx="3611880" cy="1719360"/>
              <a:chOff x="2468160" y="2421000"/>
              <a:chExt cx="3611880" cy="1719360"/>
            </a:xfrm>
          </p:grpSpPr>
          <p:sp>
            <p:nvSpPr>
              <p:cNvPr id="374" name=""/>
              <p:cNvSpPr/>
              <p:nvPr/>
            </p:nvSpPr>
            <p:spPr>
              <a:xfrm>
                <a:off x="2803680" y="2997360"/>
                <a:ext cx="3276360" cy="446760"/>
              </a:xfrm>
              <a:prstGeom prst="rect">
                <a:avLst/>
              </a:prstGeom>
              <a:solidFill>
                <a:srgbClr val="a9bda9"/>
              </a:solidFill>
              <a:ln w="1260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333333"/>
                    </a:solidFill>
                    <a:latin typeface="Arial"/>
                  </a:rPr>
                  <a:t>LA MISSIÓ: Per què existim?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703600">
                <a:off x="2577960" y="3085920"/>
                <a:ext cx="352440" cy="3333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03680" y="3610080"/>
                <a:ext cx="3276360" cy="446760"/>
              </a:xfrm>
              <a:prstGeom prst="rect">
                <a:avLst/>
              </a:prstGeom>
              <a:solidFill>
                <a:srgbClr val="a9bda9"/>
              </a:solidFill>
              <a:ln w="1260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333333"/>
                    </a:solidFill>
                    <a:latin typeface="Arial"/>
                  </a:rPr>
                  <a:t>LA V ISIÓ: Què VOLEM SER?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703600">
                <a:off x="2565720" y="3714480"/>
                <a:ext cx="384120" cy="3398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03680" y="2421000"/>
                <a:ext cx="3276360" cy="446760"/>
              </a:xfrm>
              <a:prstGeom prst="rect">
                <a:avLst/>
              </a:prstGeom>
              <a:solidFill>
                <a:srgbClr val="a9bda9"/>
              </a:solidFill>
              <a:ln w="12600">
                <a:solidFill>
                  <a:srgbClr val="d2aa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333333"/>
                    </a:solidFill>
                    <a:latin typeface="Arial"/>
                  </a:rPr>
                  <a:t>ELS VALORS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703600">
                <a:off x="2536560" y="2511360"/>
                <a:ext cx="397080" cy="3585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2266920" y="1125360"/>
            <a:ext cx="2109240" cy="1726560"/>
            <a:chOff x="2266920" y="1125360"/>
            <a:chExt cx="2109240" cy="1726560"/>
          </a:xfrm>
        </p:grpSpPr>
        <p:grpSp>
          <p:nvGrpSpPr>
            <p:cNvPr id="381" name=""/>
            <p:cNvGrpSpPr/>
            <p:nvPr/>
          </p:nvGrpSpPr>
          <p:grpSpPr>
            <a:xfrm>
              <a:off x="3085200" y="1125360"/>
              <a:ext cx="1290960" cy="1276560"/>
              <a:chOff x="3085200" y="1125360"/>
              <a:chExt cx="1290960" cy="1276560"/>
            </a:xfrm>
          </p:grpSpPr>
          <p:sp>
            <p:nvSpPr>
              <p:cNvPr id="382" name=""/>
              <p:cNvSpPr/>
              <p:nvPr/>
            </p:nvSpPr>
            <p:spPr>
              <a:xfrm>
                <a:off x="3085200" y="1125360"/>
                <a:ext cx="1290960" cy="1036080"/>
              </a:xfrm>
              <a:prstGeom prst="flowChartProcess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a-ES" sz="1200" spc="-1" strike="noStrike">
                    <a:solidFill>
                      <a:srgbClr val="ff6600"/>
                    </a:solidFill>
                    <a:latin typeface="Arial"/>
                  </a:rPr>
                  <a:t>Visió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200" spc="-1" strike="noStrike">
                    <a:solidFill>
                      <a:srgbClr val="333333"/>
                    </a:solidFill>
                    <a:latin typeface="Arial"/>
                  </a:rPr>
                  <a:t>El que </a:t>
                </a:r>
                <a:r>
                  <a:rPr b="0" lang="es-ES_tradnl" sz="1200" spc="-1" strike="noStrike">
                    <a:solidFill>
                      <a:srgbClr val="333333"/>
                    </a:solidFill>
                    <a:latin typeface="Arial"/>
                  </a:rPr>
                  <a:t>el centre </a:t>
                </a:r>
                <a:r>
                  <a:rPr b="0" lang="ca-ES" sz="1200" spc="-1" strike="noStrike">
                    <a:solidFill>
                      <a:srgbClr val="333333"/>
                    </a:solidFill>
                    <a:latin typeface="Arial"/>
                  </a:rPr>
                  <a:t>vol ser en el futur.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732480" y="2172960"/>
                <a:ext cx="0" cy="2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V="1">
              <a:off x="2266920" y="1876680"/>
              <a:ext cx="670320" cy="975240"/>
            </a:xfrm>
            <a:prstGeom prst="line">
              <a:avLst/>
            </a:prstGeom>
            <a:ln w="9360">
              <a:solidFill>
                <a:srgbClr val="ff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554200" y="2565360"/>
            <a:ext cx="1823400" cy="1500840"/>
            <a:chOff x="2554200" y="2565360"/>
            <a:chExt cx="1823400" cy="1500840"/>
          </a:xfrm>
        </p:grpSpPr>
        <p:grpSp>
          <p:nvGrpSpPr>
            <p:cNvPr id="386" name=""/>
            <p:cNvGrpSpPr/>
            <p:nvPr/>
          </p:nvGrpSpPr>
          <p:grpSpPr>
            <a:xfrm>
              <a:off x="3078360" y="2565360"/>
              <a:ext cx="1299240" cy="1500840"/>
              <a:chOff x="3078360" y="2565360"/>
              <a:chExt cx="1299240" cy="1500840"/>
            </a:xfrm>
          </p:grpSpPr>
          <p:sp>
            <p:nvSpPr>
              <p:cNvPr id="387" name=""/>
              <p:cNvSpPr/>
              <p:nvPr/>
            </p:nvSpPr>
            <p:spPr>
              <a:xfrm>
                <a:off x="3078360" y="2565360"/>
                <a:ext cx="1299240" cy="1200600"/>
              </a:xfrm>
              <a:prstGeom prst="flowChartProcess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a-ES" sz="12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i="1" lang="ca-ES" sz="1200" spc="-1" strike="noStrike">
                    <a:solidFill>
                      <a:srgbClr val="ff6600"/>
                    </a:solidFill>
                    <a:latin typeface="Arial"/>
                  </a:rPr>
                  <a:t>Missió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200" spc="-1" strike="noStrike">
                    <a:solidFill>
                      <a:srgbClr val="333333"/>
                    </a:solidFill>
                    <a:latin typeface="Arial"/>
                  </a:rPr>
                  <a:t>La raó de ser d</a:t>
                </a:r>
                <a:r>
                  <a:rPr b="0" lang="es-ES_tradnl" sz="1200" spc="-1" strike="noStrike">
                    <a:solidFill>
                      <a:srgbClr val="333333"/>
                    </a:solidFill>
                    <a:latin typeface="Arial"/>
                  </a:rPr>
                  <a:t>el centre.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3729960" y="3765600"/>
                <a:ext cx="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2554200" y="3357360"/>
              <a:ext cx="450000" cy="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482920" y="3933720"/>
            <a:ext cx="1942560" cy="1871280"/>
            <a:chOff x="2482920" y="3933720"/>
            <a:chExt cx="1942560" cy="1871280"/>
          </a:xfrm>
        </p:grpSpPr>
        <p:sp>
          <p:nvSpPr>
            <p:cNvPr id="391" name=""/>
            <p:cNvSpPr/>
            <p:nvPr/>
          </p:nvSpPr>
          <p:spPr>
            <a:xfrm>
              <a:off x="3129480" y="4143240"/>
              <a:ext cx="1296000" cy="1661760"/>
            </a:xfrm>
            <a:prstGeom prst="flowChartProcess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200" spc="-1" strike="noStrike">
                  <a:solidFill>
                    <a:srgbClr val="ff6600"/>
                  </a:solidFill>
                  <a:latin typeface="Arial"/>
                </a:rPr>
                <a:t>Valors</a:t>
              </a:r>
              <a:r>
                <a:rPr b="1" i="1" lang="ca-ES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200" spc="-1" strike="noStrike">
                  <a:solidFill>
                    <a:srgbClr val="333333"/>
                  </a:solidFill>
                  <a:latin typeface="Arial"/>
                </a:rPr>
                <a:t>Els principis que defineixen  la forma d’actuar de</a:t>
              </a: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l</a:t>
              </a:r>
              <a:r>
                <a:rPr b="0" lang="ca-ES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centre</a:t>
              </a:r>
              <a:r>
                <a:rPr b="0" lang="ca-ES" sz="1200" spc="-1" strike="noStrike">
                  <a:solidFill>
                    <a:srgbClr val="333333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82920" y="3933720"/>
              <a:ext cx="518040" cy="2599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79280" y="2781360"/>
            <a:ext cx="1800000" cy="2691000"/>
            <a:chOff x="179280" y="2781360"/>
            <a:chExt cx="1800000" cy="2691000"/>
          </a:xfrm>
        </p:grpSpPr>
        <p:grpSp>
          <p:nvGrpSpPr>
            <p:cNvPr id="394" name=""/>
            <p:cNvGrpSpPr/>
            <p:nvPr/>
          </p:nvGrpSpPr>
          <p:grpSpPr>
            <a:xfrm>
              <a:off x="826920" y="2781360"/>
              <a:ext cx="1141200" cy="847800"/>
              <a:chOff x="826920" y="2781360"/>
              <a:chExt cx="1141200" cy="847800"/>
            </a:xfrm>
          </p:grpSpPr>
          <p:pic>
            <p:nvPicPr>
              <p:cNvPr id="3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781360"/>
                <a:ext cx="1141200" cy="8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19961400">
                <a:off x="1185840" y="2923920"/>
                <a:ext cx="57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400" spc="-1" strike="noStrike">
                    <a:solidFill>
                      <a:srgbClr val="ff3300"/>
                    </a:solidFill>
                    <a:latin typeface="Times New Roman"/>
                  </a:rPr>
                  <a:t>PE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79280" y="4005360"/>
              <a:ext cx="18000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Millor un PEC d’uns pocs fulls que tota l’escola coneix, que un PEC formalment impecable però cobert de pols.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712760" y="1052640"/>
            <a:ext cx="2949480" cy="411120"/>
            <a:chOff x="4712760" y="1052640"/>
            <a:chExt cx="2949480" cy="411120"/>
          </a:xfrm>
        </p:grpSpPr>
        <p:sp>
          <p:nvSpPr>
            <p:cNvPr id="399" name=""/>
            <p:cNvSpPr/>
            <p:nvPr/>
          </p:nvSpPr>
          <p:spPr>
            <a:xfrm>
              <a:off x="5431680" y="112716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Sap on va i defineix </a:t>
              </a:r>
              <a:r>
                <a:rPr b="1" lang="es-ES_tradnl" sz="1200" spc="-1" strike="noStrike">
                  <a:solidFill>
                    <a:srgbClr val="ff9933"/>
                  </a:solidFill>
                  <a:latin typeface="Arial"/>
                </a:rPr>
                <a:t>objectiu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1200">
              <a:off x="4687200" y="1077840"/>
              <a:ext cx="411120" cy="3603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714560" y="2852640"/>
            <a:ext cx="3954960" cy="530640"/>
            <a:chOff x="4714560" y="2852640"/>
            <a:chExt cx="3954960" cy="530640"/>
          </a:xfrm>
        </p:grpSpPr>
        <p:sp>
          <p:nvSpPr>
            <p:cNvPr id="402" name=""/>
            <p:cNvSpPr/>
            <p:nvPr/>
          </p:nvSpPr>
          <p:spPr>
            <a:xfrm>
              <a:off x="5432760" y="2924280"/>
              <a:ext cx="323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Centre amb </a:t>
              </a:r>
              <a:r>
                <a:rPr b="1" lang="es-ES_tradnl" sz="1200" spc="-1" strike="noStrike">
                  <a:solidFill>
                    <a:srgbClr val="ff9933"/>
                  </a:solidFill>
                  <a:latin typeface="Arial"/>
                </a:rPr>
                <a:t>identitat</a:t>
              </a: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 i </a:t>
              </a:r>
              <a:r>
                <a:rPr b="1" lang="es-ES_tradnl" sz="1200" spc="-1" strike="noStrike">
                  <a:solidFill>
                    <a:srgbClr val="ff9933"/>
                  </a:solidFill>
                  <a:latin typeface="Arial"/>
                </a:rPr>
                <a:t>orientat</a:t>
              </a: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 a l’alumnat i 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33"/>
                  </a:solidFill>
                  <a:latin typeface="Arial"/>
                </a:rPr>
                <a:t>famílie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1200">
              <a:off x="4689000" y="2877840"/>
              <a:ext cx="411120" cy="3603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714560" y="4797360"/>
            <a:ext cx="2306160" cy="411120"/>
            <a:chOff x="4714560" y="4797360"/>
            <a:chExt cx="2306160" cy="411120"/>
          </a:xfrm>
        </p:grpSpPr>
        <p:sp>
          <p:nvSpPr>
            <p:cNvPr id="405" name=""/>
            <p:cNvSpPr/>
            <p:nvPr/>
          </p:nvSpPr>
          <p:spPr>
            <a:xfrm>
              <a:off x="5651280" y="486900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33"/>
                  </a:solidFill>
                  <a:latin typeface="Arial"/>
                </a:rPr>
                <a:t>Centre </a:t>
              </a: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educado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5401200">
              <a:off x="4689000" y="4822560"/>
              <a:ext cx="411120" cy="3603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00720" y="5408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Què?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1440" y="5408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Com?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0" y="5408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 </a:t>
            </a: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Qui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24720" y="540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Exemp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88000" y="5408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Supor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20320" y="260280"/>
            <a:ext cx="54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EL PLANTEJAMENT INSTITU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0720" y="34290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Què?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21440" y="34290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Com?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04000" y="342900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 </a:t>
            </a: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Qui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2472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Exemp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88000" y="3429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Supor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2764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Què?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4836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Com?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30920" y="155736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 </a:t>
            </a: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Qui?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51640" y="155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Exemp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15280" y="15573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78963"/>
                </a:solidFill>
                <a:latin typeface="Arial"/>
              </a:rPr>
              <a:t>Supor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400800" y="3505320"/>
            <a:ext cx="0" cy="104112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2320" y="4267080"/>
            <a:ext cx="3962160" cy="0"/>
          </a:xfrm>
          <a:prstGeom prst="line">
            <a:avLst/>
          </a:prstGeom>
          <a:ln w="63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7200" y="3110040"/>
            <a:ext cx="4876920" cy="50724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els punts Forts en que ens haurem de recolz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els punts Febles que haurem de super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905280"/>
            <a:ext cx="48765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les Amenaces de les quals ens haurem de defens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les Oportunitats que haurem de saber aprofit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90760" y="4253040"/>
            <a:ext cx="0" cy="88884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5760" y="1504800"/>
            <a:ext cx="3471840" cy="10087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ermet establir la </a:t>
            </a:r>
            <a:r>
              <a:rPr b="1" lang="ca-ES" sz="2000" spc="-1" strike="noStrike">
                <a:solidFill>
                  <a:srgbClr val="333333"/>
                </a:solidFill>
                <a:latin typeface="Arial"/>
              </a:rPr>
              <a:t>diagnosi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2000" spc="-1" strike="noStrike">
                <a:solidFill>
                  <a:srgbClr val="333333"/>
                </a:solidFill>
                <a:latin typeface="Arial"/>
              </a:rPr>
              <a:t>estratègica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 en relació a l’entorn del cent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0160" y="3089160"/>
            <a:ext cx="3429000" cy="703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Té com a finalitat explicitar i valor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5154480"/>
            <a:ext cx="8610480" cy="703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er tal d’establir els objectius estratègics i l’organització (claus estratègiques) de com assolir-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1752480"/>
            <a:ext cx="0" cy="1397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360" y="94356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9900"/>
                </a:solidFill>
                <a:latin typeface="Arial"/>
              </a:rPr>
              <a:t>LA DIAGNOS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On som?      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0840" y="128520"/>
            <a:ext cx="7821720" cy="7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On som</a:t>
            </a:r>
            <a:r>
              <a:rPr b="0" lang="ca-ES" sz="4800" spc="-1" strike="noStrike">
                <a:solidFill>
                  <a:srgbClr val="ff6600"/>
                </a:solidFill>
                <a:latin typeface="Times New Roman"/>
              </a:rPr>
              <a:t>? 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3352680"/>
            <a:ext cx="153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51200" y="2033640"/>
            <a:ext cx="154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498680"/>
            <a:ext cx="4876560" cy="44676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intern: l’escol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2108160"/>
            <a:ext cx="4876560" cy="58068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extern: barri, poble, ciutat, administració local, administració educativa..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3138480"/>
            <a:ext cx="4876560" cy="44676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els punts forts i febles de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l centr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71880" y="3948120"/>
            <a:ext cx="4876920" cy="72612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les amenaces i les oportunitats per a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l centre </a:t>
            </a: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que li ofereix el seu entorn mediat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876920" y="1523880"/>
            <a:ext cx="3811320" cy="3343320"/>
          </a:xfrm>
          <a:prstGeom prst="rect">
            <a:avLst/>
          </a:prstGeom>
          <a:solidFill>
            <a:srgbClr val="a9bda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" bIns="10800" anchor="t" anchorCtr="1">
            <a:no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6600"/>
                </a:solidFill>
                <a:latin typeface="Arial"/>
              </a:rPr>
              <a:t>OPORTUNITAT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ines noves necessitats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pot satisfer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 el centre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En quins nous project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interessants pot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participar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Com pot aconsegui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més recursos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è hi ha a l’entorn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per a l’optimisme?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1523880"/>
            <a:ext cx="3810240" cy="3343320"/>
          </a:xfrm>
          <a:prstGeom prst="rect">
            <a:avLst/>
          </a:prstGeom>
          <a:solidFill>
            <a:srgbClr val="a9bda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" bIns="10800" anchor="t" anchorCtr="1">
            <a:no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6600"/>
                </a:solidFill>
                <a:latin typeface="Arial"/>
              </a:rPr>
              <a:t>AMENAC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ines dificultats extern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té 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el centre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per a la seva supervivènc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o el seu desenvolupament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è ve de fora que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afecta negativament a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l centre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990720"/>
            <a:ext cx="8534520" cy="533160"/>
          </a:xfrm>
          <a:prstGeom prst="rect">
            <a:avLst/>
          </a:prstGeom>
          <a:solidFill>
            <a:srgbClr val="ffcc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" bIns="10800" anchor="t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33"/>
                </a:solidFill>
                <a:latin typeface="Times New Roman"/>
              </a:rPr>
              <a:t>DIAGNOSI: ANÀLISI EXTERNA DEL CENT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189000"/>
            <a:ext cx="7705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On som?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9960" y="5029200"/>
            <a:ext cx="8533080" cy="914400"/>
          </a:xfrm>
          <a:prstGeom prst="rect">
            <a:avLst/>
          </a:prstGeom>
          <a:solidFill>
            <a:srgbClr val="ffcc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FONTS D’INFORMACIÓ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AGD, altres avaluacions de centre, Cb, resultats avaluacions alumnes, reunions (professors, pares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i alumnes), estudis específics, anàlisi documentació..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0840" y="128520"/>
            <a:ext cx="7821720" cy="7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    On som?</a:t>
            </a:r>
            <a:r>
              <a:rPr b="0" lang="ca-ES" sz="48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419720" y="4495680"/>
            <a:ext cx="280800" cy="357480"/>
          </a:xfrm>
          <a:custGeom>
            <a:avLst/>
            <a:gdLst>
              <a:gd name="textAreaLeft" fmla="*/ 18000 w 280800"/>
              <a:gd name="textAreaRight" fmla="*/ 262800 w 280800"/>
              <a:gd name="textAreaTop" fmla="*/ 18000 h 357480"/>
              <a:gd name="textAreaBottom" fmla="*/ 339480 h 357480"/>
            </a:gdLst>
            <a:ahLst/>
            <a:rect l="textAreaLeft" t="textAreaTop" r="textAreaRight" b="textAreaBottom"/>
            <a:pathLst>
              <a:path w="21600" h="27491">
                <a:moveTo>
                  <a:pt x="0" y="0"/>
                </a:moveTo>
                <a:lnTo>
                  <a:pt x="21600" y="0"/>
                </a:lnTo>
                <a:lnTo>
                  <a:pt x="21600" y="27491"/>
                </a:lnTo>
                <a:lnTo>
                  <a:pt x="0" y="27491"/>
                </a:lnTo>
                <a:close/>
              </a:path>
              <a:path fill="lightenLess" w="21600" h="274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91">
                <a:moveTo>
                  <a:pt x="21600" y="0"/>
                </a:moveTo>
                <a:lnTo>
                  <a:pt x="21600" y="27491"/>
                </a:lnTo>
                <a:lnTo>
                  <a:pt x="20200" y="26091"/>
                </a:lnTo>
                <a:lnTo>
                  <a:pt x="20200" y="1400"/>
                </a:lnTo>
                <a:close/>
              </a:path>
              <a:path fill="darkenLess" w="21600" h="27491">
                <a:moveTo>
                  <a:pt x="21600" y="27491"/>
                </a:moveTo>
                <a:lnTo>
                  <a:pt x="0" y="27491"/>
                </a:lnTo>
                <a:lnTo>
                  <a:pt x="1400" y="26091"/>
                </a:lnTo>
                <a:lnTo>
                  <a:pt x="20200" y="26091"/>
                </a:lnTo>
                <a:close/>
              </a:path>
              <a:path fill="lighten" w="21600" h="27491">
                <a:moveTo>
                  <a:pt x="0" y="274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91"/>
                </a:lnTo>
                <a:close/>
              </a:path>
              <a:path fill="darken" w="21600" h="27491">
                <a:moveTo>
                  <a:pt x="3794" y="6739"/>
                </a:moveTo>
                <a:lnTo>
                  <a:pt x="17806" y="13745"/>
                </a:lnTo>
                <a:lnTo>
                  <a:pt x="3794" y="2075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092560" y="1533600"/>
            <a:ext cx="3811680" cy="3343320"/>
          </a:xfrm>
          <a:prstGeom prst="rect">
            <a:avLst/>
          </a:prstGeom>
          <a:solidFill>
            <a:srgbClr val="a9bda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" bIns="10800" anchor="t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cc00"/>
                </a:solidFill>
                <a:latin typeface="Arial"/>
              </a:rPr>
              <a:t>DEBILITAT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è creuen … qu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s’hauria de millorar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d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e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l centre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è creu 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el centr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e s’hauria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de millorar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2680" y="1533600"/>
            <a:ext cx="3809880" cy="3343320"/>
          </a:xfrm>
          <a:prstGeom prst="rect">
            <a:avLst/>
          </a:prstGeom>
          <a:solidFill>
            <a:srgbClr val="a9bda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" bIns="10800" anchor="t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cc00"/>
                </a:solidFill>
                <a:latin typeface="Arial"/>
              </a:rPr>
              <a:t>FORTALES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Què es valora de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centre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De què està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satisfeta la direcció,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els departaments,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els professors,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els alumnes,...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d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e</a:t>
            </a:r>
            <a:r>
              <a:rPr b="1" lang="es-ES_tradnl" sz="1400" spc="-1" strike="noStrike">
                <a:solidFill>
                  <a:srgbClr val="333333"/>
                </a:solidFill>
                <a:latin typeface="Arial"/>
              </a:rPr>
              <a:t>l centre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2680" y="990720"/>
            <a:ext cx="8532720" cy="533160"/>
          </a:xfrm>
          <a:prstGeom prst="rect">
            <a:avLst/>
          </a:prstGeom>
          <a:solidFill>
            <a:srgbClr val="ccffcc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33"/>
                </a:solidFill>
                <a:latin typeface="Times New Roman"/>
              </a:rPr>
              <a:t>DIAGNOSI: ANÀLISI INTERNA</a:t>
            </a:r>
            <a:r>
              <a:rPr b="1" lang="ca-E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333333"/>
                </a:solidFill>
                <a:latin typeface="Times New Roman"/>
              </a:rPr>
              <a:t>DEL CENT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9280" y="189000"/>
            <a:ext cx="7705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On som?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9960" y="5029200"/>
            <a:ext cx="8533080" cy="914400"/>
          </a:xfrm>
          <a:prstGeom prst="rect">
            <a:avLst/>
          </a:prstGeom>
          <a:solidFill>
            <a:srgbClr val="ccffcc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Arial"/>
              </a:rPr>
              <a:t>FONTS D’INFORMACIÓ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AGD, altres avaluacions de centre, Cb, resultats avaluacions alumnes, reunions (professors, par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333333"/>
                </a:solidFill>
                <a:latin typeface="Arial"/>
              </a:rPr>
              <a:t>i alumnes), estudis específics, anàlisi documentació..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821720" cy="73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    On som?</a:t>
            </a:r>
            <a:r>
              <a:rPr b="0" lang="ca-ES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4495680" y="4495680"/>
            <a:ext cx="357480" cy="35748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On som?      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19360" y="1508040"/>
            <a:ext cx="5975280" cy="64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33"/>
                </a:solidFill>
                <a:latin typeface="Arial"/>
              </a:rPr>
              <a:t>L’ANÀLISI DAF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0840" y="128520"/>
            <a:ext cx="7821720" cy="7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On som?</a:t>
            </a:r>
            <a:r>
              <a:rPr b="0" lang="ca-ES" sz="48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19360" y="2262240"/>
            <a:ext cx="5975280" cy="3225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D</a:t>
            </a:r>
            <a:r>
              <a:rPr b="1" lang="ca-ES" sz="2400" spc="-1" strike="noStrike">
                <a:solidFill>
                  <a:srgbClr val="ff3300"/>
                </a:solidFill>
                <a:latin typeface="Arial"/>
              </a:rPr>
              <a:t>ebilit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A</a:t>
            </a:r>
            <a:r>
              <a:rPr b="1" lang="ca-ES" sz="2400" spc="-1" strike="noStrike">
                <a:solidFill>
                  <a:srgbClr val="ff3300"/>
                </a:solidFill>
                <a:latin typeface="Arial"/>
              </a:rPr>
              <a:t>menac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F</a:t>
            </a:r>
            <a:r>
              <a:rPr b="1" lang="ca-ES" sz="2400" spc="-1" strike="noStrike">
                <a:solidFill>
                  <a:srgbClr val="ff3300"/>
                </a:solidFill>
                <a:latin typeface="Arial"/>
              </a:rPr>
              <a:t>ortales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O</a:t>
            </a:r>
            <a:r>
              <a:rPr b="1" lang="ca-ES" sz="2400" spc="-1" strike="noStrike">
                <a:solidFill>
                  <a:srgbClr val="ff3300"/>
                </a:solidFill>
                <a:latin typeface="Arial"/>
              </a:rPr>
              <a:t>portunit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19360" y="2263680"/>
            <a:ext cx="597528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a-ES" sz="2400" spc="-1" strike="noStrike">
                <a:solidFill>
                  <a:srgbClr val="004c2b"/>
                </a:solidFill>
                <a:latin typeface="Verdana"/>
              </a:rPr>
              <a:t>OBJECTIU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Informar als directors i directores dels centres públics de primària i secundària del territori les actuacions realitzades des del Departament d’Educació en quant a la Planificació Estratègica per a l’autonomia dels centres educatius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Facilitar eines als centres per la millora de la gestió dels seus centres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114800" y="3048120"/>
            <a:ext cx="2895480" cy="154944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9880" y="86724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9900"/>
                </a:solidFill>
                <a:latin typeface="Arial"/>
              </a:rPr>
              <a:t>VARIABLES DE L’ANÀLISI DAF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On som?      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0840" y="128520"/>
            <a:ext cx="7821720" cy="7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On som?</a:t>
            </a:r>
            <a:r>
              <a:rPr b="0" lang="ca-ES" sz="48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3716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-</a:t>
            </a: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	</a:t>
            </a: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Debilitat o punt feble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: Factor intern d'un centre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educatiu que pot limitar-ne la bona marxa i la capacitat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d'actuar o d'aconseguir millorar els resulta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-</a:t>
            </a: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	</a:t>
            </a: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Amenaça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: Factor de l'entorn que pot afectar la bona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marxa d'un centre educatiu,  incrementar els riscos a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què es veu exposat o reduir-ne l'èxi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-</a:t>
            </a: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	</a:t>
            </a: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Fortalesa o punt fort: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Factor intern d'un centre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educatiu que pot facilitar l'obtenció de bons resultats o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esdevenir un avantatg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StarSymbol"/>
                <a:ea typeface="Times New Roman"/>
              </a:rPr>
              <a:t>-</a:t>
            </a: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Oportunitat: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 Factor de l'entorn que pot representar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per a un centre educatiu un avantatge o una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possibilitat perquè millori el seu funcionament, els 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seus resultats o  els seus servei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5397480" y="4800600"/>
            <a:ext cx="0" cy="6094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43280" y="4816440"/>
            <a:ext cx="327636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Amenaces que haurem de contraresta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Oportunitats que haurem d’aprofita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75320" y="4826160"/>
            <a:ext cx="3200400" cy="49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Debilitats que haurem de compensa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Fortaleses que haurem d’utilitza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048120"/>
            <a:ext cx="2895480" cy="154944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413320"/>
            <a:ext cx="6782040" cy="77508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On som?      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0840" y="128520"/>
            <a:ext cx="7821720" cy="7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On som?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3784680"/>
            <a:ext cx="6858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1943280"/>
            <a:ext cx="3808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1308240"/>
            <a:ext cx="5181840" cy="57600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 u="sng">
                <a:solidFill>
                  <a:srgbClr val="333333"/>
                </a:solidFill>
                <a:uFillTx/>
                <a:latin typeface="Arial"/>
              </a:rPr>
              <a:t>de l’entorn al centre</a:t>
            </a: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4267080"/>
            <a:ext cx="11685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0" y="1409760"/>
            <a:ext cx="2085840" cy="44676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00ff00"/>
                </a:solidFill>
                <a:latin typeface="Arial"/>
              </a:rPr>
              <a:t>DIAGNOSI EXTERNA</a:t>
            </a:r>
            <a:r>
              <a:rPr b="1" lang="ca-ES" sz="16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327480"/>
            <a:ext cx="457200" cy="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733920" y="2743200"/>
          <a:ext cx="34160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743200"/>
                    <a:ext cx="34160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3733920" y="2717640"/>
          <a:ext cx="3276360" cy="214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717640"/>
                    <a:ext cx="3276360" cy="21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7924680" y="2514600"/>
            <a:ext cx="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8880" y="1828800"/>
            <a:ext cx="0" cy="15238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1984320"/>
            <a:ext cx="5181840" cy="57636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 u="sng">
                <a:solidFill>
                  <a:srgbClr val="333333"/>
                </a:solidFill>
                <a:uFillTx/>
                <a:latin typeface="Arial"/>
              </a:rPr>
              <a:t>del centre</a:t>
            </a: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62680" y="2089080"/>
            <a:ext cx="2086200" cy="40284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3300"/>
                </a:solidFill>
                <a:latin typeface="Arial"/>
              </a:rPr>
              <a:t>DIAGNOSI INTER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5360" y="1460520"/>
            <a:ext cx="1181160" cy="70380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L’anàlisi DAF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360" y="3124080"/>
            <a:ext cx="2819520" cy="131256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Té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com a finalitat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seleccionar i valorar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les variables més transcendental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5562720"/>
            <a:ext cx="6476760" cy="5814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er tal d’identificar els objectius generals i concretar la formulació de les estratègies del centre educatiu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1282680"/>
            <a:ext cx="1600200" cy="1313640"/>
          </a:xfrm>
          <a:prstGeom prst="rect">
            <a:avLst/>
          </a:prstGeom>
          <a:solidFill>
            <a:srgbClr val="a9bda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ermet establir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la </a:t>
            </a:r>
            <a:r>
              <a:rPr b="1" lang="ca-ES" sz="2000" spc="-1" strike="noStrike">
                <a:solidFill>
                  <a:srgbClr val="333333"/>
                </a:solidFill>
                <a:latin typeface="Arial"/>
              </a:rPr>
              <a:t>diagnosi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a-ES" sz="2000" spc="-1" strike="noStrike">
                <a:solidFill>
                  <a:srgbClr val="333333"/>
                </a:solidFill>
                <a:latin typeface="Arial"/>
              </a:rPr>
              <a:t>estratèg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1841400" y="3276720"/>
          <a:ext cx="5397480" cy="31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3276720"/>
                    <a:ext cx="53974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258920" y="199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9520" y="826920"/>
            <a:ext cx="718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DE LA DIAGNOSI A LA DAFO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8920" y="47520"/>
            <a:ext cx="7705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PE 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         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6720" y="2678040"/>
            <a:ext cx="2128680" cy="12193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841400" y="3238560"/>
          <a:ext cx="5397480" cy="314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1400" y="3238560"/>
                    <a:ext cx="53974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304920" y="1219320"/>
            <a:ext cx="838188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Criteris de selecció de les variable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- L’impacte previst que tenen en el centre educatiu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- El seu grau de freqüènc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- Allò que el centre sap fer especialment bé en relació a la seva missió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Una mateixa variable es pot veure o interpretar com a oportunitat i a la vegada com a una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amenaça o, en part, pot ser un punt fort i, en part, un punt feble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El número de variables seleccionades no hauria de ser superior a 7 en cadascuna de les quatre parts de l’anàlisi DAFO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0840" y="128520"/>
            <a:ext cx="7821720" cy="7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PE                                                                     On som?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DE4-5214-4DDB-92E5-DE361E3662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rs PEiA S2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52280" y="990720"/>
          <a:ext cx="283860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28386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2743200" y="1600200"/>
          <a:ext cx="290664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00200"/>
                    <a:ext cx="2906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44360" y="26028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Com podem avançar?       Elaborant i aplicant el 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800600" y="2819520"/>
          <a:ext cx="4343400" cy="35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819520"/>
                    <a:ext cx="434340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133720" y="1143000"/>
            <a:ext cx="53290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3300"/>
                </a:solidFill>
                <a:latin typeface="Arial"/>
              </a:rPr>
              <a:t>MAPA ESTRATÈG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1752480"/>
            <a:ext cx="585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És  una  representació  gràfica  que  ajuda   a visualitzar i comunicar de forma sintètica les prioritats   del   centre   -  </a:t>
            </a:r>
            <a:r>
              <a:rPr b="0" lang="ca-ES" sz="2400" spc="-1" strike="noStrike" u="sng">
                <a:solidFill>
                  <a:srgbClr val="009900"/>
                </a:solidFill>
                <a:uFillTx/>
                <a:latin typeface="Times New Roman"/>
              </a:rPr>
              <a:t>objectius</a:t>
            </a: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- ,      el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processos a aplicar per fer reals  els objectius - </a:t>
            </a:r>
            <a:r>
              <a:rPr b="0" lang="ca-ES" sz="2400" spc="-1" strike="noStrike" u="sng">
                <a:solidFill>
                  <a:srgbClr val="0000cc"/>
                </a:solidFill>
                <a:uFillTx/>
                <a:latin typeface="Times New Roman"/>
              </a:rPr>
              <a:t>estratègies</a:t>
            </a: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 - i les accions concretes a aplicar - </a:t>
            </a:r>
            <a:r>
              <a:rPr b="0" lang="ca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ursos</a:t>
            </a: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 - 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Segons la Guia de Plans Estratègics, el mapa estratègic és una bona eina per visualitzar la cadena de creació de valor del servei educatiu i comunicar els objectius i estratègies del centr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372360" y="2209680"/>
            <a:ext cx="2592360" cy="2971800"/>
            <a:chOff x="6372360" y="2209680"/>
            <a:chExt cx="2592360" cy="2971800"/>
          </a:xfrm>
        </p:grpSpPr>
        <p:sp>
          <p:nvSpPr>
            <p:cNvPr id="510" name=""/>
            <p:cNvSpPr/>
            <p:nvPr/>
          </p:nvSpPr>
          <p:spPr>
            <a:xfrm>
              <a:off x="6519600" y="4362840"/>
              <a:ext cx="2326680" cy="689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ff0000"/>
                  </a:solidFill>
                  <a:latin typeface="Times New Roman"/>
                </a:rPr>
                <a:t>4. Disposant del nivell de coneixement, 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ca-ES" sz="1000" spc="-1" strike="noStrike">
                  <a:solidFill>
                    <a:srgbClr val="ff0000"/>
                  </a:solidFill>
                  <a:latin typeface="Times New Roman"/>
                </a:rPr>
                <a:t>organització i recursos adient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ca-ES" sz="1000" spc="-1" strike="noStrike">
                  <a:solidFill>
                    <a:srgbClr val="ff0000"/>
                  </a:solidFill>
                  <a:latin typeface="Times New Roman"/>
                </a:rPr>
                <a:t>per aplicar les iniciative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19600" y="3587400"/>
              <a:ext cx="2326680" cy="68904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0000cc"/>
                  </a:solidFill>
                  <a:latin typeface="Times New Roman"/>
                </a:rPr>
                <a:t>3. Aplicant les iniciatives adequade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0000cc"/>
                  </a:solidFill>
                  <a:latin typeface="Times New Roman"/>
                </a:rPr>
                <a:t>per aconseguir els objectiu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19600" y="2899080"/>
              <a:ext cx="2297520" cy="47340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009900"/>
                  </a:solidFill>
                  <a:latin typeface="Times New Roman"/>
                </a:rPr>
                <a:t>2. Fixant els objectius del cent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72360" y="2209680"/>
              <a:ext cx="2592360" cy="29718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19600" y="2339640"/>
              <a:ext cx="2297520" cy="473760"/>
            </a:xfrm>
            <a:prstGeom prst="rect">
              <a:avLst/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000" spc="-1" strike="noStrike">
                  <a:solidFill>
                    <a:srgbClr val="009900"/>
                  </a:solidFill>
                  <a:latin typeface="Times New Roman"/>
                </a:rPr>
                <a:t>1. Tenint en compte els objectius SECAT...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8600" y="189000"/>
            <a:ext cx="7656480" cy="57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6600"/>
                </a:solidFill>
                <a:latin typeface="Arial"/>
              </a:rPr>
              <a:t>PE                        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24000" y="10666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Hi ha dos objectius que el DE fixa per a tots els Plans Estratègics:</a:t>
            </a: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- Reduir el fracàs escolar i millorar el rendiment general de l’alumna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- Potenciar la cohesió socia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El centre en pot afegir d’altr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A partir dels objectius estratègics, el centre s’ha de demanar quines són les estratègies que ha d’impulsar per aconseguir-los. Per exemple, pel 1r, un centre ha proposat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e) Creació d’una</a:t>
            </a:r>
            <a:r>
              <a:rPr b="1" lang="es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aula oberta per a alumnes de 2n, 3r i  4r d’ES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o) Millorar el rendiment de l’alumnat en l’adquisició de Cb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Quines estratègies triar? Les més rellevants per a l’assoliment dels objectius  i les més factibles de realitzar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Per  últim, cal precisar  els  recursos  (humans, curriculars,  de  formació, materials o econòmics) que caldrà utilitzar i preveure en quin dels tres anys d’aplicació del PE seran necessari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228600" y="189000"/>
            <a:ext cx="7656480" cy="57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PE 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ca-ES" sz="4400" spc="-1" strike="noStrike">
                <a:solidFill>
                  <a:srgbClr val="ff6600"/>
                </a:solidFill>
                <a:latin typeface="Times New Roman"/>
              </a:rPr>
              <a:t>Construint el mapa estratègic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258920" y="2308320"/>
            <a:ext cx="2332080" cy="24890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200480" y="1401840"/>
            <a:ext cx="458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Arial"/>
              </a:rPr>
              <a:t>CRITERIS per a la priorització</a:t>
            </a:r>
            <a:r>
              <a:rPr b="1" lang="ca-E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Impacte potencial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Nombre d’objectius cober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Recursos necessar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33"/>
                </a:solidFill>
                <a:latin typeface="Arial"/>
              </a:rPr>
              <a:t>Temps necessar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1066680"/>
            <a:ext cx="77058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6600"/>
                </a:solidFill>
                <a:latin typeface="Times New Roman"/>
              </a:rPr>
              <a:t>Selecció d’iniciatives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1676520"/>
            <a:ext cx="29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b3e1b3"/>
                </a:solidFill>
                <a:latin typeface="Arial"/>
              </a:rPr>
              <a:t>Iniciatives possi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00000" y="51325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b3e1b3"/>
                </a:solidFill>
                <a:latin typeface="Arial"/>
              </a:rPr>
              <a:t>Iniciatives prioritz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" y="189000"/>
            <a:ext cx="7656480" cy="57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6600"/>
                </a:solidFill>
                <a:latin typeface="Arial"/>
              </a:rPr>
              <a:t>PE                            Com </a:t>
            </a: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hi </a:t>
            </a:r>
            <a:r>
              <a:rPr b="1" lang="ca-ES" sz="2800" spc="-1" strike="noStrike">
                <a:solidFill>
                  <a:srgbClr val="ff6600"/>
                </a:solidFill>
                <a:latin typeface="Arial"/>
              </a:rPr>
              <a:t>podem </a:t>
            </a: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arribar</a:t>
            </a:r>
            <a:r>
              <a:rPr b="1" lang="ca-ES" sz="2800" spc="-1" strike="noStrike">
                <a:solidFill>
                  <a:srgbClr val="ff6600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5943600"/>
            <a:ext cx="770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Selecció de recursos i formació</a:t>
            </a:r>
            <a:r>
              <a:rPr b="0" lang="ca-ES" sz="5400" spc="-1" strike="noStrike">
                <a:solidFill>
                  <a:srgbClr val="ff66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162560" cy="50655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46040" y="22860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6600"/>
                </a:solidFill>
                <a:latin typeface="Times New Roman"/>
              </a:rPr>
              <a:t>PE                                         Mapa estratègi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81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4c2b"/>
                </a:solidFill>
                <a:latin typeface="Times New Roman"/>
              </a:rPr>
              <a:t>PE                                                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Activitats</a:t>
            </a:r>
            <a:r>
              <a:rPr b="0" lang="ca-E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ca-E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Times New Roman"/>
              </a:rPr>
              <a:t>Cas d’estudi</a:t>
            </a: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: L’elaboració i revisió d’un mapa estratègic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33"/>
                </a:solidFill>
                <a:uFillTx/>
                <a:latin typeface="Times New Roman"/>
              </a:rPr>
              <a:t>Nivell 1</a:t>
            </a:r>
            <a:r>
              <a:rPr b="0" lang="es-ES" sz="1800" spc="-1" strike="noStrike">
                <a:solidFill>
                  <a:srgbClr val="333333"/>
                </a:solidFill>
                <a:latin typeface="Times New Roman"/>
              </a:rPr>
              <a:t>: A partir de la presentació d’un mapa estratègic amb  els objectius socials i objectius d’escola , delimitar les possibles estratègies i recursos necessaris per assolir-los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33"/>
                </a:solidFill>
                <a:uFillTx/>
                <a:latin typeface="Times New Roman"/>
              </a:rPr>
              <a:t>Nivell 2</a:t>
            </a:r>
            <a:r>
              <a:rPr b="0" lang="es-ES" sz="1800" spc="-1" strike="noStrike">
                <a:solidFill>
                  <a:srgbClr val="333333"/>
                </a:solidFill>
                <a:latin typeface="Times New Roman"/>
              </a:rPr>
              <a:t>: A partir de la presentació d’un mapa estratègic , analitzar críticament el contingut a partir de la identificació dels punts forts i febles i possibles propostes de millora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Times New Roman"/>
              </a:rPr>
              <a:t>1. Treball individual 10’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33"/>
                </a:solidFill>
                <a:latin typeface="Times New Roman"/>
              </a:rPr>
              <a:t>2. Treball de grup de 4 a 6 persones    20’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Documentació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Valors, Missió i Visió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Times New Roman"/>
              </a:rPr>
              <a:t>DAFO i objectius estratègic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8317080" y="5013360"/>
          <a:ext cx="552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7080" y="5013360"/>
                    <a:ext cx="55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a-ES" sz="2400" spc="-1" strike="noStrike">
                <a:solidFill>
                  <a:srgbClr val="004c2b"/>
                </a:solidFill>
                <a:latin typeface="Verdana"/>
              </a:rPr>
              <a:t>CONTINGUTS i TEMPORITZACIÓ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Verdana"/>
              </a:rPr>
              <a:t>Dijous 8 de febrer</a:t>
            </a: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El Marc general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Tipologia de centres i requeriment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La planificació estratègic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El plantejament instituciona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La diagnosi: L’anàlisi DAFO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Verdana"/>
              </a:rPr>
              <a:t>Dijous 1 de març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Els objectius estratègic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El mapa estratègic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Els indicador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El Quadre de coordinació i informació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L’acord amb el Departament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8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ca-ES" sz="1600" spc="-1" strike="noStrike">
                <a:solidFill>
                  <a:srgbClr val="333333"/>
                </a:solidFill>
                <a:latin typeface="Verdana"/>
              </a:rPr>
              <a:t>Dijous 12 d’abri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Verdana"/>
              </a:rPr>
              <a:t>Experiències a partir de l’aplicació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24000" y="260280"/>
            <a:ext cx="7343640" cy="4320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Com podem avançar?     Decidint a partir de dades</a:t>
            </a:r>
            <a:r>
              <a:rPr b="1" lang="ca-ES" sz="48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373800" y="1268280"/>
            <a:ext cx="1727280" cy="2733480"/>
            <a:chOff x="6373800" y="1268280"/>
            <a:chExt cx="1727280" cy="273348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6734160" y="3068640"/>
              <a:ext cx="130824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373800" y="1268280"/>
              <a:ext cx="1727280" cy="1655640"/>
            </a:xfrm>
            <a:prstGeom prst="wedgeRoundRectCallout">
              <a:avLst>
                <a:gd name="adj1" fmla="val -19486"/>
                <a:gd name="adj2" fmla="val 58342"/>
                <a:gd name="adj3" fmla="val 16667"/>
              </a:avLst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On anem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On som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Avancem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Estem fent el que vam dir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Incideix sobre els objectius</a:t>
              </a:r>
              <a:r>
                <a:rPr b="0" lang="ca-ES" sz="1400" spc="-1" strike="noStrike">
                  <a:solidFill>
                    <a:srgbClr val="333333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900000" y="148428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Necessitem un </a:t>
            </a: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sistema d’informació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 del pla estratègic basat en </a:t>
            </a: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indicadors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 que doni resposta a les qüestions bàsiq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2360" y="400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Sense un sistema d’informació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, per concretar el pla estratègic i poder fer el seguiment de la seva aplicació, </a:t>
            </a: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el pla molt probablement fracassarà</a:t>
            </a: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.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8028000" y="5300640"/>
            <a:ext cx="861840" cy="7923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98100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i="1" lang="ca-ES" sz="1800" spc="-1" strike="noStrike">
                <a:solidFill>
                  <a:srgbClr val="ff6600"/>
                </a:solidFill>
                <a:latin typeface="Arial"/>
              </a:rPr>
              <a:t>allò que no es mesura no es pot ni gestionar ni controlar”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79280" y="117360"/>
            <a:ext cx="7705800" cy="79704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Com podem avançar?</a:t>
            </a:r>
            <a:br>
              <a:rPr sz="2400"/>
            </a:b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A través d’un sistema d’informació basat en indicadors</a:t>
            </a:r>
            <a:r>
              <a:rPr b="1" lang="ca-ES" sz="4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1413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6600"/>
                </a:solidFill>
                <a:latin typeface="Arial"/>
              </a:rPr>
              <a:t>Un indicador és la informació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 que permet al Servei Educatiu mesurar i avaluar el compliment d’un objectiu, una activitat,..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6600"/>
                </a:solidFill>
                <a:latin typeface="Arial"/>
              </a:rPr>
              <a:t>Els indicadors són útils per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 elaborar i fer el seguiment del pla estratègic, aprendre, prendre decisions i millorar 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724360" y="4148280"/>
            <a:ext cx="1446480" cy="1657080"/>
            <a:chOff x="5724360" y="4148280"/>
            <a:chExt cx="1446480" cy="1657080"/>
          </a:xfrm>
        </p:grpSpPr>
        <p:sp>
          <p:nvSpPr>
            <p:cNvPr id="543" name=""/>
            <p:cNvSpPr/>
            <p:nvPr/>
          </p:nvSpPr>
          <p:spPr>
            <a:xfrm>
              <a:off x="5724360" y="4148280"/>
              <a:ext cx="1446480" cy="1657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22240" y="4827240"/>
              <a:ext cx="549360" cy="3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M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 flipH="1">
            <a:off x="3982680" y="6883560"/>
            <a:ext cx="74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93080" y="4005360"/>
            <a:ext cx="3445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7253280" y="5013360"/>
            <a:ext cx="1890720" cy="826920"/>
            <a:chOff x="7253280" y="5013360"/>
            <a:chExt cx="1890720" cy="826920"/>
          </a:xfrm>
        </p:grpSpPr>
        <p:grpSp>
          <p:nvGrpSpPr>
            <p:cNvPr id="548" name=""/>
            <p:cNvGrpSpPr/>
            <p:nvPr/>
          </p:nvGrpSpPr>
          <p:grpSpPr>
            <a:xfrm>
              <a:off x="7253280" y="5013360"/>
              <a:ext cx="744480" cy="826920"/>
              <a:chOff x="7253280" y="5013360"/>
              <a:chExt cx="744480" cy="826920"/>
            </a:xfrm>
          </p:grpSpPr>
          <p:sp>
            <p:nvSpPr>
              <p:cNvPr id="549" name=""/>
              <p:cNvSpPr/>
              <p:nvPr/>
            </p:nvSpPr>
            <p:spPr>
              <a:xfrm>
                <a:off x="7253280" y="5013360"/>
                <a:ext cx="744480" cy="8269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25000" y="5267520"/>
                <a:ext cx="45792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33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7883640" y="5236920"/>
              <a:ext cx="12603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33"/>
                  </a:solidFill>
                  <a:latin typeface="Arial"/>
                </a:rPr>
                <a:t>       </a:t>
              </a:r>
              <a:r>
                <a:rPr b="1" lang="es-ES" sz="1600" spc="-1" strike="noStrike">
                  <a:solidFill>
                    <a:srgbClr val="ff6600"/>
                  </a:solidFill>
                  <a:latin typeface="Arial"/>
                </a:rPr>
                <a:t>Executar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864400" y="2924280"/>
            <a:ext cx="1260360" cy="1142640"/>
            <a:chOff x="5864400" y="2924280"/>
            <a:chExt cx="1260360" cy="1142640"/>
          </a:xfrm>
        </p:grpSpPr>
        <p:grpSp>
          <p:nvGrpSpPr>
            <p:cNvPr id="553" name=""/>
            <p:cNvGrpSpPr/>
            <p:nvPr/>
          </p:nvGrpSpPr>
          <p:grpSpPr>
            <a:xfrm>
              <a:off x="6036120" y="3241080"/>
              <a:ext cx="745200" cy="825840"/>
              <a:chOff x="6036120" y="3241080"/>
              <a:chExt cx="745200" cy="8258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36120" y="3241080"/>
                <a:ext cx="745200" cy="82584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07840" y="3494880"/>
                <a:ext cx="458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33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5864400" y="2924280"/>
              <a:ext cx="126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6600"/>
                  </a:solidFill>
                  <a:latin typeface="Arial"/>
                </a:rPr>
                <a:t>Planificar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 flipV="1">
            <a:off x="5478480" y="4076640"/>
            <a:ext cx="4618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3995640" y="5229360"/>
            <a:ext cx="1661760" cy="826920"/>
            <a:chOff x="3995640" y="5229360"/>
            <a:chExt cx="1661760" cy="826920"/>
          </a:xfrm>
        </p:grpSpPr>
        <p:grpSp>
          <p:nvGrpSpPr>
            <p:cNvPr id="559" name=""/>
            <p:cNvGrpSpPr/>
            <p:nvPr/>
          </p:nvGrpSpPr>
          <p:grpSpPr>
            <a:xfrm>
              <a:off x="4911840" y="5229360"/>
              <a:ext cx="745560" cy="826920"/>
              <a:chOff x="4911840" y="5229360"/>
              <a:chExt cx="745560" cy="826920"/>
            </a:xfrm>
          </p:grpSpPr>
          <p:sp>
            <p:nvSpPr>
              <p:cNvPr id="560" name=""/>
              <p:cNvSpPr/>
              <p:nvPr/>
            </p:nvSpPr>
            <p:spPr>
              <a:xfrm>
                <a:off x="4911840" y="5229360"/>
                <a:ext cx="745560" cy="826920"/>
              </a:xfrm>
              <a:prstGeom prst="ellipse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3560" y="5483520"/>
                <a:ext cx="4586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33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3995640" y="5323680"/>
              <a:ext cx="8596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6600"/>
                  </a:solidFill>
                  <a:latin typeface="Arial"/>
                </a:rPr>
                <a:t>Avaluar per millorar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6012000" y="5877000"/>
            <a:ext cx="1008000" cy="73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89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Que mesurin variables rellevants pel Servei Educatiu</a:t>
            </a:r>
            <a:r>
              <a:rPr b="0" lang="ca-E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Nivell de compliment dels objectius i el grau d’aplicació de les activitats del pla estratègic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Que sigui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pocs indicadors però rellevant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per mesurar la feina de tots els agents implicats, responsabilitat de..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de definició clara i entenedora, fàcil d'utilitz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comparables amb altres Serveis Educatiu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verificable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de baix cost d’obtenció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inequívoc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sensibles als canv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Estadísticament vàlid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Que no hi hagi incentius a la seva manipulaci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6600"/>
                </a:solidFill>
                <a:latin typeface="Times New Roman"/>
              </a:rPr>
              <a:t>Que es puguin disposar fàcilment a curt termin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0920" y="189000"/>
            <a:ext cx="7345440" cy="64764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COM HAN DE SER ELS INDICADORS? Criter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651640" y="3139920"/>
            <a:ext cx="3314520" cy="2160360"/>
            <a:chOff x="5651640" y="3139920"/>
            <a:chExt cx="3314520" cy="2160360"/>
          </a:xfrm>
        </p:grpSpPr>
        <p:grpSp>
          <p:nvGrpSpPr>
            <p:cNvPr id="567" name=""/>
            <p:cNvGrpSpPr/>
            <p:nvPr/>
          </p:nvGrpSpPr>
          <p:grpSpPr>
            <a:xfrm>
              <a:off x="5651640" y="3735000"/>
              <a:ext cx="3314520" cy="1565280"/>
              <a:chOff x="5651640" y="3735000"/>
              <a:chExt cx="3314520" cy="1565280"/>
            </a:xfrm>
          </p:grpSpPr>
          <p:sp>
            <p:nvSpPr>
              <p:cNvPr id="568" name=""/>
              <p:cNvSpPr/>
              <p:nvPr/>
            </p:nvSpPr>
            <p:spPr>
              <a:xfrm>
                <a:off x="6878520" y="3735000"/>
                <a:ext cx="514440" cy="341280"/>
              </a:xfrm>
              <a:prstGeom prst="rect">
                <a:avLst/>
              </a:prstGeom>
              <a:solidFill>
                <a:srgbClr val="99ff33">
                  <a:alpha val="50000"/>
                </a:srgbClr>
              </a:solidFill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2400" spc="-1" strike="noStrike">
                    <a:solidFill>
                      <a:srgbClr val="000099"/>
                    </a:solidFill>
                    <a:latin typeface="Times New Roman"/>
                  </a:rPr>
                  <a:t>IO</a:t>
                </a:r>
                <a:r>
                  <a:rPr b="0" lang="ca-ES" sz="2400" spc="-1" strike="noStrike" baseline="-25000">
                    <a:solidFill>
                      <a:srgbClr val="000099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5799240" y="4136400"/>
                <a:ext cx="2971800" cy="304560"/>
                <a:chOff x="5799240" y="4136400"/>
                <a:chExt cx="2971800" cy="304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70840" y="4136400"/>
                  <a:ext cx="0" cy="1522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799240" y="4288680"/>
                  <a:ext cx="2971800" cy="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799240" y="4288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170840" y="4288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771040" y="4288680"/>
                  <a:ext cx="0" cy="1522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651640" y="4423680"/>
                <a:ext cx="3314520" cy="228600"/>
                <a:chOff x="5651640" y="4423680"/>
                <a:chExt cx="3314520" cy="22860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651640" y="4423680"/>
                  <a:ext cx="342720" cy="228600"/>
                </a:xfrm>
                <a:prstGeom prst="rect">
                  <a:avLst/>
                </a:prstGeom>
                <a:solidFill>
                  <a:srgbClr val="a9bda9"/>
                </a:solidFill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1600" spc="-1" strike="noStrike">
                      <a:solidFill>
                        <a:srgbClr val="000099"/>
                      </a:solidFill>
                      <a:latin typeface="Times New Roman"/>
                    </a:rPr>
                    <a:t>E</a:t>
                  </a:r>
                  <a:r>
                    <a:rPr b="0" lang="ca-E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n1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023240" y="4423680"/>
                  <a:ext cx="342720" cy="228600"/>
                </a:xfrm>
                <a:prstGeom prst="rect">
                  <a:avLst/>
                </a:prstGeom>
                <a:solidFill>
                  <a:srgbClr val="a9bda9"/>
                </a:solidFill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1600" spc="-1" strike="noStrike">
                      <a:solidFill>
                        <a:srgbClr val="000099"/>
                      </a:solidFill>
                      <a:latin typeface="Times New Roman"/>
                    </a:rPr>
                    <a:t>E</a:t>
                  </a:r>
                  <a:r>
                    <a:rPr b="0" lang="ca-E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n2</a:t>
                  </a:r>
                  <a:endParaRPr b="0" lang="en-US" sz="1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623440" y="4423680"/>
                  <a:ext cx="342720" cy="228600"/>
                </a:xfrm>
                <a:prstGeom prst="rect">
                  <a:avLst/>
                </a:prstGeom>
                <a:solidFill>
                  <a:srgbClr val="a9bda9"/>
                </a:solidFill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1400" spc="-1" strike="noStrike">
                      <a:solidFill>
                        <a:srgbClr val="000099"/>
                      </a:solidFill>
                      <a:latin typeface="Times New Roman"/>
                    </a:rPr>
                    <a:t>E</a:t>
                  </a:r>
                  <a:r>
                    <a:rPr b="0" lang="ca-E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n...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5799240" y="4712760"/>
                <a:ext cx="2971800" cy="304560"/>
                <a:chOff x="5799240" y="4712760"/>
                <a:chExt cx="2971800" cy="30456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170840" y="4712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799240" y="4865040"/>
                  <a:ext cx="29718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799240" y="4865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170840" y="4865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771040" y="4865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5654520" y="5071680"/>
                <a:ext cx="3276360" cy="228600"/>
                <a:chOff x="5654520" y="5071680"/>
                <a:chExt cx="3276360" cy="2286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5654520" y="5071680"/>
                  <a:ext cx="342720" cy="22860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38160">
                  <a:solidFill>
                    <a:srgbClr val="b3e1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1400" spc="-1" strike="noStrike">
                      <a:solidFill>
                        <a:srgbClr val="0000cc"/>
                      </a:solidFill>
                      <a:latin typeface="Times New Roman"/>
                    </a:rPr>
                    <a:t> </a:t>
                  </a:r>
                  <a:r>
                    <a:rPr b="0" lang="ca-ES" sz="1400" spc="-1" strike="noStrike">
                      <a:solidFill>
                        <a:srgbClr val="0000cc"/>
                      </a:solidFill>
                      <a:latin typeface="Times New Roman"/>
                    </a:rPr>
                    <a:t>IA</a:t>
                  </a:r>
                  <a:r>
                    <a:rPr b="0" lang="ca-ES" sz="14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221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026120" y="5071680"/>
                  <a:ext cx="342720" cy="22860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38160">
                  <a:solidFill>
                    <a:srgbClr val="b3e1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1400" spc="-1" strike="noStrike">
                      <a:solidFill>
                        <a:srgbClr val="0000cc"/>
                      </a:solidFill>
                      <a:latin typeface="Times New Roman"/>
                    </a:rPr>
                    <a:t> </a:t>
                  </a:r>
                  <a:r>
                    <a:rPr b="0" lang="ca-ES" sz="1400" spc="-1" strike="noStrike">
                      <a:solidFill>
                        <a:srgbClr val="0000cc"/>
                      </a:solidFill>
                      <a:latin typeface="Times New Roman"/>
                    </a:rPr>
                    <a:t>IA</a:t>
                  </a:r>
                  <a:r>
                    <a:rPr b="0" lang="ca-ES" sz="14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222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588160" y="5071680"/>
                  <a:ext cx="342720" cy="22860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38160">
                  <a:solidFill>
                    <a:srgbClr val="b3e1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1400" spc="-1" strike="noStrike">
                      <a:solidFill>
                        <a:srgbClr val="0000cc"/>
                      </a:solidFill>
                      <a:latin typeface="Times New Roman"/>
                    </a:rPr>
                    <a:t> </a:t>
                  </a:r>
                  <a:r>
                    <a:rPr b="0" lang="ca-ES" sz="1400" spc="-1" strike="noStrike">
                      <a:solidFill>
                        <a:srgbClr val="0000cc"/>
                      </a:solidFill>
                      <a:latin typeface="Times New Roman"/>
                    </a:rPr>
                    <a:t>IA</a:t>
                  </a:r>
                  <a:r>
                    <a:rPr b="0" lang="ca-ES" sz="14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22...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9" name=""/>
            <p:cNvSpPr/>
            <p:nvPr/>
          </p:nvSpPr>
          <p:spPr>
            <a:xfrm>
              <a:off x="6734160" y="3139920"/>
              <a:ext cx="863280" cy="431640"/>
            </a:xfrm>
            <a:prstGeom prst="rect">
              <a:avLst/>
            </a:prstGeom>
            <a:solidFill>
              <a:srgbClr val="99ff33"/>
            </a:solidFill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000099"/>
                  </a:solidFill>
                  <a:latin typeface="Times New Roman"/>
                </a:rPr>
                <a:t>Pla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000099"/>
                  </a:solidFill>
                  <a:latin typeface="Times New Roman"/>
                </a:rPr>
                <a:t>estratègic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Limitar el nombre d’indicad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Informar a cada usuari només dels indicadors del seu interè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Il·lustrar els indicadors (gràfic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Estructurar els indicadors (causa-efecte: M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Revisar periòdicament els indicad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imes New Roman"/>
              </a:rPr>
              <a:t>Atendre les tendènc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189000"/>
            <a:ext cx="6337080" cy="50328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Com treballar amb els indicador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80880" y="228600"/>
            <a:ext cx="7315200" cy="5335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INDICADORS. EXEMPLE D’INDICADOR I FITX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63440" y="990720"/>
          <a:ext cx="901872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990720"/>
                    <a:ext cx="90187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324000" y="1916280"/>
            <a:ext cx="8510400" cy="3506760"/>
            <a:chOff x="324000" y="1916280"/>
            <a:chExt cx="8510400" cy="3506760"/>
          </a:xfrm>
        </p:grpSpPr>
        <p:sp>
          <p:nvSpPr>
            <p:cNvPr id="596" name=""/>
            <p:cNvSpPr/>
            <p:nvPr/>
          </p:nvSpPr>
          <p:spPr>
            <a:xfrm>
              <a:off x="4522680" y="4699440"/>
              <a:ext cx="21560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ff3300"/>
                  </a:solidFill>
                  <a:latin typeface="Times New Roman"/>
                </a:rPr>
                <a:t>OBLIGATORI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VOLUNTARI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22680" y="4334040"/>
              <a:ext cx="215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22680" y="3610440"/>
              <a:ext cx="21560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VOLUNTARI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22680" y="2640240"/>
              <a:ext cx="21560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ff3300"/>
                  </a:solidFill>
                  <a:latin typeface="Times New Roman"/>
                </a:rPr>
                <a:t>OBLIGATORI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22680" y="1916280"/>
              <a:ext cx="21560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33"/>
                  </a:solidFill>
                  <a:latin typeface="Times New Roman"/>
                </a:rPr>
                <a:t>Caràcter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78720" y="4699440"/>
              <a:ext cx="2155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IE/I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Centre/centre i/o I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25840" y="4699440"/>
              <a:ext cx="18968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Objectius DEiU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Objectius Centr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000" y="4699440"/>
              <a:ext cx="23018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Activitat.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78720" y="4334040"/>
              <a:ext cx="2155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25840" y="4334040"/>
              <a:ext cx="1896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4000" y="4334040"/>
              <a:ext cx="2301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78720" y="3610440"/>
              <a:ext cx="2155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Centre/centr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5840" y="3610440"/>
              <a:ext cx="18968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xxxx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4000" y="3610440"/>
              <a:ext cx="23018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Resultat. Centr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78720" y="2640240"/>
              <a:ext cx="215568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UMCE/centr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25840" y="2640240"/>
              <a:ext cx="18968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Millorar resultats educatiu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Cohesió social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4000" y="2640240"/>
              <a:ext cx="23018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Times New Roman"/>
                </a:rPr>
                <a:t>Resultat. DEiU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8720" y="1916280"/>
              <a:ext cx="215568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33"/>
                  </a:solidFill>
                  <a:latin typeface="Times New Roman"/>
                </a:rPr>
                <a:t>Disseny/dad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25840" y="1916280"/>
              <a:ext cx="18968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33"/>
                  </a:solidFill>
                  <a:latin typeface="Times New Roman"/>
                </a:rPr>
                <a:t>Objectiu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4000" y="1916280"/>
              <a:ext cx="23018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33"/>
                  </a:solidFill>
                  <a:latin typeface="Times New Roman"/>
                </a:rPr>
                <a:t>Tipus d’indicador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4000" y="1916280"/>
              <a:ext cx="8510400" cy="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4000" y="2640240"/>
              <a:ext cx="851040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4000" y="3610440"/>
              <a:ext cx="851040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4000" y="4334040"/>
              <a:ext cx="851040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000" y="4699440"/>
              <a:ext cx="851040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4000" y="5423040"/>
              <a:ext cx="8510400" cy="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4000" y="1916280"/>
              <a:ext cx="0" cy="350676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25840" y="1916280"/>
              <a:ext cx="0" cy="3506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22680" y="1916280"/>
              <a:ext cx="0" cy="3506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834400" y="1916280"/>
              <a:ext cx="0" cy="350676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8720" y="1916280"/>
              <a:ext cx="0" cy="3506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835280" y="981000"/>
            <a:ext cx="4968720" cy="5543640"/>
          </a:xfrm>
          <a:prstGeom prst="ellipse">
            <a:avLst/>
          </a:prstGeom>
          <a:solidFill>
            <a:srgbClr val="ffffcc">
              <a:alpha val="49000"/>
            </a:srgbClr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059280" y="1419120"/>
            <a:ext cx="2522520" cy="3304800"/>
            <a:chOff x="3059280" y="1419120"/>
            <a:chExt cx="2522520" cy="3304800"/>
          </a:xfrm>
        </p:grpSpPr>
        <p:grpSp>
          <p:nvGrpSpPr>
            <p:cNvPr id="629" name=""/>
            <p:cNvGrpSpPr/>
            <p:nvPr/>
          </p:nvGrpSpPr>
          <p:grpSpPr>
            <a:xfrm>
              <a:off x="3205080" y="1419120"/>
              <a:ext cx="2376720" cy="2514600"/>
              <a:chOff x="3205080" y="1419120"/>
              <a:chExt cx="2376720" cy="251460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3205080" y="1419120"/>
                <a:ext cx="2376720" cy="2514600"/>
                <a:chOff x="3205080" y="1419120"/>
                <a:chExt cx="2376720" cy="2514600"/>
              </a:xfrm>
            </p:grpSpPr>
            <p:pic>
              <p:nvPicPr>
                <p:cNvPr id="63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05080" y="1419120"/>
                  <a:ext cx="2376720" cy="167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76720" y="2355840"/>
                  <a:ext cx="2232000" cy="157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3" name=""/>
              <p:cNvSpPr/>
              <p:nvPr/>
            </p:nvSpPr>
            <p:spPr>
              <a:xfrm>
                <a:off x="3349800" y="3429000"/>
                <a:ext cx="215892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2400" spc="-1" strike="noStrike">
                    <a:solidFill>
                      <a:srgbClr val="ff9900"/>
                    </a:solidFill>
                    <a:latin typeface="Times New Roman"/>
                  </a:rPr>
                  <a:t>QCI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059280" y="3932280"/>
              <a:ext cx="2520720" cy="791640"/>
              <a:chOff x="3059280" y="3932280"/>
              <a:chExt cx="2520720" cy="791640"/>
            </a:xfrm>
          </p:grpSpPr>
          <p:sp>
            <p:nvSpPr>
              <p:cNvPr id="635" name=""/>
              <p:cNvSpPr/>
              <p:nvPr/>
            </p:nvSpPr>
            <p:spPr>
              <a:xfrm>
                <a:off x="3060720" y="4328280"/>
                <a:ext cx="2518920" cy="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427280" y="3932280"/>
                <a:ext cx="0" cy="39600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59280" y="4328280"/>
                <a:ext cx="0" cy="3956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80000" y="4328280"/>
                <a:ext cx="0" cy="3956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7128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COM ESTRUCTURAR LA INFORMACIÓ?  </a:t>
            </a:r>
            <a:br>
              <a:rPr sz="2400"/>
            </a:b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A través del Quadre de Coordinació i Informació de centre (QCI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85760" y="4363920"/>
            <a:ext cx="3594240" cy="1150920"/>
            <a:chOff x="185760" y="4363920"/>
            <a:chExt cx="3594240" cy="1150920"/>
          </a:xfrm>
        </p:grpSpPr>
        <p:sp>
          <p:nvSpPr>
            <p:cNvPr id="641" name=""/>
            <p:cNvSpPr/>
            <p:nvPr/>
          </p:nvSpPr>
          <p:spPr>
            <a:xfrm>
              <a:off x="2411280" y="4795560"/>
              <a:ext cx="1368720" cy="719280"/>
            </a:xfrm>
            <a:prstGeom prst="rect">
              <a:avLst/>
            </a:prstGeom>
            <a:solidFill>
              <a:srgbClr val="99ff33">
                <a:alpha val="49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6600"/>
                  </a:solidFill>
                  <a:latin typeface="Arial"/>
                </a:rPr>
                <a:t>Indicador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6600"/>
                  </a:solidFill>
                  <a:latin typeface="Arial"/>
                </a:rPr>
                <a:t>de resultat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85760" y="4363920"/>
              <a:ext cx="1655640" cy="1078920"/>
              <a:chOff x="185760" y="4363920"/>
              <a:chExt cx="1655640" cy="107892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904680" y="4363920"/>
                <a:ext cx="936720" cy="1078920"/>
                <a:chOff x="904680" y="4363920"/>
                <a:chExt cx="936720" cy="10789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904680" y="4363920"/>
                  <a:ext cx="0" cy="1078920"/>
                </a:xfrm>
                <a:prstGeom prst="line">
                  <a:avLst/>
                </a:prstGeom>
                <a:ln w="57240">
                  <a:solidFill>
                    <a:srgbClr val="99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904680" y="5442840"/>
                  <a:ext cx="936720" cy="0"/>
                </a:xfrm>
                <a:prstGeom prst="line">
                  <a:avLst/>
                </a:prstGeom>
                <a:ln w="57240">
                  <a:solidFill>
                    <a:srgbClr val="99ff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185760" y="4724280"/>
                <a:ext cx="1584000" cy="33732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333333"/>
                    </a:solidFill>
                    <a:latin typeface="Arial"/>
                  </a:rPr>
                  <a:t>quantificar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7" name=""/>
          <p:cNvGrpSpPr/>
          <p:nvPr/>
        </p:nvGrpSpPr>
        <p:grpSpPr>
          <a:xfrm>
            <a:off x="4932360" y="4653000"/>
            <a:ext cx="3673440" cy="863640"/>
            <a:chOff x="4932360" y="4653000"/>
            <a:chExt cx="3673440" cy="863640"/>
          </a:xfrm>
        </p:grpSpPr>
        <p:sp>
          <p:nvSpPr>
            <p:cNvPr id="648" name=""/>
            <p:cNvSpPr/>
            <p:nvPr/>
          </p:nvSpPr>
          <p:spPr>
            <a:xfrm>
              <a:off x="4932360" y="4797360"/>
              <a:ext cx="1368360" cy="719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Indicador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d’activitat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6948000" y="4653000"/>
              <a:ext cx="1657800" cy="792000"/>
              <a:chOff x="6948000" y="4653000"/>
              <a:chExt cx="1657800" cy="7920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6948000" y="4653000"/>
                <a:ext cx="792720" cy="792000"/>
                <a:chOff x="6948000" y="4653000"/>
                <a:chExt cx="792720" cy="7920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740720" y="4653000"/>
                  <a:ext cx="0" cy="792000"/>
                </a:xfrm>
                <a:prstGeom prst="line">
                  <a:avLst/>
                </a:prstGeom>
                <a:ln w="57240">
                  <a:solidFill>
                    <a:srgbClr val="b3e1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6948000" y="5445000"/>
                  <a:ext cx="792360" cy="0"/>
                </a:xfrm>
                <a:prstGeom prst="line">
                  <a:avLst/>
                </a:prstGeom>
                <a:ln w="57240">
                  <a:solidFill>
                    <a:srgbClr val="b3e1b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7021440" y="4868640"/>
                <a:ext cx="1584360" cy="33732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333333"/>
                    </a:solidFill>
                    <a:latin typeface="Arial"/>
                  </a:rPr>
                  <a:t>quantificar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395280" y="5661000"/>
            <a:ext cx="7981920" cy="1152720"/>
            <a:chOff x="395280" y="5661000"/>
            <a:chExt cx="7981920" cy="1152720"/>
          </a:xfrm>
        </p:grpSpPr>
        <p:sp>
          <p:nvSpPr>
            <p:cNvPr id="655" name=""/>
            <p:cNvSpPr/>
            <p:nvPr/>
          </p:nvSpPr>
          <p:spPr>
            <a:xfrm>
              <a:off x="395280" y="6426360"/>
              <a:ext cx="7981920" cy="38736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Arial"/>
                </a:rPr>
                <a:t>REALITAT = NIVELL D’APLICACIÓ PE I RESULTATS OBTINGUT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32000" y="5661000"/>
              <a:ext cx="0" cy="7477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0000" y="5661000"/>
              <a:ext cx="0" cy="72072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0" y="5589360"/>
            <a:ext cx="2627280" cy="648000"/>
            <a:chOff x="0" y="5589360"/>
            <a:chExt cx="2627280" cy="648000"/>
          </a:xfrm>
        </p:grpSpPr>
        <p:sp>
          <p:nvSpPr>
            <p:cNvPr id="659" name=""/>
            <p:cNvSpPr/>
            <p:nvPr/>
          </p:nvSpPr>
          <p:spPr>
            <a:xfrm>
              <a:off x="0" y="5734080"/>
              <a:ext cx="2193840" cy="503280"/>
            </a:xfrm>
            <a:prstGeom prst="rect">
              <a:avLst/>
            </a:prstGeom>
            <a:solidFill>
              <a:srgbClr val="99ff33">
                <a:alpha val="49000"/>
              </a:srgbClr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333333"/>
                  </a:solidFill>
                  <a:latin typeface="Arial"/>
                </a:rPr>
                <a:t>Dades de referència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333333"/>
                  </a:solidFill>
                  <a:latin typeface="Arial"/>
                </a:rPr>
                <a:t>de resultat de l’entorn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2195640" y="5589360"/>
              <a:ext cx="431640" cy="432000"/>
              <a:chOff x="2195640" y="5589360"/>
              <a:chExt cx="431640" cy="432000"/>
            </a:xfrm>
          </p:grpSpPr>
          <p:sp>
            <p:nvSpPr>
              <p:cNvPr id="661" name=""/>
              <p:cNvSpPr/>
              <p:nvPr/>
            </p:nvSpPr>
            <p:spPr>
              <a:xfrm>
                <a:off x="2195640" y="6021360"/>
                <a:ext cx="431640" cy="0"/>
              </a:xfrm>
              <a:prstGeom prst="line">
                <a:avLst/>
              </a:prstGeom>
              <a:ln w="5724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2627280" y="5589360"/>
                <a:ext cx="0" cy="431640"/>
              </a:xfrm>
              <a:prstGeom prst="line">
                <a:avLst/>
              </a:prstGeom>
              <a:ln w="5724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152280" y="990720"/>
            <a:ext cx="1684440" cy="3228840"/>
            <a:chOff x="152280" y="990720"/>
            <a:chExt cx="1684440" cy="3228840"/>
          </a:xfrm>
        </p:grpSpPr>
        <p:sp>
          <p:nvSpPr>
            <p:cNvPr id="664" name=""/>
            <p:cNvSpPr/>
            <p:nvPr/>
          </p:nvSpPr>
          <p:spPr>
            <a:xfrm>
              <a:off x="179280" y="3427560"/>
              <a:ext cx="1513080" cy="792000"/>
            </a:xfrm>
            <a:prstGeom prst="rect">
              <a:avLst/>
            </a:prstGeom>
            <a:solidFill>
              <a:srgbClr val="99ff33">
                <a:alpha val="60000"/>
              </a:srgbClr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9900"/>
                  </a:solidFill>
                  <a:latin typeface="Arial"/>
                </a:rPr>
                <a:t>El PE fixa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9900"/>
                  </a:solidFill>
                  <a:latin typeface="Arial"/>
                </a:rPr>
                <a:t>els objectiu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ca-ES" sz="1800" spc="-1" strike="noStrike">
                  <a:solidFill>
                    <a:srgbClr val="009900"/>
                  </a:solidFill>
                  <a:latin typeface="Arial"/>
                </a:rPr>
                <a:t>de l’acord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665" name=""/>
            <p:cNvGraphicFramePr/>
            <p:nvPr/>
          </p:nvGraphicFramePr>
          <p:xfrm>
            <a:off x="152280" y="990720"/>
            <a:ext cx="1684440" cy="24890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990720"/>
                      <a:ext cx="1684440" cy="24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7" name=""/>
          <p:cNvGrpSpPr/>
          <p:nvPr/>
        </p:nvGrpSpPr>
        <p:grpSpPr>
          <a:xfrm>
            <a:off x="6950160" y="990720"/>
            <a:ext cx="1727280" cy="3590640"/>
            <a:chOff x="6950160" y="990720"/>
            <a:chExt cx="1727280" cy="3590640"/>
          </a:xfrm>
        </p:grpSpPr>
        <p:sp>
          <p:nvSpPr>
            <p:cNvPr id="668" name=""/>
            <p:cNvSpPr/>
            <p:nvPr/>
          </p:nvSpPr>
          <p:spPr>
            <a:xfrm>
              <a:off x="6950160" y="3139920"/>
              <a:ext cx="1727280" cy="144144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La concreció per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curs de l’acord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fixa l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activitats del P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669" name=""/>
            <p:cNvGraphicFramePr/>
            <p:nvPr/>
          </p:nvGraphicFramePr>
          <p:xfrm>
            <a:off x="7112160" y="990720"/>
            <a:ext cx="1555560" cy="23367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12160" y="990720"/>
                      <a:ext cx="1555560" cy="23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1920" y="80640"/>
            <a:ext cx="4960800" cy="75708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QCI:  El seguiment del nivell de compliment dels objectius del PE</a:t>
            </a:r>
            <a:r>
              <a:rPr b="0" lang="ca-E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98920" y="5300640"/>
            <a:ext cx="1368360" cy="863640"/>
          </a:xfrm>
          <a:prstGeom prst="rect">
            <a:avLst/>
          </a:prstGeom>
          <a:solidFill>
            <a:srgbClr val="99ff33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6600"/>
                </a:solidFill>
                <a:latin typeface="Arial"/>
              </a:rPr>
              <a:t>Indicador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6600"/>
                </a:solidFill>
                <a:latin typeface="Arial"/>
              </a:rPr>
              <a:t>de resultat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6600"/>
                </a:solidFill>
                <a:latin typeface="Arial"/>
              </a:rPr>
              <a:t>per objectiu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0" y="5877000"/>
            <a:ext cx="4500000" cy="360360"/>
            <a:chOff x="0" y="5877000"/>
            <a:chExt cx="4500000" cy="360360"/>
          </a:xfrm>
        </p:grpSpPr>
        <p:sp>
          <p:nvSpPr>
            <p:cNvPr id="674" name=""/>
            <p:cNvSpPr/>
            <p:nvPr/>
          </p:nvSpPr>
          <p:spPr>
            <a:xfrm>
              <a:off x="0" y="5877000"/>
              <a:ext cx="4182840" cy="36036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333333"/>
                  </a:solidFill>
                  <a:latin typeface="Arial"/>
                </a:rPr>
                <a:t>REALITAT = RESULTATS OBTINGUT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218120" y="6011280"/>
              <a:ext cx="281880" cy="108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908000" y="5229360"/>
            <a:ext cx="2592360" cy="503280"/>
            <a:chOff x="1908000" y="5229360"/>
            <a:chExt cx="2592360" cy="503280"/>
          </a:xfrm>
        </p:grpSpPr>
        <p:sp>
          <p:nvSpPr>
            <p:cNvPr id="677" name=""/>
            <p:cNvSpPr/>
            <p:nvPr/>
          </p:nvSpPr>
          <p:spPr>
            <a:xfrm>
              <a:off x="1908000" y="5229360"/>
              <a:ext cx="2193840" cy="503280"/>
            </a:xfrm>
            <a:prstGeom prst="rect">
              <a:avLst/>
            </a:prstGeom>
            <a:solidFill>
              <a:srgbClr val="99ff33">
                <a:alpha val="49000"/>
              </a:srgbClr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333333"/>
                  </a:solidFill>
                  <a:latin typeface="Arial"/>
                </a:rPr>
                <a:t>Dades de referència de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333333"/>
                  </a:solidFill>
                  <a:latin typeface="Arial"/>
                </a:rPr>
                <a:t>resultats de l’entorn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68360" y="5516640"/>
              <a:ext cx="432000" cy="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81080" y="981000"/>
            <a:ext cx="4162320" cy="2143080"/>
          </a:xfrm>
          <a:prstGeom prst="rect">
            <a:avLst/>
          </a:prstGeom>
          <a:solidFill>
            <a:srgbClr val="99ff33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6600"/>
                </a:solidFill>
                <a:latin typeface="Arial"/>
              </a:rPr>
              <a:t>OBJECTIUS DEL PLA ESTRATÈGIC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1.- Millorar els resultats educatiu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2.- Millorar la cohesió socia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3.- Millorar l’organització, coordinació,participació,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informació i comunicació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4.- Promoure la qualitat pedagògica lliga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a projectes d’innovació educativ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333333"/>
                </a:solidFill>
                <a:latin typeface="Arial"/>
              </a:rPr>
              <a:t>5.- Millorar el servei i la imatge del centr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5256360" y="0"/>
            <a:ext cx="3924000" cy="2560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grpSp>
        <p:nvGrpSpPr>
          <p:cNvPr id="681" name=""/>
          <p:cNvGrpSpPr/>
          <p:nvPr/>
        </p:nvGrpSpPr>
        <p:grpSpPr>
          <a:xfrm>
            <a:off x="380880" y="3124080"/>
            <a:ext cx="4335480" cy="2026080"/>
            <a:chOff x="380880" y="3124080"/>
            <a:chExt cx="4335480" cy="2026080"/>
          </a:xfrm>
        </p:grpSpPr>
        <p:sp>
          <p:nvSpPr>
            <p:cNvPr id="682" name=""/>
            <p:cNvSpPr/>
            <p:nvPr/>
          </p:nvSpPr>
          <p:spPr>
            <a:xfrm>
              <a:off x="1359720" y="3540960"/>
              <a:ext cx="1538640" cy="580680"/>
            </a:xfrm>
            <a:prstGeom prst="rect">
              <a:avLst/>
            </a:prstGeom>
            <a:solidFill>
              <a:srgbClr val="a9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009900"/>
                  </a:solidFill>
                  <a:latin typeface="Arial"/>
                </a:rPr>
                <a:t>quantificar objectiu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80880" y="3124080"/>
              <a:ext cx="4335480" cy="2026080"/>
              <a:chOff x="380880" y="3124080"/>
              <a:chExt cx="4335480" cy="2026080"/>
            </a:xfrm>
          </p:grpSpPr>
          <p:sp>
            <p:nvSpPr>
              <p:cNvPr id="684" name=""/>
              <p:cNvSpPr/>
              <p:nvPr/>
            </p:nvSpPr>
            <p:spPr>
              <a:xfrm>
                <a:off x="380880" y="3124080"/>
                <a:ext cx="0" cy="1404720"/>
              </a:xfrm>
              <a:prstGeom prst="line">
                <a:avLst/>
              </a:prstGeom>
              <a:ln w="5724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0880" y="4528800"/>
                <a:ext cx="4335480" cy="18000"/>
              </a:xfrm>
              <a:prstGeom prst="line">
                <a:avLst/>
              </a:prstGeom>
              <a:ln w="5724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16360" y="4547160"/>
                <a:ext cx="0" cy="603000"/>
              </a:xfrm>
              <a:prstGeom prst="line">
                <a:avLst/>
              </a:prstGeom>
              <a:ln w="3816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5256360" y="2492280"/>
            <a:ext cx="3924000" cy="3384720"/>
            <a:chOff x="5256360" y="2492280"/>
            <a:chExt cx="3924000" cy="3384720"/>
          </a:xfrm>
        </p:grpSpPr>
        <p:grpSp>
          <p:nvGrpSpPr>
            <p:cNvPr id="688" name=""/>
            <p:cNvGrpSpPr/>
            <p:nvPr/>
          </p:nvGrpSpPr>
          <p:grpSpPr>
            <a:xfrm>
              <a:off x="5256360" y="2492280"/>
              <a:ext cx="3924000" cy="3384720"/>
              <a:chOff x="5256360" y="2492280"/>
              <a:chExt cx="3924000" cy="3384720"/>
            </a:xfrm>
          </p:grpSpPr>
          <p:sp>
            <p:nvSpPr>
              <p:cNvPr id="689" name=""/>
              <p:cNvSpPr/>
              <p:nvPr/>
            </p:nvSpPr>
            <p:spPr>
              <a:xfrm>
                <a:off x="6659640" y="5300640"/>
                <a:ext cx="2158920" cy="576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2400" spc="-1" strike="noStrike">
                    <a:solidFill>
                      <a:srgbClr val="ff9900"/>
                    </a:solidFill>
                    <a:latin typeface="Arial"/>
                  </a:rPr>
                  <a:t>QCI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pic>
            <p:nvPicPr>
              <p:cNvPr id="6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6360" y="2492280"/>
                <a:ext cx="3924000" cy="2774880"/>
              </a:xfrm>
              <a:prstGeom prst="rect">
                <a:avLst/>
              </a:prstGeom>
              <a:ln w="9360">
                <a:solidFill>
                  <a:srgbClr val="66ff33"/>
                </a:solidFill>
                <a:miter/>
              </a:ln>
            </p:spPr>
          </p:pic>
        </p:grpSp>
        <p:grpSp>
          <p:nvGrpSpPr>
            <p:cNvPr id="691" name=""/>
            <p:cNvGrpSpPr/>
            <p:nvPr/>
          </p:nvGrpSpPr>
          <p:grpSpPr>
            <a:xfrm>
              <a:off x="5869080" y="4437000"/>
              <a:ext cx="215640" cy="1367280"/>
              <a:chOff x="5869080" y="4437000"/>
              <a:chExt cx="215640" cy="1367280"/>
            </a:xfrm>
          </p:grpSpPr>
          <p:sp>
            <p:nvSpPr>
              <p:cNvPr id="692" name=""/>
              <p:cNvSpPr/>
              <p:nvPr/>
            </p:nvSpPr>
            <p:spPr>
              <a:xfrm>
                <a:off x="5869080" y="5804280"/>
                <a:ext cx="215640" cy="0"/>
              </a:xfrm>
              <a:prstGeom prst="line">
                <a:avLst/>
              </a:prstGeom>
              <a:ln w="5724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084720" y="4437000"/>
                <a:ext cx="0" cy="1367280"/>
              </a:xfrm>
              <a:prstGeom prst="line">
                <a:avLst/>
              </a:prstGeom>
              <a:ln w="5724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 rot="10800000">
            <a:off x="5076720" y="3284640"/>
            <a:ext cx="503280" cy="1079280"/>
          </a:xfrm>
          <a:custGeom>
            <a:avLst/>
            <a:gdLst>
              <a:gd name="textAreaLeft" fmla="*/ 67320 w 503280"/>
              <a:gd name="textAreaRight" fmla="*/ 435960 w 503280"/>
              <a:gd name="textAreaTop" fmla="*/ 230040 h 1079280"/>
              <a:gd name="textAreaBottom" fmla="*/ 74088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3032911"/>
                <a:lnTo>
                  <a:pt x="7154" y="21080"/>
                </a:lnTo>
                <a:lnTo>
                  <a:pt x="0" y="18930"/>
                </a:lnTo>
                <a:lnTo>
                  <a:pt x="7154" y="15740"/>
                </a:lnTo>
                <a:lnTo>
                  <a:pt x="7154" y="17907"/>
                </a:lnTo>
                <a:arcTo wR="21600" hR="9214" stAng="3032911" swAng="-2952751"/>
                <a:lnTo>
                  <a:pt x="21568" y="9717"/>
                </a:lnTo>
                <a:arcTo wR="21600" hR="9214" stAng="-80160" swAng="-5319840"/>
                <a:close/>
              </a:path>
              <a:path fill="darkenLess"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-80160"/>
                <a:lnTo>
                  <a:pt x="21568" y="9717"/>
                </a:lnTo>
                <a:arcTo wR="21600" hR="9214" stAng="-80160" swAng="-5319840"/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172360" y="1197000"/>
            <a:ext cx="649440" cy="144360"/>
          </a:xfrm>
          <a:prstGeom prst="leftArrow">
            <a:avLst>
              <a:gd name="adj1" fmla="val 50000"/>
              <a:gd name="adj2" fmla="val 112469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0800000">
            <a:off x="5003640" y="260280"/>
            <a:ext cx="503280" cy="3240000"/>
          </a:xfrm>
          <a:custGeom>
            <a:avLst/>
            <a:gdLst>
              <a:gd name="textAreaLeft" fmla="*/ 67320 w 503280"/>
              <a:gd name="textAreaRight" fmla="*/ 435960 w 503280"/>
              <a:gd name="textAreaTop" fmla="*/ 690840 h 3240000"/>
              <a:gd name="textAreaBottom" fmla="*/ 222408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3032911"/>
                <a:lnTo>
                  <a:pt x="7154" y="21080"/>
                </a:lnTo>
                <a:lnTo>
                  <a:pt x="0" y="18930"/>
                </a:lnTo>
                <a:lnTo>
                  <a:pt x="7154" y="15740"/>
                </a:lnTo>
                <a:lnTo>
                  <a:pt x="7154" y="17907"/>
                </a:lnTo>
                <a:arcTo wR="21600" hR="9214" stAng="3032911" swAng="-2952751"/>
                <a:lnTo>
                  <a:pt x="21568" y="9717"/>
                </a:lnTo>
                <a:arcTo wR="21600" hR="9214" stAng="-80160" swAng="-5319840"/>
                <a:close/>
              </a:path>
              <a:path fill="darkenLess"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-80160"/>
                <a:lnTo>
                  <a:pt x="21568" y="9717"/>
                </a:lnTo>
                <a:arcTo wR="21600" hR="9214" stAng="-80160" swAng="-5319840"/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67640" y="3068640"/>
            <a:ext cx="1476360" cy="7333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6600"/>
                </a:solidFill>
                <a:latin typeface="Arial"/>
              </a:rPr>
              <a:t>Indicador síntesi de l’objecti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12000" y="4005360"/>
            <a:ext cx="1081080" cy="5202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6600"/>
                </a:solidFill>
                <a:latin typeface="Arial"/>
              </a:rPr>
              <a:t>Indicadors d’objecti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64360" y="1471680"/>
            <a:ext cx="1871640" cy="5202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6600"/>
                </a:solidFill>
                <a:latin typeface="Arial"/>
              </a:rPr>
              <a:t>Indicador síntesi dels objectius de centr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101080" y="106200"/>
            <a:ext cx="1152360" cy="7333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6600"/>
                </a:solidFill>
                <a:latin typeface="Arial"/>
              </a:rPr>
              <a:t>Indicadors síntesi per objecti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960800" cy="61128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QCI:  Resultats per </a:t>
            </a:r>
            <a:r>
              <a:rPr b="0" lang="ca-ES" sz="2400" spc="-1" strike="noStrike">
                <a:solidFill>
                  <a:srgbClr val="ff9933"/>
                </a:solidFill>
                <a:latin typeface="Times New Roman"/>
              </a:rPr>
              <a:t>objectiu i cur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905120" y="11160"/>
            <a:ext cx="7238880" cy="684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ca-ES" sz="4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ca-ES" sz="2800" spc="-1" strike="noStrike">
                <a:solidFill>
                  <a:srgbClr val="ff6600"/>
                </a:solidFill>
                <a:latin typeface="Times New Roman"/>
              </a:rPr>
              <a:t>QCI:  Resultats per </a:t>
            </a: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objectius i curs</a:t>
            </a:r>
            <a:r>
              <a:rPr b="0" lang="ca-ES" sz="4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ca-ES" sz="4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ca-ES" sz="48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87480" y="870120"/>
          <a:ext cx="8969040" cy="511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870120"/>
                    <a:ext cx="8969040" cy="51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1920" y="457200"/>
            <a:ext cx="762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a-ES" sz="2000" spc="-1" strike="noStrike">
                <a:solidFill>
                  <a:srgbClr val="004c2b"/>
                </a:solidFill>
                <a:latin typeface="Verdana"/>
              </a:rPr>
              <a:t>PACTE DEL TINELL. PROGRAMA EDUCACIÓ   2004-07</a:t>
            </a:r>
            <a:br>
              <a:rPr sz="2000"/>
            </a:b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23760"/>
            <a:ext cx="9144000" cy="2217960"/>
          </a:xfrm>
          <a:prstGeom prst="rect">
            <a:avLst/>
          </a:prstGeom>
          <a:solidFill>
            <a:srgbClr val="a9bda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ahoma"/>
              </a:rPr>
              <a:t>MILLORAR LA QUALITAT DEL SEC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523880"/>
            <a:ext cx="236232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Tahoma"/>
              </a:rPr>
              <a:t>Reduir el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Tahoma"/>
              </a:rPr>
              <a:t>fracàs escol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205000"/>
            <a:ext cx="23623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Tahoma"/>
              </a:rPr>
              <a:t>Millorar el rendiment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Tahoma"/>
              </a:rPr>
              <a:t>general de l’alum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99280" y="2205000"/>
            <a:ext cx="2665440" cy="862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Incrementar i millor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la FP i l’educació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permanen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1484280"/>
            <a:ext cx="2448000" cy="102888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Tahoma"/>
              </a:rPr>
              <a:t>Garantir la igualtat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Tahoma"/>
              </a:rPr>
              <a:t>d’oportunitats</a:t>
            </a:r>
            <a:r>
              <a:rPr b="0" lang="ca-E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i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la cohesió socia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1341360"/>
            <a:ext cx="2772000" cy="71928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Crear 30.000 place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Públiques d’EINF 1r cicl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13000"/>
            <a:ext cx="9144000" cy="2505240"/>
          </a:xfrm>
          <a:prstGeom prst="rect">
            <a:avLst/>
          </a:prstGeom>
          <a:solidFill>
            <a:srgbClr val="a9bda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Tahoma"/>
              </a:rPr>
              <a:t>LES ESTRATEGI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3357720"/>
            <a:ext cx="252108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Escola catalana,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Innovadora i de qualit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4111560"/>
            <a:ext cx="2521080" cy="609840"/>
          </a:xfrm>
          <a:prstGeom prst="rect">
            <a:avLst/>
          </a:prstGeom>
          <a:solidFill>
            <a:srgbClr val="cc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Autonomia del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centres educatiu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869000"/>
            <a:ext cx="25207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Planificació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de l’oferta educativ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693960"/>
            <a:ext cx="2808000" cy="86544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Xarxa integrada per tot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els centres finançat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amb fons públic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200" y="4830840"/>
            <a:ext cx="295308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Professorat: reconegut,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qualificat i compromès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3533760"/>
            <a:ext cx="241164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FP per una societ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globalitzada i del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coneixemen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759200"/>
            <a:ext cx="2555640" cy="86544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Coresponsabilitat i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cogestió educativa am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777777"/>
                </a:solidFill>
                <a:latin typeface="Arial"/>
              </a:rPr>
              <a:t>l’administració loca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05360"/>
            <a:ext cx="9144000" cy="719280"/>
          </a:xfrm>
          <a:prstGeom prst="rect">
            <a:avLst/>
          </a:prstGeom>
          <a:solidFill>
            <a:srgbClr val="a9bda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95256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5651640" y="1773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556000" y="191628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56000" y="2205000"/>
            <a:ext cx="792000" cy="2160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812000" y="0"/>
            <a:ext cx="1368360" cy="1267920"/>
            <a:chOff x="7812000" y="0"/>
            <a:chExt cx="1368360" cy="126792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683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7913880" y="1056600"/>
              <a:ext cx="102636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500720" y="5877000"/>
            <a:ext cx="2808000" cy="660240"/>
            <a:chOff x="4500720" y="5877000"/>
            <a:chExt cx="2808000" cy="66024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4500720" y="5877000"/>
              <a:ext cx="28080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867280" y="6237360"/>
              <a:ext cx="144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900" spc="-1" strike="noStrike">
                  <a:solidFill>
                    <a:srgbClr val="578963"/>
                  </a:solidFill>
                  <a:latin typeface="Tahoma"/>
                </a:rPr>
                <a:t>21 DE MARÇ 2006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516800" cy="7621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QCI:  Seguiment de l’aplicació de les activitats de les estratègies del pla estratègic</a:t>
            </a:r>
            <a:r>
              <a:rPr b="0" lang="ca-E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0920" y="4076640"/>
            <a:ext cx="2376720" cy="14400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3333"/>
                </a:solidFill>
                <a:latin typeface="Arial"/>
              </a:rPr>
              <a:t>Indicadors d’activitat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33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Grau d’execució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33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Qualitat d’execució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33"/>
              </a:buClr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Grau d’impact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24000" y="4114800"/>
            <a:ext cx="1584000" cy="969120"/>
            <a:chOff x="324000" y="4114800"/>
            <a:chExt cx="1584000" cy="969120"/>
          </a:xfrm>
        </p:grpSpPr>
        <p:grpSp>
          <p:nvGrpSpPr>
            <p:cNvPr id="709" name=""/>
            <p:cNvGrpSpPr/>
            <p:nvPr/>
          </p:nvGrpSpPr>
          <p:grpSpPr>
            <a:xfrm>
              <a:off x="1042560" y="4114800"/>
              <a:ext cx="791640" cy="969120"/>
              <a:chOff x="1042560" y="4114800"/>
              <a:chExt cx="791640" cy="969120"/>
            </a:xfrm>
          </p:grpSpPr>
          <p:sp>
            <p:nvSpPr>
              <p:cNvPr id="710" name=""/>
              <p:cNvSpPr/>
              <p:nvPr/>
            </p:nvSpPr>
            <p:spPr>
              <a:xfrm>
                <a:off x="1042920" y="4114800"/>
                <a:ext cx="0" cy="969120"/>
              </a:xfrm>
              <a:prstGeom prst="line">
                <a:avLst/>
              </a:prstGeom>
              <a:ln w="57240">
                <a:solidFill>
                  <a:srgbClr val="b3e1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1042560" y="5083920"/>
                <a:ext cx="791640" cy="0"/>
              </a:xfrm>
              <a:prstGeom prst="line">
                <a:avLst/>
              </a:prstGeom>
              <a:ln w="57240">
                <a:solidFill>
                  <a:srgbClr val="b3e1b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324000" y="4379040"/>
              <a:ext cx="1584000" cy="580680"/>
            </a:xfrm>
            <a:prstGeom prst="rect">
              <a:avLst/>
            </a:prstGeom>
            <a:solidFill>
              <a:srgbClr val="a9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000099"/>
                  </a:solidFill>
                  <a:latin typeface="Arial"/>
                </a:rPr>
                <a:t>quantificar l’aplicació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95280" y="5516280"/>
            <a:ext cx="4537080" cy="721080"/>
            <a:chOff x="395280" y="5516280"/>
            <a:chExt cx="4537080" cy="721080"/>
          </a:xfrm>
        </p:grpSpPr>
        <p:sp>
          <p:nvSpPr>
            <p:cNvPr id="714" name=""/>
            <p:cNvSpPr/>
            <p:nvPr/>
          </p:nvSpPr>
          <p:spPr>
            <a:xfrm>
              <a:off x="395280" y="5923080"/>
              <a:ext cx="4537080" cy="31428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33"/>
                  </a:solidFill>
                  <a:latin typeface="Arial"/>
                </a:rPr>
                <a:t>REALITAT = NIVELL D’APLICACIÓ P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700360" y="5516280"/>
              <a:ext cx="0" cy="360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5003640" y="593640"/>
            <a:ext cx="3743640" cy="24037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717" name=""/>
          <p:cNvGrpSpPr/>
          <p:nvPr/>
        </p:nvGrpSpPr>
        <p:grpSpPr>
          <a:xfrm>
            <a:off x="4427640" y="3068640"/>
            <a:ext cx="4321080" cy="3097080"/>
            <a:chOff x="4427640" y="3068640"/>
            <a:chExt cx="4321080" cy="3097080"/>
          </a:xfrm>
        </p:grpSpPr>
        <p:grpSp>
          <p:nvGrpSpPr>
            <p:cNvPr id="718" name=""/>
            <p:cNvGrpSpPr/>
            <p:nvPr/>
          </p:nvGrpSpPr>
          <p:grpSpPr>
            <a:xfrm>
              <a:off x="4992840" y="3068640"/>
              <a:ext cx="3755880" cy="3097080"/>
              <a:chOff x="4992840" y="3068640"/>
              <a:chExt cx="3755880" cy="3097080"/>
            </a:xfrm>
          </p:grpSpPr>
          <p:sp>
            <p:nvSpPr>
              <p:cNvPr id="719" name=""/>
              <p:cNvSpPr/>
              <p:nvPr/>
            </p:nvSpPr>
            <p:spPr>
              <a:xfrm>
                <a:off x="5076720" y="5805360"/>
                <a:ext cx="3598920" cy="360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2400" spc="-1" strike="noStrike">
                    <a:solidFill>
                      <a:srgbClr val="ff9900"/>
                    </a:solidFill>
                    <a:latin typeface="Arial"/>
                  </a:rPr>
                  <a:t>QCI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pic>
            <p:nvPicPr>
              <p:cNvPr id="7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2840" y="3068640"/>
                <a:ext cx="3755880" cy="2655720"/>
              </a:xfrm>
              <a:prstGeom prst="rect">
                <a:avLst/>
              </a:prstGeom>
              <a:ln w="9360">
                <a:solidFill>
                  <a:srgbClr val="ccffff"/>
                </a:solidFill>
                <a:miter/>
              </a:ln>
            </p:spPr>
          </p:pic>
        </p:grpSp>
        <p:grpSp>
          <p:nvGrpSpPr>
            <p:cNvPr id="721" name=""/>
            <p:cNvGrpSpPr/>
            <p:nvPr/>
          </p:nvGrpSpPr>
          <p:grpSpPr>
            <a:xfrm>
              <a:off x="4427640" y="4653000"/>
              <a:ext cx="1152360" cy="431280"/>
              <a:chOff x="4427640" y="4653000"/>
              <a:chExt cx="1152360" cy="431280"/>
            </a:xfrm>
          </p:grpSpPr>
          <p:sp>
            <p:nvSpPr>
              <p:cNvPr id="722" name=""/>
              <p:cNvSpPr/>
              <p:nvPr/>
            </p:nvSpPr>
            <p:spPr>
              <a:xfrm>
                <a:off x="4427640" y="5084280"/>
                <a:ext cx="1152360" cy="0"/>
              </a:xfrm>
              <a:prstGeom prst="line">
                <a:avLst/>
              </a:prstGeom>
              <a:ln w="57240">
                <a:solidFill>
                  <a:srgbClr val="b3e1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80000" y="4653000"/>
                <a:ext cx="0" cy="431280"/>
              </a:xfrm>
              <a:prstGeom prst="line">
                <a:avLst/>
              </a:prstGeom>
              <a:ln w="57240">
                <a:solidFill>
                  <a:srgbClr val="b3e1b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 rot="10800000">
            <a:off x="4860720" y="836280"/>
            <a:ext cx="502920" cy="331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706320 h 3311640"/>
              <a:gd name="textAreaBottom" fmla="*/ 227304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3032911"/>
                <a:lnTo>
                  <a:pt x="7154" y="21080"/>
                </a:lnTo>
                <a:lnTo>
                  <a:pt x="0" y="18930"/>
                </a:lnTo>
                <a:lnTo>
                  <a:pt x="7154" y="15740"/>
                </a:lnTo>
                <a:lnTo>
                  <a:pt x="7154" y="17907"/>
                </a:lnTo>
                <a:arcTo wR="21600" hR="9214" stAng="3032911" swAng="-2952751"/>
                <a:lnTo>
                  <a:pt x="21568" y="9717"/>
                </a:lnTo>
                <a:arcTo wR="21600" hR="9214" stAng="-80160" swAng="-5319840"/>
                <a:close/>
              </a:path>
              <a:path fill="darkenLess"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-80160"/>
                <a:lnTo>
                  <a:pt x="21568" y="9717"/>
                </a:lnTo>
                <a:arcTo wR="21600" hR="9214" stAng="-80160" swAng="-5319840"/>
                <a:close/>
              </a:path>
            </a:pathLst>
          </a:cu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4859280" y="4292280"/>
            <a:ext cx="503280" cy="431640"/>
          </a:xfrm>
          <a:custGeom>
            <a:avLst/>
            <a:gdLst>
              <a:gd name="textAreaLeft" fmla="*/ 67320 w 503280"/>
              <a:gd name="textAreaRight" fmla="*/ 435960 w 503280"/>
              <a:gd name="textAreaTop" fmla="*/ 91800 h 431640"/>
              <a:gd name="textAreaBottom" fmla="*/ 2962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3032911"/>
                <a:lnTo>
                  <a:pt x="7154" y="21080"/>
                </a:lnTo>
                <a:lnTo>
                  <a:pt x="0" y="18930"/>
                </a:lnTo>
                <a:lnTo>
                  <a:pt x="7154" y="15740"/>
                </a:lnTo>
                <a:lnTo>
                  <a:pt x="7154" y="17907"/>
                </a:lnTo>
                <a:arcTo wR="21600" hR="9214" stAng="3032911" swAng="-2952751"/>
                <a:lnTo>
                  <a:pt x="21568" y="9717"/>
                </a:lnTo>
                <a:arcTo wR="21600" hR="9214" stAng="-80160" swAng="-5319840"/>
                <a:close/>
              </a:path>
              <a:path fill="darkenLess"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-80160"/>
                <a:lnTo>
                  <a:pt x="21568" y="9717"/>
                </a:lnTo>
                <a:arcTo wR="21600" hR="9214" stAng="-80160" swAng="-5319840"/>
                <a:close/>
              </a:path>
            </a:pathLst>
          </a:cu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172360" y="1700280"/>
            <a:ext cx="649440" cy="144360"/>
          </a:xfrm>
          <a:prstGeom prst="leftArrow">
            <a:avLst>
              <a:gd name="adj1" fmla="val 50000"/>
              <a:gd name="adj2" fmla="val 112469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77080" y="3573360"/>
            <a:ext cx="2556000" cy="5202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cc"/>
                </a:solidFill>
                <a:latin typeface="Arial"/>
              </a:rPr>
              <a:t>Indicador síntesi d’aplicació del PE de l’objecti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40360" y="4924440"/>
            <a:ext cx="1944720" cy="30708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cc"/>
                </a:solidFill>
                <a:latin typeface="Arial"/>
              </a:rPr>
              <a:t>Indicadors d’activitat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88000" y="1978200"/>
            <a:ext cx="2556000" cy="5202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6600"/>
                </a:solidFill>
                <a:latin typeface="Arial"/>
              </a:rPr>
              <a:t>Indicador síntesi d’aplicació del PE del centr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6000" y="4206960"/>
            <a:ext cx="1728720" cy="5202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cc"/>
                </a:solidFill>
                <a:latin typeface="Arial"/>
              </a:rPr>
              <a:t>Indicadors síntesi d’estratèg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0800000">
            <a:off x="4859280" y="4076280"/>
            <a:ext cx="503280" cy="289080"/>
          </a:xfrm>
          <a:custGeom>
            <a:avLst/>
            <a:gdLst>
              <a:gd name="textAreaLeft" fmla="*/ 67320 w 503280"/>
              <a:gd name="textAreaRight" fmla="*/ 435960 w 503280"/>
              <a:gd name="textAreaTop" fmla="*/ 61560 h 289080"/>
              <a:gd name="textAreaBottom" fmla="*/ 198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3032911"/>
                <a:lnTo>
                  <a:pt x="7154" y="21080"/>
                </a:lnTo>
                <a:lnTo>
                  <a:pt x="0" y="18930"/>
                </a:lnTo>
                <a:lnTo>
                  <a:pt x="7154" y="15740"/>
                </a:lnTo>
                <a:lnTo>
                  <a:pt x="7154" y="17907"/>
                </a:lnTo>
                <a:arcTo wR="21600" hR="9214" stAng="3032911" swAng="-2952751"/>
                <a:lnTo>
                  <a:pt x="21568" y="9717"/>
                </a:lnTo>
                <a:arcTo wR="21600" hR="9214" stAng="-80160" swAng="-5319840"/>
                <a:close/>
              </a:path>
              <a:path fill="darkenLess" w="21600" h="21600">
                <a:moveTo>
                  <a:pt x="0" y="0"/>
                </a:moveTo>
                <a:arcTo wR="21600" hR="9214" stAng="-5400000" swAng="5400000"/>
                <a:lnTo>
                  <a:pt x="21600" y="10220"/>
                </a:lnTo>
                <a:arcTo wR="21600" hR="9214" stAng="0" swAng="-80160"/>
                <a:lnTo>
                  <a:pt x="21568" y="9717"/>
                </a:lnTo>
                <a:arcTo wR="21600" hR="9214" stAng="-80160" swAng="-5319840"/>
                <a:close/>
              </a:path>
            </a:pathLst>
          </a:cu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84720" y="260280"/>
            <a:ext cx="2556000" cy="5202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cc"/>
                </a:solidFill>
                <a:latin typeface="Arial"/>
              </a:rPr>
              <a:t>Indicadors síntesi d’aplicació del PE per objectiu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28600" y="838080"/>
            <a:ext cx="1727280" cy="3346560"/>
            <a:chOff x="228600" y="838080"/>
            <a:chExt cx="1727280" cy="3346560"/>
          </a:xfrm>
        </p:grpSpPr>
        <p:sp>
          <p:nvSpPr>
            <p:cNvPr id="734" name=""/>
            <p:cNvSpPr/>
            <p:nvPr/>
          </p:nvSpPr>
          <p:spPr>
            <a:xfrm>
              <a:off x="228600" y="2743200"/>
              <a:ext cx="1727280" cy="144144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La concreció per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curs de l’acord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fixa l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000099"/>
                  </a:solidFill>
                  <a:latin typeface="Arial"/>
                </a:rPr>
                <a:t>activitats del P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380880" y="838080"/>
            <a:ext cx="1403640" cy="2108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838080"/>
                      <a:ext cx="140364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6858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QCI:  APLICACIÓ DE LES ESTRATÈGIES/ACTIVITATS </a:t>
            </a:r>
            <a:r>
              <a:rPr b="1" lang="ca-ES" sz="2400" spc="-1" strike="noStrike">
                <a:solidFill>
                  <a:srgbClr val="0000cc"/>
                </a:solidFill>
                <a:latin typeface="Times New Roman"/>
              </a:rPr>
              <a:t>(Model complet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152280" y="1041480"/>
          <a:ext cx="8712360" cy="49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41480"/>
                    <a:ext cx="87123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QCI:  APLICACIÓ DE LES ESTRATÈGIES/ACTIVITATS  </a:t>
            </a:r>
            <a:r>
              <a:rPr b="1" lang="ca-ES" sz="2400" spc="-1" strike="noStrike">
                <a:solidFill>
                  <a:srgbClr val="0000cc"/>
                </a:solidFill>
                <a:latin typeface="Times New Roman"/>
              </a:rPr>
              <a:t>(Model simple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324480" cy="595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086600" cy="76212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txBody>
          <a:bodyPr lIns="90000" rIns="90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QCI:  </a:t>
            </a:r>
            <a:r>
              <a:rPr b="0" lang="ca-ES" sz="2400" spc="-1" strike="noStrike">
                <a:solidFill>
                  <a:srgbClr val="ff6600"/>
                </a:solidFill>
                <a:latin typeface="Arial"/>
              </a:rPr>
              <a:t>APLICACIÓ DE LES ESTRATÈGIES I ACTIVITATS PER OBJECTIUS I CURSO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28600" y="1066680"/>
          <a:ext cx="8915400" cy="491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1540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3708360" y="1484280"/>
            <a:ext cx="1944720" cy="337320"/>
            <a:chOff x="3708360" y="1484280"/>
            <a:chExt cx="1944720" cy="337320"/>
          </a:xfrm>
        </p:grpSpPr>
        <p:sp>
          <p:nvSpPr>
            <p:cNvPr id="746" name=""/>
            <p:cNvSpPr/>
            <p:nvPr/>
          </p:nvSpPr>
          <p:spPr>
            <a:xfrm>
              <a:off x="3708360" y="1699920"/>
              <a:ext cx="194472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25800" y="1484280"/>
              <a:ext cx="1295280" cy="337320"/>
            </a:xfrm>
            <a:prstGeom prst="rect">
              <a:avLst/>
            </a:prstGeom>
            <a:solidFill>
              <a:srgbClr val="a9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ff6600"/>
                  </a:solidFill>
                  <a:latin typeface="Times New Roman"/>
                </a:rPr>
                <a:t>Les resposte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32360" y="3500280"/>
            <a:ext cx="1800000" cy="481680"/>
            <a:chOff x="4932360" y="3500280"/>
            <a:chExt cx="1800000" cy="481680"/>
          </a:xfrm>
        </p:grpSpPr>
        <p:grpSp>
          <p:nvGrpSpPr>
            <p:cNvPr id="749" name=""/>
            <p:cNvGrpSpPr/>
            <p:nvPr/>
          </p:nvGrpSpPr>
          <p:grpSpPr>
            <a:xfrm>
              <a:off x="4932360" y="3500280"/>
              <a:ext cx="1800000" cy="358560"/>
              <a:chOff x="4932360" y="3500280"/>
              <a:chExt cx="1800000" cy="358560"/>
            </a:xfrm>
          </p:grpSpPr>
          <p:sp>
            <p:nvSpPr>
              <p:cNvPr id="750" name=""/>
              <p:cNvSpPr/>
              <p:nvPr/>
            </p:nvSpPr>
            <p:spPr>
              <a:xfrm>
                <a:off x="6732360" y="3500280"/>
                <a:ext cx="0" cy="3585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4932360" y="3858840"/>
                <a:ext cx="180000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5561280" y="3644640"/>
              <a:ext cx="1029960" cy="337320"/>
            </a:xfrm>
            <a:prstGeom prst="rect">
              <a:avLst/>
            </a:prstGeom>
            <a:solidFill>
              <a:srgbClr val="a9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ff6600"/>
                  </a:solidFill>
                  <a:latin typeface="Times New Roman"/>
                </a:rPr>
                <a:t>avaluar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274920" y="4076640"/>
            <a:ext cx="5400360" cy="2160360"/>
            <a:chOff x="3274920" y="4076640"/>
            <a:chExt cx="5400360" cy="2160360"/>
          </a:xfrm>
        </p:grpSpPr>
        <p:grpSp>
          <p:nvGrpSpPr>
            <p:cNvPr id="754" name=""/>
            <p:cNvGrpSpPr/>
            <p:nvPr/>
          </p:nvGrpSpPr>
          <p:grpSpPr>
            <a:xfrm>
              <a:off x="3274920" y="4894200"/>
              <a:ext cx="1800000" cy="1200960"/>
              <a:chOff x="3274920" y="4894200"/>
              <a:chExt cx="1800000" cy="120096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3274920" y="4894200"/>
                <a:ext cx="1800000" cy="1079640"/>
                <a:chOff x="3274920" y="4894200"/>
                <a:chExt cx="1800000" cy="10796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3274920" y="4894200"/>
                  <a:ext cx="0" cy="107964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274920" y="5973840"/>
                  <a:ext cx="1800000" cy="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3704760" y="5757840"/>
                <a:ext cx="936360" cy="33732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ff6600"/>
                    </a:solidFill>
                    <a:latin typeface="Times New Roman"/>
                  </a:rPr>
                  <a:t>decidir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5360760" y="4076640"/>
              <a:ext cx="3314520" cy="2160360"/>
              <a:chOff x="5360760" y="4076640"/>
              <a:chExt cx="3314520" cy="216036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5360760" y="4671720"/>
                <a:ext cx="3314520" cy="1565280"/>
                <a:chOff x="5360760" y="4671720"/>
                <a:chExt cx="3314520" cy="156528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587640" y="4671720"/>
                  <a:ext cx="514440" cy="341280"/>
                </a:xfrm>
                <a:prstGeom prst="rect">
                  <a:avLst/>
                </a:prstGeom>
                <a:solidFill>
                  <a:srgbClr val="99ff33">
                    <a:alpha val="50000"/>
                  </a:srgbClr>
                </a:solidFill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a-ES" sz="2400" spc="-1" strike="noStrike">
                      <a:solidFill>
                        <a:srgbClr val="000099"/>
                      </a:solidFill>
                      <a:latin typeface="Times New Roman"/>
                    </a:rPr>
                    <a:t>O</a:t>
                  </a:r>
                  <a:r>
                    <a:rPr b="0" lang="ca-ES" sz="2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2" name=""/>
                <p:cNvGrpSpPr/>
                <p:nvPr/>
              </p:nvGrpSpPr>
              <p:grpSpPr>
                <a:xfrm>
                  <a:off x="5508360" y="5073120"/>
                  <a:ext cx="2971800" cy="304560"/>
                  <a:chOff x="5508360" y="5073120"/>
                  <a:chExt cx="2971800" cy="30456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6879960" y="507312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508360" y="5225400"/>
                    <a:ext cx="2971800" cy="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508360" y="52254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879960" y="52254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8480160" y="52254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5360760" y="5360400"/>
                  <a:ext cx="3314520" cy="228600"/>
                  <a:chOff x="5360760" y="5360400"/>
                  <a:chExt cx="3314520" cy="22860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360760" y="5360400"/>
                    <a:ext cx="342720" cy="228600"/>
                  </a:xfrm>
                  <a:prstGeom prst="rect">
                    <a:avLst/>
                  </a:prstGeom>
                  <a:solidFill>
                    <a:srgbClr val="a9bda9"/>
                  </a:solidFill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a-E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</a:t>
                    </a:r>
                    <a:r>
                      <a:rPr b="0" lang="ca-E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n1</a:t>
                    </a:r>
                    <a:endParaRPr b="0" lang="en-US" sz="16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6732360" y="5360400"/>
                    <a:ext cx="342720" cy="228600"/>
                  </a:xfrm>
                  <a:prstGeom prst="rect">
                    <a:avLst/>
                  </a:prstGeom>
                  <a:solidFill>
                    <a:srgbClr val="a9bda9"/>
                  </a:solidFill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a-E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</a:t>
                    </a:r>
                    <a:r>
                      <a:rPr b="0" lang="ca-E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n2</a:t>
                    </a:r>
                    <a:endParaRPr b="0" lang="en-US" sz="16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8332560" y="5360400"/>
                    <a:ext cx="342720" cy="228600"/>
                  </a:xfrm>
                  <a:prstGeom prst="rect">
                    <a:avLst/>
                  </a:prstGeom>
                  <a:solidFill>
                    <a:srgbClr val="a9bda9"/>
                  </a:solidFill>
                  <a:ln w="1908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a-ES" sz="14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</a:t>
                    </a:r>
                    <a:r>
                      <a:rPr b="0" lang="ca-ES" sz="14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n...</a:t>
                    </a:r>
                    <a:endParaRPr b="0" lang="en-US" sz="1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508360" y="5649480"/>
                  <a:ext cx="2971800" cy="304560"/>
                  <a:chOff x="5508360" y="5649480"/>
                  <a:chExt cx="2971800" cy="3045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6879960" y="56494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508360" y="5801760"/>
                    <a:ext cx="297180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5508360" y="58017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879960" y="58017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8480160" y="58017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5363640" y="6008400"/>
                  <a:ext cx="3276360" cy="228600"/>
                  <a:chOff x="5363640" y="6008400"/>
                  <a:chExt cx="3276360" cy="2286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5363640" y="6008400"/>
                    <a:ext cx="342720" cy="22860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38160">
                    <a:solidFill>
                      <a:srgbClr val="b3e1b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a-ES" sz="14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A</a:t>
                    </a:r>
                    <a:r>
                      <a:rPr b="0" lang="ca-ES" sz="1400" spc="-1" strike="noStrike" baseline="-25000">
                        <a:solidFill>
                          <a:srgbClr val="0000cc"/>
                        </a:solidFill>
                        <a:latin typeface="Times New Roman"/>
                      </a:rPr>
                      <a:t>221</a:t>
                    </a:r>
                    <a:endParaRPr b="0" lang="en-US" sz="1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735240" y="6008400"/>
                    <a:ext cx="342720" cy="22860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38160">
                    <a:solidFill>
                      <a:srgbClr val="b3e1b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a-ES" sz="14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A</a:t>
                    </a:r>
                    <a:r>
                      <a:rPr b="0" lang="ca-ES" sz="1400" spc="-1" strike="noStrike" baseline="-25000">
                        <a:solidFill>
                          <a:srgbClr val="0000cc"/>
                        </a:solidFill>
                        <a:latin typeface="Times New Roman"/>
                      </a:rPr>
                      <a:t>222</a:t>
                    </a:r>
                    <a:endParaRPr b="0" lang="en-US" sz="1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297280" y="6008400"/>
                    <a:ext cx="342720" cy="22860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38160">
                    <a:solidFill>
                      <a:srgbClr val="b3e1b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a-ES" sz="14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A</a:t>
                    </a:r>
                    <a:r>
                      <a:rPr b="0" lang="ca-ES" sz="1400" spc="-1" strike="noStrike" baseline="-25000">
                        <a:solidFill>
                          <a:srgbClr val="0000cc"/>
                        </a:solidFill>
                        <a:latin typeface="Times New Roman"/>
                      </a:rPr>
                      <a:t>22...</a:t>
                    </a:r>
                    <a:endParaRPr b="0" lang="en-US" sz="1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82" name=""/>
              <p:cNvSpPr/>
              <p:nvPr/>
            </p:nvSpPr>
            <p:spPr>
              <a:xfrm>
                <a:off x="6443640" y="4076640"/>
                <a:ext cx="863640" cy="43164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000099"/>
                    </a:solidFill>
                    <a:latin typeface="Times New Roman"/>
                  </a:rPr>
                  <a:t>Pla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000099"/>
                    </a:solidFill>
                    <a:latin typeface="Times New Roman"/>
                  </a:rPr>
                  <a:t>estratègic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"/>
          <p:cNvSpPr/>
          <p:nvPr/>
        </p:nvSpPr>
        <p:spPr>
          <a:xfrm>
            <a:off x="34920" y="-27000"/>
            <a:ext cx="6518160" cy="117000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El QCI és una eina per l’avaluar l’aplicació </a:t>
            </a:r>
            <a:br>
              <a:rPr sz="2400"/>
            </a:b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del PE,  prendre decisions per millorar </a:t>
            </a:r>
            <a:br>
              <a:rPr sz="2400"/>
            </a:br>
            <a:r>
              <a:rPr b="1" lang="ca-ES" sz="2400" spc="-1" strike="noStrike">
                <a:solidFill>
                  <a:srgbClr val="ff6600"/>
                </a:solidFill>
                <a:latin typeface="Times New Roman"/>
              </a:rPr>
              <a:t>i “rendir comptes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5280" y="5372280"/>
            <a:ext cx="1655640" cy="79344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Comissió d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seguiment 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333333"/>
                </a:solidFill>
                <a:latin typeface="Arial"/>
              </a:rPr>
              <a:t>l’acord ST (≥75%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395280" y="4292640"/>
            <a:ext cx="3096360" cy="1512720"/>
            <a:chOff x="395280" y="4292640"/>
            <a:chExt cx="3096360" cy="1512720"/>
          </a:xfrm>
        </p:grpSpPr>
        <p:sp>
          <p:nvSpPr>
            <p:cNvPr id="786" name=""/>
            <p:cNvSpPr/>
            <p:nvPr/>
          </p:nvSpPr>
          <p:spPr>
            <a:xfrm>
              <a:off x="395280" y="4292640"/>
              <a:ext cx="1585800" cy="792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333333"/>
                  </a:solidFill>
                  <a:latin typeface="Arial"/>
                </a:rPr>
                <a:t>Plenari,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333333"/>
                  </a:solidFill>
                  <a:latin typeface="Arial"/>
                </a:rPr>
                <a:t>el Consell SE,...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208960" y="4363920"/>
              <a:ext cx="1282680" cy="1441440"/>
              <a:chOff x="2208960" y="4363920"/>
              <a:chExt cx="1282680" cy="14414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2208960" y="4363920"/>
                <a:ext cx="753840" cy="1441440"/>
                <a:chOff x="2208960" y="4363920"/>
                <a:chExt cx="753840" cy="1441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271240" y="5805360"/>
                  <a:ext cx="628920" cy="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2208960" y="4868640"/>
                  <a:ext cx="753840" cy="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962800" y="4363920"/>
                  <a:ext cx="0" cy="144144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2586600" y="4387680"/>
                <a:ext cx="753840" cy="33732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ff6600"/>
                    </a:solidFill>
                    <a:latin typeface="Times New Roman"/>
                  </a:rPr>
                  <a:t>rendir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436840" y="5179680"/>
                <a:ext cx="1054800" cy="33732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600" spc="-1" strike="noStrike">
                    <a:solidFill>
                      <a:srgbClr val="ff6600"/>
                    </a:solidFill>
                    <a:latin typeface="Times New Roman"/>
                  </a:rPr>
                  <a:t>comptes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1332000" y="1108080"/>
            <a:ext cx="3384360" cy="3475440"/>
            <a:chOff x="1332000" y="1108080"/>
            <a:chExt cx="3384360" cy="3475440"/>
          </a:xfrm>
        </p:grpSpPr>
        <p:sp>
          <p:nvSpPr>
            <p:cNvPr id="795" name=""/>
            <p:cNvSpPr/>
            <p:nvPr/>
          </p:nvSpPr>
          <p:spPr>
            <a:xfrm>
              <a:off x="1332000" y="1108080"/>
              <a:ext cx="2087640" cy="1960560"/>
            </a:xfrm>
            <a:prstGeom prst="wedgeRoundRectCallout">
              <a:avLst>
                <a:gd name="adj1" fmla="val 31597"/>
                <a:gd name="adj2" fmla="val 64171"/>
                <a:gd name="adj3" fmla="val 16667"/>
              </a:avLst>
            </a:prstGeom>
            <a:solidFill>
              <a:srgbClr val="a9bda9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On som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On anem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Avancem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Estem fent el que vam dir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400" spc="-1" strike="noStrike">
                  <a:solidFill>
                    <a:srgbClr val="ff6600"/>
                  </a:solidFill>
                  <a:latin typeface="Times New Roman"/>
                </a:rPr>
                <a:t>Incideix positivament sobre els objectius</a:t>
              </a:r>
              <a:r>
                <a:rPr b="0" lang="ca-ES" sz="1400" spc="-1" strike="noStrike">
                  <a:solidFill>
                    <a:srgbClr val="333333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1763640" y="3396960"/>
              <a:ext cx="1511280" cy="881640"/>
              <a:chOff x="1763640" y="3396960"/>
              <a:chExt cx="1511280" cy="881640"/>
            </a:xfrm>
          </p:grpSpPr>
          <p:pic>
            <p:nvPicPr>
              <p:cNvPr id="7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49480" y="3396960"/>
                <a:ext cx="83016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>
                <a:off x="1763640" y="3971520"/>
                <a:ext cx="1511280" cy="30708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400" spc="-1" strike="noStrike">
                    <a:solidFill>
                      <a:srgbClr val="ff6600"/>
                    </a:solidFill>
                    <a:latin typeface="Times New Roman"/>
                  </a:rPr>
                  <a:t>Equip de direcció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3135240" y="3268440"/>
              <a:ext cx="1581120" cy="1315080"/>
              <a:chOff x="3135240" y="3268440"/>
              <a:chExt cx="1581120" cy="1315080"/>
            </a:xfrm>
          </p:grpSpPr>
          <p:pic>
            <p:nvPicPr>
              <p:cNvPr id="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35240" y="3268440"/>
                <a:ext cx="1581120" cy="11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>
                <a:off x="3278160" y="4276440"/>
                <a:ext cx="1368360" cy="307080"/>
              </a:xfrm>
              <a:prstGeom prst="rect">
                <a:avLst/>
              </a:prstGeom>
              <a:solidFill>
                <a:srgbClr val="a9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1400" spc="-1" strike="noStrike">
                    <a:solidFill>
                      <a:srgbClr val="ff6600"/>
                    </a:solidFill>
                    <a:latin typeface="Times New Roman"/>
                  </a:rPr>
                  <a:t>Equip SE,...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6372360" y="0"/>
            <a:ext cx="2808000" cy="3983040"/>
            <a:chOff x="6372360" y="0"/>
            <a:chExt cx="2808000" cy="3983040"/>
          </a:xfrm>
        </p:grpSpPr>
        <p:sp>
          <p:nvSpPr>
            <p:cNvPr id="803" name=""/>
            <p:cNvSpPr/>
            <p:nvPr/>
          </p:nvSpPr>
          <p:spPr>
            <a:xfrm>
              <a:off x="6732720" y="3573360"/>
              <a:ext cx="2158920" cy="40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400" spc="-1" strike="noStrike">
                  <a:solidFill>
                    <a:srgbClr val="ff9900"/>
                  </a:solidFill>
                  <a:latin typeface="Times New Roman"/>
                </a:rPr>
                <a:t>QC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6372360" y="0"/>
              <a:ext cx="2808000" cy="3603600"/>
              <a:chOff x="6372360" y="0"/>
              <a:chExt cx="2808000" cy="3603600"/>
            </a:xfrm>
          </p:grpSpPr>
          <p:pic>
            <p:nvPicPr>
              <p:cNvPr id="8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72360" y="0"/>
                <a:ext cx="2771280" cy="1808280"/>
              </a:xfrm>
              <a:prstGeom prst="rect">
                <a:avLst/>
              </a:prstGeom>
              <a:ln w="9360">
                <a:solidFill>
                  <a:srgbClr val="009900"/>
                </a:solidFill>
                <a:miter/>
              </a:ln>
            </p:spPr>
          </p:pic>
          <p:pic>
            <p:nvPicPr>
              <p:cNvPr id="8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800360"/>
                <a:ext cx="2808000" cy="1803240"/>
              </a:xfrm>
              <a:prstGeom prst="rect">
                <a:avLst/>
              </a:prstGeom>
              <a:ln w="9360">
                <a:solidFill>
                  <a:srgbClr val="b3e1b3"/>
                </a:solidFill>
                <a:miter/>
              </a:ln>
            </p:spPr>
          </p:pic>
        </p:grpSp>
      </p:grp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333333"/>
                </a:solidFill>
                <a:latin typeface="Times New Roman"/>
              </a:rPr>
              <a:t>Nous tromper dans nos entreprises,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333333"/>
                </a:solidFill>
                <a:latin typeface="Times New Roman"/>
              </a:rPr>
              <a:t>C’est à quoi nous sommes sujets 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333333"/>
                </a:solidFill>
                <a:latin typeface="Times New Roman"/>
              </a:rPr>
              <a:t>Le matin je fais des projets,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333333"/>
                </a:solidFill>
                <a:latin typeface="Times New Roman"/>
              </a:rPr>
              <a:t>Et le long du jour, des sotisse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Voltaire , </a:t>
            </a:r>
            <a:r>
              <a:rPr b="0" i="1" lang="ca-ES" sz="2000" spc="-1" strike="noStrike">
                <a:solidFill>
                  <a:srgbClr val="333333"/>
                </a:solidFill>
                <a:latin typeface="Times New Roman"/>
              </a:rPr>
              <a:t>Confiance en soi-même (1771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4c2b"/>
                </a:solidFill>
                <a:latin typeface="Verdana"/>
              </a:rPr>
              <a:t>TIPOLOGIA DE CENTRES I REQUERIMENTS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9040" y="1390680"/>
          <a:ext cx="8372520" cy="65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390680"/>
                    <a:ext cx="837252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5013360"/>
            <a:ext cx="2808000" cy="1224000"/>
          </a:xfrm>
          <a:prstGeom prst="rect">
            <a:avLst/>
          </a:prstGeom>
          <a:solidFill>
            <a:srgbClr val="99ff3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IES. Pla de Millor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i S</a:t>
            </a:r>
            <a:r>
              <a:rPr b="1" lang="en-GB" sz="2000" spc="-1" strike="noStrike" u="sng">
                <a:solidFill>
                  <a:srgbClr val="333333"/>
                </a:solidFill>
                <a:uFillTx/>
                <a:latin typeface="Arial"/>
              </a:rPr>
              <a:t>upor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2005/06:              38 IE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2006/07: 29+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55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=84 IE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3573360"/>
            <a:ext cx="2808000" cy="1225800"/>
          </a:xfrm>
          <a:prstGeom prst="rect">
            <a:avLst/>
          </a:prstGeom>
          <a:solidFill>
            <a:srgbClr val="ccff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IES. Pla de Millor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2006/07 ≈ 150 IES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(estimació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124160" cy="286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115920"/>
            <a:ext cx="62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ESTRATÈGIES </a:t>
            </a:r>
            <a:br>
              <a:rPr sz="2400"/>
            </a:b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la de millora per a la Secundà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9280" y="907920"/>
            <a:ext cx="8812440" cy="2557440"/>
            <a:chOff x="179280" y="907920"/>
            <a:chExt cx="8812440" cy="2557440"/>
          </a:xfrm>
        </p:grpSpPr>
        <p:sp>
          <p:nvSpPr>
            <p:cNvPr id="133" name=""/>
            <p:cNvSpPr/>
            <p:nvPr/>
          </p:nvSpPr>
          <p:spPr>
            <a:xfrm>
              <a:off x="179280" y="1666800"/>
              <a:ext cx="88124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Times New Roman"/>
                </a:rPr>
                <a:t>Cada Pla té un moment d'</a:t>
              </a:r>
              <a:r>
                <a:rPr b="1" lang="ca-ES" sz="900" spc="-1" strike="noStrike">
                  <a:solidFill>
                    <a:srgbClr val="333333"/>
                  </a:solidFill>
                  <a:latin typeface="Times New Roman"/>
                </a:rPr>
                <a:t>acord</a:t>
              </a:r>
              <a:r>
                <a:rPr b="0" lang="ca-ES" sz="900" spc="-1" strike="noStrike">
                  <a:solidFill>
                    <a:srgbClr val="333333"/>
                  </a:solidFill>
                  <a:latin typeface="Times New Roman"/>
                </a:rPr>
                <a:t> entre el Departament i el centre educatiu i una </a:t>
              </a:r>
              <a:r>
                <a:rPr b="1" lang="ca-ES" sz="900" spc="-1" strike="noStrike">
                  <a:solidFill>
                    <a:srgbClr val="333333"/>
                  </a:solidFill>
                  <a:latin typeface="Times New Roman"/>
                </a:rPr>
                <a:t>rendició de comptes</a:t>
              </a:r>
              <a:r>
                <a:rPr b="0" lang="ca-ES" sz="900" spc="-1" strike="noStrike">
                  <a:solidFill>
                    <a:srgbClr val="333333"/>
                  </a:solidFill>
                  <a:latin typeface="Times New Roman"/>
                </a:rPr>
                <a:t>, a través d'un dispositiu anomenat Quadre de Coordinació i Informació (QCI), al Claustre, al Consell Escolar i al mateix Departament.</a:t>
              </a:r>
              <a:r>
                <a:rPr b="0" lang="ca-ES" sz="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6480" y="1143000"/>
              <a:ext cx="1605240" cy="523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F(Pla Millora, grandària i complexitat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7920" y="1143000"/>
              <a:ext cx="628560" cy="523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9280" y="1143000"/>
              <a:ext cx="1898640" cy="523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Pla Millora simplif. (DAFO+Mapa Estratègic  +Indicadors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2040" y="1143000"/>
              <a:ext cx="1857240" cy="523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Universal.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Voluntari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22400" y="1143000"/>
              <a:ext cx="1079640" cy="523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2006-2007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80" y="1143000"/>
              <a:ext cx="1743120" cy="5238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Pla de Millora per a la Secundària  (PM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6480" y="2637000"/>
              <a:ext cx="1605240" cy="828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F(PMi</a:t>
              </a:r>
              <a:r>
                <a:rPr b="0" lang="ca-ES" sz="900" spc="-1" strike="noStrike" u="sng">
                  <a:solidFill>
                    <a:srgbClr val="333333"/>
                  </a:solidFill>
                  <a:uFillTx/>
                  <a:latin typeface="Arial"/>
                  <a:ea typeface="Times New Roman"/>
                </a:rPr>
                <a:t>S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, grandària i complexitat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57920" y="2637000"/>
              <a:ext cx="628560" cy="828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1+3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2637000"/>
              <a:ext cx="1898640" cy="828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</a:rPr>
                <a:t>Pla d'Acció Immediata </a:t>
              </a:r>
              <a:r>
                <a:rPr b="0" lang="ca-ES" sz="900" spc="-1" strike="noStrike" baseline="-25000">
                  <a:solidFill>
                    <a:srgbClr val="333333"/>
                  </a:solidFill>
                  <a:latin typeface="Arial"/>
                </a:rPr>
                <a:t>1r curs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</a:rPr>
                <a:t>                                                                                                               + Pla Estratègic  a 3 cursos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02040" y="2637000"/>
              <a:ext cx="1857240" cy="828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b) Major complexitat (PROA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c) Major  marge de millora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    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Prioritari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22400" y="2637000"/>
              <a:ext cx="1079640" cy="828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2006-2007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86480" y="2046240"/>
              <a:ext cx="1605240" cy="590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F(PMi</a:t>
              </a:r>
              <a:r>
                <a:rPr b="0" lang="ca-ES" sz="900" spc="-1" strike="noStrike" u="sng">
                  <a:solidFill>
                    <a:srgbClr val="333333"/>
                  </a:solidFill>
                  <a:uFillTx/>
                  <a:latin typeface="Arial"/>
                  <a:ea typeface="Times New Roman"/>
                </a:rPr>
                <a:t>S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, grandària i complexitat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57920" y="2046240"/>
              <a:ext cx="628560" cy="590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1+3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9280" y="2046240"/>
              <a:ext cx="1898640" cy="590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Pla d'Acció Immediata </a:t>
              </a:r>
              <a:r>
                <a:rPr b="0" lang="ca-ES" sz="900" spc="-1" strike="noStrike" baseline="-30000">
                  <a:solidFill>
                    <a:srgbClr val="333333"/>
                  </a:solidFill>
                  <a:latin typeface="Arial"/>
                  <a:ea typeface="Times New Roman"/>
                </a:rPr>
                <a:t>1r curs                                                                                                               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+ Pla Estratègic  a 3 cursos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02040" y="2046240"/>
              <a:ext cx="1857240" cy="590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a) Convocatòria.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    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Voluntari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2400" y="2046240"/>
              <a:ext cx="1079640" cy="590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2005-2006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80" y="2046240"/>
              <a:ext cx="1743120" cy="1419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Pla de Millora i </a:t>
              </a:r>
              <a:r>
                <a:rPr b="0" lang="ca-ES" sz="900" spc="-1" strike="noStrike" u="sng">
                  <a:solidFill>
                    <a:srgbClr val="333333"/>
                  </a:solidFill>
                  <a:uFillTx/>
                  <a:latin typeface="Arial"/>
                  <a:ea typeface="Times New Roman"/>
                </a:rPr>
                <a:t>Suport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 per a la Secundària (PMi</a:t>
              </a:r>
              <a:r>
                <a:rPr b="0" lang="ca-ES" sz="900" spc="-1" strike="noStrike" u="sng">
                  <a:solidFill>
                    <a:srgbClr val="333333"/>
                  </a:solidFill>
                  <a:uFillTx/>
                  <a:latin typeface="Arial"/>
                  <a:ea typeface="Times New Roman"/>
                </a:rPr>
                <a:t>S</a:t>
              </a:r>
              <a:r>
                <a:rPr b="0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)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6480" y="907920"/>
              <a:ext cx="1605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RECURSOS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57920" y="907920"/>
              <a:ext cx="628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ANYS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9280" y="907920"/>
              <a:ext cx="189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PROJECTE CENTRE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2040" y="907920"/>
              <a:ext cx="185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CARÀCTER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2400" y="907920"/>
              <a:ext cx="1079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INICI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907920"/>
              <a:ext cx="1743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ca-ES" sz="9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NOM PROJECTE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280" y="907920"/>
              <a:ext cx="8812440" cy="0"/>
            </a:xfrm>
            <a:prstGeom prst="line">
              <a:avLst/>
            </a:prstGeom>
            <a:ln cap="rnd"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3465360"/>
              <a:ext cx="8812440" cy="0"/>
            </a:xfrm>
            <a:prstGeom prst="line">
              <a:avLst/>
            </a:prstGeom>
            <a:ln cap="rnd"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907920"/>
              <a:ext cx="0" cy="2557440"/>
            </a:xfrm>
            <a:prstGeom prst="line">
              <a:avLst/>
            </a:prstGeom>
            <a:ln cap="rnd"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91720" y="907920"/>
              <a:ext cx="0" cy="2557440"/>
            </a:xfrm>
            <a:prstGeom prst="line">
              <a:avLst/>
            </a:prstGeom>
            <a:ln cap="rnd"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1143000"/>
              <a:ext cx="8812440" cy="0"/>
            </a:xfrm>
            <a:prstGeom prst="line">
              <a:avLst/>
            </a:prstGeom>
            <a:ln cap="rnd"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22400" y="907920"/>
              <a:ext cx="0" cy="75888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2040" y="907920"/>
              <a:ext cx="0" cy="75888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59280" y="907920"/>
              <a:ext cx="0" cy="75888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57920" y="907920"/>
              <a:ext cx="0" cy="75888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86480" y="907920"/>
              <a:ext cx="0" cy="75888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2400" y="2637000"/>
              <a:ext cx="7069320" cy="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1666800"/>
              <a:ext cx="174312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2400" y="1666800"/>
              <a:ext cx="706932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280" y="2046240"/>
              <a:ext cx="174312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22400" y="2046240"/>
              <a:ext cx="706932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22400" y="2046240"/>
              <a:ext cx="0" cy="141912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02040" y="2046240"/>
              <a:ext cx="0" cy="141912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9280" y="2046240"/>
              <a:ext cx="0" cy="141912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57920" y="2046240"/>
              <a:ext cx="0" cy="141912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86480" y="2046240"/>
              <a:ext cx="0" cy="1419120"/>
            </a:xfrm>
            <a:prstGeom prst="line">
              <a:avLst/>
            </a:prstGeom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672-ED96-47D4-BE0F-C367B29E7C0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rs PE M1</a:t>
            </a: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200" y="115920"/>
            <a:ext cx="8353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4c2b"/>
                </a:solidFill>
                <a:latin typeface="Times New Roman"/>
              </a:rPr>
              <a:t>DE QUÈ DEPÈN L’ÈXIT DE L’EDUCACIÓ DE L’ALUMNAT?</a:t>
            </a:r>
            <a:r>
              <a:rPr b="1" lang="ca-ES" sz="48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8000" y="1146240"/>
            <a:ext cx="2626920" cy="1706040"/>
            <a:chOff x="108000" y="1146240"/>
            <a:chExt cx="2626920" cy="1706040"/>
          </a:xfrm>
        </p:grpSpPr>
        <p:grpSp>
          <p:nvGrpSpPr>
            <p:cNvPr id="179" name=""/>
            <p:cNvGrpSpPr/>
            <p:nvPr/>
          </p:nvGrpSpPr>
          <p:grpSpPr>
            <a:xfrm>
              <a:off x="660960" y="1207080"/>
              <a:ext cx="1514880" cy="1645200"/>
              <a:chOff x="660960" y="1207080"/>
              <a:chExt cx="1514880" cy="1645200"/>
            </a:xfrm>
          </p:grpSpPr>
          <p:sp>
            <p:nvSpPr>
              <p:cNvPr id="180" name=""/>
              <p:cNvSpPr/>
              <p:nvPr/>
            </p:nvSpPr>
            <p:spPr>
              <a:xfrm>
                <a:off x="899640" y="2404080"/>
                <a:ext cx="244440" cy="289080"/>
              </a:xfrm>
              <a:custGeom>
                <a:avLst/>
                <a:gdLst/>
                <a:ahLst/>
                <a:rect l="l" t="t" r="r" b="b"/>
                <a:pathLst>
                  <a:path w="486" h="523">
                    <a:moveTo>
                      <a:pt x="131" y="92"/>
                    </a:moveTo>
                    <a:lnTo>
                      <a:pt x="206" y="159"/>
                    </a:lnTo>
                    <a:lnTo>
                      <a:pt x="0" y="387"/>
                    </a:lnTo>
                    <a:lnTo>
                      <a:pt x="149" y="522"/>
                    </a:lnTo>
                    <a:lnTo>
                      <a:pt x="355" y="294"/>
                    </a:lnTo>
                    <a:lnTo>
                      <a:pt x="429" y="360"/>
                    </a:lnTo>
                    <a:lnTo>
                      <a:pt x="485" y="0"/>
                    </a:lnTo>
                    <a:lnTo>
                      <a:pt x="131" y="92"/>
                    </a:lnTo>
                  </a:path>
                </a:pathLst>
              </a:custGeom>
              <a:solidFill>
                <a:srgbClr val="ffcc00"/>
              </a:solidFill>
              <a:ln cap="rnd"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660960" y="1207080"/>
                <a:ext cx="1514880" cy="1645200"/>
                <a:chOff x="660960" y="1207080"/>
                <a:chExt cx="1514880" cy="16452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52040" y="2427840"/>
                  <a:ext cx="244440" cy="289080"/>
                </a:xfrm>
                <a:custGeom>
                  <a:avLst/>
                  <a:gdLst/>
                  <a:ahLst/>
                  <a:rect l="l" t="t" r="r" b="b"/>
                  <a:pathLst>
                    <a:path w="486" h="523">
                      <a:moveTo>
                        <a:pt x="0" y="0"/>
                      </a:moveTo>
                      <a:lnTo>
                        <a:pt x="58" y="361"/>
                      </a:lnTo>
                      <a:lnTo>
                        <a:pt x="132" y="295"/>
                      </a:lnTo>
                      <a:lnTo>
                        <a:pt x="336" y="522"/>
                      </a:lnTo>
                      <a:lnTo>
                        <a:pt x="485" y="387"/>
                      </a:lnTo>
                      <a:lnTo>
                        <a:pt x="281" y="160"/>
                      </a:lnTo>
                      <a:lnTo>
                        <a:pt x="356" y="9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00"/>
                </a:solidFill>
                <a:ln cap="rnd"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5640" y="1923120"/>
                  <a:ext cx="309240" cy="222120"/>
                </a:xfrm>
                <a:custGeom>
                  <a:avLst/>
                  <a:gdLst/>
                  <a:ahLst/>
                  <a:rect l="l" t="t" r="r" b="b"/>
                  <a:pathLst>
                    <a:path w="614" h="402">
                      <a:moveTo>
                        <a:pt x="307" y="0"/>
                      </a:moveTo>
                      <a:lnTo>
                        <a:pt x="307" y="100"/>
                      </a:lnTo>
                      <a:lnTo>
                        <a:pt x="0" y="100"/>
                      </a:lnTo>
                      <a:lnTo>
                        <a:pt x="0" y="301"/>
                      </a:lnTo>
                      <a:lnTo>
                        <a:pt x="307" y="301"/>
                      </a:lnTo>
                      <a:lnTo>
                        <a:pt x="307" y="401"/>
                      </a:lnTo>
                      <a:lnTo>
                        <a:pt x="613" y="201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ffcc00"/>
                </a:solidFill>
                <a:ln cap="rnd"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66960" y="1928520"/>
                  <a:ext cx="308880" cy="222120"/>
                </a:xfrm>
                <a:custGeom>
                  <a:avLst/>
                  <a:gdLst/>
                  <a:ahLst/>
                  <a:rect l="l" t="t" r="r" b="b"/>
                  <a:pathLst>
                    <a:path w="614" h="402">
                      <a:moveTo>
                        <a:pt x="0" y="201"/>
                      </a:moveTo>
                      <a:lnTo>
                        <a:pt x="307" y="401"/>
                      </a:lnTo>
                      <a:lnTo>
                        <a:pt x="307" y="301"/>
                      </a:lnTo>
                      <a:lnTo>
                        <a:pt x="613" y="301"/>
                      </a:lnTo>
                      <a:lnTo>
                        <a:pt x="613" y="100"/>
                      </a:lnTo>
                      <a:lnTo>
                        <a:pt x="307" y="100"/>
                      </a:lnTo>
                      <a:lnTo>
                        <a:pt x="307" y="0"/>
                      </a:lnTo>
                      <a:lnTo>
                        <a:pt x="0" y="201"/>
                      </a:lnTo>
                    </a:path>
                  </a:pathLst>
                </a:custGeom>
                <a:solidFill>
                  <a:srgbClr val="ffcc00"/>
                </a:solidFill>
                <a:ln cap="rnd"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9640" y="1342440"/>
                  <a:ext cx="244440" cy="289080"/>
                </a:xfrm>
                <a:custGeom>
                  <a:avLst/>
                  <a:gdLst/>
                  <a:ahLst/>
                  <a:rect l="l" t="t" r="r" b="b"/>
                  <a:pathLst>
                    <a:path w="486" h="523">
                      <a:moveTo>
                        <a:pt x="485" y="522"/>
                      </a:moveTo>
                      <a:lnTo>
                        <a:pt x="427" y="161"/>
                      </a:lnTo>
                      <a:lnTo>
                        <a:pt x="353" y="227"/>
                      </a:lnTo>
                      <a:lnTo>
                        <a:pt x="149" y="0"/>
                      </a:lnTo>
                      <a:lnTo>
                        <a:pt x="0" y="135"/>
                      </a:lnTo>
                      <a:lnTo>
                        <a:pt x="204" y="362"/>
                      </a:lnTo>
                      <a:lnTo>
                        <a:pt x="129" y="429"/>
                      </a:lnTo>
                      <a:lnTo>
                        <a:pt x="485" y="522"/>
                      </a:lnTo>
                    </a:path>
                  </a:pathLst>
                </a:custGeom>
                <a:solidFill>
                  <a:srgbClr val="ffcc00"/>
                </a:solidFill>
                <a:ln cap="rnd"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52040" y="1342440"/>
                  <a:ext cx="244440" cy="289080"/>
                </a:xfrm>
                <a:custGeom>
                  <a:avLst/>
                  <a:gdLst/>
                  <a:ahLst/>
                  <a:rect l="l" t="t" r="r" b="b"/>
                  <a:pathLst>
                    <a:path w="486" h="523">
                      <a:moveTo>
                        <a:pt x="354" y="430"/>
                      </a:moveTo>
                      <a:lnTo>
                        <a:pt x="279" y="363"/>
                      </a:lnTo>
                      <a:lnTo>
                        <a:pt x="485" y="135"/>
                      </a:lnTo>
                      <a:lnTo>
                        <a:pt x="336" y="0"/>
                      </a:lnTo>
                      <a:lnTo>
                        <a:pt x="130" y="228"/>
                      </a:lnTo>
                      <a:lnTo>
                        <a:pt x="56" y="162"/>
                      </a:lnTo>
                      <a:lnTo>
                        <a:pt x="0" y="522"/>
                      </a:lnTo>
                      <a:lnTo>
                        <a:pt x="354" y="430"/>
                      </a:lnTo>
                    </a:path>
                  </a:pathLst>
                </a:custGeom>
                <a:solidFill>
                  <a:srgbClr val="ffcc00"/>
                </a:solidFill>
                <a:ln cap="rnd"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0960" y="1207080"/>
                  <a:ext cx="1498680" cy="1645200"/>
                </a:xfrm>
                <a:prstGeom prst="ellipse">
                  <a:avLst/>
                </a:prstGeom>
                <a:noFill/>
                <a:ln w="76320">
                  <a:solidFill>
                    <a:srgbClr val="cc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953640" y="1862280"/>
              <a:ext cx="102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cc9900"/>
                  </a:solidFill>
                  <a:latin typeface="Arial"/>
                </a:rPr>
                <a:t>Les persones fins els 18 anys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1080" y="1146240"/>
              <a:ext cx="524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ff9900"/>
                  </a:solidFill>
                  <a:latin typeface="Arial"/>
                </a:rPr>
                <a:t>Mare/àvia família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1480" y="1901520"/>
              <a:ext cx="523440" cy="307080"/>
            </a:xfrm>
            <a:prstGeom prst="rect">
              <a:avLst/>
            </a:prstGeom>
            <a:solidFill>
              <a:srgbClr val="a9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008000"/>
                  </a:solidFill>
                  <a:latin typeface="Arial"/>
                </a:rPr>
                <a:t>Escola bressol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14480" y="2612160"/>
              <a:ext cx="52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008000"/>
                  </a:solidFill>
                  <a:latin typeface="Arial"/>
                </a:rPr>
                <a:t>Escola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3720" y="2576160"/>
              <a:ext cx="822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ff9900"/>
                  </a:solidFill>
                  <a:latin typeface="Arial"/>
                </a:rPr>
                <a:t>Grups d’iguals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000" y="1949760"/>
              <a:ext cx="72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ff9900"/>
                  </a:solidFill>
                  <a:latin typeface="Arial"/>
                </a:rPr>
                <a:t>Mitjans de comunicació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1600" y="1157040"/>
              <a:ext cx="752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700" spc="-1" strike="noStrike">
                  <a:solidFill>
                    <a:srgbClr val="ff9900"/>
                  </a:solidFill>
                  <a:latin typeface="Arial"/>
                </a:rPr>
                <a:t>L’entorn social i altres experiències</a:t>
              </a:r>
              <a:endParaRPr b="0" lang="en-US" sz="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826920" y="5734080"/>
            <a:ext cx="92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669900"/>
                </a:solidFill>
                <a:latin typeface="Arial"/>
              </a:rPr>
              <a:t>Els altres agents educatius poden potenciar o neutralitzar la tasca de l’escol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708360" y="1027080"/>
            <a:ext cx="4103640" cy="602640"/>
            <a:chOff x="3708360" y="1027080"/>
            <a:chExt cx="4103640" cy="602640"/>
          </a:xfrm>
        </p:grpSpPr>
        <p:sp>
          <p:nvSpPr>
            <p:cNvPr id="197" name=""/>
            <p:cNvSpPr/>
            <p:nvPr/>
          </p:nvSpPr>
          <p:spPr>
            <a:xfrm>
              <a:off x="3887640" y="1292400"/>
              <a:ext cx="34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ff9900"/>
                  </a:solidFill>
                  <a:latin typeface="Arial"/>
                </a:rPr>
                <a:t>L’IGUALTAT D’OPORTUNITAT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08360" y="1027080"/>
              <a:ext cx="41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669900"/>
                  </a:solidFill>
                  <a:latin typeface="Arial"/>
                </a:rPr>
                <a:t>El nivell socioeconòmic de les famílie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324160" y="3844800"/>
            <a:ext cx="42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ELS MITJAN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30920" y="378936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ca-ES" sz="1400" spc="-1" strike="noStrike">
                <a:solidFill>
                  <a:srgbClr val="ff9900"/>
                </a:solidFill>
                <a:latin typeface="Arial"/>
              </a:rPr>
              <a:t>EL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LIDERATG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05640" y="2276640"/>
            <a:ext cx="38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EL P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24922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LA COMPLICITAT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5640" y="514656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LA PARTICIPACIÓ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34040" y="5229360"/>
            <a:ext cx="44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FACTOR CLA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08000" y="1844640"/>
            <a:ext cx="6551280" cy="3745080"/>
            <a:chOff x="1908000" y="1844640"/>
            <a:chExt cx="6551280" cy="3745080"/>
          </a:xfrm>
        </p:grpSpPr>
        <p:grpSp>
          <p:nvGrpSpPr>
            <p:cNvPr id="206" name=""/>
            <p:cNvGrpSpPr/>
            <p:nvPr/>
          </p:nvGrpSpPr>
          <p:grpSpPr>
            <a:xfrm>
              <a:off x="2986200" y="1989000"/>
              <a:ext cx="5473080" cy="3311280"/>
              <a:chOff x="2986200" y="1989000"/>
              <a:chExt cx="5473080" cy="33112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090320" y="2106720"/>
                <a:ext cx="3026520" cy="3193560"/>
                <a:chOff x="4090320" y="2106720"/>
                <a:chExt cx="3026520" cy="31935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566960" y="4429800"/>
                  <a:ext cx="488520" cy="560880"/>
                </a:xfrm>
                <a:custGeom>
                  <a:avLst/>
                  <a:gdLst/>
                  <a:ahLst/>
                  <a:rect l="l" t="t" r="r" b="b"/>
                  <a:pathLst>
                    <a:path w="486" h="523">
                      <a:moveTo>
                        <a:pt x="131" y="92"/>
                      </a:moveTo>
                      <a:lnTo>
                        <a:pt x="206" y="159"/>
                      </a:lnTo>
                      <a:lnTo>
                        <a:pt x="0" y="387"/>
                      </a:lnTo>
                      <a:lnTo>
                        <a:pt x="149" y="522"/>
                      </a:lnTo>
                      <a:lnTo>
                        <a:pt x="355" y="294"/>
                      </a:lnTo>
                      <a:lnTo>
                        <a:pt x="429" y="360"/>
                      </a:lnTo>
                      <a:lnTo>
                        <a:pt x="485" y="0"/>
                      </a:lnTo>
                      <a:lnTo>
                        <a:pt x="131" y="92"/>
                      </a:lnTo>
                    </a:path>
                  </a:pathLst>
                </a:custGeom>
                <a:solidFill>
                  <a:srgbClr val="99ff99"/>
                </a:solidFill>
                <a:ln cap="rnd" w="9360">
                  <a:solidFill>
                    <a:srgbClr val="99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090320" y="2106720"/>
                  <a:ext cx="3026520" cy="3193560"/>
                  <a:chOff x="4090320" y="2106720"/>
                  <a:chExt cx="3026520" cy="31935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069960" y="4476240"/>
                    <a:ext cx="488520" cy="56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523">
                        <a:moveTo>
                          <a:pt x="0" y="0"/>
                        </a:moveTo>
                        <a:lnTo>
                          <a:pt x="58" y="361"/>
                        </a:lnTo>
                        <a:lnTo>
                          <a:pt x="132" y="295"/>
                        </a:lnTo>
                        <a:lnTo>
                          <a:pt x="336" y="522"/>
                        </a:lnTo>
                        <a:lnTo>
                          <a:pt x="485" y="387"/>
                        </a:lnTo>
                        <a:lnTo>
                          <a:pt x="281" y="160"/>
                        </a:lnTo>
                        <a:lnTo>
                          <a:pt x="356" y="9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9ff99"/>
                  </a:solidFill>
                  <a:ln cap="rnd" w="9360">
                    <a:solidFill>
                      <a:srgbClr val="99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100040" y="3496320"/>
                    <a:ext cx="617400" cy="430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02">
                        <a:moveTo>
                          <a:pt x="307" y="0"/>
                        </a:moveTo>
                        <a:lnTo>
                          <a:pt x="307" y="100"/>
                        </a:lnTo>
                        <a:lnTo>
                          <a:pt x="0" y="100"/>
                        </a:lnTo>
                        <a:lnTo>
                          <a:pt x="0" y="301"/>
                        </a:lnTo>
                        <a:lnTo>
                          <a:pt x="307" y="301"/>
                        </a:lnTo>
                        <a:lnTo>
                          <a:pt x="307" y="401"/>
                        </a:lnTo>
                        <a:lnTo>
                          <a:pt x="613" y="201"/>
                        </a:lnTo>
                        <a:lnTo>
                          <a:pt x="307" y="0"/>
                        </a:lnTo>
                      </a:path>
                    </a:pathLst>
                  </a:custGeom>
                  <a:solidFill>
                    <a:srgbClr val="99ff99"/>
                  </a:solidFill>
                  <a:ln cap="rnd" w="9360">
                    <a:solidFill>
                      <a:srgbClr val="99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499440" y="3507120"/>
                    <a:ext cx="617400" cy="430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02">
                        <a:moveTo>
                          <a:pt x="0" y="201"/>
                        </a:moveTo>
                        <a:lnTo>
                          <a:pt x="307" y="401"/>
                        </a:lnTo>
                        <a:lnTo>
                          <a:pt x="307" y="301"/>
                        </a:lnTo>
                        <a:lnTo>
                          <a:pt x="613" y="301"/>
                        </a:lnTo>
                        <a:lnTo>
                          <a:pt x="613" y="100"/>
                        </a:lnTo>
                        <a:lnTo>
                          <a:pt x="307" y="100"/>
                        </a:lnTo>
                        <a:lnTo>
                          <a:pt x="307" y="0"/>
                        </a:lnTo>
                        <a:lnTo>
                          <a:pt x="0" y="201"/>
                        </a:lnTo>
                      </a:path>
                    </a:pathLst>
                  </a:custGeom>
                  <a:solidFill>
                    <a:srgbClr val="99ff99"/>
                  </a:solidFill>
                  <a:ln cap="rnd" w="9360">
                    <a:solidFill>
                      <a:srgbClr val="99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566960" y="2369520"/>
                    <a:ext cx="488520" cy="56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523">
                        <a:moveTo>
                          <a:pt x="485" y="522"/>
                        </a:moveTo>
                        <a:lnTo>
                          <a:pt x="427" y="161"/>
                        </a:lnTo>
                        <a:lnTo>
                          <a:pt x="353" y="227"/>
                        </a:lnTo>
                        <a:lnTo>
                          <a:pt x="149" y="0"/>
                        </a:lnTo>
                        <a:lnTo>
                          <a:pt x="0" y="135"/>
                        </a:lnTo>
                        <a:lnTo>
                          <a:pt x="204" y="362"/>
                        </a:lnTo>
                        <a:lnTo>
                          <a:pt x="129" y="429"/>
                        </a:lnTo>
                        <a:lnTo>
                          <a:pt x="485" y="522"/>
                        </a:lnTo>
                      </a:path>
                    </a:pathLst>
                  </a:custGeom>
                  <a:solidFill>
                    <a:srgbClr val="99ff99"/>
                  </a:solidFill>
                  <a:ln cap="rnd" w="9360">
                    <a:solidFill>
                      <a:srgbClr val="99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069960" y="2369520"/>
                    <a:ext cx="488520" cy="56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523">
                        <a:moveTo>
                          <a:pt x="354" y="430"/>
                        </a:moveTo>
                        <a:lnTo>
                          <a:pt x="279" y="363"/>
                        </a:lnTo>
                        <a:lnTo>
                          <a:pt x="485" y="135"/>
                        </a:lnTo>
                        <a:lnTo>
                          <a:pt x="336" y="0"/>
                        </a:lnTo>
                        <a:lnTo>
                          <a:pt x="130" y="228"/>
                        </a:lnTo>
                        <a:lnTo>
                          <a:pt x="56" y="162"/>
                        </a:lnTo>
                        <a:lnTo>
                          <a:pt x="0" y="522"/>
                        </a:lnTo>
                        <a:lnTo>
                          <a:pt x="354" y="430"/>
                        </a:lnTo>
                      </a:path>
                    </a:pathLst>
                  </a:custGeom>
                  <a:solidFill>
                    <a:srgbClr val="99ff99"/>
                  </a:solidFill>
                  <a:ln cap="rnd" w="9360">
                    <a:solidFill>
                      <a:srgbClr val="99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090320" y="2106720"/>
                    <a:ext cx="2993400" cy="3193560"/>
                  </a:xfrm>
                  <a:prstGeom prst="ellipse">
                    <a:avLst/>
                  </a:prstGeom>
                  <a:noFill/>
                  <a:ln w="76320">
                    <a:solidFill>
                      <a:srgbClr val="99ff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4884840" y="3508920"/>
                <a:ext cx="152136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800" spc="-1" strike="noStrike">
                    <a:solidFill>
                      <a:srgbClr val="008000"/>
                    </a:solidFill>
                    <a:latin typeface="Arial"/>
                  </a:rPr>
                  <a:t>L’ALUMNAT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45520" y="1989000"/>
                <a:ext cx="191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Projecte educatiu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84160" y="3449520"/>
                <a:ext cx="104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Direcció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90880" y="4831920"/>
                <a:ext cx="164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Professora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76560" y="4763880"/>
                <a:ext cx="164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          </a:t>
                </a: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CE i CL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86200" y="3546000"/>
                <a:ext cx="1459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Recursos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90240" y="2131560"/>
                <a:ext cx="194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a-ES" sz="1600" spc="-1" strike="noStrike">
                    <a:solidFill>
                      <a:srgbClr val="669900"/>
                    </a:solidFill>
                    <a:latin typeface="Arial"/>
                  </a:rPr>
                  <a:t>L’entorn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40000" y="1844640"/>
              <a:ext cx="5761080" cy="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8000" y="2781360"/>
              <a:ext cx="1440000" cy="2808360"/>
            </a:xfrm>
            <a:prstGeom prst="line">
              <a:avLst/>
            </a:prstGeom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843200">
            <a:off x="702720" y="2331000"/>
            <a:ext cx="38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ca-ES" sz="1400" spc="-1" strike="noStrike">
                <a:solidFill>
                  <a:srgbClr val="ff9900"/>
                </a:solidFill>
                <a:latin typeface="Arial"/>
              </a:rPr>
              <a:t>LA CORESPONSABILTAT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1844640"/>
            <a:ext cx="7921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Decidir en  el present el què es farà en el futur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70828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reveure, anticipar el futur, reflexionar cap on anem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3480" y="3981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Allò oposat a improvis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9520" y="4984920"/>
            <a:ext cx="7098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La planificació orienta i dóna sentit a la feina de l’organització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9933"/>
                </a:solidFill>
                <a:latin typeface="Times New Roman"/>
              </a:rPr>
              <a:t>ON ANEM? PER QUÈ?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115040" y="2278080"/>
            <a:ext cx="1704960" cy="1871640"/>
            <a:chOff x="7115040" y="2278080"/>
            <a:chExt cx="1704960" cy="18716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115040" y="2278080"/>
              <a:ext cx="170496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">
              <a:alphaModFix amt="26000"/>
            </a:blip>
            <a:stretch/>
          </p:blipFill>
          <p:spPr>
            <a:xfrm>
              <a:off x="7186320" y="3214440"/>
              <a:ext cx="57780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250920" y="1125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ca-ES" sz="2000" spc="-1" strike="noStrike">
                <a:solidFill>
                  <a:srgbClr val="ff9933"/>
                </a:solidFill>
                <a:latin typeface="Arial"/>
              </a:rPr>
              <a:t>Planificar és ….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3316320"/>
            <a:ext cx="660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Times New Roman"/>
              </a:rPr>
              <a:t>Perquè dóna un sentit col·lectiu al que es fa</a:t>
            </a: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9933"/>
                </a:solidFill>
                <a:latin typeface="Arial"/>
              </a:rPr>
              <a:t>PER QUÈ UN PLA ESTRATÈGIC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1628640"/>
            <a:ext cx="81360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erquè ajuda als centres educatius a aconseguir le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seves finalitats i a racionalitzar l’ús dels seus recurs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" y="3429000"/>
            <a:ext cx="8550360" cy="2838240"/>
          </a:xfrm>
          <a:prstGeom prst="rect">
            <a:avLst/>
          </a:prstGeom>
          <a:solidFill>
            <a:srgbClr val="a9b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erquè és una oportunitat per a què els centres educatiu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prestin millors serveis públic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siguin més eficaces i eficient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incrementin el nivell de satisfacció professional i personal de tot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aquells que treballen a tots els nivell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66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aconsegueixin  una major satisfacció dels alumnes, famílies, ..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Com a conseqüència, són centres educatius més capaces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33"/>
                </a:solidFill>
                <a:latin typeface="Arial"/>
              </a:rPr>
              <a:t>més professionals que asseguren millor la seva supervivè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3:48:24Z</dcterms:created>
  <dc:creator>E00MDV</dc:creator>
  <dc:description/>
  <dc:language>en-US</dc:language>
  <cp:lastModifiedBy>e00mdv</cp:lastModifiedBy>
  <cp:lastPrinted>2006-11-13T12:03:13Z</cp:lastPrinted>
  <dcterms:modified xsi:type="dcterms:W3CDTF">2007-03-01T05:27:21Z</dcterms:modified>
  <cp:revision>27</cp:revision>
  <dc:subject/>
  <dc:title>RESUM TREBALL COORDINACIÓ PRIMÀRIA SECUNDÀRIA ANOIA CURS 2005 - 2006</dc:title>
</cp:coreProperties>
</file>