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Donde%20est%C3%A1%20el%20p%C3%A1jaro.wav" ContentType="audio/x-wav"/>
  <Override PartName="/ppt/media/Donde%20estan%20las%20lechuzas.wav" ContentType="audio/x-wav"/>
  <Override PartName="/ppt/media/image8.png" ContentType="image/png"/>
  <Override PartName="/ppt/media/image6.png" ContentType="image/png"/>
  <Override PartName="/ppt/media/image11.png" ContentType="image/png"/>
  <Override PartName="/ppt/media/Por%20donde%20subi%C3%B3%20la%20gata%20a%20la%20casa.wav" ContentType="audio/x-wav"/>
  <Override PartName="/ppt/media/image10.png" ContentType="image/png"/>
  <Override PartName="/ppt/media/Quien%20asust%C3%B3%20a%20la%20gata.wav" ContentType="audio/x-wav"/>
  <Override PartName="/ppt/media/image9.jpeg" ContentType="image/jpeg"/>
  <Override PartName="/ppt/media/image2.png" ContentType="image/png"/>
  <Override PartName="/ppt/media/image1.png" ContentType="image/png"/>
  <Override PartName="/ppt/media/image5.png" ContentType="image/png"/>
  <Override PartName="/ppt/media/Donde%20est%C3%A1%20el%20gato.wav" ContentType="audio/x-wav"/>
  <Override PartName="/ppt/media/Donde%20est%C3%A1%20la%20ardilla.wav" ContentType="audio/x-wav"/>
  <Override PartName="/ppt/media/image3.png" ContentType="image/png"/>
  <Override PartName="/ppt/media/image4.png" ContentType="image/png"/>
  <Override PartName="/ppt/media/Donde%20se%20subio%20la%20gat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1840-9457-45FB-B2B8-E02A6254E7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Velocidad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olores ROJO 255  AZUL 16711680 VERDE 65280  BLANCO 16777215 NEGRO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olor = 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Grosor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dioma=españ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oaquin Fonoll jfonoll@xtec.c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2B6-33A8-43B8-9FD5-1C01A9BE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8B9-5EB3-4EEB-ACD3-53CC9CE6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734-30FA-487A-BB58-BB9C5831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0AC-96A8-4DAA-8002-81F465FF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90D-1F2D-48BE-9EF1-8EC10787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CBB-B779-4E00-84DA-FD53A8CF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46F-A56B-4C32-9140-99EB8EF3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BD9-4650-450E-BA73-E996BC3F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F0B-F170-4DD9-B7F4-2E38471C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76B-4D6E-4C2C-B986-2CB19EBF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326-0CA6-4F87-B60E-BF3DA1CA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F3E-5C34-4595-9D1D-FCBB3B62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15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800" indent="-2156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5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5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5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ca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8FA9EE1B-EF7C-48A3-A09F-EAA49D36A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Intentalo%20de%20nuevo.wav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Donde%20est&#225;%20la%20ardilla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Intentalo%20de%20nuevo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Donde%20se%20subio%20la%20gat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Intentalo%20de%20nuevo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Donde%20est&#225;%20el%20p&#225;jaro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tmp/home/.config/libreoffice/4/user/gallery/Intentalo%20de%20nuevo.wav" TargetMode="External"/><Relationship Id="rId3" Type="http://schemas.openxmlformats.org/officeDocument/2006/relationships/image" Target="../media/image6.png"/><Relationship Id="rId4" Type="http://schemas.openxmlformats.org/officeDocument/2006/relationships/audio" Target="../media/Donde%20est&#225;%20el%20gato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Intentalo%20de%20nuevo.wav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audio" Target="../media/Donde%20estan%20las%20lechuzas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Intentalo%20de%20nuevo.wav" TargetMode="External"/><Relationship Id="rId3" Type="http://schemas.openxmlformats.org/officeDocument/2006/relationships/image" Target="../media/image10.png"/><Relationship Id="rId4" Type="http://schemas.openxmlformats.org/officeDocument/2006/relationships/audio" Target="../media/Por%20donde%20subi&#243;%20la%20gata%20a%20la%20casa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audio" Target="../media/Quien%20asust&#243;%20a%20la%20gata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523880" y="1295280"/>
            <a:ext cx="595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ctividad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8153280" y="5105520"/>
            <a:ext cx="1067040" cy="914400"/>
          </a:xfrm>
          <a:custGeom>
            <a:avLst/>
            <a:gdLst>
              <a:gd name="textAreaLeft" fmla="*/ 59040 w 1067040"/>
              <a:gd name="textAreaRight" fmla="*/ 1008000 w 1067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5596" y="3794"/>
                </a:moveTo>
                <a:lnTo>
                  <a:pt x="19609" y="10800"/>
                </a:lnTo>
                <a:lnTo>
                  <a:pt x="559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5486400"/>
            <a:ext cx="556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Setefilla Lopez setefilla03@eresmas.c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rdilla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69840" y="2462040"/>
            <a:ext cx="3426120" cy="2800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629080"/>
            <a:ext cx="449568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sa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44520" y="2451240"/>
            <a:ext cx="4492440" cy="3012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4" name="montaña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0800" y="2421000"/>
            <a:ext cx="4209840" cy="303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err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590920"/>
            <a:ext cx="4667400" cy="2887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6" name="pájaro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562720" y="2590920"/>
            <a:ext cx="3627360" cy="2849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ato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04640" y="2664000"/>
            <a:ext cx="5053320" cy="2535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8" name="pájar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11840" y="2597040"/>
            <a:ext cx="3274920" cy="257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rdilla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1800" y="2522520"/>
            <a:ext cx="3578400" cy="2816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lechuzas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024520" y="2562120"/>
            <a:ext cx="4195800" cy="2732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ATO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95320" y="1341360"/>
            <a:ext cx="3268800" cy="4021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2" name="escalada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41920" y="1773360"/>
            <a:ext cx="4579920" cy="3101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gre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4880" y="2509920"/>
            <a:ext cx="4322880" cy="2728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4" name="lechuzas" descr=""/>
          <p:cNvPicPr/>
          <p:nvPr/>
        </p:nvPicPr>
        <p:blipFill>
          <a:blip r:embed="rId3"/>
          <a:stretch/>
        </p:blipFill>
        <p:spPr>
          <a:xfrm>
            <a:off x="5421240" y="2468520"/>
            <a:ext cx="4140360" cy="269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9:07:02Z</dcterms:created>
  <dc:creator>SGTI</dc:creator>
  <dc:description/>
  <dc:language>en-US</dc:language>
  <cp:lastModifiedBy>E04JFS</cp:lastModifiedBy>
  <dcterms:modified xsi:type="dcterms:W3CDTF">2013-08-07T07:32:25Z</dcterms:modified>
  <cp:revision>155</cp:revision>
  <dc:subject/>
  <dc:title>Sin título de diapositiva</dc:title>
</cp:coreProperties>
</file>