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D56C-5F22-4BCC-9AFF-FFCA1E0FB9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Velocidad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olores ROJO 255  AZUL 16711680 VERDE 65280  BLANCO 16777215 NEGRO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olor = 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Grosor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dioma=españ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Joaquin Fonoll jfonoll@xtec.c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D76-A3E0-4BAB-9556-1E4F83D9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3A0-E2EF-4867-AD4B-ED47CE24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BBC-0827-42EF-84DB-01996C28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4B6-FDBB-47DF-8746-5C9C6747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3B7-98CD-4F41-8831-A470D6F2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910-1033-4901-A29C-F6E7BF5F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77C-3117-4725-886E-0CD75F98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2FF-F96E-4AC5-8244-4074EDC2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F8C-3646-4A6C-89EF-58DD2815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52E-4C07-4374-AC8F-34EF6B40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8B3-AEC5-4F5B-A340-4C8619FC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D00-86AE-4BB9-BE4B-9D6B4A06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15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800" indent="-2156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5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5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5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9A7E1075-06CC-405C-A4EC-C4D489E8F1D3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1066680"/>
            <a:ext cx="8229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arrido PowerPoi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8153280" y="5105520"/>
            <a:ext cx="1067040" cy="914400"/>
          </a:xfrm>
          <a:custGeom>
            <a:avLst/>
            <a:gdLst>
              <a:gd name="textAreaLeft" fmla="*/ 59040 w 1067040"/>
              <a:gd name="textAreaRight" fmla="*/ 1008000 w 1067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5596" y="3794"/>
                </a:moveTo>
                <a:lnTo>
                  <a:pt x="19609" y="10800"/>
                </a:lnTo>
                <a:lnTo>
                  <a:pt x="559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858000"/>
            <a:ext cx="4800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Joaquin Fonoll jfonoll@xtec.c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9:07:02Z</dcterms:created>
  <dc:creator>SGTI</dc:creator>
  <dc:description/>
  <dc:language>en-US</dc:language>
  <cp:lastModifiedBy>E04JFS</cp:lastModifiedBy>
  <dcterms:modified xsi:type="dcterms:W3CDTF">2013-08-07T07:38:21Z</dcterms:modified>
  <cp:revision>151</cp:revision>
  <dc:subject/>
  <dc:title>Sin título de diapositiva</dc:title>
</cp:coreProperties>
</file>