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74E-F412-40D1-BDE4-1D8BAAB9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AAC-0C2E-4EF2-B87B-419B4EB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5CA-22A9-4177-9A6A-D4FF9441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0E3-7C06-4693-95DD-CAD0464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D73-3EBC-47C2-A595-70B49A10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20E-435D-4F75-A2DC-FE220EC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9FE-A6A4-41CC-BA10-2488765B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342-4A82-40EF-B762-EBF1B30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9CD-B031-420A-B0FB-9D366A6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33B-F469-47D8-A3B3-0424CBD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E41-7926-48E8-AAC5-2ADB616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F5F-5762-4E69-839C-BA0E3A1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A20E-D945-4FF7-B65B-0A624F4B1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boca.wav" TargetMode="External"/><Relationship Id="rId3" Type="http://schemas.microsoft.com/office/2007/relationships/media" Target="file:///tmp/home/.config/libreoffice/4/user/gallery/boc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dit.wav" TargetMode="External"/><Relationship Id="rId3" Type="http://schemas.microsoft.com/office/2007/relationships/media" Target="file:///tmp/home/.config/libreoffice/4/user/gallery/di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FRONT.WAV" TargetMode="External"/><Relationship Id="rId3" Type="http://schemas.microsoft.com/office/2007/relationships/media" Target="file:///tmp/home/.config/libreoffice/4/user/gallery/FRON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tmp/home/.config/libreoffice/4/user/gallery/genoll.wav" TargetMode="External"/><Relationship Id="rId3" Type="http://schemas.microsoft.com/office/2007/relationships/media" Target="file:///tmp/home/.config/libreoffice/4/user/gallery/gen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file:///tmp/home/.config/libreoffice/4/user/gallery/LLENGUA.WAV" TargetMode="External"/><Relationship Id="rId3" Type="http://schemas.microsoft.com/office/2007/relationships/media" Target="file:///tmp/home/.config/libreoffice/4/user/gallery/LLENGU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MA.WAV" TargetMode="External"/><Relationship Id="rId3" Type="http://schemas.microsoft.com/office/2007/relationships/media" Target="file:///tmp/home/.config/libreoffice/4/user/gallery/M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file:///tmp/home/.config/libreoffice/4/user/gallery/nas.wav" TargetMode="External"/><Relationship Id="rId3" Type="http://schemas.microsoft.com/office/2007/relationships/media" Target="file:///tmp/home/.config/libreoffice/4/user/gallery/na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file:///tmp/home/.config/libreoffice/4/user/gallery/orella.wav" TargetMode="External"/><Relationship Id="rId3" Type="http://schemas.microsoft.com/office/2007/relationships/media" Target="file:///tmp/home/.config/libreoffice/4/user/gallery/orell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file:///tmp/home/.config/libreoffice/4/user/gallery/panxa.wav" TargetMode="External"/><Relationship Id="rId3" Type="http://schemas.microsoft.com/office/2007/relationships/media" Target="file:///tmp/home/.config/libreoffice/4/user/gallery/panx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file:///tmp/home/.config/libreoffice/4/user/gallery/peu.wav" TargetMode="External"/><Relationship Id="rId3" Type="http://schemas.microsoft.com/office/2007/relationships/media" Target="file:///tmp/home/.config/libreoffice/4/user/gallery/peu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file:///tmp/home/.config/libreoffice/4/user/gallery/ulls.wav" TargetMode="External"/><Relationship Id="rId3" Type="http://schemas.microsoft.com/office/2007/relationships/media" Target="file:///tmp/home/.config/libreoffice/4/user/gallery/ull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bra&#231;.wav" TargetMode="External"/><Relationship Id="rId3" Type="http://schemas.microsoft.com/office/2007/relationships/media" Target="file:///tmp/home/.config/libreoffice/4/user/gallery/bra&#231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cabell.wav" TargetMode="External"/><Relationship Id="rId3" Type="http://schemas.microsoft.com/office/2007/relationships/media" Target="file:///tmp/home/.config/libreoffice/4/user/gallery/cabe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cama.wav" TargetMode="External"/><Relationship Id="rId3" Type="http://schemas.microsoft.com/office/2007/relationships/media" Target="file:///tmp/home/.config/libreoffice/4/user/gallery/cam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ap.wav" TargetMode="External"/><Relationship Id="rId3" Type="http://schemas.microsoft.com/office/2007/relationships/media" Target="file:///tmp/home/.config/libreoffice/4/user/gallery/cap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cara.wav" TargetMode="External"/><Relationship Id="rId3" Type="http://schemas.microsoft.com/office/2007/relationships/media" Target="file:///tmp/home/.config/libreoffice/4/user/gallery/car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COLL.WAV" TargetMode="External"/><Relationship Id="rId3" Type="http://schemas.microsoft.com/office/2007/relationships/media" Target="file:///tmp/home/.config/libreoffice/4/user/gallery/C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colze.wav" TargetMode="External"/><Relationship Id="rId3" Type="http://schemas.microsoft.com/office/2007/relationships/media" Target="file:///tmp/home/.config/libreoffice/4/user/gallery/colz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file:///tmp/home/.config/libreoffice/4/user/gallery/dent.wav" TargetMode="External"/><Relationship Id="rId3" Type="http://schemas.microsoft.com/office/2007/relationships/media" Target="file:///tmp/home/.config/libreoffice/4/user/gallery/den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ca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73880" cy="398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572000" y="266688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i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ron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38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ENOLL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ENO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LENGU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47920" y="4572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LEN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m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AS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RELL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71600" y="3808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R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nx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3049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NX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EU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7160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ULLS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raç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RA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bells_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E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m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ar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ll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398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LZE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n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32:56Z</dcterms:created>
  <dc:creator>pau boada</dc:creator>
  <dc:description/>
  <dc:language>en-US</dc:language>
  <cp:lastModifiedBy>pau boada</cp:lastModifiedBy>
  <dcterms:modified xsi:type="dcterms:W3CDTF">2006-11-24T09:06:00Z</dcterms:modified>
  <cp:revision>3</cp:revision>
  <dc:subject/>
  <dc:title>Sin título de diapositiva</dc:title>
</cp:coreProperties>
</file>