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FF6-11E4-4C33-BE7B-FBDCAB6D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76A-585F-48D6-B214-DDC51B67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D74-C12F-409B-BDF0-B1166D1B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8B8-B6EA-4613-B396-5C77E1BF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00D-C99D-4452-BAB4-09E991ED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2017-9AD4-4327-B5DF-C364D921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51F-84B9-4A28-B6B3-AB7EF5B3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08B-FD35-446A-AA11-DCCB1DA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3FF5-9B8D-4053-831B-CFDB8707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F61B-BE16-4DAF-8CCF-E4C7380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3EB3-ECAB-469F-9C3C-54DD0DA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CA9-8AAB-4E41-B206-6E631B25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9812-3D0E-4675-B7F0-6B975B6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56F3-A062-49BD-9186-E135028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FFB4-DA7D-448F-92F0-5FD67905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29E2-9A82-4A7D-8BFC-EC00EDC6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BC76-6933-4B6E-A324-77620AF0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F27-DB75-4F49-AEC9-9C16F4B2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45F-7109-4594-BF67-C0AA22F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6DB-731E-4F8E-9FC8-60429EF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4E8-D6CE-49CC-BA6C-C7E3E6B7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19E-DE77-484A-AC8E-4C0A69B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803-447F-4DFE-8EC7-166CB05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6ED-0FFE-4BDD-8CF9-9886171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C816-B68E-49A0-94A4-047C91B7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7FE-B46E-4979-AEC7-514B4B2A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uplace.com/tales/" TargetMode="External"/><Relationship Id="rId2" Type="http://schemas.openxmlformats.org/officeDocument/2006/relationships/hyperlink" Target="http://www.its-online.com/" TargetMode="External"/><Relationship Id="rId3" Type="http://schemas.openxmlformats.org/officeDocument/2006/relationships/hyperlink" Target="http://www.civilization.ca/membrs/civiliz/egypt/egypte.html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" TargetMode="External"/><Relationship Id="rId2" Type="http://schemas.openxmlformats.org/officeDocument/2006/relationships/hyperlink" Target="http://www.theholidayspot.com/" TargetMode="External"/><Relationship Id="rId3" Type="http://schemas.openxmlformats.org/officeDocument/2006/relationships/hyperlink" Target="http://www.ask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google.com/" TargetMode="External"/><Relationship Id="rId6" Type="http://schemas.openxmlformats.org/officeDocument/2006/relationships/hyperlink" Target="http://www.webbrain.com/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n.eun.org/" TargetMode="External"/><Relationship Id="rId2" Type="http://schemas.openxmlformats.org/officeDocument/2006/relationships/hyperlink" Target="http://www.gsn.org/" TargetMode="External"/><Relationship Id="rId3" Type="http://schemas.openxmlformats.org/officeDocument/2006/relationships/hyperlink" Target="http://www.kidlink.org/" TargetMode="External"/><Relationship Id="rId4" Type="http://schemas.openxmlformats.org/officeDocument/2006/relationships/hyperlink" Target="http://www.kidlink.org/" TargetMode="External"/><Relationship Id="rId5" Type="http://schemas.openxmlformats.org/officeDocument/2006/relationships/hyperlink" Target="http://www.kidlink.org/" TargetMode="External"/><Relationship Id="rId6" Type="http://schemas.openxmlformats.org/officeDocument/2006/relationships/hyperlink" Target="http://www.kidlink.org/" TargetMode="External"/><Relationship Id="rId7" Type="http://schemas.openxmlformats.org/officeDocument/2006/relationships/hyperlink" Target="http://www.kidlink.org/" TargetMode="External"/><Relationship Id="rId8" Type="http://schemas.openxmlformats.org/officeDocument/2006/relationships/hyperlink" Target="http://www.epals.com/" TargetMode="External"/><Relationship Id="rId9" Type="http://schemas.openxmlformats.org/officeDocument/2006/relationships/hyperlink" Target="http://www.epals.com/" TargetMode="External"/><Relationship Id="rId10" Type="http://schemas.openxmlformats.org/officeDocument/2006/relationships/hyperlink" Target="http://www.epals.com/" TargetMode="External"/><Relationship Id="rId11" Type="http://schemas.openxmlformats.org/officeDocument/2006/relationships/hyperlink" Target="http://www.epals.com/" TargetMode="External"/><Relationship Id="rId12" Type="http://schemas.openxmlformats.org/officeDocument/2006/relationships/hyperlink" Target="http://www.epals.com/" TargetMode="External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xtec.es/~nbrich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nglishlearner.com/tests/test.html" TargetMode="External"/><Relationship Id="rId2" Type="http://schemas.openxmlformats.org/officeDocument/2006/relationships/hyperlink" Target="http://www.pacificnet.net/~sperling" TargetMode="External"/><Relationship Id="rId3" Type="http://schemas.openxmlformats.org/officeDocument/2006/relationships/hyperlink" Target="http://www.englishpag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665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Les noves tecnologies </a:t>
            </a:r>
            <a:br>
              <a:rPr sz="4400"/>
            </a:b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a l'aula d'autoaprenentatge d'idi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Comprensió lectora </a:t>
            </a:r>
            <a:br>
              <a:rPr sz="4400"/>
            </a:b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amb ordinad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CD-Roms multimè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webs amb exercici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Wacky Web Tales    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eduplace.com/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It’s online 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its-onl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gimcanes de lectura a partir d’una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www.civilization.ca/membrs/civiliz/egypt/egypt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www.ajkid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Cerques pe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webs amb material d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All Music Guide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www.allmus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The International Lyrics Server www.lyrics.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The Internet Movie Database (IMDb)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us.imdb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Encyclopaedia Britannica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www.britannic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Enchanted Learning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 www.enchantedlearn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The Holiday Spot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 www.theholiday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cerca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Ask Jeeves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 www.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Ask Jeeves for kids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www.ajkid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Google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 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Web brain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www.webbrai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Projectes telemà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I*EARN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www.iear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European Schoolnet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en.eu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The Global Schoolhouse   </a:t>
            </a:r>
            <a:r>
              <a:rPr b="0" lang="ca-E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gs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Kidlink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.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kidlink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.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org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pal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epals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2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95280"/>
            <a:ext cx="513396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Glòria Come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gcomerma@pie.xtec.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Núria Bri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nbrichs@pangea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xtec.es/~nbri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IES Sentme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3366"/>
                </a:solidFill>
                <a:latin typeface="Arial"/>
              </a:rPr>
              <a:t>www.xtec.es/centres/a80532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Justificació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diferència de nivells dins d’un mateix g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diversitat d’inter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s diferents ritmes d’aprenentat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diferents capacitats dels alum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manca de motiva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Func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3366"/>
                </a:solidFill>
                <a:latin typeface="Arial"/>
              </a:rPr>
              <a:t>Per a l’alumn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ula d’autoaprenentatge, amb racons per treballar les diferents habilit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biblioteca/mediateca, amb servei de prést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3366"/>
                </a:solidFill>
                <a:latin typeface="Arial"/>
              </a:rPr>
              <a:t>Per al professor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entre de recursos amb tot el material classificat de forma sistemà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Metodolog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resa de contacte amb els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treball autònom potenciant els hàbits (ordre, silenci, respecte pel treball dels companys, utilització de recursos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stematització del treball: treball en cadascun dels racons i autoavalua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rofessor supervisor i orien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Avaluació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’alumne s’autoavalua al final de cad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rofessor fa un seguiment de les tasques realitzades, el nivell d’assoliment, els hàbits adquir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Organització de l’au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Racó d’escriptur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(gramàtica, vocabulari, expressió escrita paut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Racó de lectur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(‘</a:t>
            </a: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graded readers’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lectures curtes, revistes i cò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Racó de comprensió oral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(lectures guiades amb casset, cançons, exercicis de comprensi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Racó d’expressió oral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(‘</a:t>
            </a:r>
            <a:r>
              <a:rPr b="0" i="1" lang="ca-ES" sz="2800" spc="-1" strike="noStrike">
                <a:solidFill>
                  <a:srgbClr val="000000"/>
                </a:solidFill>
                <a:latin typeface="Arial"/>
              </a:rPr>
              <a:t>role play’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 gravacions de dramatitzacions amb els laboratoris portàt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Organització de l’au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3366"/>
                </a:solidFill>
                <a:latin typeface="Arial"/>
              </a:rPr>
              <a:t>Racó de joc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(jocs de taula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3366"/>
                </a:solidFill>
                <a:latin typeface="Arial"/>
              </a:rPr>
              <a:t>Racó de vide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(dibuixos animats  i pel·lícules en versió origi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3366"/>
                </a:solidFill>
                <a:latin typeface="Arial"/>
              </a:rPr>
              <a:t>Racó de l’ordinador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(pràctica lingüística, cerques per internet, recursos multimèdia, projectes telemà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Organització de l’au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905120"/>
            <a:ext cx="7467480" cy="39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Les activitats es classifiquen per nivel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</a:rPr>
              <a:t>Beginner (1r, 2n E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Elementary (2n, 3r E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dvanced (3r, 4t E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Arial"/>
              </a:rPr>
              <a:t>Upper (Batxiller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66cc"/>
                </a:solidFill>
                <a:latin typeface="Arial"/>
              </a:rPr>
              <a:t>Exercitació lingüística amb ordinad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C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CD-R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Yes,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Community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3366"/>
                </a:solidFill>
                <a:latin typeface="Arial"/>
              </a:rPr>
              <a:t>Exercicis autocorrectius 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EnglishLearner.com</a:t>
            </a:r>
            <a:r>
              <a:rPr b="1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a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englishlearner.com/tests/te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Dave’s ESL Café</a:t>
            </a:r>
            <a:r>
              <a:rPr b="1" lang="ca-E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ca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pacificnet.net/~spe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englishpage.com </a:t>
            </a: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a-E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www.englishpag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3366"/>
                </a:solidFill>
                <a:latin typeface="Arial"/>
              </a:rPr>
              <a:t>English-Zone.com http://members.home.net/englishzon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09:26:26Z</dcterms:created>
  <dc:creator>.</dc:creator>
  <dc:description/>
  <dc:language>en-US</dc:language>
  <cp:lastModifiedBy>Núria</cp:lastModifiedBy>
  <cp:lastPrinted>2001-09-08T11:52:19Z</cp:lastPrinted>
  <dcterms:modified xsi:type="dcterms:W3CDTF">2001-09-18T17:48:00Z</dcterms:modified>
  <cp:revision>20</cp:revision>
  <dc:subject/>
  <dc:title>Les noves tecnologies  a l'aula d'autoaprenentatge d'idiomes</dc:title>
</cp:coreProperties>
</file>