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67E-37FB-4D4E-9506-E5AADD98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9AA-9E5A-47D5-BD31-B7998772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664-F9DE-486E-B34E-F1273A3C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954-63A8-4DAD-A52E-AC90DAD1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C7B-B3E8-4E1D-A9E7-D85009C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723-02F5-4353-B2B7-DAF09F2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973-B3AD-419F-8451-B47AFDF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D98-0896-4567-AABB-D00D332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B34-D9D7-4E96-BA99-417F464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34C-96D0-44F0-80CB-B45361E3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54E-1C5A-4A03-A572-3143516C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72A-C3FD-467D-84D9-07357700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ABCAA-751E-443A-B914-ED3D499DD0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89320" y="293688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033640" y="720720"/>
            <a:ext cx="66182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Comparació del Vol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d'un prisma i una piràm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de  base i altura igu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419640"/>
            <a:ext cx="2160720" cy="3060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759280"/>
            <a:ext cx="2700360" cy="900360"/>
          </a:xfrm>
          <a:prstGeom prst="parallelogram">
            <a:avLst>
              <a:gd name="adj" fmla="val 81603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3240000"/>
            <a:ext cx="1979640" cy="25210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6297120" y="3238200"/>
            <a:ext cx="126396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580000" y="3238200"/>
            <a:ext cx="72072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158920" y="3417480"/>
            <a:ext cx="1082880" cy="30639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619280" y="3419640"/>
            <a:ext cx="542880" cy="30603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3419640"/>
            <a:ext cx="1619280" cy="25192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976360" y="14623920"/>
            <a:ext cx="360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3419640"/>
            <a:ext cx="2160720" cy="3060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5759280"/>
            <a:ext cx="2700360" cy="900360"/>
          </a:xfrm>
          <a:prstGeom prst="parallelogram">
            <a:avLst>
              <a:gd name="adj" fmla="val 81603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0720" y="3240000"/>
            <a:ext cx="1979640" cy="25210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297120" y="3238200"/>
            <a:ext cx="126396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80000" y="3238200"/>
            <a:ext cx="72072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158920" y="3417480"/>
            <a:ext cx="1082880" cy="30639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19280" y="3419640"/>
            <a:ext cx="542880" cy="30603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720" y="3419640"/>
            <a:ext cx="1619280" cy="25192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1481040"/>
            <a:ext cx="84391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m de respondre la pregun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Quantes vegades cap la piràmide dins el pris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- Construirem aquestes figures amb cartolina, sense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- Omplirem la piràmide amb sèmola i la buidarem dintre del pr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9440" y="422280"/>
            <a:ext cx="3310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c2300"/>
                </a:solidFill>
                <a:latin typeface="Arial"/>
              </a:rPr>
              <a:t>Pla de Tre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9967400" y="17488080"/>
            <a:ext cx="360072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1797480" y="1811160"/>
            <a:ext cx="70952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dc2300"/>
                </a:solidFill>
                <a:latin typeface="Arial"/>
              </a:rPr>
              <a:t>Primer calc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dc2300"/>
                </a:solidFill>
                <a:latin typeface="Arial"/>
              </a:rPr>
              <a:t>Quines seran les mides i formes de les ca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dc2300"/>
                </a:solidFill>
                <a:latin typeface="Arial"/>
              </a:rPr>
              <a:t>Desprès dibuixa:</a:t>
            </a:r>
            <a:br>
              <a:rPr sz="2000"/>
            </a:br>
            <a:r>
              <a:rPr b="1" lang="en-GB" sz="2000" spc="-1" strike="noStrike">
                <a:solidFill>
                  <a:srgbClr val="dc2300"/>
                </a:solidFill>
                <a:latin typeface="Arial"/>
              </a:rPr>
              <a:t> Dibuixa les cares convenientment agrupades per reta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3419640"/>
            <a:ext cx="2160720" cy="3060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5759280"/>
            <a:ext cx="2700360" cy="900360"/>
          </a:xfrm>
          <a:prstGeom prst="parallelogram">
            <a:avLst>
              <a:gd name="adj" fmla="val 81603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240000"/>
            <a:ext cx="1979640" cy="25210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6b0094"/>
              </a:gs>
              <a:gs pos="100000">
                <a:srgbClr val="00ff00"/>
              </a:gs>
            </a:gsLst>
            <a:lin ang="4500000"/>
          </a:gra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297120" y="3238200"/>
            <a:ext cx="126396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80000" y="3238200"/>
            <a:ext cx="720720" cy="34225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158920" y="3417480"/>
            <a:ext cx="1082880" cy="30639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9280" y="3419640"/>
            <a:ext cx="542880" cy="306036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720" y="3419640"/>
            <a:ext cx="1619280" cy="25192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5000" y="360360"/>
            <a:ext cx="89971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Execució del pl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buixa en cartolina del desenvolupament pla de les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840360"/>
            <a:ext cx="1619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18920" y="6840360"/>
            <a:ext cx="16225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0000" y="6117840"/>
            <a:ext cx="720720" cy="723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236400" y="6119640"/>
            <a:ext cx="7239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9280" y="3419640"/>
            <a:ext cx="14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959280" y="3419280"/>
            <a:ext cx="1440" cy="252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43560" y="7032600"/>
            <a:ext cx="676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360" y="6659640"/>
            <a:ext cx="612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1080" y="4319640"/>
            <a:ext cx="802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119640" y="3238200"/>
            <a:ext cx="1800" cy="252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3240000"/>
            <a:ext cx="180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7020000"/>
            <a:ext cx="676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99280" y="6300720"/>
            <a:ext cx="676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3240000"/>
            <a:ext cx="1800360" cy="234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6478560" y="3238200"/>
            <a:ext cx="1803600" cy="234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720" y="3959280"/>
            <a:ext cx="30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tòria Oliu</dc:creator>
  <dc:description/>
  <dc:language>en-US</dc:language>
  <cp:lastModifiedBy>Victòria Oliu</cp:lastModifiedBy>
  <cp:revision>0</cp:revision>
  <dc:subject/>
  <dc:title/>
</cp:coreProperties>
</file>