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954-1FBF-4081-AF39-9EEB1DAC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986-BCC1-41AB-9A49-96F08271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045-1D6C-4942-B277-3826C5ED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5B8-CF1A-40D3-A94F-E7BD965B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53C-B3F9-4132-971C-B00BD0AC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D3C-C772-4B96-A8B8-21E49B3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103-186E-4F44-86F4-85DD54C6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A2F-C56C-4FFA-B349-A229FC60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5B1-D074-4260-8C07-BC1641B6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E17-A251-40FC-AA9B-408F1F55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1BF-13CD-426A-B37D-3576CE3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2EF-1726-43C4-93B6-C712AC9B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1720-4815-4E7D-9245-0FB2AC7FA9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pc\Documents\Ensenyament\Curs 2009-10\EE Primer curs\L'empresa\Apunts\Presentació 1.4 (2)\Diapositiva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pc\Documents\Ensenyament\Curs 2009-10\EE Primer curs\L'empresa\Apunts\Presentació 1.4 (2)\Diapositiva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pc\Documents\Ensenyament\Curs 2009-10\EE Primer curs\L'empresa\Apunts\Presentació 1.4 (2)\Diapositiva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pc\Documents\Ensenyament\Curs 2009-10\EE Primer curs\L'empresa\Apunts\Presentació 1.4 (2)\Diapositiv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pc\Documents\Ensenyament\Curs 2009-10\EE Primer curs\L'empresa\Apunts\Presentació 1.4 (2)\Diapositiva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pc\Documents\Ensenyament\Curs 2009-10\EE Primer curs\L'empresa\Apunts\Presentació 1.4 (2)\Diapositiva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pc\Documents\Ensenyament\Curs 2009-10\EE Primer curs\L'empresa\Apunts\Presentació 1.4 (2)\Diapositiva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pc\Documents\Ensenyament\Curs 2009-10\EE Primer curs\L'empresa\Apunts\Presentació 1.4 (2)\Diapositiva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pc\Documents\Ensenyament\Curs 2009-10\EE Primer curs\L'empresa\Apunts\Presentació 1.4 (2)\Diapositiva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pc\Documents\Ensenyament\Curs 2009-10\EE Primer curs\L'empresa\Apunts\Presentació 1.4 (2)\Diapositiva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8:38:10Z</dcterms:created>
  <dc:creator>pc</dc:creator>
  <dc:description/>
  <dc:language>en-US</dc:language>
  <cp:lastModifiedBy>pc</cp:lastModifiedBy>
  <dcterms:modified xsi:type="dcterms:W3CDTF">2009-10-25T18:42:10Z</dcterms:modified>
  <cp:revision>1</cp:revision>
  <dc:subject/>
  <dc:title>Diapositiva 1</dc:title>
</cp:coreProperties>
</file>