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7F5-7FC7-4BC7-8AE1-5552EF41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833-BA13-4998-9FCC-8687B8B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A9A-43BD-4DAC-A7DC-A6AA08BB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46F-49C8-42A3-8CA7-7ED4C275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81B-8B01-4F23-A019-D7C321D7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951-38AA-43F4-BE97-38CE7839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D32-B082-4E74-9641-74AB63B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AEB-546D-4915-AB6E-01BCE0C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F30-4C77-4914-8D37-AEF1BD9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D80-D20C-4EE3-A299-6AD294C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881-B13E-495E-AC4B-593E5501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57A-C793-4226-85D5-6026558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702F-AAD3-4786-AD8C-FA13037933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pc\Documents\Ensenyament\Curs 2009-10\EE Primer curs\L'empresa\Apunts\Presentación 1.4(3)\Diapositiv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Picture 2" descr="C:\Users\pc\Documents\Ensenyament\Curs 2009-10\EE Primer curs\L'empresa\Apunts\Presentación 1.4(3)\Diapositiva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C:\Users\pc\Documents\Ensenyament\Curs 2009-10\EE Primer curs\L'empresa\Apunts\Presentación 1.4(3)\Diapositiva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pc\Documents\Ensenyament\Curs 2009-10\EE Primer curs\L'empresa\Apunts\Presentación 1.4(3)\Diapositiva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2" descr="C:\Users\pc\Documents\Ensenyament\Curs 2009-10\EE Primer curs\L'empresa\Apunts\Presentación 1.4(3)\Diapositiva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C:\Users\pc\Documents\Ensenyament\Curs 2009-10\EE Primer curs\L'empresa\Apunts\Presentación 1.4(3)\Diapositiv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pc\Documents\Ensenyament\Curs 2009-10\EE Primer curs\L'empresa\Apunts\Presentación 1.4(3)\Diapositiv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C:\Users\pc\Documents\Ensenyament\Curs 2009-10\EE Primer curs\L'empresa\Apunts\Presentación 1.4(3)\Diapositiv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C:\Users\pc\Documents\Ensenyament\Curs 2009-10\EE Primer curs\L'empresa\Apunts\Presentación 1.4(3)\Diapositiva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C:\Users\pc\Documents\Ensenyament\Curs 2009-10\EE Primer curs\L'empresa\Apunts\Presentación 1.4(3)\Diapositiv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2" descr="C:\Users\pc\Documents\Ensenyament\Curs 2009-10\EE Primer curs\L'empresa\Apunts\Presentación 1.4(3)\Diapositiv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C:\Users\pc\Documents\Ensenyament\Curs 2009-10\EE Primer curs\L'empresa\Apunts\Presentación 1.4(3)\Diapositiva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C:\Users\pc\Documents\Ensenyament\Curs 2009-10\EE Primer curs\L'empresa\Apunts\Presentación 1.4(3)\Diapositiva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7:12:25Z</dcterms:created>
  <dc:creator>pc</dc:creator>
  <dc:description/>
  <dc:language>en-US</dc:language>
  <cp:lastModifiedBy>pc</cp:lastModifiedBy>
  <dcterms:modified xsi:type="dcterms:W3CDTF">2009-11-03T17:17:09Z</dcterms:modified>
  <cp:revision>1</cp:revision>
  <dc:subject/>
  <dc:title>Diapositiva 1</dc:title>
</cp:coreProperties>
</file>