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5D14-4B4B-407A-9E0D-0DACC2DE6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8B50-85F6-4EB9-8ACA-1022C43C9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675A-A3CC-4503-9496-9EB184BF7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7993-BA39-4BF3-BBE8-5120CC8B6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A3E7-3636-4D04-BC7A-E86A10186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CECD-15CE-49FE-AA42-70CA5CB84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1CAB-DEF6-4F77-BF5F-1D63298A0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F3D2-9BDB-4852-9AC3-50A524120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5D9A-68E3-4E12-8214-31F8C2EE6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CD4E-895A-4D7C-A680-33384B3E3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A884-FAFF-4164-8332-6BC9A00C7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AE80-384C-41DE-AADC-B9B54700D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81101-E249-4289-B277-D446D8DE1C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3880" y="0"/>
            <a:ext cx="6019920" cy="1143000"/>
          </a:xfrm>
          <a:prstGeom prst="horizontalScroll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Escolar1"/>
              </a:rPr>
              <a:t>INFORMÀTICA I LOGOPÈD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371600"/>
            <a:ext cx="2895480" cy="1618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Escolar1"/>
              </a:rPr>
              <a:t>ART / CIÈNCIA: Creació de materials, adaptació, estils, disseny, canals, provatu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2819520"/>
            <a:ext cx="3581280" cy="100872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Escolar1"/>
              </a:rPr>
              <a:t>PERSONALITZACIÓ / PLURALITAT: Menor o major nombre d’usuar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4038480"/>
            <a:ext cx="3733920" cy="10087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Escolar1"/>
              </a:rPr>
              <a:t>ESPECIFICITAT / VERSATILITAT: Grau de polivalència d’un materi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0" y="2666880"/>
            <a:ext cx="3886200" cy="1008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Escolar1"/>
              </a:rPr>
              <a:t>SOFISTICACIÓ / SIMPLICITAT: Nivell, tipus i intensitat dels suports o aju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1523880"/>
            <a:ext cx="4419360" cy="7038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Escolar1"/>
              </a:rPr>
              <a:t>RUTINA / INNOVACIÓ: Repetició o creativita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267080" y="4191120"/>
            <a:ext cx="4572000" cy="22284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Escolar1"/>
              </a:rPr>
              <a:t>GRAU DE MOTIVACIÓ I APRENENTATG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Escolar1"/>
              </a:rPr>
              <a:t>Intrínsec, inherent a les prestacions informàtiqu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Escolar1"/>
              </a:rPr>
              <a:t>Familiaritat o interès respecte als contingu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Escolar1"/>
              </a:rPr>
              <a:t>Multisensorialitat / Multimod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5410080"/>
            <a:ext cx="3276720" cy="131364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Escolar1"/>
              </a:rPr>
              <a:t>ESTANDARITZACIÓ / ADAPTACIÓ: La normalització afavoreix un ús més exte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7T03:31:57Z</dcterms:created>
  <dc:creator>Usuario</dc:creator>
  <dc:description/>
  <dc:language>en-US</dc:language>
  <cp:lastModifiedBy>Educalia</cp:lastModifiedBy>
  <dcterms:modified xsi:type="dcterms:W3CDTF">2002-02-18T16:05:16Z</dcterms:modified>
  <cp:revision>3</cp:revision>
  <dc:subject/>
  <dc:title>Sin título de diapositiva</dc:title>
</cp:coreProperties>
</file>